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984DA-8DB5-4B0E-BA2D-B2589F4CEE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яд Непарнокопыт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3A0D1-C92C-4923-89B0-33863CF4C0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яд объединяет 16 видов крупных животных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ечности снабжены копытами 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сутствие в скелете ключиц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таются только растительной пищ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241F7-3873-458A-BD23-4CF45D22F4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яд включает  3 семе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пи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шад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соро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ABF36-6DDD-428D-865D-75E260B457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ейство Тапиры  . У этих животных короткий хоботок , состоит из вытянутого носа и верхней губы. Масса тела – 180-300 кг,  бархатистый мех, толстая кожа. Длина тела 180-200см. На тапиров охотятся ради мяса и шкуры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E8F89-988D-4B2D-BE93-21B0E4353A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ейство  Лошади. Семейство включены зебры, куланы ,ослы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шади открыты  в 1879 году в горных пустынях Центральной Азии Н.А Пржевальским.  Сейчас известно более 100 пород. Используются в различных цел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60C2D-42E6-4C37-A7E0-D5F1BE6157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ланы. Примитивная лошадь ,встречается в Туркмении, Китае ,  Монголии. Питается злаками , полынью . Бегают со скоростью 60 км/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4D960-8019-4A3D-A122-A390DD3421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л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инные уши, узкие копыта короткая шерсть на хвосте. используют в хозяйств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B1CAD-95D5-48CE-915E-13EBA35E9F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бры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отные Африки. Пасутся  вместе с другими травоядными имеют много врагов.  Человек отстреливал их ради красивой шкуры , в результате чего многие виды занесены в Красную книг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BFCD9-D0F0-47A1-882F-9CB8478CA6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ейство Носорог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большие тяжелые звери массой 3.5 т и более, высотой 1-2 м длина тела 2-5 м. Кожа толстая , почти лишена волос. На передней части морды находится один или два рога. Живут в Африке и Юж. Азии. Занесены в Красную книг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122BE-0770-49E0-A9C2-624348A265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7213-DFA6-40C2-991F-C33A0CE1B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6756-6B0D-4EE0-83A6-5B96E3034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DFF5-EC62-4E0B-BE21-9E24B34A4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D458-5C2C-478B-B743-D4742BB69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B7BC-017C-44F8-99B5-6CEBEDA7C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FF48-84AA-4ACC-B023-6050446F0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3987-88A9-4DBF-B8A1-0856F52AC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85EF-B8AD-4C38-80FC-5992B7FB0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73C5-804D-4D73-8BB9-B17700431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3DAE-41C3-4964-A8F9-F4340E52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0534-D817-4BFF-8FCE-2D7B85D9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279D-21E6-4C46-96ED-243E16A3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B4906-B5DF-48DC-9EC8-009EBC70C60A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29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45D52-DF01-4141-9035-3386FECD3C4A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3"/>
          <p:cNvSpPr/>
          <p:nvPr/>
        </p:nvSpPr>
        <p:spPr>
          <a:xfrm>
            <a:off x="500040" y="56437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C7A9C-E3BE-4B7B-BA17-2B90BC1B0A34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29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Нижний колонтитул 4"/>
          <p:cNvSpPr/>
          <p:nvPr/>
        </p:nvSpPr>
        <p:spPr>
          <a:xfrm>
            <a:off x="3071880" y="56437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Отряд Непарнокопытные 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Calibri"/>
            </a:endParaRPr>
          </a:p>
        </p:txBody>
      </p:sp>
      <p:pic>
        <p:nvPicPr>
          <p:cNvPr id="93" name="Picture 6" descr="C:\Documents and Settings\Аркадий\Мои документы\Downloads\000013858699.jpg"/>
          <p:cNvPicPr/>
          <p:nvPr/>
        </p:nvPicPr>
        <p:blipFill>
          <a:blip r:embed="rId1"/>
          <a:stretch/>
        </p:blipFill>
        <p:spPr>
          <a:xfrm>
            <a:off x="0" y="0"/>
            <a:ext cx="4794120" cy="3186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C:\Documents and Settings\Аркадий\Мои документы\Downloads\singapore (43).jpg"/>
          <p:cNvPicPr/>
          <p:nvPr/>
        </p:nvPicPr>
        <p:blipFill>
          <a:blip r:embed="rId2"/>
          <a:stretch/>
        </p:blipFill>
        <p:spPr>
          <a:xfrm>
            <a:off x="3368520" y="2521080"/>
            <a:ext cx="5775480" cy="433692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дати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703F1-2082-40B3-AB30-DCF88990F214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29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Отряд объединяет 16 видов крупных животных .</a:t>
            </a:r>
            <a:endParaRPr b="1" lang="en-US" sz="2800" spc="-1" strike="noStrike">
              <a:solidFill>
                <a:srgbClr val="0000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                              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Признаки </a:t>
            </a:r>
            <a:endParaRPr b="1" lang="en-US" sz="2800" spc="-1" strike="noStrike">
              <a:solidFill>
                <a:srgbClr val="0000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Конечности снабжены копытами , </a:t>
            </a:r>
            <a:endParaRPr b="1" lang="en-US" sz="2800" spc="-1" strike="noStrike">
              <a:solidFill>
                <a:srgbClr val="0000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отсутствие в скелете ключицы, </a:t>
            </a:r>
            <a:endParaRPr b="1" lang="en-US" sz="2800" spc="-1" strike="noStrike">
              <a:solidFill>
                <a:srgbClr val="0000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питаются только растительной пищей.</a:t>
            </a:r>
            <a:endParaRPr b="1" lang="en-US" sz="28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3" name="Місце для дати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020A1-BB30-4E0A-B2E3-95A7512C30FA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29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219280" y="620280"/>
            <a:ext cx="374508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Отряд включает  3 семейства</a:t>
            </a:r>
            <a:endParaRPr b="1" lang="en-US" sz="1800" spc="-1" strike="noStrike">
              <a:solidFill>
                <a:srgbClr val="000066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Тапиры</a:t>
            </a:r>
            <a:endParaRPr b="1" lang="en-US" sz="1800" spc="-1" strike="noStrike">
              <a:solidFill>
                <a:srgbClr val="000066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Лошади</a:t>
            </a:r>
            <a:endParaRPr b="1" lang="en-US" sz="1800" spc="-1" strike="noStrike">
              <a:solidFill>
                <a:srgbClr val="000066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Носороги</a:t>
            </a:r>
            <a:endParaRPr b="1" lang="en-US" sz="1800" spc="-1" strike="noStrike">
              <a:solidFill>
                <a:srgbClr val="000066"/>
              </a:solidFill>
              <a:latin typeface="Calibri"/>
            </a:endParaRPr>
          </a:p>
        </p:txBody>
      </p:sp>
      <p:pic>
        <p:nvPicPr>
          <p:cNvPr id="56" name="Picture 10" descr="C:\Documents and Settings\Аркадий\Рабочий стол\64298796.jpg"/>
          <p:cNvPicPr/>
          <p:nvPr/>
        </p:nvPicPr>
        <p:blipFill>
          <a:blip r:embed="rId1"/>
          <a:stretch/>
        </p:blipFill>
        <p:spPr>
          <a:xfrm>
            <a:off x="285840" y="357120"/>
            <a:ext cx="3792600" cy="2914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C:\Documents and Settings\Аркадий\Рабочий стол\0_1b42_647d43da_XL.jpg"/>
          <p:cNvPicPr/>
          <p:nvPr/>
        </p:nvPicPr>
        <p:blipFill>
          <a:blip r:embed="rId2"/>
          <a:stretch/>
        </p:blipFill>
        <p:spPr>
          <a:xfrm>
            <a:off x="5619600" y="3500280"/>
            <a:ext cx="3524400" cy="3071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C:\Documents and Settings\Аркадий\Рабочий стол\per013.jpg"/>
          <p:cNvPicPr/>
          <p:nvPr/>
        </p:nvPicPr>
        <p:blipFill>
          <a:blip r:embed="rId3"/>
          <a:stretch/>
        </p:blipFill>
        <p:spPr>
          <a:xfrm>
            <a:off x="0" y="3643200"/>
            <a:ext cx="4857840" cy="321480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дати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DC7FB-587B-4BB9-A4CE-775D54609170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29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98360" y="171000"/>
            <a:ext cx="8569440" cy="15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alibri"/>
              </a:rPr>
              <a:t>Семейство Тапиры  . У этих животных короткий хоботок , состоит из вытянутого носа и верхней губы. Масса тела – 180-300 кг,  бархатистый мех, толстая кожа. Длина тела 180-200см. На тапиров охотятся ради мяса и шкуры.  </a:t>
            </a:r>
            <a:endParaRPr b="1" lang="en-US" sz="2000" spc="-1" strike="noStrike">
              <a:solidFill>
                <a:srgbClr val="000066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Calibri"/>
            </a:endParaRPr>
          </a:p>
        </p:txBody>
      </p:sp>
      <p:pic>
        <p:nvPicPr>
          <p:cNvPr id="62" name="Picture 9" descr="C:\Documents and Settings\Аркадий\Рабочий стол\0009-009-CHeprachnyj-tapir.jpg"/>
          <p:cNvPicPr/>
          <p:nvPr/>
        </p:nvPicPr>
        <p:blipFill>
          <a:blip r:embed="rId1"/>
          <a:stretch/>
        </p:blipFill>
        <p:spPr>
          <a:xfrm>
            <a:off x="0" y="1285920"/>
            <a:ext cx="4379760" cy="3571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C:\Documents and Settings\Аркадий\Рабочий стол\per013.jpg"/>
          <p:cNvPicPr/>
          <p:nvPr/>
        </p:nvPicPr>
        <p:blipFill>
          <a:blip r:embed="rId2"/>
          <a:stretch/>
        </p:blipFill>
        <p:spPr>
          <a:xfrm>
            <a:off x="4429080" y="2928960"/>
            <a:ext cx="4714920" cy="392904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дати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E2EBA-DFC0-485D-AC5A-94566EEBACB0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29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1736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alibri"/>
              </a:rPr>
              <a:t>Семейство  Лошади. Семейство включены зебры, куланы ,ослы.  </a:t>
            </a:r>
            <a:endParaRPr b="1" lang="en-US" sz="2000" spc="-1" strike="noStrike">
              <a:solidFill>
                <a:srgbClr val="000066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alibri"/>
              </a:rPr>
              <a:t>Лошади открыты  в 1879 году в горных пустынях Центральной Азии Н.А Пржевальским.  Сейчас известно более 100 пород. Используются в различных целях.</a:t>
            </a:r>
            <a:endParaRPr b="1" lang="en-US" sz="2000" spc="-1" strike="noStrike">
              <a:solidFill>
                <a:srgbClr val="000066"/>
              </a:solidFill>
              <a:latin typeface="Calibri"/>
            </a:endParaRPr>
          </a:p>
        </p:txBody>
      </p:sp>
      <p:pic>
        <p:nvPicPr>
          <p:cNvPr id="67" name="Picture 7" descr="C:\Documents and Settings\Аркадий\Рабочий стол\0_1b42_647d43da_XL.jpg"/>
          <p:cNvPicPr/>
          <p:nvPr/>
        </p:nvPicPr>
        <p:blipFill>
          <a:blip r:embed="rId1"/>
          <a:stretch/>
        </p:blipFill>
        <p:spPr>
          <a:xfrm>
            <a:off x="0" y="3071880"/>
            <a:ext cx="4827600" cy="3786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C:\Documents and Settings\Аркадий\Рабочий стол\0004-004-loshadi-Przhevalskogo.jpg"/>
          <p:cNvPicPr/>
          <p:nvPr/>
        </p:nvPicPr>
        <p:blipFill>
          <a:blip r:embed="rId2"/>
          <a:stretch/>
        </p:blipFill>
        <p:spPr>
          <a:xfrm>
            <a:off x="4762440" y="1143000"/>
            <a:ext cx="4381560" cy="328608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дати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59497-86ED-4E90-9D92-0ADCA56457DD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29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636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Calibri"/>
              </a:rPr>
              <a:t>Куланы. Примитивная лошадь ,встречается в Туркмении, Китае ,  Монголии. Питается злаками , полынью . Бегают со скоростью 60 км/ч</a:t>
            </a:r>
            <a:endParaRPr b="1" lang="en-US" sz="2000" spc="-1" strike="noStrike">
              <a:solidFill>
                <a:srgbClr val="000066"/>
              </a:solidFill>
              <a:latin typeface="Calibri"/>
            </a:endParaRPr>
          </a:p>
        </p:txBody>
      </p:sp>
      <p:pic>
        <p:nvPicPr>
          <p:cNvPr id="72" name="Picture 5" descr="C:\Documents and Settings\Аркадий\Рабочий стол\a72c8dca33398bb7a11506b0d847dce8c5c6733f.preview.jpg"/>
          <p:cNvPicPr/>
          <p:nvPr/>
        </p:nvPicPr>
        <p:blipFill>
          <a:blip r:embed="rId1"/>
          <a:stretch/>
        </p:blipFill>
        <p:spPr>
          <a:xfrm>
            <a:off x="0" y="857160"/>
            <a:ext cx="3905280" cy="29289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C:\Documents and Settings\Аркадий\Рабочий стол\26668f25236e.jpg"/>
          <p:cNvPicPr/>
          <p:nvPr/>
        </p:nvPicPr>
        <p:blipFill>
          <a:blip r:embed="rId2"/>
          <a:stretch/>
        </p:blipFill>
        <p:spPr>
          <a:xfrm>
            <a:off x="4286160" y="3616200"/>
            <a:ext cx="4857840" cy="324180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дати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DC543-2A86-4CBD-9B40-8E57A1C17CB4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29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787640" y="1125360"/>
            <a:ext cx="421164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                        </a:t>
            </a: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Ослы.</a:t>
            </a:r>
            <a:endParaRPr b="1" lang="en-US" sz="2400" spc="-1" strike="noStrike">
              <a:solidFill>
                <a:srgbClr val="000066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Длинные уши, узкие копыта короткая шерсть на хвосте. используют в хозяйстве. </a:t>
            </a:r>
            <a:endParaRPr b="1" lang="en-US" sz="2400" spc="-1" strike="noStrike">
              <a:solidFill>
                <a:srgbClr val="000066"/>
              </a:solidFill>
              <a:latin typeface="Calibri"/>
            </a:endParaRPr>
          </a:p>
        </p:txBody>
      </p:sp>
      <p:pic>
        <p:nvPicPr>
          <p:cNvPr id="77" name="Picture 6" descr="C:\Documents and Settings\Аркадий\Рабочий стол\post-3-12081266684564.jpg"/>
          <p:cNvPicPr/>
          <p:nvPr/>
        </p:nvPicPr>
        <p:blipFill>
          <a:blip r:embed="rId1"/>
          <a:stretch/>
        </p:blipFill>
        <p:spPr>
          <a:xfrm>
            <a:off x="0" y="0"/>
            <a:ext cx="2724120" cy="3500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C:\Documents and Settings\Аркадий\Рабочий стол\0102.jpg"/>
          <p:cNvPicPr/>
          <p:nvPr/>
        </p:nvPicPr>
        <p:blipFill>
          <a:blip r:embed="rId2"/>
          <a:stretch/>
        </p:blipFill>
        <p:spPr>
          <a:xfrm>
            <a:off x="4143240" y="3143160"/>
            <a:ext cx="4810320" cy="360864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дати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DAE69-C079-4FDF-812F-464278C4F92E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29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Calibri"/>
              </a:rPr>
              <a:t>Зебры .</a:t>
            </a:r>
            <a:endParaRPr b="1" lang="en-US" sz="2000" spc="-1" strike="noStrike">
              <a:solidFill>
                <a:srgbClr val="000066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alibri"/>
              </a:rPr>
              <a:t>Животные Африки. Пасутся  вместе с другими травоядными имеют много врагов.  Человек отстреливал их ради красивой шкуры , в результате чего многие виды занесены в Красную книгу.</a:t>
            </a:r>
            <a:endParaRPr b="1" lang="en-US" sz="2000" spc="-1" strike="noStrike">
              <a:solidFill>
                <a:srgbClr val="000066"/>
              </a:solidFill>
              <a:latin typeface="Calibri"/>
            </a:endParaRPr>
          </a:p>
        </p:txBody>
      </p:sp>
      <p:pic>
        <p:nvPicPr>
          <p:cNvPr id="82" name="Picture 7" descr="C:\Documents and Settings\Аркадий\Рабочий стол\120929239411_(16).jpg"/>
          <p:cNvPicPr/>
          <p:nvPr/>
        </p:nvPicPr>
        <p:blipFill>
          <a:blip r:embed="rId1"/>
          <a:stretch/>
        </p:blipFill>
        <p:spPr>
          <a:xfrm>
            <a:off x="182520" y="1928880"/>
            <a:ext cx="3861000" cy="3513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C:\Documents and Settings\Аркадий\Рабочий стол\285_3.jpg"/>
          <p:cNvPicPr/>
          <p:nvPr/>
        </p:nvPicPr>
        <p:blipFill>
          <a:blip r:embed="rId2"/>
          <a:stretch/>
        </p:blipFill>
        <p:spPr>
          <a:xfrm>
            <a:off x="5572080" y="3857760"/>
            <a:ext cx="3400560" cy="3000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C:\Documents and Settings\Аркадий\Рабочий стол\ph09736.jpg"/>
          <p:cNvPicPr/>
          <p:nvPr/>
        </p:nvPicPr>
        <p:blipFill>
          <a:blip r:embed="rId3"/>
          <a:stretch/>
        </p:blipFill>
        <p:spPr>
          <a:xfrm>
            <a:off x="4214880" y="1428840"/>
            <a:ext cx="3174840" cy="242892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дати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89207-97B3-4BB7-AA7C-878BB3FAA51E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29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Семейство Носорогов. </a:t>
            </a:r>
            <a:endParaRPr b="1" lang="en-US" sz="2400" spc="-1" strike="noStrike">
              <a:solidFill>
                <a:srgbClr val="000066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Это большие тяжелые звери массой 3.5 т и более, высотой 1-2 м длина тела 2-5 м. Кожа толстая , почти лишена волос. На передней части морды находится один или два рога. Живут в Африке и Юж. Азии. Занесены в Красную книгу.</a:t>
            </a:r>
            <a:endParaRPr b="1" lang="en-US" sz="2400" spc="-1" strike="noStrike">
              <a:solidFill>
                <a:srgbClr val="000066"/>
              </a:solidFill>
              <a:latin typeface="Calibri"/>
            </a:endParaRPr>
          </a:p>
        </p:txBody>
      </p:sp>
      <p:pic>
        <p:nvPicPr>
          <p:cNvPr id="88" name="Picture 5" descr="C:\Documents and Settings\Аркадий\Рабочий стол\0008-008-Pantsirnyj-nosorog.jpg"/>
          <p:cNvPicPr/>
          <p:nvPr/>
        </p:nvPicPr>
        <p:blipFill>
          <a:blip r:embed="rId1"/>
          <a:stretch/>
        </p:blipFill>
        <p:spPr>
          <a:xfrm>
            <a:off x="0" y="3214800"/>
            <a:ext cx="4857840" cy="3643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C:\Documents and Settings\Аркадий\Рабочий стол\64298796.jpg"/>
          <p:cNvPicPr/>
          <p:nvPr/>
        </p:nvPicPr>
        <p:blipFill>
          <a:blip r:embed="rId2"/>
          <a:stretch/>
        </p:blipFill>
        <p:spPr>
          <a:xfrm>
            <a:off x="5278320" y="2214720"/>
            <a:ext cx="3865680" cy="297000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дати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6DE69-7AFE-482A-8B83-85AC3EAC44C9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29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1T11:11:57Z</dcterms:created>
  <dc:creator>user</dc:creator>
  <dc:description/>
  <dc:language>en-US</dc:language>
  <cp:lastModifiedBy>LEGION</cp:lastModifiedBy>
  <dcterms:modified xsi:type="dcterms:W3CDTF">2014-11-24T13:16:51Z</dcterms:modified>
  <cp:revision>14</cp:revision>
  <dc:subject/>
  <dc:title>Отряд Парнокопытные, семейство Полорогие</dc:title>
</cp:coreProperties>
</file>