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5AFD-6230-48FC-A85B-56125F2CF5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Непарнокопыт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EFC8-BABC-4D7B-9E01-ADA32AC02A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объединяет 16 видов крупных животны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сти снабжены копытами 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в скелете ключиц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таются только растительной пи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921E-65F6-4B7D-9AF4-7D17B58D60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включает  3 семе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пи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ор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6773-38CF-4263-8DE4-752F0FAA72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Тапиры  . У этих животных короткий хоботок , состоит из вытянутого носа и верхней губы. Масса тела – 180-300 кг,  бархатистый мех, толстая кожа. Длина тела 180-200см. На тапиров охотятся ради мяса и шкур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6DB5-814A-4593-AD9C-93E4965F7C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 Лошади. Семейство включены зебры, куланы ,осл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шади открыты  в 1879 году в горных пустынях Центральной Азии Н.А Пржевальским.  Сейчас известно более 100 пород. Используются в различных це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E2B9-7AA2-4B66-B022-92BF5C780E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аны. Примитивная лошадь ,встречается в Туркмении, Китае ,  Монголии. Питается злаками , полынью . Бегают со скоростью 60 км/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8A3F-69B4-4C87-A9EE-EEE06A1ADE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нные уши, узкие копыта короткая шерсть на хвосте. используют в хозяй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9724-FED1-4CF0-B2C1-703883B76A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бр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е Африки. Пасутся  вместе с другими травоядными имеют много врагов.  Человек отстреливал их ради красивой шкуры , в результате чего многие виды занесены в Красную кни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9FF6-C8A7-41B3-B337-C2AE6A46B9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Носор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большие тяжелые звери массой 3.5 т и более, высотой 1-2 м длина тела 2-5 м. Кожа толстая , почти лишена волос. На передней части морды находится один или два рога. Живут в Африке и Юж. Азии. Занесены в Красную кни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FA64-2B6C-4B08-9F5D-7500A3964B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D0D-F847-46CB-8A70-582D8688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DA73-5BC0-49A5-896C-AB592BF9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CFF-4C87-441D-BF02-EC7F68B7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30F-7C12-4D5C-BFB5-E366F50A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148-74CF-454E-8171-43F1023C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F27-9073-4BF8-8E1A-5DD4776D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C91-4DEF-44C6-989D-7865C472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AC0-936E-457E-B184-0D7A4DF6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70B-8033-49B2-A37A-DB0DC53D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E257-6926-416B-AEDF-C97E8DBF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C73F-A7AA-4E49-942E-B88BE3CC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2CF8-E520-4FF3-A638-6B97BA80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1682-D190-4497-AE3A-EC1551F931C8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2458-C55B-4113-8B8F-BB1325FE2F7E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3"/>
          <p:cNvSpPr/>
          <p:nvPr/>
        </p:nvSpPr>
        <p:spPr>
          <a:xfrm>
            <a:off x="500040" y="5643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F159-CF7C-4FF3-BD2A-C8D8A50BB42E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071880" y="5643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тряд Непарнокопытные 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93" name="Picture 6" descr="C:\Documents and Settings\Аркадий\Мои документы\Downloads\000013858699.jpg"/>
          <p:cNvPicPr/>
          <p:nvPr/>
        </p:nvPicPr>
        <p:blipFill>
          <a:blip r:embed="rId1"/>
          <a:stretch/>
        </p:blipFill>
        <p:spPr>
          <a:xfrm>
            <a:off x="0" y="0"/>
            <a:ext cx="4794120" cy="31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Documents and Settings\Аркадий\Мои документы\Downloads\singapore (43).jpg"/>
          <p:cNvPicPr/>
          <p:nvPr/>
        </p:nvPicPr>
        <p:blipFill>
          <a:blip r:embed="rId2"/>
          <a:stretch/>
        </p:blipFill>
        <p:spPr>
          <a:xfrm>
            <a:off x="3368520" y="2521080"/>
            <a:ext cx="5775480" cy="43369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966D-D5C0-4323-8789-BDDAFF85F643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ряд объединяет 16 видов крупных животных 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изнаки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нечности снабжены копытами ,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сутствие в скелете ключицы,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итаются только растительной пищей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3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EBD2-6F5F-4351-A17A-2FB988D8226C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19280" y="620280"/>
            <a:ext cx="3745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Отряд включает  3 семейства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Тапиры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Лошади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Носороги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56" name="Picture 10" descr="C:\Documents and Settings\Аркадий\Рабочий стол\64298796.jpg"/>
          <p:cNvPicPr/>
          <p:nvPr/>
        </p:nvPicPr>
        <p:blipFill>
          <a:blip r:embed="rId1"/>
          <a:stretch/>
        </p:blipFill>
        <p:spPr>
          <a:xfrm>
            <a:off x="285840" y="357120"/>
            <a:ext cx="3792600" cy="291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:\Documents and Settings\Аркадий\Рабочий стол\0_1b42_647d43da_XL.jpg"/>
          <p:cNvPicPr/>
          <p:nvPr/>
        </p:nvPicPr>
        <p:blipFill>
          <a:blip r:embed="rId2"/>
          <a:stretch/>
        </p:blipFill>
        <p:spPr>
          <a:xfrm>
            <a:off x="5619600" y="3500280"/>
            <a:ext cx="3524400" cy="307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C:\Documents and Settings\Аркадий\Рабочий стол\per013.jpg"/>
          <p:cNvPicPr/>
          <p:nvPr/>
        </p:nvPicPr>
        <p:blipFill>
          <a:blip r:embed="rId3"/>
          <a:stretch/>
        </p:blipFill>
        <p:spPr>
          <a:xfrm>
            <a:off x="0" y="3643200"/>
            <a:ext cx="4857840" cy="3214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0205-7F71-4122-9CCF-61CB964957BA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98360" y="171000"/>
            <a:ext cx="856944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емейство Тапиры  . У этих животных короткий хоботок , состоит из вытянутого носа и верхней губы. Масса тела – 180-300 кг,  бархатистый мех, толстая кожа. Длина тела 180-200см. На тапиров охотятся ради мяса и шкуры.  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62" name="Picture 9" descr="C:\Documents and Settings\Аркадий\Рабочий стол\0009-009-CHeprachnyj-tapir.jpg"/>
          <p:cNvPicPr/>
          <p:nvPr/>
        </p:nvPicPr>
        <p:blipFill>
          <a:blip r:embed="rId1"/>
          <a:stretch/>
        </p:blipFill>
        <p:spPr>
          <a:xfrm>
            <a:off x="0" y="1285920"/>
            <a:ext cx="437976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C:\Documents and Settings\Аркадий\Рабочий стол\per013.jpg"/>
          <p:cNvPicPr/>
          <p:nvPr/>
        </p:nvPicPr>
        <p:blipFill>
          <a:blip r:embed="rId2"/>
          <a:stretch/>
        </p:blipFill>
        <p:spPr>
          <a:xfrm>
            <a:off x="4429080" y="2928960"/>
            <a:ext cx="4714920" cy="3929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95EE-B4F8-4F72-A9DE-7AF4DACBD319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1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емейство  Лошади. Семейство включены зебры, куланы ,ослы.  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Лошади открыты  в 1879 году в горных пустынях Центральной Азии Н.А Пржевальским.  Сейчас известно более 100 пород. Используются в различных целях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67" name="Picture 7" descr="C:\Documents and Settings\Аркадий\Рабочий стол\0_1b42_647d43da_XL.jpg"/>
          <p:cNvPicPr/>
          <p:nvPr/>
        </p:nvPicPr>
        <p:blipFill>
          <a:blip r:embed="rId1"/>
          <a:stretch/>
        </p:blipFill>
        <p:spPr>
          <a:xfrm>
            <a:off x="0" y="3071880"/>
            <a:ext cx="4827600" cy="378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Documents and Settings\Аркадий\Рабочий стол\0004-004-loshadi-Przhevalskogo.jpg"/>
          <p:cNvPicPr/>
          <p:nvPr/>
        </p:nvPicPr>
        <p:blipFill>
          <a:blip r:embed="rId2"/>
          <a:stretch/>
        </p:blipFill>
        <p:spPr>
          <a:xfrm>
            <a:off x="4762440" y="114300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C05B-98F8-4D4B-9408-E5EBF0914906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636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Куланы. Примитивная лошадь ,встречается в Туркмении, Китае ,  Монголии. Питается злаками , полынью . Бегают со скоростью 60 км/ч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72" name="Picture 5" descr="C:\Documents and Settings\Аркадий\Рабочий стол\a72c8dca33398bb7a11506b0d847dce8c5c6733f.preview.jpg"/>
          <p:cNvPicPr/>
          <p:nvPr/>
        </p:nvPicPr>
        <p:blipFill>
          <a:blip r:embed="rId1"/>
          <a:stretch/>
        </p:blipFill>
        <p:spPr>
          <a:xfrm>
            <a:off x="0" y="85716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Documents and Settings\Аркадий\Рабочий стол\26668f25236e.jpg"/>
          <p:cNvPicPr/>
          <p:nvPr/>
        </p:nvPicPr>
        <p:blipFill>
          <a:blip r:embed="rId2"/>
          <a:stretch/>
        </p:blipFill>
        <p:spPr>
          <a:xfrm>
            <a:off x="4286160" y="3616200"/>
            <a:ext cx="4857840" cy="32418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BE9C-8189-4328-BE62-DA10A3E8E7E2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87640" y="1125360"/>
            <a:ext cx="4211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Ослы.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Длинные уши, узкие копыта короткая шерсть на хвосте. используют в хозяйстве. 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77" name="Picture 6" descr="C:\Documents and Settings\Аркадий\Рабочий стол\post-3-12081266684564.jpg"/>
          <p:cNvPicPr/>
          <p:nvPr/>
        </p:nvPicPr>
        <p:blipFill>
          <a:blip r:embed="rId1"/>
          <a:stretch/>
        </p:blipFill>
        <p:spPr>
          <a:xfrm>
            <a:off x="0" y="0"/>
            <a:ext cx="2724120" cy="3500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Аркадий\Рабочий стол\0102.jpg"/>
          <p:cNvPicPr/>
          <p:nvPr/>
        </p:nvPicPr>
        <p:blipFill>
          <a:blip r:embed="rId2"/>
          <a:stretch/>
        </p:blipFill>
        <p:spPr>
          <a:xfrm>
            <a:off x="4143240" y="3143160"/>
            <a:ext cx="4810320" cy="3608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37CA-5A12-491D-8090-8C46F0421705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Зебры 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Животные Африки. Пасутся  вместе с другими травоядными имеют много врагов.  Человек отстреливал их ради красивой шкуры , в результате чего многие виды занесены в Красную книгу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82" name="Picture 7" descr="C:\Documents and Settings\Аркадий\Рабочий стол\120929239411_(16).jpg"/>
          <p:cNvPicPr/>
          <p:nvPr/>
        </p:nvPicPr>
        <p:blipFill>
          <a:blip r:embed="rId1"/>
          <a:stretch/>
        </p:blipFill>
        <p:spPr>
          <a:xfrm>
            <a:off x="182520" y="1928880"/>
            <a:ext cx="3861000" cy="3513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Documents and Settings\Аркадий\Рабочий стол\285_3.jpg"/>
          <p:cNvPicPr/>
          <p:nvPr/>
        </p:nvPicPr>
        <p:blipFill>
          <a:blip r:embed="rId2"/>
          <a:stretch/>
        </p:blipFill>
        <p:spPr>
          <a:xfrm>
            <a:off x="5572080" y="3857760"/>
            <a:ext cx="3400560" cy="3000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C:\Documents and Settings\Аркадий\Рабочий стол\ph09736.jpg"/>
          <p:cNvPicPr/>
          <p:nvPr/>
        </p:nvPicPr>
        <p:blipFill>
          <a:blip r:embed="rId3"/>
          <a:stretch/>
        </p:blipFill>
        <p:spPr>
          <a:xfrm>
            <a:off x="4214880" y="1428840"/>
            <a:ext cx="3174840" cy="24289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92EA-F6C8-49B6-967A-8943561235E3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Семейство Носорогов. 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Это большие тяжелые звери массой 3.5 т и более, высотой 1-2 м длина тела 2-5 м. Кожа толстая , почти лишена волос. На передней части морды находится один или два рога. Живут в Африке и Юж. Азии. Занесены в Красную книгу.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88" name="Picture 5" descr="C:\Documents and Settings\Аркадий\Рабочий стол\0008-008-Pantsirnyj-nosorog.jpg"/>
          <p:cNvPicPr/>
          <p:nvPr/>
        </p:nvPicPr>
        <p:blipFill>
          <a:blip r:embed="rId1"/>
          <a:stretch/>
        </p:blipFill>
        <p:spPr>
          <a:xfrm>
            <a:off x="0" y="3214800"/>
            <a:ext cx="4857840" cy="36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Documents and Settings\Аркадий\Рабочий стол\64298796.jpg"/>
          <p:cNvPicPr/>
          <p:nvPr/>
        </p:nvPicPr>
        <p:blipFill>
          <a:blip r:embed="rId2"/>
          <a:stretch/>
        </p:blipFill>
        <p:spPr>
          <a:xfrm>
            <a:off x="5278320" y="2214720"/>
            <a:ext cx="3865680" cy="29700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631A-FFEE-4521-BC31-74521FC26D66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1:11:57Z</dcterms:created>
  <dc:creator>user</dc:creator>
  <dc:description/>
  <dc:language>en-US</dc:language>
  <cp:lastModifiedBy>LEGION</cp:lastModifiedBy>
  <dcterms:modified xsi:type="dcterms:W3CDTF">2014-11-24T13:16:51Z</dcterms:modified>
  <cp:revision>14</cp:revision>
  <dc:subject/>
  <dc:title>Отряд Парнокопытные, семейство Полорогие</dc:title>
</cp:coreProperties>
</file>