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D6E5-219A-4878-9061-6DF67E5F7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Непарнокопы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8384-9161-48E3-839E-EC0DE1877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объединяет 16 видов крупных животны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сти снабжены копытами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скелете ключиц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ются только растительной пи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D211-6DD4-4D67-A43B-8124448BB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включает  3 семе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п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ор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698A-36B0-4262-9E9C-724BDEE8E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33B8-65B3-4D17-B4BC-902843DA65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 Лошади. Семейство включены зебры, куланы ,осл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DCAC-2A2F-453F-8329-A49BE170D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FF4E-FA3C-416B-90A0-E2C30E8E0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е уши, узкие копыта короткая шерсть на хвосте. используют в хозяй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C668-78B2-49B6-B36B-B42DE7C46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бр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9025-40A4-44BD-B446-FB584F2DF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Носор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9093-4000-49D7-8EEC-665713935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026-D781-49C3-8329-01EB3E8C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CD2-8924-43AC-BC71-A77AF181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575-A6FA-4939-8106-8BD7E3C4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DC9-4712-4410-884A-B3C650C5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538-759A-404A-B3E6-6ACDE79B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D6D-DAC1-46E4-9E21-451F2025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6F8-C114-4144-B576-97B2F0BE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427-9239-4BA1-AC2E-36117D0A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923-198C-4BD3-B04E-30CD98C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5D6-77FB-47F1-82C7-A0E5C77E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DC9-7447-400C-AF2C-4F35480F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E5F-25D8-4D65-8B28-9198CC8F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9D9C-0BD0-4842-A89F-94B7311C7EC9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43FF-A91D-4F1B-8565-180BABFA5A66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500040" y="5643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867D-6471-47D5-AC28-D259443DFBDF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071880" y="5643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ряд Непарнокопытные 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93" name="Picture 6" descr="C:\Documents and Settings\Аркадий\Мои документы\Downloads\000013858699.jpg"/>
          <p:cNvPicPr/>
          <p:nvPr/>
        </p:nvPicPr>
        <p:blipFill>
          <a:blip r:embed="rId1"/>
          <a:stretch/>
        </p:blipFill>
        <p:spPr>
          <a:xfrm>
            <a:off x="0" y="0"/>
            <a:ext cx="4794120" cy="31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Documents and Settings\Аркадий\Мои документы\Downloads\singapore (43).jpg"/>
          <p:cNvPicPr/>
          <p:nvPr/>
        </p:nvPicPr>
        <p:blipFill>
          <a:blip r:embed="rId2"/>
          <a:stretch/>
        </p:blipFill>
        <p:spPr>
          <a:xfrm>
            <a:off x="3368520" y="2521080"/>
            <a:ext cx="5775480" cy="4336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BDD2-A859-4F9C-B6E0-902F6757FB8A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ряд объединяет 16 видов крупных животных 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знаки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нечности снабжены копытами 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в скелете ключицы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итаются только растительной пищей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3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929A-C01F-4FDF-8F8E-E2C15AD1A99C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19280" y="62028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тряд включает  3 семейства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Тапиры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ошад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осорог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6" name="Picture 10" descr="C:\Documents and Settings\Аркадий\Рабочий стол\64298796.jpg"/>
          <p:cNvPicPr/>
          <p:nvPr/>
        </p:nvPicPr>
        <p:blipFill>
          <a:blip r:embed="rId1"/>
          <a:stretch/>
        </p:blipFill>
        <p:spPr>
          <a:xfrm>
            <a:off x="285840" y="357120"/>
            <a:ext cx="3792600" cy="29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Аркадий\Рабочий стол\0_1b42_647d43da_XL.jpg"/>
          <p:cNvPicPr/>
          <p:nvPr/>
        </p:nvPicPr>
        <p:blipFill>
          <a:blip r:embed="rId2"/>
          <a:stretch/>
        </p:blipFill>
        <p:spPr>
          <a:xfrm>
            <a:off x="5619600" y="3500280"/>
            <a:ext cx="3524400" cy="30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Аркадий\Рабочий стол\per013.jpg"/>
          <p:cNvPicPr/>
          <p:nvPr/>
        </p:nvPicPr>
        <p:blipFill>
          <a:blip r:embed="rId3"/>
          <a:stretch/>
        </p:blipFill>
        <p:spPr>
          <a:xfrm>
            <a:off x="0" y="3643200"/>
            <a:ext cx="485784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9512-57BF-4D98-AF0A-171A3184C069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98360" y="171000"/>
            <a:ext cx="856944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2" name="Picture 9" descr="C:\Documents and Settings\Аркадий\Рабочий стол\0009-009-CHeprachnyj-tapir.jpg"/>
          <p:cNvPicPr/>
          <p:nvPr/>
        </p:nvPicPr>
        <p:blipFill>
          <a:blip r:embed="rId1"/>
          <a:stretch/>
        </p:blipFill>
        <p:spPr>
          <a:xfrm>
            <a:off x="0" y="1285920"/>
            <a:ext cx="437976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C:\Documents and Settings\Аркадий\Рабочий стол\per013.jpg"/>
          <p:cNvPicPr/>
          <p:nvPr/>
        </p:nvPicPr>
        <p:blipFill>
          <a:blip r:embed="rId2"/>
          <a:stretch/>
        </p:blipFill>
        <p:spPr>
          <a:xfrm>
            <a:off x="4429080" y="2928960"/>
            <a:ext cx="4714920" cy="3929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2F28-3076-48B4-9E09-BE6CC6EDA0DF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 Лошади. Семейство включены зебры, куланы ,осл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7" name="Picture 7" descr="C:\Documents and Settings\Аркадий\Рабочий стол\0_1b42_647d43da_XL.jpg"/>
          <p:cNvPicPr/>
          <p:nvPr/>
        </p:nvPicPr>
        <p:blipFill>
          <a:blip r:embed="rId1"/>
          <a:stretch/>
        </p:blipFill>
        <p:spPr>
          <a:xfrm>
            <a:off x="0" y="3071880"/>
            <a:ext cx="4827600" cy="378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Аркадий\Рабочий стол\0004-004-loshadi-Przhevalskogo.jpg"/>
          <p:cNvPicPr/>
          <p:nvPr/>
        </p:nvPicPr>
        <p:blipFill>
          <a:blip r:embed="rId2"/>
          <a:stretch/>
        </p:blipFill>
        <p:spPr>
          <a:xfrm>
            <a:off x="4762440" y="114300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700A-075D-4F5B-AF1B-461829ABAC10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636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2" name="Picture 5" descr="C:\Documents and Settings\Аркадий\Рабочий стол\a72c8dca33398bb7a11506b0d847dce8c5c6733f.preview.jpg"/>
          <p:cNvPicPr/>
          <p:nvPr/>
        </p:nvPicPr>
        <p:blipFill>
          <a:blip r:embed="rId1"/>
          <a:stretch/>
        </p:blipFill>
        <p:spPr>
          <a:xfrm>
            <a:off x="0" y="8571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Documents and Settings\Аркадий\Рабочий стол\26668f25236e.jpg"/>
          <p:cNvPicPr/>
          <p:nvPr/>
        </p:nvPicPr>
        <p:blipFill>
          <a:blip r:embed="rId2"/>
          <a:stretch/>
        </p:blipFill>
        <p:spPr>
          <a:xfrm>
            <a:off x="4286160" y="3616200"/>
            <a:ext cx="4857840" cy="3241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D884-3BD4-4DA5-9261-18AFA1936A7D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87640" y="1125360"/>
            <a:ext cx="4211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слы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Длинные уши, узкие копыта короткая шерсть на хвосте. используют в хозяйстве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7" name="Picture 6" descr="C:\Documents and Settings\Аркадий\Рабочий стол\post-3-12081266684564.jpg"/>
          <p:cNvPicPr/>
          <p:nvPr/>
        </p:nvPicPr>
        <p:blipFill>
          <a:blip r:embed="rId1"/>
          <a:stretch/>
        </p:blipFill>
        <p:spPr>
          <a:xfrm>
            <a:off x="0" y="0"/>
            <a:ext cx="2724120" cy="350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Аркадий\Рабочий стол\0102.jpg"/>
          <p:cNvPicPr/>
          <p:nvPr/>
        </p:nvPicPr>
        <p:blipFill>
          <a:blip r:embed="rId2"/>
          <a:stretch/>
        </p:blipFill>
        <p:spPr>
          <a:xfrm>
            <a:off x="4143240" y="3143160"/>
            <a:ext cx="4810320" cy="360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3B24-C7DF-415B-98C9-5DFD19A25D7F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Зебры 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2" name="Picture 7" descr="C:\Documents and Settings\Аркадий\Рабочий стол\120929239411_(16).jpg"/>
          <p:cNvPicPr/>
          <p:nvPr/>
        </p:nvPicPr>
        <p:blipFill>
          <a:blip r:embed="rId1"/>
          <a:stretch/>
        </p:blipFill>
        <p:spPr>
          <a:xfrm>
            <a:off x="182520" y="1928880"/>
            <a:ext cx="3861000" cy="351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Documents and Settings\Аркадий\Рабочий стол\285_3.jpg"/>
          <p:cNvPicPr/>
          <p:nvPr/>
        </p:nvPicPr>
        <p:blipFill>
          <a:blip r:embed="rId2"/>
          <a:stretch/>
        </p:blipFill>
        <p:spPr>
          <a:xfrm>
            <a:off x="5572080" y="3857760"/>
            <a:ext cx="340056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Documents and Settings\Аркадий\Рабочий стол\ph09736.jpg"/>
          <p:cNvPicPr/>
          <p:nvPr/>
        </p:nvPicPr>
        <p:blipFill>
          <a:blip r:embed="rId3"/>
          <a:stretch/>
        </p:blipFill>
        <p:spPr>
          <a:xfrm>
            <a:off x="4214880" y="1428840"/>
            <a:ext cx="3174840" cy="24289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AD91-3C65-4CD8-96BB-48271F819EA9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емейство Носорогов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8" name="Picture 5" descr="C:\Documents and Settings\Аркадий\Рабочий стол\0008-008-Pantsirnyj-nosorog.jpg"/>
          <p:cNvPicPr/>
          <p:nvPr/>
        </p:nvPicPr>
        <p:blipFill>
          <a:blip r:embed="rId1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Documents and Settings\Аркадий\Рабочий стол\64298796.jpg"/>
          <p:cNvPicPr/>
          <p:nvPr/>
        </p:nvPicPr>
        <p:blipFill>
          <a:blip r:embed="rId2"/>
          <a:stretch/>
        </p:blipFill>
        <p:spPr>
          <a:xfrm>
            <a:off x="5278320" y="2214720"/>
            <a:ext cx="3865680" cy="29700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4917-EA48-453F-A8D0-B8B150878F3A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1:11:57Z</dcterms:created>
  <dc:creator>user</dc:creator>
  <dc:description/>
  <dc:language>en-US</dc:language>
  <cp:lastModifiedBy>LEGION</cp:lastModifiedBy>
  <dcterms:modified xsi:type="dcterms:W3CDTF">2014-11-24T13:16:51Z</dcterms:modified>
  <cp:revision>14</cp:revision>
  <dc:subject/>
  <dc:title>Отряд Парнокопытные, семейство Полорогие</dc:title>
</cp:coreProperties>
</file>