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7F55-97A0-4649-8212-2E69818277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ма: Перенос веществ в организме позвоночных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EA4C-E035-463E-9E17-99AF88B750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абораторная работа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ь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зучить под микроскопом микропрепараты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равнить строение клеток крови лягушки 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пределить, чья кровь способна переносить больше кисл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9A73-F752-4E8A-A59E-BEDFA138C4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Инструкция по технике безопасности для учащих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Будьте осторожны при работе с использованием режущих и колющих инстру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Помните, что стекло хрупкое, легко бьётся, будьте аккуратны при работе с н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лучае необходимости сразу воспользуйтесь аптеч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2962-A2EC-4A72-8297-76C34D0AE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Ход работ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Эритроциты крови лягушки и человека сходн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Имеют различи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Эритроциты чьей крови способны переносить больше кислоро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Эволюция эритроцитов позвоночных шла в направлени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785F-3D76-4656-8E27-61A07CF615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У всех многоклеточных животных красная кр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состоит из плазмы и клеток кро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ровь у всех животных переносит только кисл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Кровеносная система позвоночных животных замкнутая и состоит из сердца и сосу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У рыб трехкамерное сердц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У позвоночных высокий уровень обмена веществ по сравнению с беспозвоноч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Гемолимфа – бесцветная или зеленоватая жидк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Птицы и млекопитающие – холоднокровные жив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CC15-E1FD-4C73-8571-CA9926384B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яз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зучить раздел 12 до конца, пересказать, выучить все основные по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ва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заполнить рабочие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ворческ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подготовить дополнительную информацию о разнообразии кровеносных систем.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917B-9B38-41F4-91AE-D8E552CDA9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Цель:</a:t>
            </a:r>
            <a:br>
              <a:rPr sz="14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ознакомиться с особенностями переноса веществ в организме позвоночных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Рассмотреть значение этого процесс в жизни                 животных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Изучить состав крови позвоночных животных, строение кровеносной системы и ёё функции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Продолжить работу с материалами Е Г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Обобщать изученный материал и 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93A1-1B7D-4A27-90CE-F2E59D6481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царство Одноклеточны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ёба обыкновенная             Инфузория туфель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D52D-443C-4074-A57A-38956CB3C4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царство Многоклеточны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Кольчатые черв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44EA8-FA9D-4320-98CB-F17FF16682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ип моллюск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ыкновенный прудов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7314-4578-450F-9591-27A4E29C942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ип Членистоногие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асс Насекомы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чела медонос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4C9-6531-46AC-9244-D71A896E70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Э. Раздел 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. Установите соответствие между признаком и видом живых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знак                                     Вид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Незамкнутая кровеносная           А) 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                                          Б) Пчела медо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Кровь перенос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итательны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Замкнутая кровенос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Сердце в виде тру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ровь содержит гемоглоб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5045-9DE3-4947-A1EE-945598810E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ровеносные системы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ждевой чер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9406-DBE6-418E-A999-FF4E3350A2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1BF-19F9-4223-9A5E-0AEC00B5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ABA-7124-43CB-BA52-DD59D129B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EA9-4982-4B85-B978-6AD94F5B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0336-7DDF-4703-8472-A4EF67F65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5BF-F4F4-4DDC-BE97-6207ABBF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BAA-C8CB-4DB6-A436-FC796021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61A-59C2-4AF1-BBE6-C869BE8D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EBD3-B855-4027-A6FA-83C22095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92B9-B672-4EF1-985A-60741664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804-1B5B-4026-952C-309E11EB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540-50F2-417D-A72E-DCCE7A97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DB27-D22C-4930-A93D-D5C8CD31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8F05-D899-466D-BD41-B7F6376FF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77708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ма: Перенос веществ в организме позвоночных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Изображение 246"/>
          <p:cNvPicPr/>
          <p:nvPr/>
        </p:nvPicPr>
        <p:blipFill>
          <a:blip r:embed="rId1"/>
          <a:stretch/>
        </p:blipFill>
        <p:spPr>
          <a:xfrm>
            <a:off x="2843280" y="1844640"/>
            <a:ext cx="3341520" cy="48974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Изображение 010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340000" y="-100080"/>
            <a:ext cx="5367240" cy="459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Изображение 247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08000" y="3213000"/>
            <a:ext cx="2581200" cy="364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Изображение 259"/>
          <p:cNvPicPr/>
          <p:nvPr/>
        </p:nvPicPr>
        <p:blipFill>
          <a:blip r:embed="rId3">
            <a:lum contrast="46000"/>
          </a:blip>
          <a:stretch/>
        </p:blipFill>
        <p:spPr>
          <a:xfrm>
            <a:off x="4211640" y="4653000"/>
            <a:ext cx="4284720" cy="19238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Изображение 257"/>
          <p:cNvPicPr/>
          <p:nvPr/>
        </p:nvPicPr>
        <p:blipFill>
          <a:blip r:embed="rId1"/>
          <a:stretch/>
        </p:blipFill>
        <p:spPr>
          <a:xfrm>
            <a:off x="2195640" y="0"/>
            <a:ext cx="4752720" cy="3629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Изображение 249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332000" y="3068640"/>
            <a:ext cx="3179520" cy="378936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Изображение 258"/>
          <p:cNvPicPr/>
          <p:nvPr/>
        </p:nvPicPr>
        <p:blipFill>
          <a:blip r:embed="rId1"/>
          <a:stretch/>
        </p:blipFill>
        <p:spPr>
          <a:xfrm>
            <a:off x="1655640" y="981000"/>
            <a:ext cx="7488360" cy="3878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Изображение 256"/>
          <p:cNvPicPr/>
          <p:nvPr/>
        </p:nvPicPr>
        <p:blipFill>
          <a:blip r:embed="rId2"/>
          <a:stretch/>
        </p:blipFill>
        <p:spPr>
          <a:xfrm>
            <a:off x="468360" y="3860640"/>
            <a:ext cx="1332000" cy="777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Изображение 255"/>
          <p:cNvPicPr/>
          <p:nvPr/>
        </p:nvPicPr>
        <p:blipFill>
          <a:blip r:embed="rId3">
            <a:lum contrast="48000"/>
          </a:blip>
          <a:stretch/>
        </p:blipFill>
        <p:spPr>
          <a:xfrm>
            <a:off x="1692360" y="2637000"/>
            <a:ext cx="622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Изображение 002"/>
          <p:cNvPicPr/>
          <p:nvPr/>
        </p:nvPicPr>
        <p:blipFill>
          <a:blip r:embed="rId4"/>
          <a:stretch/>
        </p:blipFill>
        <p:spPr>
          <a:xfrm>
            <a:off x="2411280" y="2060640"/>
            <a:ext cx="789120" cy="1008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Изображение 254"/>
          <p:cNvPicPr/>
          <p:nvPr/>
        </p:nvPicPr>
        <p:blipFill>
          <a:blip r:embed="rId5"/>
          <a:stretch/>
        </p:blipFill>
        <p:spPr>
          <a:xfrm>
            <a:off x="2987640" y="1341360"/>
            <a:ext cx="1008000" cy="866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Изображение 248"/>
          <p:cNvPicPr/>
          <p:nvPr/>
        </p:nvPicPr>
        <p:blipFill>
          <a:blip r:embed="rId1"/>
          <a:stretch/>
        </p:blipFill>
        <p:spPr>
          <a:xfrm>
            <a:off x="2060640" y="0"/>
            <a:ext cx="50245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бораторная работа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Изучить под микроскопом микропрепараты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Сравнить строение клеток крови лягушки и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Определить, чья кровь способна переносить больше кислор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нструкция по технике безопасности для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Будьте осторожны при работе с использованием режущих и колющих инстру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мните, что  даже при незначительном нажиме возможны глубокие ранения, которые могут привести к нагноению и заражению кр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Помните, что стекло хрупкое, легко бьётся, будьте аккуратны при работе с н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В случае необходимости сразу воспользуйтесь апте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од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Рассмотрите под микроскопом препарат крови человека, обратите внимание на форму, величину и количество эритроцитов, на  отсутствие ядра в эритроцитах. Зарисуйте три эритроц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Рассмотрите под микроскопом препарат крови лягушки, обратите внимание на величину, форму и количество эритроцитов. Зарисуйте три эритроцита. Обозначьте яд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Эритроциты крови лягушки и человека сходны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Имеют различи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Эритроциты чьей крови способны переносить больше кислор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Эволюция эритроцитов позвоночных шла в направлени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4358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У всех многоклеточных животных красная кров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Кровь состоит из плазмы и клеток кр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Кровь у всех животных переносит только кисло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Кровеносная система позвоночных животных замкнутая и состоит из сердца и сосу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У рыб трехкамерное серд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. Кровь позвоночных животных несёт меньшее количество кислорода к тканям, чем беспозвоноч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. У позвоночных высокий уровень обмена веществ по сравнению с беспозвоноч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 Гемолимфа – бесцветная или зеленоватая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. Птицы и млекопитающие – холоднокровные живот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340000" y="5661000"/>
          <a:ext cx="4038480" cy="1096920"/>
        </p:xfrm>
        <a:graphic>
          <a:graphicData uri="http://schemas.openxmlformats.org/drawingml/2006/table">
            <a:tbl>
              <a:tblPr/>
              <a:tblGrid>
                <a:gridCol w="449280"/>
                <a:gridCol w="447480"/>
                <a:gridCol w="449280"/>
                <a:gridCol w="449280"/>
                <a:gridCol w="447840"/>
                <a:gridCol w="449280"/>
                <a:gridCol w="449280"/>
                <a:gridCol w="447480"/>
                <a:gridCol w="4492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WordArt 40"/>
          <p:cNvSpPr txBox="1"/>
          <p:nvPr/>
        </p:nvSpPr>
        <p:spPr>
          <a:xfrm>
            <a:off x="1547640" y="115920"/>
            <a:ext cx="6085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рю - не верю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изучить раздел 12 до конца, пересказать, выучить все основные по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навательн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заполнить рабочие тетр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ворческо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подготовить дополнительную информацию о разнообразии кровеносных систем.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8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8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96360" cy="40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ель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ознакомиться с особенностями переноса веществ в организме позвоночных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ссмотреть значение этого процесс в жизни                 животны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Изучить состав крови позвоночных животных, строение кровеносной системы и ёё функц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родолжить работу с материалами Е Г 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158560" y="4005360"/>
            <a:ext cx="69850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должить формирование умений учащихся работать с микроскопом и микропрепаратами, схемами, рисун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бобщать изученный материал и делать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-603360"/>
            <a:ext cx="784872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Одноклеточ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9640" y="5444640"/>
            <a:ext cx="79200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ёба обыкновенная             Инфузория туфель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Изображение 250"/>
          <p:cNvPicPr/>
          <p:nvPr/>
        </p:nvPicPr>
        <p:blipFill>
          <a:blip r:embed="rId1"/>
          <a:stretch/>
        </p:blipFill>
        <p:spPr>
          <a:xfrm rot="910200">
            <a:off x="4932000" y="1052640"/>
            <a:ext cx="3741840" cy="410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"/>
          <p:cNvPicPr/>
          <p:nvPr/>
        </p:nvPicPr>
        <p:blipFill>
          <a:blip r:embed="rId2"/>
          <a:stretch/>
        </p:blipFill>
        <p:spPr>
          <a:xfrm>
            <a:off x="324000" y="1484280"/>
            <a:ext cx="3628800" cy="36194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царство Многоклеточные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Кольчатые черв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Изображение 251"/>
          <p:cNvPicPr/>
          <p:nvPr/>
        </p:nvPicPr>
        <p:blipFill>
          <a:blip r:embed="rId1"/>
          <a:stretch/>
        </p:blipFill>
        <p:spPr>
          <a:xfrm>
            <a:off x="0" y="1855800"/>
            <a:ext cx="9144000" cy="2608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ип моллю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5229000"/>
            <a:ext cx="6400800" cy="40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кновенный прудов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Изображение 252"/>
          <p:cNvPicPr/>
          <p:nvPr/>
        </p:nvPicPr>
        <p:blipFill>
          <a:blip r:embed="rId1"/>
          <a:stretch/>
        </p:blipFill>
        <p:spPr>
          <a:xfrm>
            <a:off x="1547640" y="1413000"/>
            <a:ext cx="5688360" cy="35607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Членистоноги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ласс Насеком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403280" y="51051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чела медонос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Изображение 263"/>
          <p:cNvPicPr/>
          <p:nvPr/>
        </p:nvPicPr>
        <p:blipFill>
          <a:blip r:embed="rId1"/>
          <a:stretch/>
        </p:blipFill>
        <p:spPr>
          <a:xfrm>
            <a:off x="250920" y="1700280"/>
            <a:ext cx="8893080" cy="29001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77708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ЕГЭ. Раздел 2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78920" y="691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4. Установите соответствие между признаком и видом живых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знак                                     Вид орга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Незамкнутая кровеносная           А) 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                                          Б) Пчела медо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Кровь пере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тательные ве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Замкнутая кровено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Сердце в виде тру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Кровь содержит гемоглоб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755640" y="836640"/>
            <a:ext cx="77770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0" y="836640"/>
            <a:ext cx="91440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8360" y="5516640"/>
          <a:ext cx="4319640" cy="1066680"/>
        </p:xfrm>
        <a:graphic>
          <a:graphicData uri="http://schemas.openxmlformats.org/drawingml/2006/table">
            <a:tbl>
              <a:tblPr/>
              <a:tblGrid>
                <a:gridCol w="865440"/>
                <a:gridCol w="861840"/>
                <a:gridCol w="865440"/>
                <a:gridCol w="861840"/>
                <a:gridCol w="865080"/>
              </a:tblGrid>
              <a:tr h="517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8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8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8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Изображение 261"/>
          <p:cNvPicPr/>
          <p:nvPr/>
        </p:nvPicPr>
        <p:blipFill>
          <a:blip r:embed="rId1"/>
          <a:stretch/>
        </p:blipFill>
        <p:spPr>
          <a:xfrm>
            <a:off x="0" y="-6480"/>
            <a:ext cx="9036000" cy="6864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528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овеносные системы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Изображение 251"/>
          <p:cNvPicPr/>
          <p:nvPr/>
        </p:nvPicPr>
        <p:blipFill>
          <a:blip r:embed="rId1"/>
          <a:stretch/>
        </p:blipFill>
        <p:spPr>
          <a:xfrm>
            <a:off x="1042920" y="981000"/>
            <a:ext cx="7344000" cy="2092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306828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ждевой чер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Изображение 001"/>
          <p:cNvPicPr/>
          <p:nvPr/>
        </p:nvPicPr>
        <p:blipFill>
          <a:blip r:embed="rId2"/>
          <a:stretch/>
        </p:blipFill>
        <p:spPr>
          <a:xfrm>
            <a:off x="1042920" y="3500280"/>
            <a:ext cx="6913800" cy="28418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0"/>
          <p:cNvSpPr/>
          <p:nvPr/>
        </p:nvSpPr>
        <p:spPr>
          <a:xfrm>
            <a:off x="0" y="6426360"/>
            <a:ext cx="914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ака домашня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8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6:57:04Z</dcterms:created>
  <dc:creator>Олег</dc:creator>
  <dc:description/>
  <dc:language>en-US</dc:language>
  <cp:lastModifiedBy>LEGION</cp:lastModifiedBy>
  <dcterms:modified xsi:type="dcterms:W3CDTF">2014-11-24T13:17:35Z</dcterms:modified>
  <cp:revision>35</cp:revision>
  <dc:subject/>
  <dc:title>Тема: Перенос веществ в организме позвоночных животных.</dc:title>
</cp:coreProperties>
</file>