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F51-E590-42EA-85A3-B534F5F18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ма: Перенос веществ в организме позвоноч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23BF-A561-4291-A53F-FBC45CF0D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бораторная работ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учить под микроскопом микропрепараты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равнить с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ь, чья кровь способна переносить больше кисл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082-E1A4-4A3D-AF07-FB728F4E3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нструкция по технике безопасности для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Будьте осторожны при работе с использованием режущих и колющих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Помните, что стекло хрупкое, легко бьётся, будьте аккуратны при работе с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лучае необходимости сразу воспользуйтесь аптеч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6613-A7DC-4A34-9B2B-2347AE41D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д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Эритроциты крови лягушки и человека сходн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Имеют различ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Эритроциты чьей крови способны переносить больше кислор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Эволюция эритроцитов позвоночных шла в направлен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CF9C-D433-48CE-93EE-6A302472BF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У всех многоклеточных животных красная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состоит из плазмы и клеток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ровь у всех животных переносит только кисл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ровеносная система позвоночных животных замкнутая и состоит из сердца и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У рыб трехкамерное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У позвоночных высокий уровень обмена веществ по сравнению с беспозвоноч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Гемолимфа – бесцветная или зеленоватая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Птицы и млекопитающие – холоднокровные жив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B8EC-6F30-49C3-9A87-463C1241AC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яз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учить раздел 12 до конца, пересказать, выучить все основ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заполнить рабочие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вор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подготовить дополнительную информацию о разнообразии кровеносных систе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2C9A-1CB3-463C-A4B3-EF176DD552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знакомиться с особенностями переноса веществ в организме позвоночных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еть значение этого процесс в жизни                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Изучить состав крови позвоночных животных, строение кровеносной системы и ёё функци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одолжить работу с материалами Е Г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бобщать изученный материал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0E46-410E-4254-97E1-0F9A8D1D25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царство Одноклеточ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ёба обыкновенная             Инфузория туфель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B19C-73EB-4C72-931C-303D006A4C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царство Многоклеточны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Кольчатые чер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059B-1640-4415-B905-543DDFD4AC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ип моллюс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кновенный пруд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0031-D4A4-4E4D-BF0C-CA349A1947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Членистоног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 Насекомы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чела медонос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1C78-BE9C-4A24-A25C-CDE10F078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Э. Раздел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. Установите соответствие между признаком и видом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                                     Вид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езамкнутая кровеносная           А) 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                                          Б) Пчела медо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перен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тательны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амкнутая крове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Сердце в виде тру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ровь содержит гемоглоб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08A-F963-44BC-91F2-75627F623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овеносные систем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1392-7DFE-4EBA-9F73-ED2591575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C0B-11D6-43E4-9666-C55DA9DB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F9E-5A91-46D6-B805-8D0830B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9F0-9563-42A7-B947-2430E5D0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ED0-E193-41E4-997C-23484D8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BFF-D2C4-49E1-85DA-829FE49B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AB9-1A7B-4BA7-A594-2C20E08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AA6-1F34-4F49-A0BB-3E716BF7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31B-56AD-47E3-B801-FF0D052A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C10-79F5-4450-A4C1-ED77A57A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91C-E816-4C84-ADC6-4AC33D8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97A-23DA-42D8-8063-F475ACA9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B34-9177-45A8-8554-60CBE91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2D1-3AF1-434F-8196-834C344FC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LEGION</cp:lastModifiedBy>
  <dcterms:modified xsi:type="dcterms:W3CDTF">2014-11-24T13:17:35Z</dcterms:modified>
  <cp:revision>35</cp:revision>
  <dc:subject/>
  <dc:title>Тема: Перенос веществ в организме позвоночных животных.</dc:title>
</cp:coreProperties>
</file>