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F25D-2699-478B-BF34-CA6D793F8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лияние радиоактивного излучения на живые 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8-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гранян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7E7F-9656-4273-B21D-CBC2BAF2CC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cfcff"/>
                </a:solidFill>
                <a:latin typeface="Arial"/>
              </a:rPr>
              <a:t>Ученые установили, что красное вино может защищать организм человека от воздействия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исследованиям, которые провела группа американских ученых, природный антиоксидант ресвератрол, который содержится в красном вине и фруктах, способен препятствовать некоторым повреждениям, которые вызывает радиационное излу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ытов, проведенных на лабораторных мышах, выяснилось, что организм мышей, которые получили некоторую дозу ресвератрола, способен оказывать сопротивление действию радиационных лучей. В ближайшее время ученые займутся исследованием действия антиоксиданта на организм челове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143-6DF0-4CF7-AEFE-3F9C95455A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78AD-7547-4575-813C-CB86378446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О ради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CB5-51D4-4845-8096-7339552C43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Космические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2E3B-BDC0-4505-BE4C-DA4EFEC962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Выбросы и сбросы вредных веществ при эксплуатации А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34A-11DF-4BB4-97FE-828D1DE108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Радио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F29-446C-42F0-B4B7-50A931931C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e1f3"/>
                </a:solidFill>
                <a:latin typeface="Calibri"/>
              </a:rPr>
              <a:t>Чернобыльская трагед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015C-1E1F-40D0-B902-9C30CEB9DC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400" spc="-1" strike="noStrike">
                <a:solidFill>
                  <a:srgbClr val="b3e1f3"/>
                </a:solidFill>
                <a:latin typeface="Verdana"/>
              </a:rPr>
              <a:t>Какие продукты представляют наибольшую опасность с точки зрения радиаци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C3A9-5C5F-4FBE-BA84-59F278096A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3e1f3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7547-BDF5-4335-9E42-9247E23415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6BA-6324-443A-8533-FFCDC134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FAD-F63E-4CED-8F7C-9D08E596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AFAE-E59A-475C-94FD-C3391B60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615-82B0-4D04-9D80-73E23979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F45-9EBD-4450-B3CC-F544FE18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41A0-6728-4609-970B-9A313D72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ADC-ECE2-45CF-BD06-BE9320B3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3855-1233-4240-83C4-F9DA82D3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BD7-C399-4D9E-BF59-F541E226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1BC2-F972-4BED-ADA7-4144D437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B8B6-9A18-4BD1-9AD2-EDCB4D1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F3A-721E-4E94-BF37-A008AF0A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2A68-34E6-4B61-B0E9-26BD0463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AB9-B446-4550-8621-D5885CB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65C8-6385-4CAD-AE4C-B9D36D51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087E-18F3-44AF-A19E-93EA192F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3D84-577E-4ABF-ABAC-9552BF72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605-9DA3-4FDB-A340-AAE9EEB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9E7-6B9B-4C8B-AA2E-C30FD36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2F6-86C1-4EB6-B298-A1A6E777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A9A-430A-4423-A803-B1F77BE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C00-7E02-46EE-A586-192C573A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D0D-EA8A-4C85-B951-B1331C9C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72A-5323-4569-A3B1-C796EAA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C492-CE3E-4332-B377-E341F03284BE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6AD-A831-41C3-835A-9B3254548E0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8F9-9259-4ACC-B9D1-C7D34943BC38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2CC0-2CD2-451F-9562-5F0A480F094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99800" y="3786120"/>
            <a:ext cx="6643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ентацию выполни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8-1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гранян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90600" y="1371600"/>
            <a:ext cx="828972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Kate Alexa - Help Me Find My Way.mp3" descr=""/>
          <p:cNvPicPr/>
          <p:nvPr/>
        </p:nvPicPr>
        <p:blipFill>
          <a:blip r:embed="rId2"/>
          <a:stretch/>
        </p:blipFill>
        <p:spPr>
          <a:xfrm>
            <a:off x="8286840" y="357120"/>
            <a:ext cx="215640" cy="216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Красное вино препятствует воздействию радиоактивных излучений"/>
          <p:cNvPicPr/>
          <p:nvPr/>
        </p:nvPicPr>
        <p:blipFill>
          <a:blip r:embed="rId1"/>
          <a:stretch/>
        </p:blipFill>
        <p:spPr>
          <a:xfrm>
            <a:off x="428760" y="642960"/>
            <a:ext cx="2381040" cy="186696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3" descr=""/>
          <p:cNvPicPr/>
          <p:nvPr/>
        </p:nvPicPr>
        <p:blipFill>
          <a:blip r:embed="rId2"/>
          <a:stretch/>
        </p:blipFill>
        <p:spPr>
          <a:xfrm>
            <a:off x="3236760" y="182520"/>
            <a:ext cx="5724720" cy="56642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615960" y="2073240"/>
            <a:ext cx="827892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78560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диоактивность - отнюдь не новое явление; новизна состоит лишь в том, как люди пытались ее использовать. И радиоактивность, и сопутствующие ей ионизирующие излучения существовали на Земле задолго до зарождения на ней жизни и присутствовали в космосе до возникновения самой Зем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46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1257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42720" y="1356840"/>
            <a:ext cx="6543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ясь в основном в почве, особенно в горных породах, естественные радиоизотопы обусловливают природный естественный фон радиоактивности, который не оказывает на человека вредного действи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опадании в атмосферу искусственных радиоизотопов в виде радиоактивных отходов атомных реакторов, промышленных предприятий и учреждений, работающих с радиоактивными веществами, а также в результате испытаний атомного оружия природный радиоактивный фон может повыситься. Образующееся при взрывах радиоактивное облако, распространяясь вокруг Земного шара, будет служить на своем пути источником радиоактивного загрязнения воздуха, водоемов и почвы за счет выпадения радиоактивных осадков. Эти осадки, способны накапливаться в растениях, рыбах, поступать в молоко животных и стать потенциально опасными для человека при употреблении пищевых продукт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радиоактивные и космические излучения и их влияние на человека"/>
          <p:cNvPicPr/>
          <p:nvPr/>
        </p:nvPicPr>
        <p:blipFill>
          <a:blip r:embed="rId2"/>
          <a:stretch/>
        </p:blipFill>
        <p:spPr>
          <a:xfrm>
            <a:off x="0" y="1357200"/>
            <a:ext cx="2500200" cy="19670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28760" y="1356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выбросы делят на газовые и аэрозольные, выбрасываемые в атмосферу через трубу, и жидкие сбросы, в которых вредные примеси присутствуют в виде растворов или мелкодисперсных смесей, попадающие в водоемы. Включаясь в многообразные движения атмосферы, поверхностных и подземных потоков, радиоактивные и токсические вещества распространяются в окружающей среде, попадают в растения, в организмы животных и человека. На рисунке показаны воздушные, поверхностные и подземные пути миграции вредных веществ в окружающей сред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нна\Pictures\384_2.jpg"/>
          <p:cNvPicPr/>
          <p:nvPr/>
        </p:nvPicPr>
        <p:blipFill>
          <a:blip r:embed="rId2"/>
          <a:stretch/>
        </p:blipFill>
        <p:spPr>
          <a:xfrm>
            <a:off x="1928880" y="4071960"/>
            <a:ext cx="5079960" cy="2539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33440" y="274680"/>
            <a:ext cx="8277120" cy="1163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-это способность некоторых атомных ядер самопроизвольно превращаться в другие ядра, испуская при этом различные частицы: Всякий самопроизвольный радиоактивный распад экзотермичен, то есть происходит с выделением теп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ebcomclub.narod.ru/promo/izl.jpg"/>
          <p:cNvPicPr/>
          <p:nvPr/>
        </p:nvPicPr>
        <p:blipFill>
          <a:blip r:embed="rId1"/>
          <a:stretch/>
        </p:blipFill>
        <p:spPr>
          <a:xfrm>
            <a:off x="428760" y="214200"/>
            <a:ext cx="5572080" cy="31910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6215040" y="28584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АЛЬФА-ЧАСТИЦА (a-частиц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дро атома гелия. Содержит два протона и два нейтрона. Испусканием a-частиц сопровождается одно из радиоактивных превращений (альфа-распад ядер) некоторых химических эле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500040" y="377028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3cddd"/>
                </a:solidFill>
                <a:latin typeface="Times New Roman"/>
              </a:rPr>
              <a:t>БЕТА-ЧАСТ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ускаемый при бета-распаде электрон. Поток бета-частиц является одним из видов радиоактивных излучений с проникающей способностью, большей, чем у альфа-частиц, но меньшей, чем у гамма-изл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4929120" y="3786120"/>
            <a:ext cx="3673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3cddd"/>
                </a:solidFill>
                <a:latin typeface="Times New Roman"/>
              </a:rPr>
              <a:t>ГАММА-ИЗЛУЧЕНИЕ (гамма-кван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ротковолновое электромагнитное излучение с длиной волны меньше 2×10–10 м. Из-за малой длины волны волновые свойства гамма-излучения проявляются слабо, и на первый план выступают корпускулярные свойства, в связи с чем его представляют в виде потока гамма-квантов (фотон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1805040" y="609480"/>
            <a:ext cx="5510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14" name="Рисунок 2"/>
          <p:cNvGrpSpPr/>
          <p:nvPr/>
        </p:nvGrpSpPr>
        <p:grpSpPr>
          <a:xfrm>
            <a:off x="3651120" y="5108400"/>
            <a:ext cx="3097440" cy="1603440"/>
            <a:chOff x="3651120" y="5108400"/>
            <a:chExt cx="3097440" cy="1603440"/>
          </a:xfrm>
        </p:grpSpPr>
        <p:pic>
          <p:nvPicPr>
            <p:cNvPr id="115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3651120" y="5108400"/>
              <a:ext cx="3097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714840" y="5143680"/>
              <a:ext cx="264312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1833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жизнь миллионов белорусов, украинцев и россиян круто изменилась. Эта дата разделила нашу историю на "до" и "после". 22 года назад на четвертом блоке Чернобыльской АЭС произошла крупнейшая ядерная авария в мир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1857240" y="3357720"/>
            <a:ext cx="564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отчете организаций ООН, вышедшем в 2005 году, утверждается, что Чернобыльская катастрофа унесла и еще унесет приблизительно 4000 жизн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785960" y="2286000"/>
            <a:ext cx="56437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26 апреля 1986 года произошел выброс активности в масштабах от 50 до 250 миллионов Кюри. Высвободившийся в Чернобыле радиоактивный потенциал соответствует по меньшей мере 100 атомным бомбам. </a:t>
            </a:r>
            <a:br>
              <a:rPr sz="10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314960"/>
            <a:ext cx="4762440" cy="2543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3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1828800" y="237960"/>
            <a:ext cx="5486400" cy="1425600"/>
          </a:xfrm>
          <a:prstGeom prst="rect">
            <a:avLst/>
          </a:prstGeom>
          <a:ln w="0">
            <a:noFill/>
          </a:ln>
        </p:spPr>
      </p:pic>
      <p:grpSp>
        <p:nvGrpSpPr>
          <p:cNvPr id="123" name="Рисунок 2"/>
          <p:cNvGrpSpPr/>
          <p:nvPr/>
        </p:nvGrpSpPr>
        <p:grpSpPr>
          <a:xfrm>
            <a:off x="2438280" y="5248440"/>
            <a:ext cx="4449960" cy="939600"/>
            <a:chOff x="2438280" y="5248440"/>
            <a:chExt cx="4449960" cy="939600"/>
          </a:xfrm>
        </p:grpSpPr>
        <p:pic>
          <p:nvPicPr>
            <p:cNvPr id="124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438280" y="5248440"/>
              <a:ext cx="444996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500200" y="5286240"/>
              <a:ext cx="4000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8800" y="1928880"/>
            <a:ext cx="5486400" cy="2714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ыми причинами попадания радионуклидов в пищу сегодня являются высокое содержание радионуклидов в грибах, ягодах, рыбе и дичи, а также радиоактивное загрязнение травы и сена, которыми питаются коровы, дающие молоко. Загрязнение мяса и молока можно сократить, используя чистые корма и кормовые добавки, а также ограничив время выпаса скота. Для продуктов питания из государственного сектора, а также продукции, продаваемой на рынках, действуют нормы максимального содержания радионуклидов.</a:t>
            </a:r>
            <a:br>
              <a:rPr sz="10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Что нужно знать о радиации и о Чернобыльской трагедии?"/>
          <p:cNvPicPr/>
          <p:nvPr/>
        </p:nvPicPr>
        <p:blipFill>
          <a:blip r:embed="rId3"/>
          <a:stretch/>
        </p:blipFill>
        <p:spPr>
          <a:xfrm>
            <a:off x="2143080" y="4429080"/>
            <a:ext cx="4762440" cy="21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4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277120" cy="1163880"/>
          </a:xfrm>
          <a:prstGeom prst="rect">
            <a:avLst/>
          </a:prstGeom>
          <a:ln w="0">
            <a:noFill/>
          </a:ln>
        </p:spPr>
      </p:pic>
      <p:pic>
        <p:nvPicPr>
          <p:cNvPr id="130" name="Содержимое 5" descr="93e4d3b3-5fbd-4167-ba1f-a72946593df1.jpg"/>
          <p:cNvPicPr/>
          <p:nvPr/>
        </p:nvPicPr>
        <p:blipFill>
          <a:blip r:embed="rId2"/>
          <a:stretch/>
        </p:blipFill>
        <p:spPr>
          <a:xfrm>
            <a:off x="642960" y="178596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85680" y="1600200"/>
            <a:ext cx="5900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во, как и более крепкие алкогольные напитки, способно защитить организм от радиоактивного излучения. Это экспериментально доказали японские ученые из Института лучевой медицины. Результаты их исследований опубликованы в пятницу в токийской печати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наружено, что одной полулитровой бутылки светлого пива достаточно, чтобы на 34% снизить число хромосомных поврежденный, которые возникают после воздействия рентгеновских лучей или тяжелых частиц, например, ионов водорода, сообщает ИТАР-ТАСС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мнению ученых, этот эффект достигается благодаря сочетанию содержащихся в пенном напитке биологически активных соединений (псевдоуридин, мелатонин и глицин-бетаин) с алкоголем. Известно, что спирт поглощает свободные радикалы, которые при облучении приводят к генетическим нарушения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2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09:51Z</dcterms:created>
  <dc:creator>Анна</dc:creator>
  <dc:description/>
  <dc:language>en-US</dc:language>
  <cp:lastModifiedBy>LEGION</cp:lastModifiedBy>
  <dcterms:modified xsi:type="dcterms:W3CDTF">2014-11-24T13:18:47Z</dcterms:modified>
  <cp:revision>41</cp:revision>
  <dc:subject/>
  <dc:title>Влияние радиоактивного излучения на живые организмы</dc:title>
</cp:coreProperties>
</file>