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2266-DC6B-4FC9-BEC3-C25C7DF4E5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лияние радиоактивного излучения на живые 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8-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гранян Ан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FEF3-1F31-4BFB-9BDE-437B1880D7A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cfcff"/>
                </a:solidFill>
                <a:latin typeface="Arial"/>
              </a:rPr>
              <a:t>Ученые установили, что красное вино может защищать организм человека от воздействия рад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исследованиям, которые провела группа американских ученых, природный антиоксидант ресвератрол, который содержится в красном вине и фруктах, способен препятствовать некоторым повреждениям, которые вызывает радиационное излу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опытов, проведенных на лабораторных мышах, выяснилось, что организм мышей, которые получили некоторую дозу ресвератрола, способен оказывать сопротивление действию радиационных лучей. В ближайшее время ученые займутся исследованием действия антиоксиданта на организм челове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E569-9216-4C9F-80A5-ACDFE84DD4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392C-291E-40F1-BB6F-A779760B80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О рад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диоактивность - отнюдь не новое явление; новизна состоит лишь в том, как люди пытались ее использовать. И радиоактивность, и сопутствующие ей ионизирующие излучения существовали на Земле задолго до зарождения на ней жизни и присутствовали в космосе до возникновения самой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8DCB-1330-4437-BC6C-A3B6DBEBD1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Космические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сь в основном в почве, особенно в горных породах, естественные радиоизотопы обусловливают природный естественный фон радиоактивности, который не оказывает на человека вредного действ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падании в атмосферу искусственных радиоизотопов в виде радиоактивных отходов атомных реакторов, промышленных предприятий и учреждений, работающих с радиоактивными веществами, а также в результате испытаний атомного оружия природный радиоактивный фон может повыситься. Образующееся при взрывах радиоактивное облако, распространяясь вокруг Земного шара, будет служить на своем пути источником радиоактивного загрязнения воздуха, водоемов и почвы за счет выпадения радиоактивных осадков. Эти осадки, способны накапливаться в растениях, рыбах, поступать в молоко животных и стать потенциально опасными для человека при употреблении пищевых проду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10CA-3761-4F71-A575-85E68F205F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Выбросы и сбросы вредных веществ при эксплуатации АС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выбросы делят на газовые и аэрозольные, выбрасываемые в атмосферу через трубу, и жидкие сбросы, в которых вредные примеси присутствуют в виде растворов или мелкодисперсных смесей, попадающие в водоемы. Включаясь в многообразные движения атмосферы, поверхностных и подземных потоков, радиоактивные и токсические вещества распространяются в окружающей среде, попадают в растения, в организмы животных и человека. На рисунке показаны воздушные, поверхностные и подземные пути миграции вредных веществ в окружающей сре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E859-C1A3-4144-A841-623FA95712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Радио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способность некоторых атомных ядер самопроизвольно превращаться в другие ядра, испуская при этом различные частицы: Всякий самопроизвольный радиоактивный распад экзотермичен, то есть происходит с выделением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5485-57FC-4E05-A567-F5508A2483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1f3"/>
                </a:solidFill>
                <a:latin typeface="Calibri"/>
              </a:rPr>
              <a:t>Чернобыльская трагед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6 апреля 1986 года жизнь миллионов белорусов, украинцев и россиян круто изменилась. Эта дата разделила нашу историю на "до" и "после". 22 года назад на четвертом блоке Чернобыльской АЭС произошла крупнейшая ядерная авария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2387-EA54-41AF-AAB4-CA11779AA0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400" spc="-1" strike="noStrike">
                <a:solidFill>
                  <a:srgbClr val="b3e1f3"/>
                </a:solidFill>
                <a:latin typeface="Verdana"/>
              </a:rPr>
              <a:t>Какие продукты представляют наибольшую опасность с точки зрения радиаци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ми причинами попадания радионуклидов в пищу сегодня являются высокое содержание радионуклидов в грибах, ягодах, рыбе и дичи, а также радиоактивное загрязнение травы и сена, которыми питаются коровы, дающие молоко. Загрязнение мяса и молока можно сократить, используя чистые корма и кормовые добавки, а также ограничив время выпаса скота. Для продуктов питания из государственного сектора, а также продукции, продаваемой на рынках, действуют нормы максимального содержания радионуклид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0FA4-E649-47AD-810C-D409B875A5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во, как и более крепкие алкогольные напитки, способно защитить организм от радиоактивного излучения. Это экспериментально доказали японские ученые из Института лучевой медицины. Результаты их исследований опубликованы в пятницу в токийской печат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аружено, что одной полулитровой бутылки светлого пива достаточно, чтобы на 34% снизить число хромосомных поврежденный, которые возникают после воздействия рентгеновских лучей или тяжелых частиц, например, ионов водорода, сообщает ИТАР-ТАСС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ученых, этот эффект достигается благодаря сочетанию содержащихся в пенном напитке биологически активных соединений (псевдоуридин, мелатонин и глицин-бетаин) с алкоголем. Известно, что спирт поглощает свободные радикалы, которые при облучении приводят к генетическим наруш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D792-EDE2-4D00-AC97-95FE57B2BE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8196-67CA-4F91-85D6-8DA6D6FF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3EF-E330-4647-8B1F-6B452AA2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3D07-FB2F-406F-A5FD-E068D0E3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3B4-CD96-46EE-9277-A8D0D90A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FFB2-7E3D-4091-87A8-BEC5A057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F37E-5CB4-44EA-842F-0D677ADC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521D-9979-4208-8091-BA4F02CB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D532-F3B7-4A2E-BC6E-4B63DC31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504C-DF5F-42E7-8E8E-B5153479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ADDB-ED90-45FF-9414-059CF222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F010-2886-4CAC-AA01-85E64860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B89B-3E13-4D94-9568-5E71EB6B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FDBB-D467-4CD9-8A84-0456BA98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F88C-094C-48B2-B8EE-E60E1094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6593-0B59-41DD-9BC1-45FB1D2B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C6EB-A573-46C0-9E59-069BDA5E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284A-F769-4108-98E8-D1EC4799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E78E-56A2-452E-8701-4D5D0223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967-6CFD-4271-9210-DC9C64BD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DDB3-2A9F-47D7-81CA-F06E2D7B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E2DB-43E0-4949-B819-EE52BEB6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BF2-A66C-43CC-842A-0E261C07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363-839A-4EBC-97DE-F14558B1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2DD1-3D14-47C5-9942-144D0C0C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BF81-E1D4-458B-B641-B37B162CE3F1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1C12-A1B9-4B0F-8581-7AE6FCF7697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D9E8-7826-48E4-819C-A4DC11BB481F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003A-1D61-4B7D-A967-D66A5D1071B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99800" y="3786120"/>
            <a:ext cx="66438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ю выполни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а 8-1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игранян Ан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390600" y="1371600"/>
            <a:ext cx="8289720" cy="3529080"/>
          </a:xfrm>
          <a:prstGeom prst="rect">
            <a:avLst/>
          </a:prstGeom>
          <a:ln w="0">
            <a:noFill/>
          </a:ln>
        </p:spPr>
      </p:pic>
      <p:pic>
        <p:nvPicPr>
          <p:cNvPr id="91" name="Kate Alexa - Help Me Find My Way.mp3" descr=""/>
          <p:cNvPicPr/>
          <p:nvPr/>
        </p:nvPicPr>
        <p:blipFill>
          <a:blip r:embed="rId2"/>
          <a:stretch/>
        </p:blipFill>
        <p:spPr>
          <a:xfrm>
            <a:off x="8286840" y="357120"/>
            <a:ext cx="215640" cy="216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Красное вино препятствует воздействию радиоактивных излучений"/>
          <p:cNvPicPr/>
          <p:nvPr/>
        </p:nvPicPr>
        <p:blipFill>
          <a:blip r:embed="rId1"/>
          <a:stretch/>
        </p:blipFill>
        <p:spPr>
          <a:xfrm>
            <a:off x="428760" y="642960"/>
            <a:ext cx="2381040" cy="18669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3" descr=""/>
          <p:cNvPicPr/>
          <p:nvPr/>
        </p:nvPicPr>
        <p:blipFill>
          <a:blip r:embed="rId2"/>
          <a:stretch/>
        </p:blipFill>
        <p:spPr>
          <a:xfrm>
            <a:off x="3236760" y="182520"/>
            <a:ext cx="5724720" cy="56642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615960" y="2073240"/>
            <a:ext cx="8278920" cy="2286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6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78560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иоактивность - отнюдь не новое явление; новизна состоит лишь в том, как люди пытались ее использовать. И радиоактивность, и сопутствующие ей ионизирующие излучения существовали на Земле задолго до зарождения на ней жизни и присутствовали в космосе до возникновения самой Зем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46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6840" y="1600200"/>
            <a:ext cx="12574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42720" y="1356840"/>
            <a:ext cx="6543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ходясь в основном в почве, особенно в горных породах, естественные радиоизотопы обусловливают природный естественный фон радиоактивности, который не оказывает на человека вредного действи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попадании в атмосферу искусственных радиоизотопов в виде радиоактивных отходов атомных реакторов, промышленных предприятий и учреждений, работающих с радиоактивными веществами, а также в результате испытаний атомного оружия природный радиоактивный фон может повыситься. Образующееся при взрывах радиоактивное облако, распространяясь вокруг Земного шара, будет служить на своем пути источником радиоактивного загрязнения воздуха, водоемов и почвы за счет выпадения радиоактивных осадков. Эти осадки, способны накапливаться в растениях, рыбах, поступать в молоко животных и стать потенциально опасными для человека при употреблении пищевых продукт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2" descr="радиоактивные и космические излучения и их влияние на человека"/>
          <p:cNvPicPr/>
          <p:nvPr/>
        </p:nvPicPr>
        <p:blipFill>
          <a:blip r:embed="rId2"/>
          <a:stretch/>
        </p:blipFill>
        <p:spPr>
          <a:xfrm>
            <a:off x="0" y="1357200"/>
            <a:ext cx="2500200" cy="19670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28760" y="135684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и выбросы делят на газовые и аэрозольные, выбрасываемые в атмосферу через трубу, и жидкие сбросы, в которых вредные примеси присутствуют в виде растворов или мелкодисперсных смесей, попадающие в водоемы. Включаясь в многообразные движения атмосферы, поверхностных и подземных потоков, радиоактивные и токсические вещества распространяются в окружающей среде, попадают в растения, в организмы животных и человека. На рисунке показаны воздушные, поверхностные и подземные пути миграции вредных веществ в окружающей сред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C:\Users\Анна\Pictures\384_2.jpg"/>
          <p:cNvPicPr/>
          <p:nvPr/>
        </p:nvPicPr>
        <p:blipFill>
          <a:blip r:embed="rId2"/>
          <a:stretch/>
        </p:blipFill>
        <p:spPr>
          <a:xfrm>
            <a:off x="1928880" y="4071960"/>
            <a:ext cx="5079960" cy="2539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63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это способность некоторых атомных ядер самопроизвольно превращаться в другие ядра, испуская при этом различные частицы: Всякий самопроизвольный радиоактивный распад экзотермичен, то есть происходит с выделением теп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webcomclub.narod.ru/promo/izl.jpg"/>
          <p:cNvPicPr/>
          <p:nvPr/>
        </p:nvPicPr>
        <p:blipFill>
          <a:blip r:embed="rId1"/>
          <a:stretch/>
        </p:blipFill>
        <p:spPr>
          <a:xfrm>
            <a:off x="428760" y="214200"/>
            <a:ext cx="5572080" cy="31910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6215040" y="28584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3cddd"/>
                </a:solidFill>
                <a:latin typeface="Times New Roman"/>
              </a:rPr>
              <a:t>АЛЬФА-ЧАСТИЦА (a-частиц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дро атома гелия. Содержит два протона и два нейтрона. Испусканием a-частиц сопровождается одно из радиоактивных превращений (альфа-распад ядер) некоторых химических эле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500040" y="377028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3cddd"/>
                </a:solidFill>
                <a:latin typeface="Times New Roman"/>
              </a:rPr>
              <a:t>БЕТА-ЧАСТ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ускаемый при бета-распаде электрон. Поток бета-частиц является одним из видов радиоактивных излучений с проникающей способностью, большей, чем у альфа-частиц, но меньшей, чем у гамма-излу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4929120" y="3786120"/>
            <a:ext cx="3673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3cddd"/>
                </a:solidFill>
                <a:latin typeface="Times New Roman"/>
              </a:rPr>
              <a:t>ГАММА-ИЗЛУЧЕНИЕ (гамма-квант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ротковолновое электромагнитное излучение с длиной волны меньше 2×10–10 м. Из-за малой длины волны волновые свойства гамма-излучения проявляются слабо, и на первый план выступают корпускулярные свойства, в связи с чем его представляют в виде потока гамма-квантов (фотонов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1805040" y="609480"/>
            <a:ext cx="5510160" cy="530280"/>
          </a:xfrm>
          <a:prstGeom prst="rect">
            <a:avLst/>
          </a:prstGeom>
          <a:ln w="0">
            <a:noFill/>
          </a:ln>
        </p:spPr>
      </p:pic>
      <p:grpSp>
        <p:nvGrpSpPr>
          <p:cNvPr id="114" name="Рисунок 2"/>
          <p:cNvGrpSpPr/>
          <p:nvPr/>
        </p:nvGrpSpPr>
        <p:grpSpPr>
          <a:xfrm>
            <a:off x="3651120" y="5108400"/>
            <a:ext cx="3097440" cy="1603440"/>
            <a:chOff x="3651120" y="5108400"/>
            <a:chExt cx="3097440" cy="1603440"/>
          </a:xfrm>
        </p:grpSpPr>
        <p:pic>
          <p:nvPicPr>
            <p:cNvPr id="115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3651120" y="5108400"/>
              <a:ext cx="3097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714840" y="5143680"/>
              <a:ext cx="264312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1833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6 апреля 1986 года жизнь миллионов белорусов, украинцев и россиян круто изменилась. Эта дата разделила нашу историю на "до" и "после". 22 года назад на четвертом блоке Чернобыльской АЭС произошла крупнейшая ядерная авария в мир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1857240" y="3357720"/>
            <a:ext cx="564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отчете организаций ООН, вышедшем в 2005 году, утверждается, что Чернобыльская катастрофа унесла и еще унесет приблизительно 4000 жизн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785960" y="2286000"/>
            <a:ext cx="56437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6 апреля 1986 года произошел выброс активности в масштабах от 50 до 250 миллионов Кюри. Высвободившийся в Чернобыле радиоактивный потенциал соответствует по меньшей мере 100 атомным бомбам. </a:t>
            </a:r>
            <a:br>
              <a:rPr sz="10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Что нужно знать о радиации и о Чернобыльской трагедии?"/>
          <p:cNvPicPr/>
          <p:nvPr/>
        </p:nvPicPr>
        <p:blipFill>
          <a:blip r:embed="rId3"/>
          <a:stretch/>
        </p:blipFill>
        <p:spPr>
          <a:xfrm>
            <a:off x="2143080" y="4314960"/>
            <a:ext cx="4762440" cy="25430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1828800" y="237960"/>
            <a:ext cx="5486400" cy="1425600"/>
          </a:xfrm>
          <a:prstGeom prst="rect">
            <a:avLst/>
          </a:prstGeom>
          <a:ln w="0">
            <a:noFill/>
          </a:ln>
        </p:spPr>
      </p:pic>
      <p:grpSp>
        <p:nvGrpSpPr>
          <p:cNvPr id="123" name="Рисунок 2"/>
          <p:cNvGrpSpPr/>
          <p:nvPr/>
        </p:nvGrpSpPr>
        <p:grpSpPr>
          <a:xfrm>
            <a:off x="2438280" y="5248440"/>
            <a:ext cx="4449960" cy="939600"/>
            <a:chOff x="2438280" y="5248440"/>
            <a:chExt cx="4449960" cy="939600"/>
          </a:xfrm>
        </p:grpSpPr>
        <p:pic>
          <p:nvPicPr>
            <p:cNvPr id="124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2438280" y="5248440"/>
              <a:ext cx="444996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500200" y="5286240"/>
              <a:ext cx="40006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828800" y="1928880"/>
            <a:ext cx="5486400" cy="27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сновными причинами попадания радионуклидов в пищу сегодня являются высокое содержание радионуклидов в грибах, ягодах, рыбе и дичи, а также радиоактивное загрязнение травы и сена, которыми питаются коровы, дающие молоко. Загрязнение мяса и молока можно сократить, используя чистые корма и кормовые добавки, а также ограничив время выпаса скота. Для продуктов питания из государственного сектора, а также продукции, продаваемой на рынках, действуют нормы максимального содержания радионуклидов.</a:t>
            </a:r>
            <a:br>
              <a:rPr sz="10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2" descr="Что нужно знать о радиации и о Чернобыльской трагедии?"/>
          <p:cNvPicPr/>
          <p:nvPr/>
        </p:nvPicPr>
        <p:blipFill>
          <a:blip r:embed="rId3"/>
          <a:stretch/>
        </p:blipFill>
        <p:spPr>
          <a:xfrm>
            <a:off x="2143080" y="4429080"/>
            <a:ext cx="4762440" cy="2104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33440" y="268200"/>
            <a:ext cx="8277120" cy="116388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5" descr="93e4d3b3-5fbd-4167-ba1f-a72946593df1.jpg"/>
          <p:cNvPicPr/>
          <p:nvPr/>
        </p:nvPicPr>
        <p:blipFill>
          <a:blip r:embed="rId2"/>
          <a:stretch/>
        </p:blipFill>
        <p:spPr>
          <a:xfrm>
            <a:off x="642960" y="178596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785680" y="1600200"/>
            <a:ext cx="59007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во, как и более крепкие алкогольные напитки, способно защитить организм от радиоактивного излучения. Это экспериментально доказали японские ученые из Института лучевой медицины. Результаты их исследований опубликованы в пятницу в токийской печати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наружено, что одной полулитровой бутылки светлого пива достаточно, чтобы на 34% снизить число хромосомных поврежденный, которые возникают после воздействия рентгеновских лучей или тяжелых частиц, например, ионов водорода, сообщает ИТАР-ТАСС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мнению ученых, этот эффект достигается благодаря сочетанию содержащихся в пенном напитке биологически активных соединений (псевдоуридин, мелатонин и глицин-бетаин) с алкоголем. Известно, что спирт поглощает свободные радикалы, которые при облучении приводят к генетическим нарушения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5:09:51Z</dcterms:created>
  <dc:creator>Анна</dc:creator>
  <dc:description/>
  <dc:language>en-US</dc:language>
  <cp:lastModifiedBy>LEGION</cp:lastModifiedBy>
  <dcterms:modified xsi:type="dcterms:W3CDTF">2014-11-24T13:18:47Z</dcterms:modified>
  <cp:revision>41</cp:revision>
  <dc:subject/>
  <dc:title>Влияние радиоактивного излучения на живые организмы</dc:title>
</cp:coreProperties>
</file>