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9A86-7995-44C9-B275-2A171832B2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лияние радиоактивного излучения на живые 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8-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гранян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06DD-B763-40EF-93C6-802347D3E5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cfcff"/>
                </a:solidFill>
                <a:latin typeface="Arial"/>
              </a:rPr>
              <a:t>Ученые установили, что красное вино может защищать организм человека от воздействия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исследованиям, которые провела группа американских ученых, природный антиоксидант ресвератрол, который содержится в красном вине и фруктах, способен препятствовать некоторым повреждениям, которые вызывает радиационное излу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опытов, проведенных на лабораторных мышах, выяснилось, что организм мышей, которые получили некоторую дозу ресвератрола, способен оказывать сопротивление действию радиационных лучей. В ближайшее время ученые займутся исследованием действия антиоксиданта на организм челове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FD6B-2DA1-444A-BAFA-9715BA37AD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FA18-0D8C-4287-A700-6DDD7F6826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О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5C67-2C0C-4750-ABF3-7A307B0707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смические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4116-A6C0-4625-ABC0-8F545946AF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Выбросы и сбросы вредных веществ при эксплуатации АС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4872-8467-49F6-A819-D85F74D2B3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Радио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33B6-C8E2-4A7D-9D29-597F4B7400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1f3"/>
                </a:solidFill>
                <a:latin typeface="Calibri"/>
              </a:rPr>
              <a:t>Чернобыльская трагед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0759-CE06-4FA7-A5F5-6E015746B3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400" spc="-1" strike="noStrike">
                <a:solidFill>
                  <a:srgbClr val="b3e1f3"/>
                </a:solidFill>
                <a:latin typeface="Verdana"/>
              </a:rPr>
              <a:t>Какие продукты представляют наибольшую опасность с точки зрения радиац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470F-A33D-4CE8-AE0A-C86552A075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AC12-6770-4035-B889-A2FEB83CA8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0A9-C841-4478-86B7-07610D0D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8A9-FA0B-48B4-90B5-90719703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E70-C0E2-4F55-BA27-DA5C8F5B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F2D-BB70-49ED-AAEF-22D35543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AB4D-E923-44CE-80E8-7E636FF6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430B-9F4B-4668-B586-9FE0C6DA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F0BD-92A3-4EC8-9C92-7211CAA0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8C20-73C4-4E51-9A7F-E44CA1D6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1129-E003-4B46-A888-31227E3D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8BD8-08BD-4F8F-B564-74A7E251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DA78-86B4-4BAC-B666-E86B5E90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A63-8FA0-4662-A3E1-6F16A03B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B692-90D6-4E6B-8845-8664E213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60AC-9257-4081-B908-9CD46F2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C43A-195C-453A-AA3B-86A7A942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2E64-B469-4123-BF13-0AC06009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6748-8F3A-4820-8191-ECD506BC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9BE-D7C3-431B-8141-3A1C5F08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6F8-C2CE-4F82-9D9B-F52667EF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852-09AF-4E20-B06B-F056CBB9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AB7-4263-4959-98B3-3E89D8E1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419-8E51-4893-B496-C0B2E8DF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5D14-2124-4EE5-896D-F5E4B9B3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E4E-64F1-4179-80EC-87EAF538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2A05-F68E-4349-BC09-976DD3FB7E47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27AA-9E9D-4F26-8710-A13CBF893E6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51EF-F1D1-49D9-A3DE-E1765239CD5B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7301-76D9-4D58-B90B-A59BC78A8F2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99800" y="3786120"/>
            <a:ext cx="6643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ю выполн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8-1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гранян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90600" y="1371600"/>
            <a:ext cx="8289720" cy="3529080"/>
          </a:xfrm>
          <a:prstGeom prst="rect">
            <a:avLst/>
          </a:prstGeom>
          <a:ln w="0">
            <a:noFill/>
          </a:ln>
        </p:spPr>
      </p:pic>
      <p:pic>
        <p:nvPicPr>
          <p:cNvPr id="91" name="Kate Alexa - Help Me Find My Way.mp3" descr=""/>
          <p:cNvPicPr/>
          <p:nvPr/>
        </p:nvPicPr>
        <p:blipFill>
          <a:blip r:embed="rId2"/>
          <a:stretch/>
        </p:blipFill>
        <p:spPr>
          <a:xfrm>
            <a:off x="8286840" y="357120"/>
            <a:ext cx="215640" cy="216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Красное вино препятствует воздействию радиоактивных излучений"/>
          <p:cNvPicPr/>
          <p:nvPr/>
        </p:nvPicPr>
        <p:blipFill>
          <a:blip r:embed="rId1"/>
          <a:stretch/>
        </p:blipFill>
        <p:spPr>
          <a:xfrm>
            <a:off x="428760" y="642960"/>
            <a:ext cx="2381040" cy="18669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3" descr=""/>
          <p:cNvPicPr/>
          <p:nvPr/>
        </p:nvPicPr>
        <p:blipFill>
          <a:blip r:embed="rId2"/>
          <a:stretch/>
        </p:blipFill>
        <p:spPr>
          <a:xfrm>
            <a:off x="3236760" y="182520"/>
            <a:ext cx="5724720" cy="56642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615960" y="2073240"/>
            <a:ext cx="8278920" cy="2286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78560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6840" y="1600200"/>
            <a:ext cx="1257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42720" y="135684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радиоактивные и космические излучения и их влияние на человека"/>
          <p:cNvPicPr/>
          <p:nvPr/>
        </p:nvPicPr>
        <p:blipFill>
          <a:blip r:embed="rId2"/>
          <a:stretch/>
        </p:blipFill>
        <p:spPr>
          <a:xfrm>
            <a:off x="0" y="1357200"/>
            <a:ext cx="2500200" cy="19670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28760" y="1356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Users\Анна\Pictures\384_2.jpg"/>
          <p:cNvPicPr/>
          <p:nvPr/>
        </p:nvPicPr>
        <p:blipFill>
          <a:blip r:embed="rId2"/>
          <a:stretch/>
        </p:blipFill>
        <p:spPr>
          <a:xfrm>
            <a:off x="1928880" y="4071960"/>
            <a:ext cx="5079960" cy="2539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webcomclub.narod.ru/promo/izl.jpg"/>
          <p:cNvPicPr/>
          <p:nvPr/>
        </p:nvPicPr>
        <p:blipFill>
          <a:blip r:embed="rId1"/>
          <a:stretch/>
        </p:blipFill>
        <p:spPr>
          <a:xfrm>
            <a:off x="428760" y="214200"/>
            <a:ext cx="5572080" cy="31910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6215040" y="28584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АЛЬФА-ЧАСТИЦА (a-частиц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дро атома гелия. Содержит два протона и два нейтрона. Испусканием a-частиц сопровождается одно из радиоактивных превращений (альфа-распад ядер) некоторых химических эле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500040" y="377028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БЕТА-ЧАСТ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ускаемый при бета-распаде электрон. Поток бета-частиц является одним из видов радиоактивных излучений с проникающей способностью, большей, чем у альфа-частиц, но меньшей, чем у гамма-изл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4929120" y="3786120"/>
            <a:ext cx="3673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3cddd"/>
                </a:solidFill>
                <a:latin typeface="Times New Roman"/>
              </a:rPr>
              <a:t>ГАММА-ИЗЛУЧЕНИЕ (гамма-квант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ротковолновое электромагнитное излучение с длиной волны меньше 2×10–10 м. Из-за малой длины волны волновые свойства гамма-излучения проявляются слабо, и на первый план выступают корпускулярные свойства, в связи с чем его представляют в виде потока гамма-квантов (фотон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1805040" y="609480"/>
            <a:ext cx="5510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114" name="Рисунок 2"/>
          <p:cNvGrpSpPr/>
          <p:nvPr/>
        </p:nvGrpSpPr>
        <p:grpSpPr>
          <a:xfrm>
            <a:off x="3651120" y="5108400"/>
            <a:ext cx="3097440" cy="1603440"/>
            <a:chOff x="3651120" y="5108400"/>
            <a:chExt cx="3097440" cy="1603440"/>
          </a:xfrm>
        </p:grpSpPr>
        <p:pic>
          <p:nvPicPr>
            <p:cNvPr id="115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3651120" y="5108400"/>
              <a:ext cx="3097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714840" y="5143680"/>
              <a:ext cx="2643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183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1857240" y="3357720"/>
            <a:ext cx="564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отчете организаций ООН, вышедшем в 2005 году, утверждается, что Чернобыльская катастрофа унесла и еще унесет приблизительно 4000 жизн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785960" y="2286000"/>
            <a:ext cx="5643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произошел выброс активности в масштабах от 50 до 250 миллионов Кюри. Высвободившийся в Чернобыле радиоактивный потенциал соответствует по меньшей мере 100 атомным бомбам. </a:t>
            </a:r>
            <a:br>
              <a:rPr sz="10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31496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828800" y="237960"/>
            <a:ext cx="5486400" cy="1425600"/>
          </a:xfrm>
          <a:prstGeom prst="rect">
            <a:avLst/>
          </a:prstGeom>
          <a:ln w="0">
            <a:noFill/>
          </a:ln>
        </p:spPr>
      </p:pic>
      <p:grpSp>
        <p:nvGrpSpPr>
          <p:cNvPr id="123" name="Рисунок 2"/>
          <p:cNvGrpSpPr/>
          <p:nvPr/>
        </p:nvGrpSpPr>
        <p:grpSpPr>
          <a:xfrm>
            <a:off x="2438280" y="5248440"/>
            <a:ext cx="4449960" cy="939600"/>
            <a:chOff x="2438280" y="5248440"/>
            <a:chExt cx="4449960" cy="939600"/>
          </a:xfrm>
        </p:grpSpPr>
        <p:pic>
          <p:nvPicPr>
            <p:cNvPr id="124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438280" y="5248440"/>
              <a:ext cx="444996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500200" y="5286240"/>
              <a:ext cx="4000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828800" y="1928880"/>
            <a:ext cx="5486400" cy="27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0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429080"/>
            <a:ext cx="4762440" cy="21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277120" cy="116388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5" descr="93e4d3b3-5fbd-4167-ba1f-a72946593df1.jpg"/>
          <p:cNvPicPr/>
          <p:nvPr/>
        </p:nvPicPr>
        <p:blipFill>
          <a:blip r:embed="rId2"/>
          <a:stretch/>
        </p:blipFill>
        <p:spPr>
          <a:xfrm>
            <a:off x="642960" y="178596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85680" y="1600200"/>
            <a:ext cx="5900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09:51Z</dcterms:created>
  <dc:creator>Анна</dc:creator>
  <dc:description/>
  <dc:language>en-US</dc:language>
  <cp:lastModifiedBy>LEGION</cp:lastModifiedBy>
  <dcterms:modified xsi:type="dcterms:W3CDTF">2014-11-24T13:18:47Z</dcterms:modified>
  <cp:revision>41</cp:revision>
  <dc:subject/>
  <dc:title>Влияние радиоактивного излучения на живые организмы</dc:title>
</cp:coreProperties>
</file>