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222D-0EC6-4B02-B556-4F7EF049F1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лияние радиоактивного излучения на живые 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8-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гранян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F9FD-EC5E-4A82-8ED1-ECDF83175F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cfcff"/>
                </a:solidFill>
                <a:latin typeface="Arial"/>
              </a:rPr>
              <a:t>Ученые установили, что красное вино может защищать организм человека от воздействия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исследованиям, которые провела группа американских ученых, природный антиоксидант ресвератрол, который содержится в красном вине и фруктах, способен препятствовать некоторым повреждениям, которые вызывает радиационное излу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ытов, проведенных на лабораторных мышах, выяснилось, что организм мышей, которые получили некоторую дозу ресвератрола, способен оказывать сопротивление действию радиационных лучей. В ближайшее время ученые займутся исследованием действия антиоксиданта на организм челове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44CA-7AB4-4F91-822E-B7CD88C53A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204A-785E-459F-AD0B-7963AF72A2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О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3C7C-C2D6-44B4-95B4-0C69A7321A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смические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9464-6D5E-4B68-A688-DEBA9B68DF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Выбросы и сбросы вредных веществ при эксплуатации А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7C79-ACFD-4473-9BB3-C35FBAF831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Радио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7E39-8CB3-4061-B5C2-A07A3D7096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1f3"/>
                </a:solidFill>
                <a:latin typeface="Calibri"/>
              </a:rPr>
              <a:t>Чернобыльская траге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2273-0328-41A7-94D0-A2F3BDBC8B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400" spc="-1" strike="noStrike">
                <a:solidFill>
                  <a:srgbClr val="b3e1f3"/>
                </a:solidFill>
                <a:latin typeface="Verdana"/>
              </a:rPr>
              <a:t>Какие продукты представляют наибольшую опасность с точки зрения радиа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1AFC-E80E-4F61-BA90-BC801AF5DC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C7CE-74C2-4DB6-92FA-AD0A0C345D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FB1-8FAA-4825-A5F0-6D684CC6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99E-A1B0-4DEA-A624-F2484762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42D-8A13-41A3-B1BC-A4459CB4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F8D-B7C6-40A4-9873-032EA475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8BB5-5D7E-497D-9152-5E7FA871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FD48-0BE6-414A-A35C-AF8409B6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7B8E-CAA8-4FC5-AE6D-9C0E2328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8AA9-CF9F-4F67-9338-E21F2135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6168-31AE-4A25-BBA9-DBDF2480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13DD-AECE-4234-8616-FB70DC05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DCDC-673D-4E03-963B-AD37E878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A39-9E11-4E3D-914A-792978DC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29B5-39DB-4BBE-B274-EE5F732F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37F2-8BA5-43AE-990C-02F09E77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3FD1-63EE-45B8-8C80-426AA11A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6F8D-CCE9-4754-B56F-7973CE3F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48D6-FEC9-4A59-97B4-33F936D6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019-6125-4E4F-9802-D8BAA595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797-A358-4B7C-86F7-0259114F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6C7-841A-44F1-B23E-29894F09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B46-F01C-4EE6-BE3E-E63A7023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B13-023F-4CB1-9671-FF3E1ED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C6E-293E-41E7-B8EE-627B7F20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1FE-6326-44A0-82FB-A4424341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FA28-7824-4B43-B126-9E41E9EBE65C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BF15-0C7D-4F5F-A4F3-896BA843ED1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8ED3-6188-4E55-A9BB-4703AD454BA3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79A0-7590-4426-9ED4-BE7809522EC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99800" y="3786120"/>
            <a:ext cx="664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8-1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гранян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90600" y="1371600"/>
            <a:ext cx="828972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Kate Alexa - Help Me Find My Way.mp3" descr=""/>
          <p:cNvPicPr/>
          <p:nvPr/>
        </p:nvPicPr>
        <p:blipFill>
          <a:blip r:embed="rId2"/>
          <a:stretch/>
        </p:blipFill>
        <p:spPr>
          <a:xfrm>
            <a:off x="8286840" y="35712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расное вино препятствует воздействию радиоактивных излучений"/>
          <p:cNvPicPr/>
          <p:nvPr/>
        </p:nvPicPr>
        <p:blipFill>
          <a:blip r:embed="rId1"/>
          <a:stretch/>
        </p:blipFill>
        <p:spPr>
          <a:xfrm>
            <a:off x="428760" y="642960"/>
            <a:ext cx="2381040" cy="1866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3236760" y="182520"/>
            <a:ext cx="5724720" cy="56642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15960" y="2073240"/>
            <a:ext cx="827892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600200"/>
            <a:ext cx="125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42720" y="135684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радиоактивные и космические излучения и их влияние на человека"/>
          <p:cNvPicPr/>
          <p:nvPr/>
        </p:nvPicPr>
        <p:blipFill>
          <a:blip r:embed="rId2"/>
          <a:stretch/>
        </p:blipFill>
        <p:spPr>
          <a:xfrm>
            <a:off x="0" y="1357200"/>
            <a:ext cx="2500200" cy="19670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760" y="1356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нна\Pictures\384_2.jpg"/>
          <p:cNvPicPr/>
          <p:nvPr/>
        </p:nvPicPr>
        <p:blipFill>
          <a:blip r:embed="rId2"/>
          <a:stretch/>
        </p:blipFill>
        <p:spPr>
          <a:xfrm>
            <a:off x="1928880" y="4071960"/>
            <a:ext cx="5079960" cy="2539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ebcomclub.narod.ru/promo/izl.jpg"/>
          <p:cNvPicPr/>
          <p:nvPr/>
        </p:nvPicPr>
        <p:blipFill>
          <a:blip r:embed="rId1"/>
          <a:stretch/>
        </p:blipFill>
        <p:spPr>
          <a:xfrm>
            <a:off x="428760" y="214200"/>
            <a:ext cx="5572080" cy="3191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6215040" y="28584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АЛЬФА-ЧАСТИЦА (a-част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дро атома гелия. Содержит два протона и два нейтрона. Испусканием a-частиц сопровождается одно из радиоактивных превращений (альфа-распад ядер) некоторых химических эле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00040" y="37702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БЕТА-ЧАС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ускаемый при бета-распаде электрон. Поток бета-частиц является одним из видов радиоактивных излучений с проникающей способностью, большей, чем у альфа-частиц, но меньшей, чем у гамма-изл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929120" y="3786120"/>
            <a:ext cx="367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3cddd"/>
                </a:solidFill>
                <a:latin typeface="Times New Roman"/>
              </a:rPr>
              <a:t>ГАММА-ИЗЛУЧЕНИЕ (гамма-кван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ротковолновое электромагнитное излучение с длиной волны меньше 2×10–10 м. Из-за малой длины волны волновые свойства гамма-излучения проявляются слабо, и на первый план выступают корпускулярные свойства, в связи с чем его представляют в виде потока гамма-квантов (фотон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1805040" y="609480"/>
            <a:ext cx="5510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4" name="Рисунок 2"/>
          <p:cNvGrpSpPr/>
          <p:nvPr/>
        </p:nvGrpSpPr>
        <p:grpSpPr>
          <a:xfrm>
            <a:off x="3651120" y="5108400"/>
            <a:ext cx="3097440" cy="1603440"/>
            <a:chOff x="3651120" y="5108400"/>
            <a:chExt cx="3097440" cy="1603440"/>
          </a:xfrm>
        </p:grpSpPr>
        <p:pic>
          <p:nvPicPr>
            <p:cNvPr id="115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651120" y="5108400"/>
              <a:ext cx="3097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14840" y="5143680"/>
              <a:ext cx="2643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183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857240" y="3357720"/>
            <a:ext cx="56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отчете организаций ООН, вышедшем в 2005 году, утверждается, что Чернобыльская катастрофа унесла и еще унесет приблизительно 4000 жиз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785960" y="2286000"/>
            <a:ext cx="5643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произошел выброс активности в масштабах от 50 до 250 миллионов Кюри. Высвободившийся в Чернобыле радиоактивный потенциал соответствует по меньшей мере 100 атомным бомбам. </a:t>
            </a:r>
            <a:br>
              <a:rPr sz="10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31496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828800" y="237960"/>
            <a:ext cx="54864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23" name="Рисунок 2"/>
          <p:cNvGrpSpPr/>
          <p:nvPr/>
        </p:nvGrpSpPr>
        <p:grpSpPr>
          <a:xfrm>
            <a:off x="2438280" y="5248440"/>
            <a:ext cx="4449960" cy="939600"/>
            <a:chOff x="2438280" y="5248440"/>
            <a:chExt cx="4449960" cy="939600"/>
          </a:xfrm>
        </p:grpSpPr>
        <p:pic>
          <p:nvPicPr>
            <p:cNvPr id="12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438280" y="5248440"/>
              <a:ext cx="44499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00200" y="5286240"/>
              <a:ext cx="4000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1928880"/>
            <a:ext cx="5486400" cy="27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0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429080"/>
            <a:ext cx="4762440" cy="21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277120" cy="11638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93e4d3b3-5fbd-4167-ba1f-a72946593df1.jpg"/>
          <p:cNvPicPr/>
          <p:nvPr/>
        </p:nvPicPr>
        <p:blipFill>
          <a:blip r:embed="rId2"/>
          <a:stretch/>
        </p:blipFill>
        <p:spPr>
          <a:xfrm>
            <a:off x="642960" y="17859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85680" y="1600200"/>
            <a:ext cx="5900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09:51Z</dcterms:created>
  <dc:creator>Анна</dc:creator>
  <dc:description/>
  <dc:language>en-US</dc:language>
  <cp:lastModifiedBy>LEGION</cp:lastModifiedBy>
  <dcterms:modified xsi:type="dcterms:W3CDTF">2014-11-24T13:18:47Z</dcterms:modified>
  <cp:revision>41</cp:revision>
  <dc:subject/>
  <dc:title>Влияние радиоактивного излучения на живые организмы</dc:title>
</cp:coreProperties>
</file>