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5D3E-2D46-4C18-BE72-B5E2F66A8A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ук-носор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птева Ка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№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C71A-E7E5-44C7-9855-F523889D6E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дшая из яйц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бстрате, где она питается в течение всей своей жизни, 3-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 толстая, С-образно изогнутая, жёлто-белого цвета в редких волос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цу своего развития вырастает  длиной 8-9 с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E052-F60F-446F-86A1-FC9BC32EAF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яет личинка три раза, после последней линьки превращ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колк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Фаза куколки непродолжительна - от 12 дней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есяца. Из куколки появляется самец или самка жука-носор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B05B-6026-430A-AA9F-C66B053F21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гами жука-носорога являются птицы. Взрослый жук был обнаружен в желудке большого пестрого дятл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личинках паразитируют личинки большой скол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74AE-FEF9-4880-9962-7D43FF83B3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-носорог способен передвигать груз в 850 раз превышающий вес самого жука. Если сравнивать с человеком, то человек может поднять примерно половину собственного веса. Чтобы представить себе наглядно силу насекомых, приведу пример: человек, весящий примерно 70 кг, обладающий силой жука-носорога, свободно бы двигал несколько железнодорожных вагонов весом в 7 тон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D4E4-0354-400C-8599-A89D9F0BAD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очень понравились эти жуки. Они красивые и загадоч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 их становится меньш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оберегать их и окружающий нас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E18C-C19B-490C-9EDC-A6760682DC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на дачном участке случайно нашла семейство жуков и их личи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стало интересно узнать о них подроб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егодня я представляю вам жуков и презентацию о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1AAC-4CE5-4645-8907-94CF4172AD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-носоро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секомое семейства пластинчатоусых, встречается повсюду, кроме тундры и тай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о массивное (длиной 25-40 мм); окраска каштаново-бурая; ноги толстые, сильные, передние - копательные, задние - с опорными зубчиками и ши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BEED-DD7F-4B3B-825E-E4753D10B3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амца на голове загнутый назад рог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передней спинке трёхзубчатое поперечное возвыш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носорога-самки на носу только небольшой бугорок, размерами она ме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0A13-2D60-4FB7-9389-BB1831E1DE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ста об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 живут на увлажнённых участках широколиственных лесов: дуба, ивы, березы и других деревь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DD83-71D9-485D-BC06-408C65F64D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 жиз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-носороги обычно покидают свои подземные убежища толь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ное время суток. Они прекрасно летают и преодолевают без остановки расстояния более 50 километров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676B-697B-4B8E-94CB-701B91B18C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 жука-носорога уче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зуч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екоторым данным, жуки совсем не питаются, по другим источникам - могут питаться жидкой пищей или древесным со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657B-7485-4644-A7DD-F139CA6252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нож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ткладывания яиц самка зарывается в дупла деревьев, сгнившие пни или стволы деревьев, а также в перепревший навоз, мусорные кучи, кучи из стружек и опи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 после окончания яйцекладки умирают, не выходя наруж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7C7F-74E4-4090-8255-A1F978F0BC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изненный цикл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ука-носор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й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ится около меся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7675-4C2F-4C39-989B-5839C78D66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0782-F43D-407A-81E6-A05A9D02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4E5-38F5-462F-AA0C-771C06FF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965-BDCA-4574-ACF5-20E953F6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8661-4E67-4D56-9CA6-F5EF06F1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4ADC-D346-4BF6-8758-0A74205A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2F08-BD38-4DB5-BE3A-851DA9E9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2659-8CDC-4B11-97FD-44821213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4D8A-0C2C-42A3-9600-702DDD87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C9B2-ACD6-4190-A5CE-9D969926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EB70-B429-4CCB-9914-36D510BF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E0CC-6D2A-46BB-814B-68EE2499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DC31-89B6-4743-82C1-FD8939CA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86A7-A175-4460-B172-1AFEF30E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8B4E-0D7C-4BEB-815F-D0DC44BB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D62B-8DEB-4368-B063-B9F19944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662F-7401-4437-A9EB-95143B90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F809-C90B-436C-B4DF-D5DCEB9D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70440-115B-46EE-BDDD-07A7383D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A78B8-01CB-4155-ACE1-69C001CD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C989C-4179-4395-883E-94B0E113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3C597-E319-4BD2-907E-870DA7C6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03225-A9AA-45CC-8215-CC84454A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FBF-BD1C-4BDD-A44B-8EDCBB13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4EEDD-147C-4ACA-A138-EB5AABBA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6F793-F566-4589-93AB-BD740B03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B74AD-DDDE-4F71-857D-15D91B2D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0549A-C963-4393-84A0-93FF9C52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41DE6-9D23-42BC-95BB-87B02BCA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5B6FC-25C8-42E0-AD15-44879417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4DCB4-3978-4A25-BB7D-A63A2EB3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36700-27B3-432E-B4C8-9582EBAC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F83AB-490B-49FF-BE5C-EA055E0F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62F81-3E6F-470A-B388-D292C8BF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3BE-DB7F-4E50-8B26-F5D0433D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1CE09-E033-4EC4-B482-8E1AF7C7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D1D3A-4B20-44CB-86B6-3264E4B9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F3B28-C33C-4B3A-B872-1C6FBD49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075B1-75CA-4011-A547-97C35251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30696-2059-4FBF-84B5-6A7DDB80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E0AB4-BC9C-4FB4-BE81-DBBB51FF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4216-9E5D-42AE-8911-3C4AE26B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EA01C-FBC9-404C-A817-23E68C35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E140E-3BD6-4365-85C3-1579CCE8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B08C3-D9BB-4732-8143-C1CC41D1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124-282C-456B-BE51-DC6CCDB9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8A2EA9-6E41-4FA7-BA62-254D089F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0FA2A-C0F8-4AD4-8230-4413E009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3FD2F-8CC0-4BFF-98AA-C33A3C16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AF697-82E4-4BB2-8306-03DEE997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FC5630-DFDB-4F37-A024-95D1C8B9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DC8EA5-EC69-4A9D-95E7-240BA0AD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71587-54D9-44CC-A9DD-3F3B8A7D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1F692-EA60-42FC-A4AF-E4C7DF95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B2E24-7660-4EA9-94A4-DC639BF9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EABFC-4B9C-44F5-9AF6-14D26E0A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085-3360-41C7-BD51-7476DFB2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466E2-74D2-4C88-B517-B9FFBF0A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995C8-4326-432D-A79A-BBB21745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206F5-B4E3-4051-880D-BC08B05D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BCFEAC-9E35-4BD6-AB7B-58DAAF89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CD16B-2F8F-4033-8184-8228E7E3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54756F-4AD1-415F-BCD2-F81EE425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A3AAC1-14BF-4AD2-BFA9-E40618CD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DC905D-427D-4DF6-9985-846BA4AA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B727DB-B4A8-44CA-A11F-2629277B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064C13-5DD7-41B3-9630-B0A238A6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776-CAA2-49DD-9521-F27FD8D2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F1A6B-DEF7-404A-8F1C-6148C529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BEB580-F74A-4323-B9D5-154B22CF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6A1FA-BFD8-4258-A73D-3A231D85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24B9D5-AB87-4CC2-83B3-7C86DE89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AFF48-DF76-4282-81F9-4EB4A9FF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FA364-A7A9-4C29-8C36-BFABBEB0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2A34EC-1723-409D-9023-E4C3E60F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6EBB15-F7F7-4790-A8D8-085D31B1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228127-E426-4E17-B000-CFBF7900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224AC3-1D86-4F7B-B291-D1BC244E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4BD-015F-481E-B11D-CDA49494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376A79-35C5-4620-AFC0-99A8E9B7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74F75-6612-4E34-BB02-4FDA2B63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ED978-B346-471B-9FEE-96BEA007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048D06-CC86-4008-AD07-4BED509D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571ABA-E6DD-40D3-9D3A-6BB4C7BA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156-9365-4D16-AD62-A6E4B1FF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927B-FC60-4D07-BC86-3DBC91BBCEBE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EACE-BE9C-4380-8B64-B8346501A27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A1F7-BA82-48FD-AC4C-91FD9B21F153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4739-6AD1-47BF-9BA2-CA01D3A5805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A32A-6CDD-4659-B960-CEE2B548930A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1B81-63AB-40A2-BC64-016B7C56AF2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BF4A-3BB2-4AB3-BA4B-A87012DA847C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CFEC-0A05-4892-A72C-755D5B4CE29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A872-B55E-4794-88CB-9C76A0C3796A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DCA4-B208-4263-9517-DE3DE447646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DD9D-9B6A-4731-9598-CF75A4CFB9F6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A143-9AA3-4B9F-91D0-4136CF94424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CC8E-07CA-4811-BC13-EE78CC29643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89AE-1D89-40AA-948E-BAB68451BC5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72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entury Schoolbook"/>
              </a:rPr>
              <a:t>ЖУК-НОСОРОГ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071680" y="400068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ыполнила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Лаптева Кат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ученица 2 «Б» класс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ОУ СОШ № 1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48920" y="3214800"/>
            <a:ext cx="8094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ышедшая из яйца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личинка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живет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 субстрате, где она питается в течение всей своей жизни, 3-4 год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Личинка толстая, С-образно изогнутая, жёлто-белого цвета в редких волосках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к концу своего развития вырастает  длиной 8-9 см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"/>
          <a:stretch/>
        </p:blipFill>
        <p:spPr>
          <a:xfrm>
            <a:off x="2382840" y="135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771120" y="3591000"/>
            <a:ext cx="741852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Линяет личинка три раза, после последней линьки превращается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куколку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. Фаза куколки непродолжительна - от 12 дней до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1 месяца. Из куколки появляется самец или самка жука-носорог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1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31360" y="3467160"/>
            <a:ext cx="8007480" cy="26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рагами жука-носорога являются птицы. Взрослый жук был обнаружен в желудке большого пестрого дятла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а на личинках паразитируют личинки большой сколи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2143080" y="139680"/>
            <a:ext cx="4357800" cy="329256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817200" y="500040"/>
            <a:ext cx="74674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Жук-носорог способен передвигать груз в 850 раз превышающий вес самого жука. Если сравнивать с человеком, то человек может поднять примерно половину собственного веса. Чтобы представить себе наглядно силу насекомых, приведу пример: человек, весящий примерно 70 кг, обладающий силой жука-носорога, свободно бы двигал несколько железнодорожных вагонов весом в 7 тонн!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ЫВОД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71320" y="1672920"/>
            <a:ext cx="7972200" cy="30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не очень понравились эти жуки. Они красивые и загадочны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 мнению ученых их становится меньш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авайте оберегать их и окружающий нас мир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9999995231628">
                                      <p:cBhvr additive="repl">
                                        <p:cTn id="190" dur="2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ВЕД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42600" y="1500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Я на дачном участке случайно нашла семейство жуков и их личинк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не стало интересно узнать о них подробне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 сегодня я представляю вам жуков и презентацию о них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57120" y="2714760"/>
            <a:ext cx="85010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-носорог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насекомое семейства пластинчатоусых, встречается повсюду, кроме тундры и тайг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ело массивное (длиной 25-40 мм); окраска каштаново-бурая; ноги толстые, сильные, передние - копательные, задние - с опорными зубчиками и шипам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143080" y="142920"/>
            <a:ext cx="3929040" cy="2735280"/>
          </a:xfrm>
          <a:prstGeom prst="rect">
            <a:avLst/>
          </a:prstGeom>
          <a:ln w="0">
            <a:noFill/>
          </a:ln>
        </p:spPr>
      </p:pic>
      <p:sp>
        <p:nvSpPr>
          <p:cNvPr id="39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68360" y="361800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 самца на голове загнутый назад рог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а на передней спинке трёхзубчатое поперечное возвышение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 носорога-самки на носу только небольшой бугорок, размерами она меньше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4370400" cy="28576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170240" cy="280836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7"/>
          <p:cNvSpPr/>
          <p:nvPr/>
        </p:nvSpPr>
        <p:spPr>
          <a:xfrm>
            <a:off x="1748520" y="30718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ам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8"/>
          <p:cNvSpPr/>
          <p:nvPr/>
        </p:nvSpPr>
        <p:spPr>
          <a:xfrm>
            <a:off x="6130440" y="308304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ЕСТА ОБИТА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599840"/>
            <a:ext cx="82580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 живут на увлажнённых участках широколиственных лесов: дуба, ивы, березы и других деревье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9680" y="-2862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ОБРАЗ ЖИЗН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42600" y="3929040"/>
            <a:ext cx="79297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-носороги обычно покидают свои подземные убежища только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темное время суток. Они прекрасно летают и преодолевают без остановки расстояния более 50 километров.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4500720" y="142920"/>
            <a:ext cx="4214520" cy="379728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40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ИТ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85880" y="1571400"/>
            <a:ext cx="78184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итание жука-носорога учеными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е изучено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 некоторым данным, жуки совсем не питаются, по другим источникам - могут питаться жидкой пищей или древесным соко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902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РАЗМНОЖ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6320" y="1599840"/>
            <a:ext cx="74678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ля откладывания яиц самка зарывается в дупла деревьев, сгнившие пни или стволы деревьев, а также в перепревший навоз, мусорные кучи, кучи из стружек и опилок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 после окончания яйцекладки умирают, не выходя наруж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228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ЖИЗНЕННЫЙ ЦИК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ЖУКА-НОСОРОГ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42600" y="5643360"/>
            <a:ext cx="746748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Фаза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яйц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длится около месяца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1654200" y="1365120"/>
            <a:ext cx="5862600" cy="417996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4:56:48Z</dcterms:created>
  <dc:creator>.</dc:creator>
  <dc:description/>
  <dc:language>en-US</dc:language>
  <cp:lastModifiedBy>LEGION</cp:lastModifiedBy>
  <dcterms:modified xsi:type="dcterms:W3CDTF">2014-11-24T13:19:18Z</dcterms:modified>
  <cp:revision>66</cp:revision>
  <dc:subject/>
  <dc:title>Жук-носорог</dc:title>
</cp:coreProperties>
</file>