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361E-E585-423E-878D-3F864378C5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птева Ка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7901-4AF1-44AD-9B47-2ABF8B81FA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дшая из яйц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бстрате, где она питается в течение всей своей жизни, 3-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толстая, С-образно изогнутая, жёлто-белого цвета в редких волос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у своего развития вырастает  длиной 8-9 с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9CE-F258-472F-B1B6-0C1A8ADDC2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яет личинка три раза, после последней линьки превращ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колк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аза куколки непродолжительна - от 12 дней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есяца. Из куколки появляется самец или самка жука-носо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B9F-5396-4F04-846C-2462018319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ичинках паразитируют личинки большой скол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0884-186B-49A4-9DC9-CABCC1F645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7F8-C50B-4691-81E9-19736EB4CE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очень понравились эти жуки. Они красивые и загадоч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 их становится мень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ерегать их и окружающий нас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EC68-57B8-4F28-911A-6C56473569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а дачном участке случайно нашла семейство жуков и их личи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стало интересно узнать о них подроб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годня я представляю вам жуков и презентацию о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45BB-B8CA-4D98-9239-9D398B74A8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екомое семейства пластинчатоусых, встречается повсюду, кроме тундры и тай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6222-14AB-4503-8FB9-094106FB50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мца на голове загнутый назад р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передней спинке трёхзубчатое поперечное возвыш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осорога-самки на носу только небольшой бугорок, размерами она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9411-3BCE-402A-9DF1-191927E8B7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а об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35A7-46F9-417C-94C7-631A9B3036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-носороги обычно покидают свои подземные убежища толь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DB94-D6DA-4B6F-BBC8-FD069A2833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 жука-носорога уче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зу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0DCD-55DE-4856-9F42-B60DA549BE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нож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после окончания яйцекладки умирают, не выходя нару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FB82-26AF-4B9D-A885-89AF587302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изненный цик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а-носо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й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ится около меся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ED30-908C-4C7B-9F29-5AE0C103F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14A-76B7-42B8-BF22-4BEDC05D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DAD-2F5A-44B5-9E2C-E93E53C3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665-1F65-4B28-8035-56EB08C6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BEC-853D-42C7-8573-A01D6F0E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DD4D-FB88-4DBF-AF42-FAA76421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9681-3684-4E43-AD6E-C90E07A5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6EFA-03C4-40A4-9AB1-74709556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7476-B5C4-4BD0-8E84-142BDA4C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E5CF-DA5D-4097-B8BA-E9F9EC8E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96CC-690D-4BAC-969C-F461EF76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AAA-E137-4CD5-A120-BBA408A3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741-EBD5-4512-A461-5DBD70CE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E13F-1E4A-4D03-95F6-248B4B5D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E993-4F93-4F54-A761-B763941B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985F-6E12-4264-BD85-065BE847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8611-6406-45AB-B814-F06D4C69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05DD-DA3F-4F3B-BE0E-4C48FD79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7BA52-E3E6-4205-B60A-CE96203F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78AAC-ED91-4FD6-973E-74648615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5733B-F255-4453-96E4-3F1887D2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7B99E-464F-4ADD-BB98-77AACB7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0318E-C75A-414D-8421-A80205AD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1AC-C083-496B-9988-C809D86D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6F801-4222-4936-B66C-C8218F23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E98DC-9AB9-4BB8-996D-80D71C46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ECA52-3072-4B3D-AC0F-A65D6E3D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2D9F8-1328-49A4-93C9-A45F8860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8C02C-661D-4A97-8EEC-292F835F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A11B6-9E71-4FD0-911F-FFBE2697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8F2AD-8CDF-402F-8C58-8D7F8776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D1DD-41A4-410E-A13D-DF4F7CC0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9E20-2273-452A-9919-A5FB7609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B95E-77E8-4883-A94B-7DF21BB5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B0F-BF6D-46EB-94F2-1FBF3BEE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BA778-756E-4E6F-A4ED-4DDE02A6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27FCD-BBE4-4C89-81A8-75746CCF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599F-11AC-4C00-A88F-0AE13DF6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EF3D-F494-4D11-AD1D-7B77EBC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643F-EEE7-42DE-A6CB-8898597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28C1-ABDF-4A6A-8B87-3E93557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AEA1-C869-4B14-8976-8E302CF0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FBCCB-B839-49F7-AFC7-FD7C06F2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CC90-CFBA-43C3-81EA-8902153C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01C2B-6618-41E3-A038-FEA115EA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40D-CD78-4A79-AABA-8AAA3A28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24A1D-D790-4A04-BD40-4A012583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0C980-086A-4FE3-B225-4BB4D6F4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C9CA3-63C3-4DA1-ABCB-DF3CBE26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1DB11-E88C-4AF4-B0D1-787EBA60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546C8-27E2-4DBD-B386-8E04ECBB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F1A3D-9119-4238-8A5B-C3410851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071CA-AAC2-41B7-AB95-99625863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58E26-F9DB-4462-8F1B-0B6090E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5434F-6C02-4A80-B148-CD619490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825F6-48A3-4B4D-AB15-F7B78876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D52-8C56-41BA-899B-DB76DC3F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C50A8-5D20-4C5C-A26B-A51DF80B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3D691-486E-4D4E-9AE7-F4BF5758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F9130-93C8-4259-A46D-54222211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9429C-3EC7-44EB-9072-07FAA4AB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BC1CF-DEA7-4074-A42F-ED812F0E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50B9A-3EC5-4285-BD6A-52FEC112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FACF4-BE97-4FC0-885A-E6DCD20D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464C6-97F4-4C29-81FA-82B4825E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C6450-DCCD-4FAD-9DA0-00208FDA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D51E1-EA58-4082-B276-DB90882A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48F-EE89-45B3-AFF8-86C63042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400D5-5DA4-4AEB-8A31-D616A327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019B9-1371-477A-AD13-6779AB92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67756-D4EB-4DA6-A04F-17CEA707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70569-17B4-492F-95C5-5D5133FB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6948A-449F-4D9E-82BA-CAEDF5E0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E58D1-E4E5-4F91-9268-FC6FF861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34FA7-2284-418D-AC31-BD73FAA1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1280F-CE7F-4560-B85E-75486DB0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00186-FDC5-46E5-AC0A-9BF4FEB4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465553-E7B2-40A3-8FAD-D4BA446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44A-D789-4119-89FE-D9C5E309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EDB8E-7777-4CF0-925A-D80DD7D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540FF-B7EE-4500-86F9-E4CB2E5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8EEC7-2F1F-45B2-A815-2164BDC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88EA5-299E-4007-A41A-5C8AB7E0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198BA-2228-4B63-9291-50239D29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A70-3AF2-4479-B688-BF943B14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D665-A6CB-458C-B254-3B79F31495F9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18E-6593-43E8-AEB6-7BC48A87E3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442F-C7FE-4B9F-8205-613D941AF87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1DE3-100C-4990-B8A8-F9C85E60729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E554-0B00-48C5-B3C7-19EAE3C1695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7C1E-A903-462E-BC00-37552692DD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039C-3307-4737-A2D6-23EFEED33855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737C-BA64-443D-AFBB-D6C569C8678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F8FB-54CC-4BA9-B61E-1032C667EC2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CCDA-FECF-4D49-9991-2A8E85E542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2061-C2C5-4DF3-B4E8-53FE33AA5C8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200B-08D7-4E6C-BA8B-21C763A337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2FD1-8B17-43A6-96F1-2526730830D8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94E3-88FE-4D5F-BA5D-BB9EC33EF22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72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71680" y="400068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Лаптева Кат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еница 2 «Б» класс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ОУ СОШ № 1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48920" y="3214800"/>
            <a:ext cx="8094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шедшая из яйц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личинк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живет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субстрате, где она питается в течение всей своей жизни, 3-4 год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чинка толстая, С-образно изогнутая, жёлто-белого цвета в редких волосках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 концу своего развития вырастает  длиной 8-9 см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2382840" y="135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71120" y="3591000"/>
            <a:ext cx="74185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няет личинка три раза, после последней линьки превращается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уколку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. Фаза куколки непродолжительна - от 12 дней до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 месяца. Из куколки появляется самец или самка жука-носорог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1360" y="3467160"/>
            <a:ext cx="8007480" cy="26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 на личинках паразитируют личинки большой скол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3080" y="139680"/>
            <a:ext cx="435780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817200" y="500040"/>
            <a:ext cx="7467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71320" y="1672920"/>
            <a:ext cx="797220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очень понравились эти жуки. Они красивые и загадочны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мнению ученых их становится меньш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авайте оберегать их и окружающий нас мир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9999995231628">
                                      <p:cBhvr additive="repl">
                                        <p:cTn id="190" dur="2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4260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на дачном участке случайно нашла семейство жуков и их личинк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стало интересно узнать о них подробне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 сегодня я представляю вам жуков и презентацию о ни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57120" y="271476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насекомое семейства пластинчатоусых, встречается повсюду, кроме тундры и тайг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3080" y="142920"/>
            <a:ext cx="3929040" cy="273528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361800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самца на голове загнутый назад рог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а на передней спинке трёхзубчатое поперечное возвышение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носорога-самки на носу только небольшой бугорок, размерами она меньше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4370400" cy="2857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0240" cy="28083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7"/>
          <p:cNvSpPr/>
          <p:nvPr/>
        </p:nvSpPr>
        <p:spPr>
          <a:xfrm>
            <a:off x="1748520" y="30718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6130440" y="30830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СТА ОБИТ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599840"/>
            <a:ext cx="82580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-2862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БРАЗ ЖИЗН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42600" y="3929040"/>
            <a:ext cx="79297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-носороги обычно покидают свои подземные убежища только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4500720" y="142920"/>
            <a:ext cx="4214520" cy="379728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40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ИТ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5880" y="1571400"/>
            <a:ext cx="78184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итание жука-носорога ученым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изучено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02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АЗМНОЖ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6320" y="1599840"/>
            <a:ext cx="7467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после окончания яйцекладки умирают, не выходя наруж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2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ИЗНЕННЫЙ ЦИК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УКА-НОСОРОГ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42600" y="5643360"/>
            <a:ext cx="746748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аза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яйц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длится около месяца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654200" y="1365120"/>
            <a:ext cx="5862600" cy="417996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6:48Z</dcterms:created>
  <dc:creator>.</dc:creator>
  <dc:description/>
  <dc:language>en-US</dc:language>
  <cp:lastModifiedBy>LEGION</cp:lastModifiedBy>
  <dcterms:modified xsi:type="dcterms:W3CDTF">2014-11-24T13:19:18Z</dcterms:modified>
  <cp:revision>66</cp:revision>
  <dc:subject/>
  <dc:title>Жук-носорог</dc:title>
</cp:coreProperties>
</file>