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3F2B8-3B41-46E2-8165-546BBFFE9E5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Жук-носорог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полнил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аптева Кат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еница 2 «Б» клас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У СОШ № 1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CC26E-2D77-45E2-9220-4AD218F29C2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шедшая из яйца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личинк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живе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убстрате, где она питается в течение всей своей жизни, 3-4 го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чинка толстая, С-образно изогнутая, жёлто-белого цвета в редких волосках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концу своего развития вырастает  длиной 8-9 с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D951A-17FC-4286-8ACC-4FA424E076B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няет личинка три раза, после последней линьки превращаетс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уколку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Фаза куколки непродолжительна - от 12 дней д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 месяца. Из куколки появляется самец или самка жука-носорог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4C3BB-CC19-4FE5-B999-AD649A534AF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рагами жука-носорога являются птицы. Взрослый жук был обнаружен в желудке большого пестрого дятла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на личинках паразитируют личинки большой скол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7B6A9-E885-4680-891F-BD55036636B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ук-носорог способен передвигать груз в 850 раз превышающий вес самого жука. Если сравнивать с человеком, то человек может поднять примерно половину собственного веса. Чтобы представить себе наглядно силу насекомых, приведу пример: человек, весящий примерно 70 кг, обладающий силой жука-носорога, свободно бы двигал несколько железнодорожных вагонов весом в 7 тонн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CC941-36FB-4899-B156-F45710483CD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ывод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не очень понравились эти жуки. Они красивые и загадочны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мнению ученых их становится меньш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вайте оберегать их и окружающий нас ми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B1370-07AF-4914-8017-7F4EFC3D1FC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ведени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 на дачном участке случайно нашла семейство жуков и их личинк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не стало интересно узнать о них подробне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сегодня я представляю вам жуков и презентацию о ни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F79AD-46DE-4E61-AAF2-C84E30D6989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ук-носорог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-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насекомое семейства пластинчатоусых, встречается повсюду, кроме тундры и тайг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ло массивное (длиной 25-40 мм); окраска каштаново-бурая; ноги толстые, сильные, передние - копательные, задние - с опорными зубчиками и шип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2F26A-5F22-4D1D-BD90-72F2364CBF3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 самца на голове загнутый назад рог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на передней спинке трёхзубчатое поперечное возвышени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 носорога-самки на носу только небольшой бугорок, размерами она меньш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DFDA0-675C-40C7-BDF6-11E2679B73B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Места обитани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уки живут на увлажнённых участках широколиственных лесов: дуба, ивы, березы и других деревье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7E68C-1607-4B15-98FD-F255441A46C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браз жизн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уки-носороги обычно покидают свои подземные убежища тольк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темное время суток. Они прекрасно летают и преодолевают без остановки расстояния более 50 километров.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995A1-FCE4-4F57-9B57-527A96BC8BE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итани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итание жука-носорога ученым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изучен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некоторым данным, жуки совсем не питаются, по другим источникам - могут питаться жидкой пищей или древесным сок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A48EB-2401-485A-9572-AEF031E47AF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Размножени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откладывания яиц самка зарывается в дупла деревьев, сгнившие пни или стволы деревьев, а также в перепревший навоз, мусорные кучи, кучи из стружек и опило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уки после окончания яйцекладки умирают, не выходя наруж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416E5-6050-421F-A1BE-2141B98DA2D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жизненный цикл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жука-носорог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за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яйц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длится около месяц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79F94-2DFA-4B83-93A4-8AE653F3A39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BAB6C-40DC-4DB7-93FD-429DC82BF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D0000-8C65-42B8-9C60-D28E0C162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6EA88-1336-42BC-9446-37ED2F93A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9A3FF-773B-4EDC-989B-09912EB76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21060-4F4F-48A6-9785-186AD7F49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F8045-99E8-47C6-A03B-CDA604284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C2130-1184-4F7A-8DA1-82CB934FD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3964D-C197-42D7-A27F-483CE6CF1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10E8F-4B21-48A3-9181-2889F2E02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6F7DE-3DAE-445B-B8F4-7CF1BE440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1F227-D9FD-453E-BFBB-5C36CCF75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79725-A93B-4EE0-99C6-C4F01AB72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F2B58-6197-452C-B47B-006E72C11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5ADB8-8448-4AC6-A8FD-4F790630F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8E57E-E517-4BBA-ACF4-15EC738FF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A442F-6FDA-4D6F-97AF-E1A08BA99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EBAF6-79E6-4ACB-B4E0-8D6C1ACDB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97F0E02-323C-42F3-9401-C1856D877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5A91D1D-C530-4DDE-B8E1-5ECF91B97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F3FE099-0CB5-4F84-807B-F7BC65DEB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6BFD3EB-EB20-4607-9476-5EC0CB767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001E364-4E0D-4293-81E6-AA2DF68D0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3AF99-F4EE-48B5-8E7B-0BA7FBCF1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0882A46-EE16-4455-ACCD-E2BB32D4C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525971D-FDA6-47A9-81EB-9B3EA7731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7B0149A-D012-4906-9F1B-974816BD4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4B8E27-7B82-4471-B0D8-DB675D417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979CCF3-791B-4738-BD89-B8BFAF524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F58DCD7-0010-4137-AE9E-6206E1852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4C0BC32-79E1-4F72-84AD-7F17A2747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2D396B-C835-4D1C-8410-DDC4AFB9A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165CED-5679-4DA7-8BC4-0164AA760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F59DA3-64E7-472E-ABD5-169C9CF92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43E47-E25C-4F04-9148-B85E272DE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D46B18-EA6A-48E5-A7A1-7AC8F8A15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55D845-9B7F-42DB-9AED-B6342DEA2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8B7100-DB46-4A4B-B7B4-C721DF239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2BC3FB-9B54-4737-9542-5DBE41E8A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3FD77A-856E-4275-9610-A6017D1E2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6C9774-1355-4E46-A42A-EFA0EC7A6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4B4A88-8F09-4F58-93A7-D7267A092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91DBC2-42E5-46B8-8CE5-FCF6A1C63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5021CB-8C6A-4BB2-BD0F-6AF33EFCE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764631C-A8C8-4AED-92E1-DFA9A9785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08425-EDAF-4C13-8C30-E81640001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5F6B148-B6E4-46F7-AF3E-EADEB314F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9E335AF-5B62-4338-B019-0BBB60DDE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2F3ED1B-9B68-4387-955B-804AABD7D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1911004-A422-4ACD-B4F7-F5C8655C9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F20CB86-8687-401F-82CA-A329B2DDC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B6165E3-7B28-418A-8A16-7AD43EC58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297ADEB-F887-41F3-857A-E14667738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924185A-66E9-474C-94F9-7C92FC492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A4EEDE3-979A-40EA-8A71-9CC123F85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5726A62-D0A7-4CEC-A78C-1FABCE6F5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A3630-67A9-49FB-ABD9-E6FE4D61A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7C13814-01B5-4827-B74B-A376B8F0C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3BAF952-1007-4564-B17C-F5D496C20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15CD8EA-24A0-4EEC-A4FB-27B76C1E3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8A63B36-9298-4D6C-9579-8CCC2000A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1E6FA96-B7A1-4D36-8B83-81152A8B7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DFBD3AF-0F21-4FDD-914E-7CB004202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9835DC7-F9F1-4C45-9127-4E873D1E1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FBFB9C1-71CC-4D49-85C0-25F31C3F3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BB3E8CF-FE4C-43CF-A63A-87DFDC615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21B9B8A-F6D7-40AA-9C9E-129267A02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4CBCB-1A2C-4313-A709-805EAFDC3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0C9BB3B-4B97-4F82-B5E8-3F1C22449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268D43B-85B2-43D5-8477-82B139DDE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4DC97E9-2D62-4624-A59C-FB7EF4DBA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0E50C15-6641-4DAD-B037-9CAE99721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85B288B-127B-4E0D-8351-DDA593237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8B4FD74-D8F8-414A-B034-465F317A9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086B9A3-66F8-43D6-BC26-4E5FDF624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F3DB00A-DF15-42B3-BC66-2E0333EEA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5F7762F-8E0D-4773-A4D0-70E368B75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B2F74EF-035C-46AB-B810-736B27457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6612A-CA4E-4858-9DFD-0438857B9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DC47149-46EA-408C-A7D1-EA69A1551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248E980-18B1-4D35-BFA0-24EFBCC11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5306465-6E16-4D76-971D-6E81A0BE3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6D941B9-207A-49A9-AAA6-01BA4289E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406B981-F5A3-4981-BA25-53FC368F5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62B03-A07E-4EC2-BB92-E487F963F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b687"/>
            </a:gs>
            <a:gs pos="100000">
              <a:srgbClr val="ffe5d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BAC8A-5917-4C0B-8441-4BE8092DA733}" type="datetime"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ED3B6-9843-4BCC-89EC-9ED4F73CCD25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b687"/>
            </a:gs>
            <a:gs pos="100000">
              <a:srgbClr val="ffe5d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E5E97-4F50-4C91-9907-A3DAC7BDE078}" type="datetime"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05839-2640-4A72-8D79-AEB74564CA83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b687"/>
            </a:gs>
            <a:gs pos="100000">
              <a:srgbClr val="ffe5d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0D2EB-7DE8-4830-AD8F-5F56F3A053BB}" type="datetime"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9C288-65E5-4D69-9A77-1C033CE8E5CE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b687"/>
            </a:gs>
            <a:gs pos="100000">
              <a:srgbClr val="ffe5d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9715D-F4D4-42DD-BC3E-476F40F4F8A9}" type="datetime">
              <a:rPr b="0" lang="ru-RU" sz="1200" spc="-1" strike="noStrike">
                <a:solidFill>
                  <a:srgbClr val="fff39d"/>
                </a:solidFill>
                <a:latin typeface="Century Schoolbook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F47FB-A0FF-4DF3-A209-9D938BAD42A2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b687"/>
            </a:gs>
            <a:gs pos="100000">
              <a:srgbClr val="ffe5d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4273D-C592-425C-8396-AAB7D4550EF0}" type="datetime"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95377-4101-4280-94E1-912F46CFFF0E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b687"/>
            </a:gs>
            <a:gs pos="100000">
              <a:srgbClr val="ffe5d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14296-010B-4B4D-9295-DFA7F3D56747}" type="datetime"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C6325-C0D7-4AB0-9EB2-99705E9DD102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b687"/>
            </a:gs>
            <a:gs pos="100000">
              <a:srgbClr val="ffe5d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6BCBE-FA2B-4BD3-9594-8F608DC7C387}" type="datetime"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72FBD-062A-4E70-9F22-D373D78AA93A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071720" y="1428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Century Schoolbook"/>
              </a:rPr>
              <a:t>ЖУК-НОСОРОГ</a:t>
            </a:r>
            <a:endParaRPr b="0" lang="en-US" sz="6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subTitle"/>
          </p:nvPr>
        </p:nvSpPr>
        <p:spPr>
          <a:xfrm>
            <a:off x="5071680" y="4000680"/>
            <a:ext cx="3429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entury Schoolbook"/>
              </a:rPr>
              <a:t>Выполнила: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entury Schoolbook"/>
              </a:rPr>
              <a:t>Лаптева Катя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entury Schoolbook"/>
              </a:rPr>
              <a:t>ученица 2 «Б» класса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entury Schoolbook"/>
              </a:rPr>
              <a:t>МОУ СОШ № 19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4" name="Місце для нижнього колонтитула 3"/>
          <p:cNvSpPr/>
          <p:nvPr/>
        </p:nvSpPr>
        <p:spPr>
          <a:xfrm rot="5400000">
            <a:off x="707652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 txBox="1"/>
          <p:nvPr/>
        </p:nvSpPr>
        <p:spPr>
          <a:xfrm>
            <a:off x="448920" y="3214800"/>
            <a:ext cx="8094600" cy="335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entury Schoolbook"/>
              </a:rPr>
              <a:t>Вышедшая из яйца </a:t>
            </a:r>
            <a:r>
              <a:rPr b="1" lang="ru-RU" sz="3000" spc="-1" strike="noStrike">
                <a:solidFill>
                  <a:srgbClr val="000000"/>
                </a:solidFill>
                <a:latin typeface="Century Schoolbook"/>
              </a:rPr>
              <a:t>личинка</a:t>
            </a:r>
            <a:r>
              <a:rPr b="0" lang="ru-RU" sz="3000" spc="-1" strike="noStrike">
                <a:solidFill>
                  <a:srgbClr val="000000"/>
                </a:solidFill>
                <a:latin typeface="Century Schoolbook"/>
              </a:rPr>
              <a:t> живет 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Century Schoolbook"/>
              </a:rPr>
              <a:t>в субстрате, где она питается в течение всей своей жизни, 3-4 года.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Century Schoolbook"/>
              </a:rPr>
              <a:t>Личинка толстая, С-образно изогнутая, жёлто-белого цвета в редких волосках, 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Century Schoolbook"/>
              </a:rPr>
              <a:t>к концу своего развития вырастает  длиной 8-9 см.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15" name="Picture 7" descr=""/>
          <p:cNvPicPr/>
          <p:nvPr/>
        </p:nvPicPr>
        <p:blipFill>
          <a:blip r:embed="rId1"/>
          <a:stretch/>
        </p:blipFill>
        <p:spPr>
          <a:xfrm>
            <a:off x="2382840" y="135000"/>
            <a:ext cx="4214880" cy="3160800"/>
          </a:xfrm>
          <a:prstGeom prst="rect">
            <a:avLst/>
          </a:prstGeom>
          <a:ln w="0">
            <a:noFill/>
          </a:ln>
        </p:spPr>
      </p:pic>
      <p:sp>
        <p:nvSpPr>
          <p:cNvPr id="416" name="Місце для нижнього колонтитула 1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0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 txBox="1"/>
          <p:nvPr/>
        </p:nvSpPr>
        <p:spPr>
          <a:xfrm>
            <a:off x="771120" y="3591000"/>
            <a:ext cx="7418520" cy="28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entury Schoolbook"/>
              </a:rPr>
              <a:t>Линяет личинка три раза, после последней линьки превращается 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Century Schoolbook"/>
              </a:rPr>
              <a:t>в </a:t>
            </a:r>
            <a:r>
              <a:rPr b="1" lang="ru-RU" sz="3000" spc="-1" strike="noStrike">
                <a:solidFill>
                  <a:srgbClr val="000000"/>
                </a:solidFill>
                <a:latin typeface="Century Schoolbook"/>
              </a:rPr>
              <a:t>куколку</a:t>
            </a:r>
            <a:r>
              <a:rPr b="0" lang="ru-RU" sz="3000" spc="-1" strike="noStrike">
                <a:solidFill>
                  <a:srgbClr val="000000"/>
                </a:solidFill>
                <a:latin typeface="Century Schoolbook"/>
              </a:rPr>
              <a:t>. Фаза куколки непродолжительна - от 12 дней до 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Century Schoolbook"/>
              </a:rPr>
              <a:t>1 месяца. Из куколки появляется самец или самка жука-носорога.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18" name="Picture 2" descr=""/>
          <p:cNvPicPr/>
          <p:nvPr/>
        </p:nvPicPr>
        <p:blipFill>
          <a:blip r:embed="rId1"/>
          <a:stretch/>
        </p:blipFill>
        <p:spPr>
          <a:xfrm>
            <a:off x="2143080" y="285840"/>
            <a:ext cx="4286160" cy="3214440"/>
          </a:xfrm>
          <a:prstGeom prst="rect">
            <a:avLst/>
          </a:prstGeom>
          <a:ln w="0">
            <a:noFill/>
          </a:ln>
        </p:spPr>
      </p:pic>
      <p:sp>
        <p:nvSpPr>
          <p:cNvPr id="419" name="Місце для нижнього колонтитула 1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0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 txBox="1"/>
          <p:nvPr/>
        </p:nvSpPr>
        <p:spPr>
          <a:xfrm>
            <a:off x="531360" y="3467160"/>
            <a:ext cx="8007480" cy="26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Врагами жука-носорога являются птицы. Взрослый жук был обнаружен в желудке большого пестрого дятла,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а на личинках паразитируют личинки большой сколии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21" name="Picture 2" descr=""/>
          <p:cNvPicPr/>
          <p:nvPr/>
        </p:nvPicPr>
        <p:blipFill>
          <a:blip r:embed="rId1"/>
          <a:stretch/>
        </p:blipFill>
        <p:spPr>
          <a:xfrm>
            <a:off x="2143080" y="139680"/>
            <a:ext cx="4357800" cy="3292560"/>
          </a:xfrm>
          <a:prstGeom prst="rect">
            <a:avLst/>
          </a:prstGeom>
          <a:ln w="0">
            <a:noFill/>
          </a:ln>
        </p:spPr>
      </p:pic>
      <p:sp>
        <p:nvSpPr>
          <p:cNvPr id="422" name="Місце для нижнього колонтитула 1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0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 txBox="1"/>
          <p:nvPr/>
        </p:nvSpPr>
        <p:spPr>
          <a:xfrm>
            <a:off x="817200" y="500040"/>
            <a:ext cx="7467480" cy="59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entury Schoolbook"/>
              </a:rPr>
              <a:t>Жук-носорог способен передвигать груз в 850 раз превышающий вес самого жука. Если сравнивать с человеком, то человек может поднять примерно половину собственного веса. Чтобы представить себе наглядно силу насекомых, приведу пример: человек, весящий примерно 70 кг, обладающий силой жука-носорога, свободно бы двигал несколько железнодорожных вагонов весом в 7 тонн!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4" name="Місце для нижнього колонтитула 1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0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28400" y="-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entury Schoolbook"/>
              </a:rPr>
              <a:t>ВЫВОД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571320" y="1672920"/>
            <a:ext cx="7972200" cy="304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Мне очень понравились эти жуки. Они красивые и загадочные.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По мнению ученых их становится меньше.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Давайте оберегать их и окружающий нас мир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7" name="Місце для нижнього колонтитула 3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0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6" nodeType="after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4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4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4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2" nodeType="afterEffect" fill="hold" presetClass="exit" presetID="1">
                                  <p:stCondLst>
                                    <p:cond delay="1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27">
                                  <p:stCondLst>
                                    <p:cond delay="1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6" dur="80"/>
                                        <p:tgtEl>
                                          <p:spTgt spid="4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7" dur="80"/>
                                        <p:tgtEl>
                                          <p:spTgt spid="4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8" dur="80"/>
                                        <p:tgtEl>
                                          <p:spTgt spid="4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4" presetSubtype="2">
                                  <p:stCondLst>
                                    <p:cond delay="1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 to="1.29999995231628">
                                      <p:cBhvr additive="repl">
                                        <p:cTn id="190" dur="2000" fill="hold"/>
                                        <p:tgtEl>
                                          <p:spTgt spid="4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99680" y="1425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entury Schoolbook"/>
              </a:rPr>
              <a:t>ВВЕДЕНИЕ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642600" y="150012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Я на дачном участке случайно нашла семейство жуков и их личинки.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Мне стало интересно узнать о них подробнее.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И сегодня я представляю вам жуков и презентацию о них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7" name="Місце для нижнього колонтитула 3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0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357120" y="2714760"/>
            <a:ext cx="8501040" cy="35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Жук-носорог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 -</a:t>
            </a: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 насекомое семейства пластинчатоусых, встречается повсюду, кроме тундры и тайги.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53440" indent="-25344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Тело массивное (длиной 25-40 мм); окраска каштаново-бурая; ноги толстые, сильные, передние - копательные, задние - с опорными зубчиками и шипами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9" name="Picture 2" descr=""/>
          <p:cNvPicPr/>
          <p:nvPr/>
        </p:nvPicPr>
        <p:blipFill>
          <a:blip r:embed="rId1"/>
          <a:stretch/>
        </p:blipFill>
        <p:spPr>
          <a:xfrm>
            <a:off x="2143080" y="142920"/>
            <a:ext cx="3929040" cy="2735280"/>
          </a:xfrm>
          <a:prstGeom prst="rect">
            <a:avLst/>
          </a:prstGeom>
          <a:ln w="0">
            <a:noFill/>
          </a:ln>
        </p:spPr>
      </p:pic>
      <p:sp>
        <p:nvSpPr>
          <p:cNvPr id="390" name="Місце для нижнього колонтитула 1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 txBox="1"/>
          <p:nvPr/>
        </p:nvSpPr>
        <p:spPr>
          <a:xfrm>
            <a:off x="468360" y="3618000"/>
            <a:ext cx="8229600" cy="27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entury Schoolbook"/>
              </a:rPr>
              <a:t>У самца на голове загнутый назад рог, 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Century Schoolbook"/>
              </a:rPr>
              <a:t>а на передней спинке трёхзубчатое поперечное возвышение. 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entury Schoolbook"/>
              </a:rPr>
              <a:t>У носорога-самки на носу только небольшой бугорок, размерами она меньше.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92" name="Picture 3" descr=""/>
          <p:cNvPicPr/>
          <p:nvPr/>
        </p:nvPicPr>
        <p:blipFill>
          <a:blip r:embed="rId1"/>
          <a:stretch/>
        </p:blipFill>
        <p:spPr>
          <a:xfrm>
            <a:off x="428760" y="214200"/>
            <a:ext cx="4370400" cy="285768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4" descr=""/>
          <p:cNvPicPr/>
          <p:nvPr/>
        </p:nvPicPr>
        <p:blipFill>
          <a:blip r:embed="rId2"/>
          <a:stretch/>
        </p:blipFill>
        <p:spPr>
          <a:xfrm>
            <a:off x="4788000" y="260280"/>
            <a:ext cx="4170240" cy="2808360"/>
          </a:xfrm>
          <a:prstGeom prst="rect">
            <a:avLst/>
          </a:prstGeom>
          <a:ln w="0">
            <a:noFill/>
          </a:ln>
        </p:spPr>
      </p:pic>
      <p:sp>
        <p:nvSpPr>
          <p:cNvPr id="394" name="Прямоугольник 7"/>
          <p:cNvSpPr/>
          <p:nvPr/>
        </p:nvSpPr>
        <p:spPr>
          <a:xfrm>
            <a:off x="1748520" y="3071880"/>
            <a:ext cx="10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Саме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Прямоугольник 8"/>
          <p:cNvSpPr/>
          <p:nvPr/>
        </p:nvSpPr>
        <p:spPr>
          <a:xfrm>
            <a:off x="6130440" y="3083040"/>
            <a:ext cx="106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Сам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Місце для нижнього колонтитула 1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99680" y="-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entury Schoolbook"/>
              </a:rPr>
              <a:t>МЕСТА ОБИТАНИЯ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456840" y="1599840"/>
            <a:ext cx="8258040" cy="23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Жуки живут на увлажнённых участках широколиственных лесов: дуба, ивы, березы и других деревьев.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9" name="Місце для нижнього колонтитула 3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99680" y="-28620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entury Schoolbook"/>
              </a:rPr>
              <a:t>ОБРАЗ ЖИЗНИ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642600" y="3929040"/>
            <a:ext cx="7929720" cy="264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Жуки-носороги обычно покидают свои подземные убежища только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в темное время суток. Они прекрасно летают и преодолевают без остановки расстояния более 50 километров..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02" name="Picture 2" descr=""/>
          <p:cNvPicPr/>
          <p:nvPr/>
        </p:nvPicPr>
        <p:blipFill>
          <a:blip r:embed="rId1"/>
          <a:stretch/>
        </p:blipFill>
        <p:spPr>
          <a:xfrm>
            <a:off x="4500720" y="142920"/>
            <a:ext cx="4214520" cy="3797280"/>
          </a:xfrm>
          <a:prstGeom prst="rect">
            <a:avLst/>
          </a:prstGeom>
          <a:ln w="0">
            <a:noFill/>
          </a:ln>
        </p:spPr>
      </p:pic>
      <p:sp>
        <p:nvSpPr>
          <p:cNvPr id="403" name="Місце для нижнього колонтитула 2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0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779400" y="-36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entury Schoolbook"/>
              </a:rPr>
              <a:t>ПИТАНИЕ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785880" y="1571400"/>
            <a:ext cx="7818480" cy="361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Питание жука-носорога учеными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не изучено.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По некоторым данным, жуки совсем не питаются, по другим источникам - могут питаться жидкой пищей или древесным соком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6" name="Місце для нижнього колонтитула 2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0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790200" y="-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entury Schoolbook"/>
              </a:rPr>
              <a:t>РАЗМНОЖЕНИЕ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706320" y="1599840"/>
            <a:ext cx="7467840" cy="46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Для откладывания яиц самка зарывается в дупла деревьев, сгнившие пни или стволы деревьев, а также в перепревший навоз, мусорные кучи, кучи из стружек и опилок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Жуки после окончания яйцекладки умирают, не выходя наружу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9" name="Місце для нижнього колонтитула 2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0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782280" y="2599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entury Schoolbook"/>
              </a:rPr>
              <a:t>ЖИЗНЕННЫЙ ЦИКЛ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entury Schoolbook"/>
              </a:rPr>
              <a:t>ЖУКА-НОСОРОГА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642600" y="5643360"/>
            <a:ext cx="7467480" cy="82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Фаза </a:t>
            </a: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яйца</a:t>
            </a: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 длится около месяца.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12" name="Picture 3" descr=""/>
          <p:cNvPicPr/>
          <p:nvPr/>
        </p:nvPicPr>
        <p:blipFill>
          <a:blip r:embed="rId1"/>
          <a:stretch/>
        </p:blipFill>
        <p:spPr>
          <a:xfrm>
            <a:off x="1654200" y="1365120"/>
            <a:ext cx="5862600" cy="4179960"/>
          </a:xfrm>
          <a:prstGeom prst="rect">
            <a:avLst/>
          </a:prstGeom>
          <a:ln w="0">
            <a:noFill/>
          </a:ln>
        </p:spPr>
      </p:pic>
      <p:sp>
        <p:nvSpPr>
          <p:cNvPr id="413" name="Місце для нижнього колонтитула 3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0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3T04:56:48Z</dcterms:created>
  <dc:creator>.</dc:creator>
  <dc:description/>
  <dc:language>en-US</dc:language>
  <cp:lastModifiedBy>LEGION</cp:lastModifiedBy>
  <dcterms:modified xsi:type="dcterms:W3CDTF">2014-11-24T13:19:18Z</dcterms:modified>
  <cp:revision>66</cp:revision>
  <dc:subject/>
  <dc:title>Жук-носорог</dc:title>
</cp:coreProperties>
</file>