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0F58-8599-4180-AE86-33BD3B38B6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рург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медиц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заболевания, которые лечатся при помощи оперативного (хирургического) мет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териал подготовил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итель биолог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У «СОШ №198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Яппарова Татьяна Владимиро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1E50-5D29-438D-9984-4E82C6A672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хирургического лечения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больного к опера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зболивание (наркоз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ое вмешатель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оп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онный доступ (разрез кожи или слизистой оболочки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лечение орга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целостности тканей, нарушенных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6EBA-C04A-48A8-BEAB-34FD74C520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Диагностически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Радикаль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стью устраняют патологически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аллиатив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егчают общее состояние больного кратк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Экстрен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роч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отложены на время уточнения диагноза и подготовку больного к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ланов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8D56-353A-4075-A7B1-FA17B26737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й хирур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реконструк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малоинваз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B734-E6A2-4560-9793-8D016CA7E3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рические с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вей (1578-1657 гг.) - открыл законы кровообращения, определил роль сердца как нас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67 г. французский ученый Жан Дени впервые произвел переливание крови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ек - век крупных открытий в хирур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а развитие топографическая анатомия и оперативная хирур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армии Наполео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рей за одни сутки произвел 200 ампут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AA82-4018-4FB2-83F9-50D6FF6D52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воение технологии обезболив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Уоррен в 1846 г. удалил опухоль шеи под эфирным нарко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тисептика – метод борьбы с инфекци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у-асеп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овоте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3FA2-0C3F-4C41-87D8-1FB4D24834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усская хирур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5D8B-0C93-4BCB-859E-C9C406AC2F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3EC-F149-4D7A-AF5B-0D6E1416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C8F-3DDA-4D7C-BF5C-983C4B3C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CFD-9B69-4305-9691-C0119D79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050-5373-42BC-8893-64DFB44F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FD1-9A3B-4EB4-A945-E1FB9B26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68E-5F7D-4F85-AD24-BF0FB9F1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B6F-C5D0-4C87-BCBF-F9AF179F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E01-ED1A-4D5F-907B-73A452E4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EEB-334C-4843-85E8-36976FB7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FD9-BFB8-42B3-8DB2-7A740612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7FF-DAD1-4313-BBA5-B8C244AD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483-C0F7-429A-8C3A-38F80009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9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FC89-078A-447E-8607-5C9F46D2C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95320" y="4568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Хирург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медицины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ющая заболевания, которые лечатся при помощи оперативного (хирургического) метод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1120" y="4952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СОШ №19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ппаро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Файл:Surgeon operating, Fitzsimons Army Medical Center, circa 1990.JPEG"/>
          <p:cNvPicPr/>
          <p:nvPr/>
        </p:nvPicPr>
        <p:blipFill>
          <a:blip r:embed="rId1"/>
          <a:stretch/>
        </p:blipFill>
        <p:spPr>
          <a:xfrm>
            <a:off x="304920" y="533520"/>
            <a:ext cx="3828960" cy="5705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хирургического лечен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больного к опер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зболивание (наркоз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рургическое вмешатель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опер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онный доступ (разрез кожи или слизистой оболочк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ивное лечение орга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целостности тканей, нарушенных во время оп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Диагностически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Радикаль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ностью устраняют патологически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аллиатив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легчают общее состояние больного кратковре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Экстрен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роч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гут быть отложены на время уточнения диагноза и подготовку больного к оп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ланов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обенности современной хирург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реконструкт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малоинваз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рические с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вей (1578-1657 гг.) - открыл законы кровообращения, определил роль сердца как нас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67 г. французский ученый Жан Дени впервые произвел переливание крови челов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 - век крупных открытий в хиру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а развитие топографическая анатомия и оперативная хирург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рург армии Наполе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аррей за одни сутки произвел 200 ампут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ие технологии обезбол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рург Уоррен в 1846 г. удалил опухоль шеи под эфирным наркоз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ептика – метод борьбы с инфек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у-асепти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усская хирур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6T13:35:0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