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54A8-6581-4EED-8729-688FB0F164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рургия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медиц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ая заболевания, которые лечатся при помощи оперативного (хирургического) мет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териал подготовил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итель биолог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У «СОШ №198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ппарова Татьяна Владими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CC4D-1DBB-48D2-BB05-0702DF16F7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хирургического лечения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больного к опера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зболивание (наркоз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ческое вмешатель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опер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онный доступ (разрез кожи или слизистой оболочк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 лечение орга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целостности тканей, нарушенных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148C-0B49-4F87-8FF3-99DBCD6CC3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Диагностически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Радикаль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стью устраняют патологический проц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аллиатив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егчают общее состояние больного кратковрем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ификация опе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характеру и целя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Экстрен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рочн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отложены на время уточнения диагноза и подготовку больного к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Плановые оп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3C91-EC7A-4F74-8E35-FA53789D5E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й хирур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реконструкт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становится малоинвазив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14F8-220D-4336-8FE4-3D4B7C00C9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рические све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вей (1578-1657 гг.) - открыл законы кровообращения, определил роль сердца как нас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67 г. французский ученый Жан Дени впервые произвел переливание крови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ек - век крупных открытий в хирург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топографическая анатомия и оперативная хирур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армии Наполео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аррей за одни сутки произвел 200 ампут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D026-9749-452E-B2F4-2D03F401DE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воение технологии обезболива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 Уоррен в 1846 г. удалил опухоль шеи под эфирным нарко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тисептика – метод борьбы с инфекци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у-асепти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овоте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730-6DC7-46D6-B78E-8DA2D8587E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усская хирург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88FA-4E32-48F9-96C7-655F051E79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0E3-68A5-4C25-A8B1-6609A32B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70B-9A01-416A-AA2E-A2CF8F76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387-8205-4372-AB36-C46FDC23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AFB-216A-4BA0-AF26-15FBF57E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9B40-E33D-4468-9969-C1817AEE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D9A-B96F-408F-BF29-F6885212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5CBD-7A1B-4429-A92D-6F82945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5BA-664B-4DF8-8A88-6CF1B7FA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149-4413-4359-8D74-F542B8BD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7737-CF8B-45CF-87E6-F0F5B79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92A-A7A2-4BE6-9EAC-14535060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B43-384B-41D9-9B10-6B18B380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e9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3401-D0CA-4AFB-9CD2-7FAF0984E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5320" y="4568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Хирурги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ь медицины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ющая заболевания, которые лечатся при помощи оперативного (хирургического) метод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91120" y="4952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 подготов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СОШ №19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ппарова Татьян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айл:Surgeon operating, Fitzsimons Army Medical Center, circa 1990.JPEG"/>
          <p:cNvPicPr/>
          <p:nvPr/>
        </p:nvPicPr>
        <p:blipFill>
          <a:blip r:embed="rId1"/>
          <a:stretch/>
        </p:blipFill>
        <p:spPr>
          <a:xfrm>
            <a:off x="304920" y="533520"/>
            <a:ext cx="382896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хирургического лечения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а больного к опер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зболивание (наркоз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рургическое вмешатель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ы опер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ционный доступ (разрез кожи или слизистой оболочки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ивное лечение орга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целостности тканей, нарушенных во время оп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Диагностически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ют хирургу поставить более точный диагноз  и являются, в некоторых случаях, единственным диагностически достоверным мет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Радикаль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ностью устраняют патологический проце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аллиатив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легчают общее состояние больного кратковрем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операци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 характеру и целя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Экстрен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ебуют немедленного выполнения (остановка кровотечения, трахеотомия, перитонит и др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рочн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гут быть отложены на время уточнения диагноза и подготовку больного к оп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Плановые опер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полняются после детального обследования больного и необходимой подготовки к операции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обенности современной хирург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реконструкт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ирургией, то есть направленной на то, чтобы восстановить или заменить поражённый орган: протез сосуда, искусственный клапан сердца, укрепление синтетической сеткой грыжевых ворот и т.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становится малоинвазив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направленной на то, чтобы минимизировать область вмешательства в организм — мини-доступы, лапароскопическая техника, рентгеноэндоваскулярная хиру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хирургией связаны такие области, как нейрохирургия, кардиохирургия, эндокринная хирургия, травматология, ортопедия, пластическая хирургия, трансплантология, офтальмохирургия, челюстно-лицевая хирургия, урология, андрология, гинеколог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торические с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бруаз Паре (1517-1590 гг.) - французский хирург заменил технику ампутации и перевязку круп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цельс (1493-1541 гг.) - швейцарский врач разработал методику применения вяжущих средств для улучшения общего состояния ране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рвей (1578-1657 гг.) - открыл законы кровообращения, определил роль сердца как нас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67 г. французский ученый Жан Дени впервые произвел переливание крови челове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 - век крупных открытий в хиру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ла развитие топографическая анатомия и оперативная хирург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ов Н.И. выполнял высокое сечение мочевого пузыря за 2 мин, а ампутацию голени - за 8 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рург армии Наполе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аррей за одни сутки произвел 200 ампут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воение технологии обезбо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6 г. американский химик Джексон и зубной врач У. Мортон применили вдыхание паров эфира при удалении зу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рург Уоррен в 1846 г. удалил опухоль шеи под эфирным наркоз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47 г. английской акушер Дж. Симпсон для наркоза применил хлороформ и добился выключения сознания и потери чувстви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септика – метод борьбы с инфе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глийский хирург Дж. Листер (1827-1912 гг.) пришел к выводу, что инфицирование раны происходит через воздушную среду. Поэтому для борьбы с микробами стали распылять в операционной карболовую кислоту. Руки хирурга перед операцией и операционное поле также орошали карболовой кислотой, а по окончании операции рану накрывали марлей, пропитанной карболовой кислот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рогов Н.И. (1810-1881 гг.) считал, что гной может содержать "прилипчивую заразу" и применял антисептические веще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85 г. русский хирург М. С. Субботин для выполнения оперативных вмешательств производил стерилизацию перевязочного материала, чем и положил начал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у-асепти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. фон Эсмарх (1823-1908 гг.) предложил кровоостанавливающий жгут, который накладывался на конечность как во время случайной раны, так и во время ампу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01 г. Карл Ландштейнер открыл группы крови. В 1907 г. Я. Янский разработал методику переливания кро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усская хирур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рургия в России начала развиваться с 1654 года, когда был издан указ об открытии костоправных школ. В 1704 году появилось аптекарское дело и в этом же году было закончено строительство завода хирургического инструментария.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а хирургов в России практически не было, отсутствовали и больницы. 1-й госпиталь в Москве открыт в 1707 году. В 1716 и 1719 гг. в Санкт-Петербурге вводятся в строй два госпита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06T13:35:0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