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9D12-948F-4415-962B-8E39AEF9E3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ирурги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сть медицины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ющая заболевания, которые лечатся при помощи оперативного (хирургического) мет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атериал подготовил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читель биологии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ОУ «СОШ №198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Яппарова Татьяна Владимировн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620B-9B64-4D7D-9D3D-D4A024A013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хирургического лечения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больного к опера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зболивание (наркоз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ическое вмешатель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опер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онный доступ (разрез кожи или слизистой оболочки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ое лечение орга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е целостности тканей, нарушенных во время опе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5B26-A3F6-49A9-AB97-F6208E4BB7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лассификация операци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характеру и целя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Диагностические оп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зволяют хирургу поставить более точный диагноз  и являются, в некоторых случаях, единственным диагностически достоверным мет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Радикальные оп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лностью устраняют патологический проце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Паллиативные оп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легчают общее состояние больного кратковремен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лассификация операци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характеру и целя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Экстренные оп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ребуют немедленного выполнения (остановка кровотечения, трахеотомия, перитонит и др.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Срочные оп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гут быть отложены на время уточнения диагноза и подготовку больного к опе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Плановые оп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полняются после детального обследования больного и необходимой подготовки к операции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3CF1-C1A7-474F-9E37-C5903DF955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обенности современной хирург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становится реконструктив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хирургией, то есть направленной на то, чтобы восстановить или заменить поражённый орган: протез сосуда, искусственный клапан сердца, укрепление синтетической сеткой грыжевых ворот и т.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становится малоинвазив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есть направленной на то, чтобы минимизировать область вмешательства в организм — мини-доступы, лапароскопическая техника, рентгеноэндоваскулярная хирур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хирургией связаны такие области, как нейрохирургия, кардиохирургия, эндокринная хирургия, травматология, ортопедия, пластическая хирургия, трансплантология, офтальмохирургия, челюстно-лицевая хирургия, урология, андрология, гинеколог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9A4B-5225-4DCE-B497-7050A5DE98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торические све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поха Возрожд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бруаз Паре (1517-1590 гг.) - французский хирург заменил технику ампутации и перевязку крупны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цельс (1493-1541 гг.) - швейцарский врач разработал методику применения вяжущих средств для улучшения общего состояния ранен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рвей (1578-1657 гг.) - открыл законы кровообращения, определил роль сердца как нас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667 г. французский ученый Жан Дени впервые произвел переливание крови челове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век - век крупных открытий в хирург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ла развитие топографическая анатомия и оперативная хирург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рогов Н.И. выполнял высокое сечение мочевого пузыря за 2 мин, а ампутацию голени - за 8 м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 армии Наполео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аррей за одни сутки произвел 200 ампут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8314-AEFA-404F-A260-BB1B325258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своение технологии обезболивани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46 г. американский химик Джексон и зубной врач У. Мортон применили вдыхание паров эфира при удалении зуб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 Уоррен в 1846 г. удалил опухоль шеи под эфирным наркоз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47 г. английской акушер Дж. Симпсон для наркоза применил хлороформ и добился выключения сознания и потери чувстви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нтисептика – метод борьбы с инфекци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хирург Дж. Листер (1827-1912 гг.) пришел к выводу, что инфицирование раны происходит через воздушную среду. Поэтому для борьбы с микробами стали распылять в операционной карболовую кислоту. Руки хирурга перед операцией и операционное поле также орошали карболовой кислотой, а по окончании операции рану накрывали марлей, пропитанной карболовой кислот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рогов Н.И. (1810-1881 гг.) считал, что гной может содержать "прилипчивую заразу" и применял антисептические ве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85 г. русский хирург М. С. Субботин для выполнения оперативных вмешательств производил стерилизацию перевязочного материала, чем и положил начал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у-асепти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ровотеч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. фон Эсмарх (1823-1908 гг.) предложил кровоостанавливающий жгут, который накладывался на конечность как во время случайной раны, так и во время ампут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01 г. Карл Ландштейнер открыл группы крови. В 1907 г. Я. Янский разработал методику переливания кров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0C18-AD58-4D47-866E-C455D9FD04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усская хирург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ия в России начала развиваться с 1654 года, когда был издан указ об открытии костоправных школ. В 1704 году появилось аптекарское дело и в этом же году было закончено строительство завода хирургического инструментария. Д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 хирургов в России практически не было, отсутствовали и больницы. 1-й госпиталь в Москве открыт в 1707 году. В 1716 и 1719 гг. в Санкт-Петербурге вводятся в строй два госпита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67FE-06D3-4F2F-936D-6B4B171423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7BC1-970F-415E-B4A8-6DF80760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1D02-9A51-45F8-ACA2-D61AD89B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EE8C-25FE-4747-A849-BB70D8AC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949C-5FC7-49D2-B742-15B8AF25F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0CE4-75E0-4550-9029-CB93FC68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B555-AC77-469B-9BD6-D4E3AA91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E2ED-7FDA-41E2-A27F-B9E695CD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44B1-50AE-48C1-A11D-A10A6213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A0CB-33F9-41EA-8CF9-EFE1C6B1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9D29-6B78-4162-8DD1-0FD56452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9085-189E-4CA7-9D5A-7CADF5BE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6EB5-37AE-4199-8817-4284B65A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e9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C850-D64E-438F-9DFB-213B38AD74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95320" y="456840"/>
            <a:ext cx="441972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Хирургия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ласть медицины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ающая заболевания, которые лечатся при помощи оперативного (хирургического) метод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91120" y="4952880"/>
            <a:ext cx="4572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 подготов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би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СОШ №198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ппарова Татьяна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Файл:Surgeon operating, Fitzsimons Army Medical Center, circa 1990.JPEG"/>
          <p:cNvPicPr/>
          <p:nvPr/>
        </p:nvPicPr>
        <p:blipFill>
          <a:blip r:embed="rId1"/>
          <a:stretch/>
        </p:blipFill>
        <p:spPr>
          <a:xfrm>
            <a:off x="304920" y="533520"/>
            <a:ext cx="3828960" cy="57052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пы хирургического лечения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ка больного к операц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зболивание (наркоз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рургическое вмешательст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пы опер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ерационный доступ (разрез кожи или слизистой оболочки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еративное лечение орга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становление целостности тканей, нарушенных во время опер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сификация операций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характеру и целям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Диагностически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зволяют хирургу поставить более точный диагноз  и являются, в некоторых случаях, единственным диагностически достоверным мето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Радикальны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лностью устраняют патологический проце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Паллиативны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легчают общее состояние больного кратковрем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сификация операций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характеру и целям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Экстренны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ебуют немедленного выполнения (остановка кровотечения, трахеотомия, перитонит и др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Срочны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гут быть отложены на время уточнения диагноза и подготовку больного к опер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Плановы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полняются после детального обследования больного и необходимой подготовки к операции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собенности современной хирург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становится реконструктив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ирургией, то есть направленной на то, чтобы восстановить или заменить поражённый орган: протез сосуда, искусственный клапан сердца, укрепление синтетической сеткой грыжевых ворот и т.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становится малоинвазив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есть направленной на то, чтобы минимизировать область вмешательства в организм — мини-доступы, лапароскопическая техника, рентгеноэндоваскулярная хирур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хирургией связаны такие области, как нейрохирургия, кардиохирургия, эндокринная хирургия, травматология, ортопедия, пластическая хирургия, трансплантология, офтальмохирургия, челюстно-лицевая хирургия, урология, андрология, гинекология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торические све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поха Возр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бруаз Паре (1517-1590 гг.) - французский хирург заменил технику ампутации и перевязку круп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цельс (1493-1541 гг.) - швейцарский врач разработал методику применения вяжущих средств для улучшения общего состояния ране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рвей (1578-1657 гг.) - открыл законы кровообращения, определил роль сердца как насо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667 г. французский ученый Жан Дени впервые произвел переливание крови челове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к - век крупных открытий в хирург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ла развитие топографическая анатомия и оперативная хирург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рогов Н.И. выполнял высокое сечение мочевого пузыря за 2 мин, а ампутацию голени - за 8 м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рург армии Наполео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аррей за одни сутки произвел 200 ампут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воение технологии обезболи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846 г. американский химик Джексон и зубной врач У. Мортон применили вдыхание паров эфира при удалении зуб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ирург Уоррен в 1846 г. удалил опухоль шеи под эфирным наркоз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847 г. английской акушер Дж. Симпсон для наркоза применил хлороформ и добился выключения сознания и потери чувствитель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септика – метод борьбы с инфекц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глийский хирург Дж. Листер (1827-1912 гг.) пришел к выводу, что инфицирование раны происходит через воздушную среду. Поэтому для борьбы с микробами стали распылять в операционной карболовую кислоту. Руки хирурга перед операцией и операционное поле также орошали карболовой кислотой, а по окончании операции рану накрывали марлей, пропитанной карболовой кислот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ирогов Н.И. (1810-1881 гг.) считал, что гной может содержать "прилипчивую заразу" и применял антисептические веще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885 г. русский хирург М. С. Субботин для выполнения оперативных вмешательств производил стерилизацию перевязочного материала, чем и положил начал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тоду-асептика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овот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. фон Эсмарх (1823-1908 гг.) предложил кровоостанавливающий жгут, который накладывался на конечность как во время случайной раны, так и во время ампут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901 г. Карл Ландштейнер открыл группы крови. В 1907 г. Я. Янский разработал методику переливания кро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усская хирур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рургия в России начала развиваться с 1654 года, когда был издан указ об открытии костоправных школ. В 1704 году появилось аптекарское дело и в этом же году было закончено строительство завода хирургического инструментария. Д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ка хирургов в России практически не было, отсутствовали и больницы. 1-й госпиталь в Москве открыт в 1707 году. В 1716 и 1719 гг. в Санкт-Петербурге вводятся в строй два госпита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06T13:35:09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