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98B4-61B4-4EE2-9E17-8AEB965CEF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рург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медиц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заболевания, которые лечатся при помощи оперативного (хирургического) мет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ериал подготовил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итель биолог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У «СОШ №198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ппарова Татьяна Владими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53F-EEA9-4F4F-93EE-C48ED07DA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хирургического лечения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больного к опера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зболивание (наркоз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ое вмешатель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оп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онный доступ (разрез кожи или слизистой оболочк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лечение орга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целостности тканей, нарушенных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972C-5184-4E7C-BB40-339369BFC3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Диагностически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Радикаль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стью устраняют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аллиатив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егчают общее состояние больного кратк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Экстрен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роч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отложены на время уточнения диагноза и подготовку больного к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ланов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F406-38F2-4117-9D6A-54D406EF84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й хирур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реконструк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малоинваз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EE4E-38A2-44AF-BE97-CD4E361F19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рические с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вей (1578-1657 гг.) - открыл законы кровообращения, определил роль сердца как нас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67 г. французский ученый Жан Дени впервые произвел переливание крови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ек - век крупных открытий в хирур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топографическая анатомия и оперативная хирур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армии Наполео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рей за одни сутки произвел 200 ампут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212-CF2E-467C-BBC4-EA5F805A0B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воение технологии обезболи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Уоррен в 1846 г. удалил опухоль шеи под эфирным нарко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тисептика – метод борьбы с инфекц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у-асеп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овоте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5B43-3431-4519-9DF4-66855814EC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усская хирур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E55C-6D53-4C76-B2C8-1CBD9EF0B0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423-AB7D-41F0-8827-9F147D45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A6B-485B-419B-AC70-5F9026C1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DB5-7D05-47E1-A470-1BCAE0CA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FB3-EEC5-49D6-B2A8-BC2E6C5D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A6F-9201-43EC-BFB2-905F33BE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E4A-05A8-4BE6-8C56-C8EE9546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F9A-F7FC-4CFE-A647-FE39A1D5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E5A-989C-4E4C-80E3-578EA97B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B26-75A5-4567-8303-60A35D70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FDD-55CB-4DF8-82D1-37669DD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18E-28D2-437A-832B-AC88A882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164-5FDF-4CE0-BC3C-5829790E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9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3C81-9BA0-40B5-9FD4-4B126E731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5320" y="4568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рург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медиц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ющая заболевания, которые лечатся при помощи оперативного (хирургического) метод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СОШ №19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ппар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айл:Surgeon operating, Fitzsimons Army Medical Center, circa 1990.JPEG"/>
          <p:cNvPicPr/>
          <p:nvPr/>
        </p:nvPicPr>
        <p:blipFill>
          <a:blip r:embed="rId1"/>
          <a:stretch/>
        </p:blipFill>
        <p:spPr>
          <a:xfrm>
            <a:off x="304920" y="533520"/>
            <a:ext cx="382896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хирургического лечен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больного к опер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зболивание (наркоз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рургическое вмешатель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опер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ый доступ (разрез кожи или слизистой оболочк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ивное лечение орга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целостности тканей, нарушенных во время оп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иагностически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дикаль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ностью устраняют патологически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аллиатив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легчают общее состояние больного кратк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Экстрен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роч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гут быть отложены на время уточнения диагноза и подготовку больного к оп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ланов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обенности современной хирург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реконструкт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малоинваз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рические с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вей (1578-1657 гг.) - открыл законы кровообращения, определил роль сердца как нас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67 г. французский ученый Жан Дени впервые произвел переливание крови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 - век крупных открытий в хиру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а развитие топографическая анатомия и оперативная хирург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ург армии Наполе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рей за одни сутки произвел 200 ампут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технологии обезбо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рург Уоррен в 1846 г. удалил опухоль шеи под эфирным наркоз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ептика – метод борьбы с инфе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у-асепти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сская хиру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6T13:35:0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