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21.png" ContentType="image/png"/>
  <Override PartName="/ppt/media/image4.png" ContentType="image/png"/>
  <Override PartName="/ppt/media/image1.jpeg" ContentType="image/jpeg"/>
  <Override PartName="/ppt/media/image22.png" ContentType="image/png"/>
  <Override PartName="/ppt/media/image17.gif" ContentType="image/gif"/>
  <Override PartName="/ppt/media/image16.jpeg" ContentType="image/jpeg"/>
  <Override PartName="/ppt/media/image14.gif" ContentType="image/gif"/>
  <Override PartName="/ppt/media/image2.jpeg" ContentType="image/jpeg"/>
  <Override PartName="/ppt/media/image25.wmf" ContentType="image/x-wmf"/>
  <Override PartName="/ppt/media/image23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19A2-7761-4431-A993-2CBB8D1D9E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крови и лимфы в организме. Органы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7B18-7AFA-411A-8FB2-73160FBAAA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Газообмен в капилля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0000"/>
                </a:solidFill>
                <a:latin typeface="Calibri"/>
              </a:rPr>
              <a:t>Капилляры 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образуют обширную сеть сосудов, пронизывающих все части тела. Диаметр капилляров составляет 7-10 мкм, а их стенки, состоящие из одного лишь эндотелия, проницаемы для воды и растворенных в ней веществ. Именно в капиллярах происходит  обмен   веществ  между  кровью и клетками тела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EDD8-AEEA-4844-810B-9CE830626C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Круги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E2D7-9E68-497E-9B4C-4F6AD8F563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1.Кровеносная система человека состоит из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2.Движение крови называется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3.Различаю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круг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4.В организме человека имеются сосуды: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5.Большой круг кровообращения начинается о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заканчивается в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6.Малый круг кровообращения начинается о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заканчивается в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7.В большом кругу кровообращения по артериям тече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а в малом -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8.В малом кругу кровообращения по венам тече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, а в большом –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9.В капиллярах происходи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3294-2DF1-4FD2-8C98-96A9A2B29F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4-8 ,повторить группы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4741-9D54-4BF5-99C4-45D527516D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Закрепить знания о строени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функциях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Показать движение крови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Рассмотреть особенности стро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ов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2107-456C-47DD-A51A-6F11712154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Строение кровенос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осуды, их ви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троение сосу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Строение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Круг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9F9F-3CF6-4841-AB7D-B911C64AFA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орта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и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ы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Капилляр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альная кров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озная кров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4427-5CEF-4E03-BD2F-7FF0BA49D0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орта-са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мая крупная арте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и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сосуды, несущие кровь от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ы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сосуды, несущие кровь к серд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Капилляры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мельчайшие кровеносные сосу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альная кровь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кровь, насыщенная кислор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озная кровь –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кровь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, насыщенная углекислым га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AEF4-C90A-47D4-9380-EDF0A1AA64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троение кровеносных сосу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25EA-C974-404F-8C82-BF4FBBB812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роение сердц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Задание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1. Сколько сердечных каме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2. Как они назыв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3. Одинакова ли толщина стенок обоих половин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4. Почему не одинаков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9F8E-FFAE-4889-8C1F-7C16BEC45E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Движение  крови  внутри серд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9A20-63EC-45CD-91C7-5013DAEDD6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 17 веке Вильям Гарв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578 – 165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открыл круг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E24F-84AA-4B48-A695-4BAA36AD9E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DFD5-2767-43E3-BCA3-2078DE95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9460-7599-4135-8B0D-7EEB6BD0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7979-B67A-49A1-B128-19590D3C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56A6-39A3-4A79-9254-5B297948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A4F25-11AE-4E17-93E0-44FE4C8D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71050-BA56-4288-AE80-6B147BCE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7E7A0-AB92-450D-A5FE-35BFE25C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303A0-75FF-4982-9093-C47FCAB2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CAA54-B395-4C86-A343-96F153DE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6C0BC-A5E7-43EC-93CE-CA2952A5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5F3BD-138E-4DC7-B5A7-9A4994D8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187-970A-46EB-B970-6E17B79E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F784B-90A9-4EB6-8450-999B1ADD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F10C1-DFCE-4AC0-B3E0-77630932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32AD8-264C-4712-BB71-29B67280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AE571-B230-42A3-8DF2-328B406B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6E9CA-BDBD-470E-AFB5-8E7D08BA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FD06B-3625-435B-ACD2-D6CEA217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DCF16-B0D7-444E-A1D9-247A8BD8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E1CFC-DD14-4378-B1F5-CE6BC485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75069-90D8-415C-BF20-19A98BCE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C2379-6032-49B4-B121-636E6C5C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B390-B375-4AE9-8B84-E0F78FFC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37ABB-DEBF-47E5-89EB-9AB14806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CB427-C556-4D69-AF0A-94A0E870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A9C47-2A63-437F-AEDE-2CF9584A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ABD5A-DF25-4666-AF9A-93D368B1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07E31-AF0D-4C70-BF9E-34DFE085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7F3CC-ED29-4792-82BD-FBBFE018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22A20-A16F-420A-A8C2-2DD5798A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EB48F7-5A36-4CF7-A42F-3D654B5A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76F545-4C74-4499-B7B6-508A9EE2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2FAF86-096F-4EBA-84C6-CDC884B8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770-DF48-445E-B052-59560FA8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F02BD8-F416-42C4-8464-8C9DCC3F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EEA4C6-B127-4A5F-BD42-FA06FA12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F416BB-594C-43A7-8BA1-647FEF5F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B56320-460F-4A4B-BB29-FC2DE9DE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020B0E-74F4-4E3C-8A81-D6317E02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79DAD5-233F-4CBA-A3F5-A2331643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DC7F24-A6F7-4172-9D10-D7510FC3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FDD827-A62A-437D-A8B5-0F1CFA71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48E1CF-56F2-48ED-A0ED-2E4559E3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20A6-E447-4EE1-A184-82E3BCDD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7AF1-90B9-4215-AFC5-D2E497D0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3687-CE3D-4041-BEC6-7DD17271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1E1F-C841-4E5D-8204-F84D400D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51F7-9B4D-4A76-8E16-14853600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543C-B93A-4125-BC58-7F6F576991F8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1100-268B-49D0-96EF-8DB2F879A15C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51DA-815F-4228-A18D-C16EB475297E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7FF4-5FD7-488C-ABA2-E64F6D472FF9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3" descr="clip_image003.jpg"/>
          <p:cNvPicPr/>
          <p:nvPr/>
        </p:nvPicPr>
        <p:blipFill>
          <a:blip r:embed="rId1"/>
          <a:stretch/>
        </p:blipFill>
        <p:spPr>
          <a:xfrm>
            <a:off x="6286680" y="1285920"/>
            <a:ext cx="1982520" cy="4441680"/>
          </a:xfrm>
          <a:prstGeom prst="rect">
            <a:avLst/>
          </a:prstGeom>
          <a:ln w="0">
            <a:noFill/>
          </a:ln>
        </p:spPr>
      </p:pic>
      <p:sp>
        <p:nvSpPr>
          <p:cNvPr id="178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3"/>
          <p:cNvSpPr/>
          <p:nvPr/>
        </p:nvSpPr>
        <p:spPr>
          <a:xfrm flipV="1" rot="10800000">
            <a:off x="1332000" y="315720"/>
            <a:ext cx="4248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вижение крови и лимфы в организме. Органы кровообраще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7" descr="clip_image005.jpg"/>
          <p:cNvPicPr/>
          <p:nvPr/>
        </p:nvPicPr>
        <p:blipFill>
          <a:blip r:embed="rId1"/>
          <a:stretch/>
        </p:blipFill>
        <p:spPr>
          <a:xfrm>
            <a:off x="642960" y="2143080"/>
            <a:ext cx="3929040" cy="36432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571680" y="107172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Малый круг кровообра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7286760" y="428760"/>
            <a:ext cx="14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3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Рисунок 5" descr="clip_image006.jpg"/>
          <p:cNvPicPr/>
          <p:nvPr/>
        </p:nvPicPr>
        <p:blipFill>
          <a:blip r:embed="rId2"/>
          <a:stretch/>
        </p:blipFill>
        <p:spPr>
          <a:xfrm>
            <a:off x="4786200" y="2143080"/>
            <a:ext cx="3786480" cy="36432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"/>
          <p:cNvSpPr/>
          <p:nvPr/>
        </p:nvSpPr>
        <p:spPr>
          <a:xfrm>
            <a:off x="4714920" y="107172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Большой круг кровообра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" descr="C:\Documents and Settings\777\Мои документы\Мои рисунки\кровь и кровообращение\krov1.jpg"/>
          <p:cNvPicPr/>
          <p:nvPr/>
        </p:nvPicPr>
        <p:blipFill>
          <a:blip r:embed="rId1"/>
          <a:stretch/>
        </p:blipFill>
        <p:spPr>
          <a:xfrm>
            <a:off x="4572000" y="1071720"/>
            <a:ext cx="4000680" cy="22860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7215120" y="500040"/>
            <a:ext cx="14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4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428760" y="42876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Газообмен в капилляр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11" descr="C:\Documents and Settings\777\Мои документы\Мои рисунки\кровь и кровообращение\r10.jpg"/>
          <p:cNvPicPr/>
          <p:nvPr/>
        </p:nvPicPr>
        <p:blipFill>
          <a:blip r:embed="rId2"/>
          <a:stretch/>
        </p:blipFill>
        <p:spPr>
          <a:xfrm>
            <a:off x="500040" y="1500120"/>
            <a:ext cx="3571920" cy="471492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"/>
          <p:cNvSpPr/>
          <p:nvPr/>
        </p:nvSpPr>
        <p:spPr>
          <a:xfrm>
            <a:off x="4143240" y="3357720"/>
            <a:ext cx="4643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Капилляры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образуют обширную сеть сосудов, пронизывающих все части тела. Диаметр капилляров составляет 7-10 мкм, а их стенки, состоящие из одного лишь эндотелия, проницаемы для воды и растворенных в ней веществ. Именно в капиллярах происходит  обмен   веществ  между  кровью и клетками тела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4286160" y="4143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4438800" y="42958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71680" y="1428840"/>
          <a:ext cx="8072280" cy="4643280"/>
        </p:xfrm>
        <a:graphic>
          <a:graphicData uri="http://schemas.openxmlformats.org/drawingml/2006/table">
            <a:tbl>
              <a:tblPr/>
              <a:tblGrid>
                <a:gridCol w="2868480"/>
                <a:gridCol w="2592360"/>
                <a:gridCol w="2611440"/>
              </a:tblGrid>
              <a:tr h="473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опро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К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К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0240">
                <a:tc>
                  <a:txBody>
                    <a:bodyPr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де начинается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де заканчивается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 называются сосуды, относящиеся к этому кругу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 изменяется кровь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TextBox 4"/>
          <p:cNvSpPr/>
          <p:nvPr/>
        </p:nvSpPr>
        <p:spPr>
          <a:xfrm>
            <a:off x="857160" y="64296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руги кровообра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7072200" y="4287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5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2"/>
          <p:cNvSpPr/>
          <p:nvPr/>
        </p:nvSpPr>
        <p:spPr>
          <a:xfrm>
            <a:off x="642960" y="928800"/>
            <a:ext cx="7858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1.Кровеносная система человека состоит из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2.Движение крови называется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3.Различаю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руги кровообращ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4.В организме человека имеются сосуды: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5.Большой круг кровообращения начинается о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 заканчивается в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6.Малый круг кровообращения начинается о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 заканчивается в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7.В большом кругу кровообращения по артериям тече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а в малом -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8.В малом кругу кровообращения по венам тече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, а в большом –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9.В капиллярах происходи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_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7215120" y="50004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 слай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1357200" y="981000"/>
            <a:ext cx="38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684360" y="1916280"/>
            <a:ext cx="7858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.4-8 ,повторить группы кров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7149240" y="64296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7" descr="J0309904"/>
          <p:cNvPicPr/>
          <p:nvPr/>
        </p:nvPicPr>
        <p:blipFill>
          <a:blip r:embed="rId1"/>
          <a:stretch/>
        </p:blipFill>
        <p:spPr>
          <a:xfrm>
            <a:off x="6143760" y="4643280"/>
            <a:ext cx="1643040" cy="1285920"/>
          </a:xfrm>
          <a:prstGeom prst="rect">
            <a:avLst/>
          </a:prstGeom>
          <a:ln w="0">
            <a:noFill/>
          </a:ln>
        </p:spPr>
      </p:pic>
      <p:sp>
        <p:nvSpPr>
          <p:cNvPr id="257" name="Нижний колонтитул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2"/>
          <p:cNvSpPr/>
          <p:nvPr/>
        </p:nvSpPr>
        <p:spPr>
          <a:xfrm>
            <a:off x="571680" y="1500120"/>
            <a:ext cx="53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Группа 15"/>
          <p:cNvGrpSpPr/>
          <p:nvPr/>
        </p:nvGrpSpPr>
        <p:grpSpPr>
          <a:xfrm>
            <a:off x="4143240" y="4214880"/>
            <a:ext cx="4214880" cy="2286000"/>
            <a:chOff x="4143240" y="4214880"/>
            <a:chExt cx="4214880" cy="2286000"/>
          </a:xfrm>
        </p:grpSpPr>
        <p:pic>
          <p:nvPicPr>
            <p:cNvPr id="182" name="Picture 7" descr="C:\Documents and Settings\777\Мои документы\Мои рисунки\кровь и кровообращение\кров сист крокодила.jpg"/>
            <p:cNvPicPr/>
            <p:nvPr/>
          </p:nvPicPr>
          <p:blipFill>
            <a:blip r:embed="rId1"/>
            <a:stretch/>
          </p:blipFill>
          <p:spPr>
            <a:xfrm>
              <a:off x="6572160" y="4786200"/>
              <a:ext cx="178596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8" descr=""/>
            <p:cNvPicPr/>
            <p:nvPr/>
          </p:nvPicPr>
          <p:blipFill>
            <a:blip r:embed="rId2"/>
            <a:stretch/>
          </p:blipFill>
          <p:spPr>
            <a:xfrm>
              <a:off x="4143240" y="4214880"/>
              <a:ext cx="2428920" cy="228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4" name="Рисунок 4" descr="кров сист рыб.jpg"/>
          <p:cNvPicPr/>
          <p:nvPr/>
        </p:nvPicPr>
        <p:blipFill>
          <a:blip r:embed="rId3"/>
          <a:stretch/>
        </p:blipFill>
        <p:spPr>
          <a:xfrm>
            <a:off x="6786720" y="3435480"/>
            <a:ext cx="1839600" cy="9936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3" descr="кров сист птиц.jpg"/>
          <p:cNvPicPr/>
          <p:nvPr/>
        </p:nvPicPr>
        <p:blipFill>
          <a:blip r:embed="rId4"/>
          <a:stretch/>
        </p:blipFill>
        <p:spPr>
          <a:xfrm>
            <a:off x="357120" y="4643280"/>
            <a:ext cx="1581120" cy="147636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" descr="кров системя лягухи.jpg"/>
          <p:cNvPicPr/>
          <p:nvPr/>
        </p:nvPicPr>
        <p:blipFill>
          <a:blip r:embed="rId5"/>
          <a:stretch/>
        </p:blipFill>
        <p:spPr>
          <a:xfrm>
            <a:off x="2143080" y="4500720"/>
            <a:ext cx="1714680" cy="16430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2" descr="кров сист кошки.jpg"/>
          <p:cNvPicPr/>
          <p:nvPr/>
        </p:nvPicPr>
        <p:blipFill>
          <a:blip r:embed="rId6"/>
          <a:stretch/>
        </p:blipFill>
        <p:spPr>
          <a:xfrm>
            <a:off x="5500800" y="1500120"/>
            <a:ext cx="3108240" cy="1714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Закрепить знания о строении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функциях кров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Показать движение крови 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лимф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Рассмотреть особенности строени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рганов кровообращен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Заголовок 18" descr=""/>
          <p:cNvPicPr/>
          <p:nvPr/>
        </p:nvPicPr>
        <p:blipFill>
          <a:blip r:embed="rId7"/>
          <a:stretch/>
        </p:blipFill>
        <p:spPr>
          <a:xfrm>
            <a:off x="457200" y="133200"/>
            <a:ext cx="8229600" cy="1135080"/>
          </a:xfrm>
          <a:prstGeom prst="rect">
            <a:avLst/>
          </a:prstGeom>
          <a:ln w="0">
            <a:noFill/>
          </a:ln>
        </p:spPr>
      </p:pic>
      <p:sp>
        <p:nvSpPr>
          <p:cNvPr id="190" name="Нижний колонтитул 1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1.Строение кровеносной системы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2.Сосуды, их виды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3.Строение сосудов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4.Строение сердца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5.Круги кровообращения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  <p:sp>
        <p:nvSpPr>
          <p:cNvPr id="193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500040" y="785880"/>
            <a:ext cx="40006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орта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и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ы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Капилляры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альная кровь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озная кровь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4" descr="INKPEN"/>
          <p:cNvPicPr/>
          <p:nvPr/>
        </p:nvPicPr>
        <p:blipFill>
          <a:blip r:embed="rId1"/>
          <a:stretch/>
        </p:blipFill>
        <p:spPr>
          <a:xfrm>
            <a:off x="7715160" y="5357880"/>
            <a:ext cx="928800" cy="9619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3"/>
          <p:cNvSpPr/>
          <p:nvPr/>
        </p:nvSpPr>
        <p:spPr>
          <a:xfrm>
            <a:off x="7286760" y="500040"/>
            <a:ext cx="115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3" descr="ser-3"/>
          <p:cNvPicPr/>
          <p:nvPr/>
        </p:nvPicPr>
        <p:blipFill>
          <a:blip r:embed="rId2"/>
          <a:stretch/>
        </p:blipFill>
        <p:spPr>
          <a:xfrm>
            <a:off x="3857760" y="4643280"/>
            <a:ext cx="1639800" cy="1683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a_n_03_01_serce"/>
          <p:cNvPicPr/>
          <p:nvPr/>
        </p:nvPicPr>
        <p:blipFill>
          <a:blip r:embed="rId3"/>
          <a:stretch/>
        </p:blipFill>
        <p:spPr>
          <a:xfrm>
            <a:off x="5286240" y="1643040"/>
            <a:ext cx="1519200" cy="21844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8"/>
          <p:cNvSpPr/>
          <p:nvPr/>
        </p:nvSpPr>
        <p:spPr>
          <a:xfrm>
            <a:off x="7358040" y="1785960"/>
            <a:ext cx="85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а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5"/>
          <p:cNvSpPr/>
          <p:nvPr/>
        </p:nvSpPr>
        <p:spPr>
          <a:xfrm flipH="1" flipV="1">
            <a:off x="4929120" y="4857840"/>
            <a:ext cx="1000080" cy="46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 flipH="1">
            <a:off x="4714920" y="4714920"/>
            <a:ext cx="1071360" cy="46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 flipV="1">
            <a:off x="3429000" y="5143320"/>
            <a:ext cx="1928880" cy="2142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3429000" y="5572080"/>
            <a:ext cx="571680" cy="142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 flipV="1">
            <a:off x="3429000" y="4857480"/>
            <a:ext cx="795240" cy="2142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2571840" y="514368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е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15"/>
          <p:cNvSpPr/>
          <p:nvPr/>
        </p:nvSpPr>
        <p:spPr>
          <a:xfrm>
            <a:off x="6000840" y="46432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арте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 flipH="1">
            <a:off x="6286680" y="2000160"/>
            <a:ext cx="1000080" cy="142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Нижний колонтитул 1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642960" y="928800"/>
            <a:ext cx="60721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орта-са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мая крупная артер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и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сосуды, несущие кровь от серд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ы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сосуды, несущие кровь к сердц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Капилляры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мельчайшие кровеносные сосу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альная кровь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кровь, насыщенная кислоро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озная кровь –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кровь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, насыщенная углекислым газ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7286760" y="5716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AG_student"/>
          <p:cNvPicPr/>
          <p:nvPr/>
        </p:nvPicPr>
        <p:blipFill>
          <a:blip r:embed="rId1"/>
          <a:stretch/>
        </p:blipFill>
        <p:spPr>
          <a:xfrm>
            <a:off x="6929280" y="4071960"/>
            <a:ext cx="1357560" cy="2000160"/>
          </a:xfrm>
          <a:prstGeom prst="rect">
            <a:avLst/>
          </a:prstGeom>
          <a:ln w="0">
            <a:noFill/>
          </a:ln>
        </p:spPr>
      </p:pic>
      <p:sp>
        <p:nvSpPr>
          <p:cNvPr id="212" name="Нижний колонтитул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777\Мои документы\Мои рисунки\кровь и кровообращение\10020801.gif"/>
          <p:cNvPicPr/>
          <p:nvPr/>
        </p:nvPicPr>
        <p:blipFill>
          <a:blip r:embed="rId1"/>
          <a:stretch/>
        </p:blipFill>
        <p:spPr>
          <a:xfrm>
            <a:off x="571680" y="1714680"/>
            <a:ext cx="8001000" cy="40716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500040" y="78588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троение кровеносных сосуд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7500960" y="4287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Нижний колонтитул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3"/>
          <p:cNvSpPr/>
          <p:nvPr/>
        </p:nvSpPr>
        <p:spPr>
          <a:xfrm>
            <a:off x="714240" y="500040"/>
            <a:ext cx="55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роение сердца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C:\Documents and Settings\777\Мои документы\Мои рисунки\кровь и кровообращение\009.jpg"/>
          <p:cNvPicPr/>
          <p:nvPr/>
        </p:nvPicPr>
        <p:blipFill>
          <a:blip r:embed="rId1"/>
          <a:stretch/>
        </p:blipFill>
        <p:spPr>
          <a:xfrm>
            <a:off x="4572000" y="1571760"/>
            <a:ext cx="4048200" cy="30002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5"/>
          <p:cNvSpPr/>
          <p:nvPr/>
        </p:nvSpPr>
        <p:spPr>
          <a:xfrm>
            <a:off x="428760" y="1285920"/>
            <a:ext cx="400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Задание №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1. Сколько сердечных каме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2. Как они называют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3. Одинакова ли толщина стенок обоих половин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4. Почему не одинаков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" descr="AG00317_"/>
          <p:cNvPicPr/>
          <p:nvPr/>
        </p:nvPicPr>
        <p:blipFill>
          <a:blip r:embed="rId2"/>
          <a:stretch/>
        </p:blipFill>
        <p:spPr>
          <a:xfrm>
            <a:off x="928800" y="4071960"/>
            <a:ext cx="1785960" cy="22147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6"/>
          <p:cNvSpPr/>
          <p:nvPr/>
        </p:nvSpPr>
        <p:spPr>
          <a:xfrm>
            <a:off x="7429680" y="57168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Documents and Settings\777\Мои документы\Мои рисунки\кровь и кровообращение\5.png"/>
          <p:cNvPicPr/>
          <p:nvPr/>
        </p:nvPicPr>
        <p:blipFill>
          <a:blip r:embed="rId1"/>
          <a:stretch/>
        </p:blipFill>
        <p:spPr>
          <a:xfrm>
            <a:off x="1500120" y="1357200"/>
            <a:ext cx="6143760" cy="49294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571680" y="42876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Движение  крови  внутри сердц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7291440" y="428760"/>
            <a:ext cx="11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Нижний колонтитул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 flipV="1" rot="10800000">
            <a:off x="856800" y="5028840"/>
            <a:ext cx="76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 17 веке Вильям Гарвей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1578 – 165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ткрыл круги кровообращ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Рисунок 4" descr="krov.jpg"/>
          <p:cNvPicPr/>
          <p:nvPr/>
        </p:nvPicPr>
        <p:blipFill>
          <a:blip r:embed="rId1"/>
          <a:stretch/>
        </p:blipFill>
        <p:spPr>
          <a:xfrm>
            <a:off x="642960" y="1214280"/>
            <a:ext cx="3357720" cy="3571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сканирование0062"/>
          <p:cNvPicPr/>
          <p:nvPr/>
        </p:nvPicPr>
        <p:blipFill>
          <a:blip r:embed="rId2"/>
          <a:stretch/>
        </p:blipFill>
        <p:spPr>
          <a:xfrm>
            <a:off x="4857840" y="1214280"/>
            <a:ext cx="3286080" cy="35719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5"/>
          <p:cNvSpPr/>
          <p:nvPr/>
        </p:nvSpPr>
        <p:spPr>
          <a:xfrm>
            <a:off x="7072200" y="500040"/>
            <a:ext cx="13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2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Нижний колонтитул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09:49:07Z</dcterms:created>
  <dc:creator>Слюсарь Т.Д.</dc:creator>
  <dc:description/>
  <dc:language>en-US</dc:language>
  <cp:lastModifiedBy>LEGION</cp:lastModifiedBy>
  <dcterms:modified xsi:type="dcterms:W3CDTF">2014-11-25T09:20:45Z</dcterms:modified>
  <cp:revision>141</cp:revision>
  <dc:subject>Класс птицы</dc:subject>
  <dc:title>Экологические группы птиц по способу питания</dc:title>
</cp:coreProperties>
</file>