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gif" ContentType="image/gif"/>
  <Override PartName="/ppt/media/image2.jpeg" ContentType="image/jpeg"/>
  <Override PartName="/ppt/media/image25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4315-1E52-41E2-A0F1-853F02A11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крови и лимфы в организме. Органы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4294-416A-41AD-9296-D8384DFD85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Газообмен в капил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Капилляры 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BB27-4EB6-4770-9796-BB186019D5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92CB-81C9-4B08-A6D7-3C9C708D71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Кровеносная система человека состоит из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Движение кров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Различ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В организме человека имеются сосуды: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Большо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Малы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В большом кругу кровообращения по артерия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а в малом -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8.В малом кругу кровообращения по вена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, а в большом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9.В капиллярах происходи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0372-9B9C-45D7-AD62-A6237700AA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4-8 ,повторить группы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EB20-83AE-45DF-9700-3863F5ADE9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Закрепить знания о строен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функциях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казать движение кро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смотреть особенности стр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B6A5-B68E-40B8-BC06-3F624DCF20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троение кровенос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уды, их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оение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роение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F4BD-55FB-4195-A0FE-FBDE698163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93DC-6B98-403B-9E56-D14CFD250B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-са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ая крупная арте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от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к серд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ельчайшие кровеносные сосу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кровь, насыщенная кислор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кровь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, насыщенная углекислым г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E573-77F3-47B7-B6B7-B7CC4C53D3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роение кровеносных со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D6AE-758E-4BA8-A72B-CAF56CF877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ние сердц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Задание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1. Сколько сердечных каме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Как они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Одинакова ли толщина стенок обоих полови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Почему не одинако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55D4-87F0-41FA-A7E4-77F34B4929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вижение  крови  внутри серд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E26C-C79E-46BD-8FFD-48BD3EDD63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7 веке Вильям Гарв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78 – 16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ткрыл 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C622-355E-4CDA-91D1-68EEACF5C2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1D6-9234-406A-B382-662093A6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C1E-BEE9-4E92-B2AC-01DDC3A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045-3950-444B-ADB8-65811003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154-8FE4-4CCF-85EA-0E2E6105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FC2EA-E455-49DE-BBAE-1383CAE2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D531D-3347-4A6D-91CE-F292855A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04EF0-8A6D-4460-8F85-0A460FA8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EDB52-CFFE-4EF4-AF0A-258D126D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D3E00-3640-472F-B597-F0DB2173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DFB06-664C-436D-A5DB-5B7E642D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27518-3F28-4A59-9206-F977636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42E-A030-4A2B-90CC-664BF16D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DA210-3047-447E-BDB6-B85B49A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A6D78-A868-4E11-9E44-E3212F46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55DD4-C6BE-457D-BB66-EA4CC302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E58BA-459B-4D76-885E-68452D29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44510-E2C7-401C-A686-DC1D966A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A8F9-5CED-4EB5-9335-3E527494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76959-6609-446F-B718-9BEBB66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3E7B4-B954-4F88-9F11-CD24BC0A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8509-A0F3-432D-ADFC-5A659A35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88B2-47FA-4295-B33D-408461A0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E9F-7331-4F93-B41C-66B4EFCE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8DD2-CAC1-4935-9986-EB1844F8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9A3A-80C0-4618-9CB2-9ED1B1CB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962D-6B53-4EDA-8F3B-BCE91DB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00F64-1F0F-4FC7-BAD4-74665CFD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B2DB-0F0C-45AF-85C8-69BA3C74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68E5-0036-4569-85A3-7FAB246C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B8DE8-0226-42EE-85A3-16C5C454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FF65B-4F4A-45F4-933D-F9EFA009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6EB6B-EC24-4412-BC2B-CBD10986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BF4A3-1F12-4D11-9735-3E8BD293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D65-73EB-4B8A-9255-DE03BFFE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65C64-EAA6-497D-A95F-4D8F1CE4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952EE-CFDD-4B0E-86B1-06A5C725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10CE4-8348-4F8C-B896-78CF74D3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F00EB0-FEEE-47C7-93C2-47632EF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2BF31-3B3C-4E81-BC9D-9A347DF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809FF-2027-4BA3-A71F-277D0E27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6C41D-660E-467D-8725-F842B72B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CB096-F5D2-459B-8ADF-6A1FB58C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8A073-B506-4B90-9ADB-CBCC976C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80A-7783-4D71-A81E-B5497F97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4AE-24D1-473B-BDF8-1A844615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4B2-373F-46DB-89FE-F58C5B3F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E43-52A4-4323-BF2C-4523931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862-EC0C-4475-B315-9B674262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DC4F-18D0-420C-AE0A-3DB38E9F7F4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C937-4101-4273-B225-FB3878A537E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AE6A-6E11-48E8-A4D3-FF3AB1F06EE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40A-3371-47E9-B49C-C66F747F51B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clip_image003.jpg"/>
          <p:cNvPicPr/>
          <p:nvPr/>
        </p:nvPicPr>
        <p:blipFill>
          <a:blip r:embed="rId1"/>
          <a:stretch/>
        </p:blipFill>
        <p:spPr>
          <a:xfrm>
            <a:off x="6286680" y="1285920"/>
            <a:ext cx="1982520" cy="44416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 flipV="1" rot="10800000">
            <a:off x="1332000" y="315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ижение крови и лимфы в организме. Органы кровообращ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clip_image005.jpg"/>
          <p:cNvPicPr/>
          <p:nvPr/>
        </p:nvPicPr>
        <p:blipFill>
          <a:blip r:embed="rId1"/>
          <a:stretch/>
        </p:blipFill>
        <p:spPr>
          <a:xfrm>
            <a:off x="642960" y="214308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71680" y="1071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алы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286760" y="42876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5" descr="clip_image006.jpg"/>
          <p:cNvPicPr/>
          <p:nvPr/>
        </p:nvPicPr>
        <p:blipFill>
          <a:blip r:embed="rId2"/>
          <a:stretch/>
        </p:blipFill>
        <p:spPr>
          <a:xfrm>
            <a:off x="4786200" y="2143080"/>
            <a:ext cx="3786480" cy="3643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4714920" y="10717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ольшо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C:\Documents and Settings\777\Мои документы\Мои рисунки\кровь и кровообращение\krov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0006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7215120" y="50004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2876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азообмен в капилля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C:\Documents and Settings\777\Мои документы\Мои рисунки\кровь и кровообращение\r10.jpg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4143240" y="335772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апилляры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6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438800" y="429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1428840"/>
          <a:ext cx="8072280" cy="4643280"/>
        </p:xfrm>
        <a:graphic>
          <a:graphicData uri="http://schemas.openxmlformats.org/drawingml/2006/table">
            <a:tbl>
              <a:tblPr/>
              <a:tblGrid>
                <a:gridCol w="2868480"/>
                <a:gridCol w="2592360"/>
                <a:gridCol w="2611440"/>
              </a:tblGrid>
              <a:tr h="473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0240"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начин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заканчив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называются сосуды, относящиеся к этому круг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изменяется кров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857160" y="6429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уги кровообра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072200" y="42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2"/>
          <p:cNvSpPr/>
          <p:nvPr/>
        </p:nvSpPr>
        <p:spPr>
          <a:xfrm>
            <a:off x="642960" y="928800"/>
            <a:ext cx="7858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Кровеносная система человека состоит из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Движение крови называется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Различ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руги крово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4.В организме человека имеются сосуд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5.Большо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6.Малы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 большом кругу кровообращения по артерия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а в малом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8.В малом кругу кровообращения по вена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, а в большом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9.В капиллярах происходи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215120" y="5000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 слай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357200" y="981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684360" y="191628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4-8 ,повторить группы кр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7149240" y="6429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J0309904"/>
          <p:cNvPicPr/>
          <p:nvPr/>
        </p:nvPicPr>
        <p:blipFill>
          <a:blip r:embed="rId1"/>
          <a:stretch/>
        </p:blipFill>
        <p:spPr>
          <a:xfrm>
            <a:off x="6143760" y="46432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71680" y="150012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Группа 15"/>
          <p:cNvGrpSpPr/>
          <p:nvPr/>
        </p:nvGrpSpPr>
        <p:grpSpPr>
          <a:xfrm>
            <a:off x="4143240" y="4214880"/>
            <a:ext cx="4214880" cy="2286000"/>
            <a:chOff x="4143240" y="4214880"/>
            <a:chExt cx="4214880" cy="2286000"/>
          </a:xfrm>
        </p:grpSpPr>
        <p:pic>
          <p:nvPicPr>
            <p:cNvPr id="182" name="Picture 7" descr="C:\Documents and Settings\777\Мои документы\Мои рисунки\кровь и кровообращение\кров сист крокодила.jpg"/>
            <p:cNvPicPr/>
            <p:nvPr/>
          </p:nvPicPr>
          <p:blipFill>
            <a:blip r:embed="rId1"/>
            <a:stretch/>
          </p:blipFill>
          <p:spPr>
            <a:xfrm>
              <a:off x="6572160" y="4786200"/>
              <a:ext cx="17859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2"/>
            <a:stretch/>
          </p:blipFill>
          <p:spPr>
            <a:xfrm>
              <a:off x="4143240" y="4214880"/>
              <a:ext cx="242892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Рисунок 4" descr="кров сист рыб.jpg"/>
          <p:cNvPicPr/>
          <p:nvPr/>
        </p:nvPicPr>
        <p:blipFill>
          <a:blip r:embed="rId3"/>
          <a:stretch/>
        </p:blipFill>
        <p:spPr>
          <a:xfrm>
            <a:off x="6786720" y="3435480"/>
            <a:ext cx="1839600" cy="993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кров сист птиц.jpg"/>
          <p:cNvPicPr/>
          <p:nvPr/>
        </p:nvPicPr>
        <p:blipFill>
          <a:blip r:embed="rId4"/>
          <a:stretch/>
        </p:blipFill>
        <p:spPr>
          <a:xfrm>
            <a:off x="357120" y="4643280"/>
            <a:ext cx="1581120" cy="1476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кров системя лягухи.jpg"/>
          <p:cNvPicPr/>
          <p:nvPr/>
        </p:nvPicPr>
        <p:blipFill>
          <a:blip r:embed="rId5"/>
          <a:stretch/>
        </p:blipFill>
        <p:spPr>
          <a:xfrm>
            <a:off x="2143080" y="450072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" descr="кров сист кошки.jpg"/>
          <p:cNvPicPr/>
          <p:nvPr/>
        </p:nvPicPr>
        <p:blipFill>
          <a:blip r:embed="rId6"/>
          <a:stretch/>
        </p:blipFill>
        <p:spPr>
          <a:xfrm>
            <a:off x="5500800" y="1500120"/>
            <a:ext cx="310824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Закрепить знания о строени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функциях кров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Показать движение крови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мф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Рассмотреть особенности строе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ов кровообращ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8" descr=""/>
          <p:cNvPicPr/>
          <p:nvPr/>
        </p:nvPicPr>
        <p:blipFill>
          <a:blip r:embed="rId7"/>
          <a:stretch/>
        </p:blipFill>
        <p:spPr>
          <a:xfrm>
            <a:off x="457200" y="13320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1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троение кровеносной систем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Сосуды, их вид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3.Строение сосуд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4.Строение сердц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5.Круги кровообращени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500040" y="785880"/>
            <a:ext cx="400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INKPEN"/>
          <p:cNvPicPr/>
          <p:nvPr/>
        </p:nvPicPr>
        <p:blipFill>
          <a:blip r:embed="rId1"/>
          <a:stretch/>
        </p:blipFill>
        <p:spPr>
          <a:xfrm>
            <a:off x="7715160" y="5357880"/>
            <a:ext cx="92880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7286760" y="50004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ser-3"/>
          <p:cNvPicPr/>
          <p:nvPr/>
        </p:nvPicPr>
        <p:blipFill>
          <a:blip r:embed="rId2"/>
          <a:stretch/>
        </p:blipFill>
        <p:spPr>
          <a:xfrm>
            <a:off x="3857760" y="4643280"/>
            <a:ext cx="1639800" cy="168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a_n_03_01_serce"/>
          <p:cNvPicPr/>
          <p:nvPr/>
        </p:nvPicPr>
        <p:blipFill>
          <a:blip r:embed="rId3"/>
          <a:stretch/>
        </p:blipFill>
        <p:spPr>
          <a:xfrm>
            <a:off x="5286240" y="1643040"/>
            <a:ext cx="1519200" cy="218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7358040" y="178596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H="1" flipV="1">
            <a:off x="4929120" y="4857840"/>
            <a:ext cx="100008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4714920" y="4714920"/>
            <a:ext cx="107136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3429000" y="5143320"/>
            <a:ext cx="192888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5572080"/>
            <a:ext cx="5716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3429000" y="4857480"/>
            <a:ext cx="79524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571840" y="51436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6000840" y="46432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е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6286680" y="2000160"/>
            <a:ext cx="10000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1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42960" y="928800"/>
            <a:ext cx="6072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-са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ая крупная артер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от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к серд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ельчайшие кровеносные сосу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кровь, насыщенная кислор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ровь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, насыщенная углекислым газ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286760" y="571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AG_student"/>
          <p:cNvPicPr/>
          <p:nvPr/>
        </p:nvPicPr>
        <p:blipFill>
          <a:blip r:embed="rId1"/>
          <a:stretch/>
        </p:blipFill>
        <p:spPr>
          <a:xfrm>
            <a:off x="6929280" y="4071960"/>
            <a:ext cx="1357560" cy="20001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777\Мои документы\Мои рисунки\кровь и кровообращение\100208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071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500040" y="785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оение кровеносных сосу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500960" y="428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714240" y="50004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ение сердца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Documents and Settings\777\Мои документы\Мои рисунки\кровь и кровообращение\009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48200" cy="3000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8760" y="12859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. Сколько сердечных ка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Как они назыв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 Одинакова ли толщина стенок обоих полови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Почему не одинако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AG00317_"/>
          <p:cNvPicPr/>
          <p:nvPr/>
        </p:nvPicPr>
        <p:blipFill>
          <a:blip r:embed="rId2"/>
          <a:stretch/>
        </p:blipFill>
        <p:spPr>
          <a:xfrm>
            <a:off x="928800" y="4071960"/>
            <a:ext cx="178596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7429680" y="5716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777\Мои документы\Мои рисунки\кровь и кровообращение\5.png"/>
          <p:cNvPicPr/>
          <p:nvPr/>
        </p:nvPicPr>
        <p:blipFill>
          <a:blip r:embed="rId1"/>
          <a:stretch/>
        </p:blipFill>
        <p:spPr>
          <a:xfrm>
            <a:off x="1500120" y="1357200"/>
            <a:ext cx="6143760" cy="4929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71680" y="4287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вижение  крови  внутри серд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291440" y="42876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 flipV="1" rot="10800000">
            <a:off x="856800" y="5028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17 веке Вильям Гарв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578 – 165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л круги кровооб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4" descr="krov.jpg"/>
          <p:cNvPicPr/>
          <p:nvPr/>
        </p:nvPicPr>
        <p:blipFill>
          <a:blip r:embed="rId1"/>
          <a:stretch/>
        </p:blipFill>
        <p:spPr>
          <a:xfrm>
            <a:off x="642960" y="121428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канирование0062"/>
          <p:cNvPicPr/>
          <p:nvPr/>
        </p:nvPicPr>
        <p:blipFill>
          <a:blip r:embed="rId2"/>
          <a:stretch/>
        </p:blipFill>
        <p:spPr>
          <a:xfrm>
            <a:off x="4857840" y="1214280"/>
            <a:ext cx="3286080" cy="3571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072200" y="5000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9:49:07Z</dcterms:created>
  <dc:creator>Слюсарь Т.Д.</dc:creator>
  <dc:description/>
  <dc:language>en-US</dc:language>
  <cp:lastModifiedBy>LEGION</cp:lastModifiedBy>
  <dcterms:modified xsi:type="dcterms:W3CDTF">2014-11-25T09:20:45Z</dcterms:modified>
  <cp:revision>141</cp:revision>
  <dc:subject>Класс птицы</dc:subject>
  <dc:title>Экологические группы птиц по способу питания</dc:title>
</cp:coreProperties>
</file>