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A1B4-2B2D-4EC6-ABA5-5142691C89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НТИ-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0D43-028F-4A6C-A55E-7225476653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75EA-1A36-4EEB-962F-A9EED91642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0632-D333-4CE9-A69A-B25DF0FC60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52B9-C872-4E32-8DE6-1871A7646A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21BB-17F7-473B-BD11-ACF0C5C738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A3CC-A922-4D00-84D2-572D1FDE72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4F65-B1CD-4B83-8720-2AB516A28C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D7E5-92FE-47A1-BB8D-149CAE9FB9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B8E8-7EFF-4D2F-8398-56A12C0104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BD61-B7E5-43E0-8829-4F8AAB8692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6086-8D90-4F48-95D4-23156BA7FE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ED02-1D55-4079-BC3F-80E910281D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это страшное слово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7EB1-EDD0-4C07-AF9F-736A2486F0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563F-5A4F-4D42-ADF1-C68DAADDD2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4D8F-11B9-478C-8FC4-4E191E24DE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BCB-3EB1-4DE4-9954-A76667FF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FC3-42E0-4D4E-9A23-D5AADBB5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149-C188-4A49-8953-42691058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B9D-0C93-435E-B474-EBE8407B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5C0-C26F-4F6E-BFDC-1CA96E1A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032-6A70-4BDF-9B98-85EFEAA7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FB0-0E66-4195-8567-51FC8B51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0A5-FBFD-48F3-86A1-8444E791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1C3-91B1-4055-821F-6788B391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6A0-85BE-4AD6-BE1A-FE52221A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F2C-9CFE-40F6-AA66-3074B0BF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03D-D15C-4D0A-9342-E2C17B10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F21B-25C8-4DE7-8A97-ACC91932DC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DB5A-0CF6-46E3-8D78-E258C6448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Ennio Morricone - Tema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1700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-СПИД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i?id=490102031-47-72&amp;n=21"/>
          <p:cNvPicPr/>
          <p:nvPr/>
        </p:nvPicPr>
        <p:blipFill>
          <a:blip r:embed="rId1"/>
          <a:srcRect l="14270" t="0" r="0" b="0"/>
          <a:stretch/>
        </p:blipFill>
        <p:spPr>
          <a:xfrm>
            <a:off x="324000" y="3141720"/>
            <a:ext cx="3024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460823812-47-72&amp;n=21"/>
          <p:cNvPicPr/>
          <p:nvPr/>
        </p:nvPicPr>
        <p:blipFill>
          <a:blip r:embed="rId2"/>
          <a:srcRect l="12528" t="0" r="14248" b="0"/>
          <a:stretch/>
        </p:blipFill>
        <p:spPr>
          <a:xfrm>
            <a:off x="5580000" y="29973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i?id=252091763-22-72&amp;n=21"/>
          <p:cNvPicPr/>
          <p:nvPr/>
        </p:nvPicPr>
        <p:blipFill>
          <a:blip r:embed="rId1"/>
          <a:srcRect l="21371" t="-15420" r="25635" b="0"/>
          <a:stretch/>
        </p:blipFill>
        <p:spPr>
          <a:xfrm>
            <a:off x="403200" y="2349360"/>
            <a:ext cx="2728800" cy="39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351585194-39-72&amp;n=21"/>
          <p:cNvPicPr/>
          <p:nvPr/>
        </p:nvPicPr>
        <p:blipFill>
          <a:blip r:embed="rId2"/>
          <a:srcRect l="5167" t="0" r="20689" b="0"/>
          <a:stretch/>
        </p:blipFill>
        <p:spPr>
          <a:xfrm>
            <a:off x="5651640" y="2575080"/>
            <a:ext cx="3097080" cy="3706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i?id=340326530-26-72&amp;n=21"/>
          <p:cNvPicPr/>
          <p:nvPr/>
        </p:nvPicPr>
        <p:blipFill>
          <a:blip r:embed="rId1"/>
          <a:srcRect l="7710" t="0" r="0" b="14941"/>
          <a:stretch/>
        </p:blipFill>
        <p:spPr>
          <a:xfrm>
            <a:off x="0" y="2924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?id=547279778-69-72&amp;n=21"/>
          <p:cNvPicPr/>
          <p:nvPr/>
        </p:nvPicPr>
        <p:blipFill>
          <a:blip r:embed="rId2"/>
          <a:stretch/>
        </p:blipFill>
        <p:spPr>
          <a:xfrm>
            <a:off x="5292720" y="281772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mor154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85320" y="62373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М. Арыкина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ибирячихин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Тиуновы\Desktop\dn62-drd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23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937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Тиуновы\Desktop\0_44710_43149529_XL.jpg"/>
          <p:cNvPicPr/>
          <p:nvPr/>
        </p:nvPicPr>
        <p:blipFill>
          <a:blip r:embed="rId1"/>
          <a:stretch/>
        </p:blipFill>
        <p:spPr>
          <a:xfrm>
            <a:off x="0" y="1700280"/>
            <a:ext cx="91677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8073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Тиуновы\Desktop\x_5c8caa82.jpg"/>
          <p:cNvPicPr/>
          <p:nvPr/>
        </p:nvPicPr>
        <p:blipFill>
          <a:blip r:embed="rId1"/>
          <a:stretch/>
        </p:blipFill>
        <p:spPr>
          <a:xfrm>
            <a:off x="2124000" y="76212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Тиуновы\Desktop\ce1947af74684bcdc78922ff9422ba55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"/>
          <p:cNvPicPr/>
          <p:nvPr/>
        </p:nvPicPr>
        <p:blipFill>
          <a:blip r:embed="rId1"/>
          <a:stretch/>
        </p:blipFill>
        <p:spPr>
          <a:xfrm>
            <a:off x="0" y="404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826920" y="765000"/>
            <a:ext cx="74901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страшное слов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411280" y="3716280"/>
            <a:ext cx="48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5:40:07Z</dcterms:created>
  <dc:creator>Тиуновы</dc:creator>
  <dc:description/>
  <dc:language>en-US</dc:language>
  <cp:lastModifiedBy>LEGION</cp:lastModifiedBy>
  <dcterms:modified xsi:type="dcterms:W3CDTF">2014-11-25T09:22:31Z</dcterms:modified>
  <cp:revision>24</cp:revision>
  <dc:subject/>
  <dc:title>Слайд 1</dc:title>
</cp:coreProperties>
</file>