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5226-881A-468F-9396-FCFECF33FB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АНТИ-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21F8-D4C0-43AB-AA09-5BD843185E6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5B3A-8B83-4D0E-BD7D-88CA68FF38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D034-873A-4D26-922A-2FF0A7D8A6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1D4C-6C93-4D91-8952-E23E3F70873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6914-E29C-4F23-A854-834C46BAF1B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9D031-5BA9-49E8-B7AA-FA95E999FE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AB6A-5F3D-4959-A827-DB50A50142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3AA8-97DC-4467-B07D-856BBC6D22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AD89-A104-4CA1-9A1B-F79183F0612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A4E79-15D3-4CE8-8082-613E096255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DB4E0-77AC-4F5E-9EF7-D51D2BC87B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102E3-F0FC-4126-A6ED-DCFE83E139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это страшное слово</a:t>
            </a:r>
            <a:r>
              <a:rPr b="0" lang="en-US" sz="12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СП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88FA9-7E8A-4D57-92CD-86D6A96951E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CE7C-FB10-461A-BB84-591869473E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6DEB-DA3C-4518-AF67-2D2DD448A0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8015-9CE3-44E5-B2B8-66145A9A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7D99-4B76-4D39-BB58-31C126B3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FCD9-5680-4B21-8F21-BD78958FD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9F6A-D64A-4133-816D-F8373A77C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F8F-9CB8-4715-A0C3-95259A45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4AC8-9D80-43D2-BCC0-8F759959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8B7C-C786-4C09-883B-5CFCEF1B8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232B-FCE3-4890-9CBA-D9B2B3091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6B49-C143-424A-9F3F-8E8AFEA8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C56-F880-4B89-9187-EF0D5457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E770-6CB5-4BE6-923C-5880AC0B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45C-C980-424F-B4B8-3A7008D9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8AEB1-65C9-419C-8280-238C1A32D4C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7629-E2B8-4445-BFB0-5C82ACE98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Ennio Morricone - Tema.wav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6"/>
          <p:cNvSpPr txBox="1"/>
          <p:nvPr/>
        </p:nvSpPr>
        <p:spPr>
          <a:xfrm>
            <a:off x="684360" y="1700280"/>
            <a:ext cx="8064360" cy="33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АНТИ-СПИД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ертик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Через плаценту (во время беременнос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о время род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и кормлении грудью (грудным молоком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олово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защищённый половой контакт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еобычные факты о 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юну, её потребуется 3 литр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i?id=490102031-47-72&amp;n=21"/>
          <p:cNvPicPr/>
          <p:nvPr/>
        </p:nvPicPr>
        <p:blipFill>
          <a:blip r:embed="rId1"/>
          <a:srcRect l="14270" t="0" r="0" b="0"/>
          <a:stretch/>
        </p:blipFill>
        <p:spPr>
          <a:xfrm>
            <a:off x="324000" y="3141720"/>
            <a:ext cx="3024000" cy="259236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i?id=460823812-47-72&amp;n=21"/>
          <p:cNvPicPr/>
          <p:nvPr/>
        </p:nvPicPr>
        <p:blipFill>
          <a:blip r:embed="rId2"/>
          <a:srcRect l="12528" t="0" r="14248" b="0"/>
          <a:stretch/>
        </p:blipFill>
        <p:spPr>
          <a:xfrm>
            <a:off x="5580000" y="2997360"/>
            <a:ext cx="2952720" cy="3024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пот, потребуется целая ванна по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i?id=252091763-22-72&amp;n=21"/>
          <p:cNvPicPr/>
          <p:nvPr/>
        </p:nvPicPr>
        <p:blipFill>
          <a:blip r:embed="rId1"/>
          <a:srcRect l="21371" t="-15420" r="25635" b="0"/>
          <a:stretch/>
        </p:blipFill>
        <p:spPr>
          <a:xfrm>
            <a:off x="403200" y="2349360"/>
            <a:ext cx="2728800" cy="3946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i?id=351585194-39-72&amp;n=21"/>
          <p:cNvPicPr/>
          <p:nvPr/>
        </p:nvPicPr>
        <p:blipFill>
          <a:blip r:embed="rId2"/>
          <a:srcRect l="5167" t="0" r="20689" b="0"/>
          <a:stretch/>
        </p:blipFill>
        <p:spPr>
          <a:xfrm>
            <a:off x="5651640" y="2575080"/>
            <a:ext cx="3097080" cy="370656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9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заразиться ВИЧ через слёзы, их потребуется целый бассейн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i?id=340326530-26-72&amp;n=21"/>
          <p:cNvPicPr/>
          <p:nvPr/>
        </p:nvPicPr>
        <p:blipFill>
          <a:blip r:embed="rId1"/>
          <a:srcRect l="7710" t="0" r="0" b="14941"/>
          <a:stretch/>
        </p:blipFill>
        <p:spPr>
          <a:xfrm>
            <a:off x="0" y="2924280"/>
            <a:ext cx="3456000" cy="2665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6"/>
          <p:cNvSpPr/>
          <p:nvPr/>
        </p:nvSpPr>
        <p:spPr>
          <a:xfrm>
            <a:off x="3708360" y="4149720"/>
            <a:ext cx="1623960" cy="792000"/>
          </a:xfrm>
          <a:prstGeom prst="rightArrow">
            <a:avLst>
              <a:gd name="adj1" fmla="val 50000"/>
              <a:gd name="adj2" fmla="val 51261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i?id=547279778-69-72&amp;n=21"/>
          <p:cNvPicPr/>
          <p:nvPr/>
        </p:nvPicPr>
        <p:blipFill>
          <a:blip r:embed="rId2"/>
          <a:stretch/>
        </p:blipFill>
        <p:spPr>
          <a:xfrm>
            <a:off x="5292720" y="281772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амяти о СПИД-умерших, ныне живущих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надежды на исцелени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 поддержки больным СПИД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0" descr="mor1549"/>
          <p:cNvPicPr/>
          <p:nvPr/>
        </p:nvPicPr>
        <p:blipFill>
          <a:blip r:embed="rId1"/>
          <a:stretch/>
        </p:blipFill>
        <p:spPr>
          <a:xfrm>
            <a:off x="395280" y="177336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Красная ленточ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985320" y="6237360"/>
            <a:ext cx="372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М. Арыкина. Учитель би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«Сибирячихинская СОШ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Тиуновы\Desktop\dn62-drd.jpg"/>
          <p:cNvPicPr/>
          <p:nvPr/>
        </p:nvPicPr>
        <p:blipFill>
          <a:blip r:embed="rId1"/>
          <a:stretch/>
        </p:blipFill>
        <p:spPr>
          <a:xfrm>
            <a:off x="-396720" y="-387360"/>
            <a:ext cx="10237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492280"/>
            <a:ext cx="937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Я стал наркоманом 5 лет назад, в последний год моё состояние сильно ухудшилось. Всё время я проводил в подвалах. Родители, узнав, что я наркоман, отправили меня на лечение. В больнице мне сказали, что у меня СПИД.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овно 4 месяца назад я уснул в больнице, но так и не проснулся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..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C:\Users\Тиуновы\Desktop\0_44710_43149529_XL.jpg"/>
          <p:cNvPicPr/>
          <p:nvPr/>
        </p:nvPicPr>
        <p:blipFill>
          <a:blip r:embed="rId1"/>
          <a:stretch/>
        </p:blipFill>
        <p:spPr>
          <a:xfrm>
            <a:off x="0" y="1700280"/>
            <a:ext cx="9167760" cy="5157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000" y="3068280"/>
            <a:ext cx="807372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меня есть старший брат, я всегда гуляла с его компанией. Однажды мы отдыхали на даче, из девушек я была одна. Я слишком много выпила. Помню только, как надо мной издевались. Как оказалось позже, в тот вечер я заразилась СПИДом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чень скоро я умерл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Тиуновы\Desktop\x_5c8caa82.jpg"/>
          <p:cNvPicPr/>
          <p:nvPr/>
        </p:nvPicPr>
        <p:blipFill>
          <a:blip r:embed="rId1"/>
          <a:stretch/>
        </p:blipFill>
        <p:spPr>
          <a:xfrm>
            <a:off x="2124000" y="76212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– бизнесмен, у нас двое детей, красивая жена, которой я никогда не изменял. Однажды по работе я поехал в длинную командировку в курортный город. Там я познакомился с девушкой… Она была больна СПИДом, но об этом я узнал лишь вернувшись домой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ерез 2 года я умер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C:\Users\Тиуновы\Desktop\ce1947af74684bcdc78922ff9422ba55.jpg"/>
          <p:cNvPicPr/>
          <p:nvPr/>
        </p:nvPicPr>
        <p:blipFill>
          <a:blip r:embed="rId1"/>
          <a:stretch/>
        </p:blipFill>
        <p:spPr>
          <a:xfrm>
            <a:off x="0" y="0"/>
            <a:ext cx="102758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ейчас мне было бы 14 лет, я была бы высокой брюнеткой с карими глазами. Каждый день я бы ходила в школу, а вечером на улице с ребятами пела песни под гитару. Но, к сожалению, моя мама заболела СПИДом ещё до того, как я родилась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 умерла вместе с мамой, когда на Планету пришла весн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i"/>
          <p:cNvPicPr/>
          <p:nvPr/>
        </p:nvPicPr>
        <p:blipFill>
          <a:blip r:embed="rId1"/>
          <a:stretch/>
        </p:blipFill>
        <p:spPr>
          <a:xfrm>
            <a:off x="0" y="404640"/>
            <a:ext cx="8856720" cy="5904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3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не было 10 лет, когда мы вместе с семьёй попали в автокатастрофу. Я истекала кровью, времени на проверку не было и мне сделали прямое переливание крови. Оказалось, что кровь  была заражена ВИЧ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50028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826920" y="765000"/>
            <a:ext cx="749016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страшное слово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" name="WordArt 7"/>
          <p:cNvSpPr txBox="1"/>
          <p:nvPr/>
        </p:nvSpPr>
        <p:spPr>
          <a:xfrm>
            <a:off x="2411280" y="3716280"/>
            <a:ext cx="482472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ИД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ути передачи ВИЧ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арентеральный (через кровь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ртикальный (от матери ребёнку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овой (при незащищённом половом контакте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ffff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арентеральный пу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ливание крови и её компонен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ресадка органов и ткан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общих принадлежностей для инъекции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6T15:40:07Z</dcterms:created>
  <dc:creator>Тиуновы</dc:creator>
  <dc:description/>
  <dc:language>en-US</dc:language>
  <cp:lastModifiedBy>LEGION</cp:lastModifiedBy>
  <dcterms:modified xsi:type="dcterms:W3CDTF">2014-11-25T09:22:31Z</dcterms:modified>
  <cp:revision>24</cp:revision>
  <dc:subject/>
  <dc:title>Слайд 1</dc:title>
</cp:coreProperties>
</file>