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B1FB-554D-469E-AB34-40A387B134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АНТИ-СП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1D2D-0519-4F21-A58B-3FE8BD325D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ртикальный пу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ез плаценту (во время беремен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ремя р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кормлении грудью (грудным молок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BD33-395B-44E3-B317-A27746911B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овой пу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щищённый половой конта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EED3-40B4-4FD5-96CA-0B3512498C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ычные факты о 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заразиться ВИЧ через слюну, её потребуется 3 литр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62BD-1738-4A40-BC30-DFBF974BD8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заразиться ВИЧ через пот, потребуется целая ванна п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27BC-71A5-4833-8F03-A1D49001A1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заразиться ВИЧ через слёзы, их потребуется целый бассейн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E977-B7CD-4F4E-8499-0AD17DFA6A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расная ленточ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вол памяти о СПИД-умерших, ныне живущ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вол надежды на исцел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вол поддержки больным СПИ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F7F2-9883-4AEF-B203-3F77C8A630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Я стал наркоманом 5 лет назад, в последний год моё состояние сильно ухудшилось. Всё время я проводил в подвалах. Родители, узнав, что я наркоман, отправили меня на лечение. В больнице мне сказали, что у меня СПИД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овно 4 месяца назад я уснул в больнице, но так и не проснулся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..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DA72-EF70-4540-A54E-203B2BAC3B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меня есть старший брат, я всегда гуляла с его компанией. Однажды мы отдыхали на даче, из девушек я была одна. Я слишком много выпила. Помню только, как надо мной издевались. Как оказалось позже, в тот вечер я заразилась СПИДо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нь скоро я умер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3B6D-346E-4DB0-9EC7-E13C6C38C7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– бизнесмен, у нас двое детей, красивая жена, которой я никогда не изменял. Однажды по работе я поехал в длинную командировку в курортный город. Там я познакомился с девушкой… Она была больна СПИДом, но об этом я узнал лишь вернувшись домо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ез 2 года я ум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DF18-6270-48EE-ABD6-1AAAA225F8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йчас мне было бы 14 лет, я была бы высокой брюнеткой с карими глазами. Каждый день я бы ходила в школу, а вечером на улице с ребятами пела песни под гитару. Но, к сожалению, моя мама заболела СПИДом ещё до того, как я родилас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умерла вместе с мамой, когда на Планету пришла вес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F9FC-CC18-42ED-BF08-42FE1F6511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е было 10 лет, когда мы вместе с семьёй попали в автокатастрофу. Я истекала кровью, времени на проверку не было и мне сделали прямое переливание крови. Оказалось, что кровь  была заражена ВИЧ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B07A-4EC2-4A06-BFBB-F12CEB28B1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это страшное слово</a:t>
            </a: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СП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10F4-CA02-45E3-B274-0BF748C87E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ти передачи ВИЧ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ентеральный (через кров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тикальный (от матери ребён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вой (при незащищённом половом контакт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E3D1-9FCF-4ECD-893C-F0C0783AAA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рентеральный пу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ливание крови и её компон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садка органов и тка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общих принадлежностей для инъек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31A1-19BC-4E7D-ADE7-7ED7157505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28E2-2A78-41C6-8FAD-2C4D64897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05DC-5A27-4494-8ED2-A5B6F3B4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A13D-8B1A-4350-BCE7-E953D2587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0BF3-C64A-489B-8E70-BED234A4F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5060-22ED-4092-8C73-6A3BA5E1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838B-9BDD-436D-A2F9-046E8CB1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FFB7-F85D-42A8-A514-10C449FC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1CA5-23B4-4389-B422-B0437826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E4A4-6D01-480C-B613-C805E2EB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3878-76B5-4C64-ABFD-0A397F47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AFAB-B0BE-4DDC-AA96-A1B7B7A7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C8F7-2D23-4A05-BB12-DE5FEE8E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E2BD-F368-4A2A-BD65-50217E3CAE1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C1FB-AF45-4472-A7D9-87F626688C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Ennio Morricone - Tema.wav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0" name="WordArt 6"/>
          <p:cNvSpPr txBox="1"/>
          <p:nvPr/>
        </p:nvSpPr>
        <p:spPr>
          <a:xfrm>
            <a:off x="684360" y="1700280"/>
            <a:ext cx="806436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НТИ-СПИД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ертикальный пу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рез плаценту (во время беременности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 время род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 кормлении грудью (грудным молоком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оловой пу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защищённый половой контак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обычные факты о 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заразиться ВИЧ через слюну, её потребуется 3 литр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i?id=490102031-47-72&amp;n=21"/>
          <p:cNvPicPr/>
          <p:nvPr/>
        </p:nvPicPr>
        <p:blipFill>
          <a:blip r:embed="rId1"/>
          <a:srcRect l="14270" t="0" r="0" b="0"/>
          <a:stretch/>
        </p:blipFill>
        <p:spPr>
          <a:xfrm>
            <a:off x="324000" y="3141720"/>
            <a:ext cx="3024000" cy="259236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6"/>
          <p:cNvSpPr/>
          <p:nvPr/>
        </p:nvSpPr>
        <p:spPr>
          <a:xfrm>
            <a:off x="3708360" y="4149720"/>
            <a:ext cx="1623960" cy="792000"/>
          </a:xfrm>
          <a:prstGeom prst="rightArrow">
            <a:avLst>
              <a:gd name="adj1" fmla="val 50000"/>
              <a:gd name="adj2" fmla="val 5126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i?id=460823812-47-72&amp;n=21"/>
          <p:cNvPicPr/>
          <p:nvPr/>
        </p:nvPicPr>
        <p:blipFill>
          <a:blip r:embed="rId2"/>
          <a:srcRect l="12528" t="0" r="14248" b="0"/>
          <a:stretch/>
        </p:blipFill>
        <p:spPr>
          <a:xfrm>
            <a:off x="5580000" y="2997360"/>
            <a:ext cx="2952720" cy="302400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заразиться ВИЧ через пот, потребуется целая ванна п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6" descr="i?id=252091763-22-72&amp;n=21"/>
          <p:cNvPicPr/>
          <p:nvPr/>
        </p:nvPicPr>
        <p:blipFill>
          <a:blip r:embed="rId1"/>
          <a:srcRect l="21371" t="-15420" r="25635" b="0"/>
          <a:stretch/>
        </p:blipFill>
        <p:spPr>
          <a:xfrm>
            <a:off x="403200" y="2349360"/>
            <a:ext cx="2728800" cy="3946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i?id=351585194-39-72&amp;n=21"/>
          <p:cNvPicPr/>
          <p:nvPr/>
        </p:nvPicPr>
        <p:blipFill>
          <a:blip r:embed="rId2"/>
          <a:srcRect l="5167" t="0" r="20689" b="0"/>
          <a:stretch/>
        </p:blipFill>
        <p:spPr>
          <a:xfrm>
            <a:off x="5651640" y="2575080"/>
            <a:ext cx="3097080" cy="370656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9"/>
          <p:cNvSpPr/>
          <p:nvPr/>
        </p:nvSpPr>
        <p:spPr>
          <a:xfrm>
            <a:off x="3708360" y="4149720"/>
            <a:ext cx="1623960" cy="792000"/>
          </a:xfrm>
          <a:prstGeom prst="rightArrow">
            <a:avLst>
              <a:gd name="adj1" fmla="val 50000"/>
              <a:gd name="adj2" fmla="val 5126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заразиться ВИЧ через слёзы, их потребуется целый бассейн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5" descr="i?id=340326530-26-72&amp;n=21"/>
          <p:cNvPicPr/>
          <p:nvPr/>
        </p:nvPicPr>
        <p:blipFill>
          <a:blip r:embed="rId1"/>
          <a:srcRect l="7710" t="0" r="0" b="14941"/>
          <a:stretch/>
        </p:blipFill>
        <p:spPr>
          <a:xfrm>
            <a:off x="0" y="2924280"/>
            <a:ext cx="3456000" cy="266544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6"/>
          <p:cNvSpPr/>
          <p:nvPr/>
        </p:nvSpPr>
        <p:spPr>
          <a:xfrm>
            <a:off x="3708360" y="4149720"/>
            <a:ext cx="1623960" cy="792000"/>
          </a:xfrm>
          <a:prstGeom prst="rightArrow">
            <a:avLst>
              <a:gd name="adj1" fmla="val 50000"/>
              <a:gd name="adj2" fmla="val 5126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i?id=547279778-69-72&amp;n=21"/>
          <p:cNvPicPr/>
          <p:nvPr/>
        </p:nvPicPr>
        <p:blipFill>
          <a:blip r:embed="rId2"/>
          <a:stretch/>
        </p:blipFill>
        <p:spPr>
          <a:xfrm>
            <a:off x="5292720" y="2817720"/>
            <a:ext cx="3851280" cy="28893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мвол памяти о СПИД-умерших, ныне живущи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мвол надежды на исцел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мвол поддержки больным СПИД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10" descr="mor1549"/>
          <p:cNvPicPr/>
          <p:nvPr/>
        </p:nvPicPr>
        <p:blipFill>
          <a:blip r:embed="rId1"/>
          <a:stretch/>
        </p:blipFill>
        <p:spPr>
          <a:xfrm>
            <a:off x="395280" y="177336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Красная ленточ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985320" y="6237360"/>
            <a:ext cx="372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.М. Арыкина. Учитель би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Сибирячихинская СОШ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Тиуновы\Desktop\dn62-drd.jpg"/>
          <p:cNvPicPr/>
          <p:nvPr/>
        </p:nvPicPr>
        <p:blipFill>
          <a:blip r:embed="rId1"/>
          <a:stretch/>
        </p:blipFill>
        <p:spPr>
          <a:xfrm>
            <a:off x="-396720" y="-387360"/>
            <a:ext cx="102376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492280"/>
            <a:ext cx="9371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Я стал наркоманом 5 лет назад, в последний год моё состояние сильно ухудшилось. Всё время я проводил в подвалах. Родители, узнав, что я наркоман, отправили меня на лечение. В больнице мне сказали, что у меня СПИД.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Ровно 4 месяца назад я уснул в больнице, но так и не проснулся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..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Тиуновы\Desktop\0_44710_43149529_XL.jpg"/>
          <p:cNvPicPr/>
          <p:nvPr/>
        </p:nvPicPr>
        <p:blipFill>
          <a:blip r:embed="rId1"/>
          <a:stretch/>
        </p:blipFill>
        <p:spPr>
          <a:xfrm>
            <a:off x="0" y="1700280"/>
            <a:ext cx="9167760" cy="51577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3068280"/>
            <a:ext cx="8073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 меня есть старший брат, я всегда гуляла с его компанией. Однажды мы отдыхали на даче, из девушек я была одна. Я слишком много выпила. Помню только, как надо мной издевались. Как оказалось позже, в тот вечер я заразилась СПИДом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чень скоро я умерл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Users\Тиуновы\Desktop\x_5c8caa82.jpg"/>
          <p:cNvPicPr/>
          <p:nvPr/>
        </p:nvPicPr>
        <p:blipFill>
          <a:blip r:embed="rId1"/>
          <a:stretch/>
        </p:blipFill>
        <p:spPr>
          <a:xfrm>
            <a:off x="2124000" y="762120"/>
            <a:ext cx="4064040" cy="60958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 – бизнесмен, у нас двое детей, красивая жена, которой я никогда не изменял. Однажды по работе я поехал в длинную командировку в курортный город. Там я познакомился с девушкой… Она была больна СПИДом, но об этом я узнал лишь вернувшись домой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ерез 2 года я уме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C:\Users\Тиуновы\Desktop\ce1947af74684bcdc78922ff9422ba55.jpg"/>
          <p:cNvPicPr/>
          <p:nvPr/>
        </p:nvPicPr>
        <p:blipFill>
          <a:blip r:embed="rId1"/>
          <a:stretch/>
        </p:blipFill>
        <p:spPr>
          <a:xfrm>
            <a:off x="0" y="0"/>
            <a:ext cx="1027584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йчас мне было бы 14 лет, я была бы высокой брюнеткой с карими глазами. Каждый день я бы ходила в школу, а вечером на улице с ребятами пела песни под гитару. Но, к сожалению, моя мама заболела СПИДом ещё до того, как я родилась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 умерла вместе с мамой, когда на Планету пришла весн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i"/>
          <p:cNvPicPr/>
          <p:nvPr/>
        </p:nvPicPr>
        <p:blipFill>
          <a:blip r:embed="rId1"/>
          <a:stretch/>
        </p:blipFill>
        <p:spPr>
          <a:xfrm>
            <a:off x="0" y="404640"/>
            <a:ext cx="8856720" cy="5904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не было 10 лет, когда мы вместе с семьёй попали в автокатастрофу. Я истекала кровью, времени на проверку не было и мне сделали прямое переливание крови. Оказалось, что кровь  была заражена ВИЧ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500280"/>
            <a:ext cx="822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WordArt 6"/>
          <p:cNvSpPr txBox="1"/>
          <p:nvPr/>
        </p:nvSpPr>
        <p:spPr>
          <a:xfrm>
            <a:off x="826920" y="765000"/>
            <a:ext cx="749016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то страшное слово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WordArt 7"/>
          <p:cNvSpPr txBox="1"/>
          <p:nvPr/>
        </p:nvSpPr>
        <p:spPr>
          <a:xfrm>
            <a:off x="2411280" y="3716280"/>
            <a:ext cx="482472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ИД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ути передачи ВИЧ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арентеральный (через кровь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ертикальный (от матери ребёнку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ловой (при незащищённом половом контакте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арентеральный пу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реливание крови и её компонен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ресадка органов и ткан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пользование общих принадлежностей для инъекци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15:40:07Z</dcterms:created>
  <dc:creator>Тиуновы</dc:creator>
  <dc:description/>
  <dc:language>en-US</dc:language>
  <cp:lastModifiedBy>LEGION</cp:lastModifiedBy>
  <dcterms:modified xsi:type="dcterms:W3CDTF">2014-11-25T09:22:31Z</dcterms:modified>
  <cp:revision>24</cp:revision>
  <dc:subject/>
  <dc:title>Слайд 1</dc:title>
</cp:coreProperties>
</file>