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3816-F7AA-4C3E-80E6-454252CDE2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НТИ-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97BB-B58B-4F80-BF46-0FC510BC4B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014F-6B49-42F8-A1DA-BD7996D545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E531-A92C-4BE9-A5A9-89E2632EB1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4542-60F0-4679-91E8-76C2C1F67B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E913-D264-4281-9829-9677619331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D7DB-E217-4DB6-A6E5-9948032CF4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028D-7634-4970-B7FB-7D438687EF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5EAB-1CE9-4411-97E6-0E4717C724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8655-22C9-4604-9DD8-20A1A95D78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5BF2-FFA6-4A62-916E-B2487194B3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B141-13C8-4DC2-BCEC-06B2FF6214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AC8B-5D9D-494D-8686-5846C47DCE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это страшное слово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C3BB-2F4D-4500-A975-1146C00FDF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F6B0-2025-4FEB-884A-A25122BA29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77AE-21E9-4DF8-829A-DF6C67C0D9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D34-2D50-4F48-8C87-A8DA4A5A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E6D-D269-4000-9F4B-ADCEF3B7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886-7795-4D42-BE0B-E2AC9C8E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C6A-CAA7-4F16-94A3-EF29069C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AC6-5823-4192-9B75-1D53D970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638-DA20-4767-B523-6A93474C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F0D-78C0-42AD-BF93-B03DBE89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B4B-F81E-45D3-BEE7-CF5340EF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7A5-F3A0-4BD5-A7DE-AB7184D3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CF8-86CB-4FE4-85D2-FA3D34FA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723-3322-4D19-A4DC-44BE93EB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671-F158-4BED-910A-59DC42BF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7EBA-0602-4974-B3BC-0C0A286CC54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0BD3-D716-4B8C-9062-65B29B323D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Ennio Morricone - Tema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684360" y="1700280"/>
            <a:ext cx="8064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-СПИД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i?id=490102031-47-72&amp;n=21"/>
          <p:cNvPicPr/>
          <p:nvPr/>
        </p:nvPicPr>
        <p:blipFill>
          <a:blip r:embed="rId1"/>
          <a:srcRect l="14270" t="0" r="0" b="0"/>
          <a:stretch/>
        </p:blipFill>
        <p:spPr>
          <a:xfrm>
            <a:off x="324000" y="3141720"/>
            <a:ext cx="302400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460823812-47-72&amp;n=21"/>
          <p:cNvPicPr/>
          <p:nvPr/>
        </p:nvPicPr>
        <p:blipFill>
          <a:blip r:embed="rId2"/>
          <a:srcRect l="12528" t="0" r="14248" b="0"/>
          <a:stretch/>
        </p:blipFill>
        <p:spPr>
          <a:xfrm>
            <a:off x="5580000" y="2997360"/>
            <a:ext cx="2952720" cy="3024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i?id=252091763-22-72&amp;n=21"/>
          <p:cNvPicPr/>
          <p:nvPr/>
        </p:nvPicPr>
        <p:blipFill>
          <a:blip r:embed="rId1"/>
          <a:srcRect l="21371" t="-15420" r="25635" b="0"/>
          <a:stretch/>
        </p:blipFill>
        <p:spPr>
          <a:xfrm>
            <a:off x="403200" y="2349360"/>
            <a:ext cx="2728800" cy="39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?id=351585194-39-72&amp;n=21"/>
          <p:cNvPicPr/>
          <p:nvPr/>
        </p:nvPicPr>
        <p:blipFill>
          <a:blip r:embed="rId2"/>
          <a:srcRect l="5167" t="0" r="20689" b="0"/>
          <a:stretch/>
        </p:blipFill>
        <p:spPr>
          <a:xfrm>
            <a:off x="5651640" y="2575080"/>
            <a:ext cx="3097080" cy="3706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i?id=340326530-26-72&amp;n=21"/>
          <p:cNvPicPr/>
          <p:nvPr/>
        </p:nvPicPr>
        <p:blipFill>
          <a:blip r:embed="rId1"/>
          <a:srcRect l="7710" t="0" r="0" b="14941"/>
          <a:stretch/>
        </p:blipFill>
        <p:spPr>
          <a:xfrm>
            <a:off x="0" y="2924280"/>
            <a:ext cx="3456000" cy="2665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?id=547279778-69-72&amp;n=21"/>
          <p:cNvPicPr/>
          <p:nvPr/>
        </p:nvPicPr>
        <p:blipFill>
          <a:blip r:embed="rId2"/>
          <a:stretch/>
        </p:blipFill>
        <p:spPr>
          <a:xfrm>
            <a:off x="5292720" y="281772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mor154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85320" y="623736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М. Арыкина.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ибирячихинская СО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Тиуновы\Desktop\dn62-drd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23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937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Тиуновы\Desktop\0_44710_43149529_XL.jpg"/>
          <p:cNvPicPr/>
          <p:nvPr/>
        </p:nvPicPr>
        <p:blipFill>
          <a:blip r:embed="rId1"/>
          <a:stretch/>
        </p:blipFill>
        <p:spPr>
          <a:xfrm>
            <a:off x="0" y="1700280"/>
            <a:ext cx="9167760" cy="51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8073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Тиуновы\Desktop\x_5c8caa82.jpg"/>
          <p:cNvPicPr/>
          <p:nvPr/>
        </p:nvPicPr>
        <p:blipFill>
          <a:blip r:embed="rId1"/>
          <a:stretch/>
        </p:blipFill>
        <p:spPr>
          <a:xfrm>
            <a:off x="2124000" y="76212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Users\Тиуновы\Desktop\ce1947af74684bcdc78922ff9422ba55.jpg"/>
          <p:cNvPicPr/>
          <p:nvPr/>
        </p:nvPicPr>
        <p:blipFill>
          <a:blip r:embed="rId1"/>
          <a:stretch/>
        </p:blipFill>
        <p:spPr>
          <a:xfrm>
            <a:off x="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"/>
          <p:cNvPicPr/>
          <p:nvPr/>
        </p:nvPicPr>
        <p:blipFill>
          <a:blip r:embed="rId1"/>
          <a:stretch/>
        </p:blipFill>
        <p:spPr>
          <a:xfrm>
            <a:off x="0" y="404640"/>
            <a:ext cx="8856720" cy="5904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826920" y="765000"/>
            <a:ext cx="74901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страшное слов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411280" y="3716280"/>
            <a:ext cx="48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Д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5:40:07Z</dcterms:created>
  <dc:creator>Тиуновы</dc:creator>
  <dc:description/>
  <dc:language>en-US</dc:language>
  <cp:lastModifiedBy>LEGION</cp:lastModifiedBy>
  <dcterms:modified xsi:type="dcterms:W3CDTF">2014-11-25T09:22:31Z</dcterms:modified>
  <cp:revision>24</cp:revision>
  <dc:subject/>
  <dc:title>Слайд 1</dc:title>
</cp:coreProperties>
</file>