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0144451739986868"/>
          <c:y val="0.179888775394393"/>
          <c:w val="0.903939592908733"/>
          <c:h val="0.752468505277494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часто вы пьете минеральную воду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часто</c:v>
                </c:pt>
                <c:pt idx="1">
                  <c:v>иногда</c:v>
                </c:pt>
                <c:pt idx="2">
                  <c:v>редк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6</c:v>
                </c:pt>
                <c:pt idx="1">
                  <c:v>59</c:v>
                </c:pt>
                <c:pt idx="2">
                  <c:v>15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39561550774194"/>
          <c:y val="0.593958625809253"/>
          <c:w val="0.12124527315895"/>
          <c:h val="0.255070143721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Вы пьете минеральную воду с газом и без газа?</a:t>
            </a:r>
          </a:p>
        </c:rich>
      </c:tx>
      <c:layout>
        <c:manualLayout>
          <c:xMode val="edge"/>
          <c:yMode val="edge"/>
          <c:x val="0.127024362765808"/>
          <c:y val="0.0230409738071949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84481059005774"/>
          <c:y val="0.118356700358657"/>
          <c:w val="0.742430643571328"/>
          <c:h val="0.823062710574938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Вы пьете минеральную воду с газом и без газа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с газом</c:v>
                </c:pt>
                <c:pt idx="1">
                  <c:v>без газа</c:v>
                </c:pt>
                <c:pt idx="2">
                  <c:v>с газом и без газ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9</c:v>
                </c:pt>
                <c:pt idx="1">
                  <c:v>38</c:v>
                </c:pt>
                <c:pt idx="2">
                  <c:v>33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5230913310103"/>
          <c:y val="0.715469416441652"/>
          <c:w val="0.272412415834861"/>
          <c:h val="0.24398013747264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Читаете ли вы этикетку, чтобы узнать из чего состоит вода, которую вы хотите выпить?</a:t>
            </a:r>
          </a:p>
        </c:rich>
      </c:tx>
      <c:layout>
        <c:manualLayout>
          <c:xMode val="edge"/>
          <c:yMode val="edge"/>
          <c:x val="0.109366455745645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"/>
          <c:y val="0.242162274763046"/>
          <c:w val="0.715959690649168"/>
          <c:h val="0.75773356941985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Читаете ли вы этикетку, чтобы узнать из чего состоит вода, которую вы хотите выпить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иногда читают, иногда 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5</c:v>
                </c:pt>
                <c:pt idx="1">
                  <c:v>47</c:v>
                </c:pt>
                <c:pt idx="2">
                  <c:v>38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135957115876"/>
          <c:y val="0.40280867137694"/>
          <c:w val="0.251792335573825"/>
          <c:h val="0.5586055051854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ой вид минеральной воды вы употребляете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24231730627849"/>
          <c:y val="0.176920722375268"/>
          <c:w val="0.661961476253492"/>
          <c:h val="0.77471686562595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ой вид минеральной воды вы употребляете?</c:v>
                </c:pt>
              </c:strCache>
            </c:strRef>
          </c:tx>
          <c:spPr>
            <a:gradFill>
              <a:gsLst>
                <a:gs pos="0">
                  <a:srgbClr val="00445f"/>
                </a:gs>
                <a:gs pos="100000">
                  <a:srgbClr val="006e99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solidFill>
                <a:srgbClr val="7030a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solidFill>
                  <a:srgbClr val="0f6fc6"/>
                </a:solidFill>
              </a:ln>
            </c:spPr>
          </c:dPt>
          <c:dPt>
            <c:idx val="3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лечебная</c:v>
                </c:pt>
                <c:pt idx="1">
                  <c:v>лечебно-столовая</c:v>
                </c:pt>
                <c:pt idx="2">
                  <c:v>столовая</c:v>
                </c:pt>
                <c:pt idx="3">
                  <c:v>не придают значению вида минеральной вод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</c:v>
                </c:pt>
                <c:pt idx="1">
                  <c:v>24</c:v>
                </c:pt>
                <c:pt idx="2">
                  <c:v>20</c:v>
                </c:pt>
                <c:pt idx="3">
                  <c:v>49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659001736735135"/>
          <c:y val="0.384324927615754"/>
          <c:w val="0.332724697255862"/>
          <c:h val="0.60847632575972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вы думаете влияет ли на здоровье употребление минеральной воды?</a:t>
            </a:r>
          </a:p>
        </c:rich>
      </c:tx>
      <c:layout>
        <c:manualLayout>
          <c:xMode val="edge"/>
          <c:yMode val="edge"/>
          <c:x val="0.177075786117954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94174757281553"/>
          <c:y val="0.201227133280309"/>
          <c:w val="0.85973047384437"/>
          <c:h val="0.79059197818429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вы думаете влият ли на здоровье употребление минеральной воды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не знаю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3</c:v>
                </c:pt>
                <c:pt idx="1">
                  <c:v>13</c:v>
                </c:pt>
                <c:pt idx="2">
                  <c:v>24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22426313362442"/>
          <c:y val="0.728804122774237"/>
          <c:w val="0.155829527312795"/>
          <c:h val="0.23381429841128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Статистика популярности минеральных вод среди опрошенных учителей и учеников МГПГЛ № 1505.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атистика популярности минеральных вод среди опрошенных учителей и учеников МГПГЛ № 1505.</c:v>
                </c:pt>
              </c:strCache>
            </c:strRef>
          </c:tx>
          <c:spPr>
            <a:gradFill>
              <a:gsLst>
                <a:gs pos="0">
                  <a:srgbClr val="00305c"/>
                </a:gs>
                <a:gs pos="100000">
                  <a:srgbClr val="004f95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Аква Минерале</c:v>
                </c:pt>
                <c:pt idx="1">
                  <c:v>Bon Aqua</c:v>
                </c:pt>
                <c:pt idx="2">
                  <c:v>Родники России</c:v>
                </c:pt>
                <c:pt idx="3">
                  <c:v>Святой Источник</c:v>
                </c:pt>
                <c:pt idx="4">
                  <c:v>Есентуки</c:v>
                </c:pt>
                <c:pt idx="5">
                  <c:v>Архыз</c:v>
                </c:pt>
                <c:pt idx="6">
                  <c:v>Боржоми</c:v>
                </c:pt>
                <c:pt idx="7">
                  <c:v>Нарзан</c:v>
                </c:pt>
                <c:pt idx="8">
                  <c:v>Новотерская</c:v>
                </c:pt>
                <c:pt idx="9">
                  <c:v>Люпецкий бювет</c:v>
                </c:pt>
                <c:pt idx="10">
                  <c:v>Рычал-Су</c:v>
                </c:pt>
                <c:pt idx="11">
                  <c:v>Липецкая</c:v>
                </c:pt>
                <c:pt idx="12">
                  <c:v>Эдельвей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3"/>
                <c:pt idx="0">
                  <c:v>72</c:v>
                </c:pt>
                <c:pt idx="1">
                  <c:v>70</c:v>
                </c:pt>
                <c:pt idx="2">
                  <c:v>48</c:v>
                </c:pt>
                <c:pt idx="3">
                  <c:v>48</c:v>
                </c:pt>
                <c:pt idx="4">
                  <c:v>42</c:v>
                </c:pt>
                <c:pt idx="5">
                  <c:v>42</c:v>
                </c:pt>
                <c:pt idx="6">
                  <c:v>33</c:v>
                </c:pt>
                <c:pt idx="7">
                  <c:v>28</c:v>
                </c:pt>
                <c:pt idx="8">
                  <c:v>18</c:v>
                </c:pt>
                <c:pt idx="9">
                  <c:v>17</c:v>
                </c:pt>
                <c:pt idx="10">
                  <c:v>13</c:v>
                </c:pt>
                <c:pt idx="11">
                  <c:v>12</c:v>
                </c:pt>
                <c:pt idx="12">
                  <c:v>12</c:v>
                </c:pt>
              </c:numCache>
            </c:numRef>
          </c:val>
        </c:ser>
        <c:gapWidth val="150"/>
        <c:overlap val="0"/>
        <c:axId val="99303606"/>
        <c:axId val="23827240"/>
      </c:barChart>
      <c:catAx>
        <c:axId val="9930360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3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23827240"/>
        <c:crosses val="autoZero"/>
        <c:auto val="1"/>
        <c:lblAlgn val="ctr"/>
        <c:lblOffset val="100"/>
        <c:noMultiLvlLbl val="0"/>
      </c:catAx>
      <c:valAx>
        <c:axId val="23827240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99303606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666580731295763"/>
          <c:y val="0.556710610585753"/>
          <c:w val="0.310287104851598"/>
          <c:h val="0.2365398942601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9BA107-94C4-4916-86AC-5E56D56C1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еральная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ля потребителей минеральной вод</a:t>
            </a: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DE5102-92F6-4367-A721-878205DE67E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6% - часто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59% -  иногда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редко пьют минеральную в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B65C27-B3C1-48F2-9317-206ABA930B1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29% - пьют минеральную воду с га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8% - пьют минеральную воду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3% - пьют минеральную воду с газом и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B10697-1C04-4F60-8349-0AEEB364FC9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е ли вы этикетку, чтобы узнать из чего состоит вода, которую вы хотите вып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38% - иногда читают, иногда не читают этикетку минеральной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чтобы узнать её 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7% - употребляют лечебн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4% - употребляют лечебно-столовую минеральн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0% - употребляют столов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9% - н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придают значению вида минеральной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255930-AF28-4825-95F6-D3A9130E879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2947CC-9B93-4DF3-B3B4-E13FA72E6D3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, Эдельвейс. На этикетках этих вод можно определить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х вид и свойства, а значит правильно сориентироваться в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бор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9094D9-F185-4F50-80BB-D09141F9059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в сравнительную характеристику популярности марок минеральных во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7C7E59-4480-4E25-B13E-DC6CD74EECF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1200"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лияют минеральные воды на организм челове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6C44BD-26B3-4EC9-B3A2-56CB39AB342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идрокарбон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ульф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Хлорид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агниевые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могают при стрессовых ситуациях. Противопоказания склонность к расстройству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Железист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E41655-93DE-4475-9E17-17B04939212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99360" indent="0" algn="ctr">
              <a:lnSpc>
                <a:spcPct val="100000"/>
              </a:lnSpc>
              <a:buNone/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каждый из видов минеральной воды воздействует на организм?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лабоминерализова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–2 г/л) относят и к столовым, и лечебно–стол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о-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алой минерализации (2–5 г/л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редней минерализации (5–15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сокой 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ссольные (35–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репко–рассольные (свыше 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7AF0C8-44E7-4583-B3B0-FEC217E8939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62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каждый из компонентов минеральных вод влияет на организм чело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из компонентов минеральной воды воздействует на организм по-сво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льций (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ладает противовоспалительным действием, обезвоживает ткани, укрепляет к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гний (Мg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рий (N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дрокарбонат (НСО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льфат (SO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 (С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лияет на выделительную функцию поч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0AD3AD-3F25-4386-84EC-B45763A68CF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инеральная в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инеральные в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A968FF-3A30-494A-8F8D-1FA4A0709F2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употреблять минеральную воду, если у вас есть заболевание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43D466-E4D7-477D-ADFE-CA93DA3E380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7712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ждение минеральных вод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DCDE55-DC3B-4061-8A6C-78D2096A0F3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468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сторождения минеральных вод.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Кавказская, Забайкальская, Приморская, Камчатская и другие провин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унтовые минеральные воды (Марциальные воды, Увильдинское, Кисегачское, Боровое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64B553-BA24-44A7-9C03-6B7F425C680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792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остоят и как классифицируются минеральные воды?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о шес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ла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гидрокарбонат (НСО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1BE60D-243F-40FD-810D-55650D25A05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оличественному составу минеральные воды делят в зависимости от концентрации солей,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толовые (не превышает 1 грамма на литр вод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лабоминерализованные (1–2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о–столовые (1-10 г</a:t>
            </a: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малой минерализации (2–5 г/л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ые (10–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высокой минерализации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рассольные (35–1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крепко–рассольные (свыше 150 г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DA25FE-A158-4954-9C5D-A835A94AFAB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SiO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, бромистые, йодистые, железистые, мышьяковистые, радиоактивные (Rn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кислые воды имеют pH = 3,5–6,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нейтральные воды имеют pH = 6,8–7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щелочные воды имеют pH = 7,2–8,5 и вы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075D83-92EF-44CF-84E8-55CBAB491BC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отребительских предпочтений в выборе минеральной воды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ст о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61F386-8EA4-488A-B779-5FC702756A2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159840" indent="0">
              <a:lnSpc>
                <a:spcPct val="100000"/>
              </a:lnSpc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 Как вы думаете, влияет  ли на состояние здоровья употребление минеральной вод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не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) не знаю, хочу это выясн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тавьте знак «+» возле тех названий марок воды , которые вы чаще всего употребля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дельвей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рхы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рши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город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льбру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резов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глич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еребряная 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уяльник № 4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уж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лавя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Хотите ли вы узнать о воздействии минеральной воды на ваш организ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мне 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мне безраз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B9C17E-6BD4-468E-993E-5AF31FE40C0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0B4-BF4C-455D-A504-C6BFD742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074-A1BF-457C-9984-493C2001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346-7359-49D2-A420-3195A1E8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858-A354-41CB-8419-04782D47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3D9E-751C-4711-9B77-EDB6F839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9E3A-CAA8-49A2-AEF9-6FE4F92D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1021-840E-4D9E-BB7F-4C09408E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4207-47CE-413A-818C-145D6D29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E574-030E-429B-8B52-73885041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7F15-DE70-419D-BBFA-CA247855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5F88-0879-4225-9F9E-6D76D9DF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281-03E8-4075-9E96-132B9E84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FC33-4808-402B-84A3-A83BAA2C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1B63-22DA-41F7-A8DC-EFF32759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B8A7-E819-4D08-B087-EFF5811B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7F50-ABAE-4205-98B7-6B38FF61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8CE5-2370-4CB4-AC57-5A3AF772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C98-4747-45A1-861F-076800E1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E7E-C9AA-44D6-9108-C0738078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553-42F6-4704-B5FE-83FE403E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6F4-ED43-412B-8196-3FA4DF5B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0B9-5CA3-4943-817F-FA3FAF32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4DB-B03F-417A-8A23-499BB924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675-564C-4A00-BFD7-B7F53446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4686"/>
              </a:gs>
              <a:gs pos="100000">
                <a:srgbClr val="4280e7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044a8a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e7eb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e7ebf4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E72E33-0F2F-45C0-8223-385F3FC2220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0f6fc6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7E9A20-2B1B-4886-A4B4-102CC77FA1D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5440" y="1412640"/>
            <a:ext cx="8278200" cy="21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Минеральная вод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84000" y="3611520"/>
            <a:ext cx="41738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Lucida Sans Unicode"/>
              </a:rPr>
              <a:t>Презентация для потребителей минеральной вод</a:t>
            </a:r>
            <a:r>
              <a:rPr b="0" lang="ru-RU" sz="1400" spc="-1" strike="noStrike">
                <a:solidFill>
                  <a:srgbClr val="04617b"/>
                </a:solidFill>
                <a:latin typeface="Lucida Sans Unicode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539640" y="1124640"/>
            <a:ext cx="2555280" cy="3808800"/>
          </a:xfrm>
          <a:prstGeom prst="rect">
            <a:avLst/>
          </a:prstGeom>
          <a:ln w="9525">
            <a:noFill/>
          </a:ln>
        </p:spPr>
      </p:pic>
      <p:sp>
        <p:nvSpPr>
          <p:cNvPr id="105" name="TextBox 4"/>
          <p:cNvSpPr/>
          <p:nvPr/>
        </p:nvSpPr>
        <p:spPr>
          <a:xfrm>
            <a:off x="5399640" y="5805360"/>
            <a:ext cx="3744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Над презентацией работали: Кравченко Анн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Малькова Александр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Содержимое 3"/>
          <p:cNvGraphicFramePr/>
          <p:nvPr/>
        </p:nvGraphicFramePr>
        <p:xfrm>
          <a:off x="827640" y="1124640"/>
          <a:ext cx="5482440" cy="3171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2" name="TextBox 4"/>
          <p:cNvSpPr/>
          <p:nvPr/>
        </p:nvSpPr>
        <p:spPr>
          <a:xfrm>
            <a:off x="899640" y="4509000"/>
            <a:ext cx="79923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6% - часто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59% -  иногда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редко пьют минеральную вод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043640" y="260640"/>
            <a:ext cx="648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Диаграмма 6"/>
          <p:cNvGraphicFramePr/>
          <p:nvPr/>
        </p:nvGraphicFramePr>
        <p:xfrm>
          <a:off x="827640" y="332640"/>
          <a:ext cx="5112360" cy="331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5" name="TextBox 9"/>
          <p:cNvSpPr/>
          <p:nvPr/>
        </p:nvSpPr>
        <p:spPr>
          <a:xfrm>
            <a:off x="755640" y="4005000"/>
            <a:ext cx="900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9% - пьют минеральную воду с газ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пьют минеральную воду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3% - пьют минеральную воду с газом и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Содержимое 3"/>
          <p:cNvGraphicFramePr/>
          <p:nvPr/>
        </p:nvGraphicFramePr>
        <p:xfrm>
          <a:off x="179640" y="260640"/>
          <a:ext cx="4608000" cy="345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7" name="TextBox 6"/>
          <p:cNvSpPr/>
          <p:nvPr/>
        </p:nvSpPr>
        <p:spPr>
          <a:xfrm>
            <a:off x="827640" y="5229360"/>
            <a:ext cx="81367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Содержимое 3"/>
          <p:cNvGraphicFramePr/>
          <p:nvPr/>
        </p:nvGraphicFramePr>
        <p:xfrm>
          <a:off x="4247280" y="332640"/>
          <a:ext cx="4896360" cy="352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9" name="Rectangle 2"/>
          <p:cNvSpPr/>
          <p:nvPr/>
        </p:nvSpPr>
        <p:spPr>
          <a:xfrm>
            <a:off x="4565520" y="3794760"/>
            <a:ext cx="4518360" cy="108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7% - употребляют лечебн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4% - употребляют лечебно-столовую минеральную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0% - употребляют столов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9% - не придают значению вида минеральной во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3580560"/>
            <a:ext cx="4715640" cy="147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иногда читают, иногда не читают этикетку минеральной воды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чтобы узнать её соста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Диаграмма 3"/>
          <p:cNvGraphicFramePr/>
          <p:nvPr/>
        </p:nvGraphicFramePr>
        <p:xfrm>
          <a:off x="827640" y="548640"/>
          <a:ext cx="4968360" cy="316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2" name="TextBox 4"/>
          <p:cNvSpPr/>
          <p:nvPr/>
        </p:nvSpPr>
        <p:spPr>
          <a:xfrm>
            <a:off x="1403640" y="4293000"/>
            <a:ext cx="583236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Диаграмма 4"/>
          <p:cNvGraphicFramePr/>
          <p:nvPr/>
        </p:nvGraphicFramePr>
        <p:xfrm>
          <a:off x="323640" y="0"/>
          <a:ext cx="8424720" cy="489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4" name="TextBox 5"/>
          <p:cNvSpPr/>
          <p:nvPr/>
        </p:nvSpPr>
        <p:spPr>
          <a:xfrm>
            <a:off x="1583280" y="4797000"/>
            <a:ext cx="756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пецкая, Эдельвейс. На этикетках этих вод можно определить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х вид и свойства, а значит правильно сориентироваться в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боре вод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делав сравнительную характеристику популярности марок минеральных вод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Вывод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" name="Picture 2" descr="C:\Documents and Settings\Admin\Рабочий стол\PLEASE! DON'T TOUCH IT!!!!!!!!!\Музыка\Проект\x_256b030c.jpg"/>
          <p:cNvPicPr/>
          <p:nvPr/>
        </p:nvPicPr>
        <p:blipFill>
          <a:blip r:embed="rId1"/>
          <a:stretch/>
        </p:blipFill>
        <p:spPr>
          <a:xfrm>
            <a:off x="6300360" y="3141000"/>
            <a:ext cx="2448000" cy="336816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38" name="Rectangle 3"/>
          <p:cNvSpPr/>
          <p:nvPr/>
        </p:nvSpPr>
        <p:spPr>
          <a:xfrm flipV="1" rot="10800000">
            <a:off x="2700000" y="3597480"/>
            <a:ext cx="3240000" cy="226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ромное разнообразие минеральных вод дает большие возможности их применения для лечебного воздействия на организм человека. Прочтите наши рекомендации в брошюре «Минеральная вода для Вас». Брошюру мы специально разработали для ориентировки потребителей на широком рынке минеральных вод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7640" y="126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менение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Как влияют минеральные воды на организм человека. </a:t>
            </a: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идрокарбон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ульф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Хлорид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агниевы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могают при стрессовых ситуациях. Противопоказания склонность к расстройству желуд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Железист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3000"/>
          </a:bodyPr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–2 г/л) относят и к столовым, и лечебно–столовым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о-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 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редней минерализации (5–15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ысокой 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видов минеральной воды воздействует на организм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ждый из компонентов минеральной воды воздействует на организм по-своему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Кальций (С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обладает противовоспалительным действием, обезвоживает ткани, укрепляет кости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Магний (Мg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Натрий (N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Гидрокарбонат (НСО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Сульфат (SO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Хлор (Сl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влияет на выделительную функцию почек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компонентов минеральных вод влияет на организм человека</a:t>
            </a: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?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4186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ые в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Что такое минеральная вода?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084000" y="1845000"/>
            <a:ext cx="2784960" cy="41637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правильно употреблять минеральную воду, если у вас есть заболевание. 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8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6300360" y="3273840"/>
            <a:ext cx="2088000" cy="32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Содержимое 5"/>
          <p:cNvGraphicFramePr/>
          <p:nvPr/>
        </p:nvGraphicFramePr>
        <p:xfrm>
          <a:off x="467640" y="476640"/>
          <a:ext cx="8229240" cy="4767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желудка: при гастритах с повыш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лужанская, плосковская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небольшим количеством газа или без газа, 35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-1½ ч до еды. Иногда при наличии изжоги, отрыжки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Пить воду следует большими глотками, быстро. После еды при отрыжке, изжоге дополнительно 2-3 раза по 5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 раза: перед завтраком,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при гастритах с пониж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Арзни, аршан, «Белая горка», дарсун, ессентуки № 4, кемери, миргородская, минская, нарз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газом или 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0-15 мин до или во время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Воду пить медленно, не торопясь, небольшими глотками, в течение 2-5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Язвенная болезнь желудка и двенадцатиперстной киш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«Белая горка», березовская, боржом, буковинская, беркут, джермук, ессентуки № 4, лужанская, плосковская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остояние воды, температура, время и способ приема зависят от кислотности желудочного сока. 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Содержимое 5"/>
          <p:cNvGraphicFramePr/>
          <p:nvPr/>
        </p:nvGraphicFramePr>
        <p:xfrm>
          <a:off x="467640" y="476640"/>
          <a:ext cx="8229240" cy="5407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3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663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кишечника (кол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«Белая горка», березовская, боржом, беркут, джермук, дилижан, драговская, гоголевская, ессентуки № 4, кеме¬ри, крымская, куяльник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 начале лечения —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75-100 мл и постепенно доводят 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50-200 мл; способ применения воды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9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29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ечени и желчных путей (гепатиты, холецист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ерезовская, боржом, буковинская, джермук, дилижан, драговская, ессентуки № 4, «Ласточка»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 небольшим количеством газа или без газа, 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По спецпоказаниям разовая доза может быть доведена до 400 мл. В таком случае выпивать не сразу, а в 2-3 приема в течение 30-6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Содержимое 5"/>
          <p:cNvGraphicFramePr/>
          <p:nvPr/>
        </p:nvGraphicFramePr>
        <p:xfrm>
          <a:off x="467640" y="476640"/>
          <a:ext cx="8229240" cy="54320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3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0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обмена веществ: ожир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оржом, дарасун, джермук, дилижан, драговская, ессентуки № 4, крымская, куяльник, «Ласточка», лужанская, машук № 19, плосковская, рычал-су, ск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остояние воды, время и способ приема завися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1918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ахарный диаб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дилижан, драговская, ессентуки № 4, крымская, куяльник, «Ласточка», машук № 19, плосковская, рычал-су, саир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65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26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очек и мочевых путей (пиелит, цисти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шан, березовская, джермук, ессентуки № 4, 20, кишиневская, лужанская, машук № 19, московская, нарзан, рычал-су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 или с газом, 18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Кроме трех обычных приемов перед едой, воду пьют 3 раза — через 2½-З ч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154" name="TextBox 2"/>
          <p:cNvSpPr/>
          <p:nvPr/>
        </p:nvSpPr>
        <p:spPr>
          <a:xfrm>
            <a:off x="3564000" y="5877360"/>
            <a:ext cx="540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абсолютно здоровы и просто хотите пить, выбрать подходящую лично для Вас минеральную воду Вам помогут наши рекомендации в брошюре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764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Происхождение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7640" y="98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Кавказская, Забайкальская, Приморская, Камчатская и другие провинции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рунтовые минеральные воды (Марциальные воды, Увильдинское, Кисегачское, Боровое и др.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Месторождения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звестно шесть </a:t>
            </a:r>
            <a:r>
              <a:rPr b="0" i="1" lang="ru-RU" sz="1300" spc="-1" strike="noStrike">
                <a:solidFill>
                  <a:srgbClr val="000000"/>
                </a:solidFill>
                <a:latin typeface="Lucida Sans Unicode"/>
              </a:rPr>
              <a:t>главных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 и гидрокарбонат (НСО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з чего состоят и как классифицируются минеральные воды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7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оличественному составу минеральные воды делят в зависимости от концентрации солей, на: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толовые (не превышает 1 грамма на литр воды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 (1–2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о–столовые (1-10 г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,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ые (10–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сокой минерализации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i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, бромистые, йодистые, железистые, мышьяковистые, радиоактивные (Rn)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кислые воды имеют pH = 3,5–6,8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нейтральные воды имеют pH = 6,8–7,2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 щелочные воды имеют pH = 7,2–8,5 и выш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сследование потребительских предпочтений в выборе минеральной воды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ctr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ст опрос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Содержимое 6"/>
          <p:cNvSpPr/>
          <p:nvPr/>
        </p:nvSpPr>
        <p:spPr>
          <a:xfrm>
            <a:off x="1619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1)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каждый раз, когда испытываю жажду (очень част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периодами пью, периодами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не пью (только по назначению врач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2) Сколько в литрах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ой воды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вы выпиваете за ден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0,2 литра (стака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0,5 ли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1 лит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свой вариант ответа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3)Вы пьете минеральную воду с газом или без газ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с газ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без га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 газом и без газа (разную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4)Читаете ли вы этикетку, чтобы узнать из чего состоит вода, которую вы хотите выпит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да, всегда читаю или выбираю ту о которой помню информац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нет, мне все рав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иногда читаю, иногда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5) Какой вид минеральной воды вы употребляете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лечебн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лечебно-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не придаю значения виду минеральной во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8229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) Как вы думаете, влияет  ли на состояние здоровья употребление минеральной воды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не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) не знаю, хочу это выяснить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ставьте знак «+» возле тех названий марок воды , которые вы чаще всего употребляете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дельвейс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рхыз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рши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иргород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льбрусси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ерезовская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ов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Углич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еребряная Роса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Куяльник № 4»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ужа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лавя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Хотите ли вы узнать о воздействии минеральной воды на ваш организм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мне это интерес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мне безразлич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693</TotalTime>
  <Application>LibreOffice/7.4.7.2$Linux_X86_64 LibreOffice_project/40$Build-2</Application>
  <AppVersion>15.0000</AppVersion>
  <Words>3973</Words>
  <Paragraphs>41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5:04:22Z</dcterms:created>
  <dc:creator>Admin</dc:creator>
  <dc:description/>
  <dc:language>en-US</dc:language>
  <cp:lastModifiedBy>LEGION</cp:lastModifiedBy>
  <dcterms:modified xsi:type="dcterms:W3CDTF">2014-11-25T09:24:58Z</dcterms:modified>
  <cp:revision>160</cp:revision>
  <dc:subject/>
  <dc:title>Минеральная вод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5</vt:r8>
  </property>
</Properties>
</file>