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 часто вы пьете минеральную воду?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0144451739986868"/>
          <c:y val="0.179888775394393"/>
          <c:w val="0.903939592908733"/>
          <c:h val="0.752468505277494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 часто вы пьете минеральную воду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часто</c:v>
                </c:pt>
                <c:pt idx="1">
                  <c:v>иногда</c:v>
                </c:pt>
                <c:pt idx="2">
                  <c:v>редко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6</c:v>
                </c:pt>
                <c:pt idx="1">
                  <c:v>59</c:v>
                </c:pt>
                <c:pt idx="2">
                  <c:v>15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39561550774194"/>
          <c:y val="0.593958625809253"/>
          <c:w val="0.12124527315895"/>
          <c:h val="0.25507014372140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Вы пьете минеральную воду с газом и без газа?</a:t>
            </a:r>
          </a:p>
        </c:rich>
      </c:tx>
      <c:layout>
        <c:manualLayout>
          <c:xMode val="edge"/>
          <c:yMode val="edge"/>
          <c:x val="0.127024362765808"/>
          <c:y val="0.0230409738071949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184481059005774"/>
          <c:y val="0.118356700358657"/>
          <c:w val="0.742430643571328"/>
          <c:h val="0.823062710574938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Вы пьете минеральную воду с газом и без газа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с газом</c:v>
                </c:pt>
                <c:pt idx="1">
                  <c:v>без газа</c:v>
                </c:pt>
                <c:pt idx="2">
                  <c:v>с газом и без газ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9</c:v>
                </c:pt>
                <c:pt idx="1">
                  <c:v>38</c:v>
                </c:pt>
                <c:pt idx="2">
                  <c:v>33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05230913310103"/>
          <c:y val="0.715469416441652"/>
          <c:w val="0.272412415834861"/>
          <c:h val="0.24398013747264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Читаете ли вы этикетку, чтобы узнать из чего состоит вода, которую вы хотите выпить?</a:t>
            </a:r>
          </a:p>
        </c:rich>
      </c:tx>
      <c:layout>
        <c:manualLayout>
          <c:xMode val="edge"/>
          <c:yMode val="edge"/>
          <c:x val="0.109366455745645"/>
          <c:y val="0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"/>
          <c:y val="0.242162274763046"/>
          <c:w val="0.715959690649168"/>
          <c:h val="0.757733569419852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Читаете ли вы этикетку, чтобы узнать из чего состоит вода, которую вы хотите выпить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да</c:v>
                </c:pt>
                <c:pt idx="1">
                  <c:v>нет</c:v>
                </c:pt>
                <c:pt idx="2">
                  <c:v>иногда читают, иногда не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5</c:v>
                </c:pt>
                <c:pt idx="1">
                  <c:v>47</c:v>
                </c:pt>
                <c:pt idx="2">
                  <c:v>38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0135957115876"/>
          <c:y val="0.40280867137694"/>
          <c:w val="0.251792335573825"/>
          <c:h val="0.55860550518541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ой вид минеральной воды вы употребляете?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224231730627849"/>
          <c:y val="0.176920722375268"/>
          <c:w val="0.661961476253492"/>
          <c:h val="0.77471686562595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ой вид минеральной воды вы употребляете?</c:v>
                </c:pt>
              </c:strCache>
            </c:strRef>
          </c:tx>
          <c:spPr>
            <a:gradFill>
              <a:gsLst>
                <a:gs pos="0">
                  <a:srgbClr val="00445f"/>
                </a:gs>
                <a:gs pos="100000">
                  <a:srgbClr val="006e99"/>
                </a:gs>
              </a:gsLst>
              <a:lin ang="16200000"/>
            </a:gradFill>
            <a:ln w="0">
              <a:noFill/>
            </a:ln>
          </c:spPr>
          <c:explosion val="0"/>
          <c:dPt>
            <c:idx val="0"/>
            <c:spPr>
              <a:solidFill>
                <a:srgbClr val="7030a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solidFill>
                  <a:srgbClr val="0f6fc6"/>
                </a:solidFill>
              </a:ln>
            </c:spPr>
          </c:dPt>
          <c:dPt>
            <c:idx val="3"/>
            <c:spPr>
              <a:solidFill>
                <a:srgbClr val="ff00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лечебная</c:v>
                </c:pt>
                <c:pt idx="1">
                  <c:v>лечебно-столовая</c:v>
                </c:pt>
                <c:pt idx="2">
                  <c:v>столовая</c:v>
                </c:pt>
                <c:pt idx="3">
                  <c:v>не придают значению вида минеральной воды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</c:v>
                </c:pt>
                <c:pt idx="1">
                  <c:v>24</c:v>
                </c:pt>
                <c:pt idx="2">
                  <c:v>20</c:v>
                </c:pt>
                <c:pt idx="3">
                  <c:v>49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659001736735135"/>
          <c:y val="0.384324927615754"/>
          <c:w val="0.332724697255862"/>
          <c:h val="0.60847632575972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 вы думаете влияет ли на здоровье употребление минеральной воды?</a:t>
            </a:r>
          </a:p>
        </c:rich>
      </c:tx>
      <c:layout>
        <c:manualLayout>
          <c:xMode val="edge"/>
          <c:yMode val="edge"/>
          <c:x val="0.177075786117954"/>
          <c:y val="0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194174757281553"/>
          <c:y val="0.201227133280309"/>
          <c:w val="0.85973047384437"/>
          <c:h val="0.79059197818429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 вы думаете влият ли на здоровье употребление минеральной воды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да</c:v>
                </c:pt>
                <c:pt idx="1">
                  <c:v>нет</c:v>
                </c:pt>
                <c:pt idx="2">
                  <c:v>не знаю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63</c:v>
                </c:pt>
                <c:pt idx="1">
                  <c:v>13</c:v>
                </c:pt>
                <c:pt idx="2">
                  <c:v>24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22426313362442"/>
          <c:y val="0.728804122774237"/>
          <c:w val="0.155829527312795"/>
          <c:h val="0.23381429841128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Статистика популярности минеральных вод среди опрошенных учителей и учеников МГПГЛ № 1505.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атистика популярности минеральных вод среди опрошенных учителей и учеников МГПГЛ № 1505.</c:v>
                </c:pt>
              </c:strCache>
            </c:strRef>
          </c:tx>
          <c:spPr>
            <a:gradFill>
              <a:gsLst>
                <a:gs pos="0">
                  <a:srgbClr val="00305c"/>
                </a:gs>
                <a:gs pos="100000">
                  <a:srgbClr val="004f95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3"/>
                <c:pt idx="0">
                  <c:v>Аква Минерале</c:v>
                </c:pt>
                <c:pt idx="1">
                  <c:v>Bon Aqua</c:v>
                </c:pt>
                <c:pt idx="2">
                  <c:v>Родники России</c:v>
                </c:pt>
                <c:pt idx="3">
                  <c:v>Святой Источник</c:v>
                </c:pt>
                <c:pt idx="4">
                  <c:v>Есентуки</c:v>
                </c:pt>
                <c:pt idx="5">
                  <c:v>Архыз</c:v>
                </c:pt>
                <c:pt idx="6">
                  <c:v>Боржоми</c:v>
                </c:pt>
                <c:pt idx="7">
                  <c:v>Нарзан</c:v>
                </c:pt>
                <c:pt idx="8">
                  <c:v>Новотерская</c:v>
                </c:pt>
                <c:pt idx="9">
                  <c:v>Люпецкий бювет</c:v>
                </c:pt>
                <c:pt idx="10">
                  <c:v>Рычал-Су</c:v>
                </c:pt>
                <c:pt idx="11">
                  <c:v>Липецкая</c:v>
                </c:pt>
                <c:pt idx="12">
                  <c:v>Эдельвейс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3"/>
                <c:pt idx="0">
                  <c:v>72</c:v>
                </c:pt>
                <c:pt idx="1">
                  <c:v>70</c:v>
                </c:pt>
                <c:pt idx="2">
                  <c:v>48</c:v>
                </c:pt>
                <c:pt idx="3">
                  <c:v>48</c:v>
                </c:pt>
                <c:pt idx="4">
                  <c:v>42</c:v>
                </c:pt>
                <c:pt idx="5">
                  <c:v>42</c:v>
                </c:pt>
                <c:pt idx="6">
                  <c:v>33</c:v>
                </c:pt>
                <c:pt idx="7">
                  <c:v>28</c:v>
                </c:pt>
                <c:pt idx="8">
                  <c:v>18</c:v>
                </c:pt>
                <c:pt idx="9">
                  <c:v>17</c:v>
                </c:pt>
                <c:pt idx="10">
                  <c:v>13</c:v>
                </c:pt>
                <c:pt idx="11">
                  <c:v>12</c:v>
                </c:pt>
                <c:pt idx="12">
                  <c:v>12</c:v>
                </c:pt>
              </c:numCache>
            </c:numRef>
          </c:val>
        </c:ser>
        <c:gapWidth val="150"/>
        <c:overlap val="0"/>
        <c:axId val="81990366"/>
        <c:axId val="27122255"/>
      </c:barChart>
      <c:catAx>
        <c:axId val="8199036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3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27122255"/>
        <c:crosses val="autoZero"/>
        <c:auto val="1"/>
        <c:lblAlgn val="ctr"/>
        <c:lblOffset val="100"/>
        <c:noMultiLvlLbl val="0"/>
      </c:catAx>
      <c:valAx>
        <c:axId val="27122255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81990366"/>
        <c:crosses val="autoZero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666580731295763"/>
          <c:y val="0.556710610585753"/>
          <c:w val="0.310287104851598"/>
          <c:h val="0.23653989426011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761279-749E-4095-A18E-B81880B58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еральная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ля потребителей минеральной вод</a:t>
            </a:r>
            <a:r>
              <a:rPr b="0" lang="ru-RU" sz="105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927C65-89FD-44D6-9CCD-5D9E345022A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ыло опрошено 100 человек (10 учителей и 90 учеников различных возрастов) в нашей гимназии. Суммировав ответы, мы получили следующие результ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Исследования показали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6% - часто пьют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59% -  иногда пьют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15% - редко пьют минеральную в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Отсюда делаем вывод, что вопросы о минеральной воде интересуют более 85% опрошенных людей. Значит тема проекта актуаль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C29DE8-5439-4BB8-936D-03D79912613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Если потребители пьют минеральную воду часто, то какую выбираю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сследования показали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29% - пьют минеральную воду с газ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38% - пьют минеральную воду без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33% - пьют минеральную воду с газом и без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Мнения разделились почти поровну. Какую лучше выбрать, каждый решит для себя, прочитав нашу брошюру «Минеральная вода для Ва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993632-1AC5-41B6-ABF8-B00A6A51CCD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е ли вы этикетку, чтобы узнать из чего состоит вода, которую вы хотите выпи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15% - читают этикетку минеральной воды, чтобы узнать её со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47% - не читают этикетку минеральной воды, чтобы узнать её со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38% - иногда читают, иногда не читают этикетку минеральной вод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чтобы узнать её сост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7% - употребляют лечебную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4% - употребляют лечебно-столовую минеральн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0% - употребляют столовую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49% - не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Огорчили результаты опроса по вопросам № 4 и № 5. Потому, что большая часть участников опроса не интересуется что написано на этикете. На этикете содержится основная информация, которой нужно руководствоваться при выборе минеральной воды. Различные виды минеральных вод используют с различной целью при различных заболеваниях (читайте брошюру «Минеральная вода для Вас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придают значению вида минеральной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A88737-CBDB-4D78-AABA-960A6513512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потребление минеральной воды, безусловно, влияет на здоровье человека. Как укрепляет, и так и ухудшает состояние организма. С этим согласны 63% опрошенных. Жаль, что некоторые люди считают, что минеральная вода не влияет на здоровье (13% опрошенных) и 24 % об этом  ничего не известно. Наша задача объяснить каждому, что различные минеральные воды по-разному влияют на организм. А значит, надо употреблять их внимательно прочитав этикетку и рекомендации мед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74FDB2-1863-4103-9244-4155024B8DF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результате опроса наиболее популярными оказались следующие воды – Аква  Минерале и 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,Святой Источник. Эти воды не имеют полного описания свойств и состава на этикетке, что не дает возможности быстро правильно подобрать для себя воду. А также возникает вопрос о их соответствии и пригодности для частого употреб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сокой популярностью пользуются Родники России, Есентуки, Архыз, Боржоми, Нарзан. Средней популярностью пользуются Новотерская, Люпецкий бювет, Рычал-Су,       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ая, Эдельвейс. На этикетках этих вод можно определить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х вид и свойства, а значит правильно сориентироваться в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бор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412D76-2C0A-46FB-927B-B6815C90C52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в сравнительную характеристику популярности марок минеральных во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ожно сделать вывод, о том, что потребители ориентируются в большей степени на рекламу минеральной воды, нежели на свойства минеральной воды. Это неправильно с точки зрения здоровья. Различные минеральные воды имеют множество различных характеристик, ориентируясь в которых со знанием вопроса можно правильно подобрать для себя на данный момент времени минеральную воду. Минеральная вода один из важных часто употребляемых продуктов в рационе питания человека. Помочь вам сориентироваться в этом вопросе наша 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21AB73-85C8-487C-92C2-ED9F1900EC6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51200"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лияют минеральные воды на организм человек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ном минеральные воды используют как оказывающие лечебное влияние на организм человека. Лечебное воздействие имеет весь комплекс растворённых в них веществ. Наличие специфических биологически активных компонентов (CO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, As и др.) и особых свойств определяет часто методы их лечебного использования : питьевого лечения и для ванн, купаний, душей, проводимых в бальнеолечебницах и в лечебных бассейнах, а также для ингаляций и полосканий при заболеваниях носоглотки и верхних дыхательных путей, для орошений при гинекологических болезнях, для промываний, главным образом при заболеваниях органов пищеварения, нарушениях обмена веществ и т. д. В качестве основных критериев оценки лечебности минеральных вод в курортологии приняты особенности их химического состава и физических свойства, которые одновременно служат важнейшими показателями для их класс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рименения минеральной воды имеет большее значение понимание влияния на организм процесса питья минеральных вод. Минеральная вода в желудке не всасывается.  Всасывание минеральной воды происходит в процессе прохождения по всему пути тонкого кише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вещества, входящие в состав минеральной воды, попав в кровь, могут вызвать довольно разнообразные ответные физиологические реакции со стороны систем пищеварения, кровообращения, дыхания, обмена веществ, системы крови, желез внутренней секреции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655F22-CADB-4A2D-9FBD-CE68C3F555A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Гидрокарбонат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редназначены для тех, кто занимается спортом, так как оказывают благоприятное влияние при усиленной мышечной работе. Пополняя недостаток карбонатов крови, они повышают щёлочные резервы организма. Под их влиянием в организме уменьшается содержание водородных ионов (pH), которые вместе с ионами хлора служат для выработки соляной кислоты. Они противопоказаны при гастрите, так как выделяющийся при распаде гидрокарботатов углекислый газ стимулирует секрецию желудочного с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Сульфат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рекомендуются тем, у кого наблюдаются проблемы с печенью и желчного пузыря, ожирение и сахарный диабет. Благодаря этим водам  печёночные клетки увеличивают образование желчи, усиливается перистальтика желчевыводящих путей, улучшается отток из желчного пузыря и протоков, тем самым обеспечивается выведение продуктов воспаления, создаются условия, препятствующие выпадению из желчи солей и образованию камней. Категорически нельзя употреблять такую воду детям и подросткам, так как сульфаты препятствуют росту костей, связывая кальций пищи в просвете ЖКТ в нерастворимые с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Хлорид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способствуют регулировке работы кишечника, желчевыводящих путей и печени, однако их нельзя пить гипертоникам. Они улучшают секрецию пищеварительных желёз. Попадая в желудок, хлоридно–натриевые воды усиливают его перистальтику, стимулируя отделение желудочного сока. Ионы хлора и водорода служат основным материалом, из которого вырабатывается соляная кислота, определяющая кислотность желудочного с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Магниевые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могают при стрессовых ситуациях. Противопоказания склонность к расстройству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Железист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назначают при малокровии, заболеваниях желудка и кишечника, нарушениях обмена веществ, гинекологических заболеваниях. Ванны из железистых вод оказывают стимулирующее влияние на крово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7FAD20-FE39-44E2-9EB8-3F0234B385E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99360" indent="0" algn="ctr">
              <a:lnSpc>
                <a:spcPct val="100000"/>
              </a:lnSpc>
              <a:buNone/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каждый из видов минеральной воды воздействует на организм?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лов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нерализация от 1 до 2 г/л или меньшая — при наличии биологически активных веществ) - имеют низкую минерализацию, поэтому их можно без ограничения использовать для приготовления еды. Они отлично утоляют жажду и обладают приятным мягким вкусом, без постороннего запаха и привкуса. Нормативные документы на минеральные столовые воды отсутствуют. Поэтому критерии отнесения вод к минеральным столовым водам (во многих странах) не стандартизов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лабоминерализован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–2 г/л) относят и к столовым, и лечебно–столо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бно-столов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нерализация о  2-8 г/л)- Имеют более высокую концентрацию минеральных веществ.. Достоинство лечебно–столовых минеральных вод состоит в их многофункциональности: их можно употреблять как столовый напиток (не регулярно) и систематически — для лечения (по назначению врача). Бесконтрольное употребление такой воды может привести к нарушению водно-солевого баланса в организме. А для тех, кто страдает какими-либо хроническими заболеваниями, это чревато возникновением обострений и общим ухудшением состоя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малой минерализации (2–5 г/л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б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нерализация от 8 до 12 г/л) - В них содержится самое большое количество минералов и микроэлементов. Это настоящее лекарство, применять которое нужно исходя из медицинских показаний. Такую воду используют не только для питья, но и для различных процедур: ванн, орошений, душа, ингаляций. Постоянно утолять жажду лечебной минеральной водой очень рискованно. Ее пьют курсами, как любое другое лекарство, соблюдая при этом определенную дозир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редней минерализации (5–15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сокой (15–35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ссольные (35–150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репко–рассольные (свыше 150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88414C-AD58-414D-A306-DE80375FE03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62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каждый из компонентов минеральных вод влияет на организм челове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из компонентов минеральной воды воздействует на организм по-сво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льций (С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ладает противовоспалительным действием, обезвоживает ткани, укрепляет к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гний (Мg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рошо усваивается организмом, снижает кровяное давление, способствует уменьшению спазмов желчного пузыря, снижает уровень холестерина в крови и в желчи, благотворно влияет на нервную систему, вызывает в сочетании с сульфатом слабительный эффек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трий (N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рошо всасывается в пищеварительном тракте, участвует в водном обмене организма. Натрий в сочетании с калием (К) поддерживает необходимое давление в тканевых и межтканевых жидкостях организма. Помимо этого, калий участвует в обмене натрия и кальция и необходим для действия многих ферментов в организме человека. Он обладает также мочегонным действ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дрокарбонат (НСО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падая в желудок, реагирует с желудочным соком и выделяет углекислоту, стимулируя тем самым секреторную деятельность желуд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льфат (SO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нижает желудочную секрецию и ее активность, а в сочетании с магнием вызывает слабительный эффек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лор (Сl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лияет на выделительную функцию поч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7270B9-4EBD-4A56-949A-84537A6D8DD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минеральная в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инеральные в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воды, в состав которых входят минеральные соли, газы, органические вещества, радиоактивные вещества и другие химические соединения. Минеральные воды бывают природные и искусственно приготовленные. Искусственные минеральные воды близки по составу к природным. Их изготавливают из химически чистых солей, используя озерную или морскую соль. Природные минеральные воды пользуются большой популярностью у населения. На поверхности Земли природные минеральные воды проявляются в виде источников (родников), а также выводятся из недр буровыми скважинами, глубины которых могут достигать нескольких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C52C28-B345-4080-9346-90B245C915C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авильно употреблять минеральную воду, если у вас есть заболевание.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ы почувствовали недомогание, обратитесь к врачу, установите диагноз заболевания, прочтите наши рекомендации, посоветуйтесь с врачом, лечитесь, и Вы быстро поправите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енебрегайте рекомендациями врача по  дозировке минеральной воды, так как чрезмерное употребление ведет к передозировке  организма компонентами минеральной воды, что может вызвать головокружение, нарушение сна, расстройство пищеварения, боли в области головы и ше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от питьевого лечения минеральными водами зависит не только от правильного выбора воды, но и от правил её приёма, температуры, количества, время приема взвешенного со временем приема пищ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C4501D-19C9-4343-AF9B-323C066636E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7712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схождение минеральных вод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бразуется в природе минеральная вода? Об этом существуют различные мнения. Самым распространенным является предположение геолога Эдуарда Зюсса, что газы, выделенные из находящейся в недрах земли раскаленной лавы, проходя через кору земли, постепенно охлаждаются, происходит их конденсация и превращение в жидкость – это и есть минеральная вода. Минеральные воды такого происхождения называются ювенальными, т. е. «девственными». Это мнение постепенно потеряло привержен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более признана водозная теория, по которой принято считать, что минеральные воды образуются из атмосферных осадков и других поверхностных вод, которые проникают в различные слои земной коры. При циркуляции в слоях земной коры  в воде растворяются различные химические вещества, содержащиеся в различных породах. Формирование минеральной воды происходит в условиях определенного давления и температуры без светового влияния. Ее химический состав и минерализация зависит от того, через какие породы и слои земной коры она проходит. Что касается температуры воды, то это зависит от того, из какой глубины она выходит. Геологами установлено, что в глубине земли через каждые 33 метра температура больше на 1 С, т.е. по температуре воды можно определить, на какой глубине находится 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28B640-6B0A-4513-98C0-E5EE9B092A5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4688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сторождения минеральных вод.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рритории России и ближнего зарубежья выделяются провинции минеральных вод, каждая из которых отличается гидрогеологическими условиями, особенностями геологического развития, происхождением и физико-химическими характеристиками минераль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 изолированные пластовые системы артезианских бассейнов представляют собой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лё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ссоль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минерализацией до 300—400 г/л (иногда до 600 г/л); они содержат газы восстановительной обстановки (углеводороды, сероводород, азот). Складчатые регионы и области омоложенных платформ соответствуют провинция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глекислых минеральных 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холодных и термальных) различной степени минерализации. Области проявления новейших тектонических движений относятся к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зотных слабоминерализованных щелоч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част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емнистых термических 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Территория России и стран СНГ особенно богат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глекислыми минеральными вод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Кавказская, Забайкальская, Приморская, Камчатская и другие провин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выделяются следующие типы месторождений минеральных вод: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латформенные артезианские бассейны (Кашинское, Старорусское, Тюменское, Сестрорец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горные и межгорные артезианские бассейны и склоны (Чартакское, Тбилисское, Нальчик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ртезианские бассейны, связанные с зонами восходящей разгрузки минеральных вод (Нагутское, Ессентукское, Джалал-Абад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рещинно-жильные воды гидрогеологических массивов (Исти-Суйскос, Кульдурское, Белокурихин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идрогеологические массивы, связанные с зонами восходящей разгрузки минеральных вод в горизонты грунтовых вод (Дарасунское, Шивандинское, Шмаков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рунтовые минеральные воды (Марциальные воды, Увильдинское, Кисегачское, Боровое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условий происхождения и местоположения источника, минеральные воды имеют различный сост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5EBE29-EBBA-4AEA-85EB-4E16829972D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7928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чего состоят и как классифицируются минеральные воды?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минеральных вод обусловлен историей геологического  развития, характером тектонических структур, литологии, геотермических условий и другими особенностями территории, где образована минеральная вода. Наиболее мощные факторы, обусловливающие формирование газового состава минеральных вод, — метаморфические и вулканические процессы. Выделяющиеся во время этих процессов летучие продукты (CO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HCl и др.) поступают в подземные воды и придают им высокую агрессивность, способствующую выщелачиванию вмещающих пород и формированию химического состава, минерализации и газонасыщенности в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стно шес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лав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понентов, из которых состоят минеральные воды – это натрий (Na), кальций (Са), магний (Мg), хлор (Сl), сульфат (SO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и гидрокарбонат (НСО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Перечисленные компоненты содержатся практически во всех подземных водах в большом колич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химическим составом минеральных вод подразумевают солевой состав (качественный и количественн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314F0A-0902-4C38-8D11-49B445792F7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123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 качественному составу минеральные воды различаются на шесть классов: гидрокарбонатные, хлоридные, сульфатные, магниевые, железистые, смеша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 количественному составу минеральные воды делят в зависимости от концентрации солей,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столовые (не превышает 1 грамма на литр вод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слабоминерализованные (1–2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лечебно–столовые (1-10 г</a:t>
            </a:r>
            <a:r>
              <a:rPr b="0" lang="en-US" sz="2000" spc="-1" strike="noStrike">
                <a:solidFill>
                  <a:srgbClr val="000000"/>
                </a:solidFill>
                <a:latin typeface="+mn-lt"/>
                <a:ea typeface="+mn-e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малой минерализации (2–5 г/л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лечебные (10–50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высокой минерализации(15–35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рассольные (35–150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крепко–рассольные (свыше 150 г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Газы, растворённые в минеральных водах, служат показателями геохимических условий, в которых шло формирование данной минеральной воды. В верхней зоне земной коры, где преобладают окислительные процессы, минеральные воды содержат газы воздушного происхождения — азот, кислород, углекислоту (в незначительном объёме). Углеводородные газы и сероводород свидетельствуют о восстановительной химической обстановке, свойственной более глубоким недрам Земли; высокая концентрация углекислоты позволяет считать содержащую её воду сформировавшейся в условиях метаморфической об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49E5B8-4D2F-4EB1-87F5-FE19EC5858C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зависимости от газового состава и наличия специфических компонентов минеральные воды также делят на: углекислые, сульфидные (сероводородные), азотные, кремнистые (H</a:t>
            </a:r>
            <a:r>
              <a:rPr b="0" lang="ru-RU" sz="700" spc="-1" strike="noStrike">
                <a:solidFill>
                  <a:srgbClr val="000000"/>
                </a:solidFill>
                <a:latin typeface="+mn-lt"/>
                <a:ea typeface="+mn-ea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SiO</a:t>
            </a:r>
            <a:r>
              <a:rPr b="0" lang="ru-RU" sz="7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), бромистые, йодистые, железистые, мышьяковистые, радиоактивные (Rn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еакция воды (степень кислотности или щелочности, выражаемая величиной pH) имеет большее значение для оценки её лечебного действия на организм человека. Различают следующие ви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кислые воды имеют pH = 3,5–6,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нейтральные воды имеют pH = 6,8–7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щелочные воды имеют pH = 7,2–8,5 и вы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43114A-6B06-4E52-8CC5-8D5EA0ED777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потребительских предпочтений в выборе минеральной воды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ир минеральных вод очень многообразен. С помощью опроса вы хотим выяснить, как рассуждает потребитель, когда выбирает одну из множества минераль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ст о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98A6AA-11FB-45D6-8B19-F347C0C86F5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159840" indent="0">
              <a:lnSpc>
                <a:spcPct val="100000"/>
              </a:lnSpc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) Как вы думаете, влияет  ли на состояние здоровья употребление минеральной вод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да, влия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нет, не влия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) не знаю, хочу это выясн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7) 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ставьте знак «+» возле тех названий марок воды , которые вы чаще всего употребля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ржом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Есентук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одники Росси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ква Минерале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рзан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вято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дельвей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ирн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ивеевски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рхы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чинская Ривьера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яна Квасова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орши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Tassay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яна Купель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иргород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ий бювет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овотер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льбру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Aqua Naturale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фтус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ерезов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Aqua Sity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ычал-Су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ро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лук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онастыр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глич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бух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юстр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еребряная 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Шмаковка № 1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Зеленоград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Куяльник № 4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рускавецкая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ирнов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Машук № 19»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ужа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лавянов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Хотите ли вы узнать о воздействии минеральной воды на ваш организ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да, мне 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нет, мне безразли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B9DB82-C75D-4678-9ED2-A0B212A3989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8C5-45C8-494B-B41A-830472CD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C44-E1F0-4DB9-982B-0A9B3560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1AB-CA5F-49FC-95B7-CC71E3AA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A398-E819-492A-A8DF-C2BF53AB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4E17-5A1E-4E1F-9340-02E1CBA3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000F-5A28-40E5-B1B3-EFE4B8C4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9308-9482-4F79-8B28-F64AA364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C773-F629-4502-8981-9E9B153B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9A81-8AB8-479E-ACB8-7F04046C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99DD-BA2A-4B7E-B619-FCCA7090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9B9C-D6A7-4B5A-8BC0-FE630BD4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611-31AB-47E4-99C9-CAC9A06B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EA68-0CF1-4792-BC7E-E0FD3996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31FB-9DE5-438F-BC6C-3A6086E8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9E27-0CE7-482C-BA2D-4F750DE6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A267-DF3E-4051-BCBE-F1AE51C9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6E52-E2D4-4F47-B4A5-212B9210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3492-0E66-42AB-B0DC-DC97E9F4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9C3-2B18-4281-AF57-40C1920F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0D5-9226-4F5E-81D5-23CCD2DD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45E3-A1BD-409A-A39A-CACC88FB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7E2-CEBE-4003-A478-DFD610A9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9B8-CA35-417B-9EF4-865051EA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267-E378-4BC2-BD96-CA4CCFAC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044a8a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4686"/>
              </a:gs>
              <a:gs pos="100000">
                <a:srgbClr val="4280e7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4617b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044a8a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e7eb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e7ebf4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B6DD9D-749D-494A-A16A-3AF126E25A4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044a8a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0f6fc6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4B3FA5-DDE6-4B8A-A517-C429B78C96D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chart" Target="../charts/chart4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65440" y="1412640"/>
            <a:ext cx="8278200" cy="216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4617b"/>
                </a:solidFill>
                <a:latin typeface="Lucida Sans Unicode"/>
              </a:rPr>
              <a:t>Минеральная вод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284000" y="3611520"/>
            <a:ext cx="41738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Lucida Sans Unicode"/>
              </a:rPr>
              <a:t>Презентация для потребителей минеральной вод</a:t>
            </a:r>
            <a:r>
              <a:rPr b="0" lang="ru-RU" sz="1400" spc="-1" strike="noStrike">
                <a:solidFill>
                  <a:srgbClr val="04617b"/>
                </a:solidFill>
                <a:latin typeface="Lucida Sans Unicode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539640" y="1124640"/>
            <a:ext cx="2555280" cy="3808800"/>
          </a:xfrm>
          <a:prstGeom prst="rect">
            <a:avLst/>
          </a:prstGeom>
          <a:ln w="9525">
            <a:noFill/>
          </a:ln>
        </p:spPr>
      </p:pic>
      <p:sp>
        <p:nvSpPr>
          <p:cNvPr id="105" name="TextBox 4"/>
          <p:cNvSpPr/>
          <p:nvPr/>
        </p:nvSpPr>
        <p:spPr>
          <a:xfrm>
            <a:off x="5399640" y="5805360"/>
            <a:ext cx="3744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Над презентацией работали: Кравченко Анна 8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Малькова Александра 8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Содержимое 3"/>
          <p:cNvGraphicFramePr/>
          <p:nvPr/>
        </p:nvGraphicFramePr>
        <p:xfrm>
          <a:off x="827640" y="1124640"/>
          <a:ext cx="5482440" cy="3171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2" name="TextBox 4"/>
          <p:cNvSpPr/>
          <p:nvPr/>
        </p:nvSpPr>
        <p:spPr>
          <a:xfrm>
            <a:off x="899640" y="4509000"/>
            <a:ext cx="799236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Исследования показали, чт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6% - часто пьют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59% -  иногда пьют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15% - редко пьют минеральную воду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тсюда делаем вывод, что вопросы о минеральной воде интересуют более 85% опрошенных людей. Значит тема проекта актуаль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1043640" y="260640"/>
            <a:ext cx="6480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Было опрошено 100 человек (10 учителей и 90 учеников различных возрастов) в нашей гимназии. Суммировав ответы, мы получили следующие результат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Диаграмма 6"/>
          <p:cNvGraphicFramePr/>
          <p:nvPr/>
        </p:nvGraphicFramePr>
        <p:xfrm>
          <a:off x="827640" y="332640"/>
          <a:ext cx="5112360" cy="331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5" name="TextBox 9"/>
          <p:cNvSpPr/>
          <p:nvPr/>
        </p:nvSpPr>
        <p:spPr>
          <a:xfrm>
            <a:off x="755640" y="4005000"/>
            <a:ext cx="9000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Если потребители пьют минеральную воду часто, то какую выбирают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Исследования показали, чт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9% - пьют минеральную воду с газ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8% - пьют минеральную воду без газ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3% - пьют минеральную воду с газом и без газ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Мнения разделились почти поровну. Какую лучше выбрать, каждый решит для себя, прочитав нашу брошюру «Минеральная вода для Вас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Содержимое 3"/>
          <p:cNvGraphicFramePr/>
          <p:nvPr/>
        </p:nvGraphicFramePr>
        <p:xfrm>
          <a:off x="179640" y="260640"/>
          <a:ext cx="4608000" cy="345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7" name="TextBox 6"/>
          <p:cNvSpPr/>
          <p:nvPr/>
        </p:nvSpPr>
        <p:spPr>
          <a:xfrm>
            <a:off x="827640" y="5229360"/>
            <a:ext cx="81367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горчили результаты опроса по вопросам № 4 и № 5. Потому, что большая часть участников опроса не интересуется что написано на этикете. На этикете содержится основная информация, которой нужно руководствоваться при выборе минеральной воды. Различные виды минеральных вод используют с различной целью при различных заболеваниях (читайте брошюру «Минеральная вода для Вас»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Содержимое 3"/>
          <p:cNvGraphicFramePr/>
          <p:nvPr/>
        </p:nvGraphicFramePr>
        <p:xfrm>
          <a:off x="4247280" y="332640"/>
          <a:ext cx="4896360" cy="352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29" name="Rectangle 2"/>
          <p:cNvSpPr/>
          <p:nvPr/>
        </p:nvSpPr>
        <p:spPr>
          <a:xfrm>
            <a:off x="4565520" y="3794760"/>
            <a:ext cx="4518360" cy="108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7% - употребляют лечебную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4% - употребляют лечебно-столовую минеральную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0% - употребляют столовую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49% - не придают значению вида минеральной во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3580560"/>
            <a:ext cx="4715640" cy="147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15% - читают этикетку минеральной воды, чтобы узнать её соста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47% - не читают этикетку минеральной воды, чтобы узнать её соста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8% - иногда читают, иногда не читают этикетку минеральной воды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чтобы узнать её соста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Диаграмма 3"/>
          <p:cNvGraphicFramePr/>
          <p:nvPr/>
        </p:nvGraphicFramePr>
        <p:xfrm>
          <a:off x="827640" y="548640"/>
          <a:ext cx="4968360" cy="316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2" name="TextBox 4"/>
          <p:cNvSpPr/>
          <p:nvPr/>
        </p:nvSpPr>
        <p:spPr>
          <a:xfrm>
            <a:off x="1403640" y="4293000"/>
            <a:ext cx="583236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Употребление минеральной воды, безусловно, влияет на здоровье человека. Как укрепляет, и так и ухудшает состояние организма. С этим согласны 63% опрошенных. Жаль, что некоторые люди считают, что минеральная вода не влияет на здоровье (13% опрошенных) и 24 % об этом  ничего не известно. Наша задача объяснить каждому, что различные минеральные воды по-разному влияют на организм. А значит, надо употреблять их внимательно прочитав этикетку и рекомендации медиков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Диаграмма 4"/>
          <p:cNvGraphicFramePr/>
          <p:nvPr/>
        </p:nvGraphicFramePr>
        <p:xfrm>
          <a:off x="323640" y="0"/>
          <a:ext cx="8424720" cy="4896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4" name="TextBox 5"/>
          <p:cNvSpPr/>
          <p:nvPr/>
        </p:nvSpPr>
        <p:spPr>
          <a:xfrm>
            <a:off x="1583280" y="4797000"/>
            <a:ext cx="7560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результате опроса наиболее популярными оказались следующие воды – Аква  Минерале и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Bon Aqua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Святой Источник. Эти воды не имеют полного описания свойств и состава на этикетке, что не дает возможности быстро правильно подобрать для себя воду. А также возникает вопрос о их соответствии и пригодности для частого употребления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ысокой популярностью пользуются Родники России, Есентуки, Архыз, Боржоми, Нарзан. Средней популярностью пользуются Новотерская, Люпецкий бювет, Рычал-Су,          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Липецкая, Эдельвейс. На этикетках этих вод можно определить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их вид и свойства, а значит правильно сориентироваться в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ыборе вод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делав сравнительную характеристику популярности марок минеральных вод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можно сделать вывод, о том, что потребители ориентируются в большей степени на рекламу минеральной воды, нежели на свойства минеральной воды. Это неправильно с точки зрения здоровья. Различные минеральные воды имеют множество различных характеристик, ориентируясь в которых со знанием вопроса можно правильно подобрать для себя на данный момент времени минеральную воду. Минеральная вода один из важных часто употребляемых продуктов в рационе питания человека. Помочь вам сориентироваться в этом вопросе наша цель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Вывод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7" name="Picture 2" descr="C:\Documents and Settings\Admin\Рабочий стол\PLEASE! DON'T TOUCH IT!!!!!!!!!\Музыка\Проект\x_256b030c.jpg"/>
          <p:cNvPicPr/>
          <p:nvPr/>
        </p:nvPicPr>
        <p:blipFill>
          <a:blip r:embed="rId1"/>
          <a:stretch/>
        </p:blipFill>
        <p:spPr>
          <a:xfrm>
            <a:off x="6300360" y="3141000"/>
            <a:ext cx="2448000" cy="336816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138" name="Rectangle 3"/>
          <p:cNvSpPr/>
          <p:nvPr/>
        </p:nvSpPr>
        <p:spPr>
          <a:xfrm flipV="1" rot="10800000">
            <a:off x="2700000" y="3597480"/>
            <a:ext cx="3240000" cy="226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громное разнообразие минеральных вод дает большие возможности их применения для лечебного воздействия на организм человека. Прочтите наши рекомендации в брошюре «Минеральная вода для Вас». Брошюру мы специально разработали для ориентировки потребителей на широком рынке минеральных вод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7640" y="1268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Lucida Sans Unicode"/>
              </a:rPr>
              <a:t>Применение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основном минеральные воды используют как оказывающие лечебное влияние на организм человека. Лечебное воздействие имеет весь комплекс растворённых в них веществ. Наличие специфических биологически активных компонентов (CO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 H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S, As и др.) и особых свойств определяет часто методы их лечебного использования : питьевого лечения и для ванн, купаний, душей, проводимых в бальнеолечебницах и в лечебных бассейнах, а также для ингаляций и полосканий при заболеваниях носоглотки и верхних дыхательных путей, для орошений при гинекологических болезнях, для промываний, главным образом при заболеваниях органов пищеварения, нарушениях обмена веществ и т. д. В качестве основных критериев оценки лечебности минеральных вод в курортологии приняты особенности их химического состава и физических свойства, которые одновременно служат важнейшими показателями для их классификации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Для правильного применения минеральной воды имеет большее значение понимание влияния на организм процесса питья минеральных вод. Минеральная вода в желудке не всасывается.  Всасывание минеральной воды происходит в процессе прохождения по всему пути тонкого кишечника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Химические вещества, входящие в состав минеральной воды, попав в кровь, могут вызвать довольно разнообразные ответные физиологические реакции со стороны систем пищеварения, кровообращения, дыхания, обмена веществ, системы крови, желез внутренней секреции и др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Lucida Sans Unicode"/>
              </a:rPr>
              <a:t>Как влияют минеральные воды на организм человека. </a:t>
            </a:r>
            <a:br>
              <a:rPr sz="3200"/>
            </a:b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7640" y="40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Гидрокарбонат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дназначены для тех, кто занимается спортом, так как оказывают благоприятное влияние при усиленной мышечной работе. Пополняя недостаток карбонатов крови, они повышают щёлочные резервы организма. Под их влиянием в организме уменьшается содержание водородных ионов (pH), которые вместе с ионами хлора служат для выработки соляной кислоты. Они противопоказаны при гастрите, так как выделяющийся при распаде гидрокарботатов углекислый газ стимулирует секрецию желудочного со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ульфат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комендуются тем, у кого наблюдаются проблемы с печенью и желчного пузыря, ожирение и сахарный диабет. Благодаря этим водам  печёночные клетки увеличивают образование желчи, усиливается перистальтика желчевыводящих путей, улучшается отток из желчного пузыря и протоков, тем самым обеспечивается выведение продуктов воспаления, создаются условия, препятствующие выпадению из желчи солей и образованию камней. Категорически нельзя употреблять такую воду детям и подросткам, так как сульфаты препятствуют росту костей, связывая кальций пищи в просвете ЖКТ в нерастворимые сол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Хлорид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особствуют регулировке работы кишечника, желчевыводящих путей и печени, однако их нельзя пить гипертоникам. Они улучшают секрецию пищеварительных желёз. Попадая в желудок, хлоридно–натриевые воды усиливают его перистальтику, стимулируя отделение желудочного сока. Ионы хлора и водорода служат основным материалом, из которого вырабатывается соляная кислота, определяющая кислотность желудочного со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агниевы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могают при стрессовых ситуациях. Противопоказания склонность к расстройству желуд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Железист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назначают при малокровии, заболеваниях желудка и кишечника, нарушениях обмена веществ, гинекологических заболеваниях. Ванны из железистых вод оказывают стимулирующее влияние на кровотворение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3000"/>
          </a:bodyPr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толов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минерализация от 1 до 2 г/л или меньшая — при наличии биологически активных веществ) - имеют низкую минерализацию, поэтому их можно без ограничения использовать для приготовления еды. Они отлично утоляют жажду и обладают приятным мягким вкусом, без постороннего запаха и привкуса. Нормативные документы на минеральные столовые воды отсутствуют. Поэтому критерии отнесения вод к минеральным столовым водам (во многих странах) не стандартизованы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лабоминерализованные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–2 г/л) относят и к столовым, и лечебно–столовым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ечебно-столов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минерализация о  2-8 г/л)- Имеют более высокую концентрацию минеральных веществ.. Достоинство лечебно–столовых минеральных вод состоит в их многофункциональности: их можно употреблять как столовый напиток (не регулярно) и систематически — для лечения (по назначению врача). Бесконтрольное употребление такой воды может привести к нарушению водно-солевого баланса в организме. А для тех, кто страдает какими-либо хроническими заболеваниями, это чревато возникновением обострений и общим ухудшением состояния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малой минерализации (2–5 г/л) 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ечеб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минерализация от 8 до 12 г/л) - В них содержится самое большое количество минералов и микроэлементов. Это настоящее лекарство, применять которое нужно исходя из медицинских показаний. Такую воду используют не только для питья, но и для различных процедур: ванн, орошений, душа, ингаляций. Постоянно утолять жажду лечебной минеральной водой очень рискованно. Ее пьют курсами, как любое другое лекарство, соблюдая при этом определенную дозировку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редней минерализации (5–15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ысокой (15–35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ссольные (35–150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крепко–рассольные (свыше 150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каждый из видов минеральной воды воздействует на организм?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Каждый из компонентов минеральной воды воздействует на организм по-своему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Кальций (Са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обладает противовоспалительным действием, обезвоживает ткани, укрепляет кости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Магний (Мg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хорошо усваивается организмом, снижает кровяное давление, способствует уменьшению спазмов желчного пузыря, снижает уровень холестерина в крови и в желчи, благотворно влияет на нервную систему, вызывает в сочетании с сульфатом слабительный эффект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Натрий (Nа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хорошо всасывается в пищеварительном тракте, участвует в водном обмене организма. Натрий в сочетании с калием (К) поддерживает необходимое давление в тканевых и межтканевых жидкостях организма. Помимо этого, калий участвует в обмене натрия и кальция и необходим для действия многих ферментов в организме человека. Он обладает также мочегонным действием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Гидрокарбонат (НСО</a:t>
            </a:r>
            <a:r>
              <a:rPr b="1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попадая в желудок, реагирует с желудочным соком и выделяет углекислоту, стимулируя тем самым секреторную деятельность желудка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Сульфат (SO</a:t>
            </a:r>
            <a:r>
              <a:rPr b="1" lang="ru-RU" sz="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снижает желудочную секрецию и ее активность, а в сочетании с магнием вызывает слабительный эффект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Хлор (Сl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влияет на выделительную функцию почек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4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каждый из компонентов минеральных вод влияет на организм человека</a:t>
            </a: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? 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4186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Lucida Sans Unicode"/>
              </a:rPr>
              <a:t>Минеральные воды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– это воды, в состав которых входят минеральные соли, газы, органические вещества, радиоактивные вещества и другие химические соединения. Минеральные воды бывают природные и искусственно приготовленные. Искусственные минеральные воды близки по составу к природным. Их изготавливают из химически чистых солей, используя озерную или морскую соль. Природные минеральные воды пользуются большой популярностью у населения. На поверхности Земли природные минеральные воды проявляются в виде источников (родников), а также выводятся из недр буровыми скважинами, глубины которых могут достигать нескольких км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4617b"/>
                </a:solidFill>
                <a:latin typeface="Lucida Sans Unicode"/>
              </a:rPr>
              <a:t>Что такое минеральная вода?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084000" y="1845000"/>
            <a:ext cx="2784960" cy="41637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Если Вы почувствовали недомогание, обратитесь к врачу, установите диагноз заболевания, прочтите наши рекомендации, посоветуйтесь с врачом, лечитесь, и Вы быстро поправитесь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Не пренебрегайте рекомендациями врача по  дозировке минеральной воды, так как чрезмерное употребление ведет к передозировке  организма компонентами минеральной воды, что может вызвать головокружение, нарушение сна, расстройство пищеварения, боли в области головы и шеи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Эффект от питьевого лечения минеральными водами зависит не только от правильного выбора воды, но и от правил её приёма, температуры, количества, время приема взвешенного со временем приема пищи и др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6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правильно употреблять минеральную воду, если у вас есть заболевание. 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8" name="Picture 2" descr="C:\Program Files\Microsoft Office\MEDIA\CAGCAT10\j0240719.wmf"/>
          <p:cNvPicPr/>
          <p:nvPr/>
        </p:nvPicPr>
        <p:blipFill>
          <a:blip r:embed="rId1"/>
          <a:stretch/>
        </p:blipFill>
        <p:spPr>
          <a:xfrm>
            <a:off x="6300360" y="3273840"/>
            <a:ext cx="2088000" cy="327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Содержимое 5"/>
          <p:cNvGraphicFramePr/>
          <p:nvPr/>
        </p:nvGraphicFramePr>
        <p:xfrm>
          <a:off x="467640" y="476640"/>
          <a:ext cx="8229240" cy="4767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желудка: при гастритах с повышенной секреци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Березовская, боржом, джермук, лужанская, плосковская, свалява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 небольшим количеством газа или без газа, 35-4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За 1-1½ ч до еды. Иногда при наличии изжоги, отрыжки после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. Пить воду следует большими глотками, быстро. После еды при отрыжке, изжоге дополнительно 2-3 раза по 5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3 раза: перед завтраком,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при гастритах с пониженной секреци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Арзни, аршан, «Белая горка», дарсун, ессентуки № 4, кемери, миргородская, минская, нарз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 газом или без газа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За 10-15 мин до или во время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. Воду пить медленно, не торопясь, небольшими глотками, в течение 2-5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Язвенная болезнь желудка и двенадцатиперстной киш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«Белая горка», березовская, боржом, буковинская, беркут, джермук, ессентуки № 4, лужанская, плосковская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остояние воды, температура, время и способ приема зависят от кислотности желудочного сока. 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Содержимое 5"/>
          <p:cNvGraphicFramePr/>
          <p:nvPr/>
        </p:nvGraphicFramePr>
        <p:xfrm>
          <a:off x="467640" y="476640"/>
          <a:ext cx="8229240" cy="54072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36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663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кишечника (колит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«Белая горка», березовская, боржом, беркут, джермук, дилижан, драговская, гоголевская, ессентуки № 4, кеме¬ри, крымская, куяльник, лужанская, машук № 19, миргородская, плосковская, рычал-су, саирме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ез газа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40-45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 начале лечения —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75-100 мл и постепенно доводят 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150-200 мл; способ применения воды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: утром натощак, перед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Содержимое 3"/>
          <p:cNvGraphicFramePr/>
          <p:nvPr/>
        </p:nvGraphicFramePr>
        <p:xfrm>
          <a:off x="467640" y="476640"/>
          <a:ext cx="8229240" cy="5328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99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529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печени и желчных путей (гепатиты, холецистит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березовская, боржом, буковинская, джермук, дилижан, драговская, ессентуки № 4, «Ласточка», лужанская, машук № 19, миргородская, плосковская, рычал-су, саирме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 небольшим количеством газа или без газа, 40-45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. По спецпоказаниям разовая доза может быть доведена до 400 мл. В таком случае выпивать не сразу, а в 2-3 приема в течение 30-6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: утром натощак, перед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Содержимое 5"/>
          <p:cNvGraphicFramePr/>
          <p:nvPr/>
        </p:nvGraphicFramePr>
        <p:xfrm>
          <a:off x="467640" y="476640"/>
          <a:ext cx="8229240" cy="54320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39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770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обмена веществ: ожир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боржом, дарасун, джермук, дилижан, драговская, ессентуки № 4, крымская, куяльник, «Ласточка», лужанская, машук № 19, плосковская, рычал-су, ску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остояние воды, время и способ приема завися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1918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ахарный диаб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Березовская, боржом, джермук, дилижан, драговская, ессентуки № 4, крымская, куяльник, «Ласточка», машук № 19, плосковская, рычал-су, саир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 р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Содержимое 3"/>
          <p:cNvGraphicFramePr/>
          <p:nvPr/>
        </p:nvGraphicFramePr>
        <p:xfrm>
          <a:off x="467640" y="476640"/>
          <a:ext cx="8229240" cy="5328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065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26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почек и мочевых путей (пиелит, цисти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шан, березовская, джермук, ессентуки № 4, 20, кишиневская, лужанская, машук № 19, московская, нарзан, рычал-су, свалява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ез газа или с газом, 18-4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. Кроме трех обычных приемов перед едой, воду пьют 3 раза — через 2½-З ч после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154" name="TextBox 2"/>
          <p:cNvSpPr/>
          <p:nvPr/>
        </p:nvSpPr>
        <p:spPr>
          <a:xfrm>
            <a:off x="3564000" y="5877360"/>
            <a:ext cx="5400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Если вы абсолютно здоровы и просто хотите пить, выбрать подходящую лично для Вас минеральную воду Вам помогут наши рекомендации в брошюре «Минеральная вода для Вас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7640" y="148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Как образуется в природе минеральная вода? Об этом существуют различные мнения. Самым распространенным является предположение геолога Эдуарда Зюсса, что газы, выделенные из находящейся в недрах земли раскаленной лавы, проходя через кору земли, постепенно охлаждаются, происходит их конденсация и превращение в жидкость – это и есть минеральная вода. Минеральные воды такого происхождения называются ювенальными, т. е. «девственными». Это мнение постепенно потеряло приверженцев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йчас более признана водозная теория, по которой принято считать, что минеральные воды образуются из атмосферных осадков и других поверхностных вод, которые проникают в различные слои земной коры. При циркуляции в слоях земной коры  в воде растворяются различные химические вещества, содержащиеся в различных породах. Формирование минеральной воды происходит в условиях определенного давления и температуры без светового влияния. Ее химический состав и минерализация зависит от того, через какие породы и слои земной коры она проходит. Что касается температуры воды, то это зависит от того, из какой глубины она выходит. Геологами установлено, что в глубине земли через каждые 33 метра температура больше на 1 С, т.е. по температуре воды можно определить, на какой глубине находится источник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Происхождение минеральных вод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7640" y="980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 территории России и ближнего зарубежья выделяются провинции минеральных вод, каждая из которых отличается гидрогеологическими условиями, особенностями геологического развития, происхождением и физико-химическими характеристиками минеральных вод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Достаточно изолированные пластовые системы артезианских бассейнов представляют собой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солё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рассоль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с минерализацией до 300—400 г/л (иногда до 600 г/л); они содержат газы восстановительной обстановки (углеводороды, сероводород, азот). Складчатые регионы и области омоложенных платформ соответствуют провинциям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углекислых минеральных 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(холодных и термальных) различной степени минерализации. Области проявления новейших тектонических движений относятся к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азотных слабоминерализованных щелоч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, часто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кремнистых термических 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. Территория России и стран СНГ особенно богата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углекислыми минеральными водам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(Кавказская, Забайкальская, Приморская, Камчатская и другие провинции)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 России выделяются следующие типы месторождений минеральных вод:     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платформенные артезианские бассейны (Кашинское, Старорусское, Тюменское, Сестрорец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предгорные и межгорные артезианские бассейны и склоны (Чартакское, Тбилисское, Нальчик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артезианские бассейны, связанные с зонами восходящей разгрузки минеральных вод (Нагутское, Ессентукское, Джалал-Абад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трещинно-жильные воды гидрогеологических массивов (Исти-Суйскос, Кульдурское, Белокурихин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гидрогеологические массивы, связанные с зонами восходящей разгрузки минеральных вод в горизонты грунтовых вод (Дарасунское, Шивандинское, Шмаков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грунтовые минеральные воды (Марциальные воды, Увильдинское, Кисегачское, Боровое и др.)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 зависимости от условий происхождения и местоположения источника, минеральные воды имеют различный состав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5396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Месторождения минеральных вод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7640" y="1989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остав минеральных вод обусловлен историей геологического  развития, характером тектонических структур, литологии, геотермических условий и другими особенностями территории, где образована минеральная вода. Наиболее мощные факторы, обусловливающие формирование газового состава минеральных вод, — метаморфические и вулканические процессы. Выделяющиеся во время этих процессов летучие продукты (C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 HCl и др.) поступают в подземные воды и придают им высокую агрессивность, способствующую выщелачиванию вмещающих пород и формированию химического состава, минерализации и газонасыщенности воды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Известно шесть </a:t>
            </a:r>
            <a:r>
              <a:rPr b="0" i="1" lang="ru-RU" sz="1300" spc="-1" strike="noStrike">
                <a:solidFill>
                  <a:srgbClr val="000000"/>
                </a:solidFill>
                <a:latin typeface="Lucida Sans Unicode"/>
              </a:rPr>
              <a:t>главных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компонентов, из которых состоят минеральные воды – это натрий (Na), кальций (Са), магний (Мg), хлор (Сl), сульфат (S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 и гидрокарбонат (НСО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.Перечисленные компоненты содержатся практически во всех подземных водах в большом количестве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Под химическим составом минеральных вод подразумевают солевой состав (качественный и количественный)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Из чего состоят и как классифицируются минеральные воды?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7640" y="76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7000"/>
          </a:bodyPr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 качественному составу минеральные воды различаются на шесть классов: гидрокарбонатные, хлоридные, сульфатные, магниевые, железистые, смешанные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 количественному составу минеральные воды делят в зависимости от концентрации солей, на: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толовые (не превышает 1 грамма на литр воды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лабоминерализованные (1–2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лечебно–столовые (1-10 г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малой минерализации (2–5 г/л),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лечебные (10–50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высокой минерализации(15–35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ссольные (35–150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крепко–рассольные (свыше 150 г/л)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азы, растворённые в минеральных водах, служат показателями геохимических условий, в которых шло формирование данной минеральной воды. В верхней зоне земной коры, где преобладают окислительные процессы, минеральные воды содержат газы воздушного происхождения — азот, кислород, углекислоту (в незначительном объёме). Углеводородные газы и сероводород свидетельствуют о восстановительной химической обстановке, свойственной более глубоким недрам Земли; высокая концентрация углекислоты позволяет считать содержащую её воду сформировавшейся в условиях метаморфической обстановк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7640" y="6206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зависимости от газового состава и наличия специфических компонентов минеральные воды также делят на: углекислые, сульфидные (сероводородные), азотные, кремнистые (H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Si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, бромистые, йодистые, железистые, мышьяковистые, радиоактивные (Rn) и др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Реакция воды (степень кислотности или щелочности, выражаемая величиной pH) имеет большее значение для оценки её лечебного действия на организм человека. Различают следующие виды: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кислые воды имеют pH = 3,5–6,8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нейтральные воды имеют pH = 6,8–7,2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 щелочные воды имеют pH = 7,2–8,5 и выше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6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Исследование потребительских предпочтений в выборе минеральной воды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Мир минеральных вод очень многообразен. С помощью опроса вы хотим выяснить, как рассуждает потребитель, когда выбирает одну из множества минеральных вод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ctr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Лист опроса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Содержимое 6"/>
          <p:cNvSpPr/>
          <p:nvPr/>
        </p:nvSpPr>
        <p:spPr>
          <a:xfrm>
            <a:off x="1619640" y="213300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1)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Как часто вы пьете минеральную вод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каждый раз, когда испытываю жажду (очень часто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периодами пью, периодами 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не пью (только по назначению врач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2) Сколько в литрах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Lucida Sans Unicode"/>
              </a:rPr>
              <a:t>минеральной воды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вы выпиваете за ден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0,2 литра (стака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0,5 лит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1 лит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г) свой вариант ответа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3)Вы пьете минеральную воду с газом или без газа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с газ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без га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с газом и без газа (разную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4)Читаете ли вы этикетку, чтобы узнать из чего состоит вода, которую вы хотите выпит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да, всегда читаю или выбираю ту о которой помню информац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нет, мне все рав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иногда читаю, иногда 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5) Какой вид минеральной воды вы употребляете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лечебн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лечебно-столов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столов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г) не придаю значения виду минеральной вод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3640" y="260640"/>
            <a:ext cx="82292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) Как вы думаете, влияет  ли на состояние здоровья употребление минеральной воды?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) да, влияет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) нет, не влияет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) не знаю, хочу это выяснить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7) 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оставьте знак «+» возле тех названий марок воды , которые вы чаще всего употребляете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оржом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Есенту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Родники Росси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ква Минерале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ипец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рзан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вято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Эдельвейс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мирн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Дивеевски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рхыз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очинская Ривьер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яна Квасов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оршин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assay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яна Купель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иргород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ипецкий бювет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овотер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Эльбрусси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qua Naturale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фтус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ерезовская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qua Sity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Рычал-Су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оров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олу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онастыр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Углич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Обух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юстр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еребряная Роса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Шмаковка № 1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Зеленоград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«Куяльник № 4»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Трускавецкая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мирнов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«Машук № 19»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ужан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лавянов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Хотите ли вы узнать о воздействии минеральной воды на ваш организм?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) да, мне это интересно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) нет, мне безразлично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693</TotalTime>
  <Application>LibreOffice/7.4.7.2$Linux_X86_64 LibreOffice_project/40$Build-2</Application>
  <AppVersion>15.0000</AppVersion>
  <Words>3973</Words>
  <Paragraphs>41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5:04:22Z</dcterms:created>
  <dc:creator>Admin</dc:creator>
  <dc:description/>
  <dc:language>en-US</dc:language>
  <cp:lastModifiedBy>LEGION</cp:lastModifiedBy>
  <dcterms:modified xsi:type="dcterms:W3CDTF">2014-11-25T09:24:58Z</dcterms:modified>
  <cp:revision>160</cp:revision>
  <dc:subject/>
  <dc:title>Минеральная вод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5</vt:r8>
  </property>
</Properties>
</file>