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0144451739986868"/>
          <c:y val="0.179888775394393"/>
          <c:w val="0.903939592908733"/>
          <c:h val="0.752468505277494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часто вы пьете минеральную воду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часто</c:v>
                </c:pt>
                <c:pt idx="1">
                  <c:v>иногда</c:v>
                </c:pt>
                <c:pt idx="2">
                  <c:v>редко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6</c:v>
                </c:pt>
                <c:pt idx="1">
                  <c:v>59</c:v>
                </c:pt>
                <c:pt idx="2">
                  <c:v>15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39561550774194"/>
          <c:y val="0.593958625809253"/>
          <c:w val="0.12124527315895"/>
          <c:h val="0.25507014372140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Вы пьете минеральную воду с газом и без газа?</a:t>
            </a:r>
          </a:p>
        </c:rich>
      </c:tx>
      <c:layout>
        <c:manualLayout>
          <c:xMode val="edge"/>
          <c:yMode val="edge"/>
          <c:x val="0.127024362765808"/>
          <c:y val="0.0230409738071949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84481059005774"/>
          <c:y val="0.118356700358657"/>
          <c:w val="0.742430643571328"/>
          <c:h val="0.823062710574938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Вы пьете минеральную воду с газом и без газа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с газом</c:v>
                </c:pt>
                <c:pt idx="1">
                  <c:v>без газа</c:v>
                </c:pt>
                <c:pt idx="2">
                  <c:v>с газом и без газа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29</c:v>
                </c:pt>
                <c:pt idx="1">
                  <c:v>38</c:v>
                </c:pt>
                <c:pt idx="2">
                  <c:v>33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5230913310103"/>
          <c:y val="0.715469416441652"/>
          <c:w val="0.272412415834861"/>
          <c:h val="0.24398013747264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Читаете ли вы этикетку, чтобы узнать из чего состоит вода, которую вы хотите выпить?</a:t>
            </a:r>
          </a:p>
        </c:rich>
      </c:tx>
      <c:layout>
        <c:manualLayout>
          <c:xMode val="edge"/>
          <c:yMode val="edge"/>
          <c:x val="0.109366455745645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"/>
          <c:y val="0.242162274763046"/>
          <c:w val="0.715959690649168"/>
          <c:h val="0.757733569419852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Читаете ли вы этикетку, чтобы узнать из чего состоит вода, которую вы хотите выпить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иногда читают, иногда не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15</c:v>
                </c:pt>
                <c:pt idx="1">
                  <c:v>47</c:v>
                </c:pt>
                <c:pt idx="2">
                  <c:v>38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70135957115876"/>
          <c:y val="0.40280867137694"/>
          <c:w val="0.251792335573825"/>
          <c:h val="0.5586055051854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ой вид минеральной воды вы употребляете?</a:t>
            </a:r>
          </a:p>
        </c:rich>
      </c:tx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224231730627849"/>
          <c:y val="0.176920722375268"/>
          <c:w val="0.661961476253492"/>
          <c:h val="0.77471686562595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ой вид минеральной воды вы употребляете?</c:v>
                </c:pt>
              </c:strCache>
            </c:strRef>
          </c:tx>
          <c:spPr>
            <a:gradFill>
              <a:gsLst>
                <a:gs pos="0">
                  <a:srgbClr val="00445f"/>
                </a:gs>
                <a:gs pos="100000">
                  <a:srgbClr val="006e99"/>
                </a:gs>
              </a:gsLst>
              <a:lin ang="16200000"/>
            </a:gradFill>
            <a:ln w="0">
              <a:noFill/>
            </a:ln>
          </c:spPr>
          <c:explosion val="0"/>
          <c:dPt>
            <c:idx val="0"/>
            <c:spPr>
              <a:solidFill>
                <a:srgbClr val="7030a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solidFill>
                  <a:srgbClr val="0f6fc6"/>
                </a:solidFill>
              </a:ln>
            </c:spPr>
          </c:dPt>
          <c:dPt>
            <c:idx val="3"/>
            <c:spPr>
              <a:solidFill>
                <a:srgbClr val="ff00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4"/>
                <c:pt idx="0">
                  <c:v>лечебная</c:v>
                </c:pt>
                <c:pt idx="1">
                  <c:v>лечебно-столовая</c:v>
                </c:pt>
                <c:pt idx="2">
                  <c:v>столовая</c:v>
                </c:pt>
                <c:pt idx="3">
                  <c:v>не придают значению вида минеральной воды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</c:v>
                </c:pt>
                <c:pt idx="1">
                  <c:v>24</c:v>
                </c:pt>
                <c:pt idx="2">
                  <c:v>20</c:v>
                </c:pt>
                <c:pt idx="3">
                  <c:v>49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659001736735135"/>
          <c:y val="0.384324927615754"/>
          <c:w val="0.332724697255862"/>
          <c:h val="0.608476325759722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Как вы думаете влияет ли на здоровье употребление минеральной воды?</a:t>
            </a:r>
          </a:p>
        </c:rich>
      </c:tx>
      <c:layout>
        <c:manualLayout>
          <c:xMode val="edge"/>
          <c:yMode val="edge"/>
          <c:x val="0.177075786117954"/>
          <c:y val="0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194174757281553"/>
          <c:y val="0.201227133280309"/>
          <c:w val="0.85973047384437"/>
          <c:h val="0.79059197818429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ак вы думаете влият ли на здоровье употребление минеральной воды?</c:v>
                </c:pt>
              </c:strCache>
            </c:strRef>
          </c:tx>
          <c:spPr>
            <a:solidFill>
              <a:srgbClr val="0f6fc6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ff000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ffff00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Lucida Sans Unicod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да</c:v>
                </c:pt>
                <c:pt idx="1">
                  <c:v>нет</c:v>
                </c:pt>
                <c:pt idx="2">
                  <c:v>не знают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63</c:v>
                </c:pt>
                <c:pt idx="1">
                  <c:v>13</c:v>
                </c:pt>
                <c:pt idx="2">
                  <c:v>24</c:v>
                </c:pt>
              </c:numCache>
            </c:numRef>
          </c:val>
        </c:ser>
      </c:pie3DChart>
    </c:plotArea>
    <c:legend>
      <c:legendPos val="r"/>
      <c:layout>
        <c:manualLayout>
          <c:xMode val="edge"/>
          <c:yMode val="edge"/>
          <c:x val="0.822426313362442"/>
          <c:y val="0.728804122774237"/>
          <c:w val="0.155829527312795"/>
          <c:h val="0.233814298411288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lang="ru-RU" sz="1400" spc="-1" strike="noStrike">
                <a:solidFill>
                  <a:srgbClr val="000000"/>
                </a:solidFill>
                <a:latin typeface="Lucida Sans Unicode"/>
              </a:defRPr>
            </a:pPr>
            <a:r>
              <a:rPr b="1" lang="ru-RU" sz="1400" spc="-1" strike="noStrike">
                <a:solidFill>
                  <a:srgbClr val="000000"/>
                </a:solidFill>
                <a:latin typeface="Lucida Sans Unicode"/>
              </a:rPr>
              <a:t>Статистика популярности минеральных вод среди опрошенных учителей и учеников МГПГЛ № 1505.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Статистика популярности минеральных вод среди опрошенных учителей и учеников МГПГЛ № 1505.</c:v>
                </c:pt>
              </c:strCache>
            </c:strRef>
          </c:tx>
          <c:spPr>
            <a:gradFill>
              <a:gsLst>
                <a:gs pos="0">
                  <a:srgbClr val="00305c"/>
                </a:gs>
                <a:gs pos="100000">
                  <a:srgbClr val="004f95"/>
                </a:gs>
              </a:gsLst>
              <a:lin ang="16200000"/>
            </a:gra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Lucida Sans Unicode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13"/>
                <c:pt idx="0">
                  <c:v>Аква Минерале</c:v>
                </c:pt>
                <c:pt idx="1">
                  <c:v>Bon Aqua</c:v>
                </c:pt>
                <c:pt idx="2">
                  <c:v>Родники России</c:v>
                </c:pt>
                <c:pt idx="3">
                  <c:v>Святой Источник</c:v>
                </c:pt>
                <c:pt idx="4">
                  <c:v>Есентуки</c:v>
                </c:pt>
                <c:pt idx="5">
                  <c:v>Архыз</c:v>
                </c:pt>
                <c:pt idx="6">
                  <c:v>Боржоми</c:v>
                </c:pt>
                <c:pt idx="7">
                  <c:v>Нарзан</c:v>
                </c:pt>
                <c:pt idx="8">
                  <c:v>Новотерская</c:v>
                </c:pt>
                <c:pt idx="9">
                  <c:v>Люпецкий бювет</c:v>
                </c:pt>
                <c:pt idx="10">
                  <c:v>Рычал-Су</c:v>
                </c:pt>
                <c:pt idx="11">
                  <c:v>Липецкая</c:v>
                </c:pt>
                <c:pt idx="12">
                  <c:v>Эдельвейс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13"/>
                <c:pt idx="0">
                  <c:v>72</c:v>
                </c:pt>
                <c:pt idx="1">
                  <c:v>70</c:v>
                </c:pt>
                <c:pt idx="2">
                  <c:v>48</c:v>
                </c:pt>
                <c:pt idx="3">
                  <c:v>48</c:v>
                </c:pt>
                <c:pt idx="4">
                  <c:v>42</c:v>
                </c:pt>
                <c:pt idx="5">
                  <c:v>42</c:v>
                </c:pt>
                <c:pt idx="6">
                  <c:v>33</c:v>
                </c:pt>
                <c:pt idx="7">
                  <c:v>28</c:v>
                </c:pt>
                <c:pt idx="8">
                  <c:v>18</c:v>
                </c:pt>
                <c:pt idx="9">
                  <c:v>17</c:v>
                </c:pt>
                <c:pt idx="10">
                  <c:v>13</c:v>
                </c:pt>
                <c:pt idx="11">
                  <c:v>12</c:v>
                </c:pt>
                <c:pt idx="12">
                  <c:v>12</c:v>
                </c:pt>
              </c:numCache>
            </c:numRef>
          </c:val>
        </c:ser>
        <c:gapWidth val="150"/>
        <c:overlap val="0"/>
        <c:axId val="61013717"/>
        <c:axId val="71762707"/>
      </c:barChart>
      <c:catAx>
        <c:axId val="61013717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3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71762707"/>
        <c:crosses val="autoZero"/>
        <c:auto val="1"/>
        <c:lblAlgn val="ctr"/>
        <c:lblOffset val="100"/>
        <c:noMultiLvlLbl val="0"/>
      </c:catAx>
      <c:valAx>
        <c:axId val="71762707"/>
        <c:scaling>
          <c:orientation val="minMax"/>
        </c:scaling>
        <c:delete val="0"/>
        <c:axPos val="l"/>
        <c:majorGridlines>
          <c:spPr>
            <a:ln w="9360">
              <a:solidFill>
                <a:srgbClr val="8b8b8b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8b8b8b"/>
            </a:solidFill>
            <a:round/>
          </a:ln>
        </c:spPr>
        <c:txPr>
          <a:bodyPr/>
          <a:lstStyle/>
          <a:p>
            <a:pPr>
              <a:defRPr b="0" sz="1800" spc="-1" strike="noStrike">
                <a:solidFill>
                  <a:srgbClr val="000000"/>
                </a:solidFill>
                <a:latin typeface="Lucida Sans Unicode"/>
              </a:defRPr>
            </a:pPr>
          </a:p>
        </c:txPr>
        <c:crossAx val="61013717"/>
        <c:crosses val="autoZero"/>
        <c:crossBetween val="between"/>
      </c:valAx>
      <c:spPr>
        <a:noFill/>
        <a:ln w="0">
          <a:noFill/>
        </a:ln>
      </c:spPr>
    </c:plotArea>
    <c:legend>
      <c:legendPos val="r"/>
      <c:layout>
        <c:manualLayout>
          <c:xMode val="edge"/>
          <c:yMode val="edge"/>
          <c:x val="0.666580731295763"/>
          <c:y val="0.556710610585753"/>
          <c:w val="0.310287104851598"/>
          <c:h val="0.236539894260115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800" spc="-1" strike="noStrike">
              <a:solidFill>
                <a:srgbClr val="000000"/>
              </a:solidFill>
              <a:latin typeface="Lucida Sans Unicod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C0B773A-9298-46F4-815A-9C96E8A34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инеральная 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ля потребителей минеральной вод</a:t>
            </a:r>
            <a:r>
              <a:rPr b="0" lang="ru-RU" sz="1050" spc="-1" strike="noStrike">
                <a:solidFill>
                  <a:srgbClr val="000000"/>
                </a:solidFill>
                <a:latin typeface="Arial"/>
              </a:rPr>
              <a:t>ы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77BFEE-C9D7-4506-BD79-56F6A6512499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6% - часто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59% -  иногда пьют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редко пьют минеральную вод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97D063-B1F4-476B-A889-CD616C1EC89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Исследования показали, ч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29% - пьют минеральную воду с газ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8% - пьют минеральную воду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33% - пьют минеральную воду с газом и без г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6CDC08D-4635-498A-9BC5-CD7096B3A2CD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е ли вы этикетку, чтобы узнать из чего состоит вода, которую вы хотите выпит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15% -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38% - иногда читают, иногда не читают этикетку минеральной вод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чтобы узнать её соста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7% - употребляют лечебн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4% - употребляют лечебно-столовую минеральн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20% - употребляют столовую минеральную вод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49% - н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Calibri"/>
              </a:rPr>
              <a:t>придают значению вида минеральной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3D9B9F-9643-444F-A180-FD51F801564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2E0EEA1-D6BC-495D-8FE1-CDBF1C43F78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, Эдельвейс. На этикетках этих вод можно определить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их вид и свойства, а значит правильно сориентироваться в 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ыборе 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68D9B9-F0F3-4958-B239-40A57C072DF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в сравнительную характеристику популярности марок минеральных во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BE7594C-62EA-42C4-8978-3741703B231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151200" indent="0" algn="ctr">
              <a:lnSpc>
                <a:spcPct val="100000"/>
              </a:lnSpc>
              <a:buNone/>
            </a:pP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лияют минеральные воды на организм человека.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ме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12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29F044-F893-48DA-AA93-D81B3314612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идрокарбон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ульфат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Хлорид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агниевые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могают при стрессовых ситуациях. Противопоказания склонность к расстройству желуд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Железист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015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473D25-46FE-45E2-8C76-C6F357C0CE32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99360" indent="0" algn="ctr">
              <a:lnSpc>
                <a:spcPct val="100000"/>
              </a:lnSpc>
              <a:buNone/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каждый из видов минеральной воды воздействует на организм?</a:t>
            </a:r>
            <a:br>
              <a:rPr sz="20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слабоминерализованны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–2 г/л) относят и к столовым, и лечебно–столов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о-столовые минеральные во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малой минерализации (2–5 г/л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чебные минеральные вод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средней минерализации (5–15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высокой 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рассольные (35–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крепко–рассольные (свыше 150 г/л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9936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049771-A87E-4702-AD46-D76A9771084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162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каждый из компонентов минеральных вод влияет на организм челове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из компонентов минеральной воды воздействует на организм по-своем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льций (С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обладает противовоспалительным действием, обезвоживает ткани, укрепляет к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агний (Мg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трий (Nа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дрокарбонат (НСО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льфат (SO</a:t>
            </a:r>
            <a:r>
              <a:rPr b="1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 (Сl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лияет на выделительную функцию поч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2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BF2E54-9821-4B63-9F17-4CE97AED21D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такое минеральная во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Минеральные воды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35DEDC-39C0-484E-A7A5-856BEBCA2A6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20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правильно употреблять минеральную воду, если у вас есть заболевание.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3DEFD7-CA45-4503-A281-7DD3C62A34C5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17712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исхождение минеральных вод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712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DC40BC-FCFB-4C48-AF97-A20086971BC6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1468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есторождения минеральных вод.</a:t>
            </a:r>
            <a:br>
              <a:rPr sz="2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Кавказская, Забайкальская, Приморская, Камчатская и другие провинци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грунтовые минеральные воды (Марциальные воды, Увильдинское, Кисегачское, Боровое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46880" indent="0">
              <a:lnSpc>
                <a:spcPct val="100000"/>
              </a:lnSpc>
              <a:buNone/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03896D-CDA0-4D7E-82B1-B40E65B74D4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4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179280" indent="0" algn="ctr">
              <a:lnSpc>
                <a:spcPct val="100000"/>
              </a:lnSpc>
              <a:buNone/>
            </a:pPr>
            <a:br>
              <a:rPr sz="20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чего состоят и как классифицируются минеральные воды?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вестно шес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лав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и гидрокарбонат (НСО</a:t>
            </a:r>
            <a:r>
              <a:rPr b="0" lang="ru-RU" sz="7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87663A9-4C01-4DCC-A37F-6C837B95B39F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5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2000"/>
          </a:bodyPr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По количественному составу минеральные воды делят в зависимости от концентрации солей, н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толовые (не превышает 1 грамма на литр вод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слабоминерализованные (1–2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о–столовые (1-10 г</a:t>
            </a: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малой минерализации (2–5 г/л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лечебные (10–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высокой минерализации(15–35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рассольные (35–150 г/л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-крепко–рассольные (свыше 150 г/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+mn-lt"/>
                <a:ea typeface="+mn-ea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232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ED4EAC-E0FC-4A0E-8CB1-C254D88FDDB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SiO</a:t>
            </a:r>
            <a:r>
              <a:rPr b="0" lang="ru-RU" sz="700" spc="-1" strike="noStrike">
                <a:solidFill>
                  <a:srgbClr val="000000"/>
                </a:solidFill>
                <a:latin typeface="+mn-lt"/>
                <a:ea typeface="+mn-ea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, бромистые, йодистые, железистые, мышьяковистые, радиоактивные (Rn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кислые воды имеют pH = 3,5–6,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нейтральные воды имеют pH = 6,8–7,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- щелочные воды имеют pH = 7,2–8,5 и выш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873910-B21C-4678-BADB-B558CA5F2021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 algn="ctr">
              <a:lnSpc>
                <a:spcPct val="100000"/>
              </a:lnSpc>
              <a:buNone/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ние потребительских предпочтений в выборе минеральной воды.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 algn="ctr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ст о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74CEE73-0173-408B-A365-3F6ABD36FAFB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159840" indent="0">
              <a:lnSpc>
                <a:spcPct val="100000"/>
              </a:lnSpc>
              <a:buNone/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) Как вы думаете, влияет  ли на состояние здоровья употребление минеральной вод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не влия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в) не знаю, хочу это выясн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ставьте знак «+» возле тех названий марок воды , которые вы чаще всего употребля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дельвей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рхы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рши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иргород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Эльбрус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ерезов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оров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Углич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еребряная Ро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Куяльник № 4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мир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Лужан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Славяновск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Хотите ли вы узнать о воздействии минеральной воды на ваш организ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а) да, мне 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б) нет, мне безразли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5984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31B5EA-DF46-40BE-87B7-8564BD414A7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9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F29A-7BDD-4734-9521-AC2DFCE6C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624-3768-4B6E-834D-4246C97C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1F6E-6FFF-40DD-9E1E-F2C96AE4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AC23-328D-483D-9BFC-1944B9FC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7A6A-519E-4065-9620-4E748FD8C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2E60-3A6D-4B93-B8EB-BA5905F4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87AC-4B28-4D9B-A7C1-089E910F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C7D3A-EBE9-4AC5-9098-9D88920F9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900AF-5330-469B-92A4-DCB7246D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4067D-7271-4737-B4C4-DA1F3087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BC7C-F2BB-4030-8CD7-4753AB65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069B-129C-4733-B809-D26B3DA8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706B5-F322-498D-A658-3F25BF2B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2C86-0C27-4C11-8735-6FF353F0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75E0-FCDD-4E90-B2AB-CF82CAEF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EED3-E261-459E-A754-F71EBCA62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5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EDED2-2F28-4EA6-9A95-70F6E058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E9C6-995D-4604-9FAA-D987524AA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04B5-4D5B-4E9C-8A1D-BA7EF60D6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B159-C771-4802-9565-95C0629C1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7E1C-3DA8-41C4-9501-C2CDCA18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644B-2DCC-4148-8512-C6B71791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38455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F1EA-C016-40D9-B358-0EEE2D2D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81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455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2C46-DBD1-44B3-8111-6E443449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 hidden="1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Полилиния 11" hidden="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" name="Прямоугольный треугольник 13" hidden="1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3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4" name="Прямоугольный треугольник 9"/>
          <p:cNvSpPr/>
          <p:nvPr/>
        </p:nvSpPr>
        <p:spPr>
          <a:xfrm>
            <a:off x="0" y="4664160"/>
            <a:ext cx="9150840" cy="360"/>
          </a:xfrm>
          <a:prstGeom prst="rtTriangle">
            <a:avLst/>
          </a:prstGeom>
          <a:gradFill rotWithShape="0">
            <a:gsLst>
              <a:gs pos="0">
                <a:srgbClr val="004686"/>
              </a:gs>
              <a:gs pos="100000">
                <a:srgbClr val="4280e7"/>
              </a:gs>
            </a:gsLst>
            <a:lin ang="3000000"/>
          </a:grad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-44640" bIns="-446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040" cy="182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6" name="Группа 1"/>
          <p:cNvGrpSpPr/>
          <p:nvPr/>
        </p:nvGrpSpPr>
        <p:grpSpPr>
          <a:xfrm>
            <a:off x="-3600" y="4952880"/>
            <a:ext cx="9147600" cy="1911960"/>
            <a:chOff x="-3600" y="4952880"/>
            <a:chExt cx="9147600" cy="1911960"/>
          </a:xfrm>
        </p:grpSpPr>
        <p:sp>
          <p:nvSpPr>
            <p:cNvPr id="7" name="Полилиния 6"/>
            <p:cNvSpPr/>
            <p:nvPr/>
          </p:nvSpPr>
          <p:spPr>
            <a:xfrm>
              <a:off x="1687680" y="4952880"/>
              <a:ext cx="7455960" cy="487800"/>
            </a:xfrm>
            <a:custGeom>
              <a:avLst/>
              <a:gdLst/>
              <a:ahLst/>
              <a:rect l="l" t="t" r="r" b="b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chemeClr val="accent1">
                <a:tint val="65000"/>
                <a:satMod val="115000"/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" name="Полилиния 7"/>
            <p:cNvSpPr/>
            <p:nvPr/>
          </p:nvSpPr>
          <p:spPr>
            <a:xfrm>
              <a:off x="35280" y="5237640"/>
              <a:ext cx="9108360" cy="788400"/>
            </a:xfrm>
            <a:custGeom>
              <a:avLst/>
              <a:gdLst/>
              <a:ahLst/>
              <a:rect l="l" t="t" r="r" b="b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9" name="Полилиния 10"/>
            <p:cNvSpPr/>
            <p:nvPr/>
          </p:nvSpPr>
          <p:spPr>
            <a:xfrm>
              <a:off x="0" y="5001120"/>
              <a:ext cx="9143640" cy="1863720"/>
            </a:xfrm>
            <a:custGeom>
              <a:avLst/>
              <a:gdLst/>
              <a:ahLst/>
              <a:rect l="l" t="t" r="r" b="b"/>
              <a:pathLst>
                <a:path w="5760" h="1248">
                  <a:moveTo>
                    <a:pt x="0" y="0"/>
                  </a:moveTo>
                  <a:lnTo>
                    <a:pt x="0" y="1248"/>
                  </a:lnTo>
                  <a:lnTo>
                    <a:pt x="5760" y="1248"/>
                  </a:lnTo>
                  <a:lnTo>
                    <a:pt x="5760" y="528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3">
                <a:alphaModFix amt="50000"/>
              </a:blip>
              <a:srcRect/>
              <a:tile tx="0" ty="0" sx="50000" sy="50000" algn="t"/>
            </a:blipFill>
            <a:ln w="12700">
              <a:noFill/>
            </a:ln>
            <a:effectLst>
              <a:outerShdw blurRad="50760" dir="5400000" dist="38160" rotWithShape="0">
                <a:srgbClr val="000000">
                  <a:alpha val="35000"/>
                </a:srgbClr>
              </a:outerShdw>
            </a:effectLst>
          </p:spPr>
          <p:style>
            <a:lnRef idx="3">
              <a:schemeClr val="lt1"/>
            </a:lnRef>
            <a:fillRef idx="1">
              <a:schemeClr val="accent1"/>
            </a:fillRef>
            <a:effectRef idx="1">
              <a:schemeClr val="accent1"/>
            </a:effectRef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Lucida Sans Unicode"/>
              </a:endParaRPr>
            </a:p>
          </p:txBody>
        </p:sp>
        <p:cxnSp>
          <p:nvCxnSpPr>
            <p:cNvPr id="10" name="Прямая соединительная линия 11"/>
            <p:cNvCxnSpPr/>
            <p:nvPr/>
          </p:nvCxnSpPr>
          <p:spPr>
            <a:xfrm>
              <a:off x="-3600" y="4997520"/>
              <a:ext cx="9147960" cy="790560"/>
            </a:xfrm>
            <a:prstGeom prst="straightConnector1">
              <a:avLst/>
            </a:prstGeom>
            <a:ln w="12065">
              <a:solidFill>
                <a:srgbClr val="044a8a"/>
              </a:solidFill>
              <a:miter/>
            </a:ln>
          </p:spPr>
        </p:cxnSp>
      </p:grp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e7ebf4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e7ebf4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C5ED87-6E64-4E5A-9885-D047EF2433A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олилиния 12"/>
          <p:cNvSpPr/>
          <p:nvPr/>
        </p:nvSpPr>
        <p:spPr>
          <a:xfrm>
            <a:off x="499320" y="5945040"/>
            <a:ext cx="4940280" cy="920880"/>
          </a:xfrm>
          <a:custGeom>
            <a:avLst/>
            <a:gdLst/>
            <a:ahLst/>
            <a:rect l="l" t="t" r="r" b="b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chemeClr val="accent1">
              <a:tint val="65000"/>
              <a:satMod val="115000"/>
              <a:alpha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" name="Полилиния 11"/>
          <p:cNvSpPr/>
          <p:nvPr/>
        </p:nvSpPr>
        <p:spPr>
          <a:xfrm>
            <a:off x="485640" y="5938920"/>
            <a:ext cx="3690000" cy="933120"/>
          </a:xfrm>
          <a:custGeom>
            <a:avLst/>
            <a:gdLst/>
            <a:ahLst/>
            <a:rect l="l" t="t" r="r" b="b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" name="Прямоугольный треугольник 13"/>
          <p:cNvSpPr/>
          <p:nvPr/>
        </p:nvSpPr>
        <p:spPr>
          <a:xfrm>
            <a:off x="-6120" y="5791320"/>
            <a:ext cx="3402000" cy="1080360"/>
          </a:xfrm>
          <a:prstGeom prst="rtTriangle">
            <a:avLst/>
          </a:prstGeom>
          <a:blipFill rotWithShape="0">
            <a:blip r:embed="rId2">
              <a:alphaModFix amt="50000"/>
            </a:blip>
            <a:srcRect/>
            <a:tile tx="0" ty="0" sx="50000" sy="50000" algn="t"/>
          </a:blipFill>
          <a:ln w="12700">
            <a:noFill/>
          </a:ln>
          <a:effectLst>
            <a:outerShdw blurRad="50760" dir="5400000" dist="381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Lucida Sans Unicode"/>
            </a:endParaRPr>
          </a:p>
        </p:txBody>
      </p:sp>
      <p:cxnSp>
        <p:nvCxnSpPr>
          <p:cNvPr id="54" name="Прямая соединительная линия 14"/>
          <p:cNvCxnSpPr/>
          <p:nvPr/>
        </p:nvCxnSpPr>
        <p:spPr>
          <a:xfrm>
            <a:off x="-9000" y="5787720"/>
            <a:ext cx="3405600" cy="1084680"/>
          </a:xfrm>
          <a:prstGeom prst="straightConnector1">
            <a:avLst/>
          </a:prstGeom>
          <a:ln w="12065">
            <a:solidFill>
              <a:srgbClr val="044a8a"/>
            </a:solidFill>
            <a:miter/>
          </a:ln>
        </p:spPr>
      </p:cxnSp>
      <p:sp>
        <p:nvSpPr>
          <p:cNvPr id="55" name="PlaceHolder 1"/>
          <p:cNvSpPr>
            <a:spLocks noGrp="1"/>
          </p:cNvSpPr>
          <p:nvPr>
            <p:ph type="body"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Образец текста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1720" indent="-228600">
              <a:lnSpc>
                <a:spcPct val="100000"/>
              </a:lnSpc>
              <a:spcBef>
                <a:spcPts val="323"/>
              </a:spcBef>
              <a:buClr>
                <a:srgbClr val="0f6fc6"/>
              </a:buClr>
              <a:buFont typeface="Verdana"/>
              <a:buChar char="◦"/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торой уровень</a:t>
            </a:r>
            <a:endParaRPr b="0" lang="ru-RU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968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lnSpc>
                <a:spcPct val="100000"/>
              </a:lnSpc>
              <a:spcBef>
                <a:spcPts val="349"/>
              </a:spcBef>
              <a:buClr>
                <a:srgbClr val="009dd9"/>
              </a:buClr>
              <a:buFont typeface="Wingdings 2" charset="2"/>
              <a:buChar char=""/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6726960" y="6408000"/>
            <a:ext cx="1919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5"/>
          </p:nvPr>
        </p:nvSpPr>
        <p:spPr>
          <a:xfrm>
            <a:off x="4380120" y="6408000"/>
            <a:ext cx="23504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000"/>
            <a:ext cx="36540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F225B6-F515-4B1B-B25B-33949F24360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5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65440" y="1412640"/>
            <a:ext cx="8278200" cy="216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ru-RU" sz="4800" spc="-1" strike="noStrike">
                <a:solidFill>
                  <a:srgbClr val="04617b"/>
                </a:solidFill>
                <a:latin typeface="Lucida Sans Unicode"/>
              </a:rPr>
              <a:t>Минеральная вода</a:t>
            </a:r>
            <a:endParaRPr b="0" lang="ru-RU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284000" y="3611520"/>
            <a:ext cx="4173840" cy="1199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t">
            <a:normAutofit/>
          </a:bodyPr>
          <a:p>
            <a:pPr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700" spc="-1" strike="noStrike">
                <a:solidFill>
                  <a:srgbClr val="04617b"/>
                </a:solidFill>
                <a:latin typeface="Lucida Sans Unicode"/>
              </a:rPr>
              <a:t>Презентация для потребителей минеральной вод</a:t>
            </a:r>
            <a:r>
              <a:rPr b="0" lang="ru-RU" sz="1400" spc="-1" strike="noStrike">
                <a:solidFill>
                  <a:srgbClr val="04617b"/>
                </a:solidFill>
                <a:latin typeface="Lucida Sans Unicode"/>
              </a:rPr>
              <a:t>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539640" y="1124640"/>
            <a:ext cx="2555280" cy="3808800"/>
          </a:xfrm>
          <a:prstGeom prst="rect">
            <a:avLst/>
          </a:prstGeom>
          <a:ln w="9525">
            <a:noFill/>
          </a:ln>
        </p:spPr>
      </p:pic>
      <p:sp>
        <p:nvSpPr>
          <p:cNvPr id="105" name="TextBox 4"/>
          <p:cNvSpPr/>
          <p:nvPr/>
        </p:nvSpPr>
        <p:spPr>
          <a:xfrm>
            <a:off x="5399640" y="5805360"/>
            <a:ext cx="374400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Над презентацией работали: Кравченко Анн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ffffff"/>
                </a:solidFill>
                <a:latin typeface="Lucida Sans Unicode"/>
              </a:rPr>
              <a:t>Малькова Александра 8 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Содержимое 3"/>
          <p:cNvGraphicFramePr/>
          <p:nvPr/>
        </p:nvGraphicFramePr>
        <p:xfrm>
          <a:off x="827640" y="1124640"/>
          <a:ext cx="5482440" cy="3171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2" name="TextBox 4"/>
          <p:cNvSpPr/>
          <p:nvPr/>
        </p:nvSpPr>
        <p:spPr>
          <a:xfrm>
            <a:off x="899640" y="4509000"/>
            <a:ext cx="799236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6% - часто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59% -  иногда пьют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редко пьют минеральную воду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тсюда делаем вывод, что вопросы о минеральной воде интересуют более 85% опрошенных людей. Значит тема проекта актуальн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1043640" y="260640"/>
            <a:ext cx="648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Было опрошено 100 человек (10 учителей и 90 учеников различных возрастов) в нашей гимназии. Суммировав ответы, мы получили следующие результат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Диаграмма 6"/>
          <p:cNvGraphicFramePr/>
          <p:nvPr/>
        </p:nvGraphicFramePr>
        <p:xfrm>
          <a:off x="827640" y="332640"/>
          <a:ext cx="5112360" cy="331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5" name="TextBox 9"/>
          <p:cNvSpPr/>
          <p:nvPr/>
        </p:nvSpPr>
        <p:spPr>
          <a:xfrm>
            <a:off x="755640" y="4005000"/>
            <a:ext cx="900072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Если потребители пьют минеральную воду часто, то какую выбирают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Исследования показали, что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9% - пьют минеральную воду с газом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пьют минеральную воду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3% - пьют минеральную воду с газом и без газ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Мнения разделились почти поровну. Какую лучше выбрать, каждый решит для себя, прочитав нашу брошюру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Содержимое 3"/>
          <p:cNvGraphicFramePr/>
          <p:nvPr/>
        </p:nvGraphicFramePr>
        <p:xfrm>
          <a:off x="179640" y="260640"/>
          <a:ext cx="4608000" cy="3456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27" name="TextBox 6"/>
          <p:cNvSpPr/>
          <p:nvPr/>
        </p:nvSpPr>
        <p:spPr>
          <a:xfrm>
            <a:off x="827640" y="5229360"/>
            <a:ext cx="813672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орчили результаты опроса по вопросам № 4 и № 5. Потому, что большая часть участников опроса не интересуется что написано на этикете. На этикете содержится основная информация, которой нужно руководствоваться при выборе минеральной воды. Различные виды минеральных вод используют с различной целью при различных заболеваниях (читайте брошюру «Минеральная вода для Вас»)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Содержимое 3"/>
          <p:cNvGraphicFramePr/>
          <p:nvPr/>
        </p:nvGraphicFramePr>
        <p:xfrm>
          <a:off x="4247280" y="332640"/>
          <a:ext cx="4896360" cy="352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29" name="Rectangle 2"/>
          <p:cNvSpPr/>
          <p:nvPr/>
        </p:nvSpPr>
        <p:spPr>
          <a:xfrm>
            <a:off x="4565520" y="3794760"/>
            <a:ext cx="4518360" cy="1080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7% - употребляют лечебн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4% - употребляют лечебно-столовую минеральную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20% - употребляют столовую минеральную воду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9% - не придают значению вида минеральной воды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0" y="3580560"/>
            <a:ext cx="4715640" cy="1476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15% -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47% - не читают этикетку минеральной воды, чтобы узнать её состав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38% - иногда читают, иногда не читают этикетку минеральной воды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чтобы узнать её состав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Диаграмма 3"/>
          <p:cNvGraphicFramePr/>
          <p:nvPr/>
        </p:nvGraphicFramePr>
        <p:xfrm>
          <a:off x="827640" y="548640"/>
          <a:ext cx="4968360" cy="3168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2" name="TextBox 4"/>
          <p:cNvSpPr/>
          <p:nvPr/>
        </p:nvSpPr>
        <p:spPr>
          <a:xfrm>
            <a:off x="1403640" y="4293000"/>
            <a:ext cx="5832360" cy="16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Употребление минеральной воды, безусловно, влияет на здоровье человека. Как укрепляет, и так и ухудшает состояние организма. С этим согласны 63% опрошенных. Жаль, что некоторые люди считают, что минеральная вода не влияет на здоровье (13% опрошенных) и 24 % об этом  ничего не известно. Наша задача объяснить каждому, что различные минеральные воды по-разному влияют на организм. А значит, надо употреблять их внимательно прочитав этикетку и рекомендации медиков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Диаграмма 4"/>
          <p:cNvGraphicFramePr/>
          <p:nvPr/>
        </p:nvGraphicFramePr>
        <p:xfrm>
          <a:off x="323640" y="0"/>
          <a:ext cx="8424720" cy="48963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34" name="TextBox 5"/>
          <p:cNvSpPr/>
          <p:nvPr/>
        </p:nvSpPr>
        <p:spPr>
          <a:xfrm>
            <a:off x="1583280" y="4797000"/>
            <a:ext cx="756036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результате опроса наиболее популярными оказались следующие воды – Аква  Минерале и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Святой Источник. Эти воды не имеют полного описания свойств и состава на этикетке, что не дает возможности быстро правильно подобрать для себя воду. А также возникает вопрос о их соответствии и пригодности для частого употребления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сокой популярностью пользуются Родники России, Есентуки, Архыз, Боржоми, Нарзан. Средней популярностью пользуются Новотерская, Люпецкий бювет, Рычал-Су,          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пецкая, Эдельвейс. На этикетках этих вод можно определить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х вид и свойства, а значит правильно сориентироваться в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ыборе воды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делав сравнительную характеристику популярности марок минеральных вод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</a:rPr>
              <a:t>,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можно сделать вывод, о том, что потребители ориентируются в большей степени на рекламу минеральной воды, нежели на свойства минеральной воды. Это неправильно с точки зрения здоровья. Различные минеральные воды имеют множество различных характеристик, ориентируясь в которых со знанием вопроса можно правильно подобрать для себя на данный момент времени минеральную воду. Минеральная вода один из важных часто употребляемых продуктов в рационе питания человека. Помочь вам сориентироваться в этом вопросе наша цел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Вывод</a:t>
            </a: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37" name="Picture 2" descr="C:\Documents and Settings\Admin\Рабочий стол\PLEASE! DON'T TOUCH IT!!!!!!!!!\Музыка\Проект\x_256b030c.jpg"/>
          <p:cNvPicPr/>
          <p:nvPr/>
        </p:nvPicPr>
        <p:blipFill>
          <a:blip r:embed="rId1"/>
          <a:stretch/>
        </p:blipFill>
        <p:spPr>
          <a:xfrm>
            <a:off x="6300360" y="3141000"/>
            <a:ext cx="2448000" cy="3368160"/>
          </a:xfrm>
          <a:prstGeom prst="rect">
            <a:avLst/>
          </a:prstGeom>
          <a:ln cap="sq" w="38100">
            <a:solidFill>
              <a:srgbClr val="000000"/>
            </a:solidFill>
            <a:miter/>
          </a:ln>
          <a:effectLst>
            <a:outerShdw algn="tl" blurRad="50760" dir="2700000" dist="37674" rotWithShape="0">
              <a:srgbClr val="000000">
                <a:alpha val="43000"/>
              </a:srgbClr>
            </a:outerShdw>
          </a:effectLst>
        </p:spPr>
      </p:pic>
      <p:sp>
        <p:nvSpPr>
          <p:cNvPr id="138" name="Rectangle 3"/>
          <p:cNvSpPr/>
          <p:nvPr/>
        </p:nvSpPr>
        <p:spPr>
          <a:xfrm flipV="1" rot="10800000">
            <a:off x="2700000" y="3597480"/>
            <a:ext cx="3240000" cy="2268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  <a:ea typeface="Calibri"/>
              </a:rPr>
              <a:t>Огромное разнообразие минеральных вод дает большие возможности их применения для лечебного воздействия на организм человека. Прочтите наши рекомендации в брошюре «Минеральная вода для Вас». Брошюру мы специально разработали для ориентировки потребителей на широком рынке минеральных вод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7640" y="1268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Применение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основном минеральные воды используют как оказывающие лечебное влияние на организм человека. Лечебное воздействие имеет весь комплекс растворённых в них веществ. Наличие специфических биологически активных компонентов (CO</a:t>
            </a:r>
            <a:r>
              <a:rPr b="0" lang="en-US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, As и др.) и особых свойств определяет часто методы их лечебного использования : питьевого лечения и для ванн, купаний, душей, проводимых в бальнеолечебницах и в лечебных бассейнах, а также для ингаляций и полосканий при заболеваниях носоглотки и верхних дыхательных путей, для орошений при гинекологических болезнях, для промываний, главным образом при заболеваниях органов пищеварения, нарушениях обмена веществ и т. д. В качестве основных критериев оценки лечебности минеральных вод в курортологии приняты особенности их химического состава и физических свойства, которые одновременно служат важнейшими показателями для их классификаци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Для правильного применения минеральной воды имеет большее значение понимание влияния на организм процесса питья минеральных вод. Минеральная вода в желудке не всасывается.  Всасывание минеральной воды происходит в процессе прохождения по всему пути тонкого кишечник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    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Химические вещества, входящие в состав минеральной воды, попав в кровь, могут вызвать довольно разнообразные ответные физиологические реакции со стороны систем пищеварения, кровообращения, дыхания, обмена веществ, системы крови, желез внутренней секреции и др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Как влияют минеральные воды на организм человека. </a:t>
            </a:r>
            <a:br>
              <a:rPr sz="3200"/>
            </a:br>
            <a:br>
              <a:rPr sz="3200"/>
            </a:b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67640" y="40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Гидрокарбон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редназначены для тех, кто занимается спортом, так как оказывают благоприятное влияние при усиленной мышечной работе. Пополняя недостаток карбонатов крови, они повышают щёлочные резервы организма. Под их влиянием в организме уменьшается содержание водородных ионов (pH), которые вместе с ионами хлора служат для выработки соляной кислоты. Они противопоказаны при гастрите, так как выделяющийся при распаде гидрокарботатов углекислый газ стимулирует секрецию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ульфат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рекомендуются тем, у кого наблюдаются проблемы с печенью и желчного пузыря, ожирение и сахарный диабет. Благодаря этим водам  печёночные клетки увеличивают образование желчи, усиливается перистальтика желчевыводящих путей, улучшается отток из желчного пузыря и протоков, тем самым обеспечивается выведение продуктов воспаления, создаются условия, препятствующие выпадению из желчи солей и образованию камней. Категорически нельзя употреблять такую воду детям и подросткам, так как сульфаты препятствуют росту костей, связывая кальций пищи в просвете ЖКТ в нерастворимые сол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Хлорид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пособствуют регулировке работы кишечника, желчевыводящих путей и печени, однако их нельзя пить гипертоникам. Они улучшают секрецию пищеварительных желёз. Попадая в желудок, хлоридно–натриевые воды усиливают его перистальтику, стимулируя отделение желудочного сока. Ионы хлора и водорода служат основным материалом, из которого вырабатывается соляная кислота, определяющая кислотность желудочного со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агниевые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могают при стрессовых ситуациях. Противопоказания склонность к расстройству желудка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8400" indent="-2368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Железист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назначают при малокровии, заболеваниях желудка и кишечника, нарушениях обмена веществ, гинекологических заболеваниях. Ванны из железистых вод оказывают стимулирующее влияние на кровотворени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3000"/>
          </a:bodyPr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т 1 до 2 г/л или меньшая — при наличии биологически активных веществ) - имеют низкую минерализацию, поэтому их можно без ограничения использовать для приготовления еды. Они отлично утоляют жажду и обладают приятным мягким вкусом, без постороннего запаха и привкуса. Нормативные документы на минеральные столовые воды отсутствуют. Поэтому критерии отнесения вод к минеральным столовым водам (во многих странах) не стандартизованы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</a:t>
            </a: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1–2 г/л) относят и к столовым, и лечебно–столовым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о-столовые минеральные воды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(минерализация о  2-8 г/л)- Имеют более высокую концентрацию минеральных веществ.. Достоинство лечебно–столовых минеральных вод состоит в их многофункциональности: их можно употреблять как столовый напиток (не регулярно) и систематически — для лечения (по назначению врача). Бесконтрольное употребление такой воды может привести к нарушению водно-солевого баланса в организме. А для тех, кто страдает какими-либо хроническими заболеваниями, это чревато возникновением обострений и общим ухудшением состояния.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 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2700" spc="-1" strike="noStrike">
                <a:solidFill>
                  <a:srgbClr val="000000"/>
                </a:solidFill>
                <a:latin typeface="Lucida Sans Unicode"/>
              </a:rPr>
              <a:t>Лечебные минеральные воды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(минерализация от 8 до 12 г/л) - В них содержится самое большое количество минералов и микроэлементов. Это настоящее лекарство, применять которое нужно исходя из медицинских показаний. Такую воду используют не только для питья, но и для различных процедур: ванн, орошений, душа, ингаляций. Постоянно утолять жажду лечебной минеральной водой очень рискованно. Ее пьют курсами, как любое другое лекарство, соблюдая при этом определенную дозировку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средней минерализации (5–15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 высокой 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30840" indent="-2314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видов минеральной воды воздействует на организм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ждый из компонентов минеральной воды воздействует на организм по-своему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Кальций (С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обладает противовоспалительным действием, обезвоживает ткани, укрепляет кости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Магний (Мg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усваивается организмом, снижает кровяное давление, способствует уменьшению спазмов желчного пузыря, снижает уровень холестерина в крови и в желчи, благотворно влияет на нервную систему, вызывает в сочетании с сульфатом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Натрий (Nа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хорошо всасывается в пищеварительном тракте, участвует в водном обмене организма. Натрий в сочетании с калием (К) поддерживает необходимое давление в тканевых и межтканевых жидкостях организма. Помимо этого, калий участвует в обмене натрия и кальция и необходим для действия многих ферментов в организме человека. Он обладает также мочегонным действием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Гидрокарбонат (НСО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1" lang="en-US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попадая в желудок, реагирует с желудочным соком и выделяет углекислоту, стимулируя тем самым секреторную деятельность желудка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Сульфат (SO</a:t>
            </a:r>
            <a:r>
              <a:rPr b="1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снижает желудочную секрецию и ее активность, а в сочетании с магнием вызывает слабительный эффект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>
                <a:solidFill>
                  <a:srgbClr val="000000"/>
                </a:solidFill>
                <a:latin typeface="Lucida Sans Unicode"/>
              </a:rPr>
              <a:t>Хлор (Сl)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влияет на выделительную функцию почек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4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каждый из компонентов минеральных вод влияет на организм человека</a:t>
            </a:r>
            <a:r>
              <a:rPr b="1" lang="ru-RU" sz="4100" spc="-1" strike="noStrike">
                <a:solidFill>
                  <a:srgbClr val="04617b"/>
                </a:solidFill>
                <a:latin typeface="Lucida Sans Unicode"/>
              </a:rPr>
              <a:t>?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41864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3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ые воды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– это воды, в состав которых входят минеральные соли, газы, органические вещества, радиоактивные вещества и другие химические соединения. Минеральные воды бывают природные и искусственно приготовленные. Искусственные минеральные воды близки по составу к природным. Их изготавливают из химически чистых солей, используя озерную или морскую соль. Природные минеральные воды пользуются большой популярностью у населения. На поверхности Земли природные минеральные воды проявляются в виде источников (родников), а также выводятся из недр буровыми скважинами, глубины которых могут достигать нескольких км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4617b"/>
                </a:solidFill>
                <a:latin typeface="Lucida Sans Unicode"/>
              </a:rPr>
              <a:t>Что такое минеральная вода?</a:t>
            </a:r>
            <a:endParaRPr b="0" lang="ru-RU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084000" y="1845000"/>
            <a:ext cx="2784960" cy="4163760"/>
          </a:xfrm>
          <a:prstGeom prst="rect">
            <a:avLst/>
          </a:prstGeom>
          <a:ln w="9525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почувствовали недомогание, обратитесь к врачу, установите диагноз заболевания, прочтите наши рекомендации, посоветуйтесь с врачом, лечитесь, и Вы быстро поправитесь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Не пренебрегайте рекомендациями врача по  дозировке минеральной воды, так как чрезмерное употребление ведет к передозировке  организма компонентами минеральной воды, что может вызвать головокружение, нарушение сна, расстройство пищеварения, боли в области головы и шеи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Эффект от питьевого лечения минеральными водами зависит не только от правильного выбора воды, но и от правил её приёма, температуры, количества, время приема взвешенного со временем приема пищи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Как правильно употреблять минеральную воду, если у вас есть заболевание. 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148" name="Picture 2" descr="C:\Program Files\Microsoft Office\MEDIA\CAGCAT10\j0240719.wmf"/>
          <p:cNvPicPr/>
          <p:nvPr/>
        </p:nvPicPr>
        <p:blipFill>
          <a:blip r:embed="rId1"/>
          <a:stretch/>
        </p:blipFill>
        <p:spPr>
          <a:xfrm>
            <a:off x="6300360" y="3273840"/>
            <a:ext cx="2088000" cy="327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Содержимое 5"/>
          <p:cNvGraphicFramePr/>
          <p:nvPr/>
        </p:nvGraphicFramePr>
        <p:xfrm>
          <a:off x="467640" y="476640"/>
          <a:ext cx="8229240" cy="476748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желудка: при гастритах с повыш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лужанская, плосковская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небольшим количеством газа или без газа, 35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-1½ ч до еды. Иногда при наличии изжоги, отрыжки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Пить воду следует большими глотками, быстро. После еды при отрыжке, изжоге дополнительно 2-3 раза по 5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3 раза: перед завтраком,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при гастритах с пониженной секрецие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Арзни, аршан, «Белая горка», дарсун, ессентуки № 4, кемери, миргородская, минская, нарз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 газом или 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За 10-15 мин до или во время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. Воду пить медленно, не торопясь, небольшими глотками, в течение 2-5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-------------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  <a:tr h="370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Язвенная болезнь желудка и двенадцатиперстной киш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«Белая горка», березовская, боржом, буковинская, беркут, джермук, ессентуки № 4, лужанская, плосковская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gridSpan="3"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Состояние воды, температура, время и способ приема зависят от кислотности желудочного сока. 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Содержимое 5"/>
          <p:cNvGraphicFramePr/>
          <p:nvPr/>
        </p:nvGraphicFramePr>
        <p:xfrm>
          <a:off x="467640" y="476640"/>
          <a:ext cx="8229240" cy="54072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3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6638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кишечника (кол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«Белая горка», березовская, боржом, беркут, джермук, дилижан, драговская, гоголевская, ессентуки № 4, кеме¬ри, крымская, куяльник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 начале лечения —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75-100 мл и постепенно доводят д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50-200 мл; способ применения воды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799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5291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ечени и желчных путей (гепатиты, холециститы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ерезовская, боржом, буковинская, джермук, дилижан, драговская, ессентуки № 4, «Ласточка», лужанская, машук № 19, миргородская, плосковская, рычал-су, саирме, свалява, скури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 небольшим количеством газа или без газа, 40-45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По спецпоказаниям разовая доза может быть доведена до 400 мл. В таком случае выпивать не сразу, а в 2-3 приема в течение 30-60 ми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: утром натощак, перед обедом и ужин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Содержимое 5"/>
          <p:cNvGraphicFramePr/>
          <p:nvPr/>
        </p:nvGraphicFramePr>
        <p:xfrm>
          <a:off x="467640" y="476640"/>
          <a:ext cx="8229240" cy="54320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6393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2770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обмена веществ: ожире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зни, аршан, боржом, дарасун, джермук, дилижан, драговская, ессентуки № 4, крымская, куяльник, «Ласточка», лужанская, машук № 19, плосковская, рычал-су, скур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 </a:t>
                      </a: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остояние воды, время и способ приема завися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3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  <a:tr h="19180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сахарный диабе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Березовская, боржом, джермук, дилижан, драговская, ессентуки № 4, крымская, куяльник, «Ласточка», машук № 19, плосковская, рычал-су, саирм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18-2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00-300 м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0" lang="ru-RU" sz="1100" spc="-1" strike="noStrike">
                          <a:solidFill>
                            <a:schemeClr val="dk1"/>
                          </a:solidFill>
                          <a:latin typeface="Calibri"/>
                          <a:ea typeface="Calibri"/>
                        </a:rPr>
                        <a:t>2 ра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Lucida Sans Unicode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7ebf4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Содержимое 3"/>
          <p:cNvGraphicFramePr/>
          <p:nvPr/>
        </p:nvGraphicFramePr>
        <p:xfrm>
          <a:off x="467640" y="476640"/>
          <a:ext cx="8229240" cy="532836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  <a:gridCol w="1371600"/>
              </a:tblGrid>
              <a:tr h="10656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Название заболева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екомендуемые минеральные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Состояние и температура во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Время при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Разовая доза воды (мл), способ примен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lt1"/>
                          </a:solidFill>
                          <a:latin typeface="Cambria"/>
                          <a:ea typeface="Times New Roman"/>
                        </a:rPr>
                        <a:t>Количество приемов воды в сутк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262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олезни почек и мочевых путей (пиелит, цистит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Аршан, березовская, джермук, ессентуки № 4, 20, кишиневская, лужанская, машук № 19, московская, нарзан, рычал-су, свалява, славяновская, смирновска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Без газа или с газом, 18-40°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Время приема зависит от кислотности желудочного со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r>
                        <a:rPr b="1" lang="ru-RU" sz="1100" spc="-1" strike="noStrike">
                          <a:solidFill>
                            <a:schemeClr val="dk1"/>
                          </a:solidFill>
                          <a:latin typeface="Cambria"/>
                          <a:ea typeface="Times New Roman"/>
                        </a:rPr>
                        <a:t>200-300 мл. Кроме трех обычных приемов перед едой, воду пьют 3 раза — через 2½-З ч после е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</a:pPr>
                      <a:endParaRPr b="0" lang="ru-RU" sz="1100" spc="-1" strike="noStrike">
                        <a:solidFill>
                          <a:schemeClr val="dk1"/>
                        </a:solidFill>
                        <a:latin typeface="Calibri"/>
                        <a:ea typeface="Calibri"/>
                      </a:endParaRPr>
                    </a:p>
                  </a:txBody>
                  <a:tcPr anchor="t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d4ea"/>
                    </a:solidFill>
                  </a:tcPr>
                </a:tc>
              </a:tr>
            </a:tbl>
          </a:graphicData>
        </a:graphic>
      </p:graphicFrame>
      <p:sp>
        <p:nvSpPr>
          <p:cNvPr id="154" name="TextBox 2"/>
          <p:cNvSpPr/>
          <p:nvPr/>
        </p:nvSpPr>
        <p:spPr>
          <a:xfrm>
            <a:off x="3564000" y="5877360"/>
            <a:ext cx="540036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Если вы абсолютно здоровы и просто хотите пить, выбрать подходящую лично для Вас минеральную воду Вам помогут наши рекомендации в брошюре «Минеральная вода для Вас»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67640" y="148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Как образуется в природе минеральная вода? Об этом существуют различные мнения. Самым распространенным является предположение геолога Эдуарда Зюсса, что газы, выделенные из находящейся в недрах земли раскаленной лавы, проходя через кору земли, постепенно охлаждаются, происходит их конденсация и превращение в жидкость – это и есть минеральная вода. Минеральные воды такого происхождения называются ювенальными, т. е. «девственными». Это мнение постепенно потеряло приверженцев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ейчас более признана водозная теория, по которой принято считать, что минеральные воды образуются из атмосферных осадков и других поверхностных вод, которые проникают в различные слои земной коры. При циркуляции в слоях земной коры  в воде растворяются различные химические вещества, содержащиеся в различных породах. Формирование минеральной воды происходит в условиях определенного давления и температуры без светового влияния. Ее химический состав и минерализация зависит от того, через какие породы и слои земной коры она проходит. Что касается температуры воды, то это зависит от того, из какой глубины она выходит. Геологами установлено, что в глубине земли через каждые 33 метра температура больше на 1 С, т.е. по температуре воды можно определить, на какой глубине находится источник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Происхождение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7640" y="98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 территории России и ближнего зарубежья выделяются провинции минеральных вод, каждая из которых отличается гидрогеологическими условиями, особенностями геологического развития, происхождением и физико-химическими характеристиками минеральных вод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остаточно изолированные пластовые системы артезианских бассейнов представляют собой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солё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рассоль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с минерализацией до 300—400 г/л (иногда до 600 г/л); они содержат газы восстановительной обстановки (углеводороды, сероводород, азот). Складчатые регионы и области омоложенных платформ соответствуют провинциям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х минеральны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холодных и термальных) различной степени минерализации. Области проявления новейших тектонических движений относятся к провинции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азотных слабоминерализованных щелочных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, часто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кремнистых термических вод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. Территория России и стран СНГ особенно богата </a:t>
            </a:r>
            <a:r>
              <a:rPr b="0" i="1" lang="ru-RU" sz="1200" spc="-1" strike="noStrike">
                <a:solidFill>
                  <a:srgbClr val="000000"/>
                </a:solidFill>
                <a:latin typeface="Lucida Sans Unicode"/>
              </a:rPr>
              <a:t>углекислыми минеральными вода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 (Кавказская, Забайкальская, Приморская, Камчатская и другие провинции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России выделяются следующие типы месторождений минеральных вод:     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латформенные артезианские бассейны (Кашинское, Старорусское, Тюменское, Сестрорец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предгорные и межгорные артезианские бассейны и склоны (Чартакское, Тбилисское, Нальчик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артезианские бассейны, связанные с зонами восходящей разгрузки минеральных вод (Нагутское, Ессентукское, Джалал-Абад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трещинно-жильные воды гидрогеологических массивов (Исти-Суйскос, Кульдурское, Белокурихин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идрогеологические массивы, связанные с зонами восходящей разгрузки минеральных вод в горизонты грунтовых вод (Дарасунское, Шивандинское, Шмаковское и др.);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- грунтовые минеральные воды (Марциальные воды, Увильдинское, Кисегачское, Боровое и др.)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 зависимости от условий происхождения и местоположения источника, минеральные воды имеют различный состав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3964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8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Месторождения минеральных вод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67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Состав минеральных вод обусловлен историей геологического  развития, характером тектонических структур, литологии, геотермических условий и другими особенностями территории, где образована минеральная вода. Наиболее мощные факторы, обусловливающие формирование газового состава минеральных вод, — метаморфические и вулканические процессы. Выделяющиеся во время этих процессов летучие продукты (C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, HCl и др.) поступают в подземные воды и придают им высокую агрессивность, способствующую выщелачиванию вмещающих пород и формированию химического состава, минерализации и газонасыщенности воды.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Известно шесть </a:t>
            </a:r>
            <a:r>
              <a:rPr b="0" i="1" lang="ru-RU" sz="1300" spc="-1" strike="noStrike">
                <a:solidFill>
                  <a:srgbClr val="000000"/>
                </a:solidFill>
                <a:latin typeface="Lucida Sans Unicode"/>
              </a:rPr>
              <a:t>главных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 компонентов, из которых состоят минеральные воды – это натрий (Na), кальций (Са), магний (Мg), хлор (Сl), сульфат (S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4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 и гидрокарбонат (НСО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.Перечисленные компоненты содержатся практически во всех подземных водах в большом количеств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Под химическим составом минеральных вод подразумевают солевой состав (качественный и количественный)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1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з чего состоят и как классифицируются минеральные воды?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67640" y="764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7000"/>
          </a:bodyPr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ачественному составу минеральные воды различаются на шесть классов: гидрокарбонатные, хлоридные, сульфатные, магниевые, железистые, смешанные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По количественному составу минеральные воды делят в зависимости от концентрации солей, на: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толовые (не превышает 1 грамма на литр воды)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слабоминерализованные (1–2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о–столовые (1-10 г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/</a:t>
            </a: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малой минерализации (2–5 г/л),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лечебные (10–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высокой минерализации(15–35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рассольные (35–150 г/л) 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-крепко–рассольные (свыше 150 г/л)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1440" indent="-25308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Газы, растворённые в минеральных водах, служат показателями геохимических условий, в которых шло формирование данной минеральной воды. В верхней зоне земной коры, где преобладают окислительные процессы, минеральные воды содержат газы воздушного происхождения — азот, кислород, углекислоту (в незначительном объёме). Углеводородные газы и сероводород свидетельствуют о восстановительной химической обстановке, свойственной более глубоким недрам Земли; высокая концентрация углекислоты позволяет считать содержащую её воду сформировавшейся в условиях метаморфической обстановки.</a:t>
            </a: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7640" y="620640"/>
            <a:ext cx="82292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В зависимости от газового состава и наличия специфических компонентов минеральные воды также делят на: углекислые, сульфидные (сероводородные), азотные, кремнистые (H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2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SiO</a:t>
            </a:r>
            <a:r>
              <a:rPr b="0" lang="ru-RU" sz="800" spc="-1" strike="noStrike">
                <a:solidFill>
                  <a:srgbClr val="000000"/>
                </a:solidFill>
                <a:latin typeface="Lucida Sans Unicode"/>
              </a:rPr>
              <a:t>3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), бромистые, йодистые, железистые, мышьяковистые, радиоактивные (Rn) и др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Реакция воды (степень кислотности или щелочности, выражаемая величиной pH) имеет большее значение для оценки её лечебного действия на организм человека. Различают следующие виды: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кислые воды имеют pH = 3,5–6,8 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нейтральные воды имеют pH = 6,8–7,2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- щелочные воды имеют pH = 7,2–8,5 и выше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</a:pPr>
            <a:endParaRPr b="0" lang="ru-RU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46000"/>
          </a:bodyPr>
          <a:p>
            <a:pPr indent="0" algn="ctr">
              <a:lnSpc>
                <a:spcPct val="100000"/>
              </a:lnSpc>
              <a:buNone/>
            </a:pPr>
            <a:br>
              <a:rPr sz="3600"/>
            </a:br>
            <a:r>
              <a:rPr b="1" lang="ru-RU" sz="3600" spc="-1" strike="noStrike">
                <a:solidFill>
                  <a:srgbClr val="04617b"/>
                </a:solidFill>
                <a:latin typeface="Lucida Sans Unicode"/>
              </a:rPr>
              <a:t>Исследование потребительских предпочтений в выборе минеральной воды.</a:t>
            </a:r>
            <a:br>
              <a:rPr sz="4100"/>
            </a:br>
            <a:endParaRPr b="0" lang="ru-RU" sz="3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4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Мир минеральных вод очень многообразен. С помощью опроса вы хотим выяснить, как рассуждает потребитель, когда выбирает одну из множества минеральных вод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 algn="ctr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300" spc="-1" strike="noStrike">
                <a:solidFill>
                  <a:srgbClr val="000000"/>
                </a:solidFill>
                <a:latin typeface="Lucida Sans Unicode"/>
              </a:rPr>
              <a:t>Лист опроса.</a:t>
            </a:r>
            <a:endParaRPr b="0" lang="ru-RU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Содержимое 6"/>
          <p:cNvSpPr/>
          <p:nvPr/>
        </p:nvSpPr>
        <p:spPr>
          <a:xfrm>
            <a:off x="1619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72000"/>
          </a:bodyPr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1) 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Как часто вы пьете минеральную воду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каждый раз, когда испытываю жажду (очень часто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периодами пью, периодами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не пью (только по назначению врача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2) Сколько в литрах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Lucida Sans Unicode"/>
              </a:rPr>
              <a:t>минеральной воды</a:t>
            </a: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 вы выпиваете за ден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0,2 литра (стакан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0,5 литр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1 литр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свой вариант ответа_______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3)Вы пьете минеральную воду с газом или без газа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с газ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без га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 газом и без газа (разную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4)Читаете ли вы этикетку, чтобы узнать из чего состоит вода, которую вы хотите выпить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да, всегда читаю или выбираю ту о которой помню информацию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нет, мне все рав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иногда читаю, иногда н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1" lang="ru-RU" sz="1500" spc="-1" strike="noStrike">
                <a:solidFill>
                  <a:srgbClr val="000000"/>
                </a:solidFill>
                <a:latin typeface="Lucida Sans Unicode"/>
              </a:rPr>
              <a:t>5) Какой вид минеральной воды вы употребляете?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лечебн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б) лечебно-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столова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23760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г) не придаю значения виду минеральной вод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3640" y="260640"/>
            <a:ext cx="82292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) Как вы думаете, влияет  ли на состояние здоровья употребление минеральной воды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не влияет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в) не знаю, хочу это выяснить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7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Поставьте знак «+» возле тех названий марок воды , которые вы чаще всего употребляете.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жом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Есент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одники Росси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Bon Aqua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ква Минерале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рзан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вято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дельвейс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Дивеевский источник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рхыз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чинская Ривьер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васова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рши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Tassa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яна Купель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иргород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ипецкий бювет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овоте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Эльбрусси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Naturale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Нафтус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ерезовская 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</a:rPr>
              <a:t>Aqua Sity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Рычал-Су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оров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 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олуки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Монастыр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Углич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Обух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Полюстров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еребряная Роса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Шмаковка № 1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Зеленоградская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Куяльник № 4»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Трускавецкая 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мир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«Машук № 19»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Лужан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Славяновская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8) </a:t>
            </a:r>
            <a:r>
              <a:rPr b="1" lang="ru-RU" sz="1200" spc="-1" strike="noStrike">
                <a:solidFill>
                  <a:srgbClr val="000000"/>
                </a:solidFill>
                <a:latin typeface="Lucida Sans Unicode"/>
              </a:rPr>
              <a:t>Хотите ли вы узнать о воздействии минеральной воды на ваш организм?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а) да, мне это интерес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365760" indent="-255960">
              <a:lnSpc>
                <a:spcPct val="100000"/>
              </a:lnSpc>
              <a:spcBef>
                <a:spcPts val="400"/>
              </a:spcBef>
              <a:buClr>
                <a:srgbClr val="0f6fc6"/>
              </a:buClr>
              <a:buSzPct val="68000"/>
              <a:buFont typeface="Wingdings 3" charset="2"/>
              <a:buChar char=""/>
            </a:pP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Lucida Sans Unicode"/>
              </a:rPr>
              <a:t>б) нет, мне безразлично</a:t>
            </a:r>
            <a:endParaRPr b="0" lang="ru-RU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www.sliderpoint.or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ткрытая">
  <a:themeElements>
    <a:clrScheme name="Поток">
      <a:dk1>
        <a:srgbClr val="000000"/>
      </a:dk1>
      <a:lt1>
        <a:srgbClr val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4617b"/>
      </a:dk2>
      <a:lt2>
        <a:srgbClr val="dbf5f9"/>
      </a:lt2>
      <a:accent1>
        <a:srgbClr val="0f6fc6"/>
      </a:accent1>
      <a:accent2>
        <a:srgbClr val="009dd9"/>
      </a:accent2>
      <a:accent3>
        <a:srgbClr val="0bd0d9"/>
      </a:accent3>
      <a:accent4>
        <a:srgbClr val="10cf9b"/>
      </a:accent4>
      <a:accent5>
        <a:srgbClr val="7cca62"/>
      </a:accent5>
      <a:accent6>
        <a:srgbClr val="a5c249"/>
      </a:accent6>
      <a:hlink>
        <a:srgbClr val="e2d700"/>
      </a:hlink>
      <a:folHlink>
        <a:srgbClr val="85dfd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oncourse</Template>
  <TotalTime>1693</TotalTime>
  <Application>LibreOffice/7.4.7.2$Linux_X86_64 LibreOffice_project/40$Build-2</Application>
  <AppVersion>15.0000</AppVersion>
  <Words>3973</Words>
  <Paragraphs>416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4T15:04:22Z</dcterms:created>
  <dc:creator>Admin</dc:creator>
  <dc:description/>
  <dc:language>en-US</dc:language>
  <cp:lastModifiedBy>LEGION</cp:lastModifiedBy>
  <dcterms:modified xsi:type="dcterms:W3CDTF">2014-11-25T09:24:58Z</dcterms:modified>
  <cp:revision>160</cp:revision>
  <dc:subject/>
  <dc:title>Минеральная вод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20</vt:r8>
  </property>
  <property fmtid="{D5CDD505-2E9C-101B-9397-08002B2CF9AE}" pid="3" name="PresentationFormat">
    <vt:lpwstr>Екран (4:3)</vt:lpwstr>
  </property>
  <property fmtid="{D5CDD505-2E9C-101B-9397-08002B2CF9AE}" pid="4" name="Slides">
    <vt:r8>25</vt:r8>
  </property>
</Properties>
</file>