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ru-RU" sz="1400" spc="-1" strike="noStrike">
                <a:solidFill>
                  <a:srgbClr val="000000"/>
                </a:solidFill>
                <a:latin typeface="Lucida Sans Unicode"/>
              </a:defRPr>
            </a:pPr>
            <a:r>
              <a:rPr b="1" lang="ru-RU" sz="1400" spc="-1" strike="noStrike">
                <a:solidFill>
                  <a:srgbClr val="000000"/>
                </a:solidFill>
                <a:latin typeface="Lucida Sans Unicode"/>
              </a:rPr>
              <a:t>Как часто вы пьете минеральную воду?</a:t>
            </a:r>
          </a:p>
        </c:rich>
      </c:tx>
      <c:overlay val="0"/>
      <c:spPr>
        <a:noFill/>
        <a:ln w="0">
          <a:noFill/>
        </a:ln>
      </c:spPr>
    </c:title>
    <c:autoTitleDeleted val="0"/>
    <c:view3D>
      <c:rotX val="30"/>
      <c:rotY val="0"/>
      <c:rAngAx val="0"/>
      <c:perspective val="30"/>
    </c:view3D>
    <c:floor>
      <c:spPr>
        <a:solidFill>
          <a:srgbClr val="d9d9d9"/>
        </a:solidFill>
        <a:ln w="0">
          <a:noFill/>
        </a:ln>
      </c:spPr>
    </c:floor>
    <c:sideWall>
      <c:spPr>
        <a:solidFill>
          <a:srgbClr val="d9d9d9"/>
        </a:solidFill>
        <a:ln w="0">
          <a:noFill/>
        </a:ln>
      </c:spPr>
    </c:sideWall>
    <c:backWall>
      <c:spPr>
        <a:solidFill>
          <a:srgbClr val="d9d9d9"/>
        </a:solidFill>
        <a:ln w="0">
          <a:noFill/>
        </a:ln>
      </c:spPr>
    </c:backWall>
    <c:plotArea>
      <c:layout>
        <c:manualLayout>
          <c:layoutTarget val="inner"/>
          <c:xMode val="edge"/>
          <c:yMode val="edge"/>
          <c:x val="0.00144451739986868"/>
          <c:y val="0.179888775394393"/>
          <c:w val="0.903939592908733"/>
          <c:h val="0.752468505277494"/>
        </c:manualLayout>
      </c:layout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Как часто вы пьете минеральную воду?</c:v>
                </c:pt>
              </c:strCache>
            </c:strRef>
          </c:tx>
          <c:spPr>
            <a:solidFill>
              <a:srgbClr val="0f6fc6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ff0000"/>
              </a:solidFill>
              <a:ln w="0">
                <a:noFill/>
              </a:ln>
            </c:spPr>
          </c:dPt>
          <c:dPt>
            <c:idx val="1"/>
            <c:spPr>
              <a:solidFill>
                <a:srgbClr val="0070c0"/>
              </a:solidFill>
              <a:ln w="0">
                <a:noFill/>
              </a:ln>
            </c:spPr>
          </c:dPt>
          <c:dPt>
            <c:idx val="2"/>
            <c:spPr>
              <a:solidFill>
                <a:srgbClr val="ffff00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Lucida Sans Unicode"/>
                  </a:defRPr>
                </a:pPr>
              </a:p>
            </c:txPr>
            <c:dLblPos val="bestFit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3"/>
                <c:pt idx="0">
                  <c:v>часто</c:v>
                </c:pt>
                <c:pt idx="1">
                  <c:v>иногда</c:v>
                </c:pt>
                <c:pt idx="2">
                  <c:v>редко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"/>
                <c:pt idx="0">
                  <c:v>26</c:v>
                </c:pt>
                <c:pt idx="1">
                  <c:v>59</c:v>
                </c:pt>
                <c:pt idx="2">
                  <c:v>15</c:v>
                </c:pt>
              </c:numCache>
            </c:numRef>
          </c:val>
        </c:ser>
      </c:pie3DChart>
    </c:plotArea>
    <c:legend>
      <c:legendPos val="r"/>
      <c:layout>
        <c:manualLayout>
          <c:xMode val="edge"/>
          <c:yMode val="edge"/>
          <c:x val="0.839561550774194"/>
          <c:y val="0.593958625809253"/>
          <c:w val="0.12124527315895"/>
          <c:h val="0.255070143721405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Lucida Sans Unicode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ru-RU" sz="1400" spc="-1" strike="noStrike">
                <a:solidFill>
                  <a:srgbClr val="000000"/>
                </a:solidFill>
                <a:latin typeface="Lucida Sans Unicode"/>
              </a:defRPr>
            </a:pPr>
            <a:r>
              <a:rPr b="1" lang="ru-RU" sz="1400" spc="-1" strike="noStrike">
                <a:solidFill>
                  <a:srgbClr val="000000"/>
                </a:solidFill>
                <a:latin typeface="Lucida Sans Unicode"/>
              </a:rPr>
              <a:t>Вы пьете минеральную воду с газом и без газа?</a:t>
            </a:r>
          </a:p>
        </c:rich>
      </c:tx>
      <c:layout>
        <c:manualLayout>
          <c:xMode val="edge"/>
          <c:yMode val="edge"/>
          <c:x val="0.127024362765808"/>
          <c:y val="0.0230409738071949"/>
        </c:manualLayout>
      </c:layout>
      <c:overlay val="0"/>
      <c:spPr>
        <a:noFill/>
        <a:ln w="0">
          <a:noFill/>
        </a:ln>
      </c:spPr>
    </c:title>
    <c:autoTitleDeleted val="0"/>
    <c:view3D>
      <c:rotX val="30"/>
      <c:rotY val="0"/>
      <c:rAngAx val="0"/>
      <c:perspective val="30"/>
    </c:view3D>
    <c:floor>
      <c:spPr>
        <a:solidFill>
          <a:srgbClr val="d9d9d9"/>
        </a:solidFill>
        <a:ln w="0">
          <a:noFill/>
        </a:ln>
      </c:spPr>
    </c:floor>
    <c:sideWall>
      <c:spPr>
        <a:solidFill>
          <a:srgbClr val="d9d9d9"/>
        </a:solidFill>
        <a:ln w="0">
          <a:noFill/>
        </a:ln>
      </c:spPr>
    </c:sideWall>
    <c:backWall>
      <c:spPr>
        <a:solidFill>
          <a:srgbClr val="d9d9d9"/>
        </a:solidFill>
        <a:ln w="0">
          <a:noFill/>
        </a:ln>
      </c:spPr>
    </c:backWall>
    <c:plotArea>
      <c:layout>
        <c:manualLayout>
          <c:layoutTarget val="inner"/>
          <c:xMode val="edge"/>
          <c:yMode val="edge"/>
          <c:x val="0.0184481059005774"/>
          <c:y val="0.118356700358657"/>
          <c:w val="0.742430643571328"/>
          <c:h val="0.823062710574938"/>
        </c:manualLayout>
      </c:layout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Вы пьете минеральную воду с газом и без газа?</c:v>
                </c:pt>
              </c:strCache>
            </c:strRef>
          </c:tx>
          <c:spPr>
            <a:solidFill>
              <a:srgbClr val="0f6fc6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ff0000"/>
              </a:solidFill>
              <a:ln w="0">
                <a:noFill/>
              </a:ln>
            </c:spPr>
          </c:dPt>
          <c:dPt>
            <c:idx val="1"/>
            <c:spPr>
              <a:solidFill>
                <a:srgbClr val="0070c0"/>
              </a:solidFill>
              <a:ln w="0">
                <a:noFill/>
              </a:ln>
            </c:spPr>
          </c:dPt>
          <c:dPt>
            <c:idx val="2"/>
            <c:spPr>
              <a:solidFill>
                <a:srgbClr val="ffff00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Lucida Sans Unicode"/>
                  </a:defRPr>
                </a:pPr>
              </a:p>
            </c:txPr>
            <c:dLblPos val="bestFit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3"/>
                <c:pt idx="0">
                  <c:v>с газом</c:v>
                </c:pt>
                <c:pt idx="1">
                  <c:v>без газа</c:v>
                </c:pt>
                <c:pt idx="2">
                  <c:v>с газом и без газа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"/>
                <c:pt idx="0">
                  <c:v>29</c:v>
                </c:pt>
                <c:pt idx="1">
                  <c:v>38</c:v>
                </c:pt>
                <c:pt idx="2">
                  <c:v>33</c:v>
                </c:pt>
              </c:numCache>
            </c:numRef>
          </c:val>
        </c:ser>
      </c:pie3DChart>
    </c:plotArea>
    <c:legend>
      <c:legendPos val="r"/>
      <c:layout>
        <c:manualLayout>
          <c:xMode val="edge"/>
          <c:yMode val="edge"/>
          <c:x val="0.705230913310103"/>
          <c:y val="0.715469416441652"/>
          <c:w val="0.272412415834861"/>
          <c:h val="0.243980137472648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Lucida Sans Unicode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ru-RU" sz="1400" spc="-1" strike="noStrike">
                <a:solidFill>
                  <a:srgbClr val="000000"/>
                </a:solidFill>
                <a:latin typeface="Lucida Sans Unicode"/>
              </a:defRPr>
            </a:pPr>
            <a:r>
              <a:rPr b="1" lang="ru-RU" sz="1400" spc="-1" strike="noStrike">
                <a:solidFill>
                  <a:srgbClr val="000000"/>
                </a:solidFill>
                <a:latin typeface="Lucida Sans Unicode"/>
              </a:rPr>
              <a:t>Читаете ли вы этикетку, чтобы узнать из чего состоит вода, которую вы хотите выпить?</a:t>
            </a:r>
          </a:p>
        </c:rich>
      </c:tx>
      <c:layout>
        <c:manualLayout>
          <c:xMode val="edge"/>
          <c:yMode val="edge"/>
          <c:x val="0.109366455745645"/>
          <c:y val="0"/>
        </c:manualLayout>
      </c:layout>
      <c:overlay val="0"/>
      <c:spPr>
        <a:noFill/>
        <a:ln w="0">
          <a:noFill/>
        </a:ln>
      </c:spPr>
    </c:title>
    <c:autoTitleDeleted val="0"/>
    <c:view3D>
      <c:rotX val="30"/>
      <c:rotY val="0"/>
      <c:rAngAx val="0"/>
      <c:perspective val="30"/>
    </c:view3D>
    <c:floor>
      <c:spPr>
        <a:solidFill>
          <a:srgbClr val="d9d9d9"/>
        </a:solidFill>
        <a:ln w="0">
          <a:noFill/>
        </a:ln>
      </c:spPr>
    </c:floor>
    <c:sideWall>
      <c:spPr>
        <a:solidFill>
          <a:srgbClr val="d9d9d9"/>
        </a:solidFill>
        <a:ln w="0">
          <a:noFill/>
        </a:ln>
      </c:spPr>
    </c:sideWall>
    <c:backWall>
      <c:spPr>
        <a:solidFill>
          <a:srgbClr val="d9d9d9"/>
        </a:solidFill>
        <a:ln w="0">
          <a:noFill/>
        </a:ln>
      </c:spPr>
    </c:backWall>
    <c:plotArea>
      <c:layout>
        <c:manualLayout>
          <c:layoutTarget val="inner"/>
          <c:xMode val="edge"/>
          <c:yMode val="edge"/>
          <c:x val="0"/>
          <c:y val="0.242162274763046"/>
          <c:w val="0.715959690649168"/>
          <c:h val="0.757733569419852"/>
        </c:manualLayout>
      </c:layout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Читаете ли вы этикетку, чтобы узнать из чего состоит вода, которую вы хотите выпить?</c:v>
                </c:pt>
              </c:strCache>
            </c:strRef>
          </c:tx>
          <c:spPr>
            <a:solidFill>
              <a:srgbClr val="0f6fc6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0070c0"/>
              </a:solidFill>
              <a:ln w="0">
                <a:noFill/>
              </a:ln>
            </c:spPr>
          </c:dPt>
          <c:dPt>
            <c:idx val="1"/>
            <c:spPr>
              <a:solidFill>
                <a:srgbClr val="ff0000"/>
              </a:solidFill>
              <a:ln w="0">
                <a:noFill/>
              </a:ln>
            </c:spPr>
          </c:dPt>
          <c:dPt>
            <c:idx val="2"/>
            <c:spPr>
              <a:solidFill>
                <a:srgbClr val="ffff00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Lucida Sans Unicode"/>
                  </a:defRPr>
                </a:pPr>
              </a:p>
            </c:txPr>
            <c:dLblPos val="bestFit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3"/>
                <c:pt idx="0">
                  <c:v>да</c:v>
                </c:pt>
                <c:pt idx="1">
                  <c:v>нет</c:v>
                </c:pt>
                <c:pt idx="2">
                  <c:v>иногда читают, иногда нет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"/>
                <c:pt idx="0">
                  <c:v>15</c:v>
                </c:pt>
                <c:pt idx="1">
                  <c:v>47</c:v>
                </c:pt>
                <c:pt idx="2">
                  <c:v>38</c:v>
                </c:pt>
              </c:numCache>
            </c:numRef>
          </c:val>
        </c:ser>
      </c:pie3DChart>
    </c:plotArea>
    <c:legend>
      <c:legendPos val="r"/>
      <c:layout>
        <c:manualLayout>
          <c:xMode val="edge"/>
          <c:yMode val="edge"/>
          <c:x val="0.70135957115876"/>
          <c:y val="0.40280867137694"/>
          <c:w val="0.251792335573825"/>
          <c:h val="0.558605505185415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Lucida Sans Unicode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ru-RU" sz="1400" spc="-1" strike="noStrike">
                <a:solidFill>
                  <a:srgbClr val="000000"/>
                </a:solidFill>
                <a:latin typeface="Lucida Sans Unicode"/>
              </a:defRPr>
            </a:pPr>
            <a:r>
              <a:rPr b="1" lang="ru-RU" sz="1400" spc="-1" strike="noStrike">
                <a:solidFill>
                  <a:srgbClr val="000000"/>
                </a:solidFill>
                <a:latin typeface="Lucida Sans Unicode"/>
              </a:rPr>
              <a:t>Какой вид минеральной воды вы употребляете?</a:t>
            </a:r>
          </a:p>
        </c:rich>
      </c:tx>
      <c:overlay val="0"/>
      <c:spPr>
        <a:noFill/>
        <a:ln w="0">
          <a:noFill/>
        </a:ln>
      </c:spPr>
    </c:title>
    <c:autoTitleDeleted val="0"/>
    <c:view3D>
      <c:rotX val="30"/>
      <c:rotY val="0"/>
      <c:rAngAx val="0"/>
      <c:perspective val="30"/>
    </c:view3D>
    <c:floor>
      <c:spPr>
        <a:solidFill>
          <a:srgbClr val="d9d9d9"/>
        </a:solidFill>
        <a:ln w="0">
          <a:noFill/>
        </a:ln>
      </c:spPr>
    </c:floor>
    <c:sideWall>
      <c:spPr>
        <a:solidFill>
          <a:srgbClr val="d9d9d9"/>
        </a:solidFill>
        <a:ln w="0">
          <a:noFill/>
        </a:ln>
      </c:spPr>
    </c:sideWall>
    <c:backWall>
      <c:spPr>
        <a:solidFill>
          <a:srgbClr val="d9d9d9"/>
        </a:solidFill>
        <a:ln w="0">
          <a:noFill/>
        </a:ln>
      </c:spPr>
    </c:backWall>
    <c:plotArea>
      <c:layout>
        <c:manualLayout>
          <c:layoutTarget val="inner"/>
          <c:xMode val="edge"/>
          <c:yMode val="edge"/>
          <c:x val="0.0224231730627849"/>
          <c:y val="0.176920722375268"/>
          <c:w val="0.661961476253492"/>
          <c:h val="0.774716865625957"/>
        </c:manualLayout>
      </c:layout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Какой вид минеральной воды вы употребляете?</c:v>
                </c:pt>
              </c:strCache>
            </c:strRef>
          </c:tx>
          <c:spPr>
            <a:gradFill>
              <a:gsLst>
                <a:gs pos="0">
                  <a:srgbClr val="00445f"/>
                </a:gs>
                <a:gs pos="100000">
                  <a:srgbClr val="006e99"/>
                </a:gs>
              </a:gsLst>
              <a:lin ang="16200000"/>
            </a:gradFill>
            <a:ln w="0">
              <a:noFill/>
            </a:ln>
          </c:spPr>
          <c:explosion val="0"/>
          <c:dPt>
            <c:idx val="0"/>
            <c:spPr>
              <a:solidFill>
                <a:srgbClr val="7030a0"/>
              </a:solidFill>
              <a:ln w="0">
                <a:noFill/>
              </a:ln>
            </c:spPr>
          </c:dPt>
          <c:dPt>
            <c:idx val="1"/>
            <c:spPr>
              <a:solidFill>
                <a:srgbClr val="0070c0"/>
              </a:solidFill>
              <a:ln w="0">
                <a:noFill/>
              </a:ln>
            </c:spPr>
          </c:dPt>
          <c:dPt>
            <c:idx val="2"/>
            <c:spPr>
              <a:solidFill>
                <a:srgbClr val="ffff00"/>
              </a:solidFill>
              <a:ln w="0">
                <a:solidFill>
                  <a:srgbClr val="0f6fc6"/>
                </a:solidFill>
              </a:ln>
            </c:spPr>
          </c:dPt>
          <c:dPt>
            <c:idx val="3"/>
            <c:spPr>
              <a:solidFill>
                <a:srgbClr val="ff0000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3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Lucida Sans Unicode"/>
                  </a:defRPr>
                </a:pPr>
              </a:p>
            </c:txPr>
            <c:dLblPos val="bestFit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4"/>
                <c:pt idx="0">
                  <c:v>лечебная</c:v>
                </c:pt>
                <c:pt idx="1">
                  <c:v>лечебно-столовая</c:v>
                </c:pt>
                <c:pt idx="2">
                  <c:v>столовая</c:v>
                </c:pt>
                <c:pt idx="3">
                  <c:v>не придают значению вида минеральной воды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7</c:v>
                </c:pt>
                <c:pt idx="1">
                  <c:v>24</c:v>
                </c:pt>
                <c:pt idx="2">
                  <c:v>20</c:v>
                </c:pt>
                <c:pt idx="3">
                  <c:v>49</c:v>
                </c:pt>
              </c:numCache>
            </c:numRef>
          </c:val>
        </c:ser>
      </c:pie3DChart>
    </c:plotArea>
    <c:legend>
      <c:legendPos val="r"/>
      <c:layout>
        <c:manualLayout>
          <c:xMode val="edge"/>
          <c:yMode val="edge"/>
          <c:x val="0.659001736735135"/>
          <c:y val="0.384324927615754"/>
          <c:w val="0.332724697255862"/>
          <c:h val="0.608476325759722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Lucida Sans Unicode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ru-RU" sz="1400" spc="-1" strike="noStrike">
                <a:solidFill>
                  <a:srgbClr val="000000"/>
                </a:solidFill>
                <a:latin typeface="Lucida Sans Unicode"/>
              </a:defRPr>
            </a:pPr>
            <a:r>
              <a:rPr b="1" lang="ru-RU" sz="1400" spc="-1" strike="noStrike">
                <a:solidFill>
                  <a:srgbClr val="000000"/>
                </a:solidFill>
                <a:latin typeface="Lucida Sans Unicode"/>
              </a:rPr>
              <a:t>Как вы думаете влияет ли на здоровье употребление минеральной воды?</a:t>
            </a:r>
          </a:p>
        </c:rich>
      </c:tx>
      <c:layout>
        <c:manualLayout>
          <c:xMode val="edge"/>
          <c:yMode val="edge"/>
          <c:x val="0.177075786117954"/>
          <c:y val="0"/>
        </c:manualLayout>
      </c:layout>
      <c:overlay val="0"/>
      <c:spPr>
        <a:noFill/>
        <a:ln w="0">
          <a:noFill/>
        </a:ln>
      </c:spPr>
    </c:title>
    <c:autoTitleDeleted val="0"/>
    <c:view3D>
      <c:rotX val="30"/>
      <c:rotY val="0"/>
      <c:rAngAx val="0"/>
      <c:perspective val="30"/>
    </c:view3D>
    <c:floor>
      <c:spPr>
        <a:solidFill>
          <a:srgbClr val="d9d9d9"/>
        </a:solidFill>
        <a:ln w="0">
          <a:noFill/>
        </a:ln>
      </c:spPr>
    </c:floor>
    <c:sideWall>
      <c:spPr>
        <a:solidFill>
          <a:srgbClr val="d9d9d9"/>
        </a:solidFill>
        <a:ln w="0">
          <a:noFill/>
        </a:ln>
      </c:spPr>
    </c:sideWall>
    <c:backWall>
      <c:spPr>
        <a:solidFill>
          <a:srgbClr val="d9d9d9"/>
        </a:solidFill>
        <a:ln w="0">
          <a:noFill/>
        </a:ln>
      </c:spPr>
    </c:backWall>
    <c:plotArea>
      <c:layout>
        <c:manualLayout>
          <c:layoutTarget val="inner"/>
          <c:xMode val="edge"/>
          <c:yMode val="edge"/>
          <c:x val="0.0194174757281553"/>
          <c:y val="0.201227133280309"/>
          <c:w val="0.85973047384437"/>
          <c:h val="0.790591978184297"/>
        </c:manualLayout>
      </c:layout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Как вы думаете влият ли на здоровье употребление минеральной воды?</c:v>
                </c:pt>
              </c:strCache>
            </c:strRef>
          </c:tx>
          <c:spPr>
            <a:solidFill>
              <a:srgbClr val="0f6fc6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0070c0"/>
              </a:solidFill>
              <a:ln w="0">
                <a:noFill/>
              </a:ln>
            </c:spPr>
          </c:dPt>
          <c:dPt>
            <c:idx val="1"/>
            <c:spPr>
              <a:solidFill>
                <a:srgbClr val="ff0000"/>
              </a:solidFill>
              <a:ln w="0">
                <a:noFill/>
              </a:ln>
            </c:spPr>
          </c:dPt>
          <c:dPt>
            <c:idx val="2"/>
            <c:spPr>
              <a:solidFill>
                <a:srgbClr val="ffff00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Lucida Sans Unicode"/>
                  </a:defRPr>
                </a:pPr>
              </a:p>
            </c:txPr>
            <c:dLblPos val="bestFit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3"/>
                <c:pt idx="0">
                  <c:v>да</c:v>
                </c:pt>
                <c:pt idx="1">
                  <c:v>нет</c:v>
                </c:pt>
                <c:pt idx="2">
                  <c:v>не знают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"/>
                <c:pt idx="0">
                  <c:v>63</c:v>
                </c:pt>
                <c:pt idx="1">
                  <c:v>13</c:v>
                </c:pt>
                <c:pt idx="2">
                  <c:v>24</c:v>
                </c:pt>
              </c:numCache>
            </c:numRef>
          </c:val>
        </c:ser>
      </c:pie3DChart>
    </c:plotArea>
    <c:legend>
      <c:legendPos val="r"/>
      <c:layout>
        <c:manualLayout>
          <c:xMode val="edge"/>
          <c:yMode val="edge"/>
          <c:x val="0.822426313362442"/>
          <c:y val="0.728804122774237"/>
          <c:w val="0.155829527312795"/>
          <c:h val="0.233814298411288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Lucida Sans Unicode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ru-RU" sz="1400" spc="-1" strike="noStrike">
                <a:solidFill>
                  <a:srgbClr val="000000"/>
                </a:solidFill>
                <a:latin typeface="Lucida Sans Unicode"/>
              </a:defRPr>
            </a:pPr>
            <a:r>
              <a:rPr b="1" lang="ru-RU" sz="1400" spc="-1" strike="noStrike">
                <a:solidFill>
                  <a:srgbClr val="000000"/>
                </a:solidFill>
                <a:latin typeface="Lucida Sans Unicode"/>
              </a:rPr>
              <a:t>Статистика популярности минеральных вод среди опрошенных учителей и учеников МГПГЛ № 1505.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Статистика популярности минеральных вод среди опрошенных учителей и учеников МГПГЛ № 1505.</c:v>
                </c:pt>
              </c:strCache>
            </c:strRef>
          </c:tx>
          <c:spPr>
            <a:gradFill>
              <a:gsLst>
                <a:gs pos="0">
                  <a:srgbClr val="00305c"/>
                </a:gs>
                <a:gs pos="100000">
                  <a:srgbClr val="004f95"/>
                </a:gs>
              </a:gsLst>
              <a:lin ang="16200000"/>
            </a:gra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Lucida Sans Unicode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3"/>
                <c:pt idx="0">
                  <c:v>Аква Минерале</c:v>
                </c:pt>
                <c:pt idx="1">
                  <c:v>Bon Aqua</c:v>
                </c:pt>
                <c:pt idx="2">
                  <c:v>Родники России</c:v>
                </c:pt>
                <c:pt idx="3">
                  <c:v>Святой Источник</c:v>
                </c:pt>
                <c:pt idx="4">
                  <c:v>Есентуки</c:v>
                </c:pt>
                <c:pt idx="5">
                  <c:v>Архыз</c:v>
                </c:pt>
                <c:pt idx="6">
                  <c:v>Боржоми</c:v>
                </c:pt>
                <c:pt idx="7">
                  <c:v>Нарзан</c:v>
                </c:pt>
                <c:pt idx="8">
                  <c:v>Новотерская</c:v>
                </c:pt>
                <c:pt idx="9">
                  <c:v>Люпецкий бювет</c:v>
                </c:pt>
                <c:pt idx="10">
                  <c:v>Рычал-Су</c:v>
                </c:pt>
                <c:pt idx="11">
                  <c:v>Липецкая</c:v>
                </c:pt>
                <c:pt idx="12">
                  <c:v>Эдельвейс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3"/>
                <c:pt idx="0">
                  <c:v>72</c:v>
                </c:pt>
                <c:pt idx="1">
                  <c:v>70</c:v>
                </c:pt>
                <c:pt idx="2">
                  <c:v>48</c:v>
                </c:pt>
                <c:pt idx="3">
                  <c:v>48</c:v>
                </c:pt>
                <c:pt idx="4">
                  <c:v>42</c:v>
                </c:pt>
                <c:pt idx="5">
                  <c:v>42</c:v>
                </c:pt>
                <c:pt idx="6">
                  <c:v>33</c:v>
                </c:pt>
                <c:pt idx="7">
                  <c:v>28</c:v>
                </c:pt>
                <c:pt idx="8">
                  <c:v>18</c:v>
                </c:pt>
                <c:pt idx="9">
                  <c:v>17</c:v>
                </c:pt>
                <c:pt idx="10">
                  <c:v>13</c:v>
                </c:pt>
                <c:pt idx="11">
                  <c:v>12</c:v>
                </c:pt>
                <c:pt idx="12">
                  <c:v>12</c:v>
                </c:pt>
              </c:numCache>
            </c:numRef>
          </c:val>
        </c:ser>
        <c:gapWidth val="150"/>
        <c:overlap val="0"/>
        <c:axId val="4879207"/>
        <c:axId val="94146603"/>
      </c:barChart>
      <c:catAx>
        <c:axId val="4879207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300" spc="-1" strike="noStrike">
                <a:solidFill>
                  <a:srgbClr val="000000"/>
                </a:solidFill>
                <a:latin typeface="Lucida Sans Unicode"/>
              </a:defRPr>
            </a:pPr>
          </a:p>
        </c:txPr>
        <c:crossAx val="94146603"/>
        <c:crosses val="autoZero"/>
        <c:auto val="1"/>
        <c:lblAlgn val="ctr"/>
        <c:lblOffset val="100"/>
        <c:noMultiLvlLbl val="0"/>
      </c:catAx>
      <c:valAx>
        <c:axId val="94146603"/>
        <c:scaling>
          <c:orientation val="minMax"/>
        </c:scaling>
        <c:delete val="0"/>
        <c:axPos val="l"/>
        <c:majorGridlines>
          <c:spPr>
            <a:ln w="9360">
              <a:solidFill>
                <a:srgbClr val="8b8b8b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Lucida Sans Unicode"/>
              </a:defRPr>
            </a:pPr>
          </a:p>
        </c:txPr>
        <c:crossAx val="4879207"/>
        <c:crosses val="autoZero"/>
        <c:crossBetween val="between"/>
      </c:valAx>
      <c:spPr>
        <a:noFill/>
        <a:ln w="0">
          <a:noFill/>
        </a:ln>
      </c:spPr>
    </c:plotArea>
    <c:legend>
      <c:legendPos val="r"/>
      <c:layout>
        <c:manualLayout>
          <c:xMode val="edge"/>
          <c:yMode val="edge"/>
          <c:x val="0.666580731295763"/>
          <c:y val="0.556710610585753"/>
          <c:w val="0.310287104851598"/>
          <c:h val="0.236539894260115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800" spc="-1" strike="noStrike">
              <a:solidFill>
                <a:srgbClr val="000000"/>
              </a:solidFill>
              <a:latin typeface="Lucida Sans Unicode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A2DA0F6-29A4-4AC2-A869-55D5AA8150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неральная 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для потребителей минеральной вод</a:t>
            </a:r>
            <a:r>
              <a:rPr b="0" lang="ru-RU" sz="105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77920C4-5A75-40BE-843F-D5A47E66082F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2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Было опрошено 100 человек (10 учителей и 90 учеников различных возрастов) в нашей гимназии. Суммировав ответы, мы получили следующие результа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Исследования показали, ч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26% - часто пьют минеральную во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59% -  иногда пьют минеральную во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15% - редко пьют минеральную вод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Отсюда делаем вывод, что вопросы о минеральной воде интересуют более 85% опрошенных людей. Значит тема проекта актуаль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14381BA-34A4-4B9C-B700-2155BF4FFD9E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Если потребители пьют минеральную воду часто, то какую выбираю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Исследования показали, ч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29% - пьют минеральную воду с газ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38% - пьют минеральную воду без га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33% - пьют минеральную воду с газом и без га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Мнения разделились почти поровну. Какую лучше выбрать, каждый решит для себя, прочитав нашу брошюру «Минеральная вода для Вас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DE49E39-D147-41C9-9888-9788FF419041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таете ли вы этикетку, чтобы узнать из чего состоит вода, которую вы хотите выпит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15% - читают этикетку минеральной воды, чтобы узнать её соста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47% - не читают этикетку минеральной воды, чтобы узнать её соста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38% - иногда читают, иногда не читают этикетку минеральной вод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чтобы узнать её соста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7% - употребляют лечебную минеральную во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24% - употребляют лечебно-столовую минеральну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во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20% - употребляют столовую минеральную во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49% - не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Огорчили результаты опроса по вопросам № 4 и № 5. Потому, что большая часть участников опроса не интересуется что написано на этикете. На этикете содержится основная информация, которой нужно руководствоваться при выборе минеральной воды. Различные виды минеральных вод используют с различной целью при различных заболеваниях (читайте брошюру «Минеральная вода для Вас»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придают значению вида минеральной в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F40ED09-4970-47D0-973B-D59A46C11267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Употребление минеральной воды, безусловно, влияет на здоровье человека. Как укрепляет, и так и ухудшает состояние организма. С этим согласны 63% опрошенных. Жаль, что некоторые люди считают, что минеральная вода не влияет на здоровье (13% опрошенных) и 24 % об этом  ничего не известно. Наша задача объяснить каждому, что различные минеральные воды по-разному влияют на организм. А значит, надо употреблять их внимательно прочитав этикетку и рекомендации медик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96F698C-6661-4594-A3DE-5875213A3014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13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 результате опроса наиболее популярными оказались следующие воды – Аква  Минерале и </a:t>
            </a: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Bon Aqua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,Святой Источник. Эти воды не имеют полного описания свойств и состава на этикетке, что не дает возможности быстро правильно подобрать для себя воду. А также возникает вопрос о их соответствии и пригодности для частого употреб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ысокой популярностью пользуются Родники России, Есентуки, Архыз, Боржоми, Нарзан. Средней популярностью пользуются Новотерская, Люпецкий бювет, Рычал-Су,             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Липецкая, Эдельвейс. На этикетках этих вод можно определить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их вид и свойства, а значит правильно сориентироваться в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ыборе в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1C7795E-8312-4DA7-BEF8-B0FDF0FCEC5D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елав сравнительную характеристику популярности марок минеральных вод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можно сделать вывод, о том, что потребители ориентируются в большей степени на рекламу минеральной воды, нежели на свойства минеральной воды. Это неправильно с точки зрения здоровья. Различные минеральные воды имеют множество различных характеристик, ориентируясь в которых со знанием вопроса можно правильно подобрать для себя на данный момент времени минеральную воду. Минеральная вода один из важных часто употребляемых продуктов в рационе питания человека. Помочь вам сориентироваться в этом вопросе наша цел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C062803-EC23-48D5-89A7-C1A26C43070E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151200" indent="0" algn="ctr">
              <a:lnSpc>
                <a:spcPct val="100000"/>
              </a:lnSpc>
              <a:buNone/>
            </a:pP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влияют минеральные воды на организм человека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1200" indent="0">
              <a:lnSpc>
                <a:spcPct val="100000"/>
              </a:lnSpc>
              <a:buNone/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Примен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12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ном минеральные воды используют как оказывающие лечебное влияние на организм человека. Лечебное воздействие имеет весь комплекс растворённых в них веществ. Наличие специфических биологически активных компонентов (CO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, As и др.) и особых свойств определяет часто методы их лечебного использования : питьевого лечения и для ванн, купаний, душей, проводимых в бальнеолечебницах и в лечебных бассейнах, а также для ингаляций и полосканий при заболеваниях носоглотки и верхних дыхательных путей, для орошений при гинекологических болезнях, для промываний, главным образом при заболеваниях органов пищеварения, нарушениях обмена веществ и т. д. В качестве основных критериев оценки лечебности минеральных вод в курортологии приняты особенности их химического состава и физических свойства, которые одновременно служат важнейшими показателями для их классифик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12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правильного применения минеральной воды имеет большее значение понимание влияния на организм процесса питья минеральных вод. Минеральная вода в желудке не всасывается.  Всасывание минеральной воды происходит в процессе прохождения по всему пути тонкого кишечн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12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имические вещества, входящие в состав минеральной воды, попав в кровь, могут вызвать довольно разнообразные ответные физиологические реакции со стороны систем пищеварения, кровообращения, дыхания, обмена веществ, системы крови, желез внутренней секреции и д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12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E6CDC70-2EFD-42BC-BBAB-EE486E360910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10152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152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Гидрокарбонатные минеральные воды </a:t>
            </a: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предназначены для тех, кто занимается спортом, так как оказывают благоприятное влияние при усиленной мышечной работе. Пополняя недостаток карбонатов крови, они повышают щёлочные резервы организма. Под их влиянием в организме уменьшается содержание водородных ионов (pH), которые вместе с ионами хлора служат для выработки соляной кислоты. Они противопоказаны при гастрите, так как выделяющийся при распаде гидрокарботатов углекислый газ стимулирует секрецию желудочного со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152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Сульфатные минеральные воды </a:t>
            </a: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рекомендуются тем, у кого наблюдаются проблемы с печенью и желчного пузыря, ожирение и сахарный диабет. Благодаря этим водам  печёночные клетки увеличивают образование желчи, усиливается перистальтика желчевыводящих путей, улучшается отток из желчного пузыря и протоков, тем самым обеспечивается выведение продуктов воспаления, создаются условия, препятствующие выпадению из желчи солей и образованию камней. Категорически нельзя употреблять такую воду детям и подросткам, так как сульфаты препятствуют росту костей, связывая кальций пищи в просвете ЖКТ в нерастворимые со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152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Хлоридные минеральные воды </a:t>
            </a: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способствуют регулировке работы кишечника, желчевыводящих путей и печени, однако их нельзя пить гипертоникам. Они улучшают секрецию пищеварительных желёз. Попадая в желудок, хлоридно–натриевые воды усиливают его перистальтику, стимулируя отделение желудочного сока. Ионы хлора и водорода служат основным материалом, из которого вырабатывается соляная кислота, определяющая кислотность желудочного со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152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Магниевые</a:t>
            </a: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минеральные воды </a:t>
            </a: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помогают при стрессовых ситуациях. Противопоказания склонность к расстройству желуд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152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Железистые минеральные воды</a:t>
            </a: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 назначают при малокровии, заболеваниях желудка и кишечника, нарушениях обмена веществ, гинекологических заболеваниях. Ванны из железистых вод оказывают стимулирующее влияние на кровотвор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152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152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F022208-7A0A-46A3-A386-A6060CC515E0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99360" indent="0" algn="ctr">
              <a:lnSpc>
                <a:spcPct val="100000"/>
              </a:lnSpc>
              <a:buNone/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 каждый из видов минеральной воды воздействует на организм?</a:t>
            </a:r>
            <a:br>
              <a:rPr sz="20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936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оловые минеральные вод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минерализация от 1 до 2 г/л или меньшая — при наличии биологически активных веществ) - имеют низкую минерализацию, поэтому их можно без ограничения использовать для приготовления еды. Они отлично утоляют жажду и обладают приятным мягким вкусом, без постороннего запаха и привкуса. Нормативные документы на минеральные столовые воды отсутствуют. Поэтому критерии отнесения вод к минеральным столовым водам (во многих странах) не стандартизов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936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слабоминерализованны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1–2 г/л) относят и к столовым, и лечебно–столов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936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чебно-столовые минеральные вод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минерализация о  2-8 г/л)- Имеют более высокую концентрацию минеральных веществ.. Достоинство лечебно–столовых минеральных вод состоит в их многофункциональности: их можно употреблять как столовый напиток (не регулярно) и систематически — для лечения (по назначению врача). Бесконтрольное употребление такой воды может привести к нарушению водно-солевого баланса в организме. А для тех, кто страдает какими-либо хроническими заболеваниями, это чревато возникновением обострений и общим ухудшением состоя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936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малой минерализации (2–5 г/л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936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чебные минеральные вод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минерализация от 8 до 12 г/л) - В них содержится самое большое количество минералов и микроэлементов. Это настоящее лекарство, применять которое нужно исходя из медицинских показаний. Такую воду используют не только для питья, но и для различных процедур: ванн, орошений, душа, ингаляций. Постоянно утолять жажду лечебной минеральной водой очень рискованно. Ее пьют курсами, как любое другое лекарство, соблюдая при этом определенную дозиров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936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средней минерализации (5–15 г/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936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высокой (15–35 г/л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936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рассольные (35–150 г/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936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крепко–рассольные (свыше 150 г/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936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936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818DD90-8539-4A25-90BB-3BF78E5A04D2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162000" indent="0" algn="ctr">
              <a:lnSpc>
                <a:spcPct val="100000"/>
              </a:lnSpc>
              <a:buNone/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каждый из компонентов минеральных вод влияет на организм челове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?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2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ый из компонентов минеральной воды воздействует на организм по-своем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2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льций (Са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бладает противовоспалительным действием, обезвоживает ткани, укрепляет к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2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агний (Мg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хорошо усваивается организмом, снижает кровяное давление, способствует уменьшению спазмов желчного пузыря, снижает уровень холестерина в крови и в желчи, благотворно влияет на нервную систему, вызывает в сочетании с сульфатом слабительный эффек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2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трий (Nа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хорошо всасывается в пищеварительном тракте, участвует в водном обмене организма. Натрий в сочетании с калием (К) поддерживает необходимое давление в тканевых и межтканевых жидкостях организма. Помимо этого, калий участвует в обмене натрия и кальция и необходим для действия многих ферментов в организме человека. Он обладает также мочегонным действие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2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идрокарбонат (НСО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падая в желудок, реагирует с желудочным соком и выделяет углекислоту, стимулируя тем самым секреторную деятельность желуд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2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ульфат (SO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нижает желудочную секрецию и ее активность, а в сочетании с магнием вызывает слабительный эффек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2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лор (Сl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лияет на выделительную функцию поче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2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053AC63-6981-4D0A-A97F-923FE6134C75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такое минеральная вод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Минеральные во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это воды, в состав которых входят минеральные соли, газы, органические вещества, радиоактивные вещества и другие химические соединения. Минеральные воды бывают природные и искусственно приготовленные. Искусственные минеральные воды близки по составу к природным. Их изготавливают из химически чистых солей, используя озерную или морскую соль. Природные минеральные воды пользуются большой популярностью у населения. На поверхности Земли природные минеральные воды проявляются в виде источников (родников), а также выводятся из недр буровыми скважинами, глубины которых могут достигать нескольких к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23FD3EE-086C-431D-AB60-E8C3A2CC1F68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2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правильно употреблять минеральную воду, если у вас есть заболевание. 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Вы почувствовали недомогание, обратитесь к врачу, установите диагноз заболевания, прочтите наши рекомендации, посоветуйтесь с врачом, лечитесь, и Вы быстро поправитес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пренебрегайте рекомендациями врача по  дозировке минеральной воды, так как чрезмерное употребление ведет к передозировке  организма компонентами минеральной воды, что может вызвать головокружение, нарушение сна, расстройство пищеварения, боли в области головы и ше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от питьевого лечения минеральными водами зависит не только от правильного выбора воды, но и от правил её приёма, температуры, количества, время приема взвешенного со временем приема пищи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0E0A82A-2653-4E5D-B8F8-477F1E5B7621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177120" indent="0" algn="ctr">
              <a:lnSpc>
                <a:spcPct val="100000"/>
              </a:lnSpc>
              <a:buNone/>
            </a:pPr>
            <a:br>
              <a:rPr sz="20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исхождение минеральных вод.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712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образуется в природе минеральная вода? Об этом существуют различные мнения. Самым распространенным является предположение геолога Эдуарда Зюсса, что газы, выделенные из находящейся в недрах земли раскаленной лавы, проходя через кору земли, постепенно охлаждаются, происходит их конденсация и превращение в жидкость – это и есть минеральная вода. Минеральные воды такого происхождения называются ювенальными, т. е. «девственными». Это мнение постепенно потеряло приверженце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12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йчас более признана водозная теория, по которой принято считать, что минеральные воды образуются из атмосферных осадков и других поверхностных вод, которые проникают в различные слои земной коры. При циркуляции в слоях земной коры  в воде растворяются различные химические вещества, содержащиеся в различных породах. Формирование минеральной воды происходит в условиях определенного давления и температуры без светового влияния. Ее химический состав и минерализация зависит от того, через какие породы и слои земной коры она проходит. Что касается температуры воды, то это зависит от того, из какой глубины она выходит. Геологами установлено, что в глубине земли через каждые 33 метра температура больше на 1 С, т.е. по температуре воды можно определить, на какой глубине находится источн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12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E345046-7A1A-438D-BFEB-B36C020E01D1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3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146880" indent="0" algn="ctr">
              <a:lnSpc>
                <a:spcPct val="100000"/>
              </a:lnSpc>
              <a:buNone/>
            </a:pPr>
            <a:br>
              <a:rPr sz="20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есторождения минеральных вод.</a:t>
            </a:r>
            <a:br>
              <a:rPr sz="2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688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территории России и ближнего зарубежья выделяются провинции минеральных вод, каждая из которых отличается гидрогеологическими условиями, особенностями геологического развития, происхождением и физико-химическими характеристиками минеральных в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88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аточно изолированные пластовые системы артезианских бассейнов представляют собой провинци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олёны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рассольны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од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 минерализацией до 300—400 г/л (иногда до 600 г/л); они содержат газы восстановительной обстановки (углеводороды, сероводород, азот). Складчатые регионы и области омоложенных платформ соответствуют провинциям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глекислых минеральных вод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холодных и термальных) различной степени минерализации. Области проявления новейших тектонических движений относятся к провинци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зотных слабоминерализованных щелочны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част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ремнистых термических вод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Территория России и стран СНГ особенно богата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глекислыми минеральными водам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Кавказская, Забайкальская, Приморская, Камчатская и другие провинци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88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выделяются следующие типы месторождений минеральных вод: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88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латформенные артезианские бассейны (Кашинское, Старорусское, Тюменское, Сестрорецкое и др.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88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едгорные и межгорные артезианские бассейны и склоны (Чартакское, Тбилисское, Нальчикское и др.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88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артезианские бассейны, связанные с зонами восходящей разгрузки минеральных вод (Нагутское, Ессентукское, Джалал-Абадское и др.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88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трещинно-жильные воды гидрогеологических массивов (Исти-Суйскос, Кульдурское, Белокурихинское и др.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88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гидрогеологические массивы, связанные с зонами восходящей разгрузки минеральных вод в горизонты грунтовых вод (Дарасунское, Шивандинское, Шмаковское и др.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88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грунтовые минеральные воды (Марциальные воды, Увильдинское, Кисегачское, Боровое и др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88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висимости от условий происхождения и местоположения источника, минеральные воды имеют различный соста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880" indent="0">
              <a:lnSpc>
                <a:spcPct val="100000"/>
              </a:lnSpc>
              <a:buNone/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46880" indent="0">
              <a:lnSpc>
                <a:spcPct val="100000"/>
              </a:lnSpc>
              <a:buNone/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778188A-6CE6-40E4-9BD9-DF94431B7F77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4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179280" indent="0" algn="ctr">
              <a:lnSpc>
                <a:spcPct val="100000"/>
              </a:lnSpc>
              <a:buNone/>
            </a:pPr>
            <a:br>
              <a:rPr sz="20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чего состоят и как классифицируются минеральные воды?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 минеральных вод обусловлен историей геологического  развития, характером тектонических структур, литологии, геотермических условий и другими особенностями территории, где образована минеральная вода. Наиболее мощные факторы, обусловливающие формирование газового состава минеральных вод, — метаморфические и вулканические процессы. Выделяющиеся во время этих процессов летучие продукты (CO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HCl и др.) поступают в подземные воды и придают им высокую агрессивность, способствующую выщелачиванию вмещающих пород и формированию химического состава, минерализации и газонасыщенности вод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вестно шесть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главны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омпонентов, из которых состоят минеральные воды – это натрий (Na), кальций (Са), магний (Мg), хлор (Сl), сульфат (SO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и гидрокарбонат (НСО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.Перечисленные компоненты содержатся практически во всех подземных водах в большом количест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химическим составом минеральных вод подразумевают солевой состав (качественный и количественный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5B6FB1E-D38D-46AC-81E1-5BB4D46F0D2B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marL="11232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По качественному составу минеральные воды различаются на шесть классов: гидрокарбонатные, хлоридные, сульфатные, магниевые, железистые, смешан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По количественному составу минеральные воды делят в зависимости от концентрации солей, н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-столовые (не превышает 1 грамма на литр вод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-слабоминерализованные (1–2 г/л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-лечебно–столовые (1-10 г</a:t>
            </a:r>
            <a:r>
              <a:rPr b="0" lang="en-US" sz="2000" spc="-1" strike="noStrike">
                <a:solidFill>
                  <a:srgbClr val="000000"/>
                </a:solidFill>
                <a:latin typeface="+mn-lt"/>
                <a:ea typeface="+mn-ea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л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-малой минерализации (2–5 г/л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-лечебные (10–50 г/л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-высокой минерализации(15–35 г/л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-рассольные (35–150 г/л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-крепко–рассольные (свыше 150 г/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Газы, растворённые в минеральных водах, служат показателями геохимических условий, в которых шло формирование данной минеральной воды. В верхней зоне земной коры, где преобладают окислительные процессы, минеральные воды содержат газы воздушного происхождения — азот, кислород, углекислоту (в незначительном объёме). Углеводородные газы и сероводород свидетельствуют о восстановительной химической обстановке, свойственной более глубоким недрам Земли; высокая концентрация углекислоты позволяет считать содержащую её воду сформировавшейся в условиях метаморфической обстанов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137F1AA-AD77-42DD-885C-679121779E44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 зависимости от газового состава и наличия специфических компонентов минеральные воды также делят на: углекислые, сульфидные (сероводородные), азотные, кремнистые (H</a:t>
            </a:r>
            <a:r>
              <a:rPr b="0" lang="ru-RU" sz="700" spc="-1" strike="noStrike">
                <a:solidFill>
                  <a:srgbClr val="000000"/>
                </a:solidFill>
                <a:latin typeface="+mn-lt"/>
                <a:ea typeface="+mn-ea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SiO</a:t>
            </a:r>
            <a:r>
              <a:rPr b="0" lang="ru-RU" sz="700" spc="-1" strike="noStrike">
                <a:solidFill>
                  <a:srgbClr val="000000"/>
                </a:solidFill>
                <a:latin typeface="+mn-lt"/>
                <a:ea typeface="+mn-ea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), бромистые, йодистые, железистые, мышьяковистые, радиоактивные (Rn)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Реакция воды (степень кислотности или щелочности, выражаемая величиной pH) имеет большее значение для оценки её лечебного действия на организм человека. Различают следующие виды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-кислые воды имеют pH = 3,5–6,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-нейтральные воды имеют pH = 6,8–7,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- щелочные воды имеют pH = 7,2–8,5 и выш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7FC6A61-C147-41C8-9FD1-50B43E280392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следование потребительских предпочтений в выборе минеральной воды.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Мир минеральных вод очень многообразен. С помощью опроса вы хотим выяснить, как рассуждает потребитель, когда выбирает одну из множества минеральных в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Лист о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C09D608-5352-40FF-923E-F0CA5B3592CE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159840" indent="0">
              <a:lnSpc>
                <a:spcPct val="100000"/>
              </a:lnSpc>
              <a:buNone/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6</a:t>
            </a:r>
            <a:r>
              <a:rPr b="1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) Как вы думаете, влияет  ли на состояние здоровья употребление минеральной вод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а) да, влия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б) нет, не влия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) не знаю, хочу это выясни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7) </a:t>
            </a:r>
            <a:r>
              <a:rPr b="1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оставьте знак «+» возле тех названий марок воды , которые вы чаще всего употребляе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Боржоми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Есентуки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Родники России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Bon Aqua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Аква Минерале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Липец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Нарзан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вятой Источник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Эдельвей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мирновская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Дивеевский источник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Архы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очинская Ривьера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оляна Квасова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Моршин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Tassay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оляна Купель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Миргород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Липецкий бювет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Новотерская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Эльбрус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Aqua Naturale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Нафтуся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Березовск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Aqua Sity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Рычал-Су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Боров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олуки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Монастырская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Углич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Обуховская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олюстровская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еребряная 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Шмаковка № 1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Зеленоградская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«Куяльник № 4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Трускавецкая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мирнов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«Машук № 19»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Лужан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лавянов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8) </a:t>
            </a:r>
            <a:r>
              <a:rPr b="1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Хотите ли вы узнать о воздействии минеральной воды на ваш организ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а) да, мне это интерес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б) нет, мне безразлич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C627550-9579-41FA-B807-6EA8A8B2523B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2995-5DA7-46A4-B94E-8695470AC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0C4C-8122-4E3F-9655-D64D8BCDA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4B3D-A359-4FB0-A59C-EDB21064B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B6A5-075B-4AF6-9AAF-8B536B89E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76B96-5C57-4023-83D8-F57CC4BE4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A92B6-1141-4D29-8D8C-CCE403D25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DBF3A-3C4A-43D8-8E4F-8D9456226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EA9B9-7842-4526-8593-FC3DC958D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399F8-7298-43B9-98D7-ED10C9658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CB397-8B1B-4A77-903D-BBE7F16DC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4B0D3-DAFA-48A8-80AF-F9CFB8D2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1832-D0E0-42FF-A7C9-018F4318F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E5E2D-1C22-4650-B425-87CB9B20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E7278-43D6-4413-BE98-8DF7D950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FB833-2FEE-4D9A-9B82-9FB3D8EC0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70B8B-930A-442F-A833-AEA8C00AF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073A6-4B42-4F93-9D63-F7D6D89D6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BFAC-FCB9-4603-960B-6A7231A3D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7F1C-4011-4B4F-B91F-6C4541CDB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7182-B3E0-41A5-A848-EA719B300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1DC7-B260-40F2-938D-622F665C4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EF3B-F6F6-4A9D-9572-B0C87273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6B50-045D-4770-B1A8-A7DE8AB4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22DF-0DE1-4CCE-B207-EC179F26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 hidden="1"/>
          <p:cNvSpPr/>
          <p:nvPr/>
        </p:nvSpPr>
        <p:spPr>
          <a:xfrm>
            <a:off x="499320" y="5945040"/>
            <a:ext cx="4940280" cy="92088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 hidden="1"/>
          <p:cNvSpPr/>
          <p:nvPr/>
        </p:nvSpPr>
        <p:spPr>
          <a:xfrm>
            <a:off x="485640" y="5938920"/>
            <a:ext cx="3690000" cy="93312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Прямоугольный треугольник 13" hidden="1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3" name="Прямая соединительная линия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044a8a"/>
            </a:solidFill>
            <a:miter/>
          </a:ln>
        </p:spPr>
      </p:cxnSp>
      <p:sp>
        <p:nvSpPr>
          <p:cNvPr id="4" name="Прямоугольный треугольник 9"/>
          <p:cNvSpPr/>
          <p:nvPr/>
        </p:nvSpPr>
        <p:spPr>
          <a:xfrm>
            <a:off x="0" y="4664160"/>
            <a:ext cx="9150840" cy="360"/>
          </a:xfrm>
          <a:prstGeom prst="rtTriangle">
            <a:avLst/>
          </a:prstGeom>
          <a:gradFill rotWithShape="0">
            <a:gsLst>
              <a:gs pos="0">
                <a:srgbClr val="004686"/>
              </a:gs>
              <a:gs pos="100000">
                <a:srgbClr val="4280e7"/>
              </a:gs>
            </a:gsLst>
            <a:lin ang="3000000"/>
          </a:grad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44640" bIns="-44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04617b"/>
                </a:solidFill>
                <a:latin typeface="Lucida Sans Unicode"/>
              </a:rPr>
              <a:t>Образец заголовка</a:t>
            </a:r>
            <a:endParaRPr b="0" lang="ru-RU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6" name="Группа 1"/>
          <p:cNvGrpSpPr/>
          <p:nvPr/>
        </p:nvGrpSpPr>
        <p:grpSpPr>
          <a:xfrm>
            <a:off x="-3600" y="4952880"/>
            <a:ext cx="9147600" cy="1911960"/>
            <a:chOff x="-3600" y="4952880"/>
            <a:chExt cx="9147600" cy="1911960"/>
          </a:xfrm>
        </p:grpSpPr>
        <p:sp>
          <p:nvSpPr>
            <p:cNvPr id="7" name="Полилиния 6"/>
            <p:cNvSpPr/>
            <p:nvPr/>
          </p:nvSpPr>
          <p:spPr>
            <a:xfrm>
              <a:off x="1687680" y="4952880"/>
              <a:ext cx="7455960" cy="487800"/>
            </a:xfrm>
            <a:custGeom>
              <a:avLst/>
              <a:gdLst/>
              <a:ahLst/>
              <a:rect l="l" t="t" r="r" b="b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chemeClr val="accent1">
                <a:tint val="65000"/>
                <a:satMod val="115000"/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8" name="Полилиния 7"/>
            <p:cNvSpPr/>
            <p:nvPr/>
          </p:nvSpPr>
          <p:spPr>
            <a:xfrm>
              <a:off x="35280" y="5237640"/>
              <a:ext cx="9108360" cy="788400"/>
            </a:xfrm>
            <a:custGeom>
              <a:avLst/>
              <a:gdLst/>
              <a:ahLst/>
              <a:rect l="l" t="t" r="r" b="b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" name="Полилиния 10"/>
            <p:cNvSpPr/>
            <p:nvPr/>
          </p:nvSpPr>
          <p:spPr>
            <a:xfrm>
              <a:off x="0" y="5001120"/>
              <a:ext cx="9143640" cy="1863720"/>
            </a:xfrm>
            <a:custGeom>
              <a:avLst/>
              <a:gdLst/>
              <a:ahLst/>
              <a:rect l="l" t="t" r="r" b="b"/>
              <a:pathLst>
                <a:path w="5760" h="1248">
                  <a:moveTo>
                    <a:pt x="0" y="0"/>
                  </a:moveTo>
                  <a:lnTo>
                    <a:pt x="0" y="1248"/>
                  </a:lnTo>
                  <a:lnTo>
                    <a:pt x="5760" y="1248"/>
                  </a:lnTo>
                  <a:lnTo>
                    <a:pt x="5760" y="5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">
                <a:alphaModFix amt="50000"/>
              </a:blip>
              <a:srcRect/>
              <a:tile tx="0" ty="0" sx="50000" sy="50000" algn="t"/>
            </a:blipFill>
            <a:ln w="12700">
              <a:noFill/>
            </a:ln>
            <a:effectLst>
              <a:outerShdw blurRad="50760" dir="5400000" dist="3816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lt1"/>
            </a:lnRef>
            <a:fillRef idx="1">
              <a:schemeClr val="accent1"/>
            </a:fillRef>
            <a:effectRef idx="1">
              <a:schemeClr val="accent1"/>
            </a:effectRef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Lucida Sans Unicode"/>
              </a:endParaRPr>
            </a:p>
          </p:txBody>
        </p:sp>
        <p:cxnSp>
          <p:nvCxnSpPr>
            <p:cNvPr id="10" name="Прямая соединительная линия 11"/>
            <p:cNvCxnSpPr/>
            <p:nvPr/>
          </p:nvCxnSpPr>
          <p:spPr>
            <a:xfrm>
              <a:off x="-3600" y="4997520"/>
              <a:ext cx="9147960" cy="790560"/>
            </a:xfrm>
            <a:prstGeom prst="straightConnector1">
              <a:avLst/>
            </a:prstGeom>
            <a:ln w="12065">
              <a:solidFill>
                <a:srgbClr val="044a8a"/>
              </a:solidFill>
              <a:miter/>
            </a:ln>
          </p:spPr>
        </p:cxnSp>
      </p:grpSp>
      <p:sp>
        <p:nvSpPr>
          <p:cNvPr id="11" name="PlaceHolder 2"/>
          <p:cNvSpPr>
            <a:spLocks noGrp="1"/>
          </p:cNvSpPr>
          <p:nvPr>
            <p:ph type="dt" idx="1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ftr" idx="2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e7ebf4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e7ebf4"/>
                </a:solidFill>
                <a:latin typeface="Lucida Sans Unicod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sldNum" idx="3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8196827-F539-458F-9BE7-4AC754751135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ru-RU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ru-RU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олилиния 12"/>
          <p:cNvSpPr/>
          <p:nvPr/>
        </p:nvSpPr>
        <p:spPr>
          <a:xfrm>
            <a:off x="499320" y="5945040"/>
            <a:ext cx="4940280" cy="92088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Полилиния 11"/>
          <p:cNvSpPr/>
          <p:nvPr/>
        </p:nvSpPr>
        <p:spPr>
          <a:xfrm>
            <a:off x="485640" y="5938920"/>
            <a:ext cx="3690000" cy="93312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" name="Прямоугольный треугольник 13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54" name="Прямая соединительная линия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044a8a"/>
            </a:solidFill>
            <a:miter/>
          </a:ln>
        </p:spPr>
      </p:cxnSp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бразец текста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100000"/>
              </a:lnSpc>
              <a:spcBef>
                <a:spcPts val="323"/>
              </a:spcBef>
              <a:buClr>
                <a:srgbClr val="0f6fc6"/>
              </a:buClr>
              <a:buFont typeface="Verdana"/>
              <a:buChar char="◦"/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Второй уровень</a:t>
            </a:r>
            <a:endParaRPr b="0" lang="ru-RU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9680" indent="-228600">
              <a:lnSpc>
                <a:spcPct val="100000"/>
              </a:lnSpc>
              <a:spcBef>
                <a:spcPts val="349"/>
              </a:spcBef>
              <a:buClr>
                <a:srgbClr val="009dd9"/>
              </a:buClr>
              <a:buFont typeface="Wingdings 2" charset="2"/>
              <a:buChar char=""/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Третий уровень</a:t>
            </a:r>
            <a:endParaRPr b="0" lang="ru-RU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100000"/>
              </a:lnSpc>
              <a:spcBef>
                <a:spcPts val="349"/>
              </a:spcBef>
              <a:buClr>
                <a:srgbClr val="009dd9"/>
              </a:buClr>
              <a:buFont typeface="Wingdings 2" charset="2"/>
              <a:buChar char=""/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Четвертый уровень</a:t>
            </a:r>
            <a:endParaRPr b="0" lang="ru-RU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lnSpc>
                <a:spcPct val="100000"/>
              </a:lnSpc>
              <a:spcBef>
                <a:spcPts val="349"/>
              </a:spcBef>
              <a:buClr>
                <a:srgbClr val="009dd9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52EB4B0-54DB-4C5C-A529-8FAA0C3DCD6D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4617b"/>
                </a:solidFill>
                <a:latin typeface="Lucida Sans Unicode"/>
              </a:rPr>
              <a:t>Образец заголовка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chart" Target="../charts/chart4.xm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chart" Target="../charts/chart5.xm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chart" Target="../charts/chart6.xm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65440" y="1412640"/>
            <a:ext cx="8278200" cy="216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04617b"/>
                </a:solidFill>
                <a:latin typeface="Lucida Sans Unicode"/>
              </a:rPr>
              <a:t>Минеральная вода</a:t>
            </a:r>
            <a:endParaRPr b="0" lang="ru-RU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284000" y="3611520"/>
            <a:ext cx="4173840" cy="119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t">
            <a:normAutofit/>
          </a:bodyPr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1700" spc="-1" strike="noStrike">
                <a:solidFill>
                  <a:srgbClr val="04617b"/>
                </a:solidFill>
                <a:latin typeface="Lucida Sans Unicode"/>
              </a:rPr>
              <a:t>Презентация для потребителей минеральной вод</a:t>
            </a:r>
            <a:r>
              <a:rPr b="0" lang="ru-RU" sz="1400" spc="-1" strike="noStrike">
                <a:solidFill>
                  <a:srgbClr val="04617b"/>
                </a:solidFill>
                <a:latin typeface="Lucida Sans Unicode"/>
              </a:rPr>
              <a:t>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539640" y="1124640"/>
            <a:ext cx="2555280" cy="3808800"/>
          </a:xfrm>
          <a:prstGeom prst="rect">
            <a:avLst/>
          </a:prstGeom>
          <a:ln w="9525">
            <a:noFill/>
          </a:ln>
        </p:spPr>
      </p:pic>
      <p:sp>
        <p:nvSpPr>
          <p:cNvPr id="105" name="TextBox 4"/>
          <p:cNvSpPr/>
          <p:nvPr/>
        </p:nvSpPr>
        <p:spPr>
          <a:xfrm>
            <a:off x="5399640" y="5805360"/>
            <a:ext cx="374400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ffffff"/>
                </a:solidFill>
                <a:latin typeface="Lucida Sans Unicode"/>
              </a:rPr>
              <a:t>Над презентацией работали: Кравченко Анна 8 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ffffff"/>
                </a:solidFill>
                <a:latin typeface="Lucida Sans Unicode"/>
              </a:rPr>
              <a:t>Малькова Александра 8 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Содержимое 3"/>
          <p:cNvGraphicFramePr/>
          <p:nvPr/>
        </p:nvGraphicFramePr>
        <p:xfrm>
          <a:off x="827640" y="1124640"/>
          <a:ext cx="5482440" cy="31716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22" name="TextBox 4"/>
          <p:cNvSpPr/>
          <p:nvPr/>
        </p:nvSpPr>
        <p:spPr>
          <a:xfrm>
            <a:off x="899640" y="4509000"/>
            <a:ext cx="7992360" cy="12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Исследования показали, что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26% - часто пьют минеральную вод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59% -  иногда пьют минеральную вод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15% - редко пьют минеральную воду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Отсюда делаем вывод, что вопросы о минеральной воде интересуют более 85% опрошенных людей. Значит тема проекта актуальн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1043640" y="260640"/>
            <a:ext cx="648036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Было опрошено 100 человек (10 учителей и 90 учеников различных возрастов) в нашей гимназии. Суммировав ответы, мы получили следующие результаты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Диаграмма 6"/>
          <p:cNvGraphicFramePr/>
          <p:nvPr/>
        </p:nvGraphicFramePr>
        <p:xfrm>
          <a:off x="827640" y="332640"/>
          <a:ext cx="5112360" cy="3312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25" name="TextBox 9"/>
          <p:cNvSpPr/>
          <p:nvPr/>
        </p:nvSpPr>
        <p:spPr>
          <a:xfrm>
            <a:off x="755640" y="4005000"/>
            <a:ext cx="9000720" cy="16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Если потребители пьют минеральную воду часто, то какую выбирают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Исследования показали, что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29% - пьют минеральную воду с газом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38% - пьют минеральную воду без газ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33% - пьют минеральную воду с газом и без газ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Мнения разделились почти поровну. Какую лучше выбрать, каждый решит для себя, прочитав нашу брошюру «Минеральная вода для Вас»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Содержимое 3"/>
          <p:cNvGraphicFramePr/>
          <p:nvPr/>
        </p:nvGraphicFramePr>
        <p:xfrm>
          <a:off x="179640" y="260640"/>
          <a:ext cx="4608000" cy="3456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27" name="TextBox 6"/>
          <p:cNvSpPr/>
          <p:nvPr/>
        </p:nvSpPr>
        <p:spPr>
          <a:xfrm>
            <a:off x="827640" y="5229360"/>
            <a:ext cx="8136720" cy="12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Огорчили результаты опроса по вопросам № 4 и № 5. Потому, что большая часть участников опроса не интересуется что написано на этикете. На этикете содержится основная информация, которой нужно руководствоваться при выборе минеральной воды. Различные виды минеральных вод используют с различной целью при различных заболеваниях (читайте брошюру «Минеральная вода для Вас»)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Содержимое 3"/>
          <p:cNvGraphicFramePr/>
          <p:nvPr/>
        </p:nvGraphicFramePr>
        <p:xfrm>
          <a:off x="4247280" y="332640"/>
          <a:ext cx="4896360" cy="3528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129" name="Rectangle 2"/>
          <p:cNvSpPr/>
          <p:nvPr/>
        </p:nvSpPr>
        <p:spPr>
          <a:xfrm>
            <a:off x="4565520" y="3794760"/>
            <a:ext cx="4518360" cy="1080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7% - употребляют лечебную минеральную вод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24% - употребляют лечебно-столовую минеральную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вод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20% - употребляют столовую минеральную вод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49% - не придают значению вида минеральной воды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0" y="3580560"/>
            <a:ext cx="4715640" cy="1476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15% - читают этикетку минеральной воды, чтобы узнать её состав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47% - не читают этикетку минеральной воды, чтобы узнать её состав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38% - иногда читают, иногда не читают этикетку минеральной воды,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чтобы узнать её состав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Диаграмма 3"/>
          <p:cNvGraphicFramePr/>
          <p:nvPr/>
        </p:nvGraphicFramePr>
        <p:xfrm>
          <a:off x="827640" y="548640"/>
          <a:ext cx="4968360" cy="3168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32" name="TextBox 4"/>
          <p:cNvSpPr/>
          <p:nvPr/>
        </p:nvSpPr>
        <p:spPr>
          <a:xfrm>
            <a:off x="1403640" y="4293000"/>
            <a:ext cx="5832360" cy="16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Употребление минеральной воды, безусловно, влияет на здоровье человека. Как укрепляет, и так и ухудшает состояние организма. С этим согласны 63% опрошенных. Жаль, что некоторые люди считают, что минеральная вода не влияет на здоровье (13% опрошенных) и 24 % об этом  ничего не известно. Наша задача объяснить каждому, что различные минеральные воды по-разному влияют на организм. А значит, надо употреблять их внимательно прочитав этикетку и рекомендации медиков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Диаграмма 4"/>
          <p:cNvGraphicFramePr/>
          <p:nvPr/>
        </p:nvGraphicFramePr>
        <p:xfrm>
          <a:off x="323640" y="0"/>
          <a:ext cx="8424720" cy="4896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34" name="TextBox 5"/>
          <p:cNvSpPr/>
          <p:nvPr/>
        </p:nvSpPr>
        <p:spPr>
          <a:xfrm>
            <a:off x="1583280" y="4797000"/>
            <a:ext cx="75603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В результате опроса наиболее популярными оказались следующие воды – Аква  Минерале и </a:t>
            </a:r>
            <a:r>
              <a:rPr b="0" lang="en-US" sz="1300" spc="-1" strike="noStrike">
                <a:solidFill>
                  <a:srgbClr val="000000"/>
                </a:solidFill>
                <a:latin typeface="Lucida Sans Unicode"/>
              </a:rPr>
              <a:t>Bon Aqua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,Святой Источник. Эти воды не имеют полного описания свойств и состава на этикетке, что не дает возможности быстро правильно подобрать для себя воду. А также возникает вопрос о их соответствии и пригодности для частого употребления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Высокой популярностью пользуются Родники России, Есентуки, Архыз, Боржоми, Нарзан. Средней популярностью пользуются Новотерская, Люпецкий бювет, Рычал-Су,              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Липецкая, Эдельвейс. На этикетках этих вод можно определить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их вид и свойства, а значит правильно сориентироваться в 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выборе воды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Сделав сравнительную характеристику популярности марок минеральных вод</a:t>
            </a:r>
            <a:r>
              <a:rPr b="0" lang="en-US" sz="1300" spc="-1" strike="noStrike">
                <a:solidFill>
                  <a:srgbClr val="000000"/>
                </a:solidFill>
                <a:latin typeface="Lucida Sans Unicode"/>
              </a:rPr>
              <a:t>,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 можно сделать вывод, о том, что потребители ориентируются в большей степени на рекламу минеральной воды, нежели на свойства минеральной воды. Это неправильно с точки зрения здоровья. Различные минеральные воды имеют множество различных характеристик, ориентируясь в которых со знанием вопроса можно правильно подобрать для себя на данный момент времени минеральную воду. Минеральная вода один из важных часто употребляемых продуктов в рационе питания человека. Помочь вам сориентироваться в этом вопросе наша цель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4617b"/>
                </a:solidFill>
                <a:latin typeface="Lucida Sans Unicode"/>
              </a:rPr>
              <a:t>Вывод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37" name="Picture 2" descr="C:\Documents and Settings\Admin\Рабочий стол\PLEASE! DON'T TOUCH IT!!!!!!!!!\Музыка\Проект\x_256b030c.jpg"/>
          <p:cNvPicPr/>
          <p:nvPr/>
        </p:nvPicPr>
        <p:blipFill>
          <a:blip r:embed="rId1"/>
          <a:stretch/>
        </p:blipFill>
        <p:spPr>
          <a:xfrm>
            <a:off x="6300360" y="3141000"/>
            <a:ext cx="2448000" cy="3368160"/>
          </a:xfrm>
          <a:prstGeom prst="rect">
            <a:avLst/>
          </a:prstGeom>
          <a:ln cap="sq" w="38100">
            <a:solidFill>
              <a:srgbClr val="000000"/>
            </a:solidFill>
            <a:miter/>
          </a:ln>
          <a:effectLst>
            <a:outerShdw algn="tl" blurRad="50760" dir="2700000" dist="37674" rotWithShape="0">
              <a:srgbClr val="000000">
                <a:alpha val="43000"/>
              </a:srgbClr>
            </a:outerShdw>
          </a:effectLst>
        </p:spPr>
      </p:pic>
      <p:sp>
        <p:nvSpPr>
          <p:cNvPr id="138" name="Rectangle 3"/>
          <p:cNvSpPr/>
          <p:nvPr/>
        </p:nvSpPr>
        <p:spPr>
          <a:xfrm flipV="1" rot="10800000">
            <a:off x="2700000" y="3597480"/>
            <a:ext cx="3240000" cy="2268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Огромное разнообразие минеральных вод дает большие возможности их применения для лечебного воздействия на организм человека. Прочтите наши рекомендации в брошюре «Минеральная вода для Вас». Брошюру мы специально разработали для ориентировки потребителей на широком рынке минеральных вод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67640" y="12686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1300" spc="-1" strike="noStrike" u="sng">
                <a:solidFill>
                  <a:srgbClr val="000000"/>
                </a:solidFill>
                <a:uFillTx/>
                <a:latin typeface="Lucida Sans Unicode"/>
              </a:rPr>
              <a:t>Применение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В основном минеральные воды используют как оказывающие лечебное влияние на организм человека. Лечебное воздействие имеет весь комплекс растворённых в них веществ. Наличие специфических биологически активных компонентов (CO</a:t>
            </a:r>
            <a:r>
              <a:rPr b="0" lang="en-US" sz="8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, H</a:t>
            </a:r>
            <a:r>
              <a:rPr b="0" lang="ru-RU" sz="8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S, As и др.) и особых свойств определяет часто методы их лечебного использования : питьевого лечения и для ванн, купаний, душей, проводимых в бальнеолечебницах и в лечебных бассейнах, а также для ингаляций и полосканий при заболеваниях носоглотки и верхних дыхательных путей, для орошений при гинекологических болезнях, для промываний, главным образом при заболеваниях органов пищеварения, нарушениях обмена веществ и т. д. В качестве основных критериев оценки лечебности минеральных вод в курортологии приняты особенности их химического состава и физических свойства, которые одновременно служат важнейшими показателями для их классификации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Для правильного применения минеральной воды имеет большее значение понимание влияния на организм процесса питья минеральных вод. Минеральная вода в желудке не всасывается.  Всасывание минеральной воды происходит в процессе прохождения по всему пути тонкого кишечника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Химические вещества, входящие в состав минеральной воды, попав в кровь, могут вызвать довольно разнообразные ответные физиологические реакции со стороны систем пищеварения, кровообращения, дыхания, обмена веществ, системы крови, желез внутренней секреции и др. 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4617b"/>
                </a:solidFill>
                <a:latin typeface="Lucida Sans Unicode"/>
              </a:rPr>
              <a:t>Как влияют минеральные воды на организм человека. </a:t>
            </a:r>
            <a:br>
              <a:rPr sz="3200"/>
            </a:b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67640" y="4046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44000"/>
          </a:bodyPr>
          <a:p>
            <a:pPr marL="338400" indent="-2368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Гидрокарбонатные минеральные воды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едназначены для тех, кто занимается спортом, так как оказывают благоприятное влияние при усиленной мышечной работе. Пополняя недостаток карбонатов крови, они повышают щёлочные резервы организма. Под их влиянием в организме уменьшается содержание водородных ионов (pH), которые вместе с ионами хлора служат для выработки соляной кислоты. Они противопоказаны при гастрите, так как выделяющийся при распаде гидрокарботатов углекислый газ стимулирует секрецию желудочного сока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8400" indent="-2368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Сульфатные минеральные воды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екомендуются тем, у кого наблюдаются проблемы с печенью и желчного пузыря, ожирение и сахарный диабет. Благодаря этим водам  печёночные клетки увеличивают образование желчи, усиливается перистальтика желчевыводящих путей, улучшается отток из желчного пузыря и протоков, тем самым обеспечивается выведение продуктов воспаления, создаются условия, препятствующие выпадению из желчи солей и образованию камней. Категорически нельзя употреблять такую воду детям и подросткам, так как сульфаты препятствуют росту костей, связывая кальций пищи в просвете ЖКТ в нерастворимые соли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8400" indent="-2368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Хлоридные минеральные воды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пособствуют регулировке работы кишечника, желчевыводящих путей и печени, однако их нельзя пить гипертоникам. Они улучшают секрецию пищеварительных желёз. Попадая в желудок, хлоридно–натриевые воды усиливают его перистальтику, стимулируя отделение желудочного сока. Ионы хлора и водорода служат основным материалом, из которого вырабатывается соляная кислота, определяющая кислотность желудочного сока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8400" indent="-2368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Магниевые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минеральные воды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омогают при стрессовых ситуациях. Противопоказания склонность к расстройству желудка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8400" indent="-2368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Железистые минеральные воды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назначают при малокровии, заболеваниях желудка и кишечника, нарушениях обмена веществ, гинекологических заболеваниях. Ванны из железистых вод оказывают стимулирующее влияние на кровотворение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43000"/>
          </a:bodyPr>
          <a:p>
            <a:pPr marL="330840" indent="-2314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Столовые минеральные воды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(минерализация от 1 до 2 г/л или меньшая — при наличии биологически активных веществ) - имеют низкую минерализацию, поэтому их можно без ограничения использовать для приготовления еды. Они отлично утоляют жажду и обладают приятным мягким вкусом, без постороннего запаха и привкуса. Нормативные документы на минеральные столовые воды отсутствуют. Поэтому критерии отнесения вод к минеральным столовым водам (во многих странах) не стандартизованы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0840" indent="-2314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слабоминерализованные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1–2 г/л) относят и к столовым, и лечебно–столовым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0840" indent="-2314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Лечебно-столовые минеральные воды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(минерализация о  2-8 г/л)- Имеют более высокую концентрацию минеральных веществ.. Достоинство лечебно–столовых минеральных вод состоит в их многофункциональности: их можно употреблять как столовый напиток (не регулярно) и систематически — для лечения (по назначению врача). Бесконтрольное употребление такой воды может привести к нарушению водно-солевого баланса в организме. А для тех, кто страдает какими-либо хроническими заболеваниями, это чревато возникновением обострений и общим ухудшением состояния.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0840" indent="-2314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малой минерализации (2–5 г/л) 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0840" indent="-2314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Лечебные минеральные воды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минерализация от 8 до 12 г/л) - В них содержится самое большое количество минералов и микроэлементов. Это настоящее лекарство, применять которое нужно исходя из медицинских показаний. Такую воду используют не только для питья, но и для различных процедур: ванн, орошений, душа, ингаляций. Постоянно утолять жажду лечебной минеральной водой очень рискованно. Ее пьют курсами, как любое другое лекарство, соблюдая при этом определенную дозировку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0840" indent="-2314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средней минерализации (5–15 г/л)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0840" indent="-2314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высокой (15–35 г/л)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0840" indent="-2314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рассольные (35–150 г/л)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0840" indent="-2314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крепко–рассольные (свыше 150 г/л)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47000"/>
          </a:bodyPr>
          <a:p>
            <a:pPr indent="0" algn="ctr">
              <a:lnSpc>
                <a:spcPct val="100000"/>
              </a:lnSpc>
              <a:buNone/>
            </a:pPr>
            <a:br>
              <a:rPr sz="3600"/>
            </a:br>
            <a:r>
              <a:rPr b="1" lang="ru-RU" sz="3600" spc="-1" strike="noStrike">
                <a:solidFill>
                  <a:srgbClr val="04617b"/>
                </a:solidFill>
                <a:latin typeface="Lucida Sans Unicode"/>
              </a:rPr>
              <a:t>Как каждый из видов минеральной воды воздействует на организм?</a:t>
            </a:r>
            <a:br>
              <a:rPr sz="4100"/>
            </a:br>
            <a:endParaRPr b="0" lang="ru-RU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Каждый из компонентов минеральной воды воздействует на организм по-своему. 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1300" spc="-1" strike="noStrike">
                <a:solidFill>
                  <a:srgbClr val="000000"/>
                </a:solidFill>
                <a:latin typeface="Lucida Sans Unicode"/>
              </a:rPr>
              <a:t>Кальций (Са)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 обладает противовоспалительным действием, обезвоживает ткани, укрепляет кости. 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1300" spc="-1" strike="noStrike">
                <a:solidFill>
                  <a:srgbClr val="000000"/>
                </a:solidFill>
                <a:latin typeface="Lucida Sans Unicode"/>
              </a:rPr>
              <a:t>Магний (Мg)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 хорошо усваивается организмом, снижает кровяное давление, способствует уменьшению спазмов желчного пузыря, снижает уровень холестерина в крови и в желчи, благотворно влияет на нервную систему, вызывает в сочетании с сульфатом слабительный эффект. 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1300" spc="-1" strike="noStrike">
                <a:solidFill>
                  <a:srgbClr val="000000"/>
                </a:solidFill>
                <a:latin typeface="Lucida Sans Unicode"/>
              </a:rPr>
              <a:t>Натрий (Nа)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 хорошо всасывается в пищеварительном тракте, участвует в водном обмене организма. Натрий в сочетании с калием (К) поддерживает необходимое давление в тканевых и межтканевых жидкостях организма. Помимо этого, калий участвует в обмене натрия и кальция и необходим для действия многих ферментов в организме человека. Он обладает также мочегонным действием. 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1300" spc="-1" strike="noStrike">
                <a:solidFill>
                  <a:srgbClr val="000000"/>
                </a:solidFill>
                <a:latin typeface="Lucida Sans Unicode"/>
              </a:rPr>
              <a:t>Гидрокарбонат (НСО</a:t>
            </a:r>
            <a:r>
              <a:rPr b="1" lang="ru-RU" sz="800" spc="-1" strike="noStrike">
                <a:solidFill>
                  <a:srgbClr val="000000"/>
                </a:solidFill>
                <a:latin typeface="Lucida Sans Unicode"/>
              </a:rPr>
              <a:t>3</a:t>
            </a:r>
            <a:r>
              <a:rPr b="1" lang="en-US" sz="1300" spc="-1" strike="noStrike">
                <a:solidFill>
                  <a:srgbClr val="000000"/>
                </a:solidFill>
                <a:latin typeface="Lucida Sans Unicode"/>
              </a:rPr>
              <a:t>)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 попадая в желудок, реагирует с желудочным соком и выделяет углекислоту, стимулируя тем самым секреторную деятельность желудка. 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1300" spc="-1" strike="noStrike">
                <a:solidFill>
                  <a:srgbClr val="000000"/>
                </a:solidFill>
                <a:latin typeface="Lucida Sans Unicode"/>
              </a:rPr>
              <a:t>Сульфат (SO</a:t>
            </a:r>
            <a:r>
              <a:rPr b="1" lang="ru-RU" sz="800" spc="-1" strike="noStrike">
                <a:solidFill>
                  <a:srgbClr val="000000"/>
                </a:solidFill>
                <a:latin typeface="Lucida Sans Unicode"/>
              </a:rPr>
              <a:t>4</a:t>
            </a:r>
            <a:r>
              <a:rPr b="1" lang="ru-RU" sz="1300" spc="-1" strike="noStrike">
                <a:solidFill>
                  <a:srgbClr val="000000"/>
                </a:solidFill>
                <a:latin typeface="Lucida Sans Unicode"/>
              </a:rPr>
              <a:t>)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 снижает желудочную секрецию и ее активность, а в сочетании с магнием вызывает слабительный эффект. 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1300" spc="-1" strike="noStrike">
                <a:solidFill>
                  <a:srgbClr val="000000"/>
                </a:solidFill>
                <a:latin typeface="Lucida Sans Unicode"/>
              </a:rPr>
              <a:t>Хлор (Сl)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 влияет на выделительную функцию почек. 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44000"/>
          </a:bodyPr>
          <a:p>
            <a:pPr indent="0" algn="ctr">
              <a:lnSpc>
                <a:spcPct val="100000"/>
              </a:lnSpc>
              <a:buNone/>
            </a:pPr>
            <a:br>
              <a:rPr sz="3600"/>
            </a:br>
            <a:r>
              <a:rPr b="1" lang="ru-RU" sz="3600" spc="-1" strike="noStrike">
                <a:solidFill>
                  <a:srgbClr val="04617b"/>
                </a:solidFill>
                <a:latin typeface="Lucida Sans Unicode"/>
              </a:rPr>
              <a:t>Как каждый из компонентов минеральных вод влияет на организм человека</a:t>
            </a:r>
            <a:r>
              <a:rPr b="1" lang="ru-RU" sz="4100" spc="-1" strike="noStrike">
                <a:solidFill>
                  <a:srgbClr val="04617b"/>
                </a:solidFill>
                <a:latin typeface="Lucida Sans Unicode"/>
              </a:rPr>
              <a:t>? </a:t>
            </a:r>
            <a:br>
              <a:rPr sz="4100"/>
            </a:b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418644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1300" spc="-1" strike="noStrike" u="sng">
                <a:solidFill>
                  <a:srgbClr val="000000"/>
                </a:solidFill>
                <a:uFillTx/>
                <a:latin typeface="Lucida Sans Unicode"/>
              </a:rPr>
              <a:t>Минеральные воды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 – это воды, в состав которых входят минеральные соли, газы, органические вещества, радиоактивные вещества и другие химические соединения. Минеральные воды бывают природные и искусственно приготовленные. Искусственные минеральные воды близки по составу к природным. Их изготавливают из химически чистых солей, используя озерную или морскую соль. Природные минеральные воды пользуются большой популярностью у населения. На поверхности Земли природные минеральные воды проявляются в виде источников (родников), а также выводятся из недр буровыми скважинами, глубины которых могут достигать нескольких км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4617b"/>
                </a:solidFill>
                <a:latin typeface="Lucida Sans Unicode"/>
              </a:rPr>
              <a:t>Что такое минеральная вода?</a:t>
            </a:r>
            <a:endParaRPr b="0" lang="ru-RU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6084000" y="1845000"/>
            <a:ext cx="2784960" cy="416376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Если Вы почувствовали недомогание, обратитесь к врачу, установите диагноз заболевания, прочтите наши рекомендации, посоветуйтесь с врачом, лечитесь, и Вы быстро поправитесь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Не пренебрегайте рекомендациями врача по  дозировке минеральной воды, так как чрезмерное употребление ведет к передозировке  организма компонентами минеральной воды, что может вызвать головокружение, нарушение сна, расстройство пищеварения, боли в области головы и шеи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Эффект от питьевого лечения минеральными водами зависит не только от правильного выбора воды, но и от правил её приёма, температуры, количества, время приема взвешенного со временем приема пищи и др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46000"/>
          </a:bodyPr>
          <a:p>
            <a:pPr indent="0" algn="ctr">
              <a:lnSpc>
                <a:spcPct val="100000"/>
              </a:lnSpc>
              <a:buNone/>
            </a:pPr>
            <a:br>
              <a:rPr sz="3600"/>
            </a:br>
            <a:r>
              <a:rPr b="1" lang="ru-RU" sz="3600" spc="-1" strike="noStrike">
                <a:solidFill>
                  <a:srgbClr val="04617b"/>
                </a:solidFill>
                <a:latin typeface="Lucida Sans Unicode"/>
              </a:rPr>
              <a:t>Как правильно употреблять минеральную воду, если у вас есть заболевание. </a:t>
            </a:r>
            <a:br>
              <a:rPr sz="4100"/>
            </a:br>
            <a:endParaRPr b="0" lang="ru-RU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48" name="Picture 2" descr="C:\Program Files\Microsoft Office\MEDIA\CAGCAT10\j0240719.wmf"/>
          <p:cNvPicPr/>
          <p:nvPr/>
        </p:nvPicPr>
        <p:blipFill>
          <a:blip r:embed="rId1"/>
          <a:stretch/>
        </p:blipFill>
        <p:spPr>
          <a:xfrm>
            <a:off x="6300360" y="3273840"/>
            <a:ext cx="2088000" cy="327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Содержимое 5"/>
          <p:cNvGraphicFramePr/>
          <p:nvPr/>
        </p:nvGraphicFramePr>
        <p:xfrm>
          <a:off x="467640" y="476640"/>
          <a:ext cx="8229240" cy="476748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370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Название заболев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Рекомендуемые минеральные в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Состояние и температура в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Время прие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Разовая доза воды (мл), способ примен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Количество приемов воды в сут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Болезни желудка: при гастритах с повышенной секреци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Березовская, боржом, джермук, лужанская, плосковская, свалява, славяновская, смирновс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С небольшим количеством газа или без газа, 35-40°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За 1-1½ ч до еды. Иногда при наличии изжоги, отрыжки после е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200-300 мл. Пить воду следует большими глотками, быстро. После еды при отрыжке, изжоге дополнительно 2-3 раза по 50 м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3 раза: перед завтраком, обедом и ужино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</a:tr>
              <a:tr h="370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при гастритах с пониженной секреци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Арзни, аршан, «Белая горка», дарсун, ессентуки № 4, кемери, миргородская, минская, нарз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С газом или без газа,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18-20°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За 10-15 мин до или во время е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200-300 мл. Воду пить медленно, не торопясь, небольшими глотками, в течение 2-5 ми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-----------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</a:tr>
              <a:tr h="370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Язвенная болезнь желудка и двенадцатиперстной киш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«Белая горка», березовская, боржом, буковинская, беркут, джермук, ессентуки № 4, лужанская, плосковская, свалява, скури, славяновская, смирновс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 gridSpan="3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Состояние воды, температура, время и способ приема зависят от кислотности желудочного сока. 200-300 м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chemeClr val="dk1"/>
                        </a:solidFill>
                        <a:latin typeface="Calibri"/>
                        <a:ea typeface="Calibri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Содержимое 5"/>
          <p:cNvGraphicFramePr/>
          <p:nvPr/>
        </p:nvGraphicFramePr>
        <p:xfrm>
          <a:off x="467640" y="476640"/>
          <a:ext cx="8229240" cy="540720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736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Название заболев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Рекомендуемые минеральные в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Состояние и температура в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Время прие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Разовая доза воды (мл), способ примен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Количество приемов воды в сут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663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Болезни кишечника (колиты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Арзни, аршан, «Белая горка», березовская, боржом, беркут, джермук, дилижан, драговская, гоголевская, ессентуки № 4, кеме¬ри, крымская, куяльник, лужанская, машук № 19, миргородская, плосковская, рычал-су, саирме, свалява, скури, славяновская, смирновс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Без газа,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40-45°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Время приема зависит от кислотности желудочного со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В начале лечения —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75-100 мл и постепенно доводят до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150-200 мл; способ применения воды зависит от кислотности желудочного со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3 раза: утром натощак, перед обедом и ужино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Содержимое 3"/>
          <p:cNvGraphicFramePr/>
          <p:nvPr/>
        </p:nvGraphicFramePr>
        <p:xfrm>
          <a:off x="467640" y="476640"/>
          <a:ext cx="8229240" cy="532836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799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Название заболев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Рекомендуемые минеральные в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Состояние и температура в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Время прие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Разовая доза воды (мл), способ примен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Количество приемов воды в сут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5291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Болезни печени и желчных путей (гепатиты, холециститы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Арзни, аршан, березовская, боржом, буковинская, джермук, дилижан, драговская, ессентуки № 4, «Ласточка», лужанская, машук № 19, миргородская, плосковская, рычал-су, саирме, свалява, скури, славяновская, смирновс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С небольшим количеством газа или без газа, 40-45°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Время приема зависит от кислотности желудочного со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200-300 мл. По спецпоказаниям разовая доза может быть доведена до 400 мл. В таком случае выпивать не сразу, а в 2-3 приема в течение 30-60 ми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3 раза: утром натощак, перед обедом и ужино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Содержимое 5"/>
          <p:cNvGraphicFramePr/>
          <p:nvPr/>
        </p:nvGraphicFramePr>
        <p:xfrm>
          <a:off x="467640" y="476640"/>
          <a:ext cx="8229240" cy="543204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6393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Название заболев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Рекомендуемые минеральные в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Состояние и температура в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Время прие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Разовая доза воды (мл), способ примен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Количество приемов воды в сут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27705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Болезни обмена веществ: ожире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Арзни, аршан, боржом, дарасун, джермук, дилижан, драговская, ессентуки № 4, крымская, куяльник, «Ласточка», лужанская, машук № 19, плосковская, рычал-су, скур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18-20°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Состояние воды, время и способ приема зависят от кислотности желудочного со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200-300 м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3 раз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1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</a:tr>
              <a:tr h="1918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сахарный диаб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Березовская, боржом, джермук, дилижан, драговская, ессентуки № 4, крымская, куяльник, «Ласточка», машук № 19, плосковская, рычал-су, саирм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18-20°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200-300 м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2 раз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1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Содержимое 3"/>
          <p:cNvGraphicFramePr/>
          <p:nvPr/>
        </p:nvGraphicFramePr>
        <p:xfrm>
          <a:off x="467640" y="476640"/>
          <a:ext cx="8229240" cy="532836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10656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Название заболев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Рекомендуемые минеральные в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Состояние и температура в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Время прие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Разовая доза воды (мл), способ примен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Количество приемов воды в сут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262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Болезни почек и мочевых путей (пиелит, цистит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Аршан, березовская, джермук, ессентуки № 4, 20, кишиневская, лужанская, машук № 19, московская, нарзан, рычал-су, свалява, славяновская, смирновс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Без газа или с газом, 18-40°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Время приема зависит от кислотности желудочного со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200-300 мл. Кроме трех обычных приемов перед едой, воду пьют 3 раза — через 2½-З ч после е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chemeClr val="dk1"/>
                        </a:solidFill>
                        <a:latin typeface="Calibri"/>
                        <a:ea typeface="Calibri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</a:tr>
            </a:tbl>
          </a:graphicData>
        </a:graphic>
      </p:graphicFrame>
      <p:sp>
        <p:nvSpPr>
          <p:cNvPr id="154" name="TextBox 2"/>
          <p:cNvSpPr/>
          <p:nvPr/>
        </p:nvSpPr>
        <p:spPr>
          <a:xfrm>
            <a:off x="3564000" y="5877360"/>
            <a:ext cx="540036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Если вы абсолютно здоровы и просто хотите пить, выбрать подходящую лично для Вас минеральную воду Вам помогут наши рекомендации в брошюре «Минеральная вода для Вас»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67640" y="14846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Как образуется в природе минеральная вода? Об этом существуют различные мнения. Самым распространенным является предположение геолога Эдуарда Зюсса, что газы, выделенные из находящейся в недрах земли раскаленной лавы, проходя через кору земли, постепенно охлаждаются, происходит их конденсация и превращение в жидкость – это и есть минеральная вода. Минеральные воды такого происхождения называются ювенальными, т. е. «девственными». Это мнение постепенно потеряло приверженцев. 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Сейчас более признана водозная теория, по которой принято считать, что минеральные воды образуются из атмосферных осадков и других поверхностных вод, которые проникают в различные слои земной коры. При циркуляции в слоях земной коры  в воде растворяются различные химические вещества, содержащиеся в различных породах. Формирование минеральной воды происходит в условиях определенного давления и температуры без светового влияния. Ее химический состав и минерализация зависит от того, через какие породы и слои земной коры она проходит. Что касается температуры воды, то это зависит от того, из какой глубины она выходит. Геологами установлено, что в глубине земли через каждые 33 метра температура больше на 1 С, т.е. по температуре воды можно определить, на какой глубине находится источник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58000"/>
          </a:bodyPr>
          <a:p>
            <a:pPr indent="0" algn="ctr">
              <a:lnSpc>
                <a:spcPct val="100000"/>
              </a:lnSpc>
              <a:buNone/>
            </a:pPr>
            <a:br>
              <a:rPr sz="4100"/>
            </a:br>
            <a:r>
              <a:rPr b="1" lang="ru-RU" sz="3600" spc="-1" strike="noStrike">
                <a:solidFill>
                  <a:srgbClr val="04617b"/>
                </a:solidFill>
                <a:latin typeface="Lucida Sans Unicode"/>
              </a:rPr>
              <a:t>Происхождение минеральных вод.</a:t>
            </a:r>
            <a:br>
              <a:rPr sz="4100"/>
            </a:br>
            <a:endParaRPr b="0" lang="ru-RU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67640" y="9806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На территории России и ближнего зарубежья выделяются провинции минеральных вод, каждая из которых отличается гидрогеологическими условиями, особенностями геологического развития, происхождением и физико-химическими характеристиками минеральных вод.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Достаточно изолированные пластовые системы артезианских бассейнов представляют собой провинции </a:t>
            </a:r>
            <a:r>
              <a:rPr b="0" i="1" lang="ru-RU" sz="1200" spc="-1" strike="noStrike">
                <a:solidFill>
                  <a:srgbClr val="000000"/>
                </a:solidFill>
                <a:latin typeface="Lucida Sans Unicode"/>
              </a:rPr>
              <a:t>солёных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 и </a:t>
            </a:r>
            <a:r>
              <a:rPr b="0" i="1" lang="ru-RU" sz="1200" spc="-1" strike="noStrike">
                <a:solidFill>
                  <a:srgbClr val="000000"/>
                </a:solidFill>
                <a:latin typeface="Lucida Sans Unicode"/>
              </a:rPr>
              <a:t>рассольных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Lucida Sans Unicode"/>
              </a:rPr>
              <a:t>вод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 с минерализацией до 300—400 г/л (иногда до 600 г/л); они содержат газы восстановительной обстановки (углеводороды, сероводород, азот). Складчатые регионы и области омоложенных платформ соответствуют провинциям </a:t>
            </a:r>
            <a:r>
              <a:rPr b="0" i="1" lang="ru-RU" sz="1200" spc="-1" strike="noStrike">
                <a:solidFill>
                  <a:srgbClr val="000000"/>
                </a:solidFill>
                <a:latin typeface="Lucida Sans Unicode"/>
              </a:rPr>
              <a:t>углекислых минеральных вод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 (холодных и термальных) различной степени минерализации. Области проявления новейших тектонических движений относятся к провинции </a:t>
            </a:r>
            <a:r>
              <a:rPr b="0" i="1" lang="ru-RU" sz="1200" spc="-1" strike="noStrike">
                <a:solidFill>
                  <a:srgbClr val="000000"/>
                </a:solidFill>
                <a:latin typeface="Lucida Sans Unicode"/>
              </a:rPr>
              <a:t>азотных слабоминерализованных щелочных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, часто </a:t>
            </a:r>
            <a:r>
              <a:rPr b="0" i="1" lang="ru-RU" sz="1200" spc="-1" strike="noStrike">
                <a:solidFill>
                  <a:srgbClr val="000000"/>
                </a:solidFill>
                <a:latin typeface="Lucida Sans Unicode"/>
              </a:rPr>
              <a:t>кремнистых термических вод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. Территория России и стран СНГ особенно богата </a:t>
            </a:r>
            <a:r>
              <a:rPr b="0" i="1" lang="ru-RU" sz="1200" spc="-1" strike="noStrike">
                <a:solidFill>
                  <a:srgbClr val="000000"/>
                </a:solidFill>
                <a:latin typeface="Lucida Sans Unicode"/>
              </a:rPr>
              <a:t>углекислыми минеральными водами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 (Кавказская, Забайкальская, Приморская, Камчатская и другие провинции).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В России выделяются следующие типы месторождений минеральных вод:      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- платформенные артезианские бассейны (Кашинское, Старорусское, Тюменское, Сестрорецкое и др.); 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- предгорные и межгорные артезианские бассейны и склоны (Чартакское, Тбилисское, Нальчикское и др.); 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- артезианские бассейны, связанные с зонами восходящей разгрузки минеральных вод (Нагутское, Ессентукское, Джалал-Абадское и др.); 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- трещинно-жильные воды гидрогеологических массивов (Исти-Суйскос, Кульдурское, Белокурихинское и др.); 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- гидрогеологические массивы, связанные с зонами восходящей разгрузки минеральных вод в горизонты грунтовых вод (Дарасунское, Шивандинское, Шмаковское и др.); 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- грунтовые минеральные воды (Марциальные воды, Увильдинское, Кисегачское, Боровое и др.).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В зависимости от условий происхождения и местоположения источника, минеральные воды имеют различный состав.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53964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58000"/>
          </a:bodyPr>
          <a:p>
            <a:pPr indent="0" algn="ctr">
              <a:lnSpc>
                <a:spcPct val="100000"/>
              </a:lnSpc>
              <a:buNone/>
            </a:pPr>
            <a:br>
              <a:rPr sz="4100"/>
            </a:br>
            <a:r>
              <a:rPr b="1" lang="ru-RU" sz="3600" spc="-1" strike="noStrike">
                <a:solidFill>
                  <a:srgbClr val="04617b"/>
                </a:solidFill>
                <a:latin typeface="Lucida Sans Unicode"/>
              </a:rPr>
              <a:t>Месторождения минеральных вод.</a:t>
            </a:r>
            <a:br>
              <a:rPr sz="4100"/>
            </a:br>
            <a:endParaRPr b="0" lang="ru-RU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67640" y="19890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Состав минеральных вод обусловлен историей геологического  развития, характером тектонических структур, литологии, геотермических условий и другими особенностями территории, где образована минеральная вода. Наиболее мощные факторы, обусловливающие формирование газового состава минеральных вод, — метаморфические и вулканические процессы. Выделяющиеся во время этих процессов летучие продукты (CO</a:t>
            </a:r>
            <a:r>
              <a:rPr b="0" lang="ru-RU" sz="8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, HCl и др.) поступают в подземные воды и придают им высокую агрессивность, способствующую выщелачиванию вмещающих пород и формированию химического состава, минерализации и газонасыщенности воды. 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Известно шесть </a:t>
            </a:r>
            <a:r>
              <a:rPr b="0" i="1" lang="ru-RU" sz="1300" spc="-1" strike="noStrike">
                <a:solidFill>
                  <a:srgbClr val="000000"/>
                </a:solidFill>
                <a:latin typeface="Lucida Sans Unicode"/>
              </a:rPr>
              <a:t>главных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 компонентов, из которых состоят минеральные воды – это натрий (Na), кальций (Са), магний (Мg), хлор (Сl), сульфат (SO</a:t>
            </a:r>
            <a:r>
              <a:rPr b="0" lang="ru-RU" sz="800" spc="-1" strike="noStrike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) и гидрокарбонат (НСО</a:t>
            </a:r>
            <a:r>
              <a:rPr b="0" lang="ru-RU" sz="800" spc="-1" strike="noStrike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).Перечисленные компоненты содержатся практически во всех подземных водах в большом количестве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Под химическим составом минеральных вод подразумевают солевой состав (качественный и количественный)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467640" y="332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br>
              <a:rPr sz="4100"/>
            </a:br>
            <a:r>
              <a:rPr b="1" lang="ru-RU" sz="3600" spc="-1" strike="noStrike">
                <a:solidFill>
                  <a:srgbClr val="04617b"/>
                </a:solidFill>
                <a:latin typeface="Lucida Sans Unicode"/>
              </a:rPr>
              <a:t>Из чего состоят и как классифицируются минеральные воды?</a:t>
            </a:r>
            <a:br>
              <a:rPr sz="4100"/>
            </a:br>
            <a:endParaRPr b="0" lang="ru-RU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67640" y="7646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47000"/>
          </a:bodyPr>
          <a:p>
            <a:pPr marL="361440" indent="-25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о качественному составу минеральные воды различаются на шесть классов: гидрокарбонатные, хлоридные, сульфатные, магниевые, железистые, смешанные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440" indent="-25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440" indent="-25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о количественному составу минеральные воды делят в зависимости от концентрации солей, на: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440" indent="-25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столовые (не превышает 1 грамма на литр воды)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440" indent="-25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слабоминерализованные (1–2 г/л)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440" indent="-25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лечебно–столовые (1-10 г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/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л)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440" indent="-25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малой минерализации (2–5 г/л),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440" indent="-25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лечебные (10–50 г/л)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440" indent="-25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высокой минерализации(15–35 г/л)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440" indent="-25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рассольные (35–150 г/л)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440" indent="-25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крепко–рассольные (свыше 150 г/л)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440" indent="-25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440" indent="-25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Газы, растворённые в минеральных водах, служат показателями геохимических условий, в которых шло формирование данной минеральной воды. В верхней зоне земной коры, где преобладают окислительные процессы, минеральные воды содержат газы воздушного происхождения — азот, кислород, углекислоту (в незначительном объёме). Углеводородные газы и сероводород свидетельствуют о восстановительной химической обстановке, свойственной более глубоким недрам Земли; высокая концентрация углекислоты позволяет считать содержащую её воду сформировавшейся в условиях метаморфической обстановки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7640" y="620640"/>
            <a:ext cx="82292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В зависимости от газового состава и наличия специфических компонентов минеральные воды также делят на: углекислые, сульфидные (сероводородные), азотные, кремнистые (H</a:t>
            </a:r>
            <a:r>
              <a:rPr b="0" lang="ru-RU" sz="8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SiO</a:t>
            </a:r>
            <a:r>
              <a:rPr b="0" lang="ru-RU" sz="800" spc="-1" strike="noStrike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), бромистые, йодистые, железистые, мышьяковистые, радиоактивные (Rn) и др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Реакция воды (степень кислотности или щелочности, выражаемая величиной pH) имеет большее значение для оценки её лечебного действия на организм человека. Различают следующие виды: 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-кислые воды имеют pH = 3,5–6,8 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-нейтральные воды имеют pH = 6,8–7,2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- щелочные воды имеют pH = 7,2–8,5 и выше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46000"/>
          </a:bodyPr>
          <a:p>
            <a:pPr indent="0" algn="ctr">
              <a:lnSpc>
                <a:spcPct val="100000"/>
              </a:lnSpc>
              <a:buNone/>
            </a:pPr>
            <a:br>
              <a:rPr sz="3600"/>
            </a:br>
            <a:r>
              <a:rPr b="1" lang="ru-RU" sz="3600" spc="-1" strike="noStrike">
                <a:solidFill>
                  <a:srgbClr val="04617b"/>
                </a:solidFill>
                <a:latin typeface="Lucida Sans Unicode"/>
              </a:rPr>
              <a:t>Исследование потребительских предпочтений в выборе минеральной воды.</a:t>
            </a:r>
            <a:br>
              <a:rPr sz="4100"/>
            </a:br>
            <a:endParaRPr b="0" lang="ru-RU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Мир минеральных вод очень многообразен. С помощью опроса вы хотим выяснить, как рассуждает потребитель, когда выбирает одну из множества минеральных вод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ctr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Лист опроса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Содержимое 6"/>
          <p:cNvSpPr/>
          <p:nvPr/>
        </p:nvSpPr>
        <p:spPr>
          <a:xfrm>
            <a:off x="1619640" y="2133000"/>
            <a:ext cx="8229240" cy="45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72000"/>
          </a:bodyPr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1) 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Как часто вы пьете минеральную воду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а) каждый раз, когда испытываю жажду (очень часто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б) периодами пью, периодами не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в) не пью (только по назначению врача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2) Сколько в литрах 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Lucida Sans Unicode"/>
              </a:rPr>
              <a:t>минеральной воды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 вы выпиваете за день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а) 0,2 литра (стакан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б)0,5 литр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в)1 литр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г) свой вариант ответа_______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3)Вы пьете минеральную воду с газом или без газа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а) с газо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б) без газ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в) с газом и без газа (разную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4)Читаете ли вы этикетку, чтобы узнать из чего состоит вода, которую вы хотите выпить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а) да, всегда читаю или выбираю ту о которой помню информацию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б) нет, мне все равн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в) иногда читаю, иногда не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5) Какой вид минеральной воды вы употребляете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а) лечебна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б) лечебно-столова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в) столова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г) не придаю значения виду минеральной вод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3640" y="260640"/>
            <a:ext cx="822924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6</a:t>
            </a:r>
            <a:r>
              <a:rPr b="1" lang="ru-RU" sz="1200" spc="-1" strike="noStrike">
                <a:solidFill>
                  <a:srgbClr val="000000"/>
                </a:solidFill>
                <a:latin typeface="Lucida Sans Unicode"/>
              </a:rPr>
              <a:t>) Как вы думаете, влияет  ли на состояние здоровья употребление минеральной воды?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а) да, влияет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б) нет, не влияет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в) не знаю, хочу это выяснить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7) </a:t>
            </a:r>
            <a:r>
              <a:rPr b="1" lang="ru-RU" sz="1200" spc="-1" strike="noStrike">
                <a:solidFill>
                  <a:srgbClr val="000000"/>
                </a:solidFill>
                <a:latin typeface="Lucida Sans Unicode"/>
              </a:rPr>
              <a:t>Поставьте знак «+» возле тех названий марок воды , которые вы чаще всего употребляете.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Боржоми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Есентуки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Родники России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Bon Aqua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Аква Минерале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Липецкая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Нарзан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Святой Источник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Эдельвейс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Смирновская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Дивеевский источник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Архыз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Сочинская Ривьера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Поляна Квасова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Моршинская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Tassay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Поляна Купель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Миргородская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Липецкий бювет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Новотерская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Эльбруссия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Aqua Naturale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Нафтуся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Березовская 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Aqua Sity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Рычал-Су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Боровая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Солуки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Монастырская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Угличская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Обуховская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Полюстровская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Серебряная Роса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Шмаковка № 1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Зеленоградская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«Куяльник № 4»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Трускавецкая 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Смирновская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«Машук № 19»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Лужанская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Славяновская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8) </a:t>
            </a:r>
            <a:r>
              <a:rPr b="1" lang="ru-RU" sz="1200" spc="-1" strike="noStrike">
                <a:solidFill>
                  <a:srgbClr val="000000"/>
                </a:solidFill>
                <a:latin typeface="Lucida Sans Unicode"/>
              </a:rPr>
              <a:t>Хотите ли вы узнать о воздействии минеральной воды на ваш организм?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а) да, мне это интересно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б) нет, мне безразлично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Открыт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Открыт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oncourse</Template>
  <TotalTime>1693</TotalTime>
  <Application>LibreOffice/7.4.7.2$Linux_X86_64 LibreOffice_project/40$Build-2</Application>
  <AppVersion>15.0000</AppVersion>
  <Words>3973</Words>
  <Paragraphs>416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4T15:04:22Z</dcterms:created>
  <dc:creator>Admin</dc:creator>
  <dc:description/>
  <dc:language>en-US</dc:language>
  <cp:lastModifiedBy>LEGION</cp:lastModifiedBy>
  <dcterms:modified xsi:type="dcterms:W3CDTF">2014-11-25T09:24:58Z</dcterms:modified>
  <cp:revision>160</cp:revision>
  <dc:subject/>
  <dc:title>Минеральная вода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0</vt:r8>
  </property>
  <property fmtid="{D5CDD505-2E9C-101B-9397-08002B2CF9AE}" pid="3" name="PresentationFormat">
    <vt:lpwstr>Екран (4:3)</vt:lpwstr>
  </property>
  <property fmtid="{D5CDD505-2E9C-101B-9397-08002B2CF9AE}" pid="4" name="Slides">
    <vt:r8>25</vt:r8>
  </property>
</Properties>
</file>