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33706501"/>
        <c:axId val="37033608"/>
      </c:barChart>
      <c:catAx>
        <c:axId val="3370650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37033608"/>
        <c:crosses val="autoZero"/>
        <c:auto val="1"/>
        <c:lblAlgn val="ctr"/>
        <c:lblOffset val="100"/>
        <c:noMultiLvlLbl val="0"/>
      </c:catAx>
      <c:valAx>
        <c:axId val="37033608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33706501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E06D86-B72F-4984-9FEA-FE6522939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243951-22E5-432C-9B53-B21DA9AE269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FC4BDF-1644-4383-81CA-AB687D12BB6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881025-867A-4B9A-A01B-2F52927F74B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C96954-A6C9-471A-826A-C0B6905CC65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EA99AF-BA9D-4929-9555-1742AFCD3EA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DCE1A9-2DC8-4836-8F0F-DD01E580921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A5B1EF-2DD7-489F-910F-EA23892782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A56ED-D812-433B-9203-E2AC0E218B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D44620-5A7C-4514-8468-966D0F72276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2BCC58-0472-4883-B110-E4701E66A6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5501A6-1DBD-4219-AAEE-4917188CC00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A271DC-4251-4DBF-948B-BE74B812B50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197C11-E259-4C37-A818-24509783EFB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128752-2864-4610-B24E-984DFC9BB94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35DA71-635B-4398-BB8C-1D1F64C8A4F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20636-4DB3-4EAD-AE01-BFF50B470AB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5F228-6F47-4A78-AE4E-69C6AB83B7C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FB92DA-B8B3-49B1-811F-54945C150C9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EA3DA5-7E46-495D-A7B6-C9CD2CBB241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55C4A4-5EDE-48DF-B591-7D8DB4721C7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D34-4397-4F08-9290-459346BF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FF6-AB16-4EEC-B176-0D378AF5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902-D388-45A4-A1B0-E39B4B7A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EBE-5145-408A-A2D0-F5C7C316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2A49-F08C-4AF4-8344-CC176215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7442-D5DA-4663-A090-453A7902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9D25-9F14-422E-B392-8D725789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4283-2079-475B-9862-0A805C5F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316-815A-4517-A2A8-2331B38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617A-396D-451D-B0A3-0918E92E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2998-0E14-473C-A2EE-920C8FEE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4D0-A643-4C36-9F54-5080E89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7963-9A9E-4DBC-950E-707A920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373C-8C21-4488-B833-E431F623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B70B-5D3E-465B-9597-2FC88DAF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3D89-282C-4555-A098-3096E1C7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9DE6-8A4E-419E-BB16-8A099EAB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B24-D5F1-414E-BE3E-AFDD84B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F58-1300-4198-9C97-016E1500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F3F-055A-43F8-8E13-3189E682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BBC-6A51-44AB-9328-66C8FDC6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EE0-0A71-4079-BEDB-DDD7B55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77C-C322-44F7-82B1-8F2D6396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40E-430B-4090-843B-E18584A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E6219-445D-4B7D-BA42-82EBEE5D3B4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CB4413-6EAF-46EB-9C1E-3EF74B348AD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