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C010-5704-4FE0-B035-FB653799C5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D797-2443-45B4-A362-FB2B75193FC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8D23-C1D5-4722-977E-755A3BA1AF2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бл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поражения у человека – это ноги: подъём, лодыжки, щикол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ы насекомых вызывают сильный з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85EC-E2E7-4EEC-A32E-437EDEE86B9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 крысиной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4ACC-1D49-4931-AB8D-43176ADC29C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блох сжато с боков, узкое, гладкое, снабжено щетин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передвигаются прыжками, используя при этом для толчка вторую и третью пары но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енны всегда располагаются позади простых глаз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FF48-83D9-46C2-9F18-F2B06DC8BB7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 (увеличение в 250 р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87EF-46A1-4C10-8983-35F5A70DA0B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колюще-сос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C0A0-ED67-478C-BC50-159972998A4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икл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рослая блоха теоретически может жить 1,5 года, но реально — не более пары месяц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1B8F-C951-4A75-806E-5A6F67EBD3E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9182-6328-439B-A8CE-CB2B4774997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81CD-FAE4-4204-8B9B-532F72DA374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752-0C24-446A-93C3-67B96724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C16-4784-4952-8736-DB35A613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949-4088-43CF-9D8A-600A3016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9D4-1208-418A-BB50-89695C35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7490-E1ED-47D5-B53D-ABF6406F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E820-F5BD-4099-9E3E-30CCCA79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44CE-8430-4977-BE62-6FECD796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137A-F9B1-4BBA-8BE4-17EF3676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1C08-89E0-4815-8619-D95AD24D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A58A-942D-47C4-8A3D-976D476C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25F5-89E0-4BF7-A929-0E63DA37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D0C-DCC2-404F-9605-912C9492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E472-7D55-42BA-806C-C06AE477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4EA1-373F-4F4B-8B02-A0501B56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9F46-F9F6-4A63-8E1A-274F13A7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4559-4661-4190-8EC0-A471968A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25E7-10D6-4FE1-B999-FD12668B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2D4-3823-4C37-ABE6-AC5DB8D9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C8D-E0FA-4E2C-9344-4B1E542F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505-F052-40E3-AB29-7997055C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DE7-DAE4-41BE-819A-50C35E8D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5C8-6C4B-45D5-8D8D-C8F6930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A37-162B-4AEA-AD5D-A14E6A79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328-D1C0-45DB-B1E9-6B94D874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DD5D-28EB-486D-8F17-5B168F5631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4C25-F8BA-4C21-852E-D8A30C80DDE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4319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Бло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8920" y="4869000"/>
            <a:ext cx="356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95280" y="33336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846680" y="1052640"/>
            <a:ext cx="4141800" cy="56768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еловечья блох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7" descr="Картинка 15 из 57904"/>
          <p:cNvPicPr/>
          <p:nvPr/>
        </p:nvPicPr>
        <p:blipFill>
          <a:blip r:embed="rId1"/>
          <a:stretch/>
        </p:blipFill>
        <p:spPr>
          <a:xfrm>
            <a:off x="179280" y="1558800"/>
            <a:ext cx="8280360" cy="49690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6437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ы бло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Picture 7" descr="Картинка 16 из 57904"/>
          <p:cNvPicPr/>
          <p:nvPr/>
        </p:nvPicPr>
        <p:blipFill>
          <a:blip r:embed="rId1"/>
          <a:stretch/>
        </p:blipFill>
        <p:spPr>
          <a:xfrm>
            <a:off x="108000" y="2997360"/>
            <a:ext cx="3098880" cy="37447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8850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ста поражения у человека – это ноги: подъём, лодыжки, щиколот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кусы насекомых вызывают сильный зу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0" descr="Картинка 17 из 57904"/>
          <p:cNvPicPr/>
          <p:nvPr/>
        </p:nvPicPr>
        <p:blipFill>
          <a:blip r:embed="rId5"/>
          <a:stretch/>
        </p:blipFill>
        <p:spPr>
          <a:xfrm>
            <a:off x="3419640" y="2979720"/>
            <a:ext cx="4762440" cy="3762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 крысиной 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5" descr="Картинка 3 из 17735"/>
          <p:cNvPicPr/>
          <p:nvPr/>
        </p:nvPicPr>
        <p:blipFill>
          <a:blip r:embed="rId1"/>
          <a:stretch/>
        </p:blipFill>
        <p:spPr>
          <a:xfrm>
            <a:off x="539640" y="871560"/>
            <a:ext cx="6337440" cy="58705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8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ло блох сжато с боков, узкое, гладкое, снабжено щетинками и шип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асто передвигаются прыжками, используя при этом для толчка вторую и третью пары ног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енны всегда располагаются позади простых глаз.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 (увеличение в 250 раз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3" descr="26247124_insects_05"/>
          <p:cNvPicPr/>
          <p:nvPr/>
        </p:nvPicPr>
        <p:blipFill>
          <a:blip r:embed="rId1"/>
          <a:stretch/>
        </p:blipFill>
        <p:spPr>
          <a:xfrm>
            <a:off x="395280" y="1509840"/>
            <a:ext cx="7632720" cy="5046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Картинка 52 из 57904"/>
          <p:cNvPicPr/>
          <p:nvPr/>
        </p:nvPicPr>
        <p:blipFill>
          <a:blip r:embed="rId1"/>
          <a:stretch/>
        </p:blipFill>
        <p:spPr>
          <a:xfrm>
            <a:off x="324000" y="352440"/>
            <a:ext cx="8280360" cy="6210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колюще-сос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3" descr="0_3828d_c0209589_orig"/>
          <p:cNvPicPr/>
          <p:nvPr/>
        </p:nvPicPr>
        <p:blipFill>
          <a:blip r:embed="rId1"/>
          <a:stretch/>
        </p:blipFill>
        <p:spPr>
          <a:xfrm>
            <a:off x="324000" y="1174680"/>
            <a:ext cx="7343640" cy="5397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икл развит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720" y="1122120"/>
            <a:ext cx="7885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зрослая блоха теоретически может жить 1,5 года, но реально — не более пары месяцев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Картинка 32 из 57904"/>
          <p:cNvPicPr/>
          <p:nvPr/>
        </p:nvPicPr>
        <p:blipFill>
          <a:blip r:embed="rId1"/>
          <a:stretch/>
        </p:blipFill>
        <p:spPr>
          <a:xfrm>
            <a:off x="539640" y="204840"/>
            <a:ext cx="7704360" cy="64119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5" descr="Картинка 13 из 57904"/>
          <p:cNvPicPr/>
          <p:nvPr/>
        </p:nvPicPr>
        <p:blipFill>
          <a:blip r:embed="rId1"/>
          <a:stretch/>
        </p:blipFill>
        <p:spPr>
          <a:xfrm>
            <a:off x="179280" y="1467000"/>
            <a:ext cx="8137800" cy="5202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556px-flea_larva"/>
          <p:cNvPicPr/>
          <p:nvPr/>
        </p:nvPicPr>
        <p:blipFill>
          <a:blip r:embed="rId1"/>
          <a:stretch/>
        </p:blipFill>
        <p:spPr>
          <a:xfrm>
            <a:off x="250920" y="189000"/>
            <a:ext cx="5983200" cy="64580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51280" y="226800"/>
            <a:ext cx="247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Личинк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2:57:49Z</dcterms:created>
  <dc:creator>Бочкова И.А.</dc:creator>
  <dc:description/>
  <dc:language>en-US</dc:language>
  <cp:lastModifiedBy>LEGION</cp:lastModifiedBy>
  <dcterms:modified xsi:type="dcterms:W3CDTF">2014-11-25T09:28:07Z</dcterms:modified>
  <cp:revision>6</cp:revision>
  <dc:subject/>
  <dc:title>Отряд Блохи</dc:title>
</cp:coreProperties>
</file>