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DBA6-C6B2-4A68-BFE1-1042527AC96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Бло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биологии и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чкова Ирина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CEFD-7AB2-4D26-90A4-C56BB155C3D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ья бло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9719-0486-4FEB-9E44-16CDEC038D9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усы бло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а поражения у человека – это ноги: подъём, лодыжки, щиколо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усы насекомых вызывают сильный з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живание проходит долго, и на месте укусов длительное время остаются маленькие шра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9F8E-9823-485D-A90A-4A76785A9A9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ус крысиной бло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1222-1F11-4F8A-B4D6-D3F4AC5D861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о блох сжато с боков, узкое, гладкое, снабжено щетинками и шип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передвигаются прыжками, используя при этом для толчка вторую и третью пары ног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енны всегда располагаются позади простых глаз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— отряд кровососущих насекомых. Установлено, что около 60 видов блох может передавать в природе более 25 различных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вторично бескрылы. Они полностью утратили крылья в процессе приспособления к паразитиз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обладают ротовым аппаратом, предназначенным для прокалывания покровов хозяина и насасыва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 более 2380 видов блох. В Британском музее имеется коллекция блох британского банкира и энтомолога Чарльза Ротшильд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69E8-C09B-4A29-B10A-3BC704AECA5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шачья блоха (увеличение в 250 р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0089-5C6A-45C5-8A2E-FC6C0FA48BF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ой аппарат колюще-сосущего 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F32F-AA18-4092-AA09-6A2DC882E6F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икл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— это насекомые с полным превращением. Специальных мест для откладки яиц блохи не ищут. Блохи спариваются прямо на том животном, где они проживают и тут же откладывают яй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яйца выходит безногая, червеобразная, активно передвигающаяся личинка. Гусеницы, вылупившиеся из яиц, не питаются кровью, как взрослые особи, а поедают мертвую кожу, пыль, пропитанную потом, и другие биологически отходы на коже животного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и линяют 3 раза. После этого они окружают себя шелкоподобным коконом и окуклива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рослая блоха теоретически может жить 1,5 года, но реально — не более пары месяце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1A6D-0F9E-4986-8DD5-AB9AB8C3556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шачья бло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D2AF-31DE-4B7C-8364-8F1DB0FD42D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0D55-1002-41CA-BF37-AAF02A15BE8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091-4FBE-4F34-8EFB-64D74BE7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FABF-2E68-4FE4-9B69-D7D6D9F6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E8B-7B71-4C71-9B89-270D2EA1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5FE-4236-46C0-9365-7A349311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F0FA-C519-413E-AC0B-3AE786C2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B028-A39C-42DC-AA97-59FA9905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21CD-CEF0-4FA4-B8C1-DE0B8F9F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CE7D-1F4C-4ED5-B165-2ED78E66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9FD0-F101-48C0-A22A-91E21DE0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684C-FF7E-4B65-8E45-95295587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E72F-BA53-4C76-8C88-FE1E5C75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DDCD-AE18-4DDF-A2B4-0D4BD43B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0D0F-B627-49C2-81EB-18439933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A87F-A352-4149-B94D-DD0255BC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ADAC-A223-46E3-8480-69BBB495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8A37-2DE9-4F92-ACAE-C74D559E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4806-1E34-45FD-97C0-312E940C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3D6F-7890-4F01-AAB5-B44D3ADC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8C78-6D48-444C-8241-9FD5510E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8BE-AFA6-4B43-99B6-246CE6C0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5794-29FA-47B7-A8FA-FF4B12F8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2EF-ECBA-4215-8C7F-4DF04C0B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67BC-066F-4839-B559-5E267F17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1CAE-8857-4111-B5A6-56318718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0A93-6448-4CEC-9E3D-C82EC7B560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DC38-C9FA-4B4A-A468-529E481AE62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43196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тряд Блох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8920" y="4869000"/>
            <a:ext cx="3565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очкова Ирина Анатольев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95280" y="333360"/>
            <a:ext cx="7272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4846680" y="1052640"/>
            <a:ext cx="4141800" cy="567684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еловечья блох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6" name="Picture 7" descr="Картинка 15 из 57904"/>
          <p:cNvPicPr/>
          <p:nvPr/>
        </p:nvPicPr>
        <p:blipFill>
          <a:blip r:embed="rId1"/>
          <a:stretch/>
        </p:blipFill>
        <p:spPr>
          <a:xfrm>
            <a:off x="179280" y="1558800"/>
            <a:ext cx="8280360" cy="496908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8560" y="115560"/>
            <a:ext cx="6437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кусы блох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9" name="Picture 7" descr="Картинка 16 из 57904"/>
          <p:cNvPicPr/>
          <p:nvPr/>
        </p:nvPicPr>
        <p:blipFill>
          <a:blip r:embed="rId1"/>
          <a:stretch/>
        </p:blipFill>
        <p:spPr>
          <a:xfrm>
            <a:off x="108000" y="2997360"/>
            <a:ext cx="3098880" cy="374472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78850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еста поражения у человека – это ноги: подъём, лодыжки, щиколот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кусы насекомых вызывают сильный зуд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аживание проходит долго, и на месте укусов длительное время остаются маленькие шрам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10" descr="Картинка 17 из 57904"/>
          <p:cNvPicPr/>
          <p:nvPr/>
        </p:nvPicPr>
        <p:blipFill>
          <a:blip r:embed="rId5"/>
          <a:stretch/>
        </p:blipFill>
        <p:spPr>
          <a:xfrm>
            <a:off x="3419640" y="2979720"/>
            <a:ext cx="4762440" cy="37623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кус крысиной блох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5" descr="Картинка 3 из 17735"/>
          <p:cNvPicPr/>
          <p:nvPr/>
        </p:nvPicPr>
        <p:blipFill>
          <a:blip r:embed="rId1"/>
          <a:stretch/>
        </p:blipFill>
        <p:spPr>
          <a:xfrm>
            <a:off x="539640" y="871560"/>
            <a:ext cx="6337440" cy="587052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7812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ело блох сжато с боков, узкое, гладкое, снабжено щетинками и шип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асто передвигаются прыжками, используя при этом для толчка вторую и третью пары ног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нтенны всегда располагаются позади простых глаз. 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— отряд кровососущих насекомых. Установлено, что около 60 видов блох может передавать в природе более 25 различных болезне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вторично бескрылы. Они полностью утратили крылья в процессе приспособления к паразитизму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обладают ротовым аппаратом, предназначенным для прокалывания покровов хозяина и насасывания кров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вестно более 2380 видов блох. В Британском музее имеется коллекция блох британского банкира и энтомолога Чарльза Ротшильда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ошачья блоха (увеличение в 250 раз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Picture 3" descr="26247124_insects_05"/>
          <p:cNvPicPr/>
          <p:nvPr/>
        </p:nvPicPr>
        <p:blipFill>
          <a:blip r:embed="rId1"/>
          <a:stretch/>
        </p:blipFill>
        <p:spPr>
          <a:xfrm>
            <a:off x="395280" y="1509840"/>
            <a:ext cx="7632720" cy="504648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Картинка 52 из 57904"/>
          <p:cNvPicPr/>
          <p:nvPr/>
        </p:nvPicPr>
        <p:blipFill>
          <a:blip r:embed="rId1"/>
          <a:stretch/>
        </p:blipFill>
        <p:spPr>
          <a:xfrm>
            <a:off x="324000" y="352440"/>
            <a:ext cx="8280360" cy="62103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отовой аппарат колюще-сосущего тип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Picture 3" descr="0_3828d_c0209589_orig"/>
          <p:cNvPicPr/>
          <p:nvPr/>
        </p:nvPicPr>
        <p:blipFill>
          <a:blip r:embed="rId1"/>
          <a:stretch/>
        </p:blipFill>
        <p:spPr>
          <a:xfrm>
            <a:off x="324000" y="1174680"/>
            <a:ext cx="7343640" cy="539748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Цикл развит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720" y="1122120"/>
            <a:ext cx="78850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— это насекомые с полным превращением. Специальных мест для откладки яиц блохи не ищут. Блохи спариваются прямо на том животном, где они проживают и тут же откладывают яйц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 яйца выходит безногая, червеобразная, активно передвигающаяся личинка. Гусеницы, вылупившиеся из яиц, не питаются кровью, как взрослые особи, а поедают мертвую кожу, пыль, пропитанную потом, и другие биологически отходы на коже животного.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ичинки линяют 3 раза. После этого они окружают себя шелкоподобным коконом и окукливаютс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зрослая блоха теоретически может жить 1,5 года, но реально — не более пары месяцев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Картинка 32 из 57904"/>
          <p:cNvPicPr/>
          <p:nvPr/>
        </p:nvPicPr>
        <p:blipFill>
          <a:blip r:embed="rId1"/>
          <a:stretch/>
        </p:blipFill>
        <p:spPr>
          <a:xfrm>
            <a:off x="539640" y="204840"/>
            <a:ext cx="7704360" cy="64119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ошачья блох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Picture 5" descr="Картинка 13 из 57904"/>
          <p:cNvPicPr/>
          <p:nvPr/>
        </p:nvPicPr>
        <p:blipFill>
          <a:blip r:embed="rId1"/>
          <a:stretch/>
        </p:blipFill>
        <p:spPr>
          <a:xfrm>
            <a:off x="179280" y="1467000"/>
            <a:ext cx="8137800" cy="5202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556px-flea_larva"/>
          <p:cNvPicPr/>
          <p:nvPr/>
        </p:nvPicPr>
        <p:blipFill>
          <a:blip r:embed="rId1"/>
          <a:stretch/>
        </p:blipFill>
        <p:spPr>
          <a:xfrm>
            <a:off x="250920" y="189000"/>
            <a:ext cx="5983200" cy="645804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651280" y="226800"/>
            <a:ext cx="247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Личинка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блох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2:57:49Z</dcterms:created>
  <dc:creator>Бочкова И.А.</dc:creator>
  <dc:description/>
  <dc:language>en-US</dc:language>
  <cp:lastModifiedBy>LEGION</cp:lastModifiedBy>
  <dcterms:modified xsi:type="dcterms:W3CDTF">2014-11-25T09:28:07Z</dcterms:modified>
  <cp:revision>6</cp:revision>
  <dc:subject/>
  <dc:title>Отряд Блохи</dc:title>
</cp:coreProperties>
</file>