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AE00-9F0F-443A-8960-D4C12660DC9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яд Бло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биологии и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чкова Ирина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734D-4E94-4807-9BA3-7F51EDED6BC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ья бло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BD72-C879-4F65-89CB-426BDB28581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усы бло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а поражения у человека – это ноги: подъём, лодыжки, щиколо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усы насекомых вызывают сильный з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живание проходит долго, и на месте укусов длительное время остаются маленькие шра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640A-B043-4275-859D-761EDF74667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ус крысиной бло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3D09-481F-467B-B81D-A46577F29A0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о блох сжато с боков, узкое, гладкое, снабжено щетинками и шип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о передвигаются прыжками, используя при этом для толчка вторую и третью пары ног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енны всегда располагаются позади простых глаз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— отряд кровососущих насекомых. Установлено, что около 60 видов блох может передавать в природе более 25 различных болез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вторично бескрылы. Они полностью утратили крылья в процессе приспособления к паразитиз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обладают ротовым аппаратом, предназначенным для прокалывания покровов хозяина и насасывания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 более 2380 видов блох. В Британском музее имеется коллекция блох британского банкира и энтомолога Чарльза Ротшильд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18C9-1290-4E9C-85DB-775D334C71B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шачья блоха (увеличение в 250 ра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E50F-E9D9-42F6-B502-5D374483566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овой аппарат колюще-сосущего ти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C4C6-EB4B-4320-A56B-66F6DE3B251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икл разви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— это насекомые с полным превращением. Специальных мест для откладки яиц блохи не ищут. Блохи спариваются прямо на том животном, где они проживают и тут же откладывают яй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яйца выходит безногая, червеобразная, активно передвигающаяся личинка. Гусеницы, вылупившиеся из яиц, не питаются кровью, как взрослые особи, а поедают мертвую кожу, пыль, пропитанную потом, и другие биологически отходы на коже животного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и линяют 3 раза. После этого они окружают себя шелкоподобным коконом и окукливаю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рослая блоха теоретически может жить 1,5 года, но реально — не более пары месяце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B949-C6C4-491C-BB4C-285A0260C23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шачья бло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BE1F-BA30-4026-99D2-8293247AF7D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BE58-9156-4174-AB74-7F9F76DD71D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57E7-175A-4999-AF1A-68247121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C36-7A97-49A8-A8A5-B2C90BCD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ABC5-B109-4F58-81B2-2FD77C66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A26-D656-420A-BF1D-C061DD1B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F7A4-9422-4A47-A750-C8B36A8E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0904-BCF7-4A82-A769-DD63007D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2CD9-A3E4-49AA-931B-2A8ABC15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0EFD-173B-4938-B47E-61E41339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B14A-5E6C-4BB1-9D50-34DCFED9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0DCE-3569-4EAB-8815-E62A27F2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17F4-470E-4300-BD4C-594D0FD0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BF34-00B7-47D9-A979-EA3E193E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759D-17C1-4CD3-9D74-D938D375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68B2-1F36-46A1-A727-B3DBC62B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2D40-46DE-433C-8826-566F391D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26AF-2A26-413B-9F15-1D206341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82D3-CE0A-40F9-AF78-4F78E116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B818-1CBC-41FD-91D2-4863552B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0BBA-96A4-4D4D-A74F-D27DAA66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35B-21A1-4AA1-A82A-44B8EA4A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4F85-9597-4DFA-B41A-BA699217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EF9F-44D7-43F3-8365-EF26F3E5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FA9A-1E7C-4A97-9311-A1B4915F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0204-6CB6-48CF-83EF-D273F50C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8033-76CE-40B1-93B5-09F7E06A8EC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2011-8B4E-4017-BAAB-E24D1646ED98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1988640"/>
            <a:ext cx="43196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тряд Блох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8920" y="4869000"/>
            <a:ext cx="3565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Составила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учитель биологии и хим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высшей квалификационной категор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Бочкова Ирина Анатольев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95280" y="333360"/>
            <a:ext cx="7272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4846680" y="1052640"/>
            <a:ext cx="4141800" cy="567684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еловечья блох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6" name="Picture 7" descr="Картинка 15 из 57904"/>
          <p:cNvPicPr/>
          <p:nvPr/>
        </p:nvPicPr>
        <p:blipFill>
          <a:blip r:embed="rId1"/>
          <a:stretch/>
        </p:blipFill>
        <p:spPr>
          <a:xfrm>
            <a:off x="179280" y="1558800"/>
            <a:ext cx="8280360" cy="496908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8560" y="115560"/>
            <a:ext cx="6437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кусы блох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9" name="Picture 7" descr="Картинка 16 из 57904"/>
          <p:cNvPicPr/>
          <p:nvPr/>
        </p:nvPicPr>
        <p:blipFill>
          <a:blip r:embed="rId1"/>
          <a:stretch/>
        </p:blipFill>
        <p:spPr>
          <a:xfrm>
            <a:off x="108000" y="2997360"/>
            <a:ext cx="3098880" cy="374472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78850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еста поражения у человека – это ноги: подъём, лодыжки, щиколот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кусы насекомых вызывают сильный зуд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аживание проходит долго, и на месте укусов длительное время остаются маленькие шрамы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Picture 10" descr="Картинка 17 из 57904"/>
          <p:cNvPicPr/>
          <p:nvPr/>
        </p:nvPicPr>
        <p:blipFill>
          <a:blip r:embed="rId5"/>
          <a:stretch/>
        </p:blipFill>
        <p:spPr>
          <a:xfrm>
            <a:off x="3419640" y="2979720"/>
            <a:ext cx="4762440" cy="37623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кус крысиной блох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Picture 5" descr="Картинка 3 из 17735"/>
          <p:cNvPicPr/>
          <p:nvPr/>
        </p:nvPicPr>
        <p:blipFill>
          <a:blip r:embed="rId1"/>
          <a:stretch/>
        </p:blipFill>
        <p:spPr>
          <a:xfrm>
            <a:off x="539640" y="871560"/>
            <a:ext cx="6337440" cy="587052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7812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ело блох сжато с боков, узкое, гладкое, снабжено щетинками и шип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асто передвигаются прыжками, используя при этом для толчка вторую и третью пары ног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нтенны всегда располагаются позади простых глаз. 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— отряд кровососущих насекомых. Установлено, что около 60 видов блох может передавать в природе более 25 различных болезне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вторично бескрылы. Они полностью утратили крылья в процессе приспособления к паразитизму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обладают ротовым аппаратом, предназначенным для прокалывания покровов хозяина и насасывания кров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вестно более 2380 видов блох. В Британском музее имеется коллекция блох британского банкира и энтомолога Чарльза Ротшильда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ошачья блоха (увеличение в 250 раз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Picture 3" descr="26247124_insects_05"/>
          <p:cNvPicPr/>
          <p:nvPr/>
        </p:nvPicPr>
        <p:blipFill>
          <a:blip r:embed="rId1"/>
          <a:stretch/>
        </p:blipFill>
        <p:spPr>
          <a:xfrm>
            <a:off x="395280" y="1509840"/>
            <a:ext cx="7632720" cy="504648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Картинка 52 из 57904"/>
          <p:cNvPicPr/>
          <p:nvPr/>
        </p:nvPicPr>
        <p:blipFill>
          <a:blip r:embed="rId1"/>
          <a:stretch/>
        </p:blipFill>
        <p:spPr>
          <a:xfrm>
            <a:off x="324000" y="352440"/>
            <a:ext cx="8280360" cy="62103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отовой аппарат колюще-сосущего тип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Picture 3" descr="0_3828d_c0209589_orig"/>
          <p:cNvPicPr/>
          <p:nvPr/>
        </p:nvPicPr>
        <p:blipFill>
          <a:blip r:embed="rId1"/>
          <a:stretch/>
        </p:blipFill>
        <p:spPr>
          <a:xfrm>
            <a:off x="324000" y="1174680"/>
            <a:ext cx="7343640" cy="539748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Цикл развит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6720" y="1122120"/>
            <a:ext cx="78850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— это насекомые с полным превращением. Специальных мест для откладки яиц блохи не ищут. Блохи спариваются прямо на том животном, где они проживают и тут же откладывают яйц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 яйца выходит безногая, червеобразная, активно передвигающаяся личинка. Гусеницы, вылупившиеся из яиц, не питаются кровью, как взрослые особи, а поедают мертвую кожу, пыль, пропитанную потом, и другие биологически отходы на коже животного. 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Личинки линяют 3 раза. После этого они окружают себя шелкоподобным коконом и окукливаютс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зрослая блоха теоретически может жить 1,5 года, но реально — не более пары месяцев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Картинка 32 из 57904"/>
          <p:cNvPicPr/>
          <p:nvPr/>
        </p:nvPicPr>
        <p:blipFill>
          <a:blip r:embed="rId1"/>
          <a:stretch/>
        </p:blipFill>
        <p:spPr>
          <a:xfrm>
            <a:off x="539640" y="204840"/>
            <a:ext cx="7704360" cy="64119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ошачья блох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0" name="Picture 5" descr="Картинка 13 из 57904"/>
          <p:cNvPicPr/>
          <p:nvPr/>
        </p:nvPicPr>
        <p:blipFill>
          <a:blip r:embed="rId1"/>
          <a:stretch/>
        </p:blipFill>
        <p:spPr>
          <a:xfrm>
            <a:off x="179280" y="1467000"/>
            <a:ext cx="8137800" cy="5202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556px-flea_larva"/>
          <p:cNvPicPr/>
          <p:nvPr/>
        </p:nvPicPr>
        <p:blipFill>
          <a:blip r:embed="rId1"/>
          <a:stretch/>
        </p:blipFill>
        <p:spPr>
          <a:xfrm>
            <a:off x="250920" y="189000"/>
            <a:ext cx="5983200" cy="645804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651280" y="226800"/>
            <a:ext cx="247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Личинка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блох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2:57:49Z</dcterms:created>
  <dc:creator>Бочкова И.А.</dc:creator>
  <dc:description/>
  <dc:language>en-US</dc:language>
  <cp:lastModifiedBy>LEGION</cp:lastModifiedBy>
  <dcterms:modified xsi:type="dcterms:W3CDTF">2014-11-25T09:28:07Z</dcterms:modified>
  <cp:revision>6</cp:revision>
  <dc:subject/>
  <dc:title>Отряд Блохи</dc:title>
</cp:coreProperties>
</file>