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44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43.jpeg" ContentType="image/jpeg"/>
  <Override PartName="/ppt/media/image45.jpeg" ContentType="image/jpeg"/>
  <Override PartName="/ppt/media/image40.jpeg" ContentType="image/jpeg"/>
  <Override PartName="/ppt/media/image13.jpeg" ContentType="image/jpeg"/>
  <Override PartName="/ppt/media/image46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dt" idx="11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ftr" idx="12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 type="sldNum" idx="13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025313-1E8D-4743-A41F-C10EE9B34EB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386E48-1F9C-4170-A698-835419A10FE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fdfdfe"/>
                </a:solidFill>
                <a:latin typeface="Calibri"/>
              </a:rPr>
              <a:t>Пресмыкающиеся (рептилии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412CC9-CF39-4BCC-B022-44C849CC66D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Хамелеон – это ящерица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, которая живёт на деревьях, обхватывая ветки хвостом и коготками. Хамелеон ловит насекомых своим длинным липким языком. Он меняет свой цвет, чтобы слиться с окружающим фоном. Это называется маскировкой, и она помогает хамелеонам скрыться от врагов. Глаза хамелеона могут одновременно смотреть в разные сторон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3BBAA6-9E77-4D2F-BEEE-7E083C3B78A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инозавры, жившие  на нашей планете миллионы лет назад  – также являются представителями класса пресмыкающихс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38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инозавры являются самыми крупными наземными животными, когда-либо водившимися на Земле. Современные рептилии по размерам даже отдалённо не напоминают этих рекордсменов. Мы многое знаем о них, потому что найдены останки их костей, зубов и даже окаменелые яйц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058E42-622E-4EB3-921B-E93BDDB0CA7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заимоотношения человека и пресмыкающегося нельзя назвать простыми. Люди одновременно и опасаются рептилий, и восхищаются их мудростью, красотой. Образ рептилий очень часто воплощается в картинах художников, различных украшениях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A47CC2-7BFE-4DEA-87CF-F227334345B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устном народном творчестве также часто упоминаются пресмыкающиеся. Так мы говорим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38"/>
              </a:spcBef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Змею на груди пригреть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38"/>
              </a:spcBef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Будьте мудры, как змии…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38"/>
              </a:spcBef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Змея подколодная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38"/>
              </a:spcBef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Змея меняет шкуру, но не меняет свою натуру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38"/>
              </a:spcBef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Крокодиловы слёзы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38"/>
              </a:spcBef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В воде жить, с крокодилом речь вести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38"/>
              </a:spcBef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Черепашьим шагом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38"/>
              </a:spcBef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Мудрый, как черепаха, глупый, как слон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38"/>
              </a:spcBef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Когда спросили, чья голова красивее, черепаха высунула свою» и др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52A67C-2DA0-449B-AF9B-CCA876A5C1B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рокодил часто становился героем детских сказок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рокодил Гена из сказки Э.Успенского, крокодил из произведений К.Чуковского. Известный юмористический  журнал «Крокодил» несколько десятилетий выходил в Советском Союз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26B048-015C-47A2-A7D5-09721389231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ерепаха – любимый сказочный персонаж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ы с детства знаем и любим мудрую черепаху  Тортиллу из сказки А.Толстого «Золотой ключик, или Приключения Буратино», а песенку из мультфильма «Как Львёнок и Черепаха пели песню» знаем наизусть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CCF45E-40FE-4522-89FF-D06DE4A0B37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До новых встреч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зентацию подготовила учитель начальных классов ГБОУ СОШ №1244 г.Москвы Пичугина И.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DDB8A1-A833-43C0-8CDE-C4B8C870A85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то такие пресмыкающиеся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38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38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38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38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38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38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38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38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38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меи, крокодилы, черепахи, ящерицы – всё это пресмыкающиеся или рептилии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5808EB-9306-4E0C-B696-63E35AF5D3C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Что нам известно о пресмыкающихся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38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сего на Земле обитает около 8 тысяч видов пресмыкающихся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38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есмыкающиеся или рептилии относятся к позвоночным животны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38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ептилии - это холоднокровные животные, у которых отсутствуют механизмы регуляции температуры тела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38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этому при температуре воздуха ниже +18ᵒ жизненная активность рептилий снижается: они впадают в оцепенение  (спячку). А при температуре выше +51ᵒ пресмыкающиеся могут погибнуть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38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аще всего рептилии живут в жарких странах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A49567-1637-40F0-A62C-2712EB5639E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Змеи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прочие животные этого класса покрыты роговыми чешуйками, которые покрывают все тело животного, как черепица. Расцветка змеиной кожи бывает самая разнообразная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0C05BC-B310-4C48-A827-4180983ED2B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45000"/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 змеи хищники. Они могут нападать на животное намного большее её по размеру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45000"/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меи не пережевывают пищу, а заглатывают её целиком. Некоторые, чтобы убить добычу, используют яд, некоторые сжимают свою жертву, пока она не задохнётс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45000"/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ая крупная ядовитая змея – это азиатская королевская кобра.  Её яда хватит, чтобы убить 20 с лишним человек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45000"/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меи чувствуют запахи языком, а не носо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38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77A10B-CBB8-4918-BD7B-D78A3E7E96C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Крокодилы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– огромные и свирепые рептилии, живущие в жарких странах. Большую часть своей жизни они проводят в воде. Когда крокодил плывёт, над водой видны только его глаза и ноздри. Некоторые крокодилы в длину достигают 6 метров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404248-70BD-40EB-BF01-67AAC957D1B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ьшинство рептилий, в том числе и крокодилы, откладывают яйца. Их яйца не твёрдые, как у птиц, а мягкие и кожисты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окодилы – заботливые родители. Они охраняют свои яйца,  периодически переворачивают их для поддержания ровной температуры и влажности, а когда малыши вылупляются, помогают выбраться наружу, а порой переносят детишек к воде. «Мамы и папы» охраняют молодняк ещё несколько месяце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076719-C0C2-4A17-B5A7-EAB68D8EECE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репахи – рептилии, тело которых покрывает твёрдый панцирь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н образован костными пластинками, сросшимися с рёбрами и отростками позвонков. Брюшной и спинной щиты панциря соединены так что свободными остаются только конечности, шея и хвост. Панцирь черепахи такой тяжёлый, что они с трудом передвигаются по земле, зато отлично плавают в вод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762CE0-2FE4-4242-89F7-4B7A2FD181C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ольшинство черепах так или иначе связаны с водой.  Морские  черепахи покидают тёплые моря только для того, чтобы отложить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яйца. Отдельные виды черепах редко или никогда не ступают в воду, а некоторые даже приспособились к жизни в пустыне. Размеры черепах очень разнятся – от 100г (замыкающаяся черепаха) и до 700 кг(морская кожистая черепаха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CD41F3-196D-4F7D-91FF-E09BCE7B34D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92080" y="4800600"/>
            <a:ext cx="54846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792080" y="5367240"/>
            <a:ext cx="548460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9000"/>
          </a:bodyPr>
          <a:p>
            <a:pPr marL="2023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792080" y="5787000"/>
            <a:ext cx="548460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9000"/>
          </a:bodyPr>
          <a:p>
            <a:pPr marL="2023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36F67D-7E00-4351-BA39-7531C2817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92080" y="4800600"/>
            <a:ext cx="54846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792080" y="5367240"/>
            <a:ext cx="267624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02600" y="5367240"/>
            <a:ext cx="267624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792080" y="5787000"/>
            <a:ext cx="267624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02600" y="5787000"/>
            <a:ext cx="267624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5B0A3B-2FCB-484F-B064-01F7750EC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92080" y="4800600"/>
            <a:ext cx="54846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792080" y="5367240"/>
            <a:ext cx="176580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46440" y="5367240"/>
            <a:ext cx="176580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501160" y="5367240"/>
            <a:ext cx="176580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792080" y="5787000"/>
            <a:ext cx="176580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46440" y="5787000"/>
            <a:ext cx="176580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501160" y="5787000"/>
            <a:ext cx="176580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3491D2-7CD7-4C09-900D-65844A57FB1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246547-13A6-41C3-B9A3-546694C6794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080" y="4800600"/>
            <a:ext cx="54846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792080" y="5367240"/>
            <a:ext cx="5484600" cy="8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A0F5D2-B3EF-41D0-A963-1FAF733F4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080" y="4800600"/>
            <a:ext cx="54846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792080" y="5367240"/>
            <a:ext cx="5484600" cy="8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DDDC5F-60BC-4A1B-B828-5BD438E62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92080" y="4800600"/>
            <a:ext cx="54846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792080" y="5367240"/>
            <a:ext cx="2676240" cy="8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4000"/>
          </a:bodyPr>
          <a:p>
            <a:pPr marL="28800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02600" y="5367240"/>
            <a:ext cx="2676240" cy="8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4000"/>
          </a:bodyPr>
          <a:p>
            <a:pPr marL="28800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A3B922-80F4-46B9-80A4-427085FBD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080" y="4800600"/>
            <a:ext cx="54846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845D95-5163-41B1-951B-70CBCAC3F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792080" y="4800600"/>
            <a:ext cx="5484600" cy="26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B204C2-D31C-4772-8462-88AF9F821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92080" y="4800600"/>
            <a:ext cx="54846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792080" y="5367240"/>
            <a:ext cx="267624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02600" y="5367240"/>
            <a:ext cx="2676240" cy="8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4000"/>
          </a:bodyPr>
          <a:p>
            <a:pPr marL="28800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792080" y="5787000"/>
            <a:ext cx="267624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9D92D2-F36B-408D-B285-9ACBD2F90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92080" y="4800600"/>
            <a:ext cx="54846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792080" y="5367240"/>
            <a:ext cx="5484600" cy="8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CABD8C-1C88-4E07-903E-E07C047AF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2080" y="4800600"/>
            <a:ext cx="54846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792080" y="5367240"/>
            <a:ext cx="2676240" cy="8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4000"/>
          </a:bodyPr>
          <a:p>
            <a:pPr marL="28800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02600" y="5367240"/>
            <a:ext cx="267624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02600" y="5787000"/>
            <a:ext cx="267624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1CD517-B231-4832-9B7C-EB87C35DB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92080" y="4800600"/>
            <a:ext cx="54846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792080" y="5367240"/>
            <a:ext cx="267624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02600" y="5367240"/>
            <a:ext cx="267624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792080" y="5787000"/>
            <a:ext cx="548460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9000"/>
          </a:bodyPr>
          <a:p>
            <a:pPr marL="2023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DF8A6B-5033-4D71-B849-5E08CA868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92080" y="4800600"/>
            <a:ext cx="54846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792080" y="5367240"/>
            <a:ext cx="548460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9000"/>
          </a:bodyPr>
          <a:p>
            <a:pPr marL="2023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792080" y="5787000"/>
            <a:ext cx="548460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9000"/>
          </a:bodyPr>
          <a:p>
            <a:pPr marL="2023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FD2F58-5232-48E6-82E2-08AA2C586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92080" y="4800600"/>
            <a:ext cx="54846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792080" y="5367240"/>
            <a:ext cx="267624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02600" y="5367240"/>
            <a:ext cx="267624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792080" y="5787000"/>
            <a:ext cx="267624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02600" y="5787000"/>
            <a:ext cx="267624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8F0B46-FE2E-4699-99D3-563857F1E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92080" y="4800600"/>
            <a:ext cx="54846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792080" y="5367240"/>
            <a:ext cx="176580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46440" y="5367240"/>
            <a:ext cx="176580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501160" y="5367240"/>
            <a:ext cx="176580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792080" y="5787000"/>
            <a:ext cx="176580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46440" y="5787000"/>
            <a:ext cx="176580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501160" y="5787000"/>
            <a:ext cx="176580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39A2C7-F43E-4081-A16B-6F999CCB1FC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400AF-3237-49B6-84A7-3A192340CC7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2080" y="4800600"/>
            <a:ext cx="54846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792080" y="5367240"/>
            <a:ext cx="5484600" cy="8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86D1E-F66F-4B93-8224-7AA7C975F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92080" y="4800600"/>
            <a:ext cx="54846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792080" y="5367240"/>
            <a:ext cx="5484600" cy="8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447D7-2278-49E1-B977-12A4BA5C5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92080" y="4800600"/>
            <a:ext cx="54846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792080" y="5367240"/>
            <a:ext cx="2676240" cy="8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4000"/>
          </a:bodyPr>
          <a:p>
            <a:pPr marL="28800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02600" y="5367240"/>
            <a:ext cx="2676240" cy="8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4000"/>
          </a:bodyPr>
          <a:p>
            <a:pPr marL="28800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6E134-34C7-4855-B531-C0A142686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92080" y="4800600"/>
            <a:ext cx="54846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080A0-AF94-4072-9879-0FB16D219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92080" y="4800600"/>
            <a:ext cx="54846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792080" y="5367240"/>
            <a:ext cx="5484600" cy="8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6473E1-701C-463C-936D-96DD0FDC6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1792080" y="4800600"/>
            <a:ext cx="5484600" cy="26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506E8-5083-4C5E-B975-288615DE0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792080" y="4800600"/>
            <a:ext cx="54846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792080" y="5367240"/>
            <a:ext cx="267624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02600" y="5367240"/>
            <a:ext cx="2676240" cy="8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4000"/>
          </a:bodyPr>
          <a:p>
            <a:pPr marL="28800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792080" y="5787000"/>
            <a:ext cx="267624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91B6A-ECBE-4E75-ACF4-B0525FD17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92080" y="4800600"/>
            <a:ext cx="54846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792080" y="5367240"/>
            <a:ext cx="2676240" cy="8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4000"/>
          </a:bodyPr>
          <a:p>
            <a:pPr marL="28800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02600" y="5367240"/>
            <a:ext cx="267624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02600" y="5787000"/>
            <a:ext cx="267624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EF965-71DE-4C3E-AC4B-EED88417A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792080" y="4800600"/>
            <a:ext cx="54846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792080" y="5367240"/>
            <a:ext cx="267624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02600" y="5367240"/>
            <a:ext cx="267624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1792080" y="5787000"/>
            <a:ext cx="548460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9000"/>
          </a:bodyPr>
          <a:p>
            <a:pPr marL="2023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F68D6-BA33-430F-8CD0-AFD0C0E4D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792080" y="4800600"/>
            <a:ext cx="54846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792080" y="5367240"/>
            <a:ext cx="548460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9000"/>
          </a:bodyPr>
          <a:p>
            <a:pPr marL="2023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1792080" y="5787000"/>
            <a:ext cx="548460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9000"/>
          </a:bodyPr>
          <a:p>
            <a:pPr marL="2023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B8C71-9A8C-4C10-A819-783820294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792080" y="4800600"/>
            <a:ext cx="54846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792080" y="5367240"/>
            <a:ext cx="267624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02600" y="5367240"/>
            <a:ext cx="267624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1792080" y="5787000"/>
            <a:ext cx="267624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02600" y="5787000"/>
            <a:ext cx="267624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9231B-C2AF-4638-9AE4-7D8B7296E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792080" y="4800600"/>
            <a:ext cx="54846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792080" y="5367240"/>
            <a:ext cx="176580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646440" y="5367240"/>
            <a:ext cx="176580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501160" y="5367240"/>
            <a:ext cx="176580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1792080" y="5787000"/>
            <a:ext cx="176580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646440" y="5787000"/>
            <a:ext cx="176580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501160" y="5787000"/>
            <a:ext cx="176580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35A74-18B6-488F-B15F-5C8ADE38AAB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E766179-306A-4B5C-AEBF-F619F37B9DB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2080" y="4800600"/>
            <a:ext cx="54846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792080" y="5367240"/>
            <a:ext cx="5484600" cy="8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4C2CB96-414B-4874-B399-7DC7AC758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792080" y="4800600"/>
            <a:ext cx="54846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792080" y="5367240"/>
            <a:ext cx="5484600" cy="8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AED6C0-C564-4435-83FE-2DFA29413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2080" y="4800600"/>
            <a:ext cx="54846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792080" y="5367240"/>
            <a:ext cx="2676240" cy="8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4000"/>
          </a:bodyPr>
          <a:p>
            <a:pPr marL="28800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02600" y="5367240"/>
            <a:ext cx="2676240" cy="8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4000"/>
          </a:bodyPr>
          <a:p>
            <a:pPr marL="28800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95BED8-517A-4BC4-906D-40E6EAE09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792080" y="4800600"/>
            <a:ext cx="54846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792080" y="5367240"/>
            <a:ext cx="2676240" cy="8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4000"/>
          </a:bodyPr>
          <a:p>
            <a:pPr marL="28800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02600" y="5367240"/>
            <a:ext cx="2676240" cy="8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4000"/>
          </a:bodyPr>
          <a:p>
            <a:pPr marL="28800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D54126C-58A6-4B0F-A321-F3019EDE2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792080" y="4800600"/>
            <a:ext cx="54846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51533F7-BA6D-4AF9-8E1B-01D2ECE89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792080" y="4800600"/>
            <a:ext cx="5484600" cy="26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07A778B-F468-46B9-90E7-2A53D3C58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2080" y="4800600"/>
            <a:ext cx="54846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792080" y="5367240"/>
            <a:ext cx="267624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02600" y="5367240"/>
            <a:ext cx="2676240" cy="8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4000"/>
          </a:bodyPr>
          <a:p>
            <a:pPr marL="28800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792080" y="5787000"/>
            <a:ext cx="267624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6E094F1-DCA0-4B5C-8134-8232CB59C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2080" y="4800600"/>
            <a:ext cx="54846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792080" y="5367240"/>
            <a:ext cx="2676240" cy="8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4000"/>
          </a:bodyPr>
          <a:p>
            <a:pPr marL="28800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02600" y="5367240"/>
            <a:ext cx="267624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02600" y="5787000"/>
            <a:ext cx="267624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1EF2189-68FC-40DC-8EDE-C77713CB8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2080" y="4800600"/>
            <a:ext cx="54846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792080" y="5367240"/>
            <a:ext cx="267624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02600" y="5367240"/>
            <a:ext cx="267624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792080" y="5787000"/>
            <a:ext cx="548460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9000"/>
          </a:bodyPr>
          <a:p>
            <a:pPr marL="2023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9F228A2-BBFB-4795-898B-8467F6923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792080" y="4800600"/>
            <a:ext cx="54846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792080" y="5367240"/>
            <a:ext cx="548460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9000"/>
          </a:bodyPr>
          <a:p>
            <a:pPr marL="2023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1792080" y="5787000"/>
            <a:ext cx="548460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9000"/>
          </a:bodyPr>
          <a:p>
            <a:pPr marL="2023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DCBD598-0C88-4773-808A-649B413BD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792080" y="4800600"/>
            <a:ext cx="54846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792080" y="5367240"/>
            <a:ext cx="267624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02600" y="5367240"/>
            <a:ext cx="267624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792080" y="5787000"/>
            <a:ext cx="267624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02600" y="5787000"/>
            <a:ext cx="267624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D6B2D5F-D186-424E-AF55-A1AB02C70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792080" y="4800600"/>
            <a:ext cx="54846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792080" y="5367240"/>
            <a:ext cx="176580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646440" y="5367240"/>
            <a:ext cx="176580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501160" y="5367240"/>
            <a:ext cx="176580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1792080" y="5787000"/>
            <a:ext cx="176580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646440" y="5787000"/>
            <a:ext cx="176580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501160" y="5787000"/>
            <a:ext cx="176580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525036-CB93-4D17-810C-AAD6FB65921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53BCFAA-D017-4722-9105-98B75DD55FE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92080" y="4800600"/>
            <a:ext cx="54846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7449D2-F2A4-490D-A92B-0758C2482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792080" y="4800600"/>
            <a:ext cx="54846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1792080" y="5367240"/>
            <a:ext cx="5484600" cy="8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8B4B678-CEC5-401E-8BD9-6558CF3CB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792080" y="4800600"/>
            <a:ext cx="54846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792080" y="5367240"/>
            <a:ext cx="5484600" cy="8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19089B1-2F8E-46B9-BAA3-643A0087F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792080" y="4800600"/>
            <a:ext cx="54846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792080" y="5367240"/>
            <a:ext cx="2676240" cy="8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4000"/>
          </a:bodyPr>
          <a:p>
            <a:pPr marL="28800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02600" y="5367240"/>
            <a:ext cx="2676240" cy="8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4000"/>
          </a:bodyPr>
          <a:p>
            <a:pPr marL="28800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6039825-26B4-4C67-B47E-AE955E394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792080" y="4800600"/>
            <a:ext cx="54846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045E782-5E7B-457E-86ED-865682749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1792080" y="4800600"/>
            <a:ext cx="5484600" cy="26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07A5BD2-BC12-4745-BF8A-DA389026E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792080" y="4800600"/>
            <a:ext cx="54846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792080" y="5367240"/>
            <a:ext cx="267624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02600" y="5367240"/>
            <a:ext cx="2676240" cy="8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4000"/>
          </a:bodyPr>
          <a:p>
            <a:pPr marL="28800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1792080" y="5787000"/>
            <a:ext cx="267624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292D8CA-CCD1-4B0F-B448-8E775EE14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2080" y="4800600"/>
            <a:ext cx="54846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792080" y="5367240"/>
            <a:ext cx="2676240" cy="8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4000"/>
          </a:bodyPr>
          <a:p>
            <a:pPr marL="28800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02600" y="5367240"/>
            <a:ext cx="267624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02600" y="5787000"/>
            <a:ext cx="267624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E11CC78-40BA-4AEF-A407-5D0B460AB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792080" y="4800600"/>
            <a:ext cx="54846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792080" y="5367240"/>
            <a:ext cx="267624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02600" y="5367240"/>
            <a:ext cx="267624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1792080" y="5787000"/>
            <a:ext cx="548460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9000"/>
          </a:bodyPr>
          <a:p>
            <a:pPr marL="2023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F3151BD-08A2-448C-85EE-61696FBFB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792080" y="4800600"/>
            <a:ext cx="54846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792080" y="5367240"/>
            <a:ext cx="548460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9000"/>
          </a:bodyPr>
          <a:p>
            <a:pPr marL="2023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1792080" y="5787000"/>
            <a:ext cx="548460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9000"/>
          </a:bodyPr>
          <a:p>
            <a:pPr marL="2023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0F2B75F-6D26-4F2E-BA51-80F884339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792080" y="4800600"/>
            <a:ext cx="54846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792080" y="5367240"/>
            <a:ext cx="267624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02600" y="5367240"/>
            <a:ext cx="267624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1792080" y="5787000"/>
            <a:ext cx="267624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02600" y="5787000"/>
            <a:ext cx="267624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3A5D4F3-32C8-4FFD-8548-0EFEFECF0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92080" y="4800600"/>
            <a:ext cx="5484600" cy="26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B16AA2-B300-4E04-89B9-6F0699F13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792080" y="4800600"/>
            <a:ext cx="54846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792080" y="5367240"/>
            <a:ext cx="176580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646440" y="5367240"/>
            <a:ext cx="176580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1160" y="5367240"/>
            <a:ext cx="176580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1792080" y="5787000"/>
            <a:ext cx="176580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646440" y="5787000"/>
            <a:ext cx="176580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1160" y="5787000"/>
            <a:ext cx="176580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BAA0C52-F187-4FE7-A771-ACFA9D659EF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2080" y="4800600"/>
            <a:ext cx="54846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792080" y="5367240"/>
            <a:ext cx="267624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02600" y="5367240"/>
            <a:ext cx="2676240" cy="8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4000"/>
          </a:bodyPr>
          <a:p>
            <a:pPr marL="28800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792080" y="5787000"/>
            <a:ext cx="267624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4DA673-C892-445B-B505-3FB682C5A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2080" y="4800600"/>
            <a:ext cx="54846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792080" y="5367240"/>
            <a:ext cx="2676240" cy="8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4000"/>
          </a:bodyPr>
          <a:p>
            <a:pPr marL="28800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02600" y="5367240"/>
            <a:ext cx="267624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02600" y="5787000"/>
            <a:ext cx="267624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85846B-991A-4B94-BE06-F10123A1F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92080" y="4800600"/>
            <a:ext cx="54846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792080" y="5367240"/>
            <a:ext cx="267624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02600" y="5367240"/>
            <a:ext cx="267624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792080" y="5787000"/>
            <a:ext cx="548460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9000"/>
          </a:bodyPr>
          <a:p>
            <a:pPr marL="2023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D57127-BE3A-46D2-9C9E-110ACAC25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48a54"/>
            </a:gs>
            <a:gs pos="100000">
              <a:srgbClr val="e0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096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Rectangle 2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8b8b8b"/>
                </a:solidFill>
                <a:latin typeface="Calibri"/>
              </a:rPr>
              <a:t>Образец подзаголов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uk-UA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24.4.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90703FBC-0EBC-47CD-B3A7-3622A4536C70}" type="slidenum">
              <a:rPr b="0" lang="ru-RU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9480" indent="0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48a54"/>
            </a:gs>
            <a:gs pos="100000">
              <a:srgbClr val="e0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40370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4000"/>
          </a:bodyPr>
          <a:p>
            <a:pPr marL="253800" indent="0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253800" indent="-2538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253800" indent="-2538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253800" indent="-2538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53800" indent="-2538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53800" indent="-2538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53800" indent="-2538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431640" indent="-323640"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ля правки структуры щелкните мышь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100000"/>
              </a:lnSpc>
              <a:spcAft>
                <a:spcPts val="1137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Arial Unicode MS"/>
              </a:rPr>
              <a:t>Второй уровень структу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87280">
              <a:lnSpc>
                <a:spcPct val="100000"/>
              </a:lnSpc>
              <a:spcAft>
                <a:spcPts val="850"/>
              </a:spcAft>
              <a:buClr>
                <a:srgbClr val="000000"/>
              </a:buClr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Arial Unicode MS"/>
              </a:rPr>
              <a:t>Третий уровень структу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100000"/>
              </a:lnSpc>
              <a:spcAft>
                <a:spcPts val="575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Arial Unicode MS"/>
              </a:rPr>
              <a:t>Четвертый уровень структу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100000"/>
              </a:lnSpc>
              <a:spcAft>
                <a:spcPts val="286"/>
              </a:spcAft>
              <a:buClr>
                <a:srgbClr val="000000"/>
              </a:buClr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Arial Unicode MS"/>
              </a:rPr>
              <a:t>Пятый уровень структу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100000"/>
              </a:lnSpc>
              <a:spcAft>
                <a:spcPts val="286"/>
              </a:spcAft>
              <a:buClr>
                <a:srgbClr val="000000"/>
              </a:buClr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Arial Unicode MS"/>
              </a:rPr>
              <a:t>Шестой уровень структу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100000"/>
              </a:lnSpc>
              <a:spcAft>
                <a:spcPts val="286"/>
              </a:spcAft>
              <a:buClr>
                <a:srgbClr val="000000"/>
              </a:buClr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Arial Unicode MS"/>
              </a:rPr>
              <a:t>Седьмой уровень структу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100000"/>
              </a:lnSpc>
              <a:spcAft>
                <a:spcPts val="286"/>
              </a:spcAft>
              <a:buClr>
                <a:srgbClr val="000000"/>
              </a:buClr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Arial Unicode MS"/>
              </a:rPr>
              <a:t>Восьмой уровень структу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евятый уровень структурыОбразец текс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100000"/>
              </a:lnSpc>
              <a:spcBef>
                <a:spcPts val="488"/>
              </a:spcBef>
              <a:buClr>
                <a:srgbClr val="000000"/>
              </a:buClr>
              <a:buFont typeface="Arial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 Unicode MS"/>
              </a:rPr>
              <a:t>Второй урове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872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Arial Unicode MS"/>
              </a:rPr>
              <a:t>Третий урове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100000"/>
              </a:lnSpc>
              <a:spcBef>
                <a:spcPts val="363"/>
              </a:spcBef>
              <a:buClr>
                <a:srgbClr val="000000"/>
              </a:buClr>
              <a:buFont typeface="Arial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 Unicode MS"/>
              </a:rPr>
              <a:t>Четвертый урове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100000"/>
              </a:lnSpc>
              <a:spcBef>
                <a:spcPts val="363"/>
              </a:spcBef>
              <a:buClr>
                <a:srgbClr val="000000"/>
              </a:buClr>
              <a:buFont typeface="Arial"/>
              <a:buChar char="»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 Unicode MS"/>
              </a:rPr>
              <a:t>Пятый урове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3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uk-UA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24.4.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4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CE471450-D4F5-4D69-AF37-6B957F85ABA9}" type="slidenum">
              <a:rPr b="0" lang="ru-RU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48a54"/>
            </a:gs>
            <a:gs pos="100000">
              <a:srgbClr val="e0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6720" cy="11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3574800" y="272520"/>
            <a:ext cx="5110200" cy="585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6000"/>
          </a:bodyPr>
          <a:p>
            <a:pPr marL="329040" indent="0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29040" indent="-3290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29040" indent="-3290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29040" indent="-3290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29040" indent="-3290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29040" indent="-3290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29040" indent="-3290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457200" y="1434960"/>
            <a:ext cx="3008160" cy="469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431640" indent="-323640"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Для правки структуры щелкните мышь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100000"/>
              </a:lnSpc>
              <a:spcAft>
                <a:spcPts val="1137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 Unicode MS"/>
              </a:rPr>
              <a:t>Второй уровень структур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87280">
              <a:lnSpc>
                <a:spcPct val="100000"/>
              </a:lnSpc>
              <a:spcAft>
                <a:spcPts val="850"/>
              </a:spcAft>
              <a:buClr>
                <a:srgbClr val="000000"/>
              </a:buClr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 Unicode MS"/>
              </a:rPr>
              <a:t>Третий уровень структур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100000"/>
              </a:lnSpc>
              <a:spcAft>
                <a:spcPts val="575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 Unicode MS"/>
              </a:rPr>
              <a:t>Четвертый уровень структур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100000"/>
              </a:lnSpc>
              <a:spcAft>
                <a:spcPts val="286"/>
              </a:spcAft>
              <a:buClr>
                <a:srgbClr val="000000"/>
              </a:buClr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 Unicode MS"/>
              </a:rPr>
              <a:t>Пятый уровень структур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100000"/>
              </a:lnSpc>
              <a:spcAft>
                <a:spcPts val="286"/>
              </a:spcAft>
              <a:buClr>
                <a:srgbClr val="000000"/>
              </a:buClr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 Unicode MS"/>
              </a:rPr>
              <a:t>Шестой уровень структур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100000"/>
              </a:lnSpc>
              <a:spcAft>
                <a:spcPts val="286"/>
              </a:spcAft>
              <a:buClr>
                <a:srgbClr val="000000"/>
              </a:buClr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 Unicode MS"/>
              </a:rPr>
              <a:t>Седьмой уровень структур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100000"/>
              </a:lnSpc>
              <a:spcAft>
                <a:spcPts val="286"/>
              </a:spcAft>
              <a:buClr>
                <a:srgbClr val="000000"/>
              </a:buClr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 Unicode MS"/>
              </a:rPr>
              <a:t>Восьмой уровень структур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Девятый уровень структурыОбразец текс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5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uk-UA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24.4.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sldNum" idx="6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D50C3F2D-067C-4EBB-9ABF-A0663AC8A759}" type="slidenum">
              <a:rPr b="0" lang="ru-RU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48a54"/>
            </a:gs>
            <a:gs pos="100000">
              <a:srgbClr val="e0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7000"/>
          </a:bodyPr>
          <a:p>
            <a:pPr marL="332640" indent="0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2640" indent="-332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32640" indent="-332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32640" indent="-332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32640" indent="-332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32640" indent="-332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32640" indent="-332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7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uk-UA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24.4.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sldNum" idx="8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0307AD04-166A-48DA-9E93-5C6A2CBA036F}" type="slidenum">
              <a:rPr b="0" lang="ru-RU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48a54"/>
            </a:gs>
            <a:gs pos="100000">
              <a:srgbClr val="e0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792080" y="4800600"/>
            <a:ext cx="54846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1792080" y="5367240"/>
            <a:ext cx="5484600" cy="8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15000"/>
          </a:bodyPr>
          <a:p>
            <a:pPr marL="51120" indent="0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120" indent="-5112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51120" indent="-5112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51120" indent="-5112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51120" indent="-5112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51120" indent="-5112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51120" indent="-5112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9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uk-UA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24.4.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sldNum" idx="10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440BB2C2-B798-4EE0-A88E-5A8D59A990D0}" type="slidenum">
              <a:rPr b="0" lang="ru-RU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image" Target="../media/image40.jpeg"/><Relationship Id="rId6" Type="http://schemas.openxmlformats.org/officeDocument/2006/relationships/image" Target="../media/image41.jpeg"/><Relationship Id="rId7" Type="http://schemas.openxmlformats.org/officeDocument/2006/relationships/slideLayout" Target="../slideLayouts/slideLayout37.xml"/><Relationship Id="rId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image" Target="../media/image45.jpe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Rectangle 2"/>
          <p:cNvSpPr/>
          <p:nvPr/>
        </p:nvSpPr>
        <p:spPr>
          <a:xfrm>
            <a:off x="1371600" y="4929120"/>
            <a:ext cx="6772320" cy="7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1e1c11"/>
                </a:solidFill>
                <a:latin typeface="Calibri"/>
              </a:rPr>
              <a:t>Начальная шко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3"/>
          <p:cNvSpPr/>
          <p:nvPr/>
        </p:nvSpPr>
        <p:spPr>
          <a:xfrm>
            <a:off x="857160" y="2000160"/>
            <a:ext cx="8312400" cy="21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6600" spc="-1" strike="noStrike">
                <a:solidFill>
                  <a:srgbClr val="fdfdfe"/>
                </a:solidFill>
                <a:latin typeface="Calibri"/>
              </a:rPr>
              <a:t>Пресмыкающиеся (рептилии)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1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Хамелеон – это ящерица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, которая живёт на деревьях, обхватывая ветки хвостом и коготками. Хамелеон ловит насекомых своим длинным липким языком. Он меняет свой цвет, чтобы слиться с окружающим фоном. Это называется маскировкой, и она помогает хамелеонам скрыться от врагов. Глаза хамелеона могут одновременно смотреть в разные сторон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7" name="Picture 2" descr=""/>
          <p:cNvPicPr/>
          <p:nvPr/>
        </p:nvPicPr>
        <p:blipFill>
          <a:blip r:embed="rId1"/>
          <a:stretch/>
        </p:blipFill>
        <p:spPr>
          <a:xfrm>
            <a:off x="857160" y="4429080"/>
            <a:ext cx="3286080" cy="221472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3" descr=""/>
          <p:cNvPicPr/>
          <p:nvPr/>
        </p:nvPicPr>
        <p:blipFill>
          <a:blip r:embed="rId2"/>
          <a:stretch/>
        </p:blipFill>
        <p:spPr>
          <a:xfrm>
            <a:off x="785880" y="2214720"/>
            <a:ext cx="3214800" cy="192852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4" descr=""/>
          <p:cNvPicPr/>
          <p:nvPr/>
        </p:nvPicPr>
        <p:blipFill>
          <a:blip r:embed="rId3"/>
          <a:stretch/>
        </p:blipFill>
        <p:spPr>
          <a:xfrm>
            <a:off x="4929120" y="2214720"/>
            <a:ext cx="3286080" cy="200016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5" descr=""/>
          <p:cNvPicPr/>
          <p:nvPr/>
        </p:nvPicPr>
        <p:blipFill>
          <a:blip r:embed="rId4"/>
          <a:stretch/>
        </p:blipFill>
        <p:spPr>
          <a:xfrm>
            <a:off x="4929120" y="4500720"/>
            <a:ext cx="3214800" cy="214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42960" y="142560"/>
            <a:ext cx="4572000" cy="185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инозавры, жившие  на нашей планете миллионы лет назад  – также являются представителями класса пресмыкающихс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57120" y="1785960"/>
            <a:ext cx="478656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0000"/>
              </a:lnSpc>
              <a:spcBef>
                <a:spcPts val="638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инозавры являются самыми крупными наземными животными, когда-либо водившимися на Земле. Современные рептилии по размерам даже отдалённо не напоминают этих рекордсменов. Мы многое знаем о них, потому что найдены останки их костей, зубов и даже окаменелые яйц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3" name="Picture 3" descr=""/>
          <p:cNvPicPr/>
          <p:nvPr/>
        </p:nvPicPr>
        <p:blipFill>
          <a:blip r:embed="rId1"/>
          <a:stretch/>
        </p:blipFill>
        <p:spPr>
          <a:xfrm>
            <a:off x="5643720" y="214200"/>
            <a:ext cx="3286080" cy="196848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4" descr=""/>
          <p:cNvPicPr/>
          <p:nvPr/>
        </p:nvPicPr>
        <p:blipFill>
          <a:blip r:embed="rId2"/>
          <a:stretch/>
        </p:blipFill>
        <p:spPr>
          <a:xfrm>
            <a:off x="5786280" y="2286000"/>
            <a:ext cx="3143520" cy="198288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5" descr=""/>
          <p:cNvPicPr/>
          <p:nvPr/>
        </p:nvPicPr>
        <p:blipFill>
          <a:blip r:embed="rId3"/>
          <a:stretch/>
        </p:blipFill>
        <p:spPr>
          <a:xfrm>
            <a:off x="5715000" y="4429080"/>
            <a:ext cx="3139920" cy="210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5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заимоотношения человека и пресмыкающегося нельзя назвать простыми. Люди одновременно и опасаются рептилий, и восхищаются их мудростью, красотой. Образ рептилий очень часто воплощается в картинах художников, различных украшениях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7" name="Picture 2" descr=""/>
          <p:cNvPicPr/>
          <p:nvPr/>
        </p:nvPicPr>
        <p:blipFill>
          <a:blip r:embed="rId1"/>
          <a:stretch/>
        </p:blipFill>
        <p:spPr>
          <a:xfrm>
            <a:off x="4929120" y="4286160"/>
            <a:ext cx="3429000" cy="242892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3" descr=""/>
          <p:cNvPicPr/>
          <p:nvPr/>
        </p:nvPicPr>
        <p:blipFill>
          <a:blip r:embed="rId2"/>
          <a:stretch/>
        </p:blipFill>
        <p:spPr>
          <a:xfrm>
            <a:off x="714240" y="1785960"/>
            <a:ext cx="3500640" cy="242892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4" descr=""/>
          <p:cNvPicPr/>
          <p:nvPr/>
        </p:nvPicPr>
        <p:blipFill>
          <a:blip r:embed="rId3"/>
          <a:stretch/>
        </p:blipFill>
        <p:spPr>
          <a:xfrm>
            <a:off x="4857840" y="1714680"/>
            <a:ext cx="3571920" cy="249696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5" descr=""/>
          <p:cNvPicPr/>
          <p:nvPr/>
        </p:nvPicPr>
        <p:blipFill>
          <a:blip r:embed="rId4"/>
          <a:stretch/>
        </p:blipFill>
        <p:spPr>
          <a:xfrm>
            <a:off x="714240" y="4286160"/>
            <a:ext cx="3456000" cy="237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00040" y="21420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устном народном творчестве также часто упоминаются пресмыкающиеся. Так мы говорим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286080" y="1142640"/>
            <a:ext cx="5400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7000"/>
          </a:bodyPr>
          <a:p>
            <a:pPr marL="332640" indent="-33120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«Змею на груди пригреть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120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«Будьте мудры, как змии…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120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«Змея подколодная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120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«Змея меняет шкуру, но не меняет свою натуру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120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«Крокодиловы слёзы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120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«В воде жить, с крокодилом речь вести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120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«Черепашьим шагом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120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«Мудрый, как черепаха, глупый, как слон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120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«Когда спросили, чья голова красивее, черепаха высунула свою» и др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3" name="Picture 3" descr=""/>
          <p:cNvPicPr/>
          <p:nvPr/>
        </p:nvPicPr>
        <p:blipFill>
          <a:blip r:embed="rId1"/>
          <a:stretch/>
        </p:blipFill>
        <p:spPr>
          <a:xfrm>
            <a:off x="428760" y="3357720"/>
            <a:ext cx="2286000" cy="148572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4" descr=""/>
          <p:cNvPicPr/>
          <p:nvPr/>
        </p:nvPicPr>
        <p:blipFill>
          <a:blip r:embed="rId2"/>
          <a:stretch/>
        </p:blipFill>
        <p:spPr>
          <a:xfrm>
            <a:off x="357120" y="1292400"/>
            <a:ext cx="2571840" cy="188424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5" descr=""/>
          <p:cNvPicPr/>
          <p:nvPr/>
        </p:nvPicPr>
        <p:blipFill>
          <a:blip r:embed="rId3"/>
          <a:stretch/>
        </p:blipFill>
        <p:spPr>
          <a:xfrm>
            <a:off x="357120" y="4929120"/>
            <a:ext cx="2643120" cy="171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-143280" y="-360"/>
            <a:ext cx="957276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рокодил часто становился героем детских сказок: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рокодил Гена из сказки Э.Успенского, крокодил из произведений К.Чуковского. Известный юмористический  журнал «Крокодил» несколько десятилетий выходил в Советском Союз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7" name="Picture 2" descr=""/>
          <p:cNvPicPr/>
          <p:nvPr/>
        </p:nvPicPr>
        <p:blipFill>
          <a:blip r:embed="rId1"/>
          <a:stretch/>
        </p:blipFill>
        <p:spPr>
          <a:xfrm>
            <a:off x="785880" y="1785960"/>
            <a:ext cx="1719360" cy="242892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3" descr=""/>
          <p:cNvPicPr/>
          <p:nvPr/>
        </p:nvPicPr>
        <p:blipFill>
          <a:blip r:embed="rId2"/>
          <a:stretch/>
        </p:blipFill>
        <p:spPr>
          <a:xfrm>
            <a:off x="6858000" y="4500720"/>
            <a:ext cx="1643040" cy="217296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4" descr=""/>
          <p:cNvPicPr/>
          <p:nvPr/>
        </p:nvPicPr>
        <p:blipFill>
          <a:blip r:embed="rId3"/>
          <a:stretch/>
        </p:blipFill>
        <p:spPr>
          <a:xfrm>
            <a:off x="3143160" y="4240080"/>
            <a:ext cx="3143520" cy="218448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5" descr=""/>
          <p:cNvPicPr/>
          <p:nvPr/>
        </p:nvPicPr>
        <p:blipFill>
          <a:blip r:embed="rId4"/>
          <a:stretch/>
        </p:blipFill>
        <p:spPr>
          <a:xfrm>
            <a:off x="1000080" y="4572000"/>
            <a:ext cx="1571760" cy="208584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6" descr=""/>
          <p:cNvPicPr/>
          <p:nvPr/>
        </p:nvPicPr>
        <p:blipFill>
          <a:blip r:embed="rId5"/>
          <a:stretch/>
        </p:blipFill>
        <p:spPr>
          <a:xfrm>
            <a:off x="6929280" y="1928880"/>
            <a:ext cx="1785960" cy="239400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7" descr=""/>
          <p:cNvPicPr/>
          <p:nvPr/>
        </p:nvPicPr>
        <p:blipFill>
          <a:blip r:embed="rId6"/>
          <a:stretch/>
        </p:blipFill>
        <p:spPr>
          <a:xfrm>
            <a:off x="3929040" y="2071800"/>
            <a:ext cx="1643040" cy="193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Черепаха – любимый сказочный персонаж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Text Box 2"/>
          <p:cNvSpPr/>
          <p:nvPr/>
        </p:nvSpPr>
        <p:spPr>
          <a:xfrm>
            <a:off x="2857680" y="1285920"/>
            <a:ext cx="3071520" cy="55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638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ы с детства знаем и любим мудрую черепаху  Тортиллу из сказки А.Толстого «Золотой ключик, или Приключения Буратино», а песенку из мультфильма «Как Львёнок и Черепаха пели песню» знаем наизу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Picture 3" descr=""/>
          <p:cNvPicPr/>
          <p:nvPr/>
        </p:nvPicPr>
        <p:blipFill>
          <a:blip r:embed="rId1"/>
          <a:stretch/>
        </p:blipFill>
        <p:spPr>
          <a:xfrm>
            <a:off x="6572160" y="1285920"/>
            <a:ext cx="2071800" cy="281628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4" descr=""/>
          <p:cNvPicPr/>
          <p:nvPr/>
        </p:nvPicPr>
        <p:blipFill>
          <a:blip r:embed="rId2"/>
          <a:stretch/>
        </p:blipFill>
        <p:spPr>
          <a:xfrm>
            <a:off x="6000840" y="4214880"/>
            <a:ext cx="2928960" cy="227952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5" descr=""/>
          <p:cNvPicPr/>
          <p:nvPr/>
        </p:nvPicPr>
        <p:blipFill>
          <a:blip r:embed="rId3"/>
          <a:stretch/>
        </p:blipFill>
        <p:spPr>
          <a:xfrm>
            <a:off x="428760" y="3786120"/>
            <a:ext cx="2214360" cy="282564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6" descr=""/>
          <p:cNvPicPr/>
          <p:nvPr/>
        </p:nvPicPr>
        <p:blipFill>
          <a:blip r:embed="rId4"/>
          <a:stretch/>
        </p:blipFill>
        <p:spPr>
          <a:xfrm>
            <a:off x="142920" y="1428840"/>
            <a:ext cx="2857320" cy="214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Text Box 1"/>
          <p:cNvSpPr/>
          <p:nvPr/>
        </p:nvSpPr>
        <p:spPr>
          <a:xfrm>
            <a:off x="1792440" y="285840"/>
            <a:ext cx="54864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Picture 2" descr=""/>
          <p:cNvPicPr/>
          <p:nvPr/>
        </p:nvPicPr>
        <p:blipFill>
          <a:blip r:embed="rId1"/>
          <a:stretch/>
        </p:blipFill>
        <p:spPr>
          <a:xfrm>
            <a:off x="1928880" y="1428840"/>
            <a:ext cx="5310000" cy="3983040"/>
          </a:xfrm>
          <a:prstGeom prst="rect">
            <a:avLst/>
          </a:prstGeom>
          <a:ln w="0">
            <a:noFill/>
          </a:ln>
        </p:spPr>
      </p:pic>
      <p:sp>
        <p:nvSpPr>
          <p:cNvPr id="291" name="Text Box 3"/>
          <p:cNvSpPr/>
          <p:nvPr/>
        </p:nvSpPr>
        <p:spPr>
          <a:xfrm>
            <a:off x="3714840" y="5715000"/>
            <a:ext cx="500040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1640" algn="ctr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резентацию подготовила учитель начальных классов ГБОУ СОШ №1244 г.Москвы Пичугина И.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4"/>
          <p:cNvSpPr/>
          <p:nvPr/>
        </p:nvSpPr>
        <p:spPr>
          <a:xfrm>
            <a:off x="1860480" y="285840"/>
            <a:ext cx="542448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Calibri"/>
              </a:rPr>
              <a:t>До новых встреч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то такие пресмыкающиеся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9" name="Picture 2" descr=""/>
          <p:cNvPicPr/>
          <p:nvPr/>
        </p:nvPicPr>
        <p:blipFill>
          <a:blip r:embed="rId1"/>
          <a:stretch/>
        </p:blipFill>
        <p:spPr>
          <a:xfrm>
            <a:off x="4857840" y="1143000"/>
            <a:ext cx="2946240" cy="2014560"/>
          </a:xfrm>
          <a:prstGeom prst="rect">
            <a:avLst/>
          </a:prstGeom>
          <a:ln w="0">
            <a:noFill/>
          </a:ln>
        </p:spPr>
      </p:pic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00040" y="2142720"/>
            <a:ext cx="842976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0000"/>
              </a:lnSpc>
              <a:spcBef>
                <a:spcPts val="638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38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38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38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38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38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38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38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638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меи, крокодилы, черепахи, ящерицы – всё это пресмыкающиеся или рептили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1" name="Picture 4" descr=""/>
          <p:cNvPicPr/>
          <p:nvPr/>
        </p:nvPicPr>
        <p:blipFill>
          <a:blip r:embed="rId2"/>
          <a:stretch/>
        </p:blipFill>
        <p:spPr>
          <a:xfrm>
            <a:off x="928800" y="1143000"/>
            <a:ext cx="2857320" cy="20937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5" descr=""/>
          <p:cNvPicPr/>
          <p:nvPr/>
        </p:nvPicPr>
        <p:blipFill>
          <a:blip r:embed="rId3"/>
          <a:stretch/>
        </p:blipFill>
        <p:spPr>
          <a:xfrm>
            <a:off x="928800" y="3429000"/>
            <a:ext cx="2928960" cy="219384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6" descr=""/>
          <p:cNvPicPr/>
          <p:nvPr/>
        </p:nvPicPr>
        <p:blipFill>
          <a:blip r:embed="rId4"/>
          <a:stretch/>
        </p:blipFill>
        <p:spPr>
          <a:xfrm>
            <a:off x="4857840" y="3571920"/>
            <a:ext cx="3036960" cy="2046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Что нам известно о пресмыкающихся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2571480" y="1142640"/>
            <a:ext cx="642924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0000"/>
              </a:lnSpc>
              <a:spcBef>
                <a:spcPts val="638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сего на Земле обитает около 8 тысяч видов пресмыкающихся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38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есмыкающиеся или рептилии относятся к позвоночным животны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38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ептилии - это холоднокровные животные, у которых отсутствуют механизмы регуляции температуры тел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38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этому при температуре воздуха ниже +18ᵒ жизненная активность рептилий снижается: они впадают в оцепенение  (спячку). А при температуре выше +51ᵒ пресмыкающиеся могут погибнут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38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Чаще всего рептилии живут в жарких странах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6" name="Picture 3" descr=""/>
          <p:cNvPicPr/>
          <p:nvPr/>
        </p:nvPicPr>
        <p:blipFill>
          <a:blip r:embed="rId1"/>
          <a:stretch/>
        </p:blipFill>
        <p:spPr>
          <a:xfrm>
            <a:off x="428760" y="3214800"/>
            <a:ext cx="2214360" cy="153648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4" descr=""/>
          <p:cNvPicPr/>
          <p:nvPr/>
        </p:nvPicPr>
        <p:blipFill>
          <a:blip r:embed="rId2"/>
          <a:stretch/>
        </p:blipFill>
        <p:spPr>
          <a:xfrm>
            <a:off x="428760" y="1285920"/>
            <a:ext cx="2241360" cy="171432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5" descr=""/>
          <p:cNvPicPr/>
          <p:nvPr/>
        </p:nvPicPr>
        <p:blipFill>
          <a:blip r:embed="rId3"/>
          <a:stretch/>
        </p:blipFill>
        <p:spPr>
          <a:xfrm>
            <a:off x="428760" y="4857840"/>
            <a:ext cx="2259000" cy="169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85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Змеи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 прочие животные этого класса покрыты роговыми чешуйками, которые покрывают все тело животного, как черепица. Расцветка змеиной кожи бывает самая разнообразная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0" name="Picture 2" descr=""/>
          <p:cNvPicPr/>
          <p:nvPr/>
        </p:nvPicPr>
        <p:blipFill>
          <a:blip r:embed="rId1"/>
          <a:stretch/>
        </p:blipFill>
        <p:spPr>
          <a:xfrm>
            <a:off x="428760" y="2071800"/>
            <a:ext cx="4071960" cy="414324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3" descr=""/>
          <p:cNvPicPr/>
          <p:nvPr/>
        </p:nvPicPr>
        <p:blipFill>
          <a:blip r:embed="rId2"/>
          <a:stretch/>
        </p:blipFill>
        <p:spPr>
          <a:xfrm>
            <a:off x="4786200" y="2143080"/>
            <a:ext cx="4000680" cy="421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Text Box 1"/>
          <p:cNvSpPr/>
          <p:nvPr/>
        </p:nvSpPr>
        <p:spPr>
          <a:xfrm>
            <a:off x="457200" y="272880"/>
            <a:ext cx="4471920" cy="11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2" descr=""/>
          <p:cNvPicPr/>
          <p:nvPr/>
        </p:nvPicPr>
        <p:blipFill>
          <a:blip r:embed="rId1"/>
          <a:stretch/>
        </p:blipFill>
        <p:spPr>
          <a:xfrm>
            <a:off x="5500800" y="4643280"/>
            <a:ext cx="3071880" cy="1928880"/>
          </a:xfrm>
          <a:prstGeom prst="rect">
            <a:avLst/>
          </a:prstGeom>
          <a:ln w="0">
            <a:noFill/>
          </a:ln>
        </p:spPr>
      </p:pic>
      <p:sp>
        <p:nvSpPr>
          <p:cNvPr id="234" name="Text Box 3"/>
          <p:cNvSpPr/>
          <p:nvPr/>
        </p:nvSpPr>
        <p:spPr>
          <a:xfrm>
            <a:off x="457200" y="428760"/>
            <a:ext cx="4543560" cy="66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164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се змеи хищники. Они могут нападать на животное намного большее её по размер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меи не пережевывают пищу, а заглатывают её целиком. Некоторые, чтобы убить добычу, используют яд, некоторые сжимают свою жертву, пока она не задохнё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амая крупная ядовитая змея – это азиатская королевская кобра.  Её яда хватит, чтобы убить 20 с лишним челове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меи чувствуют запахи языком, а не нос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38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4" descr=""/>
          <p:cNvPicPr/>
          <p:nvPr/>
        </p:nvPicPr>
        <p:blipFill>
          <a:blip r:embed="rId2"/>
          <a:stretch/>
        </p:blipFill>
        <p:spPr>
          <a:xfrm>
            <a:off x="5429160" y="2571840"/>
            <a:ext cx="3143520" cy="192888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5" descr=""/>
          <p:cNvPicPr/>
          <p:nvPr/>
        </p:nvPicPr>
        <p:blipFill>
          <a:blip r:embed="rId3"/>
          <a:stretch/>
        </p:blipFill>
        <p:spPr>
          <a:xfrm>
            <a:off x="5429160" y="285840"/>
            <a:ext cx="3143520" cy="210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1420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рокодилы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– огромные и свирепые рептилии, живущие в жарких странах. Большую часть своей жизни они проводят в воде. Когда крокодил плывёт, над водой видны только его глаза и ноздри. Некоторые крокодилы в длину достигают 6 метров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8" name="Picture 2" descr=""/>
          <p:cNvPicPr/>
          <p:nvPr/>
        </p:nvPicPr>
        <p:blipFill>
          <a:blip r:embed="rId1"/>
          <a:stretch/>
        </p:blipFill>
        <p:spPr>
          <a:xfrm>
            <a:off x="2714760" y="4643280"/>
            <a:ext cx="3786120" cy="207180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3" descr=""/>
          <p:cNvPicPr/>
          <p:nvPr/>
        </p:nvPicPr>
        <p:blipFill>
          <a:blip r:embed="rId2"/>
          <a:stretch/>
        </p:blipFill>
        <p:spPr>
          <a:xfrm>
            <a:off x="642960" y="1714680"/>
            <a:ext cx="3429000" cy="275724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4" descr=""/>
          <p:cNvPicPr/>
          <p:nvPr/>
        </p:nvPicPr>
        <p:blipFill>
          <a:blip r:embed="rId3"/>
          <a:stretch/>
        </p:blipFill>
        <p:spPr>
          <a:xfrm>
            <a:off x="4780080" y="1714680"/>
            <a:ext cx="3624120" cy="2714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Text Box 1"/>
          <p:cNvSpPr/>
          <p:nvPr/>
        </p:nvSpPr>
        <p:spPr>
          <a:xfrm>
            <a:off x="428760" y="272880"/>
            <a:ext cx="4643280" cy="16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Большинство рептилий, в том числе и крокодилы, откладывают яйца. Их яйца не твёрдые, как у птиц, а мягкие и кожисты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2" descr=""/>
          <p:cNvPicPr/>
          <p:nvPr/>
        </p:nvPicPr>
        <p:blipFill>
          <a:blip r:embed="rId1"/>
          <a:stretch/>
        </p:blipFill>
        <p:spPr>
          <a:xfrm>
            <a:off x="5500800" y="4429080"/>
            <a:ext cx="3286080" cy="2000160"/>
          </a:xfrm>
          <a:prstGeom prst="rect">
            <a:avLst/>
          </a:prstGeom>
          <a:ln w="0">
            <a:noFill/>
          </a:ln>
        </p:spPr>
      </p:pic>
      <p:sp>
        <p:nvSpPr>
          <p:cNvPr id="243" name="Text Box 3"/>
          <p:cNvSpPr/>
          <p:nvPr/>
        </p:nvSpPr>
        <p:spPr>
          <a:xfrm>
            <a:off x="457200" y="1928880"/>
            <a:ext cx="4686480" cy="47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164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рокодилы – заботливые родители. Они охраняют свои яйца,  периодически переворачивают их для поддержания ровной температуры и влажности, а когда малыши вылупляются, помогают выбраться наружу, а порой переносят детишек к воде. «Мамы и папы» охраняют молодняк ещё несколько месяце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4" descr=""/>
          <p:cNvPicPr/>
          <p:nvPr/>
        </p:nvPicPr>
        <p:blipFill>
          <a:blip r:embed="rId2"/>
          <a:stretch/>
        </p:blipFill>
        <p:spPr>
          <a:xfrm>
            <a:off x="5357880" y="214200"/>
            <a:ext cx="3286080" cy="185760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5" descr=""/>
          <p:cNvPicPr/>
          <p:nvPr/>
        </p:nvPicPr>
        <p:blipFill>
          <a:blip r:embed="rId3"/>
          <a:stretch/>
        </p:blipFill>
        <p:spPr>
          <a:xfrm>
            <a:off x="5429160" y="2143080"/>
            <a:ext cx="3286080" cy="230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1"/>
          <p:cNvSpPr/>
          <p:nvPr/>
        </p:nvSpPr>
        <p:spPr>
          <a:xfrm>
            <a:off x="428760" y="0"/>
            <a:ext cx="4071960" cy="16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Черепахи – рептилии, тело которых покрывает твёрдый панцир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2" descr=""/>
          <p:cNvPicPr/>
          <p:nvPr/>
        </p:nvPicPr>
        <p:blipFill>
          <a:blip r:embed="rId1"/>
          <a:stretch/>
        </p:blipFill>
        <p:spPr>
          <a:xfrm>
            <a:off x="4697280" y="2712960"/>
            <a:ext cx="1801800" cy="1357560"/>
          </a:xfrm>
          <a:prstGeom prst="rect">
            <a:avLst/>
          </a:prstGeom>
          <a:ln w="0">
            <a:noFill/>
          </a:ln>
        </p:spPr>
      </p:pic>
      <p:sp>
        <p:nvSpPr>
          <p:cNvPr id="248" name="Text Box 3"/>
          <p:cNvSpPr/>
          <p:nvPr/>
        </p:nvSpPr>
        <p:spPr>
          <a:xfrm>
            <a:off x="428760" y="1571760"/>
            <a:ext cx="4000320" cy="48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164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н образован костными пластинками, сросшимися с рёбрами и отростками позвонков. Брюшной и спинной щиты панциря соединены так что свободными остаются только конечности, шея и хвост. Панцирь черепахи такой тяжёлый, что они с трудом передвигаются по земле, зато отлично плавают в вод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4" descr=""/>
          <p:cNvPicPr/>
          <p:nvPr/>
        </p:nvPicPr>
        <p:blipFill>
          <a:blip r:embed="rId2"/>
          <a:stretch/>
        </p:blipFill>
        <p:spPr>
          <a:xfrm>
            <a:off x="6643800" y="2500200"/>
            <a:ext cx="2357280" cy="164304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5" descr=""/>
          <p:cNvPicPr/>
          <p:nvPr/>
        </p:nvPicPr>
        <p:blipFill>
          <a:blip r:embed="rId3"/>
          <a:stretch/>
        </p:blipFill>
        <p:spPr>
          <a:xfrm>
            <a:off x="5143680" y="214200"/>
            <a:ext cx="3000240" cy="212580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6" descr=""/>
          <p:cNvPicPr/>
          <p:nvPr/>
        </p:nvPicPr>
        <p:blipFill>
          <a:blip r:embed="rId4"/>
          <a:stretch/>
        </p:blipFill>
        <p:spPr>
          <a:xfrm>
            <a:off x="5643720" y="4357800"/>
            <a:ext cx="3071520" cy="214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0" y="285840"/>
            <a:ext cx="9144000" cy="25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Большинство черепах так или иначе связаны с водой.  Морские  черепахи покидают тёплые моря только для того, чтобы отложить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яйца. Отдельные виды черепах редко или никогда не ступают в воду, а некоторые даже приспособились к жизни в пустыне. Размеры черепах очень разнятся – от 100г (замыкающаяся черепаха) и до 700 кг(морская кожистая черепаха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3" name="Picture 2" descr=""/>
          <p:cNvPicPr/>
          <p:nvPr/>
        </p:nvPicPr>
        <p:blipFill>
          <a:blip r:embed="rId1"/>
          <a:stretch/>
        </p:blipFill>
        <p:spPr>
          <a:xfrm>
            <a:off x="5500800" y="3000240"/>
            <a:ext cx="3500280" cy="321480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3" descr=""/>
          <p:cNvPicPr/>
          <p:nvPr/>
        </p:nvPicPr>
        <p:blipFill>
          <a:blip r:embed="rId2"/>
          <a:stretch/>
        </p:blipFill>
        <p:spPr>
          <a:xfrm>
            <a:off x="142920" y="3071880"/>
            <a:ext cx="3143160" cy="314316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4" descr=""/>
          <p:cNvPicPr/>
          <p:nvPr/>
        </p:nvPicPr>
        <p:blipFill>
          <a:blip r:embed="rId3"/>
          <a:stretch/>
        </p:blipFill>
        <p:spPr>
          <a:xfrm>
            <a:off x="3357720" y="3071880"/>
            <a:ext cx="2087280" cy="29829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4-11-25T09:29:21Z</dcterms:modified>
  <cp:revision>4</cp:revision>
  <dc:subject/>
  <dc:title>Презентація PowerPoint</dc:title>
</cp:coreProperties>
</file>