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63886-30C6-412C-BB07-10E229644A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69320-8C98-4D2E-B1C1-60EBC8519F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4EC86-8DD7-4091-B127-CA80B2933E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амелеон – это ящериц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64B15-A9E7-449B-8452-047CCA5016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0E888-842F-4C89-B8D7-0F56BCA35C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15A96-2119-49DF-8A5F-04514ADA94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тном народном творчестве также часто упоминаются пресмыкающиеся. Так мы говори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ю на груди пригреть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удьте мудры, как змии…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подколодна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Змея меняет шкуру, но не меняет свою натуру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окодиловы слёз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В воде жить, с крокодилом речь вести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Черепашьим шагом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Мудрый, как черепаха, глупый, как слон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гда спросили, чья голова красивее, черепаха высунула свою»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E5BC0-AEA7-4EA5-9833-918510B866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часто становился героем детских сказок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229E4-8275-4B30-AECE-ACA66574DA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паха – любимый сказочный персонаж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50998-C964-4FC4-9CD8-B6D01A066D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273FD-6340-4F87-8745-FA77986779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то такие пресмыкающие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меи, крокодилы, черепахи, ящерицы – всё это пресмыкающиеся или рептил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8F29E-2C29-4E3C-916E-39715AD8A6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нам известно о пресмыкающихс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го на Земле обитает около 8 тысяч видов пресмыкаю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смыкающиеся или рептилии относятся к позвоночным живот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ще всего рептилии живут в жарких странах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65055-1D39-4351-810C-4798B67B1A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ме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F065F-E1AF-4FD1-9450-9B88DE7BA7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4D607-267E-4F36-A008-73D594660C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5FB19-6703-48CD-9D7B-E9CCF6EA07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9FFCA-1B85-44CA-97EF-F2BD476CFE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C82B7-FFDC-4661-91C4-77F4420382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E99F2-7A22-4995-BA27-3A18018EF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EBE2-D343-43F7-8AD5-C786B9D2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D603-C54A-4E55-83BD-2DDA9A9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288C-89F2-41D0-A7EC-57E731C55E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0CD8B-F3F8-4FAE-A961-EA3C68275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F5747-752A-4CBD-AFAE-93CEA530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3984B-0168-4540-BFD3-434040CC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30F60-A332-448F-9225-69179968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0D8B9-A455-48FD-88A2-12B31C12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F6A77-075E-4E43-883D-5D9A7361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DD2C4-6759-4267-8349-8C1D4485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48EE-CA0D-41B9-8EBF-877A587D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6C89D-728A-4B03-88E1-9DC8C3F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007C7-0FAC-445A-9E15-101093B5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30BBF-8A8D-468D-A94E-0FE933E5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C3B17-A270-4F34-8793-89B31D0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1DD99-DB62-41E2-B80A-ECEBEB824B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B83A-DCED-4060-8C51-C4A2F0F8ED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F24C-2980-4CA2-8E49-45B46BE0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EA0B-83E8-4506-BA9C-9DD24DF0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2A61-FEA8-45D5-9AFF-52971BF2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490E-9F38-4104-9CD4-F136BDD8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826F-6A49-4FD9-82BD-C07BD612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2529-A8F1-4CA4-AB90-A1CBAB6C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3865-D8B8-4F3B-84CC-4B6B60BE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3EE5-E78F-4B6A-84CC-8AE1311F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2354-1DF8-4C16-A8EC-FF120A15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3971-B17B-46E9-9AD2-A51AD377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C40C-2ADE-4CA4-9333-9C4CC1FF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C6F8-09D7-49B8-B4E7-853BE72F93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4D189B-D027-4756-982B-728D65946D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1AA6A-72D9-4C44-A2DD-D04CC9FE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835E5-FCC9-4627-9C28-83FB37A0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35767-AA27-4CB3-8F3B-E8186878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FF151-64E2-4684-AA58-2F51D8B6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B4A23F-42D6-4D8F-949F-12A831FB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87875-CFC4-4DD3-A4B9-CBA642E7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1CD9B-8B86-4C8F-B7A9-FC7CDB60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406D1-4ACA-408D-B10E-E4E1EF38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F3FB9-7EE7-47CD-B38E-B3FB6F29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E1735-2684-4AF0-82F1-C0239A5E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4ABD1-6EB6-4816-8869-A2CD7FCF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69DA7-A905-4102-A454-4ABF3A980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5569E1-48C6-4461-8CD4-B02A379BB2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1A052-D2D2-4537-97CB-8B138C3B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F8579-7208-4B8A-870E-11F4D94D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FD31C-2D69-4618-8278-97286FDE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288168-B5C6-4F69-8804-12A1A63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AE1094-AEBE-4A36-A506-69864CAB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E3FB29-988E-48EE-8A03-AB3EC3A2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20194-2FB1-40A6-8C29-243F263D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42F12-31B4-4E3D-9708-5790A7EB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5B603-95D0-44B3-A9D3-0E006009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CAA87F-D8B1-484D-BB51-8BF38469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79870D-73CE-4D3B-87A1-45C8464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080" y="4800600"/>
            <a:ext cx="548460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51146-866D-4FC8-B113-0918FFF5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4644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1160" y="536724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79208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4644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1160" y="5787000"/>
            <a:ext cx="17658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E9BA7D-2563-43BE-B9DB-E1608C0DC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E26BB-A24E-47DD-8082-CDD02BA5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8800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2600" y="578700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9616-BE04-4182-80AD-548BF3B1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08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2600" y="5367240"/>
            <a:ext cx="267624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8000"/>
          </a:bodyPr>
          <a:p>
            <a:pPr marL="1987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080" y="5787000"/>
            <a:ext cx="5484600" cy="3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9000"/>
          </a:bodyPr>
          <a:p>
            <a:pPr marL="20232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21F90-9DF1-43EB-B7E5-831F0555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8b8b8b"/>
                </a:solidFill>
                <a:latin typeface="Calibri"/>
              </a:rPr>
              <a:t>Образец подзагол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181A681-80B9-40EE-8955-8EDB5658E9B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marL="25380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3800" indent="-2538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Bef>
                <a:spcPts val="363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28F6281-F25E-4DA5-870B-0CEFE6EC22D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67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74800" y="272520"/>
            <a:ext cx="5110200" cy="585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тор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Трети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етвер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яты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Шест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д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осьмой уровень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14EBAF-EE91-45AB-98E4-3FB8232159A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C34A498-B014-4633-8F30-515134455C2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0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080" y="4800600"/>
            <a:ext cx="5484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792080" y="5367240"/>
            <a:ext cx="54846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5000"/>
          </a:bodyPr>
          <a:p>
            <a:pPr marL="5112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51120" indent="-5112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4.4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513157D-F77C-4E66-BEF5-81B4A58876DF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371600" y="4929120"/>
            <a:ext cx="67723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1e1c11"/>
                </a:solidFill>
                <a:latin typeface="Calibri"/>
              </a:rPr>
              <a:t>Нача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857160" y="2000160"/>
            <a:ext cx="831240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fdfdfe"/>
                </a:solidFill>
                <a:latin typeface="Calibri"/>
              </a:rPr>
              <a:t>Пресмыкающиеся (рептилии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амелеон – это ящериц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оторая живёт на деревьях, обхватывая ветки хвостом и коготками. Хамелеон ловит насекомых своим длинным липким языком. Он меняет свой цвет, чтобы слиться с окружающим фоном. Это называется маскировкой, и она помогает хамелеонам скрыться от врагов. Глаза хамелеона могут одновременно смотреть в разные сторо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857160" y="442908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214800" cy="192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4929120" y="2214720"/>
            <a:ext cx="3286080" cy="2000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4"/>
          <a:stretch/>
        </p:blipFill>
        <p:spPr>
          <a:xfrm>
            <a:off x="4929120" y="45007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142560"/>
            <a:ext cx="4572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, жившие  на нашей планете миллионы лет назад  – также являются представителями класса пресмыкаю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47865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нозавры являются самыми крупными наземными животными, когда-либо водившимися на Земле. Современные рептилии по размерам даже отдалённо не напоминают этих рекордсменов. Мы многое знаем о них, потому что найдены останки их костей, зубов и даже окаменелые яй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5643720" y="214200"/>
            <a:ext cx="3286080" cy="196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1982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715000" y="4429080"/>
            <a:ext cx="31399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есмыкающегося нельзя назвать простыми. Люди одновременно и опасаются рептилий, и восхищаются их мудростью, красотой. Образ рептилий очень часто воплощается в картинах художников, различных укра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4929120" y="428616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"/>
          <p:cNvPicPr/>
          <p:nvPr/>
        </p:nvPicPr>
        <p:blipFill>
          <a:blip r:embed="rId2"/>
          <a:stretch/>
        </p:blipFill>
        <p:spPr>
          <a:xfrm>
            <a:off x="714240" y="1785960"/>
            <a:ext cx="3500640" cy="242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4857840" y="1714680"/>
            <a:ext cx="3571920" cy="2496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714240" y="4286160"/>
            <a:ext cx="3456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устном народном творчестве также часто упоминаются пресмыкающиеся. Так мы говори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86080" y="11426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ю на груди пригре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Будьте мудры, как змии…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подколодн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Змея меняет шкуру, но не меняет свою натуру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рокодиловы слёз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 воде жить, с крокодилом речь вест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Черепашьим шагом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удрый, как черепаха, глупый, как слон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12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Когда спросили, чья голова красивее, черепаха высунула свою»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28760" y="3357720"/>
            <a:ext cx="2286000" cy="1485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357120" y="1292400"/>
            <a:ext cx="2571840" cy="1884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3"/>
          <a:stretch/>
        </p:blipFill>
        <p:spPr>
          <a:xfrm>
            <a:off x="357120" y="4929120"/>
            <a:ext cx="264312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5727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часто становился героем детских сказок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 Гена из сказки Э.Успенского, крокодил из произведений К.Чуковского. Известный юмористический  журнал «Крокодил» несколько десятилетий выходил в Советском Сою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1719360" cy="24289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6858000" y="4500720"/>
            <a:ext cx="1643040" cy="2172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"/>
          <p:cNvPicPr/>
          <p:nvPr/>
        </p:nvPicPr>
        <p:blipFill>
          <a:blip r:embed="rId3"/>
          <a:stretch/>
        </p:blipFill>
        <p:spPr>
          <a:xfrm>
            <a:off x="3143160" y="4240080"/>
            <a:ext cx="3143520" cy="2184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4"/>
          <a:stretch/>
        </p:blipFill>
        <p:spPr>
          <a:xfrm>
            <a:off x="1000080" y="4572000"/>
            <a:ext cx="1571760" cy="20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5"/>
          <a:stretch/>
        </p:blipFill>
        <p:spPr>
          <a:xfrm>
            <a:off x="6929280" y="1928880"/>
            <a:ext cx="1785960" cy="2394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"/>
          <p:cNvPicPr/>
          <p:nvPr/>
        </p:nvPicPr>
        <p:blipFill>
          <a:blip r:embed="rId6"/>
          <a:stretch/>
        </p:blipFill>
        <p:spPr>
          <a:xfrm>
            <a:off x="3929040" y="2071800"/>
            <a:ext cx="1643040" cy="19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паха – любимый сказочный персонаж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857680" y="1285920"/>
            <a:ext cx="30715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ы с детства знаем и любим мудрую черепаху  Тортиллу из сказки А.Толстого «Золотой ключик, или Приключения Буратино», а песенку из мультфильма «Как Львёнок и Черепаха пели песню» знаем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72160" y="1285920"/>
            <a:ext cx="2071800" cy="2816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6000840" y="4214880"/>
            <a:ext cx="2928960" cy="2279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428760" y="3786120"/>
            <a:ext cx="2214360" cy="28256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"/>
          <p:cNvPicPr/>
          <p:nvPr/>
        </p:nvPicPr>
        <p:blipFill>
          <a:blip r:embed="rId4"/>
          <a:stretch/>
        </p:blipFill>
        <p:spPr>
          <a:xfrm>
            <a:off x="142920" y="142884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792440" y="285840"/>
            <a:ext cx="548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928880" y="1428840"/>
            <a:ext cx="5310000" cy="39830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3714840" y="5715000"/>
            <a:ext cx="5000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зентацию подготовила учитель начальных классов ГБОУ СОШ №1244 г.Москвы Пичугина И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60480" y="285840"/>
            <a:ext cx="54244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До новых встреч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такие пресмыкающие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857840" y="1143000"/>
            <a:ext cx="2946240" cy="20145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2142720"/>
            <a:ext cx="84297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, крокодилы, черепахи, ящерицы – всё это пресмыкающиеся или рептил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928800" y="1143000"/>
            <a:ext cx="2857320" cy="2093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3"/>
          <a:stretch/>
        </p:blipFill>
        <p:spPr>
          <a:xfrm>
            <a:off x="928800" y="3429000"/>
            <a:ext cx="2928960" cy="2193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4"/>
          <a:stretch/>
        </p:blipFill>
        <p:spPr>
          <a:xfrm>
            <a:off x="4857840" y="3571920"/>
            <a:ext cx="3036960" cy="20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нам известно о пресмыкаю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71480" y="1142640"/>
            <a:ext cx="6429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го на Земле обитает около 8 тысяч видов пресмыкаю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смыкающиеся или рептилии относятся к позвоночным живо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птилии - это холоднокровные животные, у которых отсутствуют механизмы регуляции температуры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при температуре воздуха ниже +18ᵒ жизненная активность рептилий снижается: они впадают в оцепенение  (спячку). А при температуре выше +51ᵒ пресмыкающиеся могут погибну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ще всего рептилии живут в жарких страна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2214360" cy="1536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2241360" cy="171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428760" y="4857840"/>
            <a:ext cx="225900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ме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чие животные этого класса покрыты роговыми чешуйками, которые покрывают все тело животного, как черепица. Расцветка змеиной кожи бывает самая разнообразна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4071960" cy="4143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006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2880"/>
            <a:ext cx="4471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500800" y="4643280"/>
            <a:ext cx="3071880" cy="1928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57200" y="428760"/>
            <a:ext cx="454356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змеи хищники. Они могут нападать на животное намного большее её по разме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не пережевывают пищу, а заглатывают её целиком. Некоторые, чтобы убить добычу, используют яд, некоторые сжимают свою жертву, пока она не задохн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ая крупная ядовитая змея – это азиатская королевская кобра.  Её яда хватит, чтобы убить 20 с лишним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меи чувствуют запахи языком, а не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5429160" y="2571840"/>
            <a:ext cx="3143520" cy="1928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429160" y="285840"/>
            <a:ext cx="3143520" cy="21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окодил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громные и свирепые рептилии, живущие в жарких странах. Большую часть своей жизни они проводят в воде. Когда крокодил плывёт, над водой видны только его глаза и ноздри. Некоторые крокодилы в длину достигают 6 мет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714760" y="4643280"/>
            <a:ext cx="3786120" cy="2071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642960" y="1714680"/>
            <a:ext cx="3429000" cy="275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3"/>
          <a:stretch/>
        </p:blipFill>
        <p:spPr>
          <a:xfrm>
            <a:off x="4780080" y="1714680"/>
            <a:ext cx="362412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28760" y="272880"/>
            <a:ext cx="46432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ьшинство рептилий, в том числе и крокодилы, откладывают яйца. Их яйца не твёрдые, как у птиц, а мягкие и кожист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5500800" y="442908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"/>
          <p:cNvSpPr/>
          <p:nvPr/>
        </p:nvSpPr>
        <p:spPr>
          <a:xfrm>
            <a:off x="457200" y="1928880"/>
            <a:ext cx="46864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кодилы – заботливые родители. Они охраняют свои яйца,  периодически переворачивают их для поддержания ровной температуры и влажности, а когда малыши вылупляются, помогают выбраться наружу, а порой переносят детишек к воде. «Мамы и папы» охраняют молодняк ещё несколько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3286080" cy="1857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5429160" y="2143080"/>
            <a:ext cx="3286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28760" y="0"/>
            <a:ext cx="40719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пахи – рептилии, тело которых покрывает твёрдый панцир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7280" y="2712960"/>
            <a:ext cx="1801800" cy="1357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428760" y="1571760"/>
            <a:ext cx="400032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образован костными пластинками, сросшимися с рёбрами и отростками позвонков. Брюшной и спинной щиты панциря соединены так что свободными остаются только конечности, шея и хвост. Панцирь черепахи такой тяжёлый, что они с трудом передвигаются по земле, зато отлично плавают в в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6643800" y="2500200"/>
            <a:ext cx="2357280" cy="1643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3"/>
          <a:stretch/>
        </p:blipFill>
        <p:spPr>
          <a:xfrm>
            <a:off x="5143680" y="214200"/>
            <a:ext cx="3000240" cy="2125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4"/>
          <a:stretch/>
        </p:blipFill>
        <p:spPr>
          <a:xfrm>
            <a:off x="5643720" y="4357800"/>
            <a:ext cx="307152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льшинство черепах так или иначе связаны с водой.  Морские  черепахи покидают тёплые моря только для того, чтобы отлож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яйца. Отдельные виды черепах редко или никогда не ступают в воду, а некоторые даже приспособились к жизни в пустыне. Размеры черепах очень разнятся – от 100г (замыкающаяся черепаха) и до 700 кг(морская кожистая черепах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500280" cy="3214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142920" y="3071880"/>
            <a:ext cx="3143160" cy="3143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2087280" cy="2982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29:21Z</dcterms:modified>
  <cp:revision>4</cp:revision>
  <dc:subject/>
  <dc:title>Презентація PowerPoint</dc:title>
</cp:coreProperties>
</file>