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gif" ContentType="image/gif"/>
  <Override PartName="/ppt/media/image14.jpeg" ContentType="image/jpeg"/>
  <Override PartName="/ppt/media/image13.jpeg" ContentType="image/jpeg"/>
  <Override PartName="/ppt/media/image4.png" ContentType="image/png"/>
  <Override PartName="/ppt/media/image24.gif" ContentType="image/gif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Impact"/>
              </a:rPr>
              <a:t>Click to move the slide</a:t>
            </a: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F2DC-B990-4631-8021-7D88577132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Н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госпитальной хиру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9B42-52EA-461C-8E4C-3F9CEDD8A6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ан проведения заседаний СНК в 2010 – 2011 гг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На кафедре запланировано на текущий учебный год 6 заседаний СНК (ежемесячн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Запланировано подготовить 2 – 3 доклада на итоговую научную студенческую конференцию и подготовить 2 – 3 статьи в студенческий сбор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FCDA-382F-4631-AF9A-CDF4A9D992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Calibri"/>
              </a:rPr>
              <a:t>На заседаниях кружка обсуждаются темы, посвященные наиболее актуальным вопросам экстренной и плановой хирургии, малоинвазивные технологии в хирурги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Заболевания щитовидной желе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Грыжи передней брюшной стенки: традиционные грыжесечения, грыжесечения с применением сетчатых эндопроте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Показания к консервативным и оперативным методам при остром панкреатите, выбор тактики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Язвенные гастродуоденальные кровот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Кровотечения из варикознорасширенных вен пище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Малоинвазивные доступы в сосудистой хиру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D2DD-CFCF-4EBE-9760-74BCF12874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спективы дальнейшего развития и совершенств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Будет уделено внимание методологии проведения научно-исследовательской работы, более широкому знакомству студентов с пациентами с хирургической патолог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F496-D480-4413-8182-1179438D55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ационный стен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F8ED-1E87-4AC7-9566-661587DF8A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тактные данны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Адрес: г.Ярославль, Тутаевское шоссе, д.95, клиническая больница №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Телефон: 54-27-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52B7-15B2-4167-9A5B-DD8EA9C687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ЖДЕМ ВСЕХ ЖЕЛАЮЩИХ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E698-7208-4EB0-BA88-C39AA675D8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федра госпитальной хирур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Заведующий кафедрой: д.м.н., професс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В.В Рыбач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Руководитель СНК: д.м.н., професс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И.Г. Дряже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Председатель СНК: А.А. Уткина 7 группа, </a:t>
            </a:r>
            <a:r>
              <a:rPr b="0" lang="en-US" sz="1200" spc="-1" strike="noStrike">
                <a:solidFill>
                  <a:srgbClr val="e46c0a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курс, лечебный факуль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Староста СНК: М.К. Костюченко 7 группа, </a:t>
            </a:r>
            <a:r>
              <a:rPr b="0" lang="en-US" sz="1200" spc="-1" strike="noStrike">
                <a:solidFill>
                  <a:srgbClr val="e46c0a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курс, лечебный факуль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Ответственный за работу молодых ученых: д.м.н., профессор   Н.Е. Рудн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DFF2-AA08-45FB-84AD-F283BFAF23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рия СНК кафедр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Первым заведующим кафедрой госпитальной хирургии с 1944 по 1950 г. был профессор И.М.Перельман. На кафедре в то время уделялось большое внимание вопросам неотложной хирургии брюшной полости и изучению заболеваний сердечно-сосудистой системы.</a:t>
            </a:r>
            <a:br>
              <a:rPr sz="1200"/>
            </a:b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     С 1950 по 1951 г. кафедру возглавлял профессор А.А.Бусалов - ученик и воспитанник школы академика С.А.Спасокукоцкого. Основное внимание на кафедре было уделено вопросам хирургии желудка и гнойной хирургии легких. </a:t>
            </a:r>
            <a:br>
              <a:rPr sz="1200"/>
            </a:b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     С 1952 по 1954 г. кафедру госпитальной хирургии возглавляла доцент Е.В.Карпова - опытный клиницист, крупный специалист в абдоминальной хирургии и хирургии щитовидной железы. </a:t>
            </a:r>
            <a:br>
              <a:rPr sz="1200"/>
            </a:b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 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21D7-25B8-4E01-A929-B2CF92D192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С 1955 по I960 г. кафедрой заведовал профессор А.А.Троицкий. </a:t>
            </a:r>
            <a:br>
              <a:rPr sz="1200"/>
            </a:b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    С 1960 по 1961 г. кафедру возглавил профессор В.П.Матешук. За этот, сравнительно короткий период времени на кафедре разрабатывались вопросы применения однорядного внутриузелкового шва в абдоминальной хирургии, техника выполнения, его показания к применению при различных операциях на органах брюшной полости. </a:t>
            </a:r>
            <a:br>
              <a:rPr sz="1200"/>
            </a:b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    С 1961 по 1973 г. клинику госпитальной хирургии возглавлял Заслуженный деятель науки БССР профессор А.К.Шипов. Под его руководством на кафедре был сконструирован гипотерм и проведен ряд сложных операций под общей гипотерм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B845-6E8A-4A18-ABD1-FFA189B8B9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С 1974 по 1999 г. кафедру возглавлял профессор Ю.Н.Белокуров. Под его руководством организован один из первых в стране межобластных центров гипербарической оксигенации и защищено 36 диссертаций. </a:t>
            </a:r>
            <a:br>
              <a:rPr sz="1200"/>
            </a:b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      С 1999 г. кафедрой заведует профессор В.В.Рыбачков.  Под его руководством защищено 2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диссертаций из них 5 докторск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С создания кафедры и по на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дни на ней функционирует СН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Благодаря которому студенты бол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углубленно изучают акту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вопросы хирургии, овладев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практическими хирургически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навыками, занимаются научно-исследовательской деятель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8E7E-C896-44A0-B313-087459BDC7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и и задачи СН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Познакомить студентов с основами научно-исследовательской работы в хирургической практ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77B1-2929-4C08-BCED-1422E6C894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НИРС и УИР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Работа с медицинской документацией, архивными материалами, анализ полученных данных, анкетирование пациентов, участие в экспериментах, более углубленное знакомство с экстренной и плановой хирургической патологией, овладение практическими хирургическими навы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3F7B-B2DF-43DC-B731-A994B9E04A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Студенты помогают сотрудникам кафедры в научно-исследовательской работе, знакомятся с особенностями клинической картины у хирургических больных, готовят и выступают с докладами по актуальным вопросам хиру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960B-D5C0-425A-9B7D-404762CA4C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12E3-311C-4497-A6C7-53338139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D0AA-A39E-417C-8EB7-06E33D59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578C-DAEC-446C-96B7-291BEFAF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EA8C-7A77-4A65-99A9-E7DF2CF7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A146-97DF-448D-A007-75795A92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9E99-ACAD-46F6-ACA9-8B4F16D8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5502-F8A2-46A2-B969-38704ABA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C400-EB14-446E-8280-142EA6EA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0922-79BC-4AF1-BE9E-D93689A1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AE60-02F0-4D2B-A03C-53D26F55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92B9-F7CC-44BB-825F-F90F5164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DB0E-C11F-4079-B901-02F7D29B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FD63-B05B-4B6E-9783-8199E0A5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64B6-8A4D-480B-8618-E927BEA6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73AD-303A-477C-8A81-A2301FF7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2D4D-A9FA-4DD7-8FB9-B17D22EB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102D-EC9D-4067-8A84-3B8F3DEE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67F2-83D7-4174-8165-3B5ECD47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F6CB-60B1-45EB-B96B-A5C7EE1D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2EC9-3DBC-4575-A879-2E2699DA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0C93-3D5E-4BA6-B369-D81BDBC5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8F8-205A-4841-8FAA-E043A17D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B4A-4E63-411F-851D-0E0FAA3D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BA8F-BC8C-417B-ACFC-6556E69A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F755-809D-448F-B01F-C77F8709D8C4}" type="slidenum">
              <a:rPr b="1" lang="en-US" sz="10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 Black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48F8-9698-4843-B006-CE610FE0161F}" type="slidenum">
              <a:rPr b="0" lang="en-US" sz="10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5.gif"/><Relationship Id="rId6" Type="http://schemas.openxmlformats.org/officeDocument/2006/relationships/image" Target="../media/image24.gif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40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336699"/>
                </a:solidFill>
                <a:latin typeface="Impact"/>
              </a:rPr>
              <a:t>СНК</a:t>
            </a:r>
            <a:endParaRPr b="0" lang="en-US" sz="96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90" name="Подзаголовок 6" descr=""/>
          <p:cNvPicPr/>
          <p:nvPr/>
        </p:nvPicPr>
        <p:blipFill>
          <a:blip r:embed="rId1"/>
          <a:stretch/>
        </p:blipFill>
        <p:spPr>
          <a:xfrm>
            <a:off x="-23760" y="2189160"/>
            <a:ext cx="9375840" cy="2279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ems_star_shimmering_hg_clr"/>
          <p:cNvPicPr/>
          <p:nvPr/>
        </p:nvPicPr>
        <p:blipFill>
          <a:blip r:embed="rId2"/>
          <a:stretch/>
        </p:blipFill>
        <p:spPr>
          <a:xfrm>
            <a:off x="22860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 Black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Impact"/>
              </a:rPr>
              <a:t>План проведения заседаний СНК в 2010 – 2011 гг:</a:t>
            </a:r>
            <a:endParaRPr b="0" lang="en-US" sz="32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На кафедре запланировано на текущий учебный год 6 заседаний СНК (ежемесячно)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Запланировано подготовить 2 – 3 доклада на итоговую научную студенческую конференцию и подготовить 2 – 3 статьи в студенческий сборник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00" y="285840"/>
            <a:ext cx="9144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На заседаниях кружка обсуждаются темы, посвященные наиболее актуальным вопросам экстренной и плановой хирургии, малоинвазивные технологии в хирургии:</a:t>
            </a:r>
            <a:endParaRPr b="0" lang="en-US" sz="28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78560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Заболевания щитовидной железы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Грыжи передней брюшной стенки: традиционные грыжесечения, грыжесечения с применением сетчатых эндопротезов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Показания к консервативным и оперативным методам при остром панкреатите, выбор тактики лечения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Язвенные гастродуоденальные кровотечения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Кровотечения из варикознорасширенных вен пищевода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Малоинвазивные доступы в сосудистой хирургии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Impact"/>
              </a:rPr>
              <a:t>Перспективы дальнейшего развития и совершенствования:</a:t>
            </a:r>
            <a:endParaRPr b="0" lang="en-US" sz="32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Будет уделено внимание методологии проведения научно-исследовательской работы, более широкому знакомству студентов с пациентами с хирургической патологией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Информационный стенд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Your subtopic goes here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41" name="Рисунок 4" descr="P1290846.JPG"/>
          <p:cNvPicPr/>
          <p:nvPr/>
        </p:nvPicPr>
        <p:blipFill>
          <a:blip r:embed="rId2"/>
          <a:stretch/>
        </p:blipFill>
        <p:spPr>
          <a:xfrm>
            <a:off x="0" y="7858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Контактные данные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Адрес: г.Ярославль, Тутаевское шоссе, д.95, клиническая больница №9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Телефон: 54-27-64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40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47" name="Picture 91" descr="medical_hero_sld"/>
          <p:cNvPicPr/>
          <p:nvPr/>
        </p:nvPicPr>
        <p:blipFill>
          <a:blip r:embed="rId1"/>
          <a:stretch/>
        </p:blipFill>
        <p:spPr>
          <a:xfrm>
            <a:off x="2411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2" descr="medical_hero_trs"/>
          <p:cNvPicPr/>
          <p:nvPr/>
        </p:nvPicPr>
        <p:blipFill>
          <a:blip r:embed="rId2"/>
          <a:stretch/>
        </p:blipFill>
        <p:spPr>
          <a:xfrm>
            <a:off x="4670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3" descr="medical_hero_prt"/>
          <p:cNvPicPr/>
          <p:nvPr/>
        </p:nvPicPr>
        <p:blipFill>
          <a:blip r:embed="rId3"/>
          <a:stretch/>
        </p:blipFill>
        <p:spPr>
          <a:xfrm>
            <a:off x="6929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4" descr="medical_hero_qx"/>
          <p:cNvPicPr/>
          <p:nvPr/>
        </p:nvPicPr>
        <p:blipFill>
          <a:blip r:embed="rId4"/>
          <a:stretch/>
        </p:blipFill>
        <p:spPr>
          <a:xfrm>
            <a:off x="152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5" descr="ems_rotating"/>
          <p:cNvPicPr/>
          <p:nvPr/>
        </p:nvPicPr>
        <p:blipFill>
          <a:blip r:embed="rId5"/>
          <a:stretch/>
        </p:blipFill>
        <p:spPr>
          <a:xfrm>
            <a:off x="5943600" y="3657600"/>
            <a:ext cx="3029040" cy="3029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6" descr="ems_star_shimmering_hg_clr"/>
          <p:cNvPicPr/>
          <p:nvPr/>
        </p:nvPicPr>
        <p:blipFill>
          <a:blip r:embed="rId6"/>
          <a:stretch/>
        </p:blipFill>
        <p:spPr>
          <a:xfrm>
            <a:off x="152280" y="363852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2071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22268"/>
                </a:solidFill>
                <a:latin typeface="Impact"/>
              </a:rPr>
              <a:t>ЖДЕМ ВСЕХ ЖЕЛАЮЩИХ!</a:t>
            </a:r>
            <a:endParaRPr b="1" lang="en-US" sz="66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54" name="Рисунок 10" descr="P1290850.JPG"/>
          <p:cNvPicPr/>
          <p:nvPr/>
        </p:nvPicPr>
        <p:blipFill>
          <a:blip r:embed="rId7"/>
          <a:stretch/>
        </p:blipFill>
        <p:spPr>
          <a:xfrm>
            <a:off x="2286000" y="142920"/>
            <a:ext cx="2214720" cy="15717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1" descr="P1290853.JPG"/>
          <p:cNvPicPr/>
          <p:nvPr/>
        </p:nvPicPr>
        <p:blipFill>
          <a:blip r:embed="rId8"/>
          <a:stretch/>
        </p:blipFill>
        <p:spPr>
          <a:xfrm>
            <a:off x="4643280" y="142920"/>
            <a:ext cx="2143440" cy="15717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4" descr="P1290843.JPG"/>
          <p:cNvPicPr/>
          <p:nvPr/>
        </p:nvPicPr>
        <p:blipFill>
          <a:blip r:embed="rId9"/>
          <a:stretch/>
        </p:blipFill>
        <p:spPr>
          <a:xfrm>
            <a:off x="142920" y="142920"/>
            <a:ext cx="2071800" cy="15717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5" descr="P1290849.JPG"/>
          <p:cNvPicPr/>
          <p:nvPr/>
        </p:nvPicPr>
        <p:blipFill>
          <a:blip r:embed="rId10"/>
          <a:stretch/>
        </p:blipFill>
        <p:spPr>
          <a:xfrm>
            <a:off x="6929280" y="142920"/>
            <a:ext cx="2071800" cy="157176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 Black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6699"/>
                </a:solidFill>
                <a:latin typeface="Impact"/>
              </a:rPr>
              <a:t>Кафедра госпитальной хирургии</a:t>
            </a:r>
            <a:endParaRPr b="0" lang="en-US" sz="48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94" name="Picture 22" descr="ems_rotating"/>
          <p:cNvPicPr/>
          <p:nvPr/>
        </p:nvPicPr>
        <p:blipFill>
          <a:blip r:embed="rId1"/>
          <a:stretch/>
        </p:blipFill>
        <p:spPr>
          <a:xfrm>
            <a:off x="2905200" y="195264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Заведующий кафедрой: д.м.н., профессор 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В.В Рыбачков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Руководитель СНК: д.м.н., профессор 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И.Г. Дряженков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Председатель СНК: А.А. Уткина 7 группа, </a:t>
            </a:r>
            <a:r>
              <a:rPr b="1" lang="en-US" sz="2800" spc="-1" strike="noStrike">
                <a:solidFill>
                  <a:srgbClr val="222268"/>
                </a:solidFill>
                <a:latin typeface="Tahoma"/>
              </a:rPr>
              <a:t>VI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курс, лечебный факультет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Староста СНК: М.К. Костюченко 7 группа, </a:t>
            </a:r>
            <a:r>
              <a:rPr b="1" lang="en-US" sz="2800" spc="-1" strike="noStrike">
                <a:solidFill>
                  <a:srgbClr val="222268"/>
                </a:solidFill>
                <a:latin typeface="Tahoma"/>
              </a:rPr>
              <a:t>VI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курс, лечебный факультет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Ответственный за работу молодых ученых: д.м.н., профессор   Н.Е. Руднев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История СНК кафедры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98" name="Picture 22" descr="ems_rotating"/>
          <p:cNvPicPr/>
          <p:nvPr/>
        </p:nvPicPr>
        <p:blipFill>
          <a:blip r:embed="rId1"/>
          <a:stretch/>
        </p:blipFill>
        <p:spPr>
          <a:xfrm>
            <a:off x="2905200" y="195264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 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Первым заведующим кафедрой госпитальной хирургии с 1944 по 1950 г. был профессор И.М.Перельман. На кафедре в то время уделялось большое внимание вопросам неотложной хирургии брюшной полости и изучению заболеваний сердечно-сосудистой системы.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 С 1950 по 1951 г. кафедру возглавлял профессор А.А.Бусалов - ученик и воспитанник школы академика С.А.Спасокукоцкого. Основное внимание на кафедре было уделено вопросам хирургии желудка и гнойной хирургии легких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 С 1952 по 1954 г. кафедру госпитальной хирургии возглавляла доцент Е.В.Карпова - опытный клиницист, крупный специалист в абдоминальной хирургии и хирургии щитовидной железы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785520"/>
            <a:ext cx="91440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Tahoma"/>
              </a:rPr>
              <a:t> 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0" y="7858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С 1955 по I960 г. кафедрой заведовал профессор А.А.Троицкий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С 1960 по 1961 г. кафедру возглавил профессор В.П.Матешук. За этот, сравнительно короткий период времени на кафедре разрабатывались вопросы применения однорядного внутриузелкового шва в абдоминальной хирургии, техника выполнения, его показания к применению при различных операциях на органах брюшной полости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С 1961 по 1973 г. клинику госпитальной хирургии возглавлял Заслуженный деятель науки БССР профессор А.К.Шипов. Под его руководством на кафедре был сконструирован гипотерм и проведен ряд сложных операций под общей гипотермией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0" y="7858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С 1974 по 1999 г. кафедру возглавлял профессор Ю.Н.Белокуров. Под его руководством организован один из первых в стране межобластных центров гипербарической оксигенации и защищено 36 диссертаций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  С 1999 г. кафедрой заведует профессор В.В.Рыбачков.  Под его руководством защищено 2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диссертаций из них 5 докторс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С создания кафедры и по на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дни на ней функционирует СН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Благодаря которому студенты бо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углубленно изучают актуа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вопросы хирургии, овладе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практическими хирургическ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навыками, занимаются научно-исследовательской деятель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P1290845.JPG"/>
          <p:cNvPicPr/>
          <p:nvPr/>
        </p:nvPicPr>
        <p:blipFill>
          <a:blip r:embed="rId1"/>
          <a:stretch/>
        </p:blipFill>
        <p:spPr>
          <a:xfrm>
            <a:off x="6643800" y="3357720"/>
            <a:ext cx="2071440" cy="27144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Цели и задачи СНК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Познакомить студентов с основами научно-исследовательской работы в хирургической практике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11" name="Рисунок 4" descr="P1290852.JPG"/>
          <p:cNvPicPr/>
          <p:nvPr/>
        </p:nvPicPr>
        <p:blipFill>
          <a:blip r:embed="rId1"/>
          <a:stretch/>
        </p:blipFill>
        <p:spPr>
          <a:xfrm>
            <a:off x="4714920" y="4000680"/>
            <a:ext cx="3429000" cy="24285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P1290849.JPG"/>
          <p:cNvPicPr/>
          <p:nvPr/>
        </p:nvPicPr>
        <p:blipFill>
          <a:blip r:embed="rId2"/>
          <a:stretch/>
        </p:blipFill>
        <p:spPr>
          <a:xfrm>
            <a:off x="571680" y="2286000"/>
            <a:ext cx="3429000" cy="24289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Основные направления НИРС и УИРС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0" y="78588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Работа с медицинской документацией, архивными материалами, анализ полученных данных, анкетирование пациентов, участие в экспериментах, более углубленное знакомство с экстренной и плановой хирургической патологией, овладение практическими хирургическими навы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Студенты помогают сотрудникам кафедры в научно-исследовательской работе, знакомятся с особенностями клинической картины у хирургических больных, готовят и выступают с докладами по актуальным вопросам хирургии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19" name="Рисунок 3" descr="x_8929a059.jpg"/>
          <p:cNvPicPr/>
          <p:nvPr/>
        </p:nvPicPr>
        <p:blipFill>
          <a:blip r:embed="rId2"/>
          <a:stretch/>
        </p:blipFill>
        <p:spPr>
          <a:xfrm>
            <a:off x="5143680" y="3429000"/>
            <a:ext cx="3643200" cy="23572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P1290864.JPG"/>
          <p:cNvPicPr/>
          <p:nvPr/>
        </p:nvPicPr>
        <p:blipFill>
          <a:blip r:embed="rId3"/>
          <a:stretch/>
        </p:blipFill>
        <p:spPr>
          <a:xfrm>
            <a:off x="285840" y="3429000"/>
            <a:ext cx="3643200" cy="23572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6" descr="P1290865.JPG"/>
          <p:cNvPicPr/>
          <p:nvPr/>
        </p:nvPicPr>
        <p:blipFill>
          <a:blip r:embed="rId4"/>
          <a:stretch/>
        </p:blipFill>
        <p:spPr>
          <a:xfrm>
            <a:off x="2428920" y="4357800"/>
            <a:ext cx="3643200" cy="23572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124" name="Содержимое 7" descr="x_9f3de834.jpg"/>
          <p:cNvPicPr/>
          <p:nvPr/>
        </p:nvPicPr>
        <p:blipFill>
          <a:blip r:embed="rId2"/>
          <a:stretch/>
        </p:blipFill>
        <p:spPr>
          <a:xfrm>
            <a:off x="4767120" y="0"/>
            <a:ext cx="4376880" cy="2843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x_370a7bd7.jpg"/>
          <p:cNvPicPr/>
          <p:nvPr/>
        </p:nvPicPr>
        <p:blipFill>
          <a:blip r:embed="rId3"/>
          <a:stretch/>
        </p:blipFill>
        <p:spPr>
          <a:xfrm>
            <a:off x="0" y="0"/>
            <a:ext cx="4357800" cy="28576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9" descr="x_52958ca5.jpg"/>
          <p:cNvPicPr/>
          <p:nvPr/>
        </p:nvPicPr>
        <p:blipFill>
          <a:blip r:embed="rId4"/>
          <a:stretch/>
        </p:blipFill>
        <p:spPr>
          <a:xfrm>
            <a:off x="4786200" y="3786120"/>
            <a:ext cx="4357800" cy="30718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0" descr="x_a7a0ef3d.jpg"/>
          <p:cNvPicPr/>
          <p:nvPr/>
        </p:nvPicPr>
        <p:blipFill>
          <a:blip r:embed="rId5"/>
          <a:stretch/>
        </p:blipFill>
        <p:spPr>
          <a:xfrm>
            <a:off x="0" y="3786120"/>
            <a:ext cx="4357800" cy="30718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1" descr="sbotnici_sovremennie.jpg"/>
          <p:cNvPicPr/>
          <p:nvPr/>
        </p:nvPicPr>
        <p:blipFill>
          <a:blip r:embed="rId6"/>
          <a:stretch/>
        </p:blipFill>
        <p:spPr>
          <a:xfrm>
            <a:off x="2357280" y="1785960"/>
            <a:ext cx="435780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9:12:36Z</dcterms:created>
  <dc:creator>Настя</dc:creator>
  <dc:description/>
  <dc:language>en-US</dc:language>
  <cp:lastModifiedBy>LEGION</cp:lastModifiedBy>
  <dcterms:modified xsi:type="dcterms:W3CDTF">2014-11-06T13:43:15Z</dcterms:modified>
  <cp:revision>34</cp:revision>
  <dc:subject/>
  <dc:title>СНО</dc:title>
</cp:coreProperties>
</file>