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4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7462-D54F-4B7B-BE13-7FAB1CEAD3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госпитальной хир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0B76-F691-4ED7-97AD-76CE0F0CDA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н проведения заседаний СНК в 2010 – 2011 гг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На кафедре запланировано на текущий учебный год 6 заседаний СНК (ежемесяч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планировано подготовить 2 – 3 доклада на итоговую научную студенческую конференцию и подготовить 2 – 3 статьи в студенческий сбор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E075-D20F-4E97-AC13-62333F1D07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Calibri"/>
              </a:rPr>
              <a:t>На заседаниях кружка обсуждаются темы, посвященные наиболее актуальным вопросам экстренной и плановой хирургии, малоинвазивные технологии в хирург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болевания щитовидной желе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Грыжи передней брюшной стенки: традиционные грыжесечения, грыжесечения с применением сетчатых эндопроте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оказания к консервативным и оперативным методам при остром панкреатите, выбор тактики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Язвенные гастродуоденальные кровот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Кровотечения из варикознорасширенных вен пище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Малоинвазивные доступы в сосудистой хир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6E90-7B7B-4590-A4AB-B429F63B15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спективы дальнейшего развития и совершенств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Будет уделено внимание методологии проведения научно-исследовательской работы, более широкому знакомству студентов с пациентами с хирургической патоло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00BD-912D-4B1A-BD93-D1C70E975F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ый стен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F36E-777B-49BD-BDF7-4A80F63224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тактные данны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Адрес: г.Ярославль, Тутаевское шоссе, д.95, клиническая больница №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Телефон: 54-27-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5C1F-6D9B-4806-9D36-06C03A14E6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ЖДЕМ ВСЕХ ЖЕЛАЮЩИХ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0D10-F509-47F0-B08D-E4660C94FF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федра госпитальной хирур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ведующий кафедрой: д.м.н., професс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В.В Рыбач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Руководитель СНК: д.м.н., професс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И.Г. Дряже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редседатель СНК: А.А. Уткина 7 группа, </a:t>
            </a:r>
            <a:r>
              <a:rPr b="0" lang="en-US" sz="1200" spc="-1" strike="noStrike">
                <a:solidFill>
                  <a:srgbClr val="e46c0a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курс, лечебный факуль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Староста СНК: М.К. Костюченко 7 группа, </a:t>
            </a:r>
            <a:r>
              <a:rPr b="0" lang="en-US" sz="1200" spc="-1" strike="noStrike">
                <a:solidFill>
                  <a:srgbClr val="e46c0a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курс, лечебный факуль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Ответственный за работу молодых ученых: д.м.н., профессор   Н.Е. Рудн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C9C2-64E0-4DD3-9AD3-8080927187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я СНК кафед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Первым заведующим кафедрой госпитальной хирургии с 1944 по 1950 г. был профессор И.М.Перельман. На кафедре в то время уделялось большое внимание вопросам неотложной хирургии брюшной полости и изучению заболеваний сердечно-сосудистой системы.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  С 1950 по 1951 г. кафедру возглавлял профессор А.А.Бусалов - ученик и воспитанник школы академика С.А.Спасокукоцкого. Основное внимание на кафедре было уделено вопросам хирургии желудка и гнойной хирургии легких. 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  С 1952 по 1954 г. кафедру госпитальной хирургии возглавляла доцент Е.В.Карпова - опытный клиницист, крупный специалист в абдоминальной хирургии и хирургии щитовидной железы. 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1588-2003-4D6F-A401-4567F1D586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1955 по I960 г. кафедрой заведовал профессор А.А.Троицкий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С 1960 по 1961 г. кафедру возглавил профессор В.П.Матешук. За этот, сравнительно короткий период времени на кафедре разрабатывались вопросы применения однорядного внутриузелкового шва в абдоминальной хирургии, техника выполнения, его показания к применению при различных операциях на органах брюшной полости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С 1961 по 1973 г. клинику госпитальной хирургии возглавлял Заслуженный деятель науки БССР профессор А.К.Шипов. Под его руководством на кафедре был сконструирован гипотерм и проведен ряд сложных операций под общей гипотерм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4CA0-248F-4E3E-801F-BAD6CC8D54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1974 по 1999 г. кафедру возглавлял профессор Ю.Н.Белокуров. Под его руководством организован один из первых в стране межобластных центров гипербарической оксигенации и защищено 36 диссертаций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  С 1999 г. кафедрой заведует профессор В.В.Рыбачков.  Под его руководством защищено 2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диссертаций из них 5 докторс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создания кафедры и по на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дни на ней функционирует СН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Благодаря которому студенты 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углубленно изучают акту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вопросы хирургии, овладе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практическими хирургичес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навыками, занимаются научно-исследовательской деятель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B4BF-9FDE-46E3-8C6D-0D2D980A8A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и задачи СН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ознакомить студентов с основами научно-исследовательской работы в хирургической прак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3055-F0EE-4BF1-9A39-95DCF43E28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НИРС и УИР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Работа с медицинской документацией, архивными материалами, анализ полученных данных, анкетирование пациентов, участие в экспериментах, более углубленное знакомство с экстренной и плановой хирургической патологией, овладение практическими хирургическими навы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8458-9CC2-4BCF-8EC8-BA170691B2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Студенты помогают сотрудникам кафедры в научно-исследовательской работе, знакомятся с особенностями клинической картины у хирургических больных, готовят и выступают с докладами по актуальным вопросам хиру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36A4-E5EC-4F1F-8721-B1B449CE26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BCA-49B7-4577-990B-B99FD17B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A0E-3A85-403D-BFDA-4EB8D3F6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611-6815-412A-A1E2-7C5D2142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F2E-7F1B-43A9-B336-0F464533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A1E1-5C6A-4B76-8D88-462FA5EE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F518-9413-4029-8973-B849B8C1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EABE-9A6F-4974-A2AB-6E656DA7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E860-F818-47FA-A577-6B97BDFE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0A4F-4E74-48D7-90A5-82156842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1625-A172-44E8-B519-0A3C1509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9213-701E-4161-B0D7-91CFAE0C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7C1-CD79-4DDA-813A-670EF85D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A9E1-570E-4D0A-B599-A8107B5B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76FE-90E6-4C90-8467-C7C14D2D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C5AF-1906-4EB5-A71F-A4ABDFBF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AFCC-1265-45AF-9485-FDB53515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826D-E5E0-4874-8057-940CAECE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6E5-C158-4ABA-AECC-DF0ED9A3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E2FC-3BE5-4105-8C2D-806BE89C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1C0-11C5-4452-ADCA-F318379F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70F-D931-4192-8A85-3CC22EB4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1F5-4216-4646-8F33-3F5566F3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09F-851A-4B77-98C2-85EE5EEC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DFE-E28E-4106-BA8C-CEB8372B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A528-CAF7-4648-B7F0-B8F703E04D9E}" type="slidenum">
              <a:rPr b="1" lang="en-US" sz="10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4EC3-78FD-40D7-8EF7-C5BF0B1DDB5B}" type="slidenum">
              <a:rPr b="0" lang="en-US" sz="10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5.gif"/><Relationship Id="rId6" Type="http://schemas.openxmlformats.org/officeDocument/2006/relationships/image" Target="../media/image24.gif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6699"/>
                </a:solidFill>
                <a:latin typeface="Impact"/>
              </a:rPr>
              <a:t>СНК</a:t>
            </a:r>
            <a:endParaRPr b="0" lang="en-US" sz="96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0" name="Подзаголовок 6" descr=""/>
          <p:cNvPicPr/>
          <p:nvPr/>
        </p:nvPicPr>
        <p:blipFill>
          <a:blip r:embed="rId1"/>
          <a:stretch/>
        </p:blipFill>
        <p:spPr>
          <a:xfrm>
            <a:off x="-23760" y="2189160"/>
            <a:ext cx="9375840" cy="2279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ems_star_shimmering_hg_clr"/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Impact"/>
              </a:rPr>
              <a:t>План проведения заседаний СНК в 2010 – 2011 гг:</a:t>
            </a:r>
            <a:endParaRPr b="0" lang="en-US" sz="32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На кафедре запланировано на текущий учебный год 6 заседаний СНК (ежемесячно)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Запланировано подготовить 2 – 3 доклада на итоговую научную студенческую конференцию и подготовить 2 – 3 статьи в студенческий сборник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00" y="28584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На заседаниях кружка обсуждаются темы, посвященные наиболее актуальным вопросам экстренной и плановой хирургии, малоинвазивные технологии в хирургии:</a:t>
            </a:r>
            <a:endParaRPr b="0" lang="en-US" sz="28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Заболевания щитовидной железы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Грыжи передней брюшной стенки: традиционные грыжесечения, грыжесечения с применением сетчатых эндопротезов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оказания к консервативным и оперативным методам при остром панкреатите, выбор тактики лечения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Язвенные гастродуоденальные кровотечения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Кровотечения из варикознорасширенных вен пищевода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Малоинвазивные доступы в сосудистой хирургии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Impact"/>
              </a:rPr>
              <a:t>Перспективы дальнейшего развития и совершенствования:</a:t>
            </a:r>
            <a:endParaRPr b="0" lang="en-US" sz="32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Будет уделено внимание методологии проведения научно-исследовательской работы, более широкому знакомству студентов с пациентами с хирургической патологией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Информационный стенд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41" name="Рисунок 4" descr="P1290846.JPG"/>
          <p:cNvPicPr/>
          <p:nvPr/>
        </p:nvPicPr>
        <p:blipFill>
          <a:blip r:embed="rId2"/>
          <a:stretch/>
        </p:blipFill>
        <p:spPr>
          <a:xfrm>
            <a:off x="0" y="7858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Контактные данные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Адрес: г.Ярославль, Тутаевское шоссе, д.95, клиническая больница №9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Телефон: 54-27-64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40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7" name="Picture 91" descr="medical_hero_sld"/>
          <p:cNvPicPr/>
          <p:nvPr/>
        </p:nvPicPr>
        <p:blipFill>
          <a:blip r:embed="rId1"/>
          <a:stretch/>
        </p:blipFill>
        <p:spPr>
          <a:xfrm>
            <a:off x="2411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2" descr="medical_hero_trs"/>
          <p:cNvPicPr/>
          <p:nvPr/>
        </p:nvPicPr>
        <p:blipFill>
          <a:blip r:embed="rId2"/>
          <a:stretch/>
        </p:blipFill>
        <p:spPr>
          <a:xfrm>
            <a:off x="4670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3" descr="medical_hero_prt"/>
          <p:cNvPicPr/>
          <p:nvPr/>
        </p:nvPicPr>
        <p:blipFill>
          <a:blip r:embed="rId3"/>
          <a:stretch/>
        </p:blipFill>
        <p:spPr>
          <a:xfrm>
            <a:off x="6929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4" descr="medical_hero_qx"/>
          <p:cNvPicPr/>
          <p:nvPr/>
        </p:nvPicPr>
        <p:blipFill>
          <a:blip r:embed="rId4"/>
          <a:stretch/>
        </p:blipFill>
        <p:spPr>
          <a:xfrm>
            <a:off x="152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5" descr="ems_rotating"/>
          <p:cNvPicPr/>
          <p:nvPr/>
        </p:nvPicPr>
        <p:blipFill>
          <a:blip r:embed="rId5"/>
          <a:stretch/>
        </p:blipFill>
        <p:spPr>
          <a:xfrm>
            <a:off x="5943600" y="3657600"/>
            <a:ext cx="3029040" cy="3029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6" descr="ems_star_shimmering_hg_clr"/>
          <p:cNvPicPr/>
          <p:nvPr/>
        </p:nvPicPr>
        <p:blipFill>
          <a:blip r:embed="rId6"/>
          <a:stretch/>
        </p:blipFill>
        <p:spPr>
          <a:xfrm>
            <a:off x="152280" y="363852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2071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22268"/>
                </a:solidFill>
                <a:latin typeface="Impact"/>
              </a:rPr>
              <a:t>ЖДЕМ ВСЕХ ЖЕЛАЮЩИХ!</a:t>
            </a:r>
            <a:endParaRPr b="1" lang="en-US" sz="66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54" name="Рисунок 10" descr="P1290850.JPG"/>
          <p:cNvPicPr/>
          <p:nvPr/>
        </p:nvPicPr>
        <p:blipFill>
          <a:blip r:embed="rId7"/>
          <a:stretch/>
        </p:blipFill>
        <p:spPr>
          <a:xfrm>
            <a:off x="2286000" y="142920"/>
            <a:ext cx="2214720" cy="1571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1" descr="P1290853.JPG"/>
          <p:cNvPicPr/>
          <p:nvPr/>
        </p:nvPicPr>
        <p:blipFill>
          <a:blip r:embed="rId8"/>
          <a:stretch/>
        </p:blipFill>
        <p:spPr>
          <a:xfrm>
            <a:off x="4643280" y="142920"/>
            <a:ext cx="2143440" cy="15717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4" descr="P1290843.JPG"/>
          <p:cNvPicPr/>
          <p:nvPr/>
        </p:nvPicPr>
        <p:blipFill>
          <a:blip r:embed="rId9"/>
          <a:stretch/>
        </p:blipFill>
        <p:spPr>
          <a:xfrm>
            <a:off x="142920" y="142920"/>
            <a:ext cx="2071800" cy="15717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5" descr="P1290849.JPG"/>
          <p:cNvPicPr/>
          <p:nvPr/>
        </p:nvPicPr>
        <p:blipFill>
          <a:blip r:embed="rId10"/>
          <a:stretch/>
        </p:blipFill>
        <p:spPr>
          <a:xfrm>
            <a:off x="6929280" y="142920"/>
            <a:ext cx="2071800" cy="15717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99"/>
                </a:solidFill>
                <a:latin typeface="Impact"/>
              </a:rPr>
              <a:t>Кафедра госпитальной хирургии</a:t>
            </a:r>
            <a:endParaRPr b="0" lang="en-US" sz="48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4" name="Picture 22" descr="ems_rotating"/>
          <p:cNvPicPr/>
          <p:nvPr/>
        </p:nvPicPr>
        <p:blipFill>
          <a:blip r:embed="rId1"/>
          <a:stretch/>
        </p:blipFill>
        <p:spPr>
          <a:xfrm>
            <a:off x="2905200" y="195264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Заведующий кафедрой: д.м.н., профессор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В.В Рыбачко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Руководитель СНК: д.м.н., профессор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И.Г. Дряженко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Председатель СНК: А.А. Уткина 7 группа, </a:t>
            </a:r>
            <a:r>
              <a:rPr b="1" lang="en-US" sz="2800" spc="-1" strike="noStrike">
                <a:solidFill>
                  <a:srgbClr val="222268"/>
                </a:solidFill>
                <a:latin typeface="Tahoma"/>
              </a:rPr>
              <a:t>VI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курс, лечебный факультет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Староста СНК: М.К. Костюченко 7 группа, </a:t>
            </a:r>
            <a:r>
              <a:rPr b="1" lang="en-US" sz="2800" spc="-1" strike="noStrike">
                <a:solidFill>
                  <a:srgbClr val="222268"/>
                </a:solidFill>
                <a:latin typeface="Tahoma"/>
              </a:rPr>
              <a:t>VI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курс, лечебный факультет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Ответственный за работу молодых ученых: д.м.н., профессор   Н.Е. Рудне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История СНК кафедры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8" name="Picture 22" descr="ems_rotating"/>
          <p:cNvPicPr/>
          <p:nvPr/>
        </p:nvPicPr>
        <p:blipFill>
          <a:blip r:embed="rId1"/>
          <a:stretch/>
        </p:blipFill>
        <p:spPr>
          <a:xfrm>
            <a:off x="2905200" y="195264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ервым заведующим кафедрой госпитальной хирургии с 1944 по 1950 г. был профессор И.М.Перельман. На кафедре в то время уделялось большое внимание вопросам неотложной хирургии брюшной полости и изучению заболеваний сердечно-сосудистой системы.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С 1950 по 1951 г. кафедру возглавлял профессор А.А.Бусалов - ученик и воспитанник школы академика С.А.Спасокукоцкого. Основное внимание на кафедре было уделено вопросам хирургии желудка и гнойной хирургии легких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 С 1952 по 1954 г. кафедру госпитальной хирургии возглавляла доцент Е.В.Карпова - опытный клиницист, крупный специалист в абдоминальной хирургии и хирургии щитовидной железы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78552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Tahoma"/>
              </a:rPr>
              <a:t> 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785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1955 по I960 г. кафедрой заведовал профессор А.А.Троицки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С 1960 по 1961 г. кафедру возглавил профессор В.П.Матешук. За этот, сравнительно короткий период времени на кафедре разрабатывались вопросы применения однорядного внутриузелкового шва в абдоминальной хирургии, техника выполнения, его показания к применению при различных операциях на органах брюшной полости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С 1961 по 1973 г. клинику госпитальной хирургии возглавлял Заслуженный деятель науки БССР профессор А.К.Шипов. Под его руководством на кафедре был сконструирован гипотерм и проведен ряд сложных операций под общей гипотермие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0" y="785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1974 по 1999 г. кафедру возглавлял профессор Ю.Н.Белокуров. Под его руководством организован один из первых в стране межобластных центров гипербарической оксигенации и защищено 36 диссертаци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 С 1999 г. кафедрой заведует профессор В.В.Рыбачков.  Под его руководством защищено 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диссертаций из них 5 доктор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создания кафедры и по на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дни на ней функционирует СН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Благодаря которому студенты 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углубленно изучают акту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вопросы хирургии, овладе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рактическими хирург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навыками, занимаются научно-исследовательской деяте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P1290845.JPG"/>
          <p:cNvPicPr/>
          <p:nvPr/>
        </p:nvPicPr>
        <p:blipFill>
          <a:blip r:embed="rId1"/>
          <a:stretch/>
        </p:blipFill>
        <p:spPr>
          <a:xfrm>
            <a:off x="6643800" y="3357720"/>
            <a:ext cx="2071440" cy="2714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Цели и задачи СНК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Познакомить студентов с основами научно-исследовательской работы в хирургической практике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1" name="Рисунок 4" descr="P1290852.JPG"/>
          <p:cNvPicPr/>
          <p:nvPr/>
        </p:nvPicPr>
        <p:blipFill>
          <a:blip r:embed="rId1"/>
          <a:stretch/>
        </p:blipFill>
        <p:spPr>
          <a:xfrm>
            <a:off x="4714920" y="4000680"/>
            <a:ext cx="3429000" cy="24285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P1290849.JPG"/>
          <p:cNvPicPr/>
          <p:nvPr/>
        </p:nvPicPr>
        <p:blipFill>
          <a:blip r:embed="rId2"/>
          <a:stretch/>
        </p:blipFill>
        <p:spPr>
          <a:xfrm>
            <a:off x="571680" y="2286000"/>
            <a:ext cx="342900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Основные направления НИРС и УИРС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0" y="7858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Работа с медицинской документацией, архивными материалами, анализ полученных данных, анкетирование пациентов, участие в экспериментах, более углубленное знакомство с экстренной и плановой хирургической патологией, овладение практическими хирургическими навы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Студенты помогают сотрудникам кафедры в научно-исследовательской работе, знакомятся с особенностями клинической картины у хирургических больных, готовят и выступают с докладами по актуальным вопросам хирургии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9" name="Рисунок 3" descr="x_8929a059.jpg"/>
          <p:cNvPicPr/>
          <p:nvPr/>
        </p:nvPicPr>
        <p:blipFill>
          <a:blip r:embed="rId2"/>
          <a:stretch/>
        </p:blipFill>
        <p:spPr>
          <a:xfrm>
            <a:off x="5143680" y="342900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P1290864.JPG"/>
          <p:cNvPicPr/>
          <p:nvPr/>
        </p:nvPicPr>
        <p:blipFill>
          <a:blip r:embed="rId3"/>
          <a:stretch/>
        </p:blipFill>
        <p:spPr>
          <a:xfrm>
            <a:off x="285840" y="342900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P1290865.JPG"/>
          <p:cNvPicPr/>
          <p:nvPr/>
        </p:nvPicPr>
        <p:blipFill>
          <a:blip r:embed="rId4"/>
          <a:stretch/>
        </p:blipFill>
        <p:spPr>
          <a:xfrm>
            <a:off x="2428920" y="435780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124" name="Содержимое 7" descr="x_9f3de834.jpg"/>
          <p:cNvPicPr/>
          <p:nvPr/>
        </p:nvPicPr>
        <p:blipFill>
          <a:blip r:embed="rId2"/>
          <a:stretch/>
        </p:blipFill>
        <p:spPr>
          <a:xfrm>
            <a:off x="4767120" y="0"/>
            <a:ext cx="4376880" cy="2843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x_370a7bd7.jpg"/>
          <p:cNvPicPr/>
          <p:nvPr/>
        </p:nvPicPr>
        <p:blipFill>
          <a:blip r:embed="rId3"/>
          <a:stretch/>
        </p:blipFill>
        <p:spPr>
          <a:xfrm>
            <a:off x="0" y="0"/>
            <a:ext cx="4357800" cy="28576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x_52958ca5.jpg"/>
          <p:cNvPicPr/>
          <p:nvPr/>
        </p:nvPicPr>
        <p:blipFill>
          <a:blip r:embed="rId4"/>
          <a:stretch/>
        </p:blipFill>
        <p:spPr>
          <a:xfrm>
            <a:off x="4786200" y="3786120"/>
            <a:ext cx="4357800" cy="30718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x_a7a0ef3d.jpg"/>
          <p:cNvPicPr/>
          <p:nvPr/>
        </p:nvPicPr>
        <p:blipFill>
          <a:blip r:embed="rId5"/>
          <a:stretch/>
        </p:blipFill>
        <p:spPr>
          <a:xfrm>
            <a:off x="0" y="3786120"/>
            <a:ext cx="4357800" cy="30718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sbotnici_sovremennie.jpg"/>
          <p:cNvPicPr/>
          <p:nvPr/>
        </p:nvPicPr>
        <p:blipFill>
          <a:blip r:embed="rId6"/>
          <a:stretch/>
        </p:blipFill>
        <p:spPr>
          <a:xfrm>
            <a:off x="2357280" y="1785960"/>
            <a:ext cx="435780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9:12:36Z</dcterms:created>
  <dc:creator>Настя</dc:creator>
  <dc:description/>
  <dc:language>en-US</dc:language>
  <cp:lastModifiedBy>LEGION</cp:lastModifiedBy>
  <dcterms:modified xsi:type="dcterms:W3CDTF">2014-11-06T13:43:15Z</dcterms:modified>
  <cp:revision>34</cp:revision>
  <dc:subject/>
  <dc:title>СНО</dc:title>
</cp:coreProperties>
</file>