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gif" ContentType="image/gif"/>
  <Override PartName="/ppt/media/image14.jpeg" ContentType="image/jpeg"/>
  <Override PartName="/ppt/media/image13.jpeg" ContentType="image/jpeg"/>
  <Override PartName="/ppt/media/image4.png" ContentType="image/png"/>
  <Override PartName="/ppt/media/image24.gif" ContentType="image/gif"/>
  <Override PartName="/ppt/media/image26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Impact"/>
              </a:rPr>
              <a:t>Click to move the slide</a:t>
            </a: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0F02-5370-4AF5-9DC9-6F72856E075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Н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федра госпитальной хиру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3DBF-7951-4A24-85B4-5A04EEBBC7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лан проведения заседаний СНК в 2010 – 2011 гг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На кафедре запланировано на текущий учебный год 6 заседаний СНК (ежемесячн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Запланировано подготовить 2 – 3 доклада на итоговую научную студенческую конференцию и подготовить 2 – 3 статьи в студенческий сбор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D6E2-A345-408A-BA31-5EA9752230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46c0a"/>
                </a:solidFill>
                <a:latin typeface="Calibri"/>
              </a:rPr>
              <a:t>На заседаниях кружка обсуждаются темы, посвященные наиболее актуальным вопросам экстренной и плановой хирургии, малоинвазивные технологии в хирурги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Заболевания щитовидной желе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Грыжи передней брюшной стенки: традиционные грыжесечения, грыжесечения с применением сетчатых эндопротез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Показания к консервативным и оперативным методам при остром панкреатите, выбор тактики ле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Язвенные гастродуоденальные кровоте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Кровотечения из варикознорасширенных вен пищев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Малоинвазивные доступы в сосудистой хиру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7656-411C-4848-94D3-ABAB53B121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ерспективы дальнейшего развития и совершенствова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Будет уделено внимание методологии проведения научно-исследовательской работы, более широкому знакомству студентов с пациентами с хирургической патолог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E0D1-901C-4F31-A6BF-1D137855FE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формационный стенд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91F3-8A50-430D-BAA4-49D821CF9C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тактные данны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Адрес: г.Ярославль, Тутаевское шоссе, д.95, клиническая больница №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Телефон: 54-27-6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5A13-2581-44C1-8B65-D44004F57B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ЖДЕМ ВСЕХ ЖЕЛАЮЩИХ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F64B-13E4-4165-B464-F78E8E59F4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федра госпитальной хирур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Заведующий кафедрой: д.м.н., профессо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В.В Рыбач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Руководитель СНК: д.м.н., профессо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И.Г. Дряже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Председатель СНК: А.А. Уткина 7 группа, </a:t>
            </a:r>
            <a:r>
              <a:rPr b="0" lang="en-US" sz="1200" spc="-1" strike="noStrike">
                <a:solidFill>
                  <a:srgbClr val="e46c0a"/>
                </a:solidFill>
                <a:latin typeface="Calibri"/>
              </a:rPr>
              <a:t>VI</a:t>
            </a: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 курс, лечебный факуль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Староста СНК: М.К. Костюченко 7 группа, </a:t>
            </a:r>
            <a:r>
              <a:rPr b="0" lang="en-US" sz="1200" spc="-1" strike="noStrike">
                <a:solidFill>
                  <a:srgbClr val="e46c0a"/>
                </a:solidFill>
                <a:latin typeface="Calibri"/>
              </a:rPr>
              <a:t>VI</a:t>
            </a: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 курс, лечебный факуль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Ответственный за работу молодых ученых: д.м.н., профессор   Н.Е. Рудн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4BF2-9B5B-4747-B07D-A9926EF9C7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тория СНК кафедр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Первым заведующим кафедрой госпитальной хирургии с 1944 по 1950 г. был профессор И.М.Перельман. На кафедре в то время уделялось большое внимание вопросам неотложной хирургии брюшной полости и изучению заболеваний сердечно-сосудистой системы.</a:t>
            </a:r>
            <a:br>
              <a:rPr sz="1200"/>
            </a:b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     С 1950 по 1951 г. кафедру возглавлял профессор А.А.Бусалов - ученик и воспитанник школы академика С.А.Спасокукоцкого. Основное внимание на кафедре было уделено вопросам хирургии желудка и гнойной хирургии легких. </a:t>
            </a:r>
            <a:br>
              <a:rPr sz="1200"/>
            </a:b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     С 1952 по 1954 г. кафедру госпитальной хирургии возглавляла доцент Е.В.Карпова - опытный клиницист, крупный специалист в абдоминальной хирургии и хирургии щитовидной железы. </a:t>
            </a:r>
            <a:br>
              <a:rPr sz="1200"/>
            </a:b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 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B044-0264-4847-8C5A-DFFBF75683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С 1955 по I960 г. кафедрой заведовал профессор А.А.Троицкий. </a:t>
            </a:r>
            <a:br>
              <a:rPr sz="1200"/>
            </a:b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    С 1960 по 1961 г. кафедру возглавил профессор В.П.Матешук. За этот, сравнительно короткий период времени на кафедре разрабатывались вопросы применения однорядного внутриузелкового шва в абдоминальной хирургии, техника выполнения, его показания к применению при различных операциях на органах брюшной полости. </a:t>
            </a:r>
            <a:br>
              <a:rPr sz="1200"/>
            </a:b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    С 1961 по 1973 г. клинику госпитальной хирургии возглавлял Заслуженный деятель науки БССР профессор А.К.Шипов. Под его руководством на кафедре был сконструирован гипотерм и проведен ряд сложных операций под общей гипотерм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0C12-1EEB-42CB-82F4-5C11936DC8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С 1974 по 1999 г. кафедру возглавлял профессор Ю.Н.Белокуров. Под его руководством организован один из первых в стране межобластных центров гипербарической оксигенации и защищено 36 диссертаций. </a:t>
            </a:r>
            <a:br>
              <a:rPr sz="1200"/>
            </a:b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      С 1999 г. кафедрой заведует профессор В.В.Рыбачков.  Под его руководством защищено 2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диссертаций из них 5 докторск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С создания кафедры и по наш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дни на ней функционирует СН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Благодаря которому студенты боле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углубленно изучают актуаль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вопросы хирургии, овладев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практическими хирургически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навыками, занимаются научно-исследовательской деятель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4A88-C306-4B8F-A082-7C27D6A3E0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и и задачи СНК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Познакомить студентов с основами научно-исследовательской работы в хирургической практ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1439-9DA9-4532-8325-CF5E71439B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 НИРС и УИР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Работа с медицинской документацией, архивными материалами, анализ полученных данных, анкетирование пациентов, участие в экспериментах, более углубленное знакомство с экстренной и плановой хирургической патологией, овладение практическими хирургическими навы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DF41-89DE-4FBD-B61E-D7B07190B1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Студенты помогают сотрудникам кафедры в научно-исследовательской работе, знакомятся с особенностями клинической картины у хирургических больных, готовят и выступают с докладами по актуальным вопросам хирур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4F2B-B99C-4E0D-902A-637C6EE383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7150-D755-4132-BBD1-0CAE77DFB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74688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0CCF-56C8-4F16-8C20-266E4835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625D-5A79-4A4E-B800-0BBF7064F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74688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74688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74688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5990-B46A-4EE3-ACE2-7F3D90319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1E7D-9A69-46F1-94C9-EC23C2A7D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F953-7B40-43DA-AEEE-7F0FD502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F870-F048-487E-BF1D-7F96079F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D4C8-1560-457B-9C91-ED5353E5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5998-25C9-4450-B3E1-0B5F12664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DC21-66F4-4B37-87ED-1C24CB9D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F5A0-AC2B-44E0-A672-F3337889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C8B7-7FBE-4BB9-9385-647204CF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DEFB-EBC8-4088-B199-B791F611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74688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D0CF-94B2-426B-99C3-13E61E73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74688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ABEB-E71D-459A-8E52-1DC88FE4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C76C-CBC1-4C0D-912E-74A71A507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74688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374688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374688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FC03-4B6A-4B8B-9266-8A5321C75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33EB-9AA4-443F-91A7-D5A55E65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A86E-59DC-4D3E-B14E-EE7BE50C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1A67-9C67-4D02-B26E-ABF7B6F56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793B-6E57-424C-8717-B133FC1A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907A-7C92-4F39-9F34-8CE018C0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723E-EABF-4F77-8442-93E98319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74688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B5BA-B0D3-43CD-8492-95ECD259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66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66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12CC-F680-41BB-B253-2491710BE40C}" type="slidenum">
              <a:rPr b="1" lang="en-US" sz="1000" spc="-1" strike="noStrike">
                <a:solidFill>
                  <a:srgbClr val="3366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 Black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D3C8-0F82-4684-B73C-19DF52626DF2}" type="slidenum">
              <a:rPr b="0" lang="en-US" sz="1000" spc="-1" strike="noStrike">
                <a:solidFill>
                  <a:srgbClr val="336699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5.gif"/><Relationship Id="rId6" Type="http://schemas.openxmlformats.org/officeDocument/2006/relationships/image" Target="../media/image24.gif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428760"/>
            <a:ext cx="91440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336699"/>
                </a:solidFill>
                <a:latin typeface="Impact"/>
              </a:rPr>
              <a:t>СНК</a:t>
            </a:r>
            <a:endParaRPr b="0" lang="en-US" sz="9600" spc="-1" strike="noStrike">
              <a:solidFill>
                <a:srgbClr val="336699"/>
              </a:solidFill>
              <a:latin typeface="Impact"/>
            </a:endParaRPr>
          </a:p>
        </p:txBody>
      </p:sp>
      <p:pic>
        <p:nvPicPr>
          <p:cNvPr id="90" name="Подзаголовок 6" descr=""/>
          <p:cNvPicPr/>
          <p:nvPr/>
        </p:nvPicPr>
        <p:blipFill>
          <a:blip r:embed="rId1"/>
          <a:stretch/>
        </p:blipFill>
        <p:spPr>
          <a:xfrm>
            <a:off x="-23760" y="2189160"/>
            <a:ext cx="9375840" cy="2279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ems_star_shimmering_hg_clr"/>
          <p:cNvPicPr/>
          <p:nvPr/>
        </p:nvPicPr>
        <p:blipFill>
          <a:blip r:embed="rId2"/>
          <a:stretch/>
        </p:blipFill>
        <p:spPr>
          <a:xfrm>
            <a:off x="22860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 Black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Impact"/>
              </a:rPr>
              <a:t>План проведения заседаний СНК в 2010 – 2011 гг:</a:t>
            </a:r>
            <a:endParaRPr b="0" lang="en-US" sz="32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На кафедре запланировано на текущий учебный год 6 заседаний СНК (ежемесячно).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Запланировано подготовить 2 – 3 доклада на итоговую научную студенческую конференцию и подготовить 2 – 3 статьи в студенческий сборник.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600" y="285840"/>
            <a:ext cx="91440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На заседаниях кружка обсуждаются темы, посвященные наиболее актуальным вопросам экстренной и плановой хирургии, малоинвазивные технологии в хирургии:</a:t>
            </a:r>
            <a:endParaRPr b="0" lang="en-US" sz="28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0" y="1785600"/>
            <a:ext cx="9144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22268"/>
              </a:buClr>
              <a:buSzPct val="20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Заболевания щитовидной железы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22268"/>
              </a:buClr>
              <a:buSzPct val="20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Грыжи передней брюшной стенки: традиционные грыжесечения, грыжесечения с применением сетчатых эндопротезов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22268"/>
              </a:buClr>
              <a:buSzPct val="20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Показания к консервативным и оперативным методам при остром панкреатите, выбор тактики лечения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22268"/>
              </a:buClr>
              <a:buSzPct val="20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Язвенные гастродуоденальные кровотечения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22268"/>
              </a:buClr>
              <a:buSzPct val="20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Кровотечения из варикознорасширенных вен пищевода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22268"/>
              </a:buClr>
              <a:buSzPct val="20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Малоинвазивные доступы в сосудистой хирургии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Impact"/>
              </a:rPr>
              <a:t>Перспективы дальнейшего развития и совершенствования:</a:t>
            </a:r>
            <a:endParaRPr b="0" lang="en-US" sz="32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Будет уделено внимание методологии проведения научно-исследовательской работы, более широкому знакомству студентов с пациентами с хирургической патологией.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Impact"/>
              </a:rPr>
              <a:t>Информационный стенд:</a:t>
            </a:r>
            <a:endParaRPr b="0" lang="en-US" sz="44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Your subtopic goes here</a:t>
            </a: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141" name="Рисунок 4" descr="P1290846.JPG"/>
          <p:cNvPicPr/>
          <p:nvPr/>
        </p:nvPicPr>
        <p:blipFill>
          <a:blip r:embed="rId2"/>
          <a:stretch/>
        </p:blipFill>
        <p:spPr>
          <a:xfrm>
            <a:off x="0" y="7858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Impact"/>
              </a:rPr>
              <a:t>Контактные данные:</a:t>
            </a:r>
            <a:endParaRPr b="0" lang="en-US" sz="44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Адрес: г.Ярославль, Тутаевское шоссе, д.95, клиническая больница №9.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Телефон: 54-27-64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2406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47" name="Picture 91" descr="medical_hero_sld"/>
          <p:cNvPicPr/>
          <p:nvPr/>
        </p:nvPicPr>
        <p:blipFill>
          <a:blip r:embed="rId1"/>
          <a:stretch/>
        </p:blipFill>
        <p:spPr>
          <a:xfrm>
            <a:off x="2411280" y="152280"/>
            <a:ext cx="2062440" cy="1546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2" descr="medical_hero_trs"/>
          <p:cNvPicPr/>
          <p:nvPr/>
        </p:nvPicPr>
        <p:blipFill>
          <a:blip r:embed="rId2"/>
          <a:stretch/>
        </p:blipFill>
        <p:spPr>
          <a:xfrm>
            <a:off x="4670280" y="152280"/>
            <a:ext cx="2062440" cy="15462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3" descr="medical_hero_prt"/>
          <p:cNvPicPr/>
          <p:nvPr/>
        </p:nvPicPr>
        <p:blipFill>
          <a:blip r:embed="rId3"/>
          <a:stretch/>
        </p:blipFill>
        <p:spPr>
          <a:xfrm>
            <a:off x="6929280" y="152280"/>
            <a:ext cx="2062440" cy="1546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4" descr="medical_hero_qx"/>
          <p:cNvPicPr/>
          <p:nvPr/>
        </p:nvPicPr>
        <p:blipFill>
          <a:blip r:embed="rId4"/>
          <a:stretch/>
        </p:blipFill>
        <p:spPr>
          <a:xfrm>
            <a:off x="152280" y="152280"/>
            <a:ext cx="2062440" cy="1546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5" descr="ems_rotating"/>
          <p:cNvPicPr/>
          <p:nvPr/>
        </p:nvPicPr>
        <p:blipFill>
          <a:blip r:embed="rId5"/>
          <a:stretch/>
        </p:blipFill>
        <p:spPr>
          <a:xfrm>
            <a:off x="5943600" y="3657600"/>
            <a:ext cx="3029040" cy="3029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6" descr="ems_star_shimmering_hg_clr"/>
          <p:cNvPicPr/>
          <p:nvPr/>
        </p:nvPicPr>
        <p:blipFill>
          <a:blip r:embed="rId6"/>
          <a:stretch/>
        </p:blipFill>
        <p:spPr>
          <a:xfrm>
            <a:off x="152280" y="363852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0" y="20714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222268"/>
                </a:solidFill>
                <a:latin typeface="Impact"/>
              </a:rPr>
              <a:t>ЖДЕМ ВСЕХ ЖЕЛАЮЩИХ!</a:t>
            </a:r>
            <a:endParaRPr b="1" lang="en-US" sz="66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154" name="Рисунок 10" descr="P1290850.JPG"/>
          <p:cNvPicPr/>
          <p:nvPr/>
        </p:nvPicPr>
        <p:blipFill>
          <a:blip r:embed="rId7"/>
          <a:stretch/>
        </p:blipFill>
        <p:spPr>
          <a:xfrm>
            <a:off x="2286000" y="142920"/>
            <a:ext cx="2214720" cy="157176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1" descr="P1290853.JPG"/>
          <p:cNvPicPr/>
          <p:nvPr/>
        </p:nvPicPr>
        <p:blipFill>
          <a:blip r:embed="rId8"/>
          <a:stretch/>
        </p:blipFill>
        <p:spPr>
          <a:xfrm>
            <a:off x="4643280" y="142920"/>
            <a:ext cx="2143440" cy="157176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4" descr="P1290843.JPG"/>
          <p:cNvPicPr/>
          <p:nvPr/>
        </p:nvPicPr>
        <p:blipFill>
          <a:blip r:embed="rId9"/>
          <a:stretch/>
        </p:blipFill>
        <p:spPr>
          <a:xfrm>
            <a:off x="142920" y="142920"/>
            <a:ext cx="2071800" cy="157176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5" descr="P1290849.JPG"/>
          <p:cNvPicPr/>
          <p:nvPr/>
        </p:nvPicPr>
        <p:blipFill>
          <a:blip r:embed="rId10"/>
          <a:stretch/>
        </p:blipFill>
        <p:spPr>
          <a:xfrm>
            <a:off x="6929280" y="142920"/>
            <a:ext cx="2071800" cy="157176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 Black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6699"/>
                </a:solidFill>
                <a:latin typeface="Impact"/>
              </a:rPr>
              <a:t>Кафедра госпитальной хирургии</a:t>
            </a:r>
            <a:endParaRPr b="0" lang="en-US" sz="4800" spc="-1" strike="noStrike">
              <a:solidFill>
                <a:srgbClr val="336699"/>
              </a:solidFill>
              <a:latin typeface="Impact"/>
            </a:endParaRPr>
          </a:p>
        </p:txBody>
      </p:sp>
      <p:pic>
        <p:nvPicPr>
          <p:cNvPr id="94" name="Picture 22" descr="ems_rotating"/>
          <p:cNvPicPr/>
          <p:nvPr/>
        </p:nvPicPr>
        <p:blipFill>
          <a:blip r:embed="rId1"/>
          <a:stretch/>
        </p:blipFill>
        <p:spPr>
          <a:xfrm>
            <a:off x="2905200" y="195264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Заведующий кафедрой: д.м.н., профессор 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В.В Рыбачков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Руководитель СНК: д.м.н., профессор 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И.Г. Дряженков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Председатель СНК: А.А. Уткина 7 группа, </a:t>
            </a:r>
            <a:r>
              <a:rPr b="1" lang="en-US" sz="2800" spc="-1" strike="noStrike">
                <a:solidFill>
                  <a:srgbClr val="222268"/>
                </a:solidFill>
                <a:latin typeface="Tahoma"/>
              </a:rPr>
              <a:t>VI</a:t>
            </a: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 курс, лечебный факультет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Староста СНК: М.К. Костюченко 7 группа, </a:t>
            </a:r>
            <a:r>
              <a:rPr b="1" lang="en-US" sz="2800" spc="-1" strike="noStrike">
                <a:solidFill>
                  <a:srgbClr val="222268"/>
                </a:solidFill>
                <a:latin typeface="Tahoma"/>
              </a:rPr>
              <a:t>VI</a:t>
            </a: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 курс, лечебный факультет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Ответственный за работу молодых ученых: д.м.н., профессор   Н.Е. Руднев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Impact"/>
              </a:rPr>
              <a:t>История СНК кафедры:</a:t>
            </a:r>
            <a:endParaRPr b="0" lang="en-US" sz="4400" spc="-1" strike="noStrike">
              <a:solidFill>
                <a:srgbClr val="336699"/>
              </a:solidFill>
              <a:latin typeface="Impact"/>
            </a:endParaRPr>
          </a:p>
        </p:txBody>
      </p:sp>
      <p:pic>
        <p:nvPicPr>
          <p:cNvPr id="98" name="Picture 22" descr="ems_rotating"/>
          <p:cNvPicPr/>
          <p:nvPr/>
        </p:nvPicPr>
        <p:blipFill>
          <a:blip r:embed="rId1"/>
          <a:stretch/>
        </p:blipFill>
        <p:spPr>
          <a:xfrm>
            <a:off x="2905200" y="195264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        </a:t>
            </a: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Первым заведующим кафедрой госпитальной хирургии с 1944 по 1950 г. был профессор И.М.Перельман. На кафедре в то время уделялось большое внимание вопросам неотложной хирургии брюшной полости и изучению заболеваний сердечно-сосудистой системы.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    С 1950 по 1951 г. кафедру возглавлял профессор А.А.Бусалов - ученик и воспитанник школы академика С.А.Спасокукоцкого. Основное внимание на кафедре было уделено вопросам хирургии желудка и гнойной хирургии легких. 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    С 1952 по 1954 г. кафедру госпитальной хирургии возглавляла доцент Е.В.Карпова - опытный клиницист, крупный специалист в абдоминальной хирургии и хирургии щитовидной железы. 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  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0" y="785520"/>
            <a:ext cx="91440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Tahoma"/>
              </a:rPr>
              <a:t> </a:t>
            </a: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03" name="Прямоугольник 3"/>
          <p:cNvSpPr/>
          <p:nvPr/>
        </p:nvSpPr>
        <p:spPr>
          <a:xfrm>
            <a:off x="0" y="78588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С 1955 по I960 г. кафедрой заведовал профессор А.А.Троицкий. 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   С 1960 по 1961 г. кафедру возглавил профессор В.П.Матешук. За этот, сравнительно короткий период времени на кафедре разрабатывались вопросы применения однорядного внутриузелкового шва в абдоминальной хирургии, техника выполнения, его показания к применению при различных операциях на органах брюшной полости. 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   С 1961 по 1973 г. клинику госпитальной хирургии возглавлял Заслуженный деятель науки БССР профессор А.К.Шипов. Под его руководством на кафедре был сконструирован гипотерм и проведен ряд сложных операций под общей гипотермией. 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06" name="Прямоугольник 2"/>
          <p:cNvSpPr/>
          <p:nvPr/>
        </p:nvSpPr>
        <p:spPr>
          <a:xfrm>
            <a:off x="0" y="78588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С 1974 по 1999 г. кафедру возглавлял профессор Ю.Н.Белокуров. Под его руководством организован один из первых в стране межобластных центров гипербарической оксигенации и защищено 36 диссертаций. 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     С 1999 г. кафедрой заведует профессор В.В.Рыбачков.  Под его руководством защищено 2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диссертаций из них 5 докторск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С создания кафедры и по на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дни на ней функционирует СН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Благодаря которому студенты бо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углубленно изучают актуа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вопросы хирургии, овладев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практическими хирургически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навыками, занимаются научно-исследовательской деятель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3" descr="P1290845.JPG"/>
          <p:cNvPicPr/>
          <p:nvPr/>
        </p:nvPicPr>
        <p:blipFill>
          <a:blip r:embed="rId1"/>
          <a:stretch/>
        </p:blipFill>
        <p:spPr>
          <a:xfrm>
            <a:off x="6643800" y="3357720"/>
            <a:ext cx="2071440" cy="27144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Impact"/>
              </a:rPr>
              <a:t>Цели и задачи СНК:</a:t>
            </a:r>
            <a:endParaRPr b="0" lang="en-US" sz="44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        </a:t>
            </a: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Познакомить студентов с основами научно-исследовательской работы в хирургической практике.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111" name="Рисунок 4" descr="P1290852.JPG"/>
          <p:cNvPicPr/>
          <p:nvPr/>
        </p:nvPicPr>
        <p:blipFill>
          <a:blip r:embed="rId1"/>
          <a:stretch/>
        </p:blipFill>
        <p:spPr>
          <a:xfrm>
            <a:off x="4714920" y="4000680"/>
            <a:ext cx="3429000" cy="24285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5" descr="P1290849.JPG"/>
          <p:cNvPicPr/>
          <p:nvPr/>
        </p:nvPicPr>
        <p:blipFill>
          <a:blip r:embed="rId2"/>
          <a:stretch/>
        </p:blipFill>
        <p:spPr>
          <a:xfrm>
            <a:off x="571680" y="2286000"/>
            <a:ext cx="3429000" cy="242892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Impact"/>
              </a:rPr>
              <a:t>Основные направления НИРС и УИРС:</a:t>
            </a:r>
            <a:endParaRPr b="0" lang="en-US" sz="44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0" y="78588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      </a:t>
            </a: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Работа с медицинской документацией, архивными материалами, анализ полученных данных, анкетирование пациентов, участие в экспериментах, более углубленное знакомство с экстренной и плановой хирургической патологией, овладение практическими хирургическими навы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Студенты помогают сотрудникам кафедры в научно-исследовательской работе, знакомятся с особенностями клинической картины у хирургических больных, готовят и выступают с докладами по актуальным вопросам хирургии.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119" name="Рисунок 3" descr="x_8929a059.jpg"/>
          <p:cNvPicPr/>
          <p:nvPr/>
        </p:nvPicPr>
        <p:blipFill>
          <a:blip r:embed="rId2"/>
          <a:stretch/>
        </p:blipFill>
        <p:spPr>
          <a:xfrm>
            <a:off x="5143680" y="3429000"/>
            <a:ext cx="3643200" cy="235728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4" descr="P1290864.JPG"/>
          <p:cNvPicPr/>
          <p:nvPr/>
        </p:nvPicPr>
        <p:blipFill>
          <a:blip r:embed="rId3"/>
          <a:stretch/>
        </p:blipFill>
        <p:spPr>
          <a:xfrm>
            <a:off x="285840" y="3429000"/>
            <a:ext cx="3643200" cy="23572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6" descr="P1290865.JPG"/>
          <p:cNvPicPr/>
          <p:nvPr/>
        </p:nvPicPr>
        <p:blipFill>
          <a:blip r:embed="rId4"/>
          <a:stretch/>
        </p:blipFill>
        <p:spPr>
          <a:xfrm>
            <a:off x="2428920" y="4357800"/>
            <a:ext cx="3643200" cy="235728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336699"/>
              </a:solidFill>
              <a:latin typeface="Impact"/>
            </a:endParaRPr>
          </a:p>
        </p:txBody>
      </p:sp>
      <p:pic>
        <p:nvPicPr>
          <p:cNvPr id="124" name="Содержимое 7" descr="x_9f3de834.jpg"/>
          <p:cNvPicPr/>
          <p:nvPr/>
        </p:nvPicPr>
        <p:blipFill>
          <a:blip r:embed="rId2"/>
          <a:stretch/>
        </p:blipFill>
        <p:spPr>
          <a:xfrm>
            <a:off x="4767120" y="0"/>
            <a:ext cx="4376880" cy="284328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8" descr="x_370a7bd7.jpg"/>
          <p:cNvPicPr/>
          <p:nvPr/>
        </p:nvPicPr>
        <p:blipFill>
          <a:blip r:embed="rId3"/>
          <a:stretch/>
        </p:blipFill>
        <p:spPr>
          <a:xfrm>
            <a:off x="0" y="0"/>
            <a:ext cx="4357800" cy="285768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9" descr="x_52958ca5.jpg"/>
          <p:cNvPicPr/>
          <p:nvPr/>
        </p:nvPicPr>
        <p:blipFill>
          <a:blip r:embed="rId4"/>
          <a:stretch/>
        </p:blipFill>
        <p:spPr>
          <a:xfrm>
            <a:off x="4786200" y="3786120"/>
            <a:ext cx="4357800" cy="307188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0" descr="x_a7a0ef3d.jpg"/>
          <p:cNvPicPr/>
          <p:nvPr/>
        </p:nvPicPr>
        <p:blipFill>
          <a:blip r:embed="rId5"/>
          <a:stretch/>
        </p:blipFill>
        <p:spPr>
          <a:xfrm>
            <a:off x="0" y="3786120"/>
            <a:ext cx="4357800" cy="30718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1" descr="sbotnici_sovremennie.jpg"/>
          <p:cNvPicPr/>
          <p:nvPr/>
        </p:nvPicPr>
        <p:blipFill>
          <a:blip r:embed="rId6"/>
          <a:stretch/>
        </p:blipFill>
        <p:spPr>
          <a:xfrm>
            <a:off x="2357280" y="1785960"/>
            <a:ext cx="4357800" cy="307188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19:12:36Z</dcterms:created>
  <dc:creator>Настя</dc:creator>
  <dc:description/>
  <dc:language>en-US</dc:language>
  <cp:lastModifiedBy>LEGION</cp:lastModifiedBy>
  <dcterms:modified xsi:type="dcterms:W3CDTF">2014-11-06T13:43:15Z</dcterms:modified>
  <cp:revision>34</cp:revision>
  <dc:subject/>
  <dc:title>СНО</dc:title>
</cp:coreProperties>
</file>