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F482-FD37-4449-AEB6-A02244981E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ПЕЦИФИЧНОСТЬ  ПАРАЗ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 определенных видов паразитов к определенным видам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епень специфичность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до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СПЕЦИФ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нало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НОРМЫ РЕА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ободноживущи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F453-F6EF-4B7C-A278-B43FC9D358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СТРОГАЯ  ВИДОВАЯ  СПЕЦИФИЧ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остейш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трихомонады, трипаносомы, споровики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Гельминты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скарида, острица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Членистоногие (эктопаразиты)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блохи, вши, пухо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к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видовым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таксонам (подвидам, формам)       грегарина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Gonospora longissima -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лихета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odecaceria concharum 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B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изиологические виды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идентичные морфологически, но заражающие разные виды хозяев                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pistorchis felineus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мелкие хищники, человек, Европа)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.geminum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(птицы, Египет)                                                                                нематод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skaris lumbricoide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человек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.sui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инья)        мухи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achina larvar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епарный шелкопряд, Европа)-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.m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чующий шелкопряд, Америка)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C2EB-FDCA-4097-BCC8-64252561DD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олее ч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в предел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р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хозяе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емейства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от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иды-дезерти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разитируют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таксономически удален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основной группе хозяев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ещи 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Argasidae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еплокровных животных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Ornitodorus turicat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ропической черепахе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Xenobates polypte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6BD8-2141-49DD-AE24-A721432E31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лавные, дополнительные, случайные хозя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zygia luci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- 80%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щука, 20% - судак и окунь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Fasciola hepatica -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98%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вцы и коровы, 2% -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епень патогенности паразита зависит от степени специфичности к хозяину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паразитов -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аркер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филогенетической близости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еняется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на разных этапах жизненного ци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0879-BB92-4C57-97EE-6914E3C397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Элементы жизненных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5FA2-1CF7-44F6-9AED-F316989EA0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-геогельминты, 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Hymenolepis nan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амебы, жгутиконос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С чередованием поколений и без смены хозяев.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 с партеногенетической самкой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Strongiloides sterco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споров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DD10-E7DB-4B55-ADDA-6293FA5B99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не размножающиеся на стадии финн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Taenia, Taeniarhynchus, Dipylidi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круглые черви-биогельминт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racunculus medinensis, Wuchereria bancrofti,              Trichinella spi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-Trypanosoma, Leishm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iphyllobothrium latum, Ligula intestin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;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креб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B4B4-FD6B-48E4-A890-93B20A4700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размножающиеся в стадии финн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Multiceps multiceps, Echinococcus granulosus, Alveococcus multilacular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Fasciola hepatica, Schistosoma manso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моспоридии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двукратная смена хозяев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Opisthorchis felineus, Dicrocoelumlanceolatum, Paragonimus westerma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47AB-0937-40FB-8D6A-81B0118342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0FC-4CA8-4898-A9D9-DCFBEA38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ADE-4E55-4338-8D6D-0D57F212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B4C-5127-45AC-890E-753B9A5D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13A-5A52-46EA-BB10-83B146A8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F6C-F486-4339-B103-6D1F999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E32-8D1C-419B-B589-F412851F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5A7-8C5F-41B0-945F-0B0ADDDB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9F6-8D5C-4EF9-83B7-ADF2CEEF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A62-D50E-490B-9CF7-831BE8D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639-D642-413D-8844-2561C42E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A64-D506-4911-889A-43AA556A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EB2-C92C-4193-B337-50C0FA4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9A66-F859-435E-A95A-2CB68A7F65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73" name="Group 39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74" name="Rectangle 4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8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7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77" name="Rectangle 6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36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80" name="Rectangle 5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34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83" name="Group 29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84" name="Group 14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85" name="Line 15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16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17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Rectangle 27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Text Box 30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0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91" name="Group 31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25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28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Text Box 32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97" name="Line 41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2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100" name="Group 33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102" name="Line 19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20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Text Box 23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44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2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5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111" name="Group 35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12" name="Rectangle 23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4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8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18" name="Line 29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32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54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58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61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27" name="Group 51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28" name="Rectangle 37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38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30" name="Line 39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41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42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34" name="Line 43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4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5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Text Box 46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7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8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50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53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9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0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0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45" name="Group 63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46" name="Rectangle 64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65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48" name="Line 66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68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69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52" name="Line 70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2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Text Box 73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5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76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77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8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9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9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65" name="Group 81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66" name="Rectangle 82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83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68" name="Line 84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85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86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87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72" name="Line 88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89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0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Text Box 91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92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93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95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5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86" name="Text Box 50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3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88" name="Rectangle 39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40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90" name="Line 41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2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3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Text Box 48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51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0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97" name="Text Box 71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79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Group 59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201" name="Line 60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61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62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67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69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0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72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73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74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75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6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78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Text Box 82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8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9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16" name="Rectangle 6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22" name="Line 12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3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4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5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04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31" name="Line 105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106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107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08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15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36" name="Rectangle 86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87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38" name="Line 88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91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42" name="Line 92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95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6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97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9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0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1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2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10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53" name="Line 111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12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13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Text Box 114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8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60" name="Group 39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61" name="Line 40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Text Box 43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6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66" name="Rectangle 47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8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68" name="Line 49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52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5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56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8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9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0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63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81" name="Group 37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82" name="Rectangle 5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6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84" name="Line 7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8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10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88" name="Line 11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12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13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Text Box 14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15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16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18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Group 21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97" name="Line 22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3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4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Text Box 25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2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35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61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64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01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307" name="Rectangle 67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68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309" name="Line 69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70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71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2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313" name="Line 73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74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75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76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77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8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80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Group 81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22" name="Line 82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83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84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85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6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9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0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30" name="Line 91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92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93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94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34" name="Line 95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6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97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98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99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LEGION</cp:lastModifiedBy>
  <dcterms:modified xsi:type="dcterms:W3CDTF">2014-11-25T09:32:20Z</dcterms:modified>
  <cp:revision>104</cp:revision>
  <dc:subject/>
  <dc:title>СПЕЦИФИЧНОСТЬ  ПАРАЗИТОВ</dc:title>
</cp:coreProperties>
</file>