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08AC-051C-4814-8871-162A7C3AE4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Лабораторная рабо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Строение растительной клетки на примере клеток кожицы чешуи лу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B516-61C3-4643-AF35-22B61A53F3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21A4-85C9-48CC-99C4-2F360A3744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Образователь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клетки растущих частей растения, способные к быстрому делению, формируют образовательную ткань. Такая ткань находится на верхушках побегов и кончиках корней. Благодаря быстрому делению ее клеток, стебель и корень растут в длину. Образовательная ткань внутри стеблей и корней обеспечивает их рост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готовиться к п/р по § </a:t>
            </a:r>
            <a:r>
              <a:rPr b="1" lang="en-US" sz="1200" spc="-1" strike="noStrike">
                <a:solidFill>
                  <a:srgbClr val="7030a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-4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33E5-4023-45B8-BF66-6728E2F6CA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ACE4-0949-4DEF-A948-FC2E7F7DB9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0E39-29A8-4DE2-B1CD-CFC82EC6B0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5AAE-8933-49CB-B1B4-89B469E8D6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ерхности всех органов растения находится покровная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ающая ткань состоит из крупных, неплотно прилегающих друг к другу клеток, которые способны накапливать различные вещества в цитоплазме и вакуо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ткань состоит из клеток, имеющих толстые и прочные обол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ткань состоит из небольших, плотно прилегающих друг к другу клеток, способных к быстрому д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стительные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94F3-9221-4C7E-A125-E22CD1754E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223A-EC63-4B6F-A389-4D333E77AF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овная ткань состоит из плотно прилегающих друг к другу клеток и выполняет защитную фун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ки кожицы лука плотно прилегают друг к другу и выполняют защитную функцию, ведь они находятся на поверхности чешуйки луковицы. Такая ткань называется покровной.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 Покровная тка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4F6A-823A-45EE-A98B-46651891FA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Механическ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ткани состоят из клеток, имеющих очень твердую, толстую оболочку. Поэтому и сама ткань очень прочная. Часто во взрослых клетках такой ткани уже нет цитоплазмы, а осталась только плотная оболочка. Это мертвая ткань. Помнишь, мы уже говорили об этом? Такая ткань образует кору деревьев, скорлупу орехов. Она называется опорной или механическ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A52B-88B0-45F3-9A5E-92FD80F566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Запасающая тка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шь клетки мякоти арбуза? Они содержат много садкого клеточного сока. Когда арбуз созревает, в них накапливаются сахар и другие питательные вещества. В клетках клубня картофеля, например, накапливается крахм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24B-035A-4E54-BC4C-3241357C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434-08FD-4E4B-B367-2D4DDDB1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8F0-ABC7-4136-957B-3324570F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8DA-5B90-47F3-A090-5C623A12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DEFE5-094A-4176-A267-45983B9619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548D4-E363-41AD-84D4-6302B9077E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0CC02-7C8B-434C-9C4C-D96FD6AA36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0FF86-927C-4300-82A9-65E5AAAAC3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192B7-853C-43A1-9212-0C03335915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0E5FF-4400-4FE1-879B-E0637CF898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09BB8-88F4-4658-BC8E-D140547BE6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3D6-D023-4AD3-A0C5-687AF05C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33059-9393-466F-9360-9171491EEF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D86CC-8DC7-47F8-BA99-1F63CFB2F0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72E7C-569B-44A7-9EE0-9EFBB90AB6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DFB90-0695-4F12-B81A-CC0313D299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3B0BC-90DC-4274-913D-7DA52B2768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09DC1-0B09-42C6-A013-17B81D72C9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ECE30-3738-42A9-9A9F-F77E7EF644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D2141-6DAA-491D-A612-0F7E78DCA2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67489-2642-47C3-9AA6-D06CB5A6A1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26931-EFF9-47F9-8962-BE3C2B1853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A24-6DFF-4913-9963-AA774F2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109D4-5933-4A78-A972-CD082AF08C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DDB8D-F673-49D5-ADDC-91ED9C5086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BA6B9-1005-4ACA-9995-052719DFEF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EE30D-004E-4B11-85DC-99E6A32A15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AA7CD-7737-46B9-AEEE-2A46D30136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4C11C-9497-4D6E-82A3-89AF05DE46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FC1AE-C63F-4B57-88A0-069C6D1DD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8D0-CDF7-4BE6-9879-6DFCD6AA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431-FADE-41E7-8390-FC7788A2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E59-A0D6-4FEB-B60C-D2EDF3D6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570-2C32-4F89-A02B-2DC5BBB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B1B-722B-4AC7-9CCE-D3C3987B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C97-43CB-4C89-871B-DDBFF126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2DAA-0711-4AF7-8140-26259E57E0F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66D0-7D05-44C3-9389-5E873F53BD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D41A-AA77-48AF-897B-F1FF0672EC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7009920" y="6387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BF90-D486-49B0-B979-ACDEF35A3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3" descr=""/>
          <p:cNvPicPr/>
          <p:nvPr/>
        </p:nvPicPr>
        <p:blipFill>
          <a:blip r:embed="rId1"/>
          <a:stretch/>
        </p:blipFill>
        <p:spPr>
          <a:xfrm>
            <a:off x="165240" y="274680"/>
            <a:ext cx="893592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Rectangle 2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рос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ткань 4"/>
          <p:cNvPicPr/>
          <p:nvPr/>
        </p:nvPicPr>
        <p:blipFill>
          <a:blip r:embed="rId2"/>
          <a:stretch/>
        </p:blipFill>
        <p:spPr>
          <a:xfrm>
            <a:off x="5500800" y="2714760"/>
            <a:ext cx="3276360" cy="319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Картинка 6 из 37985"/>
          <p:cNvPicPr/>
          <p:nvPr/>
        </p:nvPicPr>
        <p:blipFill>
          <a:blip r:embed="rId3"/>
          <a:stretch/>
        </p:blipFill>
        <p:spPr>
          <a:xfrm>
            <a:off x="428760" y="26431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Заголовок 4" descr=""/>
          <p:cNvPicPr/>
          <p:nvPr/>
        </p:nvPicPr>
        <p:blipFill>
          <a:blip r:embed="rId1"/>
          <a:stretch/>
        </p:blipFill>
        <p:spPr>
          <a:xfrm>
            <a:off x="414360" y="274680"/>
            <a:ext cx="8296200" cy="479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4954065"/>
          <p:cNvPicPr/>
          <p:nvPr/>
        </p:nvPicPr>
        <p:blipFill>
          <a:blip r:embed="rId2"/>
          <a:stretch/>
        </p:blipFill>
        <p:spPr>
          <a:xfrm>
            <a:off x="3143160" y="378612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Оборудование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икроскоп, микропрепарат, тетрадь, ручка, карандаш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Цель: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учить особенности строения растительной клетки, используя современные увеличительные приб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Ход работ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строить микроскоп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Рассмотреть микропрепарат кожицы чешуи лука под микроскопом на малом увеличен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. Зарисовать увиденное в поле зрения микроскопа в тетрад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8" descr="пластиды 1"/>
          <p:cNvPicPr/>
          <p:nvPr/>
        </p:nvPicPr>
        <p:blipFill>
          <a:blip r:embed="rId1"/>
          <a:stretch/>
        </p:blipFill>
        <p:spPr>
          <a:xfrm>
            <a:off x="2071800" y="135720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36" name="Organization Chart 2"/>
          <p:cNvGrpSpPr/>
          <p:nvPr/>
        </p:nvGrpSpPr>
        <p:grpSpPr>
          <a:xfrm>
            <a:off x="431640" y="1568520"/>
            <a:ext cx="8208720" cy="2160000"/>
            <a:chOff x="431640" y="1568520"/>
            <a:chExt cx="8208720" cy="21600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1000" y="1051560"/>
              <a:ext cx="402480" cy="319284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866840" y="2115720"/>
              <a:ext cx="402480" cy="106452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803760" y="2116800"/>
              <a:ext cx="402480" cy="106236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738520" y="1051560"/>
              <a:ext cx="402480" cy="3193200"/>
            </a:xfrm>
            <a:prstGeom prst="bentConnector3">
              <a:avLst>
                <a:gd name="adj1" fmla="val 28200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624120" y="1568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Тка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4316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2" action="ppaction://hlinksldjump"/>
                </a:rPr>
                <a:t>Покров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55960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3" action="ppaction://hlinksldjump"/>
                </a:rPr>
                <a:t>Запасающ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68792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Механическ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6816240" y="2864520"/>
              <a:ext cx="1824120" cy="864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Образовательна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14" descr="ткань 1"/>
          <p:cNvPicPr/>
          <p:nvPr/>
        </p:nvPicPr>
        <p:blipFill>
          <a:blip r:embed="rId6"/>
          <a:stretch/>
        </p:blipFill>
        <p:spPr>
          <a:xfrm>
            <a:off x="39528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ткань 2"/>
          <p:cNvPicPr/>
          <p:nvPr/>
        </p:nvPicPr>
        <p:blipFill>
          <a:blip r:embed="rId7"/>
          <a:stretch/>
        </p:blipFill>
        <p:spPr>
          <a:xfrm>
            <a:off x="2530440" y="4221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ткань 3"/>
          <p:cNvPicPr/>
          <p:nvPr/>
        </p:nvPicPr>
        <p:blipFill>
          <a:blip r:embed="rId8"/>
          <a:stretch/>
        </p:blipFill>
        <p:spPr>
          <a:xfrm>
            <a:off x="4667400" y="422100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ткань 4"/>
          <p:cNvPicPr/>
          <p:nvPr/>
        </p:nvPicPr>
        <p:blipFill>
          <a:blip r:embed="rId9"/>
          <a:stretch/>
        </p:blipFill>
        <p:spPr>
          <a:xfrm>
            <a:off x="6804000" y="422100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52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1428840"/>
          <a:ext cx="9144000" cy="3349440"/>
        </p:xfrm>
        <a:graphic>
          <a:graphicData uri="http://schemas.openxmlformats.org/drawingml/2006/table">
            <a:tbl>
              <a:tblPr/>
              <a:tblGrid>
                <a:gridCol w="2928960"/>
                <a:gridCol w="2214720"/>
                <a:gridCol w="2000160"/>
                <a:gridCol w="20001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ткан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м образова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ункци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уно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ров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ческ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одящ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4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Сердце 3"/>
          <p:cNvSpPr/>
          <p:nvPr/>
        </p:nvSpPr>
        <p:spPr>
          <a:xfrm>
            <a:off x="5857920" y="5143680"/>
            <a:ext cx="2786040" cy="1500120"/>
          </a:xfrm>
          <a:custGeom>
            <a:avLst/>
            <a:gdLst/>
            <a:ahLst/>
            <a:rect l="l" t="t" r="r" b="b"/>
            <a:pathLst>
              <a:path w="2786063" h="1500188">
                <a:moveTo>
                  <a:pt x="1393032" y="375047"/>
                </a:moveTo>
                <a:cubicBezTo>
                  <a:pt x="1973461" y="-500063"/>
                  <a:pt x="4237137" y="375047"/>
                  <a:pt x="1393032" y="1500188"/>
                </a:cubicBezTo>
                <a:cubicBezTo>
                  <a:pt x="-1451074" y="375047"/>
                  <a:pt x="812602" y="-500063"/>
                  <a:pt x="1393032" y="375047"/>
                </a:cubicBezTo>
                <a:close/>
              </a:path>
            </a:pathLst>
          </a:custGeom>
          <a:solidFill>
            <a:srgbClr val="e6b9b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429240" y="5572080"/>
            <a:ext cx="18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. 2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я: защит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ткань 1"/>
          <p:cNvPicPr/>
          <p:nvPr/>
        </p:nvPicPr>
        <p:blipFill>
          <a:blip r:embed="rId2"/>
          <a:stretch/>
        </p:blipFill>
        <p:spPr>
          <a:xfrm>
            <a:off x="5021280" y="2995560"/>
            <a:ext cx="31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лук"/>
          <p:cNvPicPr/>
          <p:nvPr/>
        </p:nvPicPr>
        <p:blipFill>
          <a:blip r:embed="rId3"/>
          <a:stretch/>
        </p:blipFill>
        <p:spPr>
          <a:xfrm>
            <a:off x="857160" y="2714760"/>
            <a:ext cx="2970360" cy="35575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опорная, придают прочность растен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ткань 3"/>
          <p:cNvPicPr/>
          <p:nvPr/>
        </p:nvPicPr>
        <p:blipFill>
          <a:blip r:embed="rId2"/>
          <a:stretch/>
        </p:blipFill>
        <p:spPr>
          <a:xfrm>
            <a:off x="5572080" y="2857680"/>
            <a:ext cx="3043440" cy="3019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194"/>
          <p:cNvPicPr/>
          <p:nvPr/>
        </p:nvPicPr>
        <p:blipFill>
          <a:blip r:embed="rId3"/>
          <a:stretch/>
        </p:blipFill>
        <p:spPr>
          <a:xfrm>
            <a:off x="571680" y="2714760"/>
            <a:ext cx="442404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7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ункция: запасающ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4" descr="ткань 2"/>
          <p:cNvPicPr/>
          <p:nvPr/>
        </p:nvPicPr>
        <p:blipFill>
          <a:blip r:embed="rId2"/>
          <a:stretch/>
        </p:blipFill>
        <p:spPr>
          <a:xfrm>
            <a:off x="5603760" y="3032280"/>
            <a:ext cx="3040200" cy="3016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mg--i-17313-w-640"/>
          <p:cNvPicPr/>
          <p:nvPr/>
        </p:nvPicPr>
        <p:blipFill>
          <a:blip r:embed="rId3"/>
          <a:stretch/>
        </p:blipFill>
        <p:spPr>
          <a:xfrm>
            <a:off x="428760" y="2857680"/>
            <a:ext cx="4500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6:24:08Z</dcterms:created>
  <dc:creator>Admin</dc:creator>
  <dc:description/>
  <dc:language>en-US</dc:language>
  <cp:lastModifiedBy>LEGION</cp:lastModifiedBy>
  <dcterms:modified xsi:type="dcterms:W3CDTF">2014-11-25T09:33:12Z</dcterms:modified>
  <cp:revision>6</cp:revision>
  <dc:subject/>
  <dc:title>Лабораторная работа  «Строение растительной клетки на примере клеток кожицы чешуи лука»</dc:title>
</cp:coreProperties>
</file>