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DDB-C055-4B12-9DC2-251D12E846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Царство Гриб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Грибы-параз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B22-4C2A-44F0-B8C4-7132F08726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более опасные паразиты злаков. При поражении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головн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Зараж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екоторыми видами происходит на стади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цветения злак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71A-45BD-469E-93EF-24D16DF746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Мучнистую росу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аков вызывает сумчатый гриб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Erysiphe gramin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112-FD52-4DE4-86BC-A4B7FE90E9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Сферотека крыжовни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был завезен в начале 20 века в европу из Америки, </a:t>
            </a:r>
            <a:r>
              <a:rPr b="1" i="1" lang="ru-RU" sz="1400" spc="-1" strike="noStrike">
                <a:solidFill>
                  <a:srgbClr val="0000cc"/>
                </a:solidFill>
                <a:latin typeface="Calibri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Сферотеку еще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мериканской мучнистой рос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FE0-0F0B-4D0F-8A78-2B52742C5F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итоф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пала в Европу в первой половине 19 века из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B3E1-2604-4091-BD88-84F29FFE5C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</a:rPr>
              <a:t>Синхитри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дноклеточ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ызывает заболевание 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  <a:ea typeface="Arial"/>
              </a:rPr>
              <a:t>рак картоф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Опознать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ак картофе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Борь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5F7-F9E2-4989-92DD-76895D1B5D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лиго Fulig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10AA-43B4-422C-88C6-109AB7CED1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озбудитель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парши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FA0-ABFA-4DE3-8DA2-7004FC1182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Еще один вид головни паразита — </a:t>
            </a:r>
            <a:r>
              <a:rPr b="1" i="1" lang="ru-RU" sz="1200" spc="-1" strike="noStrike" u="sng">
                <a:solidFill>
                  <a:srgbClr val="ff3300"/>
                </a:solidFill>
                <a:uFillTx/>
                <a:latin typeface="Calibri"/>
                <a:ea typeface="Arial"/>
              </a:rPr>
              <a:t>пыльная головня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Пылист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все части колоса за исключением стержня.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Твердая гол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ражает лишь зерна в кол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D35-ED98-4345-BAEF-6CBB9E2147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Грибы</a:t>
            </a:r>
            <a:r>
              <a:rPr b="1" i="1" lang="en-US" sz="1400" spc="-1" strike="noStrike">
                <a:solidFill>
                  <a:srgbClr val="ff3300"/>
                </a:solidFill>
                <a:latin typeface="Calibri"/>
              </a:rPr>
              <a:t>-</a:t>
            </a: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паразиты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факультатив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блигатными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ще паразитируют на растениях, чем на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Calibri"/>
              </a:rPr>
              <a:t>Облигатные паразиты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1F8-AC6F-4D6E-A293-2DD33585E9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Факультативные параз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ни менее специализирова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астут и развиваются на разных субстратах и разных хозяе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1C0F-36D8-41F1-9EAA-74744BF1A9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Споры грибов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проникают в тело растения через повреждения покровов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3CD5-F103-40F1-B028-009FF4B355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Calibri"/>
              </a:rPr>
              <a:t>Грибы-трутов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пора трутов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аже после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гибели дере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гриб продолжает жить на мертвом субстрате (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как сапротроф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38CE-B8A4-42EE-A8EE-5F5BC3DC9E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сапрофитн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E1C-997D-45C7-8301-010B03317E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Ржавчинные грибы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укциния Puccin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кувшинообразные вместилищ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Меры борьб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жавчинными грибами — опыливание растений коллоидной (молотой) се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D69-DB50-4FD7-AFCA-8085FC72E2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Споры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</a:rPr>
              <a:t>черно-фиолетовые рожки, выступающие из кол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стоят из плотно переплетенных гифов. Это стадия покоя гриба. 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93D-CCCA-4019-ACCC-3F5110FBA8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Calibri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ити гриба выделяют сладкую жидкость — </a:t>
            </a:r>
            <a:r>
              <a:rPr b="1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медвяную ро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 привлекающую насеком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  <a:ea typeface="Arial"/>
              </a:rPr>
              <a:t>Кониди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Рожки спорыньи содержат ядовитые алкалоиды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ещество-алкалоид эрготин</a:t>
            </a:r>
            <a:r>
              <a:rPr b="0" i="1" lang="ru-RU" sz="1200" spc="-1" strike="noStrike">
                <a:solidFill>
                  <a:srgbClr val="0000cc"/>
                </a:solidFill>
                <a:latin typeface="Calibri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B2F-4600-4118-A354-D90D94A435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29A-3C66-444A-8C3D-6A357F4C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71C-7599-4110-A438-318174B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F17-ED53-4DC6-865D-DF9879E1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E02-3A02-449D-99B0-40A0FF0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3583-0F84-4570-9343-D3595485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4FD-B76C-418C-9C42-0B941E3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E454-9273-44DB-9ABB-B22D57AF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BC67-0FE9-4328-BF88-D690500D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E439-A86D-486C-A662-24F33E11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5DF-ED35-4FC1-9C00-D5BED64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8239-25A7-4A53-93B5-9DDAAA1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1F1-7643-416A-9F08-B55D4A8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1C6C-99B2-49CB-8AD3-394312B5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2210-AC44-4FB7-BAA4-ED8465F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641D-0736-4569-81F9-8AB36470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D7C-77B6-4D07-B1B6-23BDB2E2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5DA-0055-417D-B1E5-F878C9FE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D59-D060-4641-9C41-1796F3B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BF0-C9E4-4D10-B500-97414719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882-70B2-4804-8974-F5E7860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40D-B9DA-4632-82AE-B6C9CFE7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BB1-8409-4A9D-8C19-F9BF200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7CC-F6A9-476C-8C09-1A905C6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599-1F69-44A7-9B4A-F057564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9A23-F8BA-4F97-99B9-808D841242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4C5-F183-481F-BC63-8F16AF204F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LEGION</cp:lastModifiedBy>
  <dcterms:modified xsi:type="dcterms:W3CDTF">2014-11-25T09:33:51Z</dcterms:modified>
  <cp:revision>6</cp:revision>
  <dc:subject/>
  <dc:title>Царство Грибы.</dc:title>
</cp:coreProperties>
</file>