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82C4-953F-48F0-868B-06B2364D93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Царство Гри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Грибы-параз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783E-3D84-4780-AFFB-46CB587C40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более опасные паразиты злаков. При поражении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головн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Зараж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ми видами происходит на стади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цветения злак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C2D0-E18E-44A5-8257-0C68A29298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Мучнистую росу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аков вызывает сумчатый гриб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Erysiphe gramin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E25-4195-4E18-9D95-09F48266D1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Сферотека крыжовни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был завезен в начале 20 века в европу из Америки, </a:t>
            </a:r>
            <a:r>
              <a:rPr b="1" i="1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Сферотеку еще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мериканской мучнистой рос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5E87-6E9E-4A05-BC2F-799CB22445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пала в Европу в первой половине 19 века из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575A-D303-4A15-94E5-0078EB6779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Синхитри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дноклеточ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ызывает заболевание 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  <a:ea typeface="Arial"/>
              </a:rPr>
              <a:t>рак картоф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Опознать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Борь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7F0A-7859-4147-B1C7-D2502BE570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лиго Fulig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DE22-0C47-422C-A96A-EE0E362A95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озбудитель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парш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4AB1-958F-4040-A0E1-1913B3D4CF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Еще один вид головни паразита — </a:t>
            </a: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  <a:ea typeface="Arial"/>
              </a:rPr>
              <a:t>пыльная головня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Пылист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все части колоса за исключением стержня.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Тверд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лишь зерна в кол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07E6-CFAC-463A-93E0-120BF65C8A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Грибы</a:t>
            </a:r>
            <a:r>
              <a:rPr b="1" i="1" lang="en-US" sz="1400" spc="-1" strike="noStrike">
                <a:solidFill>
                  <a:srgbClr val="ff3300"/>
                </a:solidFill>
                <a:latin typeface="Calibri"/>
              </a:rPr>
              <a:t>-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паразит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факультатив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блигат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ще паразитируют на растениях, чем на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Облигатные паразиты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B72F-FC74-4D71-90F6-50022DC7D9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акультативные параз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ни менее специализирова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стут и развиваются на разных субстратах и разных хозяе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82F-D251-4351-B0B8-A7A3574930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Споры грибов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проникают в тело растения через повреждения покровов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BBA8-4134-438F-8C08-B6ADDDFA2B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Calibri"/>
              </a:rPr>
              <a:t>Грибы-трутов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пора трутов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аже после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гибели дере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гриб продолжает жить на мертвом субстрате (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как сапротроф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F60A-B368-4F65-B24F-E1C006C6A1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апрофитн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8D21-7D06-4B72-A5BE-0AECA240FB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Ржавчинные грибы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укциния Puccin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кувшинообразные вместилищ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Меры борьб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жавчинными грибами — опыливание растений коллоидной (молотой) с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4BCD-1DEA-44ED-92CF-3540A206EE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Споры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черно-фиолетовые рожки, выступающие из кол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стоят из плотно переплетенных гифов. Это стадия покоя гриба.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175B-9752-4816-99FF-D934690664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ити гриба выделяют сладкую жидкость —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медвяную ро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ривлекающую насеком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Кониди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ожки спорыньи содержат ядовитые алкалоид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ещество-алкалоид эрготин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2E92-6652-45FA-B5CA-FA5653B060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274-B309-4291-87FE-C247A5D5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808-B2D0-4BD4-A069-BE4C9D1C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61C-C730-48B0-AD19-9B6F026A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40D-0B11-4B85-BFA4-B050D86D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25A3-056E-440F-999B-04F327EC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F9C0-569D-4150-AD3A-235954D3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7232-92CE-4E82-B76B-69DBFC75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4257-3ABD-47D8-A529-9F3967C0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B395-D156-4C08-9DB7-71B50F5E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1201-1ADE-4161-BE44-737ACB32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93F9-E4CA-4736-8656-F9082D1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45B-16CA-46E2-B35F-C6F72E49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6C47-88BC-4AD3-835D-837D167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A079-EE8C-444B-B173-5AC102C2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EE0F-3F33-4115-B098-9280B383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D0A0-8536-412E-81FB-D9FEB007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FA42-057F-4D97-9FE9-63DEACA4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D63-5E52-4903-94E2-3DD4B7A7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D6A-4286-439B-8459-3625A207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62A-F287-4D4E-82B2-B331C711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35E-F374-4434-BD0E-BB7F1D2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82E-A630-44A2-984E-6B2280E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231-4F26-4834-A838-C6CF3FD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681-53BE-4E73-9CD3-8AE387D0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95B-F585-42C4-A0D3-DC22D448DD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EF4B-0498-49B7-8389-1778AF8E23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LEGION</cp:lastModifiedBy>
  <dcterms:modified xsi:type="dcterms:W3CDTF">2014-11-25T09:33:51Z</dcterms:modified>
  <cp:revision>6</cp:revision>
  <dc:subject/>
  <dc:title>Царство Грибы.</dc:title>
</cp:coreProperties>
</file>