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603B-89B2-4B72-8675-73D7ECF9A53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Царство Гриб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Грибы-параз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535A-883C-4FB0-A6E5-2B973A5F70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иболее опасные паразиты злаков. При поражении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головн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Зараж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екоторыми видами происходит на стадии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цветения злак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4B04-C667-4F75-BE25-87D5AB9FCD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</a:rPr>
              <a:t>Мучнистую росу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лаков вызывает сумчатый гриб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Erysiphe gramini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31F7-D061-4930-834D-1E565D8C22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Сферотека крыжовни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был завезен в начале 20 века в европу из Америки, </a:t>
            </a:r>
            <a:r>
              <a:rPr b="1" i="1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Сферотеку еще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мериканской мучнистой рос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EB1D-C845-4267-B56B-F6DEC878AF9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итофт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итофто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пала в Европу в первой половине 19 века из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C88B-3068-4114-BEDD-A13F81421E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</a:rPr>
              <a:t>Синхитриу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дноклеточ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ызывает заболевание </a:t>
            </a:r>
            <a:r>
              <a:rPr b="1" i="1" lang="ru-RU" sz="1400" spc="-1" strike="noStrike">
                <a:solidFill>
                  <a:srgbClr val="ff3300"/>
                </a:solidFill>
                <a:latin typeface="Calibri"/>
                <a:ea typeface="Arial"/>
              </a:rPr>
              <a:t>рак картофел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Опознать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ак картофе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ак картофе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Борь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300E-BDA4-49C1-A756-0378A73D10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лиго Fulig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92EC-1656-48D5-BD40-9D4831985C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озбудитель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парш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2EA4-C89E-4DF7-A584-82D1BEB1E78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Еще один вид головни паразита — </a:t>
            </a: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  <a:ea typeface="Arial"/>
              </a:rPr>
              <a:t>пыльная головня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Пылистая гол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ражает все части колоса за исключением стержня.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Твердая гол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ражает лишь зерна в коло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4101-E6F4-4D71-BF9C-770B1BDE5E5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Грибы</a:t>
            </a:r>
            <a:r>
              <a:rPr b="1" i="1" lang="en-US" sz="1400" spc="-1" strike="noStrike">
                <a:solidFill>
                  <a:srgbClr val="ff3300"/>
                </a:solidFill>
                <a:latin typeface="Calibri"/>
              </a:rPr>
              <a:t>-</a:t>
            </a: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паразиты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могут быть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факультативным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облигатным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аще паразитируют на растениях, чем на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Облигатные паразиты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FBC8-CF70-4BA8-B7FE-9EA3D0B4E1F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акультативные парази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ни менее специализированы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астут и развиваются на разных субстратах и разных хозяев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5852-B263-46B0-A041-3B186EDA0F3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Споры грибов,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проникают в тело растения через повреждения покровов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7C55-75FB-42B3-9B52-2F20343499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Calibri"/>
              </a:rPr>
              <a:t>Грибы-трутов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Спора трутов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аже после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гибели дере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гриб продолжает жить на мертвом субстрате (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как сапротроф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4830-5F4B-4882-9E87-0919807361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сапрофитн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3186-5D9C-49AB-B391-E0073BD902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Ржавчинные грибы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пукциния Puccini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</a:rPr>
              <a:t>кувшинообразные вместилищ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Меры борьб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ржавчинными грибами — опыливание растений коллоидной (молотой) се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E35D-7767-41EF-8CFF-A374815C74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Спорын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черно-фиолетовые рожки, выступающие из кол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стоят из плотно переплетенных гифов. Это стадия покоя гриба.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7C4D-7406-4729-803A-E3399FD874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ити гриба выделяют сладкую жидкость —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медвяную ро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 привлекающую насеком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Кониди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ожки спорыньи содержат ядовитые алкалоиды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ещество-алкалоид эрготин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DE81-B6B4-48A9-82DD-1DB553A997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632-7375-486F-8F2A-6FFB73A5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65F-60EB-4275-BB60-37B1EC3F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121-5FDC-4E32-8665-E9380997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4D1-143E-4662-806A-C2A38D0B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9FC7-2CEA-478E-B71A-2A6D32C9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36BE-DD87-4046-92A2-68D0FB30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6721-BEA6-4B42-8C74-57B44490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7DB1-2170-476C-A7BC-4D7169D5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6687-EACB-4E56-A66B-75F6CC9B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404C-D0AB-4035-89F2-ABEEB24F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87A6-D971-4A59-84AE-A7F3B799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3E8-D286-4685-AA53-9336E5C2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5ADA-F367-414C-AFCF-72792D7F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0C6E-C829-4000-8AFF-ACE6565A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7D56-9C3B-43BD-A0CE-727259B7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C411-F265-4C32-91E2-64BD5D43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A479-23CF-4AEC-A261-7549F761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620-D845-4C25-B2F7-36DCD760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6F4-FB31-44CA-AE94-58B337FF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3DF-1A9F-493D-AE93-1143B15A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CAE-7E55-4FC2-A5DB-7EAB516F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189-42F8-423B-99F8-CAF82BCD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AAD-014A-4CC5-9624-6F4754AE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7ED-47F3-473F-BB27-60DE6147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E09A-E67B-45EC-9AA0-A3221275F2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8418-6107-4161-BC8E-9E0A12FDD2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</a:rPr>
              <a:t>Царство Грибы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07640" y="24210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1916280"/>
            <a:ext cx="2378160" cy="475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гриб-паразит1"/>
          <p:cNvPicPr/>
          <p:nvPr/>
        </p:nvPicPr>
        <p:blipFill>
          <a:blip r:embed="rId2"/>
          <a:stretch/>
        </p:blipFill>
        <p:spPr>
          <a:xfrm>
            <a:off x="2357280" y="3714840"/>
            <a:ext cx="4067280" cy="299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7451640" y="1197000"/>
            <a:ext cx="1428840" cy="1407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8"/>
          <p:cNvSpPr/>
          <p:nvPr/>
        </p:nvSpPr>
        <p:spPr>
          <a:xfrm>
            <a:off x="6442560" y="4643280"/>
            <a:ext cx="22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ндаренко Е.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о.Сама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-17136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84360" y="836280"/>
            <a:ext cx="4530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опасные паразиты злаков. При поражении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головн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Зара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ми видами происходит на стад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цветения злак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1282680" cy="4191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003-2"/>
          <p:cNvPicPr/>
          <p:nvPr/>
        </p:nvPicPr>
        <p:blipFill>
          <a:blip r:embed="rId2"/>
          <a:stretch/>
        </p:blipFill>
        <p:spPr>
          <a:xfrm>
            <a:off x="1403280" y="1989000"/>
            <a:ext cx="2772000" cy="31719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9"/>
          <p:cNvSpPr/>
          <p:nvPr/>
        </p:nvSpPr>
        <p:spPr>
          <a:xfrm>
            <a:off x="1332000" y="5300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атки кукурузы, пораженные головневым гриб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920" y="-45900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11280" y="1483920"/>
            <a:ext cx="493236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Мучнистую рос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лаков вызывает сумчатый гриб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rysiphe gramin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Гриб склеротиния"/>
          <p:cNvPicPr/>
          <p:nvPr/>
        </p:nvPicPr>
        <p:blipFill>
          <a:blip r:embed="rId1"/>
          <a:stretch/>
        </p:blipFill>
        <p:spPr>
          <a:xfrm>
            <a:off x="611280" y="1700280"/>
            <a:ext cx="3600360" cy="47530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640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феротека крыжовн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ыл завезен в начале 20 века в европу из Америки,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Сферотеку еще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ериканской мучнистой рос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Сферотека крыжовника"/>
          <p:cNvPicPr/>
          <p:nvPr/>
        </p:nvPicPr>
        <p:blipFill>
          <a:blip r:embed="rId1"/>
          <a:stretch/>
        </p:blipFill>
        <p:spPr>
          <a:xfrm>
            <a:off x="0" y="1557360"/>
            <a:ext cx="3456000" cy="4967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067280" y="836640"/>
            <a:ext cx="507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пала в Европу в первой половине 19 века из Амер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Гриб-паразит ризопус"/>
          <p:cNvPicPr/>
          <p:nvPr/>
        </p:nvPicPr>
        <p:blipFill>
          <a:blip r:embed="rId1"/>
          <a:stretch/>
        </p:blipFill>
        <p:spPr>
          <a:xfrm>
            <a:off x="0" y="1557360"/>
            <a:ext cx="3924360" cy="4824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211280" y="907560"/>
            <a:ext cx="475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Синхитриу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оклеточ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зывает заболевание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рак картоф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Опозна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Борьб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Рак катрофеля вызывает гриб синхитриум"/>
          <p:cNvPicPr/>
          <p:nvPr/>
        </p:nvPicPr>
        <p:blipFill>
          <a:blip r:embed="rId1"/>
          <a:stretch/>
        </p:blipFill>
        <p:spPr>
          <a:xfrm>
            <a:off x="250920" y="1557360"/>
            <a:ext cx="4033800" cy="43927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лиго Fulig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Фулиго гриб-сапрофит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4392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42880" y="907920"/>
            <a:ext cx="45435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будитель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ши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Гриб-паразит вентурия вызывает паршу"/>
          <p:cNvPicPr/>
          <p:nvPr/>
        </p:nvPicPr>
        <p:blipFill>
          <a:blip r:embed="rId1"/>
          <a:stretch/>
        </p:blipFill>
        <p:spPr>
          <a:xfrm>
            <a:off x="179280" y="1773360"/>
            <a:ext cx="3745080" cy="4248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00320" y="1628640"/>
            <a:ext cx="4454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ще один вид головни паразита —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пыльная головня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Пылист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все части колоса за исключением стержня.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Тверд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лишь зерна в коло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Пыльная головня у злаков"/>
          <p:cNvPicPr/>
          <p:nvPr/>
        </p:nvPicPr>
        <p:blipFill>
          <a:blip r:embed="rId1"/>
          <a:stretch/>
        </p:blipFill>
        <p:spPr>
          <a:xfrm>
            <a:off x="826920" y="1700280"/>
            <a:ext cx="2930760" cy="489744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Грибы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зиты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могут быть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факультатив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блигат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аще паразитируют на растениях, чем на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блигатные паразиты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915840" y="1600200"/>
            <a:ext cx="3808440" cy="4530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5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Факультативные параз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менее специализированы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ут и развиваются на разных субстратах и разных хозяе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Гриб-паразит ризопус"/>
          <p:cNvPicPr/>
          <p:nvPr/>
        </p:nvPicPr>
        <p:blipFill>
          <a:blip r:embed="rId1"/>
          <a:stretch/>
        </p:blipFill>
        <p:spPr>
          <a:xfrm>
            <a:off x="900000" y="2133720"/>
            <a:ext cx="345600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Споры грибов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никают в тело растения через повреждения покровов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600720" cy="5732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00680" y="999720"/>
            <a:ext cx="469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Грибы-трутов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Спора трутов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же после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гибели дере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риб продолжает жить на мертвом субстрате (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как сапротроф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811680" cy="40575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75120" y="836640"/>
            <a:ext cx="381168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апрофитный обра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Гриб-трутовик"/>
          <p:cNvPicPr/>
          <p:nvPr/>
        </p:nvPicPr>
        <p:blipFill>
          <a:blip r:embed="rId1"/>
          <a:stretch/>
        </p:blipFill>
        <p:spPr>
          <a:xfrm>
            <a:off x="539640" y="1700280"/>
            <a:ext cx="3240360" cy="43927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100"/>
            </a:b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51280" y="980640"/>
            <a:ext cx="5292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жавчинные грибы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укциния Puccin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кувшинообразные вместилищ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Меры борь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ржавчинными грибами — опыливание растений коллоидной (молотой) се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479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24360" y="980640"/>
            <a:ext cx="4935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Споры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черно-фиолетовые рожки, выступающие из коло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остоят из плотно переплетенных гифов. Это стадия покоя гриба.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2664000" cy="48178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4000" y="980640"/>
            <a:ext cx="5122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ити гриба выделяют сладкую жидкость —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медвяную ро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привлекающую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Кониди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Рожки спорыньи содержат ядовитые алкалоиды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о-алкалоид эрготин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335400" cy="482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0:02:01Z</dcterms:created>
  <dc:creator>Admin</dc:creator>
  <dc:description/>
  <dc:language>en-US</dc:language>
  <cp:lastModifiedBy>LEGION</cp:lastModifiedBy>
  <dcterms:modified xsi:type="dcterms:W3CDTF">2014-11-25T09:33:51Z</dcterms:modified>
  <cp:revision>6</cp:revision>
  <dc:subject/>
  <dc:title>Царство Грибы.</dc:title>
</cp:coreProperties>
</file>