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C6E5-F00F-4527-8C7B-A382C821823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Царство Гриб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Грибы-параз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C0F2-7662-4D4C-BB77-6C10B931EB5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3300"/>
                </a:solidFill>
                <a:uFillTx/>
                <a:latin typeface="Times New Roman"/>
              </a:rPr>
              <a:t>Головневые гриб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аиболее опасные паразиты злаков. При поражении 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головне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место зерна получается черная пыль, представляющая собой споры гриба. Колосья становятся похожими на обугленные головеш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Заражен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екоторыми видами происходит на стадии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цветения злаков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когда споры с пораженного растения попадают на рыльца пестиков здоровых раст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1669-C038-42FF-8CD5-699763ABB23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3300"/>
                </a:solidFill>
                <a:uFillTx/>
                <a:latin typeface="Calibri"/>
              </a:rPr>
              <a:t>Мучнистую росу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лаков вызывает сумчатый гриб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Erysiphe gramini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каждой их видов злаковых культур паразитируют свои формы гриба, название которым дают с указанием на растение-хозяина. </a:t>
            </a:r>
            <a:r>
              <a:rPr b="1" i="1" lang="ru-RU" sz="1200" spc="-1" strike="noStrike">
                <a:solidFill>
                  <a:srgbClr val="0000cc"/>
                </a:solidFill>
                <a:latin typeface="Calibri"/>
              </a:rPr>
              <a:t>Они поражают листья, стебли и колосья, мицелий гриба сначала имеет паутинообразный вид, а за тем превращается в подушеч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46D5-FB3A-4682-B2D5-0CEDCD41FA9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3300"/>
                </a:solidFill>
                <a:uFillTx/>
                <a:latin typeface="Calibri"/>
              </a:rPr>
              <a:t>Сферотека крыжовник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был завезен в начале 20 века в европу из Америки, </a:t>
            </a:r>
            <a:r>
              <a:rPr b="1" i="1" lang="ru-RU" sz="1400" spc="-1" strike="noStrike">
                <a:solidFill>
                  <a:srgbClr val="0000cc"/>
                </a:solidFill>
                <a:latin typeface="Calibri"/>
                <a:ea typeface="Arial"/>
              </a:rPr>
              <a:t>паразитирует на листьях, стеблях и ягодах образуя мучнистый нал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. Сферотеку еще называю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мериканской мучнистой рос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. Пораженные части растений обрезают и сжигают. А в борьбе со сферотекой применяют опрыскивание 3%-ным раствором железного купороса ранней весной до распускания почек или поздней осен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2213-3183-4282-9613-69C2126A698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3300"/>
                </a:solidFill>
                <a:uFillTx/>
                <a:latin typeface="Times New Roman"/>
              </a:rPr>
              <a:t>Фитофто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может поражать листья, стебли и клубни растений, особенно опасна для картофеля и тома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 конце лета на нижней стороне листьев появляются бурые пятна отмершей ткани с белым пушком по кра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Фитофто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прорастает по межклеточным ходам в пораженном органе и распространяется по всему растению. Пораженные части растения темнеют и отмира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Фитофтор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опала в Европу в первой половине 19 века из Амер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Для борьбы с фитофторой применяют опрыскивание бордосской жидкостью и некоторыми другими фунгици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3F17-DD30-4D05-8B2D-95481707DF6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3300"/>
                </a:solidFill>
                <a:uFillTx/>
                <a:latin typeface="Calibri"/>
              </a:rPr>
              <a:t>Синхитриу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одноклеточн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ызывает заболевание </a:t>
            </a:r>
            <a:r>
              <a:rPr b="1" i="1" lang="ru-RU" sz="1400" spc="-1" strike="noStrike">
                <a:solidFill>
                  <a:srgbClr val="ff3300"/>
                </a:solidFill>
                <a:latin typeface="Calibri"/>
                <a:ea typeface="Arial"/>
              </a:rPr>
              <a:t>рак картофеля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Опознать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рак картофеля можно по бугристым выростам на клубнях. </a:t>
            </a:r>
            <a:r>
              <a:rPr b="1" i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Рак картофе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во многих странах является карантинным заболеванием. Считается, что 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рак картофе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был занесен к нам во время второй мировой войны, так как появился он в основном в западных регионах. 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Борьб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с этим грибом проводится путем обработки почвы хлорпикрином и другими химикатами, а так же работой над селекцией новых ракоустойчивых сор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5768-6D83-437E-A1EE-C7A2CB8A504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улиго Fuligo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слизистый гриб, который живет на гниющих пнях, заметен во второй половине лета и осенью. Образует подушковидные наплывы (их называют эталии) рыжеватого или сероватого цв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FC73-4874-4678-AF8A-6176242EE27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3300"/>
                </a:solidFill>
                <a:uFillTx/>
                <a:latin typeface="Times New Roman"/>
              </a:rPr>
              <a:t>Вентури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озбудитель </a:t>
            </a:r>
            <a:r>
              <a:rPr b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парши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а яблонях и грушах и других плодовых деревьях Инфицированная грибом мякоть плодов становится деревянистой, плоды часто не вызревают, трескаются. Деревья обрабатывают фунгици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7B64-EF46-479F-A4CA-3551A9F0230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Еще один вид головни паразита — </a:t>
            </a:r>
            <a:r>
              <a:rPr b="1" i="1" lang="ru-RU" sz="1200" spc="-1" strike="noStrike" u="sng">
                <a:solidFill>
                  <a:srgbClr val="ff3300"/>
                </a:solidFill>
                <a:uFillTx/>
                <a:latin typeface="Calibri"/>
                <a:ea typeface="Arial"/>
              </a:rPr>
              <a:t>пыльная головня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превращающий колосья пшеницы в пылистую сажистую массу, а сами колосья издали имеют вид обгоревш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Пылистая головн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поражает все части колоса за исключением стержня.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Твердая головн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поражает лишь зерна в колос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7C17-EB05-419D-A742-43F806CE406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3300"/>
                </a:solidFill>
                <a:latin typeface="Calibri"/>
              </a:rPr>
              <a:t>Грибы</a:t>
            </a:r>
            <a:r>
              <a:rPr b="1" i="1" lang="en-US" sz="1400" spc="-1" strike="noStrike">
                <a:solidFill>
                  <a:srgbClr val="ff3300"/>
                </a:solidFill>
                <a:latin typeface="Calibri"/>
              </a:rPr>
              <a:t>-</a:t>
            </a:r>
            <a:r>
              <a:rPr b="1" i="1" lang="ru-RU" sz="1400" spc="-1" strike="noStrike">
                <a:solidFill>
                  <a:srgbClr val="ff3300"/>
                </a:solidFill>
                <a:latin typeface="Calibri"/>
              </a:rPr>
              <a:t>паразиты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могут быть 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факультативными</a:t>
            </a: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облигатными</a:t>
            </a: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Чаще паразитируют на растениях, чем на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3300"/>
                </a:solidFill>
                <a:latin typeface="Calibri"/>
              </a:rPr>
              <a:t>Облигатные паразиты</a:t>
            </a: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 вызывают гибели своих хозяев и ограничены узким кругом хозяев, от которых им нужен специфический набор питательных ве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7AD5-DBC7-4072-AB1E-A25E5B36AE4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Факультативные парази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часто вызывают гибель своих хозяев и потом живут сапрофитно на мертвых остат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Они менее специализированы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Растут и развиваются на разных субстратах и разных хозяев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7191-78EE-4FB0-9AFE-DE6F98199D6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громное количество болезней растений возникает в результате их поражения разнообразными грибами-парази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Calibri"/>
              </a:rPr>
              <a:t>Споры грибов,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образующиеся в огромных количествах, распространяются водой и воздушными потоками и </a:t>
            </a:r>
            <a:r>
              <a:rPr b="1" i="1" lang="ru-RU" sz="1200" spc="-1" strike="noStrike">
                <a:solidFill>
                  <a:srgbClr val="0000cc"/>
                </a:solidFill>
                <a:latin typeface="Calibri"/>
              </a:rPr>
              <a:t>проникают в тело растения через повреждения покровов.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E595-01B9-4D0C-A138-C0C0057EC8C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3300"/>
                </a:solidFill>
                <a:uFillTx/>
                <a:latin typeface="Calibri"/>
              </a:rPr>
              <a:t>Грибы-трутови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Спора трутови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, попав на ранку в дереве, прорастает в грибницу и разрушает древесину. Через несколько лет образуются многолетние копытообразные плодовые тела. Трутовики выделяют ферменты, разрушающие древесину и превращающие ее в трух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Даже после </a:t>
            </a:r>
            <a:r>
              <a:rPr b="0" i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гибели дере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гриб продолжает жить на мертвом субстрате (</a:t>
            </a:r>
            <a:r>
              <a:rPr b="1" i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как сапротроф)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ежегодно производя большое количество спор и заражая здоровые деревья. Поэтому погибшие деревья и плодовые тела трутовиков рекомендуется удалять из л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C099-12A2-4958-A526-FCD7C65FDEF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3300"/>
                </a:solidFill>
                <a:uFillTx/>
                <a:latin typeface="Times New Roman"/>
              </a:rPr>
              <a:t>Гриб-трутовик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который растет на стволах берез. Этот гриб-паразит поселяется еще на живых деревьях, а когда они погибают, трутовик продолжает жить на мертвом субстрате, ведя 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сапрофитный образ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A750-F969-46EB-8CB2-D005851311A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Calibri"/>
              </a:rPr>
              <a:t>Ржавчинные грибы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торые в процессе своего жизненного цикла меняют несколько хозяев. Благодаря жизнедеятельности грибов рода </a:t>
            </a: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пукциния Puccini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обратной стороне листьев возникают подушечки или полосочки бурого и оранжевого цвета. На верхней поверхности гриб обнаружить можно лишь под микроскопом: возникают </a:t>
            </a:r>
            <a:r>
              <a:rPr b="0" i="1" lang="ru-RU" sz="1200" spc="-1" strike="noStrike">
                <a:solidFill>
                  <a:srgbClr val="0000cc"/>
                </a:solidFill>
                <a:latin typeface="Calibri"/>
              </a:rPr>
              <a:t>кувшинообразные вместилищ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cc"/>
                </a:solidFill>
                <a:latin typeface="Calibri"/>
              </a:rPr>
              <a:t>Меры борьб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ржавчинными грибами — опыливание растений коллоидной (молотой) сер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1288-6E60-44FC-9CBB-89D5DCF6E32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Спорын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ко обнаруживается в период цветения: на колосьях среди зерновок хорошо заметны </a:t>
            </a:r>
            <a:r>
              <a:rPr b="1" i="1" lang="ru-RU" sz="1200" spc="-1" strike="noStrike">
                <a:solidFill>
                  <a:srgbClr val="0000cc"/>
                </a:solidFill>
                <a:latin typeface="Calibri"/>
              </a:rPr>
              <a:t>черно-фиолетовые рожки, выступающие из коло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состоят из плотно переплетенных гифов. Это стадия покоя гриба. </a:t>
            </a:r>
            <a:r>
              <a:rPr b="0" i="1" lang="ru-RU" sz="1200" spc="-1" strike="noStrike">
                <a:solidFill>
                  <a:srgbClr val="0000cc"/>
                </a:solidFill>
                <a:latin typeface="Calibri"/>
              </a:rPr>
              <a:t>В период созревания ржи они опадают на землю и зимуют под снегом. Весной на них образуются шаровидные головки красноватого цвета на длинных ножках. Созревание спор происходит во время цветения рж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0915-42D3-438E-A3C6-DAF2C6402F2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Распростран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ити гриба выделяют сладкую жидкость — </a:t>
            </a:r>
            <a:r>
              <a:rPr b="1" i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медвяную рос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, привлекающую насеком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Конидии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попав на завязь, образуют грибницу, которая к осени уплотняется, наружные слои ее окрашиваются, и вместо зерновки в колосе формируются рож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Рожки спорыньи содержат ядовитые алкалоиды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ещество-алкалоид эрготин</a:t>
            </a:r>
            <a:r>
              <a:rPr b="0" i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 которые, попадая в организм человека, вызывают отравление (иногда со смертельным исходом)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. Попадая в муку, гриб способен вызывать сужение кровеносных сосудов и судороги мышц. Действие этого алкалоида используют в гинекологической практике, поэтому спорынью даже выращивают на особо охраняемых участках для медицинских целей. Отравление грибом, содержание которого в муке составляет выше 0,06% может закончиться летальным исхо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11CA-D2BD-4DDB-B44B-21F45AF8E31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D9C2-F091-494D-8E37-14B830454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CE43-D0D8-4B4B-8CB4-48094159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1915-A8EB-44E9-B69F-666342715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C2E6-29BE-4EB3-B402-F3DEADA78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0E79-7B02-4959-8737-5417438CE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54AC0-40F7-4545-9D47-F83FE03D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5491-6269-468A-9C17-EAC7DB0A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830F-1278-4AF1-A30E-B93A833C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4766-F6CE-40B1-A65A-21137320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961E-58A3-4FD4-9B40-7D44180E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6A57-837F-48DC-B3ED-1F65BE79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79B5-326F-4040-A95F-FABFB4BC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2D13-BE81-4737-97FF-8CB87B06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2291-1E1A-4ED7-83AB-F07ADA55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7D63-7EAA-43AC-8636-F7F2C00B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DE7AC-9320-4310-BE97-24ADB41F7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7372-BA1A-4B46-BD29-01FB84B3D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874D-319A-437A-9F3F-D7CCAA2A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69B7-B779-415F-9402-7FE177D9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BAA0-566E-4BF2-A7C0-7518237B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5A74-34DC-4223-9097-4757D345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6565-7E8C-48C9-B813-2B2E47C1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C81B-13A7-4A5D-AE02-10F40CF0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90EB-EDDA-4F18-90F8-E73C27DD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3897-61B9-4EE6-B4AD-01B4FA9120E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466E-3606-4B36-8BAA-72BC89E08A9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Times New Roman"/>
              </a:rPr>
              <a:t>Царство Грибы.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907640" y="2421000"/>
            <a:ext cx="67820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Грибы-парази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0" y="1916280"/>
            <a:ext cx="2378160" cy="4752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гриб-паразит1"/>
          <p:cNvPicPr/>
          <p:nvPr/>
        </p:nvPicPr>
        <p:blipFill>
          <a:blip r:embed="rId2"/>
          <a:stretch/>
        </p:blipFill>
        <p:spPr>
          <a:xfrm>
            <a:off x="2357280" y="3714840"/>
            <a:ext cx="4067280" cy="2997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7451640" y="1197000"/>
            <a:ext cx="1428840" cy="14079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8"/>
          <p:cNvSpPr/>
          <p:nvPr/>
        </p:nvSpPr>
        <p:spPr>
          <a:xfrm>
            <a:off x="6442560" y="4643280"/>
            <a:ext cx="225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ондаренко Е.Ю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биолог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ысшей категор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.о.Сама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0000" y="-17136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284360" y="836280"/>
            <a:ext cx="4530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Times New Roman"/>
              </a:rPr>
              <a:t>Головневые гри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иболее опасные паразиты злаков. При поражении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головне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место зерна получается черная пыль, представляющая собой споры гриба. Колосья становятся похожими на обугленные голове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Зараже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которыми видами происходит на стадии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цветения злаков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когда споры с пораженного растения попадают на рыльца пестиков здоровых раст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"/>
          <p:cNvPicPr/>
          <p:nvPr/>
        </p:nvPicPr>
        <p:blipFill>
          <a:blip r:embed="rId1"/>
          <a:stretch/>
        </p:blipFill>
        <p:spPr>
          <a:xfrm>
            <a:off x="0" y="1341360"/>
            <a:ext cx="1282680" cy="4191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003-2"/>
          <p:cNvPicPr/>
          <p:nvPr/>
        </p:nvPicPr>
        <p:blipFill>
          <a:blip r:embed="rId2"/>
          <a:stretch/>
        </p:blipFill>
        <p:spPr>
          <a:xfrm>
            <a:off x="1403280" y="1989000"/>
            <a:ext cx="2772000" cy="31719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9"/>
          <p:cNvSpPr/>
          <p:nvPr/>
        </p:nvSpPr>
        <p:spPr>
          <a:xfrm>
            <a:off x="1332000" y="530028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атки кукурузы, пораженные головневым грибо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6920" y="-45900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211280" y="1483920"/>
            <a:ext cx="4932360" cy="52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Мучнистую рос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лаков вызывает сумчатый гриб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Erysiphe gramin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каждой их видов злаковых культур паразитируют свои формы гриба, название которым дают с указанием на растение-хозяина.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Они поражают листья, стебли и колосья, мицелий гриба сначала имеет паутинообразный вид, а за тем превращается в подушеч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Гриб склеротиния"/>
          <p:cNvPicPr/>
          <p:nvPr/>
        </p:nvPicPr>
        <p:blipFill>
          <a:blip r:embed="rId1"/>
          <a:stretch/>
        </p:blipFill>
        <p:spPr>
          <a:xfrm>
            <a:off x="611280" y="1700280"/>
            <a:ext cx="3600360" cy="475308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564000" y="1599840"/>
            <a:ext cx="512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Сферотека крыжовни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ыл завезен в начале 20 века в европу из Америки,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паразитирует на листьях, стеблях и ягодах образуя мучнистый нал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Сферотеку еще называю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мериканской мучнистой рос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Пораженные части растений обрезают и сжигают. А в борьбе со сферотекой применяют опрыскивание 3%-ным раствором железного купороса ранней весной до распускания почек или поздней осен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Сферотека крыжовника"/>
          <p:cNvPicPr/>
          <p:nvPr/>
        </p:nvPicPr>
        <p:blipFill>
          <a:blip r:embed="rId1"/>
          <a:stretch/>
        </p:blipFill>
        <p:spPr>
          <a:xfrm>
            <a:off x="0" y="1557360"/>
            <a:ext cx="3456000" cy="49672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067280" y="836640"/>
            <a:ext cx="50767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</a:rPr>
              <a:t>Фитоф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ожет поражать листья, стебли и клубни растений, особенно опасна для картофеля и том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конце лета на нижней стороне листьев появляются бурые пятна отмершей ткани с белым пушком по кра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Фитофто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прорастает по межклеточным ходам в пораженном органе и распространяется по всему растению. Пораженные части растения темнеют и отмира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Фитофтор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пала в Европу в первой половине 19 века из Амери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ля борьбы с фитофторой применяют опрыскивание бордосской жидкостью и некоторыми другими фунгицид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Гриб-паразит ризопус"/>
          <p:cNvPicPr/>
          <p:nvPr/>
        </p:nvPicPr>
        <p:blipFill>
          <a:blip r:embed="rId1"/>
          <a:stretch/>
        </p:blipFill>
        <p:spPr>
          <a:xfrm>
            <a:off x="0" y="1557360"/>
            <a:ext cx="3924360" cy="48243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211280" y="907560"/>
            <a:ext cx="4753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Синхитриу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дноклеточны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ызывает заболевание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рак картофел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Опознать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к картофеля можно по бугристым выростам на клубнях.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Рак картофе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о многих странах является карантинным заболеванием. Считается, что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рак картофе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был занесен к нам во время второй мировой войны, так как появился он в основном в западных регионах.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Борьб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 этим грибом проводится путем обработки почвы хлорпикрином и другими химикатами, а так же работой над селекцией новых ракоустойчивых сор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1" descr="Рак катрофеля вызывает гриб синхитриум"/>
          <p:cNvPicPr/>
          <p:nvPr/>
        </p:nvPicPr>
        <p:blipFill>
          <a:blip r:embed="rId1"/>
          <a:stretch/>
        </p:blipFill>
        <p:spPr>
          <a:xfrm>
            <a:off x="250920" y="1557360"/>
            <a:ext cx="4033800" cy="439272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875120" y="1599840"/>
            <a:ext cx="3811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лиго Fulig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слизистый гриб, который живет на гниющих пнях, заметен во второй половине лета и осенью. Образует подушковидные наплывы (их называют эталии) рыжеватого или сероватого ц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Фулиго гриб-сапрофит"/>
          <p:cNvPicPr/>
          <p:nvPr/>
        </p:nvPicPr>
        <p:blipFill>
          <a:blip r:embed="rId1"/>
          <a:stretch/>
        </p:blipFill>
        <p:spPr>
          <a:xfrm>
            <a:off x="611280" y="1844640"/>
            <a:ext cx="3673440" cy="439272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000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142880" y="907920"/>
            <a:ext cx="454356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Times New Roman"/>
              </a:rPr>
              <a:t>Вентур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озбудитель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парши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 яблонях и грушах и других плодовых деревьях Инфицированная грибом мякоть плодов становится деревянистой, плоды часто не вызревают, трескаются. Деревья обрабатывают фунгицид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Гриб-паразит вентурия вызывает паршу"/>
          <p:cNvPicPr/>
          <p:nvPr/>
        </p:nvPicPr>
        <p:blipFill>
          <a:blip r:embed="rId1"/>
          <a:stretch/>
        </p:blipFill>
        <p:spPr>
          <a:xfrm>
            <a:off x="179280" y="1773360"/>
            <a:ext cx="3745080" cy="424800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000320" y="1628640"/>
            <a:ext cx="44542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ще один вид головни паразита —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пыльная головня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ревращающий колосья пшеницы в пылистую сажистую массу, а сами колосья издали имеют вид обгоревш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Пылистая головн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оражает все части колоса за исключением стержня.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Твердая головн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оражает лишь зерна в колос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7" descr="Пыльная головня у злаков"/>
          <p:cNvPicPr/>
          <p:nvPr/>
        </p:nvPicPr>
        <p:blipFill>
          <a:blip r:embed="rId1"/>
          <a:stretch/>
        </p:blipFill>
        <p:spPr>
          <a:xfrm>
            <a:off x="826920" y="1700280"/>
            <a:ext cx="2930760" cy="489744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br>
              <a:rPr sz="5700"/>
            </a:b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875120" y="1599840"/>
            <a:ext cx="3811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Грибы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паразиты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могут быть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факультативными</a:t>
            </a:r>
            <a:r>
              <a:rPr b="1" i="1" lang="ru-RU" sz="2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i="1" lang="ru-RU" sz="2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облигатными</a:t>
            </a:r>
            <a:r>
              <a:rPr b="1" i="1" lang="ru-RU" sz="2000" spc="-1" strike="noStrike">
                <a:solidFill>
                  <a:srgbClr val="b2b2b2"/>
                </a:solidFill>
                <a:latin typeface="Arial"/>
              </a:rPr>
              <a:t>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аще паразитируют на растениях, чем на живот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Облигатные паразиты</a:t>
            </a:r>
            <a:r>
              <a:rPr b="1" i="1" lang="ru-RU" sz="2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 вызывают гибели своих хозяев и ограничены узким кругом хозяев, от которых им нужен специфический набор питательных веще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915840" y="1600200"/>
            <a:ext cx="3808440" cy="45306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br>
              <a:rPr sz="5700"/>
            </a:b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1640" y="1599840"/>
            <a:ext cx="4357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Факультативные парази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асто вызывают гибель своих хозяев и потом живут сапрофитно на мертвых остат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и менее специализированы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стут и развиваются на разных субстратах и разных хозяев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Гриб-паразит ризопус"/>
          <p:cNvPicPr/>
          <p:nvPr/>
        </p:nvPicPr>
        <p:blipFill>
          <a:blip r:embed="rId1"/>
          <a:stretch/>
        </p:blipFill>
        <p:spPr>
          <a:xfrm>
            <a:off x="900000" y="2133720"/>
            <a:ext cx="3456000" cy="417492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br>
              <a:rPr sz="5700"/>
            </a:b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875120" y="1599840"/>
            <a:ext cx="3811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громное количество болезней растений возникает в результате их поражения разнообразными грибами-парази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Споры грибов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образующиеся в огромных количествах, распространяются водой и воздушными потоками и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проникают в тело растения через повреждения покровов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3600720" cy="573264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br>
              <a:rPr sz="5700"/>
            </a:b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000680" y="999720"/>
            <a:ext cx="4690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Грибы-трутов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Спора трутов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попав на ранку в дереве, прорастает в грибницу и разрушает древесину. Через несколько лет образуются многолетние копытообразные плодовые тела. Трутовики выделяют ферменты, разрушающие древесину и превращающие ее в трух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аже после 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гибели дере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гриб продолжает жить на мертвом субстрате (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как сапротроф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ежегодно производя большое количество спор и заражая здоровые деревья. Поэтому погибшие деревья и плодовые тела трутовиков рекомендуется удалять из ле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3811680" cy="405756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692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875120" y="836640"/>
            <a:ext cx="381168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Times New Roman"/>
              </a:rPr>
              <a:t>Гриб-трутови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торый растет на стволах берез. Этот гриб-паразит поселяется еще на живых деревьях, а когда они погибают, трутовик продолжает жить на мертвом субстрате, ведя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сапрофитный образ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Гриб-трутовик"/>
          <p:cNvPicPr/>
          <p:nvPr/>
        </p:nvPicPr>
        <p:blipFill>
          <a:blip r:embed="rId1"/>
          <a:stretch/>
        </p:blipFill>
        <p:spPr>
          <a:xfrm>
            <a:off x="539640" y="1700280"/>
            <a:ext cx="3240360" cy="439272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br>
              <a:rPr sz="5100"/>
            </a:br>
            <a:endParaRPr b="0" lang="en-US" sz="5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51280" y="980640"/>
            <a:ext cx="5292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Ржавчинные грибы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торые в процессе своего жизненного цикла меняют несколько хозяев. Благодаря жизнедеятельности грибов рода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пукциния Puccini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обратной стороне листьев возникают подушечки или полосочки бурого и оранжевого цвета. На верхней поверхности гриб обнаружить можно лишь под микроскопом: возникают </a:t>
            </a:r>
            <a:r>
              <a:rPr b="0" i="1" lang="ru-RU" sz="2400" spc="-1" strike="noStrike">
                <a:solidFill>
                  <a:srgbClr val="0000cc"/>
                </a:solidFill>
                <a:latin typeface="Arial"/>
              </a:rPr>
              <a:t>кувшинообразные вместилищ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Меры борьб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 ржавчинными грибами — опыливание растений коллоидной (молотой) сер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479760" cy="45306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24360" y="980640"/>
            <a:ext cx="4935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Спорын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гко обнаруживается в период цветения: на колосьях среди зерновок хорошо заметны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черно-фиолетовые рожки, выступающие из коло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состоят из плотно переплетенных гифов. Это стадия покоя гриба. 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В период созревания ржи они опадают на землю и зимуют под снегом. Весной на них образуются шаровидные головки красноватого цвета на длинных ножках. Созревание спор происходит во время цветения рж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2664000" cy="481788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564000" y="980640"/>
            <a:ext cx="51228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Распростра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ити гриба выделяют сладкую жидкость —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медвяную рос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привлекающую насеком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Конидии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попав на завязь, образуют грибницу, которая к осени уплотняется, наружные слои ее окрашиваются, и вместо зерновки в колосе формируются рож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Рожки спорыньи содержат ядовитые алкалоиды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ещество-алкалоид эрготин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 которые, попадая в организм человека, вызывают отравление (иногда со смертельным исходом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 Попадая в муку, гриб способен вызывать сужение кровеносных сосудов и судороги мышц. Действие этого алкалоида используют в гинекологической практике, поэтому спорынью даже выращивают на особо охраняемых участках для медицинских целей. Отравление грибом, содержание которого в муке составляет выше 0,06% может закончиться летальным исхо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3335400" cy="48247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20:02:01Z</dcterms:created>
  <dc:creator>Admin</dc:creator>
  <dc:description/>
  <dc:language>en-US</dc:language>
  <cp:lastModifiedBy>LEGION</cp:lastModifiedBy>
  <dcterms:modified xsi:type="dcterms:W3CDTF">2014-11-25T09:33:51Z</dcterms:modified>
  <cp:revision>6</cp:revision>
  <dc:subject/>
  <dc:title>Царство Грибы.</dc:title>
</cp:coreProperties>
</file>