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F401-3B29-4086-9937-069DB4164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я. Многообразие живых организм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0944-7084-4C60-BF0A-8A75512904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гменты и пласт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FF6B-F233-4823-9470-45A47A4E50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Аукс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адают высокой физиологической активностью («Гетероауксин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рост клетки в фазах раст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т рост клеток кам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авливают взаимодействие отдель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коррелятив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 влияет на скорость созревания пл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Гибберелли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товые вещества растений («Завяз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101D-2661-4E17-AC62-81CCD935B6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итогормоны регулируют многие процессы жизнедеятельности раст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2296-3B42-4F90-B37E-6D26B2AB79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Целлюлоза – основ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1B47-EECE-4040-8C4A-646D2EDDBA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 органических веществ: аминокислот, белков, углеводов, дубильных веще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ённые неорганически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ург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пряжение клеточной ст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709C-71BF-4F1A-920C-EE611EE60E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7E9A-E8C4-4F67-9E92-80257CB136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знаки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аличие в клетках пиг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деление растительных горм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летки окружены клеточной стенкой, образованной целлюл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бязательный продукт обмена – 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F3C7-BD0D-4DB3-98C5-6C638BD34B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0ED5-84EF-4ACC-A863-EC2C702A1A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54A8-2405-479E-AE8A-9D35861019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0EF1-46B9-4CD7-B175-A5BD7EFACB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мире насчитывается более 350 тыс. видов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оставляют около 95% от всей </a:t>
            </a: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биома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Фл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овокупность всех растений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CAC2-A0AA-417D-B78F-0C43185DBE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з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до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с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х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лаун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воще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поротник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крыт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57F4-7228-498D-84FF-DFAB535186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4D87-C55A-4F36-BD30-AB3F64559E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астения –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авт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образуют органическую биомассу (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91D4-0FC1-4133-AB6B-1A6B72C020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г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1466-B31B-402A-9C6D-12366C5CF9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67F-7FE9-49B6-9AB9-03A9ACA5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D32-A22E-4C6C-AFE8-7C282389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D70-05C3-4677-A523-78225760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3CF-37B6-40DD-90A0-324294FF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8CC7-890C-4A38-AF02-E10885E9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4B0C-D907-4BAF-A42D-FDCDBC72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4838-C721-4D15-A19C-8D0E305D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A8E5-35F1-483F-8091-6AA9464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317A-0B61-454F-8CC4-C36424CF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A41C-7D72-4BE1-B46A-C9738398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DAEC-396E-4E34-A52B-C2A9CFDA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C99-A490-4A9B-8EEF-39D6611F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C080-0A54-442F-92A5-A4F17C71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A424-414A-41F9-BFFA-30E7EF47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E74B-C23C-4562-BBD7-83CCC77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250E-F074-4784-A5E6-8372DECA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8D87-2FF5-442F-AF77-2EFFFE0C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633-C8A2-422E-9467-C821F122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A99-2040-4649-BA6D-BF391522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7C6-6CFE-4E90-B59B-BDCAD56D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B4A-7DD5-4581-8631-1A738CF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2F1-7831-4B7E-910F-A4FF10D2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ED8-F9EF-4C02-98D1-50F9308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A22-5A9B-4E03-BB04-F0E56BF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677E-2FB9-47A3-A21A-814EB0CA1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F3A5-A354-4640-8F4F-CE70653557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2468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Биология. Многообразие живых организмов.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7 класс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арство Раст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90920" y="4648320"/>
            <a:ext cx="4495680" cy="1600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0-2011 учеб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ак Ольг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игменты и пластид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3.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562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5000"/>
                </a:solidFill>
                <a:latin typeface="Arial"/>
              </a:rPr>
              <a:t>Аукси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ладают высокой физиологической активностью («Гетероауксин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ют на рост клетки в фазах растя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уют рост клеток камб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авливают взаимодействие отдельных орга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ируют коррелятивны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лен влияет на скорость созревания пл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Гибберелли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стовые вещества растений («Завязь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3114720" cy="20764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Фитогормоны регулируют многие процессы жизнедеятельности расте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60560" cy="358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4.Целлюлоза – основа клеточной стен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36960" cy="44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4800600" y="5257800"/>
            <a:ext cx="4114800" cy="990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люлоза – это основа древес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5.Клеточный со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 органических веществ: аминокислот, белков, углеводов, дубильных веществ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ённые неорганически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Тург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пряжение клеточной ст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637000" cy="383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48320" y="6248520"/>
            <a:ext cx="4038480" cy="3808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ьице закрытое и открыт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6.Неограниченный рос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4419720" y="6019920"/>
            <a:ext cx="4419360" cy="5331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гантские секво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657600" cy="2911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57200" y="5181480"/>
            <a:ext cx="3429000" cy="6858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 Р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сновные признаки растений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аличие в клетках пиг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Выделение растительных горм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Клетки окружены клеточной стенкой, образованной целлюлоз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Обязательный продукт обмена – клеточный 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еограниченный р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21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97964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33520" y="401796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85800" y="3352680"/>
            <a:ext cx="236232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6324480"/>
            <a:ext cx="228600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п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800600" y="2666880"/>
            <a:ext cx="16765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кролик"/>
          <p:cNvPicPr/>
          <p:nvPr/>
        </p:nvPicPr>
        <p:blipFill>
          <a:blip r:embed="rId4"/>
          <a:stretch/>
        </p:blipFill>
        <p:spPr>
          <a:xfrm>
            <a:off x="4191120" y="3962520"/>
            <a:ext cx="304776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7315200" y="5029200"/>
            <a:ext cx="1600200" cy="5335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395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4419720"/>
            <a:ext cx="198108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53080" y="4419720"/>
            <a:ext cx="20574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6095880"/>
            <a:ext cx="25909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щая характеристика растен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мире насчитывается более 350 тыс. вид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 составляют около 95% от всей </a:t>
            </a: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биомас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Фло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вокупность всех растений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247920" cy="3217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Низ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до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Выс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х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лаун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още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апоротник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ол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крыт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биом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2438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1. фотосинте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стения – 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автотро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образуют органическую биомассу (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вишня№2"/>
          <p:cNvPicPr/>
          <p:nvPr/>
        </p:nvPicPr>
        <p:blipFill>
          <a:blip r:embed="rId1"/>
          <a:stretch/>
        </p:blipFill>
        <p:spPr>
          <a:xfrm>
            <a:off x="4952880" y="18288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952880" y="5105520"/>
            <a:ext cx="38862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ды виш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743200" cy="206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380880" y="6248520"/>
            <a:ext cx="4191120" cy="3045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дро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. пигмент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152280" y="4724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80880" y="4724280"/>
            <a:ext cx="3581640" cy="1524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пигмент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5029200"/>
            <a:ext cx="4495680" cy="13716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нжевые, желтые, 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о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помидор"/>
          <p:cNvPicPr/>
          <p:nvPr/>
        </p:nvPicPr>
        <p:blipFill>
          <a:blip r:embed="rId2"/>
          <a:stretch/>
        </p:blipFill>
        <p:spPr>
          <a:xfrm>
            <a:off x="6553080" y="11430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перец"/>
          <p:cNvPicPr/>
          <p:nvPr/>
        </p:nvPicPr>
        <p:blipFill>
          <a:blip r:embed="rId3"/>
          <a:stretch/>
        </p:blipFill>
        <p:spPr>
          <a:xfrm>
            <a:off x="4648320" y="2971800"/>
            <a:ext cx="251460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4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