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2292-6523-4BE4-BDD1-C904183AFD4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емноводные - амфиб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СХВ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ягушки, жабы, квакши, жерлянки, шпорцевые лягушки, п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ХВОСТАТЫЕ, 340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тритоны, саламандры, амбис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ЗНОГИЕ, 165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- червя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9818-4C16-4E19-8691-0694E26F989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Строение и функци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еспечив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дополнительный газооб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ля этого голая, влажная, с большим количеством капилля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ь обеспечивает увлажнение,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щиту от инфекции, от кровосо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часто ядовита для защиты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от крупных плотояд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лад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рецепторной функ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Звездчатые клетки с пигментами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- окра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7E4C-75F0-4D9A-9152-304421D18F8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роение скелета 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ED61-C31B-4BC0-A981-60DB86322B5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делы скелета лягуш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ере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звоноч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вободные коне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: кости плеча, предплечья, ки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яя: кости бедра, голени, с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яса конеч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ий: лопатка, ключица, воронья кость; соединены с гру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ий: кости таза, соединены с крестц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B353-78E8-4F05-9C69-9C39049D01C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1F7D-0EE9-43BE-8CAE-7833DAA2827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ыха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B442-3364-4505-B89E-851009DB8E8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рв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DD6F-EFD1-4DDE-B161-8C204ADFE45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ка перемещением хрусталика; зрение обычно цве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объекты при их перемещ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8E72-7513-4D98-80DD-0828509D94C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рган сл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1C0C-13BF-46FB-9DAF-04B0F68B1E0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множение и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Раздельноп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одотворение наружное, наружно-внутреннее или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рождение, яйцеживорождение или живор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способны к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от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ловому размножению на личиночной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6EDE-CDD2-42BD-BCC5-B74353C77FC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олотль – личинка амбистомы (хвостатые амфиб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D5C3-64E4-417A-87F9-582AF53BCEB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пидистиевые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ресноводные кистепе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тегоцефалы (панцирноголовые</a:t>
            </a:r>
            <a:r>
              <a:rPr b="0" lang="ru-RU" sz="900" spc="-1" strike="noStrike">
                <a:solidFill>
                  <a:srgbClr val="a50021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CD11-95C6-49A7-B3C8-11F3BC262E5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хтиостега – представитель стегоцеф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F2B8-CCEA-4989-B973-AD0C7BF30C3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меры земнов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ног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6,5-15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Хвостатые  в  средн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– 7-3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Самые маленьк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а (карликовая мексиканская 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езлегочная саламанд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самые больш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 ме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ольшой  сир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,5 ме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исполинские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аламанд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Бесхвостые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т 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а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карликовая кубинск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а)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 25-3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жабы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ага и колумбийская гигантск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Рекорд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лягушка-голиаф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1A81-F69E-4423-AA28-AFF76C44B3F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Внешнее строение </a:t>
            </a:r>
            <a:br>
              <a:rPr sz="1200"/>
            </a:b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ации к наземно-воздушной сре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DC06-0FE3-4BA6-AB02-AE59A7408B7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ивущие на деревьях лягушки хорошо лаз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1000" spc="-1" strike="noStrike">
                <a:solidFill>
                  <a:srgbClr val="006600"/>
                </a:solidFill>
                <a:latin typeface="Calibri"/>
              </a:rPr>
              <a:t>.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7354-B25C-4F03-B707-0B695DDA09D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ерепрыгивают с ветки на ветк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FE1B-A0A3-43FB-80C3-9D5E41C0A5C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схвостые плавают «брассо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77BF-0DAB-41E1-9A9F-B747B4A4F94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67F-E858-4285-A818-AD362AC8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54F-90C8-4A85-8802-5C825AC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46E-F4CE-41D2-8966-127019B3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F7B-6A00-490A-8A94-1D2E47E3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CE8-5FFC-43CD-A040-66315306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E1C-050A-45FF-B1CB-807176DD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B3BD-88FE-4C3F-ACDE-844AE3F7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91A-87A9-4430-B25C-3E3E2DA2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8DA-55D2-42EC-88C3-7805DB9F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252-9D34-4B75-A15D-02585DA2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344-E7E0-43BF-AF3C-9C05FD54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3B7-6624-471B-B369-9F1BD3AC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7853-385E-4FA1-9354-A3CC097A7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емноводные - амфи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Безымянный"/>
          <p:cNvPicPr/>
          <p:nvPr/>
        </p:nvPicPr>
        <p:blipFill>
          <a:blip r:embed="rId1"/>
          <a:stretch/>
        </p:blipFill>
        <p:spPr>
          <a:xfrm>
            <a:off x="5029200" y="3886200"/>
            <a:ext cx="350532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зеленая лягушка"/>
          <p:cNvPicPr/>
          <p:nvPr/>
        </p:nvPicPr>
        <p:blipFill>
          <a:blip r:embed="rId2"/>
          <a:stretch/>
        </p:blipFill>
        <p:spPr>
          <a:xfrm>
            <a:off x="0" y="838080"/>
            <a:ext cx="3276720" cy="247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1776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СХВ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и, жабы, квакши, жерлянки, шпорцевые лягушки, пип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352680" y="20574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ХВОСТАТЫЕ, 340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- тритоны, саламандры, амбисто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6200" y="57801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ЗНОГИЕ, 165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 - червя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тритон"/>
          <p:cNvPicPr/>
          <p:nvPr/>
        </p:nvPicPr>
        <p:blipFill>
          <a:blip r:embed="rId3"/>
          <a:stretch/>
        </p:blipFill>
        <p:spPr>
          <a:xfrm>
            <a:off x="3886200" y="457200"/>
            <a:ext cx="3962520" cy="1644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457200"/>
            <a:ext cx="2514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троение и функции кож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-6480" y="792000"/>
            <a:ext cx="9525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еспечив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дополнительный газообм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ля этого голая, влажная, с большим количеством капилля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изь обеспечивает увлажнение,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защиту от инфекции, от кровосос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часто ядовита для защиты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от крупных плотояд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лад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рецепторной функц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Звездчатые клетки с пигментами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- окрас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скелет лягушк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438280" y="838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19320" y="228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оение скелета лягуш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457200"/>
            <a:ext cx="5791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елы скелета лягушк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звоноч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бодные конечнос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няя: кости плеча, предплечья, ки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няя: кости бедра, голени, сто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91320" y="3276720"/>
            <a:ext cx="3124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ояса конечносте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ий: лопатка, ключица, воронья кость; соединены с груд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ий: кости таза, соединены с крестц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3600" y="2819520"/>
            <a:ext cx="6858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2280" y="528804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дыхание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99072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0" y="3317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62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0" y="-152280"/>
            <a:ext cx="533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0" y="2286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ы зр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кусировка перемещением хрусталика; зрение обычно цветово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ят объекты при их перемещ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2388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Орган слух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129528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0020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ножение и разви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7150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-76320" y="148104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здельнопо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одотворение наружное, наружно-внутреннее или внутренне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ерождение, яйцеживорождение или живорожд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860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е виды способны к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т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оловому размножению на личиночной стад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аксол"/>
          <p:cNvPicPr/>
          <p:nvPr/>
        </p:nvPicPr>
        <p:blipFill>
          <a:blip r:embed="rId1"/>
          <a:srcRect l="0" t="0" r="0" b="7418"/>
          <a:stretch/>
        </p:blipFill>
        <p:spPr>
          <a:xfrm>
            <a:off x="952560" y="4286160"/>
            <a:ext cx="7467480" cy="2571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33216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солотль – личинка амбистомы (хвостатые амфиб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пидистиевые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сноводные кистепер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стегоцефалы (панцирноголовы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Безымянный"/>
          <p:cNvPicPr/>
          <p:nvPr/>
        </p:nvPicPr>
        <p:blipFill>
          <a:blip r:embed="rId1"/>
          <a:srcRect l="0" t="0" r="0" b="18253"/>
          <a:stretch/>
        </p:blipFill>
        <p:spPr>
          <a:xfrm>
            <a:off x="1600200" y="0"/>
            <a:ext cx="6019920" cy="2286000"/>
          </a:xfrm>
          <a:prstGeom prst="rect">
            <a:avLst/>
          </a:prstGeom>
          <a:ln w="19080">
            <a:solidFill>
              <a:srgbClr val="6699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0" y="261144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хтиостега – представитель стегоцефа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67652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руппа, переходная от кистеперых рыб к стегоцефал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32448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трахозав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тиосте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24080" y="3733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поспондил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600200" y="46483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600200" y="3504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3581280" y="4876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525780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V="1">
            <a:off x="6172200" y="48769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7620120" y="21333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525780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1600200" y="243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H="1" flipV="1">
            <a:off x="1371240" y="106632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324480" y="990720"/>
            <a:ext cx="259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мур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мыкающиеся) 270 млн. лет 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58128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Бесхвост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9810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востат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04920" y="533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Безног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1536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ры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3818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ног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,5-1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Хвостатые  в  средн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– 7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Самые маленьк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а (карликовая мексиканская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злегочная саламанд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самые больш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ме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ольшой  сир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5 метр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сполинские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ламандр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Бесхвостые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а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ликовая кубинск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а)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 25-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жабы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га и колумбийская гигантск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Рекорд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ягушка-голиа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7280" y="1324080"/>
            <a:ext cx="525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нешнее строение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ляг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троение лягушки"/>
          <p:cNvPicPr/>
          <p:nvPr/>
        </p:nvPicPr>
        <p:blipFill>
          <a:blip r:embed="rId1"/>
          <a:stretch/>
        </p:blipFill>
        <p:spPr>
          <a:xfrm>
            <a:off x="228600" y="35388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308720" y="1125360"/>
            <a:ext cx="115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3071880"/>
            <a:ext cx="8686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аптации к наземно-воздушной сред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67816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324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лазание ляг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прыгивают с ветки на вет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594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планир ляг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схвостые плавают «брасс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лаван ляг"/>
          <p:cNvPicPr/>
          <p:nvPr/>
        </p:nvPicPr>
        <p:blipFill>
          <a:blip r:embed="rId1"/>
          <a:stretch/>
        </p:blipFill>
        <p:spPr>
          <a:xfrm>
            <a:off x="1219320" y="609480"/>
            <a:ext cx="633708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7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