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B740-F358-4EDC-B651-30E121C1689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мноводные - амфиб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СХВ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ягушки, жабы, квакши, жерлянки, шпорцевые лягушки, п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ХВОСТАТЫЕ, 340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тритоны, саламандры, амбис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ЗНОГИЕ, 165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- червя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55C-0E94-4EED-A5FA-2414CF5EE6F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Строение и функци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еспечив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дополнительный газооб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ля этого голая, влажная, с большим количеством капилля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ь обеспечивает увлажнение,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щиту от инфекции, от кровосо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часто ядовита для защиты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от крупных плотояд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лад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рецепторной функ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Звездчатые клетки с пигментами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- окра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2ACC-CC7A-4EEC-8B05-8EF45BF2278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роение скелета 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8025-A84F-4045-BB43-3AA2384E5BC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делы скелета лягуш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ере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звоноч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вободные коне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: кости плеча, предплечья, к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яя: кости бедра, голени, с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яса конеч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ий: лопатка, ключица, воронья кость; соединены с гру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ий: кости таза, соединены с крестц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9E0F-122B-4BFF-AF51-1E75C4A417D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811-74E9-41C6-A1F4-376DC656BF2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ыха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907B-5356-4B11-9D46-88F9B70FB4D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5800-A96A-4CC5-8E03-6C903138A0F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ка перемещением хрусталика; зрение обычно цве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объекты при их перемещ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ED6C-BDFF-4A59-8239-360A7BB8841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рган сл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5C94-F533-469D-B410-EA78E5AAB64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Раздельноп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наружное, наружно-внутреннее или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рождение, яйцеживорождение или живор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способны к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от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ловому размножению на личиночной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603F-4220-470E-9132-BC8F909AEE7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олотль – личинка амбистомы (хвостатые амфиб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69AA-08F8-48B9-8454-3337E933ADD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пидистиевые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ресноводные кистепе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тегоцефалы (панцирноголовые</a:t>
            </a:r>
            <a:r>
              <a:rPr b="0" lang="ru-RU" sz="900" spc="-1" strike="noStrike">
                <a:solidFill>
                  <a:srgbClr val="a50021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B88-C785-42A7-A559-71ECE79E794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хтиостега – представитель стегоцеф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68AE-E193-4E14-9AE6-33A38AA42D5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меры земнов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ног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6,5-15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Хвостатые  в  средн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– 7-3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Самые маленьк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а (карликовая мексиканская 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езлегочная саламанд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самые больш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 ме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ольшой  сир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,5 ме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исполинские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аламанд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Бесхвостые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т 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а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карликовая кубинск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а)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 25-3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жабы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ага и колумбийская гигантск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Рекорд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лягушка-голиаф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49B1-2FFC-4C51-A3FA-0E78DEAFB54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Внешнее строение </a:t>
            </a:r>
            <a:br>
              <a:rPr sz="1200"/>
            </a:b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ации к наземно-воздушной сре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DBB4-4F05-4B4E-A239-186BF94FEE6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ивущие на деревьях лягушки хорошо лаз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1000" spc="-1" strike="noStrike">
                <a:solidFill>
                  <a:srgbClr val="006600"/>
                </a:solidFill>
                <a:latin typeface="Calibri"/>
              </a:rPr>
              <a:t>.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ED4A-DD94-46AB-BCD6-83709E50A55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ерепрыгивают с ветки на ветк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D93D-418D-4E40-B1F5-9F9A76FD85B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схвостые плавают «брассо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6162-E17E-4B04-B888-6D9007CCEAD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3E0-221F-48B3-8514-A9FB5BAE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267-5A24-43A8-B249-D2AEB363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082-55DD-45BA-9F2E-29013D1E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480-5C9D-4D8C-83CD-9B9DD5D4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657-3D7C-40A3-AF60-67B8468B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A8B-320C-458A-AE4F-79BE9DD3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94A-663F-4F51-83F3-6E3A7B1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E9F-A049-4663-A44C-48509035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394-CFF3-4C1F-A660-13E25AD2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C1A-B92C-4F3E-AE08-10EC4654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255-9859-43B1-9184-6F48A5B3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36C-0359-440E-BA6A-4EBC77B4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65F8-3B5D-4041-82CE-B6B002105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емноводные - амфи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Безымянный"/>
          <p:cNvPicPr/>
          <p:nvPr/>
        </p:nvPicPr>
        <p:blipFill>
          <a:blip r:embed="rId1"/>
          <a:stretch/>
        </p:blipFill>
        <p:spPr>
          <a:xfrm>
            <a:off x="5029200" y="3886200"/>
            <a:ext cx="35053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еленая лягушка"/>
          <p:cNvPicPr/>
          <p:nvPr/>
        </p:nvPicPr>
        <p:blipFill>
          <a:blip r:embed="rId2"/>
          <a:stretch/>
        </p:blipFill>
        <p:spPr>
          <a:xfrm>
            <a:off x="0" y="838080"/>
            <a:ext cx="3276720" cy="247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1776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СХВ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и, жабы, квакши, жерлянки, шпорцевые лягушки, пип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352680" y="20574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ХВОСТАТЫЕ, 340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- тритоны, саламандры, амбисто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6200" y="57801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ЗНОГИЕ, 165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 - червя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тритон"/>
          <p:cNvPicPr/>
          <p:nvPr/>
        </p:nvPicPr>
        <p:blipFill>
          <a:blip r:embed="rId3"/>
          <a:stretch/>
        </p:blipFill>
        <p:spPr>
          <a:xfrm>
            <a:off x="3886200" y="457200"/>
            <a:ext cx="3962520" cy="164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457200"/>
            <a:ext cx="2514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троение и функции кож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-6480" y="792000"/>
            <a:ext cx="952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еспечив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ополнительный газообм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ля этого голая, влажная, с большим количеством капилля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изь обеспечивает увлажнение,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защиту от инфекции, от кровосос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часто ядовита для защиты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от крупных плотояд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лад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цепторной функ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Звездчатые клетки с пигментами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- окрас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скелет лягушк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38280" y="838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19320" y="228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ение скелета лягуш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57200"/>
            <a:ext cx="5791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елы скелета лягушк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звоноч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бодные конечно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няя: кости плеча, предплечья, ки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няя: кости бедра, голени, сто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91320" y="3276720"/>
            <a:ext cx="3124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ояса конечнос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ий: лопатка, ключица, воронья кость; соединены с груд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й: кости таза, соединены с крестц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3600" y="2819520"/>
            <a:ext cx="6858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52880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ыхание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99072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3317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62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0" y="-152280"/>
            <a:ext cx="533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0" y="2286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ы зр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кусировка перемещением хрусталика; зрение обычно цветово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ят объекты при их перемещ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238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Орган слух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12952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0020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ножение и разви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7150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-76320" y="148104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здельнопо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одотворение наружное, наружно-внутреннее или внутренн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ерождение, яйцеживорождение или живоро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860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е виды способны к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т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оловому размножению на личиночной стад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аксол"/>
          <p:cNvPicPr/>
          <p:nvPr/>
        </p:nvPicPr>
        <p:blipFill>
          <a:blip r:embed="rId1"/>
          <a:srcRect l="0" t="0" r="0" b="7418"/>
          <a:stretch/>
        </p:blipFill>
        <p:spPr>
          <a:xfrm>
            <a:off x="952560" y="4286160"/>
            <a:ext cx="7467480" cy="2571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33216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солотль – личинка амбистомы (хвостатые амфиб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пидистиевые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сноводные кистепер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стегоцефалы (панцирноголовы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Безымянный"/>
          <p:cNvPicPr/>
          <p:nvPr/>
        </p:nvPicPr>
        <p:blipFill>
          <a:blip r:embed="rId1"/>
          <a:srcRect l="0" t="0" r="0" b="18253"/>
          <a:stretch/>
        </p:blipFill>
        <p:spPr>
          <a:xfrm>
            <a:off x="1600200" y="0"/>
            <a:ext cx="6019920" cy="22860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0" y="261144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хтиостега – представитель стегоцефа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67652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уппа, переходная от кистеперых рыб к стегоцефал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244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трахозав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тиосте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24080" y="3733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поспондил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00200" y="4648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600200" y="3504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581280" y="4876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525780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6172200" y="4876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7620120" y="21333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525780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1600200" y="243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H="1" flipV="1">
            <a:off x="1371240" y="106632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324480" y="990720"/>
            <a:ext cx="259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мур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мыкающиеся) 270 млн. лет 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58128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Бесхвост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810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востат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Безног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1536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ры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3818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ног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,5-1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Хвостатые  в  средн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– 7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Самые маленьк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а (карликовая мексиканская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злегочная саламанд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самые больш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ме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ольшой  сир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5 мет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сполинские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ламандр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Бесхвостые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а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ликовая кубинск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а)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 25-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жабы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га и колумбийская гигантск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Рекорд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ягушка-голи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7280" y="1324080"/>
            <a:ext cx="52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нешнее строение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ляг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троение лягушки"/>
          <p:cNvPicPr/>
          <p:nvPr/>
        </p:nvPicPr>
        <p:blipFill>
          <a:blip r:embed="rId1"/>
          <a:stretch/>
        </p:blipFill>
        <p:spPr>
          <a:xfrm>
            <a:off x="228600" y="353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308720" y="1125360"/>
            <a:ext cx="115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3071880"/>
            <a:ext cx="8686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аптации к наземно-воздушной сред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67816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24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азание ляг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прыгивают с ветки на в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594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ланир ляг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схвостые плавают «брасс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лаван ляг"/>
          <p:cNvPicPr/>
          <p:nvPr/>
        </p:nvPicPr>
        <p:blipFill>
          <a:blip r:embed="rId1"/>
          <a:stretch/>
        </p:blipFill>
        <p:spPr>
          <a:xfrm>
            <a:off x="1219320" y="609480"/>
            <a:ext cx="63370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7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