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D297-7027-44A9-A815-B11D9249D5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в медицине и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6C8E-09BE-40F0-A756-E0B2A97B385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е 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FA0B-5FD8-4FB4-AD9E-EB4ACE1B307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4D63-8D5B-4638-BC7D-77D4654D302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характеристики понятия «качество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ость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больного в оценке своего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BEBA-7818-4A4F-A857-552D05ACD0F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08D-75B3-4716-9E1C-4871C38B0F3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408D-63E5-418A-822A-075FA1703C0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просник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специализиров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ук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3F2F-5D18-4D6C-97DB-6F849D9BE98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ckness Impact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QoL-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EFA-37DF-41B9-B84A-C27A0F57E0C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ы для изучения качества жизни у отдельных категорий и групп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ointestinal Symptom Ratin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hritis Impact Measuremen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Assessment of Multiple Scle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Health Qualit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6973-F82B-4D16-BCCF-D897FC92CE3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просникам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та и крат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лемость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в различных языковых и социальных культу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6C30-F827-4B12-81CE-C8D12369670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развития концепции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кая специализация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уровневая структура благополуч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8A91-0E5C-4704-90AF-330628DE705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метрические свойства опросника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257E-D081-4E81-89A0-21097A48371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reliability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казатель точности и постоянства изме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9126-708C-488F-9ACE-4FFC41CAACA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3430-1461-49F6-8F48-305DFD28655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8158-C492-43DD-B238-9FF784A0BAC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F42D-5BBA-4E6E-9DAA-8D6EFFDF263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164-F52F-4CF7-9EB6-CFCC446C917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апы разработки опросника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еречня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сихометрических характеристик (валид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813E-88FC-469C-A49C-B09C28DFE5A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состоит из 6 доме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не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9BD1-EAA8-4A06-9BD8-268D373A648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и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и дискомф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 и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A603-E219-46D3-BA09-71A2299A104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вопроса ВОЗКЖ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E898-9779-47FC-AB59-A6233DF5BAC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мые варианты лечения сарком мягких тк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 с сохранением конечности с последующей лучевой терап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путация 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8CB1-53B4-4B37-9B83-7BE0BAAE2F7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этапы исследования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токол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ирование данных опро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ая обработка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интерпретация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F763-ACB9-4A7F-BDE7-B88E1F737C2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 исследования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включения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зайн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клинического обследова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бъема выб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ндом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для участников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е согласие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DFD6-D7A1-4058-874B-24B56FCB7CD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сследования качества жизни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лечения на параметры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лекарственных препаратов и метод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ое значение параметров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как критерий ремиссии и выздор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мониторинг показателей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оциально-медицинских популяцион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995D-CE26-4273-B4D9-B3FECC2211E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фармакоэкономики и 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F7E8-398D-47C9-93D3-5CC84B50EE7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необходим фармакоэкономический анали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43B6-DDFE-4839-A4B1-1EB9309BC37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(quality-adjusted life year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 с поправкой на его ка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ет значения от 0 до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год абсолютно здоровой жизни оценивается как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, прожитый с проблемами со здоровьем, оценивается меньше 1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года жизни, оцененные как 0,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няются одному году здоровой жизни, т.е.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C5B7-9B12-4533-8F21-D7422A6D2B2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заболевания на качество и продолжительност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016F-0071-41B0-A815-1496BA5EE64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анализа «стоимость-эффектив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1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6-0,5)=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т 1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4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7-0,5)=2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яет 2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1615-BC23-4380-AC9D-FB0621A1F4F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E47A-3D8E-429B-A87C-612295F5B02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4AEE-6E28-43E0-9B0A-58208A18F15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84C8-A980-4358-B2C8-D4CDED6BBAB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62AB-D3D0-4C0F-A7F8-89CEB20D61D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CF11-24D8-4CCD-A3AB-94E465A5A22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5CD3-918B-4A86-A9E3-2F9E0C61033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D35-24A6-47F8-9221-CFFB9EA4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E40-EE85-4B2C-8E10-E48F10E6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A50-8EBD-45E5-BAD7-A68CF835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421-4A8B-4CE6-976B-599C8DD4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24DD-B9AA-45C2-874E-4BC75F94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FCD0-6C8D-4EB8-A279-500ECF6B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9B69-B91F-4957-9D50-A84B2257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4B07-290D-46BE-8DD7-3C608492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DCAF-3339-4C5D-B790-1A7F961C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6FF0-FA68-469E-9EBA-708E864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5477-F35A-4DD4-B55D-102B0DAC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357-AC19-4145-B028-C7C89E0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DAC2-B9CE-4DB8-BF94-32718892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B883-2DB3-4A03-A2A1-CC90A018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972D-4AFA-45D1-B87D-92BF41C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3462-C007-4FF5-B08F-01149C15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6E5E-EBED-46D0-BC1B-0A8C15AF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C37-14FF-401F-9017-A27979CB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E51-487A-4E6C-90A8-389F4043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8DA-5653-4A34-A79B-8653D38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D42-268C-485A-A05E-4D841196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A7C-7C34-4B12-9B18-5A5B1A1F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B40-A153-4153-8C26-CDCD832D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78D-4D56-4E93-82BC-EBBD47AA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0B34-C4FC-42B8-B5CE-B84838410E55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2CD5-8448-43D4-8B16-45B02EFEB7FF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в медицине и здравоохранени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Program Files\Common Files\Microsoft Shared\Clipart\cagcat50\PE01023_.wmf"/>
          <p:cNvPicPr/>
          <p:nvPr/>
        </p:nvPicPr>
        <p:blipFill>
          <a:blip r:embed="rId1"/>
          <a:stretch/>
        </p:blipFill>
        <p:spPr>
          <a:xfrm>
            <a:off x="1828800" y="2612880"/>
            <a:ext cx="2363760" cy="371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809880" y="533520"/>
            <a:ext cx="2971800" cy="2209680"/>
          </a:xfrm>
          <a:prstGeom prst="cloudCallout">
            <a:avLst>
              <a:gd name="adj1" fmla="val -42629"/>
              <a:gd name="adj2" fmla="val 69972"/>
            </a:avLst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6" descr="C:\Documents and Settings\Andrey\My Documents\My Pictures\80378801.jpg"/>
          <p:cNvPicPr/>
          <p:nvPr/>
        </p:nvPicPr>
        <p:blipFill>
          <a:blip r:embed="rId2"/>
          <a:stretch/>
        </p:blipFill>
        <p:spPr>
          <a:xfrm>
            <a:off x="4495680" y="838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276360" cy="2931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сихолог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ухов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8320" y="1980720"/>
            <a:ext cx="320364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Не 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коном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676520" y="0"/>
            <a:ext cx="6933960" cy="693432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характеристики понятия «качество жизни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 качества жиз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зменяемость во време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астие больного в оценке своего состоя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328680" y="1941480"/>
          <a:ext cx="8208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41480"/>
                    <a:ext cx="8208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336600" y="1792440"/>
          <a:ext cx="82170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792440"/>
                    <a:ext cx="8217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лассификация опросник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епени специализирован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щи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пециальны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руктур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офильны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дек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бщи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F-3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OQoL-1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ckness Impact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tingham Health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roQoL-5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пециальны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назначены для изучения качества жизни у отдельных категорий и групп пациен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strointestinal Symptom Rating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thritis Impact Measurement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nctional Assessment of Multiple Scler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al Health Quality of Lif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я к опросникам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та и кратк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емлемость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нимость в различных языковых и социальных культура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едпосылки развития концепции качества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зкая специализация в медици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уровневая структура благополучия челове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сихометрические свойства опросника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дежность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алидност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(valid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увствительнос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sensitiv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деж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reliability)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оказатель точности и постоянства измер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ность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id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увствитель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ensitiv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ультурная и языковая адаптаци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2133720"/>
            <a:ext cx="22100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3124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Два независимых прямых перевод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29000" y="2209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3048120"/>
            <a:ext cx="205740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ари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ный перевод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400800" y="2286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Экспертиз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24480" y="3124080"/>
            <a:ext cx="2133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-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24480" y="39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илотное тестир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324480" y="5029200"/>
            <a:ext cx="21337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ча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666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7524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2438280" y="2514240"/>
            <a:ext cx="121932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5334120" y="2590560"/>
            <a:ext cx="129528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7315200" y="25909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7315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5562720" y="2590920"/>
            <a:ext cx="91440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аци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Этапы разработки опросника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кращение перечня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варительное тестиров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ценка психометрических характеристик (валидаци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ультурная и языковая адапт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осник состоит из 6 домен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изическое здоровь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ологическое состоя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ровень независим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циальные отнош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уховная сфе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нергия и слабост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оль и дискомфор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н и отд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вопроса ВОЗКЖ-1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60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2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спокоитесь ли Вы по поводу физических болей или дискомфорта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8400" y="3300480"/>
            <a:ext cx="8694000" cy="950760"/>
            <a:chOff x="68400" y="3300480"/>
            <a:chExt cx="8694000" cy="950760"/>
          </a:xfrm>
        </p:grpSpPr>
        <p:sp>
          <p:nvSpPr>
            <p:cNvPr id="212" name="Rectangle 4"/>
            <p:cNvSpPr/>
            <p:nvPr/>
          </p:nvSpPr>
          <p:spPr>
            <a:xfrm>
              <a:off x="684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овсем нет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180684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ал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35460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редн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528480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02396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пред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следуемые варианты лечения сарком мягких тканей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ерация с сохранением конечности с последующей лучевой терапи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мпутация конечност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сновные этапы исследования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протокол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бор инструмент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бор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ормирование базы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Шкалирование данных опросни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и интерпретация результа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отокол исследования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Цели и задачи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итерии включения больн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изайн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рта клинического обследования больног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исание инструмента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ределение объема выбор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етод рандом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струкция для участников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ированное согласие пациен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правления исследования качества жизни в медицин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лечения на параметры качества жизни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ценка эффективности лекарственных препаратов и методов леч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гностическое значение параметров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ество жизни как критерий ремиссии и выздоровл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ндивидуальный мониторинг показателей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ведение социально-медицинских популяционных исследова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ы фармакоэкономики и 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огда необходим фармакоэкономический анализ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80" y="1941480"/>
          <a:ext cx="820872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ый метод лечения по сравнению со стандартным …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орож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ешевл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ен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верг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л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риним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(quality-adjusted life year) –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 с поправкой на его качеств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нимает значения от 0 до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дин год абсолютно здоровой жизни оценивается как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, прожитый с проблемами со здоровьем, оценивается меньше 1,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а года жизни, оцененные как 0,5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равняются одному году здоровой жизни, т.е.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лияние заболевания на качество и продолжительность жизни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7" name="Object 0"/>
          <p:cNvGraphicFramePr/>
          <p:nvPr/>
        </p:nvGraphicFramePr>
        <p:xfrm>
          <a:off x="345960" y="1943280"/>
          <a:ext cx="81979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943280"/>
                    <a:ext cx="81979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анализа «стоимость-эффективность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1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6-0,5)=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оставляет 1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4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7-0,5)=2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оставляет 2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1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9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2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8"/>
          <p:cNvSpPr/>
          <p:nvPr/>
        </p:nvSpPr>
        <p:spPr>
          <a:xfrm>
            <a:off x="1143000" y="228600"/>
            <a:ext cx="6629400" cy="6629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286000" y="1447920"/>
            <a:ext cx="4419720" cy="4267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276720" y="2438280"/>
            <a:ext cx="2514600" cy="23623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9000" y="3276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1676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0400" y="609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828800" y="1066680"/>
            <a:ext cx="5638680" cy="5639040"/>
          </a:xfrm>
          <a:custGeom>
            <a:avLst/>
            <a:gdLst>
              <a:gd name="textAreaLeft" fmla="*/ 157680 w 5638680"/>
              <a:gd name="textAreaRight" fmla="*/ 5481000 w 5638680"/>
              <a:gd name="textAreaTop" fmla="*/ 0 h 5639040"/>
              <a:gd name="textAreaBottom" fmla="*/ 2354400 h 5639040"/>
            </a:gdLst>
            <a:ahLst/>
            <a:rect l="textAreaLeft" t="textAreaTop" r="textAreaRight" b="textAreaBottom"/>
            <a:pathLst>
              <a:path w="21600" h="21600">
                <a:moveTo>
                  <a:pt x="6257" y="7869"/>
                </a:moveTo>
                <a:cubicBezTo>
                  <a:pt x="7252" y="6326"/>
                  <a:pt x="8963" y="5393"/>
                  <a:pt x="10800" y="5394"/>
                </a:cubicBezTo>
                <a:cubicBezTo>
                  <a:pt x="12636" y="5394"/>
                  <a:pt x="14347" y="6326"/>
                  <a:pt x="15342" y="7869"/>
                </a:cubicBezTo>
                <a:lnTo>
                  <a:pt x="19875" y="4944"/>
                </a:lnTo>
                <a:cubicBezTo>
                  <a:pt x="17886" y="1862"/>
                  <a:pt x="14468" y="-1"/>
                  <a:pt x="10799" y="0"/>
                </a:cubicBezTo>
                <a:cubicBezTo>
                  <a:pt x="7131" y="0"/>
                  <a:pt x="3713" y="1862"/>
                  <a:pt x="1724" y="4944"/>
                </a:cubicBezTo>
                <a:lnTo>
                  <a:pt x="6257" y="7869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 rot="7159200">
            <a:off x="1984320" y="1139400"/>
            <a:ext cx="5479920" cy="5486400"/>
          </a:xfrm>
          <a:custGeom>
            <a:avLst/>
            <a:gdLst>
              <a:gd name="textAreaLeft" fmla="*/ 99360 w 5479920"/>
              <a:gd name="textAreaRight" fmla="*/ 5380560 w 5479920"/>
              <a:gd name="textAreaTop" fmla="*/ 0 h 5486400"/>
              <a:gd name="textAreaBottom" fmla="*/ 2390760 h 5486400"/>
            </a:gdLst>
            <a:ahLst/>
            <a:rect l="textAreaLeft" t="textAreaTop" r="textAreaRight" b="textAreaBottom"/>
            <a:pathLst>
              <a:path w="21600" h="21600">
                <a:moveTo>
                  <a:pt x="6283" y="8254"/>
                </a:moveTo>
                <a:cubicBezTo>
                  <a:pt x="7202" y="6623"/>
                  <a:pt x="8928" y="5614"/>
                  <a:pt x="10800" y="5615"/>
                </a:cubicBezTo>
                <a:cubicBezTo>
                  <a:pt x="12671" y="5615"/>
                  <a:pt x="14397" y="6623"/>
                  <a:pt x="15316" y="8254"/>
                </a:cubicBezTo>
                <a:lnTo>
                  <a:pt x="20208" y="5496"/>
                </a:lnTo>
                <a:cubicBezTo>
                  <a:pt x="18294" y="2100"/>
                  <a:pt x="14698" y="-1"/>
                  <a:pt x="10799" y="0"/>
                </a:cubicBezTo>
                <a:cubicBezTo>
                  <a:pt x="6901" y="0"/>
                  <a:pt x="3305" y="2100"/>
                  <a:pt x="1391" y="5496"/>
                </a:cubicBezTo>
                <a:lnTo>
                  <a:pt x="6283" y="825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 rot="14405400">
            <a:off x="1828800" y="1143000"/>
            <a:ext cx="5486400" cy="5486400"/>
          </a:xfrm>
          <a:custGeom>
            <a:avLst/>
            <a:gdLst>
              <a:gd name="textAreaLeft" fmla="*/ 78120 w 5486400"/>
              <a:gd name="textAreaRight" fmla="*/ 5408280 w 5486400"/>
              <a:gd name="textAreaTop" fmla="*/ 0 h 5486400"/>
              <a:gd name="textAreaBottom" fmla="*/ 2434680 h 5486400"/>
            </a:gdLst>
            <a:ahLst/>
            <a:rect l="textAreaLeft" t="textAreaTop" r="textAreaRight" b="textAreaBottom"/>
            <a:pathLst>
              <a:path w="21600" h="21600">
                <a:moveTo>
                  <a:pt x="6269" y="8414"/>
                </a:moveTo>
                <a:cubicBezTo>
                  <a:pt x="7155" y="6732"/>
                  <a:pt x="8899" y="5679"/>
                  <a:pt x="10800" y="5680"/>
                </a:cubicBezTo>
                <a:cubicBezTo>
                  <a:pt x="12700" y="5680"/>
                  <a:pt x="14444" y="6732"/>
                  <a:pt x="15330" y="8414"/>
                </a:cubicBezTo>
                <a:lnTo>
                  <a:pt x="20356" y="5767"/>
                </a:lnTo>
                <a:cubicBezTo>
                  <a:pt x="18488" y="2220"/>
                  <a:pt x="14808" y="-1"/>
                  <a:pt x="10799" y="0"/>
                </a:cubicBezTo>
                <a:cubicBezTo>
                  <a:pt x="6791" y="0"/>
                  <a:pt x="3111" y="2220"/>
                  <a:pt x="1243" y="5767"/>
                </a:cubicBezTo>
                <a:lnTo>
                  <a:pt x="6269" y="8414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 rot="2745000">
            <a:off x="1781280" y="4541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 rot="18451200">
            <a:off x="5060520" y="446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138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7:27:38Z</dcterms:created>
  <dc:creator>НОО1</dc:creator>
  <dc:description/>
  <dc:language>en-US</dc:language>
  <cp:lastModifiedBy>RomaK</cp:lastModifiedBy>
  <dcterms:modified xsi:type="dcterms:W3CDTF">2014-10-31T12:30:00Z</dcterms:modified>
  <cp:revision>26</cp:revision>
  <dc:subject/>
  <dc:title>Качество жизни в медицине и здравоохранении</dc:title>
</cp:coreProperties>
</file>