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B853-B32D-4B97-BA14-DEDB99636F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в медицине и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BEC9-BCBB-427F-AE77-9B3FE250EA2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е 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C6D0-C1AA-4E61-AC20-419C3086F58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741C-A954-4015-9AEC-C411CA10D59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характеристики понятия «качество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ость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больного в оценке своего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9956-AF78-4ADC-B109-28C59E4BAD6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2526-9A99-44E3-AE50-F69CD324BDA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8FDF-5C23-41F9-9B7B-750326E89BF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просник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специализиров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ук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AAE7-F22D-4B28-A3EC-0D19D186D69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F-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ckness Impact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tingham Health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QoL-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0C6E-25C9-40B8-85EB-47502F569C9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ы для изучения качества жизни у отдельных категорий и групп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ointestinal Symptom Ratin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hritis Impact Measuremen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al Assessment of Multiple Scle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Health Qualit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1517-5686-4D97-9341-77CCE56420D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просникам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та и крат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лемость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в различных языковых и социальных культу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2CC4-A023-4B7D-9398-2227A949684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развития концепции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кая специализация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уровневая структура благополуч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CF8C-A3BA-41F9-AC0B-1C7E25275BD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метрические свойства опросника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abil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A5C6-E3F9-4401-8C03-DFCA3A6FB74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reliability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казатель точности и постоянства изме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11DC-6B6D-4892-BEAA-358DE184855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4C16-8203-47CD-BD4D-4FDC0EBFB47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76D7-3264-4598-B24F-3980E4D52D2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14E5-38F7-41ED-B203-D650D2E1982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C8C4-02EB-4E35-B970-79E4430714E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апы разработки опросника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еречня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сихометрических характеристик (валид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2B10-C928-4151-A7BA-F8F78F449B9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состоит из 6 доме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не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94E9-75D3-4CA0-AD88-46AB41FCAFD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и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и дискомф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 и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3D17-F020-4471-98F0-19FC9100712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вопроса ВОЗКЖ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8C6B-D38A-4F8B-8E1E-C64304778C2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мые варианты лечения сарком мягких тк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 с сохранением конечности с последующей лучевой терап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путация 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2822-79C6-4AC7-AD16-CA49F9948E8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этапы исследования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токол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ирование данных опро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ая обработка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интерпретация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852F-8080-4290-BDAB-795D20FABD1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 исследования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включения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зайн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клинического обследова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бъема выб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ндом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для участников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е согласие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57A0-59B0-45FF-942F-CC0E46E6C8A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сследования качества жизни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лечения на параметры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лекарственных препаратов и метод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ое значение параметров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как критерий ремиссии и выздор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мониторинг показателей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оциально-медицинских популяцион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5CF3-8A22-4449-A8C6-70160CB3EFB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фармакоэкономики и 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EFF3-133E-46A0-AD83-BFDFE99017D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необходим фармакоэкономический анали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1B1B-F3CD-4378-BBE5-2EA3EB3A960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(quality-adjusted life year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 с поправкой на его ка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ет значения от 0 до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год абсолютно здоровой жизни оценивается как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, прожитый с проблемами со здоровьем, оценивается меньше 1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года жизни, оцененные как 0,5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няются одному году здоровой жизни, т.е.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FAB0-A04F-4DD3-A1AB-D8394DF1CAD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заболевания на качество и продолжительност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9258-176B-40CA-ACB8-E76E7D95A85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анализа «стоимость-эффектив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1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6-0,5)=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т 1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4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7-0,5)=2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яет 2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4B7C-F350-4D68-B3D7-D0FF96E0057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857D-8794-4D9E-97F2-27A20BE416D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73EA-D9FC-4984-B212-D9B357078DE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1F02-BCAF-486A-9A12-97772375A54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608B-BB50-46D5-88EB-3635BCF6870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00B1-E944-4E77-A9F0-4ECC6F09B32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CDCD-3752-4B0C-8E9B-EDB49F84F39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DDF-7105-4430-870D-BEF75C00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97F-184E-4842-8A8D-829F70D6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EC4-660B-40A4-8EA0-D3E9F02D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21E-560E-4058-93A7-F95A63E4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B1E2-6987-4088-845D-4B823B88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C7CA-8278-43EE-9E14-916A6484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7D8C-FF3F-4826-859F-E2C60955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1948-0385-47F1-8F5A-EAC697D4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AAFC-8175-48CA-808A-04AEADA3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7D13-6A40-4084-A04B-5B3648BC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3B79-FFC4-4EDF-A88A-9A73974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C5A-5B38-47AF-9642-A1044801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DBD9-0F1D-47B0-91F0-AE531DE4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CFF9-030E-4C38-B01D-D4AB40A2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E1A6-A17D-4E8C-8CFF-071320C8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EC3F-5020-4982-A0D7-78AAFCAE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8B35-BA76-479D-90B9-8EF60B2C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DFB-B454-474D-B6EE-5AC650E4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B91-AA6A-4DCA-8F6F-92BBBDEE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A05-C4C5-4C85-920E-FFF17A11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49B-611C-4DA8-A588-018FE90A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D70-A5E1-44D2-8625-BE330EC8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4C8-21ED-4018-9785-3A16D552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4CC-404F-4E1D-97AE-3405FFD4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4957-62A4-4714-983E-2D0A70057DF4}" type="slidenum">
              <a:rPr b="0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0A4C-2B8D-4347-A67D-ECEE4685769F}" type="slidenum">
              <a:rPr b="0" lang="ru-RU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в медицине и здравоохранени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Program Files\Common Files\Microsoft Shared\Clipart\cagcat50\PE01023_.wmf"/>
          <p:cNvPicPr/>
          <p:nvPr/>
        </p:nvPicPr>
        <p:blipFill>
          <a:blip r:embed="rId1"/>
          <a:stretch/>
        </p:blipFill>
        <p:spPr>
          <a:xfrm>
            <a:off x="1828800" y="2612880"/>
            <a:ext cx="2363760" cy="37116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/>
          <p:cNvSpPr/>
          <p:nvPr/>
        </p:nvSpPr>
        <p:spPr>
          <a:xfrm>
            <a:off x="3809880" y="533520"/>
            <a:ext cx="2971800" cy="2209680"/>
          </a:xfrm>
          <a:prstGeom prst="cloudCallout">
            <a:avLst>
              <a:gd name="adj1" fmla="val -42629"/>
              <a:gd name="adj2" fmla="val 69972"/>
            </a:avLst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6" descr="C:\Documents and Settings\Andrey\My Documents\My Pictures\80378801.jpg"/>
          <p:cNvPicPr/>
          <p:nvPr/>
        </p:nvPicPr>
        <p:blipFill>
          <a:blip r:embed="rId2"/>
          <a:stretch/>
        </p:blipFill>
        <p:spPr>
          <a:xfrm>
            <a:off x="4495680" y="838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2133720"/>
            <a:ext cx="3276360" cy="2931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сихолог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циаль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ухов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638320" y="1980720"/>
            <a:ext cx="3203640" cy="25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Не 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Эконом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1676520" y="0"/>
            <a:ext cx="6933960" cy="693432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доровь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характеристики понятия «качество жизни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 качества жиз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зменяемость во време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частие больного в оценке своего состоя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328680" y="1941480"/>
          <a:ext cx="82087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941480"/>
                    <a:ext cx="82087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9" name="Object 1027"/>
          <p:cNvGraphicFramePr/>
          <p:nvPr/>
        </p:nvGraphicFramePr>
        <p:xfrm>
          <a:off x="336600" y="1792440"/>
          <a:ext cx="82170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792440"/>
                    <a:ext cx="82170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лассификация опросник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епени специализирован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бщи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пециальны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руктур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офильны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декс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бщи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F-3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OQoL-10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ckness Impact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tingham Health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uroQoL-5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пециальны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назначены для изучения качества жизни у отдельных категорий и групп пациен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astrointestinal Symptom Rating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thritis Impact Measurement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unctional Assessment of Multiple Scler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al Health Quality of Lif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ребования к опросникам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стота и кратк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емлемость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менимость в различных языковых и социальных культура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едпосылки развития концепции качества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зкая специализация в медицин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уровневая структура благополучия челове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сихометрические свойства опросника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дежность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abil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алидност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(valid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Чувствительнос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sensitiv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деж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reliability)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оказатель точности и постоянства измерен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ность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lid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увствитель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sensitiv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ультурная и языковая адаптация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0880" y="2133720"/>
            <a:ext cx="221004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гина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0880" y="3124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Два независимых прямых перевод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429000" y="2209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оглас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352680" y="3048120"/>
            <a:ext cx="205740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ари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3526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Обратный перевод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400800" y="2286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Экспертиз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24480" y="3124080"/>
            <a:ext cx="21337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-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6324480" y="39625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илотное тестир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324480" y="5029200"/>
            <a:ext cx="213372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ча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0666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17524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2438280" y="2514240"/>
            <a:ext cx="121932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4343400" y="2514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5334120" y="2590560"/>
            <a:ext cx="1295280" cy="1523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7315200" y="259092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7315200" y="3505320"/>
            <a:ext cx="0" cy="53316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731520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5562720" y="2590920"/>
            <a:ext cx="91440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аци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Этапы разработки опросника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кращение перечня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варительное тестиров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ценка психометрических характеристик (валидация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ультурная и языковая адаптац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просник состоит из 6 доменов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изическое здоровь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сихологическое состоя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ровень независим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циальные отнош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уховная сфер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нергия и слабост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оль и дискомфор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н и отд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вопроса ВОЗКЖ-10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2606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1.2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спокоитесь ли Вы по поводу физических болей или дискомфорта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68400" y="3300480"/>
            <a:ext cx="8694000" cy="950760"/>
            <a:chOff x="68400" y="3300480"/>
            <a:chExt cx="8694000" cy="950760"/>
          </a:xfrm>
        </p:grpSpPr>
        <p:sp>
          <p:nvSpPr>
            <p:cNvPr id="212" name="Rectangle 4"/>
            <p:cNvSpPr/>
            <p:nvPr/>
          </p:nvSpPr>
          <p:spPr>
            <a:xfrm>
              <a:off x="684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овсем нет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180684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ал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35460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редн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528480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702396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пред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сследуемые варианты лечения сарком мягких тканей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ерация с сохранением конечности с последующей лучевой терапи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мпутация конечност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Основные этапы исследования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протокол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ыбор инструмент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бор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ормирование базы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Шкалирование данных опросни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атистическая обработка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нализ и интерпретация результа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отокол исследования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Цели и задачи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ритерии включения больн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изайн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рта клинического обследования больног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исание инструмента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ределение объема выбор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етод рандомизац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струкция для участников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формированное согласие пациен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правления исследования качества жизни в медицин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лечения на параметры качества жизни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ценка эффективности лекарственных препаратов и методов леч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гностическое значение параметров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ество жизни как критерий ремиссии и выздоровл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ндивидуальный мониторинг показателей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ведение социально-медицинских популяционных исследовани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ы фармакоэкономики и 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огда необходим фармакоэкономический анализ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8680" y="1941480"/>
          <a:ext cx="8208720" cy="4114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овый метод лечения по сравнению со стандартным …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орож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ешевл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Мен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верг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Бол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риним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(quality-adjusted life year) –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 с поправкой на его качеств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инимает значения от 0 до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дин год абсолютно здоровой жизни оценивается как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, прожитый с проблемами со здоровьем, оценивается меньше 1,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ва года жизни, оцененные как 0,5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равняются одному году здоровой жизни, т.е.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лияние заболевания на качество и продолжительность жизни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7" name="Object 0"/>
          <p:cNvGraphicFramePr/>
          <p:nvPr/>
        </p:nvGraphicFramePr>
        <p:xfrm>
          <a:off x="345960" y="1943280"/>
          <a:ext cx="81979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943280"/>
                    <a:ext cx="81979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анализа «стоимость-эффективность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1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6-0,5)=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оставляет 1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Б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4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7-0,5)=2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составляет 2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1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9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2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8"/>
          <p:cNvSpPr/>
          <p:nvPr/>
        </p:nvSpPr>
        <p:spPr>
          <a:xfrm>
            <a:off x="1143000" y="228600"/>
            <a:ext cx="6629400" cy="6629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2286000" y="1447920"/>
            <a:ext cx="4419720" cy="4267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3276720" y="2438280"/>
            <a:ext cx="2514600" cy="2362320"/>
          </a:xfrm>
          <a:prstGeom prst="ellipse">
            <a:avLst/>
          </a:pr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29000" y="3276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76720" y="1676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0400" y="609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828800" y="1066680"/>
            <a:ext cx="5638680" cy="5639040"/>
          </a:xfrm>
          <a:custGeom>
            <a:avLst/>
            <a:gdLst>
              <a:gd name="textAreaLeft" fmla="*/ 157680 w 5638680"/>
              <a:gd name="textAreaRight" fmla="*/ 5481000 w 5638680"/>
              <a:gd name="textAreaTop" fmla="*/ 0 h 5639040"/>
              <a:gd name="textAreaBottom" fmla="*/ 2354400 h 5639040"/>
            </a:gdLst>
            <a:ahLst/>
            <a:rect l="textAreaLeft" t="textAreaTop" r="textAreaRight" b="textAreaBottom"/>
            <a:pathLst>
              <a:path w="21600" h="21600">
                <a:moveTo>
                  <a:pt x="6257" y="7869"/>
                </a:moveTo>
                <a:cubicBezTo>
                  <a:pt x="7252" y="6326"/>
                  <a:pt x="8963" y="5393"/>
                  <a:pt x="10800" y="5394"/>
                </a:cubicBezTo>
                <a:cubicBezTo>
                  <a:pt x="12636" y="5394"/>
                  <a:pt x="14347" y="6326"/>
                  <a:pt x="15342" y="7869"/>
                </a:cubicBezTo>
                <a:lnTo>
                  <a:pt x="19875" y="4944"/>
                </a:lnTo>
                <a:cubicBezTo>
                  <a:pt x="17886" y="1862"/>
                  <a:pt x="14468" y="-1"/>
                  <a:pt x="10799" y="0"/>
                </a:cubicBezTo>
                <a:cubicBezTo>
                  <a:pt x="7131" y="0"/>
                  <a:pt x="3713" y="1862"/>
                  <a:pt x="1724" y="4944"/>
                </a:cubicBezTo>
                <a:lnTo>
                  <a:pt x="6257" y="7869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 rot="7159200">
            <a:off x="1984320" y="1139400"/>
            <a:ext cx="5479920" cy="5486400"/>
          </a:xfrm>
          <a:custGeom>
            <a:avLst/>
            <a:gdLst>
              <a:gd name="textAreaLeft" fmla="*/ 99360 w 5479920"/>
              <a:gd name="textAreaRight" fmla="*/ 5380560 w 5479920"/>
              <a:gd name="textAreaTop" fmla="*/ 0 h 5486400"/>
              <a:gd name="textAreaBottom" fmla="*/ 2390760 h 5486400"/>
            </a:gdLst>
            <a:ahLst/>
            <a:rect l="textAreaLeft" t="textAreaTop" r="textAreaRight" b="textAreaBottom"/>
            <a:pathLst>
              <a:path w="21600" h="21600">
                <a:moveTo>
                  <a:pt x="6283" y="8254"/>
                </a:moveTo>
                <a:cubicBezTo>
                  <a:pt x="7202" y="6623"/>
                  <a:pt x="8928" y="5614"/>
                  <a:pt x="10800" y="5615"/>
                </a:cubicBezTo>
                <a:cubicBezTo>
                  <a:pt x="12671" y="5615"/>
                  <a:pt x="14397" y="6623"/>
                  <a:pt x="15316" y="8254"/>
                </a:cubicBezTo>
                <a:lnTo>
                  <a:pt x="20208" y="5496"/>
                </a:lnTo>
                <a:cubicBezTo>
                  <a:pt x="18294" y="2100"/>
                  <a:pt x="14698" y="-1"/>
                  <a:pt x="10799" y="0"/>
                </a:cubicBezTo>
                <a:cubicBezTo>
                  <a:pt x="6901" y="0"/>
                  <a:pt x="3305" y="2100"/>
                  <a:pt x="1391" y="5496"/>
                </a:cubicBezTo>
                <a:lnTo>
                  <a:pt x="6283" y="825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 rot="14405400">
            <a:off x="1828800" y="1143000"/>
            <a:ext cx="5486400" cy="5486400"/>
          </a:xfrm>
          <a:custGeom>
            <a:avLst/>
            <a:gdLst>
              <a:gd name="textAreaLeft" fmla="*/ 78120 w 5486400"/>
              <a:gd name="textAreaRight" fmla="*/ 5408280 w 5486400"/>
              <a:gd name="textAreaTop" fmla="*/ 0 h 5486400"/>
              <a:gd name="textAreaBottom" fmla="*/ 2434680 h 5486400"/>
            </a:gdLst>
            <a:ahLst/>
            <a:rect l="textAreaLeft" t="textAreaTop" r="textAreaRight" b="textAreaBottom"/>
            <a:pathLst>
              <a:path w="21600" h="21600">
                <a:moveTo>
                  <a:pt x="6269" y="8414"/>
                </a:moveTo>
                <a:cubicBezTo>
                  <a:pt x="7155" y="6732"/>
                  <a:pt x="8899" y="5679"/>
                  <a:pt x="10800" y="5680"/>
                </a:cubicBezTo>
                <a:cubicBezTo>
                  <a:pt x="12700" y="5680"/>
                  <a:pt x="14444" y="6732"/>
                  <a:pt x="15330" y="8414"/>
                </a:cubicBezTo>
                <a:lnTo>
                  <a:pt x="20356" y="5767"/>
                </a:lnTo>
                <a:cubicBezTo>
                  <a:pt x="18488" y="2220"/>
                  <a:pt x="14808" y="-1"/>
                  <a:pt x="10799" y="0"/>
                </a:cubicBezTo>
                <a:cubicBezTo>
                  <a:pt x="6791" y="0"/>
                  <a:pt x="3111" y="2220"/>
                  <a:pt x="1243" y="5767"/>
                </a:cubicBezTo>
                <a:lnTo>
                  <a:pt x="6269" y="8414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 rot="2745000">
            <a:off x="1781280" y="45410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 rot="18451200">
            <a:off x="5060520" y="44643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13874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7:27:38Z</dcterms:created>
  <dc:creator>НОО1</dc:creator>
  <dc:description/>
  <dc:language>en-US</dc:language>
  <cp:lastModifiedBy>RomaK</cp:lastModifiedBy>
  <dcterms:modified xsi:type="dcterms:W3CDTF">2014-10-31T12:30:00Z</dcterms:modified>
  <cp:revision>26</cp:revision>
  <dc:subject/>
  <dc:title>Качество жизни в медицине и здравоохранении</dc:title>
</cp:coreProperties>
</file>