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jpeg" ContentType="image/jpeg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58492-51C0-46EC-A34C-55F3428A5BEB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чество жизни в медицине и здравоохранен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8B7F5-CCF5-48DD-A201-BC3F46128762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чество жиз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Calibri"/>
              </a:rPr>
              <a:t>Связанное со здоровьем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зическое благополуч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сихологическое благополуч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альное благополуч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уховное благополуч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Calibri"/>
              </a:rPr>
              <a:t>Не связанное со здоровьем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разо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ческая безопас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кружающая сре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зическая безопас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5E885-10A8-4F12-A8AD-CA835B27BC94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доровь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это полное физическое, психологическое и социальное благополучие человека, а не просто отсутствие заболе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, 194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20AD3-4957-436A-BAA8-F7C84564B45D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характеристики понятия «качество жизн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ногомерность качества жиз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меняемость во време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астие больного в оценке своего состоя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9EBAC-8E37-4A3F-833F-CD1A2038F0D6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фическое представление параметров КЖ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3D69B-14A4-45C4-8200-23C177C08C19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фическое представление параметров КЖ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A4B9D-32BE-42CE-921A-E09F709EF94A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сификация опросников КЖ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степени специализирован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ие опросн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ециальные опросн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структур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филь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дек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F36A1-6F14-4064-9387-B99EB9F2EFBA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ие опросн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едназначены для оценки качества жизни как здоровых, так и больных независимо от вида заболева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F-3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OQoL-1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ckness Impact Profi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tingham Health Profi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uroQoL-5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5D08B-2827-4979-A64E-C5D32411D4EC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ециальные опросн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назначены для изучения качества жизни у отдельных категорий и групп пациен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strointestinal Symptom Rating Sca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thritis Impact Measurement Sca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nctional Assessment of Multiple Scleros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ral Health Quality of Lif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DEB92-7043-4460-9525-735463D5CB36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ебования к опросникам оценки КЖ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ногомер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стота и кратк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емлемость вопрос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нимость в различных языковых и социальных культур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5F618-95E3-4DB0-A0B0-18A0EA2989DC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осылки развития концепции качества жиз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хнологический прогресс в диагностике и лечении одних заболеваний и скромные успехи в лечении други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зкая специализация в медицин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ногоуровневая структура благополучия чело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B5D09-BD68-4CA3-B23A-710DBD2D4223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сихометрические свойства опросника оценки КЖ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дежность (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liabilit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идность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(validit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увствительность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sensitivit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E70BC-7003-4A33-8094-72E46905F7E7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дежность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(reliability)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показатель точности и постоянства измер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39C32-501E-4ACD-9E84-425719DFE4A7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идность (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alidit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собность опросника измерять ту характеристику, для измерения которой он предназначе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2CA3A-387D-470C-A28F-B6359315A419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увствительность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(sensitivit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собность опросника выявлять изменения или различия показателей КЖ в соответствии с изменениями в состоянии больного или различиями в состоянии групп больн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BFF4C-1ECE-4DEA-B284-16AD0CD2871D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ультурная и языковая адапт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9703E-F6FC-4671-A783-8481BF7D3372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ид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проверка психометрических свойств опросника, т.е. проверка надежности, валидности и чувствитель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1C1E8-E1F5-48A6-A83E-D0E1181BE42E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Этапы разработки опросника КЖ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работка вопрос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кращение перечня вопрос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варительное тестиро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ценка психометрических характеристик (валидаци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ультурная и языковая адапт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1D314-57CC-4F2C-A28D-6CAF7D3C980D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уктура опросника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КЖ-100 (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OQOL-100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осник состоит из 6 домено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зическое здоровь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сихологическое состоя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вень независим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альные отнош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кружающая сре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уховная сфе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E1E3D-8EA0-44E6-8A34-055E75BDC10A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уктура опросника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КЖ-100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OQOL-100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ждый домен подразделяется на субсферы, например домен «Физическое состояние» включает следующие субсфе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нергия и слаб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ь и дискомфор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н и отд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4D597-C026-43C0-895B-A4D9D0E74208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р вопроса ВОЗКЖ-1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8B3B6-EDE5-49EA-B3DE-152E28F43A4C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garbaker P.H., 198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следуемые варианты лечения сарком мягких тканей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ерация с сохранением конечности с последующей лучевой терапи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мпутация конеч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744AB-FCB4-43DD-98CE-8EE764AF5642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сновные этапы исследования КЖ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работка протокола исслед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бор инструмента исслед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бор данн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ирование базы данн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калирование данных опросн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тистическая обработка данн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ализ и интерпретация результа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56662-0CB4-4403-8E80-A6437D6DE63F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токол исследования КЖ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и и задачи исслед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итерии включения больн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зайн исслед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рта клинического обследования больно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исание инструмента исслед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ение объема выбор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 рандом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струкция для участников исслед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ированное согласие пациен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5ADE1-4261-4771-9CFF-39A179AF1762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авления исследования качества жизни в медицин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учение влияния заболевания на физическое, психологическое и социальное функционирование больно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учение влияния лечения на параметры качества жизни больно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ценка эффективности лекарственных препаратов и методов леч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гностическое значение параметров качества жиз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чество жизни как критерий ремиссии и выздоров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дивидуальный мониторинг показателей качества жиз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едение социально-медицинских популяционных исследова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6F6E6-2EF5-4058-8E9E-2EDCB4A72D09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ы фармакоэкономики и концепция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A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166AB-321B-4DC6-8C71-8346E05ED5EC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гда необходим фармакоэкономический анализ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7B1B5-3EAF-4F96-86B7-BACC8463DACB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цепция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A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ALY (quality-adjusted life year) –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д жизни с поправкой на его каче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ALY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имает значения от 0 до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ин год абсолютно здоровой жизни оценивается как 1,0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A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д жизни, прожитый с проблемами со здоровьем, оценивается меньше 1,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ва года жизни, оцененные как 0,5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ALY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равняются одному году здоровой жизни, т.е. 1,0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A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E68C8-3794-4EF1-AC2F-29BB4378CD70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лияние заболевания на качество и продолжительность жиз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7F84C-97B8-442C-9E69-E5C7C46131F9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р анализа «стоимость-эффективность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чение 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оимость 1000 руб в г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лучшает качество жизни с 0,5 до 0,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 10 лет лечения больной приобретает 10х(0,6-0,5)=1,0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A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оимость в расчете на 1,0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ALY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авляет 10000 рубл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чение Б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оимость 4000 руб в г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лучшает качество жизни с 0,5 до 0,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 10 лет лечения больной приобретает 10х(0,7-0,5)=2,0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A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оимость в расчете на 1,0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ALY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составляет 20000 рубл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B8830-A603-461D-B726-ACC98F3F416F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garbaker P.H., 198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ипотеза – сохранение конечности в отличие от ампутации приводит к улучшению качества жизни больно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D164F-75DF-4091-99E1-6D8F0D4C52EE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garbaker P.H., 198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зультаты исследования – операция с сохранением конечности с последующей лучевой терапией приводила к значимому снижению двигательной активности и социального функционирования пациента по сравнению с альтернативным вариантом леч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E3B5F-5142-464B-B7A8-6BC9CF7FA041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чество жизни 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(определение 1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это восприятие индивидуумами своего положения в жизни в контексте культуры и системы ценностей той среды, в которой они живут, в неразрывной связи с их целями, ожиданиями, стандартами и забот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, 199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BFD83-D726-4BB8-BF88-48CB38A0A7E0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чество жизни 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(определение 2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это интегральная характеристика физического, психологического, эмоционального и социального функционирования больного, основанная на его субъективном восприят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6B5DD-623D-4189-AA0D-AEBFF3A4C094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зическое благополуч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DDA17-42D4-424F-94F7-7DB10C3E2158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eece1"/>
                </a:solidFill>
                <a:latin typeface="Arial"/>
              </a:rPr>
              <a:t>Социальное благополуч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49419-D67B-40EE-9E13-3A8E38A19BAC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78E48-9C6B-4F96-A297-E3D298EBF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BCD04-7B9B-496C-B0F3-510F2B88F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A668D-FBEF-4BF6-A569-C9BE08778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A6683-1EC8-41B2-9939-E5E25654B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6D61C-11BE-4FF1-915E-DDFBAE45D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ADADE-16A1-4A84-AFB3-FB87335A6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9BB81-3129-49F5-8523-05BDF7ECD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91D66-E919-453B-9B63-13DC8AC34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E2561-7AA1-4BD2-BDEE-2A5712734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DB2A3-C5DE-4BCE-876F-73DD2F68B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839FC-4C30-495B-B836-437756C15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F66A0-3534-43C4-82D3-B22B68C77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2E060-FDD3-42F1-8CE9-99954BDD9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456D2-0A0F-4650-A48C-0B58530B2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4184A-D91F-48F6-A9B2-8443D5C70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1A4BD-5C27-4EC1-9E7D-A27D4DAEA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D09EF-81B9-46CE-B4B3-11B053D8B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00FF4-819E-4560-BEAB-23BDE473F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630F7-3AC1-4E7A-A690-1EBCB0AD6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8CD1E-0F92-4926-9446-60F39BE92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0CF2D-BC46-444F-894A-610F9B650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598CA-FA27-4524-837C-255253EBD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9832E-15E7-4DF1-8FD1-7138E5329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2A186-8259-46DF-A47B-2295A5F7C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920" y="1636560"/>
            <a:ext cx="9148680" cy="4618080"/>
            <a:chOff x="-7920" y="1636560"/>
            <a:chExt cx="9148680" cy="4618080"/>
          </a:xfrm>
        </p:grpSpPr>
        <p:pic>
          <p:nvPicPr>
            <p:cNvPr id="1" name="Picture 3" descr="D:\FRONTPAGE THEMES\ARTSY\ARTHSEPA.PNG"/>
            <p:cNvPicPr/>
            <p:nvPr/>
          </p:nvPicPr>
          <p:blipFill>
            <a:blip r:embed="rId3"/>
            <a:stretch/>
          </p:blipFill>
          <p:spPr>
            <a:xfrm>
              <a:off x="5997600" y="6180120"/>
              <a:ext cx="3143160" cy="7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Picture 4" descr="P:\!Themes\Artsy\Arthsepa.gif"/>
            <p:cNvPicPr/>
            <p:nvPr/>
          </p:nvPicPr>
          <p:blipFill>
            <a:blip r:embed="rId4"/>
            <a:stretch/>
          </p:blipFill>
          <p:spPr>
            <a:xfrm>
              <a:off x="-7920" y="1636560"/>
              <a:ext cx="449568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10848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14580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2B4FE-29D2-4FD7-B051-F5D613D62417}" type="slidenum">
              <a:rPr b="0" lang="ru-RU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9144000" cy="3365640"/>
            <a:chOff x="0" y="0"/>
            <a:chExt cx="9144000" cy="3365640"/>
          </a:xfrm>
        </p:grpSpPr>
        <p:pic>
          <p:nvPicPr>
            <p:cNvPr id="45" name="Picture 3" descr="D:\FRONTPAGE THEMES\ARTSY\ARTBANNA.PNG"/>
            <p:cNvPicPr/>
            <p:nvPr/>
          </p:nvPicPr>
          <p:blipFill>
            <a:blip r:embed="rId3"/>
            <a:srcRect l="8126" t="0" r="0" b="0"/>
            <a:stretch/>
          </p:blipFill>
          <p:spPr>
            <a:xfrm>
              <a:off x="0" y="0"/>
              <a:ext cx="91440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Picture 4" descr="P:\!Themes\Artsy\Arthsepa.gif"/>
            <p:cNvPicPr/>
            <p:nvPr/>
          </p:nvPicPr>
          <p:blipFill>
            <a:blip r:embed="rId4"/>
            <a:stretch/>
          </p:blipFill>
          <p:spPr>
            <a:xfrm>
              <a:off x="4267080" y="3268800"/>
              <a:ext cx="449604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335916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601956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125280" y="6361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73F6D-7D8B-48F0-A0CA-0A7E2E688A2A}" type="slidenum">
              <a:rPr b="0" lang="ru-RU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0720" y="161532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Arial"/>
              </a:rPr>
              <a:t>Качество жизни в медицине и здравоохранении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6" name="Місце для нижнього колонтитула 1"/>
          <p:cNvSpPr/>
          <p:nvPr/>
        </p:nvSpPr>
        <p:spPr>
          <a:xfrm>
            <a:off x="601992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2" descr="C:\Program Files\Common Files\Microsoft Shared\Clipart\cagcat50\PE01023_.wmf"/>
          <p:cNvPicPr/>
          <p:nvPr/>
        </p:nvPicPr>
        <p:blipFill>
          <a:blip r:embed="rId1"/>
          <a:stretch/>
        </p:blipFill>
        <p:spPr>
          <a:xfrm>
            <a:off x="1828800" y="2612880"/>
            <a:ext cx="2363760" cy="3711600"/>
          </a:xfrm>
          <a:prstGeom prst="rect">
            <a:avLst/>
          </a:prstGeom>
          <a:ln w="0">
            <a:noFill/>
          </a:ln>
        </p:spPr>
      </p:pic>
      <p:sp>
        <p:nvSpPr>
          <p:cNvPr id="130" name="AutoShape 4"/>
          <p:cNvSpPr/>
          <p:nvPr/>
        </p:nvSpPr>
        <p:spPr>
          <a:xfrm>
            <a:off x="3809880" y="533520"/>
            <a:ext cx="2971800" cy="2209680"/>
          </a:xfrm>
          <a:prstGeom prst="cloudCallout">
            <a:avLst>
              <a:gd name="adj1" fmla="val -42629"/>
              <a:gd name="adj2" fmla="val 69972"/>
            </a:avLst>
          </a:prstGeom>
          <a:solidFill>
            <a:srgbClr val="ffffff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1" name="Picture 6" descr="C:\Documents and Settings\Andrey\My Documents\My Pictures\80378801.jpg"/>
          <p:cNvPicPr/>
          <p:nvPr/>
        </p:nvPicPr>
        <p:blipFill>
          <a:blip r:embed="rId2"/>
          <a:stretch/>
        </p:blipFill>
        <p:spPr>
          <a:xfrm>
            <a:off x="4495680" y="838080"/>
            <a:ext cx="1619280" cy="1619280"/>
          </a:xfrm>
          <a:prstGeom prst="rect">
            <a:avLst/>
          </a:prstGeom>
          <a:ln w="0">
            <a:noFill/>
          </a:ln>
        </p:spPr>
      </p:pic>
      <p:sp>
        <p:nvSpPr>
          <p:cNvPr id="132" name="Місце для нижнього колонтитула 1"/>
          <p:cNvSpPr/>
          <p:nvPr/>
        </p:nvSpPr>
        <p:spPr>
          <a:xfrm>
            <a:off x="610884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Arial"/>
              </a:rPr>
              <a:t>Качество жизни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133360" y="2133720"/>
            <a:ext cx="3276360" cy="293184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cc"/>
                </a:solidFill>
                <a:uFillTx/>
                <a:latin typeface="Arial"/>
              </a:rPr>
              <a:t>Связанное со здоровьем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ccff33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Arial"/>
              </a:rPr>
              <a:t>Физическое благополучие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ccff33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Arial"/>
              </a:rPr>
              <a:t>Психологическое благополучие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ccff33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Arial"/>
              </a:rPr>
              <a:t>Социальное благополучие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ccff33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Arial"/>
              </a:rPr>
              <a:t>Духовное благополучие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638320" y="1980720"/>
            <a:ext cx="3203640" cy="25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cc"/>
                </a:solidFill>
                <a:uFillTx/>
                <a:latin typeface="Arial"/>
              </a:rPr>
              <a:t>Не связанное со здоровьем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51"/>
              </a:spcBef>
              <a:buClr>
                <a:srgbClr val="ccff33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Arial"/>
              </a:rPr>
              <a:t>Образование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51"/>
              </a:spcBef>
              <a:buClr>
                <a:srgbClr val="ccff33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Arial"/>
              </a:rPr>
              <a:t>Экономическая безопасность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51"/>
              </a:spcBef>
              <a:buClr>
                <a:srgbClr val="ccff33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Arial"/>
              </a:rPr>
              <a:t>Окружающая среда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51"/>
              </a:spcBef>
              <a:buClr>
                <a:srgbClr val="ccff33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Arial"/>
              </a:rPr>
              <a:t>Физическая безопасность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6" name="Oval 6"/>
          <p:cNvSpPr/>
          <p:nvPr/>
        </p:nvSpPr>
        <p:spPr>
          <a:xfrm>
            <a:off x="1676520" y="0"/>
            <a:ext cx="6933960" cy="6934320"/>
          </a:xfrm>
          <a:prstGeom prst="ellipse">
            <a:avLst/>
          </a:prstGeom>
          <a:noFill/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610884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Arial"/>
              </a:rPr>
              <a:t>Здоровье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- это полное физическое, психологическое и социальное благополучие человека, а не просто отсутствие заболевания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ВОЗ, 1948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610884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17160" y="51480"/>
            <a:ext cx="863748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Arial"/>
              </a:rPr>
              <a:t>Основные характеристики понятия «качество жизни»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Многомерность качества жизни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Изменяемость во времени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Участие больного в оценке своего состояния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3" name="Місце для нижнього колонтитула 1"/>
          <p:cNvSpPr/>
          <p:nvPr/>
        </p:nvSpPr>
        <p:spPr>
          <a:xfrm>
            <a:off x="610884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17160" y="51480"/>
            <a:ext cx="863748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Arial"/>
              </a:rPr>
              <a:t>Графическое представление параметров КЖ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145" name="Object 1027"/>
          <p:cNvGraphicFramePr/>
          <p:nvPr/>
        </p:nvGraphicFramePr>
        <p:xfrm>
          <a:off x="328680" y="1941480"/>
          <a:ext cx="8208720" cy="4113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Object 102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8680" y="1941480"/>
                    <a:ext cx="8208720" cy="411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" name="Місце для нижнього колонтитула 1"/>
          <p:cNvSpPr/>
          <p:nvPr/>
        </p:nvSpPr>
        <p:spPr>
          <a:xfrm>
            <a:off x="610884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17160" y="51480"/>
            <a:ext cx="863748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Arial"/>
              </a:rPr>
              <a:t>Графическое представление параметров КЖ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149" name="Object 1027"/>
          <p:cNvGraphicFramePr/>
          <p:nvPr/>
        </p:nvGraphicFramePr>
        <p:xfrm>
          <a:off x="336600" y="1792440"/>
          <a:ext cx="8217000" cy="4370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" name="Object 102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6600" y="1792440"/>
                    <a:ext cx="8217000" cy="437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" name="Місце для нижнього колонтитула 1"/>
          <p:cNvSpPr/>
          <p:nvPr/>
        </p:nvSpPr>
        <p:spPr>
          <a:xfrm>
            <a:off x="610884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Arial"/>
              </a:rPr>
              <a:t>Классификация опросников КЖ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По степени специализированности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Общие опросники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Специальные опросники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По структуре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Профильные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Индексы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4" name="Місце для нижнього колонтитула 1"/>
          <p:cNvSpPr/>
          <p:nvPr/>
        </p:nvSpPr>
        <p:spPr>
          <a:xfrm>
            <a:off x="610884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Arial"/>
              </a:rPr>
              <a:t>Общие опросники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Предназначены для оценки качества жизни как здоровых, так и больных независимо от вида заболевания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F-36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WHOQoL-100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ickness Impact Profil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Nottingham Health Profil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EuroQoL-5D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7" name="Місце для нижнього колонтитула 1"/>
          <p:cNvSpPr/>
          <p:nvPr/>
        </p:nvSpPr>
        <p:spPr>
          <a:xfrm>
            <a:off x="610884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Arial"/>
              </a:rPr>
              <a:t>Специальные опросники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Предназначены для изучения качества жизни у отдельных категорий и групп пациентов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Gastrointestinal Symptom Rating Scal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Arthritis Impact Measurement Scal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Functional Assessment of Multiple Sclerosi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Oral Health Quality of Lif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0" name="Місце для нижнього колонтитула 1"/>
          <p:cNvSpPr/>
          <p:nvPr/>
        </p:nvSpPr>
        <p:spPr>
          <a:xfrm>
            <a:off x="610884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17160" y="51480"/>
            <a:ext cx="863748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Arial"/>
              </a:rPr>
              <a:t>Требования к опросникам оценки КЖ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Многомерность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Простота и краткость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Приемлемость вопросов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Применимость в различных языковых и социальных культурах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3" name="Місце для нижнього колонтитула 1"/>
          <p:cNvSpPr/>
          <p:nvPr/>
        </p:nvSpPr>
        <p:spPr>
          <a:xfrm>
            <a:off x="610884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17160" y="51480"/>
            <a:ext cx="863748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Arial"/>
              </a:rPr>
              <a:t>Предпосылки развития концепции качества жизни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Технологический прогресс в диагностике и лечении одних заболеваний и скромные успехи в лечении других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Узкая специализация в медицине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Многоуровневая структура благополучия человека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610884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17160" y="51480"/>
            <a:ext cx="863748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Arial"/>
              </a:rPr>
              <a:t>Психометрические свойства опросника оценки КЖ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Надежность (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reliability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Валидность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(validity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Чувствительность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(sensitivity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6" name="Місце для нижнього колонтитула 1"/>
          <p:cNvSpPr/>
          <p:nvPr/>
        </p:nvSpPr>
        <p:spPr>
          <a:xfrm>
            <a:off x="610884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Arial"/>
              </a:rPr>
              <a:t>Надежность</a:t>
            </a: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 (reliability)</a:t>
            </a:r>
            <a:r>
              <a:rPr b="0" lang="ru-RU" sz="44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Это показатель точности и постоянства измерений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9" name="Місце для нижнього колонтитула 1"/>
          <p:cNvSpPr/>
          <p:nvPr/>
        </p:nvSpPr>
        <p:spPr>
          <a:xfrm>
            <a:off x="610884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Arial"/>
              </a:rPr>
              <a:t>Валидность (</a:t>
            </a: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validity)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Способность опросника измерять ту характеристику, для измерения которой он предназначен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2" name="Місце для нижнього колонтитула 1"/>
          <p:cNvSpPr/>
          <p:nvPr/>
        </p:nvSpPr>
        <p:spPr>
          <a:xfrm>
            <a:off x="610884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Arial"/>
              </a:rPr>
              <a:t>Чувствительность</a:t>
            </a: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 (sensitivity)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Способность опросника выявлять изменения или различия показателей КЖ в соответствии с изменениями в состоянии больного или различиями в состоянии групп больных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5" name="Місце для нижнього колонтитула 1"/>
          <p:cNvSpPr/>
          <p:nvPr/>
        </p:nvSpPr>
        <p:spPr>
          <a:xfrm>
            <a:off x="610884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560" y="533160"/>
            <a:ext cx="8637480" cy="70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Arial"/>
              </a:rPr>
              <a:t>Культурная и языковая адаптация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77" name="Text Box 3"/>
          <p:cNvSpPr/>
          <p:nvPr/>
        </p:nvSpPr>
        <p:spPr>
          <a:xfrm>
            <a:off x="380880" y="2133720"/>
            <a:ext cx="2210040" cy="5806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ригинальная версия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8" name="Text Box 4"/>
          <p:cNvSpPr/>
          <p:nvPr/>
        </p:nvSpPr>
        <p:spPr>
          <a:xfrm>
            <a:off x="380880" y="3124080"/>
            <a:ext cx="221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cc"/>
                </a:solidFill>
                <a:latin typeface="Arial"/>
              </a:rPr>
              <a:t>Два независимых прямых перевода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9" name="Text Box 5"/>
          <p:cNvSpPr/>
          <p:nvPr/>
        </p:nvSpPr>
        <p:spPr>
          <a:xfrm>
            <a:off x="3429000" y="220968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cc"/>
                </a:solidFill>
                <a:latin typeface="Arial"/>
              </a:rPr>
              <a:t>Согласование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0" name="Text Box 6"/>
          <p:cNvSpPr/>
          <p:nvPr/>
        </p:nvSpPr>
        <p:spPr>
          <a:xfrm>
            <a:off x="3352680" y="3048120"/>
            <a:ext cx="2057400" cy="5806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едварительная версия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1" name="Text Box 7"/>
          <p:cNvSpPr/>
          <p:nvPr/>
        </p:nvSpPr>
        <p:spPr>
          <a:xfrm>
            <a:off x="3352680" y="4114800"/>
            <a:ext cx="2133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cc"/>
                </a:solidFill>
                <a:latin typeface="Arial"/>
              </a:rPr>
              <a:t>Обратный перевод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2" name="Text Box 8"/>
          <p:cNvSpPr/>
          <p:nvPr/>
        </p:nvSpPr>
        <p:spPr>
          <a:xfrm>
            <a:off x="6400800" y="228600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cc"/>
                </a:solidFill>
                <a:latin typeface="Arial"/>
              </a:rPr>
              <a:t>Экспертиза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Text Box 9"/>
          <p:cNvSpPr/>
          <p:nvPr/>
        </p:nvSpPr>
        <p:spPr>
          <a:xfrm>
            <a:off x="6324480" y="3124080"/>
            <a:ext cx="2133720" cy="3373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ест-версия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4" name="Text Box 10"/>
          <p:cNvSpPr/>
          <p:nvPr/>
        </p:nvSpPr>
        <p:spPr>
          <a:xfrm>
            <a:off x="6324480" y="3962520"/>
            <a:ext cx="190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cc"/>
                </a:solidFill>
                <a:latin typeface="Arial"/>
              </a:rPr>
              <a:t>Пилотное тестирование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5" name="Text Box 11"/>
          <p:cNvSpPr/>
          <p:nvPr/>
        </p:nvSpPr>
        <p:spPr>
          <a:xfrm>
            <a:off x="6324480" y="5029200"/>
            <a:ext cx="2133720" cy="5806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кончательная версия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6" name="Line 12"/>
          <p:cNvSpPr/>
          <p:nvPr/>
        </p:nvSpPr>
        <p:spPr>
          <a:xfrm>
            <a:off x="1066680" y="2743200"/>
            <a:ext cx="0" cy="380880"/>
          </a:xfrm>
          <a:prstGeom prst="line">
            <a:avLst/>
          </a:prstGeom>
          <a:ln w="12600">
            <a:solidFill>
              <a:srgbClr val="ffff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7" name="Line 13"/>
          <p:cNvSpPr/>
          <p:nvPr/>
        </p:nvSpPr>
        <p:spPr>
          <a:xfrm>
            <a:off x="1752480" y="2743200"/>
            <a:ext cx="0" cy="380880"/>
          </a:xfrm>
          <a:prstGeom prst="line">
            <a:avLst/>
          </a:prstGeom>
          <a:ln w="12600">
            <a:solidFill>
              <a:srgbClr val="ffff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Line 14"/>
          <p:cNvSpPr/>
          <p:nvPr/>
        </p:nvSpPr>
        <p:spPr>
          <a:xfrm flipV="1">
            <a:off x="2438280" y="2514240"/>
            <a:ext cx="1219320" cy="685800"/>
          </a:xfrm>
          <a:prstGeom prst="line">
            <a:avLst/>
          </a:prstGeom>
          <a:ln w="12600">
            <a:solidFill>
              <a:srgbClr val="ffff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9" name="Line 15"/>
          <p:cNvSpPr/>
          <p:nvPr/>
        </p:nvSpPr>
        <p:spPr>
          <a:xfrm>
            <a:off x="4343400" y="2514600"/>
            <a:ext cx="0" cy="457200"/>
          </a:xfrm>
          <a:prstGeom prst="line">
            <a:avLst/>
          </a:prstGeom>
          <a:ln w="12600">
            <a:solidFill>
              <a:srgbClr val="ffff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0" name="Line 16"/>
          <p:cNvSpPr/>
          <p:nvPr/>
        </p:nvSpPr>
        <p:spPr>
          <a:xfrm>
            <a:off x="4343400" y="3657600"/>
            <a:ext cx="0" cy="457200"/>
          </a:xfrm>
          <a:prstGeom prst="line">
            <a:avLst/>
          </a:prstGeom>
          <a:ln w="12600">
            <a:solidFill>
              <a:srgbClr val="ffff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1" name="Line 17"/>
          <p:cNvSpPr/>
          <p:nvPr/>
        </p:nvSpPr>
        <p:spPr>
          <a:xfrm flipV="1">
            <a:off x="5334120" y="2590560"/>
            <a:ext cx="1295280" cy="1523880"/>
          </a:xfrm>
          <a:prstGeom prst="line">
            <a:avLst/>
          </a:prstGeom>
          <a:ln w="12600">
            <a:solidFill>
              <a:srgbClr val="ffff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2" name="Line 18"/>
          <p:cNvSpPr/>
          <p:nvPr/>
        </p:nvSpPr>
        <p:spPr>
          <a:xfrm>
            <a:off x="7315200" y="2590920"/>
            <a:ext cx="0" cy="457200"/>
          </a:xfrm>
          <a:prstGeom prst="line">
            <a:avLst/>
          </a:prstGeom>
          <a:ln w="12600">
            <a:solidFill>
              <a:srgbClr val="ffff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3" name="Line 19"/>
          <p:cNvSpPr/>
          <p:nvPr/>
        </p:nvSpPr>
        <p:spPr>
          <a:xfrm>
            <a:off x="7315200" y="3505320"/>
            <a:ext cx="0" cy="533160"/>
          </a:xfrm>
          <a:prstGeom prst="line">
            <a:avLst/>
          </a:prstGeom>
          <a:ln w="12600">
            <a:solidFill>
              <a:srgbClr val="ffff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4" name="Line 20"/>
          <p:cNvSpPr/>
          <p:nvPr/>
        </p:nvSpPr>
        <p:spPr>
          <a:xfrm>
            <a:off x="7315200" y="4495680"/>
            <a:ext cx="0" cy="457200"/>
          </a:xfrm>
          <a:prstGeom prst="line">
            <a:avLst/>
          </a:prstGeom>
          <a:ln w="12600">
            <a:solidFill>
              <a:srgbClr val="ffff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5" name="Line 21"/>
          <p:cNvSpPr/>
          <p:nvPr/>
        </p:nvSpPr>
        <p:spPr>
          <a:xfrm flipH="1">
            <a:off x="5562720" y="2590920"/>
            <a:ext cx="914400" cy="457200"/>
          </a:xfrm>
          <a:prstGeom prst="line">
            <a:avLst/>
          </a:prstGeom>
          <a:ln w="12600">
            <a:solidFill>
              <a:srgbClr val="ffff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6" name="Місце для нижнього колонтитула 1"/>
          <p:cNvSpPr/>
          <p:nvPr/>
        </p:nvSpPr>
        <p:spPr>
          <a:xfrm>
            <a:off x="610884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Arial"/>
              </a:rPr>
              <a:t>Валидация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Это проверка психометрических свойств опросника, т.е. проверка надежности, валидности и чувствительности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9" name="Місце для нижнього колонтитула 1"/>
          <p:cNvSpPr/>
          <p:nvPr/>
        </p:nvSpPr>
        <p:spPr>
          <a:xfrm>
            <a:off x="610884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17160" y="782280"/>
            <a:ext cx="8637480" cy="70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Arial"/>
              </a:rPr>
              <a:t>Этапы разработки опросника КЖ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Разработка вопросов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Сокращение перечня вопросов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Предварительное тестирование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Оценка психометрических характеристик (валидация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Культурная и языковая адаптация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2" name="Місце для нижнього колонтитула 1"/>
          <p:cNvSpPr/>
          <p:nvPr/>
        </p:nvSpPr>
        <p:spPr>
          <a:xfrm>
            <a:off x="610884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17160" y="51480"/>
            <a:ext cx="863748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Arial"/>
              </a:rPr>
              <a:t>Структура опросника </a:t>
            </a:r>
            <a:br>
              <a:rPr sz="4400"/>
            </a:br>
            <a:r>
              <a:rPr b="0" lang="ru-RU" sz="4400" spc="-1" strike="noStrike">
                <a:solidFill>
                  <a:srgbClr val="ffcc00"/>
                </a:solidFill>
                <a:latin typeface="Arial"/>
              </a:rPr>
              <a:t>ВОЗКЖ-100 (</a:t>
            </a: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WHOQOL-100)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Опросник состоит из 6 доменов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Физическое здоровье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Психологическое состояние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Уровень независимости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Социальные отношения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Окружающая среда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Духовная сфера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5" name="Місце для нижнього колонтитула 1"/>
          <p:cNvSpPr/>
          <p:nvPr/>
        </p:nvSpPr>
        <p:spPr>
          <a:xfrm>
            <a:off x="610884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7160" y="51480"/>
            <a:ext cx="863748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Arial"/>
              </a:rPr>
              <a:t>Структура опросника </a:t>
            </a:r>
            <a:br>
              <a:rPr sz="4400"/>
            </a:br>
            <a:r>
              <a:rPr b="0" lang="ru-RU" sz="4400" spc="-1" strike="noStrike">
                <a:solidFill>
                  <a:srgbClr val="ffcc00"/>
                </a:solidFill>
                <a:latin typeface="Arial"/>
              </a:rPr>
              <a:t>ВОЗКЖ-100</a:t>
            </a: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ffcc00"/>
                </a:solidFill>
                <a:latin typeface="Arial"/>
              </a:rPr>
              <a:t>(</a:t>
            </a: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WHOQOL-100)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Каждый домен подразделяется на субсферы, например домен «Физическое состояние» включает следующие субсферы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Энергия и слабость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Боль и дискомфорт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Сон и отдых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8" name="Місце для нижнього колонтитула 1"/>
          <p:cNvSpPr/>
          <p:nvPr/>
        </p:nvSpPr>
        <p:spPr>
          <a:xfrm>
            <a:off x="610884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Arial"/>
              </a:rPr>
              <a:t>Пример вопроса ВОЗКЖ-100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0" name="Rectangle 3"/>
          <p:cNvSpPr/>
          <p:nvPr/>
        </p:nvSpPr>
        <p:spPr>
          <a:xfrm>
            <a:off x="0" y="260676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  <a:ea typeface="Times New Roman"/>
              </a:rPr>
              <a:t>F</a:t>
            </a:r>
            <a:r>
              <a:rPr b="0" lang="ru-RU" sz="2000" spc="-1" strike="noStrike">
                <a:solidFill>
                  <a:srgbClr val="ffffcc"/>
                </a:solidFill>
                <a:latin typeface="Arial"/>
                <a:ea typeface="Times New Roman"/>
              </a:rPr>
              <a:t>1.2 </a:t>
            </a:r>
            <a:r>
              <a:rPr b="0" lang="ru-RU" sz="2000" spc="-1" strike="noStrike">
                <a:solidFill>
                  <a:srgbClr val="ffffcc"/>
                </a:solidFill>
                <a:latin typeface="Arial"/>
              </a:rPr>
              <a:t>Беспокоитесь ли Вы по поводу физических болей или дискомфорта?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11" name="Group 9"/>
          <p:cNvGrpSpPr/>
          <p:nvPr/>
        </p:nvGrpSpPr>
        <p:grpSpPr>
          <a:xfrm>
            <a:off x="68400" y="3300480"/>
            <a:ext cx="8694000" cy="950760"/>
            <a:chOff x="68400" y="3300480"/>
            <a:chExt cx="8694000" cy="950760"/>
          </a:xfrm>
        </p:grpSpPr>
        <p:sp>
          <p:nvSpPr>
            <p:cNvPr id="212" name="Rectangle 4"/>
            <p:cNvSpPr/>
            <p:nvPr/>
          </p:nvSpPr>
          <p:spPr>
            <a:xfrm>
              <a:off x="68400" y="3300480"/>
              <a:ext cx="1738440" cy="9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cc"/>
                  </a:solidFill>
                  <a:latin typeface="Arial"/>
                  <a:ea typeface="Times New Roman"/>
                </a:rPr>
                <a:t>1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cc"/>
                  </a:solidFill>
                  <a:latin typeface="Arial"/>
                  <a:ea typeface="Times New Roman"/>
                </a:rPr>
                <a:t>совсем нет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3" name="Rectangle 5"/>
            <p:cNvSpPr/>
            <p:nvPr/>
          </p:nvSpPr>
          <p:spPr>
            <a:xfrm>
              <a:off x="1806840" y="3300480"/>
              <a:ext cx="1739160" cy="9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cc"/>
                  </a:solidFill>
                  <a:latin typeface="Arial"/>
                  <a:ea typeface="Times New Roman"/>
                </a:rPr>
                <a:t>2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cc"/>
                  </a:solidFill>
                  <a:latin typeface="Arial"/>
                  <a:ea typeface="Times New Roman"/>
                </a:rPr>
                <a:t>относительно мало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4" name="Rectangle 6"/>
            <p:cNvSpPr/>
            <p:nvPr/>
          </p:nvSpPr>
          <p:spPr>
            <a:xfrm>
              <a:off x="3546000" y="3300480"/>
              <a:ext cx="1738440" cy="9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cc"/>
                  </a:solidFill>
                  <a:latin typeface="Arial"/>
                  <a:ea typeface="Times New Roman"/>
                </a:rPr>
                <a:t>3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cc"/>
                  </a:solidFill>
                  <a:latin typeface="Arial"/>
                  <a:ea typeface="Times New Roman"/>
                </a:rPr>
                <a:t>средне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5" name="Rectangle 7"/>
            <p:cNvSpPr/>
            <p:nvPr/>
          </p:nvSpPr>
          <p:spPr>
            <a:xfrm>
              <a:off x="5284800" y="3300480"/>
              <a:ext cx="1739160" cy="9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cc"/>
                  </a:solidFill>
                  <a:latin typeface="Arial"/>
                  <a:ea typeface="Times New Roman"/>
                </a:rPr>
                <a:t>4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cc"/>
                  </a:solidFill>
                  <a:latin typeface="Arial"/>
                  <a:ea typeface="Times New Roman"/>
                </a:rPr>
                <a:t>относительно много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6" name="Rectangle 8"/>
            <p:cNvSpPr/>
            <p:nvPr/>
          </p:nvSpPr>
          <p:spPr>
            <a:xfrm>
              <a:off x="7023960" y="3300480"/>
              <a:ext cx="1738440" cy="9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cc"/>
                  </a:solidFill>
                  <a:latin typeface="Arial"/>
                  <a:ea typeface="Times New Roman"/>
                </a:rPr>
                <a:t>5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cc"/>
                  </a:solidFill>
                  <a:latin typeface="Arial"/>
                  <a:ea typeface="Times New Roman"/>
                </a:rPr>
                <a:t>предельно много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17" name="Місце для нижнього колонтитула 1"/>
          <p:cNvSpPr/>
          <p:nvPr/>
        </p:nvSpPr>
        <p:spPr>
          <a:xfrm>
            <a:off x="610884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Sugarbaker P.H., 1982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Исследуемые варианты лечения сарком мягких тканей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Arial"/>
              </a:rPr>
              <a:t>Операция с сохранением конечности с последующей лучевой терапией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Arial"/>
              </a:rPr>
              <a:t>Ампутация конечности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610884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04560" y="685440"/>
            <a:ext cx="8637480" cy="70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Arial"/>
              </a:rPr>
              <a:t>Основные этапы исследования КЖ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Разработка протокола исследования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Выбор инструмента исследования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Сбор данных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Формирование базы данных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Шкалирование данных опросника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Статистическая обработка данных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Анализ и интерпретация результатов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0" name="Місце для нижнього колонтитула 1"/>
          <p:cNvSpPr/>
          <p:nvPr/>
        </p:nvSpPr>
        <p:spPr>
          <a:xfrm>
            <a:off x="610884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Arial"/>
              </a:rPr>
              <a:t>Протокол исследования КЖ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Цели и задачи исследования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Критерии включения больных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Дизайн исследования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Карта клинического обследования больного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Описание инструмента исследования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Определение объема выборки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Метод рандомизации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Инструкция для участников исследования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Информированное согласие пациента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3" name="Місце для нижнього колонтитула 1"/>
          <p:cNvSpPr/>
          <p:nvPr/>
        </p:nvSpPr>
        <p:spPr>
          <a:xfrm>
            <a:off x="610884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17160" y="51480"/>
            <a:ext cx="863748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Arial"/>
              </a:rPr>
              <a:t>Направления исследования качества жизни в медицине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Arial"/>
              </a:rPr>
              <a:t>Изучение влияния заболевания на физическое, психологическое и социальное функционирование больного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Arial"/>
              </a:rPr>
              <a:t>Изучение влияния лечения на параметры качества жизни больного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Arial"/>
              </a:rPr>
              <a:t>Оценка эффективности лекарственных препаратов и методов лечения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Arial"/>
              </a:rPr>
              <a:t>Прогностическое значение параметров качества жизни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Arial"/>
              </a:rPr>
              <a:t>Качество жизни как критерий ремиссии и выздоровления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Arial"/>
              </a:rPr>
              <a:t>Индивидуальный мониторинг показателей качества жизни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Arial"/>
              </a:rPr>
              <a:t>Проведение социально-медицинских популяционных исследований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6" name="Місце для нижнього колонтитула 1"/>
          <p:cNvSpPr/>
          <p:nvPr/>
        </p:nvSpPr>
        <p:spPr>
          <a:xfrm>
            <a:off x="610884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90720" y="161532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Arial"/>
              </a:rPr>
              <a:t>Основы фармакоэкономики и концепция </a:t>
            </a: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QALY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2685600" y="3492000"/>
            <a:ext cx="6102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9" name="Місце для нижнього колонтитула 1"/>
          <p:cNvSpPr/>
          <p:nvPr/>
        </p:nvSpPr>
        <p:spPr>
          <a:xfrm>
            <a:off x="601992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17160" y="173160"/>
            <a:ext cx="8637480" cy="1311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Arial"/>
              </a:rPr>
              <a:t>Когда необходим фармакоэкономический анализ?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328680" y="1941480"/>
          <a:ext cx="8208720" cy="4114800"/>
        </p:xfrm>
        <a:graphic>
          <a:graphicData uri="http://schemas.openxmlformats.org/drawingml/2006/table">
            <a:tbl>
              <a:tblPr/>
              <a:tblGrid>
                <a:gridCol w="2736720"/>
                <a:gridCol w="2735280"/>
                <a:gridCol w="2736720"/>
              </a:tblGrid>
              <a:tr h="136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Новый метод лечения по сравнению со стандартным …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6d6a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Дороже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817e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Дешевле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817e00"/>
                    </a:solidFill>
                  </a:tcPr>
                </a:tc>
              </a:tr>
              <a:tr h="136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Менее эффективен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6d6a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Отвергается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Необходим анализ «стоимость-эффективность»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1377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Более эффективен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solidFill>
                      <a:srgbClr val="6d6a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Необходим анализ «стоимость-эффективность»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Принимается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2" name="Місце для нижнього колонтитула 1"/>
          <p:cNvSpPr/>
          <p:nvPr/>
        </p:nvSpPr>
        <p:spPr>
          <a:xfrm>
            <a:off x="610884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Arial"/>
              </a:rPr>
              <a:t>Концепция </a:t>
            </a: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QALY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QALY (quality-adjusted life year) – </a:t>
            </a: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год жизни с поправкой на его качество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QALY </a:t>
            </a: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принимает значения от 0 до 1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Один год абсолютно здоровой жизни оценивается как 1,0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QALY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Год жизни, прожитый с проблемами со здоровьем, оценивается меньше 1,0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Два года жизни, оцененные как 0,5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QALY</a:t>
            </a: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, равняются одному году здоровой жизни, т.е. 1,0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QALY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5" name="Місце для нижнього колонтитула 1"/>
          <p:cNvSpPr/>
          <p:nvPr/>
        </p:nvSpPr>
        <p:spPr>
          <a:xfrm>
            <a:off x="610884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17160" y="293400"/>
            <a:ext cx="8637480" cy="1190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c00"/>
                </a:solidFill>
                <a:latin typeface="Arial"/>
              </a:rPr>
              <a:t>Влияние заболевания на качество и продолжительность жизни</a:t>
            </a:r>
            <a:endParaRPr b="0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237" name="Object 0"/>
          <p:cNvGraphicFramePr/>
          <p:nvPr/>
        </p:nvGraphicFramePr>
        <p:xfrm>
          <a:off x="345960" y="1943280"/>
          <a:ext cx="8197920" cy="410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8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5960" y="1943280"/>
                    <a:ext cx="8197920" cy="41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9" name="Місце для нижнього колонтитула 1"/>
          <p:cNvSpPr/>
          <p:nvPr/>
        </p:nvSpPr>
        <p:spPr>
          <a:xfrm>
            <a:off x="610884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17160" y="51480"/>
            <a:ext cx="863748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Arial"/>
              </a:rPr>
              <a:t>Пример анализа «стоимость-эффективность»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28320" y="1941480"/>
            <a:ext cx="402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Лечение А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Arial"/>
              </a:rPr>
              <a:t>Стоимость 1000 руб в год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Arial"/>
              </a:rPr>
              <a:t>Улучшает качество жизни с 0,5 до 0,6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Arial"/>
              </a:rPr>
              <a:t>За 10 лет лечения больной приобретает 10х(0,6-0,5)=1,0 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QALY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Arial"/>
              </a:rPr>
              <a:t>Стоимость в расчете на 1,0 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QALY </a:t>
            </a:r>
            <a:r>
              <a:rPr b="0" lang="ru-RU" sz="2400" spc="-1" strike="noStrike">
                <a:solidFill>
                  <a:srgbClr val="ffffcc"/>
                </a:solidFill>
                <a:latin typeface="Arial"/>
              </a:rPr>
              <a:t>составляет 10000 рублей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08280" y="1941480"/>
            <a:ext cx="4028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Лечение Б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Arial"/>
              </a:rPr>
              <a:t>Стоимость 4000 руб в год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Arial"/>
              </a:rPr>
              <a:t>Улучшает качество жизни с 0,5 до 0,7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Arial"/>
              </a:rPr>
              <a:t>За 10 лет лечения больной приобретает 10х(0,7-0,5)=2,0 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QALY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Arial"/>
              </a:rPr>
              <a:t>Стоимость в расчете на 1,0 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QALY</a:t>
            </a:r>
            <a:r>
              <a:rPr b="0" lang="ru-RU" sz="2400" spc="-1" strike="noStrike">
                <a:solidFill>
                  <a:srgbClr val="ffffcc"/>
                </a:solidFill>
                <a:latin typeface="Arial"/>
              </a:rPr>
              <a:t> составляет 20000 рублей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3" name="Місце для нижнього колонтитула 1"/>
          <p:cNvSpPr/>
          <p:nvPr/>
        </p:nvSpPr>
        <p:spPr>
          <a:xfrm>
            <a:off x="610884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Sugarbaker P.H., 1982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Гипотеза – сохранение конечности в отличие от ампутации приводит к улучшению качества жизни больного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610884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Sugarbaker P.H., 1982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Результаты исследования – операция с сохранением конечности с последующей лучевой терапией приводила к значимому снижению двигательной активности и социального функционирования пациента по сравнению с альтернативным вариантом лечения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610884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Arial"/>
              </a:rPr>
              <a:t>Качество жизни </a:t>
            </a:r>
            <a:r>
              <a:rPr b="0" lang="ru-RU" sz="2400" spc="-1" strike="noStrike">
                <a:solidFill>
                  <a:srgbClr val="ffcc00"/>
                </a:solidFill>
                <a:latin typeface="Arial"/>
              </a:rPr>
              <a:t>(определение 1)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- это восприятие индивидуумами своего положения в жизни в контексте культуры и системы ценностей той среды, в которой они живут, в неразрывной связи с их целями, ожиданиями, стандартами и заботами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ВОЗ, 1996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610884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Arial"/>
              </a:rPr>
              <a:t>Качество жизни </a:t>
            </a:r>
            <a:r>
              <a:rPr b="0" lang="ru-RU" sz="2400" spc="-1" strike="noStrike">
                <a:solidFill>
                  <a:srgbClr val="ffcc00"/>
                </a:solidFill>
                <a:latin typeface="Arial"/>
              </a:rPr>
              <a:t>(определение 2)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- это интегральная характеристика физического, психологического, эмоционального и социального функционирования больного, основанная на его субъективном восприятии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610884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Oval 8"/>
          <p:cNvSpPr/>
          <p:nvPr/>
        </p:nvSpPr>
        <p:spPr>
          <a:xfrm>
            <a:off x="1143000" y="228600"/>
            <a:ext cx="6629400" cy="662940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Oval 6"/>
          <p:cNvSpPr/>
          <p:nvPr/>
        </p:nvSpPr>
        <p:spPr>
          <a:xfrm>
            <a:off x="2286000" y="1447920"/>
            <a:ext cx="4419720" cy="426708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Oval 3"/>
          <p:cNvSpPr/>
          <p:nvPr/>
        </p:nvSpPr>
        <p:spPr>
          <a:xfrm>
            <a:off x="3276720" y="2438280"/>
            <a:ext cx="2514600" cy="2362320"/>
          </a:xfrm>
          <a:prstGeom prst="ellipse">
            <a:avLst/>
          </a:prstGeom>
          <a:solidFill>
            <a:srgbClr val="cc6600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3429000" y="3276720"/>
            <a:ext cx="2209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Arial"/>
              </a:rPr>
              <a:t>Физическое благополучие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" name="Text Box 7"/>
          <p:cNvSpPr/>
          <p:nvPr/>
        </p:nvSpPr>
        <p:spPr>
          <a:xfrm>
            <a:off x="3276720" y="1676520"/>
            <a:ext cx="2590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сихическое благополучие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Text Box 9"/>
          <p:cNvSpPr/>
          <p:nvPr/>
        </p:nvSpPr>
        <p:spPr>
          <a:xfrm>
            <a:off x="3200400" y="609480"/>
            <a:ext cx="259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циальное благополучие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610884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AutoShape 2"/>
          <p:cNvSpPr/>
          <p:nvPr/>
        </p:nvSpPr>
        <p:spPr>
          <a:xfrm>
            <a:off x="1828800" y="1066680"/>
            <a:ext cx="5638680" cy="5639040"/>
          </a:xfrm>
          <a:custGeom>
            <a:avLst/>
            <a:gdLst>
              <a:gd name="textAreaLeft" fmla="*/ 157680 w 5638680"/>
              <a:gd name="textAreaRight" fmla="*/ 5481000 w 5638680"/>
              <a:gd name="textAreaTop" fmla="*/ 0 h 5639040"/>
              <a:gd name="textAreaBottom" fmla="*/ 2354400 h 5639040"/>
            </a:gdLst>
            <a:ahLst/>
            <a:rect l="textAreaLeft" t="textAreaTop" r="textAreaRight" b="textAreaBottom"/>
            <a:pathLst>
              <a:path w="21600" h="21600">
                <a:moveTo>
                  <a:pt x="6257" y="7869"/>
                </a:moveTo>
                <a:cubicBezTo>
                  <a:pt x="7252" y="6326"/>
                  <a:pt x="8963" y="5393"/>
                  <a:pt x="10800" y="5394"/>
                </a:cubicBezTo>
                <a:cubicBezTo>
                  <a:pt x="12636" y="5394"/>
                  <a:pt x="14347" y="6326"/>
                  <a:pt x="15342" y="7869"/>
                </a:cubicBezTo>
                <a:lnTo>
                  <a:pt x="19875" y="4944"/>
                </a:lnTo>
                <a:cubicBezTo>
                  <a:pt x="17886" y="1862"/>
                  <a:pt x="14468" y="-1"/>
                  <a:pt x="10799" y="0"/>
                </a:cubicBezTo>
                <a:cubicBezTo>
                  <a:pt x="7131" y="0"/>
                  <a:pt x="3713" y="1862"/>
                  <a:pt x="1724" y="4944"/>
                </a:cubicBezTo>
                <a:lnTo>
                  <a:pt x="6257" y="7869"/>
                </a:lnTo>
                <a:close/>
              </a:path>
            </a:pathLst>
          </a:custGeom>
          <a:solidFill>
            <a:srgbClr val="ffffcc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AutoShape 3"/>
          <p:cNvSpPr/>
          <p:nvPr/>
        </p:nvSpPr>
        <p:spPr>
          <a:xfrm rot="7159200">
            <a:off x="1984320" y="1139400"/>
            <a:ext cx="5479920" cy="5486400"/>
          </a:xfrm>
          <a:custGeom>
            <a:avLst/>
            <a:gdLst>
              <a:gd name="textAreaLeft" fmla="*/ 99360 w 5479920"/>
              <a:gd name="textAreaRight" fmla="*/ 5380560 w 5479920"/>
              <a:gd name="textAreaTop" fmla="*/ 0 h 5486400"/>
              <a:gd name="textAreaBottom" fmla="*/ 2390760 h 5486400"/>
            </a:gdLst>
            <a:ahLst/>
            <a:rect l="textAreaLeft" t="textAreaTop" r="textAreaRight" b="textAreaBottom"/>
            <a:pathLst>
              <a:path w="21600" h="21600">
                <a:moveTo>
                  <a:pt x="6283" y="8254"/>
                </a:moveTo>
                <a:cubicBezTo>
                  <a:pt x="7202" y="6623"/>
                  <a:pt x="8928" y="5614"/>
                  <a:pt x="10800" y="5615"/>
                </a:cubicBezTo>
                <a:cubicBezTo>
                  <a:pt x="12671" y="5615"/>
                  <a:pt x="14397" y="6623"/>
                  <a:pt x="15316" y="8254"/>
                </a:cubicBezTo>
                <a:lnTo>
                  <a:pt x="20208" y="5496"/>
                </a:lnTo>
                <a:cubicBezTo>
                  <a:pt x="18294" y="2100"/>
                  <a:pt x="14698" y="-1"/>
                  <a:pt x="10799" y="0"/>
                </a:cubicBezTo>
                <a:cubicBezTo>
                  <a:pt x="6901" y="0"/>
                  <a:pt x="3305" y="2100"/>
                  <a:pt x="1391" y="5496"/>
                </a:cubicBezTo>
                <a:lnTo>
                  <a:pt x="6283" y="8254"/>
                </a:lnTo>
                <a:close/>
              </a:path>
            </a:pathLst>
          </a:custGeom>
          <a:solidFill>
            <a:srgbClr val="ffcc00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" name="AutoShape 4"/>
          <p:cNvSpPr/>
          <p:nvPr/>
        </p:nvSpPr>
        <p:spPr>
          <a:xfrm rot="14405400">
            <a:off x="1828800" y="1143000"/>
            <a:ext cx="5486400" cy="5486400"/>
          </a:xfrm>
          <a:custGeom>
            <a:avLst/>
            <a:gdLst>
              <a:gd name="textAreaLeft" fmla="*/ 78120 w 5486400"/>
              <a:gd name="textAreaRight" fmla="*/ 5408280 w 5486400"/>
              <a:gd name="textAreaTop" fmla="*/ 0 h 5486400"/>
              <a:gd name="textAreaBottom" fmla="*/ 2434680 h 5486400"/>
            </a:gdLst>
            <a:ahLst/>
            <a:rect l="textAreaLeft" t="textAreaTop" r="textAreaRight" b="textAreaBottom"/>
            <a:pathLst>
              <a:path w="21600" h="21600">
                <a:moveTo>
                  <a:pt x="6269" y="8414"/>
                </a:moveTo>
                <a:cubicBezTo>
                  <a:pt x="7155" y="6732"/>
                  <a:pt x="8899" y="5679"/>
                  <a:pt x="10800" y="5680"/>
                </a:cubicBezTo>
                <a:cubicBezTo>
                  <a:pt x="12700" y="5680"/>
                  <a:pt x="14444" y="6732"/>
                  <a:pt x="15330" y="8414"/>
                </a:cubicBezTo>
                <a:lnTo>
                  <a:pt x="20356" y="5767"/>
                </a:lnTo>
                <a:cubicBezTo>
                  <a:pt x="18488" y="2220"/>
                  <a:pt x="14808" y="-1"/>
                  <a:pt x="10799" y="0"/>
                </a:cubicBezTo>
                <a:cubicBezTo>
                  <a:pt x="6791" y="0"/>
                  <a:pt x="3111" y="2220"/>
                  <a:pt x="1243" y="5767"/>
                </a:cubicBezTo>
                <a:lnTo>
                  <a:pt x="6269" y="8414"/>
                </a:lnTo>
                <a:close/>
              </a:path>
            </a:pathLst>
          </a:custGeom>
          <a:solidFill>
            <a:srgbClr val="cc6600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5" name="Text Box 5"/>
          <p:cNvSpPr/>
          <p:nvPr/>
        </p:nvSpPr>
        <p:spPr>
          <a:xfrm rot="2745000">
            <a:off x="1781280" y="454104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Arial"/>
              </a:rPr>
              <a:t>Физическое благополучие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" name="Text Box 6"/>
          <p:cNvSpPr/>
          <p:nvPr/>
        </p:nvSpPr>
        <p:spPr>
          <a:xfrm rot="18451200">
            <a:off x="5060520" y="4464360"/>
            <a:ext cx="259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сихическое благополучие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Text Box 7"/>
          <p:cNvSpPr/>
          <p:nvPr/>
        </p:nvSpPr>
        <p:spPr>
          <a:xfrm>
            <a:off x="3048120" y="1387440"/>
            <a:ext cx="3124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циальное благополучие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8" name="Місце для нижнього колонтитула 1"/>
          <p:cNvSpPr/>
          <p:nvPr/>
        </p:nvSpPr>
        <p:spPr>
          <a:xfrm>
            <a:off x="610884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3T07:27:38Z</dcterms:created>
  <dc:creator>НОО1</dc:creator>
  <dc:description/>
  <dc:language>en-US</dc:language>
  <cp:lastModifiedBy>RomaK</cp:lastModifiedBy>
  <dcterms:modified xsi:type="dcterms:W3CDTF">2014-10-31T12:30:00Z</dcterms:modified>
  <cp:revision>26</cp:revision>
  <dc:subject/>
  <dc:title>Качество жизни в медицине и здравоохранении</dc:title>
</cp:coreProperties>
</file>