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9075-9355-4C7A-8D19-ED4B75E4F1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в медицине и здравоо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BD13-2700-40C4-9749-8E936A489AD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е связанное со здоровь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ая 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74C8-0AFE-4F90-A55C-67958E30EC6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B154-2BEC-434B-9C5D-4819B9839AF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характеристики понятия «качество жиз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емость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больного в оценке своего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7A6C-E008-4DEB-83B0-44C5357DD94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1A12-1D05-47D9-BB0F-D9484327FF7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ое представление параметр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98A8-E3A4-4372-9A3B-7C96866EFE8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опросников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епени специализиров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рукту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ек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166F-50CC-413E-857C-A36A4E0C24F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F-3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ckness Impact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QoL-5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2ECB-5C46-43A0-934D-D020C1FE565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опрос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назначены для изучения качества жизни у отдельных категорий и групп пац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ointestinal Symptom Rating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hritis Impact Measurement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al Assessment of Multiple Scler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al Health Quality of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F90F-6B76-4F5E-8255-576CF8B283B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просникам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ота и кратк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лемость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в различных языковых и социальных культу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4AA-2B3A-400E-A170-2EEC1F70DFD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сылки развития концепции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кая специализация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уровневая структура благополуч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336E-E8D6-4477-BD6E-C6C775416D0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метрические свойства опросника оценки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abi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7D2C-6C00-47E9-9DA8-966EA338C6C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еж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reliability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казатель точности и постоянства изме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9D62-775C-41AC-B435-8514BBA4DD8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ность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id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BE86-24E3-4BF3-9E2A-3EA6103680C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итель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sensitiv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E4D4-FBD3-4D01-A259-5EF025ADE13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CCC6-DB64-440C-905E-27236E248BB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8A45-9B5E-4F9D-B03C-D33F31576E4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апы разработки опросника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еречня воп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тес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сихометрических характеристик (валид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ая и языковая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2FE5-4F49-4669-BD81-F95653A0611E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состоит из 6 доме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ое здоров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независ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ая 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ая 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AAC3-7A7E-41B9-932F-1993ABD2B44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опросник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КЖ-10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QOL-1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ия и слаб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 и дискомф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 и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A5C2-8CC1-43B8-9C8D-8295A1D25ED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вопроса ВОЗКЖ-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7E53-BF83-4105-8A4B-2DD90131DB98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уемые варианты лечения сарком мягких тк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ция с сохранением конечности с последующей лучевой терап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путация 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ECCE-0450-4D14-9879-64A11121812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этапы исследования КЖ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токол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базы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ирование данных опрос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ческая обработка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интерпретация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20D3-1BE8-428F-B329-DC61478C313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окол исследования К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ерии включения бо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зайн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клинического обследования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инструмента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объема выб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рандом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 для участников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ированное согласие пац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9F70-2A0F-430F-AF63-BBC38739DEB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я исследования качества жизни в медиц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влияния лечения на параметры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лекарственных препаратов и методов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стическое значение параметров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как критерий ремиссии и выздор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мониторинг показателей качества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дение социально-медицинских популяцион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CA78-1099-4BDB-BB2D-C747A8441AC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фармакоэкономики и 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4C73-575A-4D1A-A5AE-71EA459A6F2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необходим фармакоэкономический анализ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4874-5D4A-4FFA-B179-D349075DA60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(quality-adjusted life year)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 с поправкой на его ка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ет значения от 0 до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год абсолютно здоровой жизни оценивается как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 жизни, прожитый с проблемами со здоровьем, оценивается меньше 1,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года жизни, оцененные как 0,5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няются одному году здоровой жизни, т.е.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4DA6-B7A6-48D4-A9FB-88954E9E1C8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заболевания на качество и продолжительност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D7A3-7BBD-4E51-8C5D-B9928A4F64B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 анализа «стоимость-эффективнос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1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6-0,5)=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ет 1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4000 руб в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ает качество жизни с 0,5 до 0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10 лет лечения больной приобретает 10х(0,7-0,5)=2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 расчете на 1,0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LY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авляет 20000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FBD0-F52F-4C15-AA05-1072E0759779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D12E-E55A-4F87-9E44-8835791B621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baker P.H., 19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2E6E-B896-4049-97C8-0E5A42EBCFF3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1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,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A828-8BAF-4C9F-9376-9475D090908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жизни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определение 2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7DEF-123D-4AF9-8AAE-DD5153ECEE2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6493-777C-4CFC-B104-2BB549F47A95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eece1"/>
                </a:solidFill>
                <a:latin typeface="Arial"/>
              </a:rPr>
              <a:t>Социальное благополу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1222-45B1-4301-AA5F-BA834949576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5C8-AE9A-4BEE-AFBF-D891C9AA7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690-6D94-4E77-B2FD-230017C3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5C1-49F0-4390-8BB6-E0A7FCA3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4955-FD12-4C9F-8746-4860ED21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7F97-5D08-4B15-AE8A-AF5380A5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75CA-8B58-4342-902B-3648E62E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3DF5-E361-4A20-BEB6-BB015293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AA74-79FB-45B3-9798-0EB6ADFE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6D4A-1A2E-439E-808E-4B0CE94E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D999-DA3D-4B17-814A-7B250E94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EAF9-7C36-42AA-A79D-EB294E8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F14-AD11-4C30-87C9-DB66041F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BCD2-3831-4D60-A607-E700E45C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B5B6-15C9-4ADF-A322-8DCD5EE5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1450-C7A0-4275-91C2-BF9B3ABB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6BC9-31A1-4B2A-A198-7F70AD0F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C87D-3FDC-4FC5-989D-0731D980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580-A229-4D51-A589-DC121BBB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825-26DC-4EE4-8CDF-D8EA73E5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CE4-BFDE-4F12-8274-A26E9536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D26-428E-47E7-8D1D-FE476F86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80ED-F63D-4C31-82E7-D1776F8A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44D-B90D-4842-984F-78BE80F2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BA7-BE4B-43F8-A98A-3074712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2B81-48BA-43A6-A3B3-655E3156FD45}" type="slidenum">
              <a:rPr b="0" lang="ru-RU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7CE9-4DAD-4589-8D82-D48A16E96C61}" type="slidenum">
              <a:rPr b="0" lang="ru-RU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в медицине и здравоохранени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Program Files\Common Files\Microsoft Shared\Clipart\cagcat50\PE01023_.wmf"/>
          <p:cNvPicPr/>
          <p:nvPr/>
        </p:nvPicPr>
        <p:blipFill>
          <a:blip r:embed="rId1"/>
          <a:stretch/>
        </p:blipFill>
        <p:spPr>
          <a:xfrm>
            <a:off x="1828800" y="2612880"/>
            <a:ext cx="2363760" cy="37116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3809880" y="533520"/>
            <a:ext cx="2971800" cy="2209680"/>
          </a:xfrm>
          <a:prstGeom prst="cloudCallout">
            <a:avLst>
              <a:gd name="adj1" fmla="val -42629"/>
              <a:gd name="adj2" fmla="val 69972"/>
            </a:avLst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Picture 6" descr="C:\Documents and Settings\Andrey\My Documents\My Pictures\80378801.jpg"/>
          <p:cNvPicPr/>
          <p:nvPr/>
        </p:nvPicPr>
        <p:blipFill>
          <a:blip r:embed="rId2"/>
          <a:stretch/>
        </p:blipFill>
        <p:spPr>
          <a:xfrm>
            <a:off x="4495680" y="838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2133720"/>
            <a:ext cx="3276360" cy="2931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Психологическ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Социаль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Духовное благополуч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638320" y="1980720"/>
            <a:ext cx="3203640" cy="25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cc"/>
                </a:solidFill>
                <a:uFillTx/>
                <a:latin typeface="Arial"/>
              </a:rPr>
              <a:t>Не связанное со здоровьем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бразование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Эконом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Физическая безопасност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1676520" y="0"/>
            <a:ext cx="6933960" cy="6934320"/>
          </a:xfrm>
          <a:prstGeom prst="ellipse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Здоровь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полное физическое, психологическое и социальное благополучие человека, а не просто отсутствие заболе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4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ные характеристики понятия «качество жизни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 качества жиз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зменяемость во времен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частие больного в оценке своего состоя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5" name="Object 1027"/>
          <p:cNvGraphicFramePr/>
          <p:nvPr/>
        </p:nvGraphicFramePr>
        <p:xfrm>
          <a:off x="328680" y="1941480"/>
          <a:ext cx="82087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941480"/>
                    <a:ext cx="82087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Графическое представление параметр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49" name="Object 1027"/>
          <p:cNvGraphicFramePr/>
          <p:nvPr/>
        </p:nvGraphicFramePr>
        <p:xfrm>
          <a:off x="336600" y="1792440"/>
          <a:ext cx="82170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6600" y="1792440"/>
                    <a:ext cx="82170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лассификация опросников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епени специализирован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бщи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пециальные опросни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о структур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офильные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декс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бщи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едназначены для оценки качества жизни как здоровых, так и больных независимо от вида заболе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F-36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OQoL-10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ckness Impact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ttingham Health Profi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uroQoL-5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пециальные опросник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назначены для изучения качества жизни у отдельных категорий и групп пациен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astrointestinal Symptom Rating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rthritis Impact Measurement Sca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unctional Assessment of Multiple Sclerosi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ral Health Quality of Lif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Требования к опросникам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мерн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остота и краткост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емлемость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именимость в различных языковых и социальных культура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едпосылки развития концепции качества жизни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Технологический прогресс в диагностике и лечении одних заболеваний и скромные успехи в лечении други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зкая специализация в медицин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Многоуровневая структура благополучия челове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сихометрические свойства опросника оценки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дежность (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liabil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алидност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(valid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Чувствительность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sensitivity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деж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reliability)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оказатель точности и постоянства измерени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ность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alid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измерять ту характеристику, для измерения которой он предназначен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Чувствительность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(sensitivity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пособность опросника выявлять изменения или различия показателей КЖ в соответствии с изменениями в состоянии больного или различиями в состоянии групп боль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ультурная и языковая адаптация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0880" y="2133720"/>
            <a:ext cx="221004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игина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80880" y="3124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Два независимых прямых перевод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429000" y="2209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Соглас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352680" y="3048120"/>
            <a:ext cx="205740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вари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352680" y="41148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Обратный перевод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400800" y="2286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Экспертиза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324480" y="3124080"/>
            <a:ext cx="2133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-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6324480" y="396252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Пилотное тестирование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6324480" y="5029200"/>
            <a:ext cx="2133720" cy="580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чательная версия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10666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1752480" y="274320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Line 14"/>
          <p:cNvSpPr/>
          <p:nvPr/>
        </p:nvSpPr>
        <p:spPr>
          <a:xfrm flipV="1">
            <a:off x="2438280" y="2514240"/>
            <a:ext cx="121932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4343400" y="2514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4343400" y="36576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5334120" y="2590560"/>
            <a:ext cx="1295280" cy="1523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7315200" y="259092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7315200" y="3505320"/>
            <a:ext cx="0" cy="53316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73152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5562720" y="2590920"/>
            <a:ext cx="914400" cy="45720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алидаци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Это проверка психометрических свойств опросника, т.е. проверка надежности, валидности и чувствительн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8228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Этапы разработки опросника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кращение перечня вопрос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редварительное тестирова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ценка психометрических характеристик (валидация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Культурная и языковая адаптац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 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просник состоит из 6 доменов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изическое здоровь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Психологическое состояни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Уровень независимости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оциальные отнош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Окружающая сред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Духовная сфер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руктура опросника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ВОЗКЖ-100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QOL-100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ждый домен подразделяется на субсферы, например домен «Физическое состояние» включает следующие субсфер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Энергия и слабость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оль и дискомфор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н и отд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вопроса ВОЗКЖ-10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0" y="2606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1.2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Беспокоитесь ли Вы по поводу физических болей или дискомфорта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68400" y="3300480"/>
            <a:ext cx="8694000" cy="950760"/>
            <a:chOff x="68400" y="3300480"/>
            <a:chExt cx="8694000" cy="950760"/>
          </a:xfrm>
        </p:grpSpPr>
        <p:sp>
          <p:nvSpPr>
            <p:cNvPr id="212" name="Rectangle 4"/>
            <p:cNvSpPr/>
            <p:nvPr/>
          </p:nvSpPr>
          <p:spPr>
            <a:xfrm>
              <a:off x="684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овсем нет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Rectangle 5"/>
            <p:cNvSpPr/>
            <p:nvPr/>
          </p:nvSpPr>
          <p:spPr>
            <a:xfrm>
              <a:off x="180684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ал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Rectangle 6"/>
            <p:cNvSpPr/>
            <p:nvPr/>
          </p:nvSpPr>
          <p:spPr>
            <a:xfrm>
              <a:off x="354600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средне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5284800" y="3300480"/>
              <a:ext cx="173916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относит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7023960" y="3300480"/>
              <a:ext cx="1738440" cy="9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cc"/>
                  </a:solidFill>
                  <a:latin typeface="Arial"/>
                  <a:ea typeface="Times New Roman"/>
                </a:rPr>
                <a:t>предельно много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Исследуемые варианты лечения сарком мягких тканей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ерация с сохранением конечности с последующей лучевой терапи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Ампутация конечност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Основные этапы исследования КЖ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азработка протокол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ыбор инструмента исследов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бор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Формирование базы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Шкалирование данных опросник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Статистическая обработка данны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Анализ и интерпретация результатов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отокол исследования К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Цели и задачи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ритерии включения больных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изайн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арта клинического обследования больног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исание инструмента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ределение объема выборк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Метод рандомизации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струкция для участников исследовани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нформированное согласие пациент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Направления исследования качества жизни в медицин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заболевания на физическое, психологическое и социальное функционирование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зучение влияния лечения на параметры качества жизни больного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Оценка эффективности лекарственных препаратов и методов леч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гностическое значение параметров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ачество жизни как критерий ремиссии и выздоровления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ндивидуальный мониторинг показателей качества жизни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ведение социально-медицинских популяционных исследований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615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Основы фармакоэкономики и 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601992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17160" y="173160"/>
            <a:ext cx="86374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Arial"/>
              </a:rPr>
              <a:t>Когда необходим фармакоэкономический анализ?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28680" y="1941480"/>
          <a:ext cx="8208720" cy="4114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736720"/>
              </a:tblGrid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овый метод лечения по сравнению со стандартным …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орож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Дешевле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817e00"/>
                    </a:solidFill>
                  </a:tcPr>
                </a:tc>
              </a:tr>
              <a:tr h="136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Мен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тверг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олее эффективен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solidFill>
                      <a:srgbClr val="6d6a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еобходим анализ «стоимость-эффективность»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ринимается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онцепция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A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(quality-adjusted life year) –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 с поправкой на его качеств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принимает значения от 0 до 1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дин год абсолютно здоровой жизни оценивается как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Год жизни, прожитый с проблемами со здоровьем, оценивается меньше 1,0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ва года жизни, оцененные как 0,5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равняются одному году здоровой жизни, т.е. 1,0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17160" y="293400"/>
            <a:ext cx="863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Влияние заболевания на качество и продолжительность жизни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237" name="Object 0"/>
          <p:cNvGraphicFramePr/>
          <p:nvPr/>
        </p:nvGraphicFramePr>
        <p:xfrm>
          <a:off x="345960" y="1943280"/>
          <a:ext cx="8197920" cy="41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1943280"/>
                    <a:ext cx="8197920" cy="41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ример анализа «стоимость-эффективность»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1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6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6-0,5)=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оставляет 1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Лечение Б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4000 руб в год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лучшает качество жизни с 0,5 до 0,7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За 10 лет лечения больной приобретает 10х(0,7-0,5)=2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тоимость в расчете на 1,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QALY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составляет 20000 рубл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Гипотеза – сохранение конечности в отличие от ампутации приводит к улучшению качества жизни больног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garbaker P.H., 198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Результаты исследования – операция с сохранением конечности с последующей лучевой терапией приводила к значимому снижению двигательной активности и социального функционирования пациента по сравнению с альтернативным вариантом лече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1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восприятие индивидуумами своего положения в жизни в контексте культуры и системы ценностей той среды, в которой они живут, в неразрывной связи с их целями, ожиданиями, стандартами и заботами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ОЗ, 199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Качество жизни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(определение 2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- это интегральная характеристика физического, психологического, эмоционального и социального функционирования больного, основанная на его субъективном восприятии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8"/>
          <p:cNvSpPr/>
          <p:nvPr/>
        </p:nvSpPr>
        <p:spPr>
          <a:xfrm>
            <a:off x="1143000" y="228600"/>
            <a:ext cx="6629400" cy="662940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2286000" y="1447920"/>
            <a:ext cx="4419720" cy="4267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276720" y="2438280"/>
            <a:ext cx="2514600" cy="2362320"/>
          </a:xfrm>
          <a:prstGeom prst="ellipse">
            <a:avLst/>
          </a:pr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429000" y="32767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76720" y="16765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200400" y="609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1828800" y="1066680"/>
            <a:ext cx="5638680" cy="5639040"/>
          </a:xfrm>
          <a:custGeom>
            <a:avLst/>
            <a:gdLst>
              <a:gd name="textAreaLeft" fmla="*/ 157680 w 5638680"/>
              <a:gd name="textAreaRight" fmla="*/ 5481000 w 5638680"/>
              <a:gd name="textAreaTop" fmla="*/ 0 h 5639040"/>
              <a:gd name="textAreaBottom" fmla="*/ 2354400 h 5639040"/>
            </a:gdLst>
            <a:ahLst/>
            <a:rect l="textAreaLeft" t="textAreaTop" r="textAreaRight" b="textAreaBottom"/>
            <a:pathLst>
              <a:path w="21600" h="21600">
                <a:moveTo>
                  <a:pt x="6257" y="7869"/>
                </a:moveTo>
                <a:cubicBezTo>
                  <a:pt x="7252" y="6326"/>
                  <a:pt x="8963" y="5393"/>
                  <a:pt x="10800" y="5394"/>
                </a:cubicBezTo>
                <a:cubicBezTo>
                  <a:pt x="12636" y="5394"/>
                  <a:pt x="14347" y="6326"/>
                  <a:pt x="15342" y="7869"/>
                </a:cubicBezTo>
                <a:lnTo>
                  <a:pt x="19875" y="4944"/>
                </a:lnTo>
                <a:cubicBezTo>
                  <a:pt x="17886" y="1862"/>
                  <a:pt x="14468" y="-1"/>
                  <a:pt x="10799" y="0"/>
                </a:cubicBezTo>
                <a:cubicBezTo>
                  <a:pt x="7131" y="0"/>
                  <a:pt x="3713" y="1862"/>
                  <a:pt x="1724" y="4944"/>
                </a:cubicBezTo>
                <a:lnTo>
                  <a:pt x="6257" y="7869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 rot="7159200">
            <a:off x="1984320" y="1139400"/>
            <a:ext cx="5479920" cy="5486400"/>
          </a:xfrm>
          <a:custGeom>
            <a:avLst/>
            <a:gdLst>
              <a:gd name="textAreaLeft" fmla="*/ 99360 w 5479920"/>
              <a:gd name="textAreaRight" fmla="*/ 5380560 w 5479920"/>
              <a:gd name="textAreaTop" fmla="*/ 0 h 5486400"/>
              <a:gd name="textAreaBottom" fmla="*/ 2390760 h 5486400"/>
            </a:gdLst>
            <a:ahLst/>
            <a:rect l="textAreaLeft" t="textAreaTop" r="textAreaRight" b="textAreaBottom"/>
            <a:pathLst>
              <a:path w="21600" h="21600">
                <a:moveTo>
                  <a:pt x="6283" y="8254"/>
                </a:moveTo>
                <a:cubicBezTo>
                  <a:pt x="7202" y="6623"/>
                  <a:pt x="8928" y="5614"/>
                  <a:pt x="10800" y="5615"/>
                </a:cubicBezTo>
                <a:cubicBezTo>
                  <a:pt x="12671" y="5615"/>
                  <a:pt x="14397" y="6623"/>
                  <a:pt x="15316" y="8254"/>
                </a:cubicBezTo>
                <a:lnTo>
                  <a:pt x="20208" y="5496"/>
                </a:lnTo>
                <a:cubicBezTo>
                  <a:pt x="18294" y="2100"/>
                  <a:pt x="14698" y="-1"/>
                  <a:pt x="10799" y="0"/>
                </a:cubicBezTo>
                <a:cubicBezTo>
                  <a:pt x="6901" y="0"/>
                  <a:pt x="3305" y="2100"/>
                  <a:pt x="1391" y="5496"/>
                </a:cubicBezTo>
                <a:lnTo>
                  <a:pt x="6283" y="825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 rot="14405400">
            <a:off x="1828800" y="1143000"/>
            <a:ext cx="5486400" cy="5486400"/>
          </a:xfrm>
          <a:custGeom>
            <a:avLst/>
            <a:gdLst>
              <a:gd name="textAreaLeft" fmla="*/ 78120 w 5486400"/>
              <a:gd name="textAreaRight" fmla="*/ 5408280 w 5486400"/>
              <a:gd name="textAreaTop" fmla="*/ 0 h 5486400"/>
              <a:gd name="textAreaBottom" fmla="*/ 2434680 h 5486400"/>
            </a:gdLst>
            <a:ahLst/>
            <a:rect l="textAreaLeft" t="textAreaTop" r="textAreaRight" b="textAreaBottom"/>
            <a:pathLst>
              <a:path w="21600" h="21600">
                <a:moveTo>
                  <a:pt x="6269" y="8414"/>
                </a:moveTo>
                <a:cubicBezTo>
                  <a:pt x="7155" y="6732"/>
                  <a:pt x="8899" y="5679"/>
                  <a:pt x="10800" y="5680"/>
                </a:cubicBezTo>
                <a:cubicBezTo>
                  <a:pt x="12700" y="5680"/>
                  <a:pt x="14444" y="6732"/>
                  <a:pt x="15330" y="8414"/>
                </a:cubicBezTo>
                <a:lnTo>
                  <a:pt x="20356" y="5767"/>
                </a:lnTo>
                <a:cubicBezTo>
                  <a:pt x="18488" y="2220"/>
                  <a:pt x="14808" y="-1"/>
                  <a:pt x="10799" y="0"/>
                </a:cubicBezTo>
                <a:cubicBezTo>
                  <a:pt x="6791" y="0"/>
                  <a:pt x="3111" y="2220"/>
                  <a:pt x="1243" y="5767"/>
                </a:cubicBezTo>
                <a:lnTo>
                  <a:pt x="6269" y="8414"/>
                </a:lnTo>
                <a:close/>
              </a:path>
            </a:pathLst>
          </a:custGeom>
          <a:solidFill>
            <a:srgbClr val="cc66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 rot="2745000">
            <a:off x="1781280" y="4541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Физ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 rot="18451200">
            <a:off x="5060520" y="446436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ическ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8120" y="1387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ое благополучие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610884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7:27:38Z</dcterms:created>
  <dc:creator>НОО1</dc:creator>
  <dc:description/>
  <dc:language>en-US</dc:language>
  <cp:lastModifiedBy>RomaK</cp:lastModifiedBy>
  <dcterms:modified xsi:type="dcterms:W3CDTF">2014-10-31T12:30:00Z</dcterms:modified>
  <cp:revision>26</cp:revision>
  <dc:subject/>
  <dc:title>Качество жизни в медицине и здравоохранении</dc:title>
</cp:coreProperties>
</file>