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F2D1-0251-464A-9748-BC2802DC7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о-педагогическое сопровождение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доцент , к.п.н. Черкасова О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Кузнецо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B7E3-2019-4C09-ADB5-E47F9DDE6E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ический компонент гестационной доминанты (ПКГ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43E2-807A-4285-AB2F-6C4637A263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Оптимальный тип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F2C3-E52C-4732-A52A-D76C340D27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ипогестогноз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5336-ACC1-44D4-8DF0-B17C6D264C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Эйфор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9478-E240-4E38-9C09-3A5140A9B2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ревожны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D588-CEE4-43DF-A545-3A8130BEE3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228-FE80-4321-B2E4-362D36452B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ое, воспитательное, оздоро­вите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4430-2906-4CFF-AA54-F38085264D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ъект работы - беременные женщины со сроком беременности начиная от 20 - 25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орма работы: групп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участников группы - 6 - 8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работы: 12 занятий (2 раза в неделю по 2,5 — 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ограмме принимают участие: психолог,  педагог, акушер-гинек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D6C7-4E8C-40F2-B4F2-62270AA47A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етоды и приемы работ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утогенная трен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лесно-ориентированная 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Арттерапия (рисование, пение, тан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Ролевые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изу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атическая гимнастика с элементами массажа, палс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Гопнотомия, голо­совые упражнения, приемы дыхательной гимнас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Арома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покойная медленна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1B6C-75BC-4670-8FAB-E97F11AE72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эффектив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Усиление конструктив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а себя ответственности за семью, ребенка, процесс 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анализ и самосовершен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родительской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е к ребенку и взаимодействие с н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позитивных чувств: радости, уверенности, спокой­ствия,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слабление деструкти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го безраз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ребенку как к объек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абление негативных чувств: вины, страха, тревоги, агрес­сии, уны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E9E9-3A83-4E60-816E-C1B22BA389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4D5A-6ECA-478F-9BF4-3BBABB19C9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4B46-92D3-42D1-9459-EAB068C0FB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ми перинатальной педагогики и психологии занимались такие учёные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вич В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ев А.С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иппова Г.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мурак Ю.И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ед Н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ин А.М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гай К.Н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хман Г.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ич Р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йнз Д. 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C945-1048-46E5-9CC8-08D1B08BFC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BAA6-9742-4761-83D3-7C9CD9AE85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еоретические подходы к рассмотрению перинатальной психологии и педагоги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еринатальная псих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4187-605B-402D-8C20-2D8DD86510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ренатальная педагог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72BF-0095-4CC4-818F-11E1D351DE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Условия психолого-педагогического сопровождения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CF4F-A47E-4A05-A586-086F7DA484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индром беременности </a:t>
            </a:r>
            <a:br>
              <a:rPr sz="1200"/>
            </a:br>
            <a:r>
              <a:rPr b="0" lang="ru-RU" sz="1000" spc="-1" strike="noStrike">
                <a:solidFill>
                  <a:srgbClr val="11488b"/>
                </a:solidFill>
                <a:latin typeface="Calibri"/>
              </a:rPr>
              <a:t>(Боровикова Н.В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3168-69F9-4C49-9DA8-70ED76E560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. А. Арша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акт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D94F-C610-4B04-B265-5227FDDD73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391-C97F-4278-A95C-1E6CAB83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71C-0AFC-4A9D-B0AF-DF30031D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87B-7DF5-47DD-A06D-F359A1E6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9C0-C98D-4009-8000-500200B8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29D6-EA6E-45E9-B38A-79715F56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49F6-3EEF-4AFD-8FA7-5997EBC0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F326-9DC0-4004-9A76-18F0E838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95E4-836A-4D5A-A50C-AA12FF50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0431-E84D-469F-BC9B-8FF0AC36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5744-B3E9-4820-85CC-7C857B91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9D98-36AA-4387-B74A-44D5F652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D7F-854A-426B-BDF9-9D3FC3A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8D4C-3007-4849-ADA8-3E04739F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1382-4D77-4D5F-B521-2CA79BB8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3CFB-01D3-4189-A90C-8A37417E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D7B-4AA4-4A5E-948C-FE128B67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B8E7-418D-4618-B9D2-E60387B0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D05F-F96E-4030-B114-44C2FA17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59AB-3B7E-41E2-B8BF-88D3393B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1E93-BC3D-4E58-A646-C1423ED9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7ADD-8235-4CAB-941E-36838E9E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4640-9BD7-4B7D-BACB-818BD192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FA7-267C-4073-B611-E2177C1B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2C64-7E84-40C1-83C9-C212A097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7A8C-DB27-4507-B8B4-80D2D1E3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8006-965D-4E34-AC21-8D704DAC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DFC05-9629-4C8F-A4E6-31AA9048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1624-3C38-4EB9-BAEF-18499465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1090-04BE-4D49-A337-0740A4C7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1CE18-88E2-4CF9-92D5-F65C13FB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CD8D4-D71C-40BB-B456-15EB3281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AED5-C0C3-4898-B4A6-B0A35271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B510E-18C9-46AD-9C82-40A664DD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75E-D3B5-4746-887D-C122F25C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A9E8-D5EC-46B8-A444-01E4680F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C0FFC-5C17-40AB-91C6-9F2EB51A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4DE1F-AE35-4FCB-9ED6-372BC6DF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221DC-5349-4407-A404-0A950AC2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758C-9548-48D0-B2BA-CBC14AB2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CDFC2-546E-445B-9360-9E947438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C5BE-BF43-4100-B878-013C7FB2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1D542-7F53-4AB4-AD9E-161EC7F9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23856-92CE-4638-89BC-36E642DE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6BBEE-6361-4599-8A39-C850F5EF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426-4F6B-439F-BCB1-692C1584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6AF92-46AA-47F8-9B47-C7C5394D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FF39-DE5B-4DB4-B9A0-50F4C265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E1CB2-CCC6-4E49-A845-DCAEA4C4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3C88A-9D90-4994-9A9E-BDA5ACA0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93868-11C6-4B22-B220-D1C85566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B64DB-B0EC-4D5A-9C1E-271EE16B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819D1-585F-4477-9A1A-E89C3D5B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DE7EE-7154-42BB-AD24-DD3913C8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7D799-9095-4090-BA1A-C4F0A39C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085D-94F4-4A96-B36E-20815C9A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BE6-3A9C-474A-8A0C-C7CDCDEF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D0687-34EA-42C2-AD31-64710EEB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15025-1113-4B98-B67E-E329C2E5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F4400-AC65-426C-BC92-AFD5E41D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F80FB-53BE-4705-8802-D10032EF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7E817-A4FC-4DD5-9C5F-E3BD2D50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4DA85-6612-44FC-BD1C-E86813F5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24BE4-5EF3-4404-BF2D-2C9E43A4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8C4E8-C157-4C7C-8C9B-6B25C4C7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F4651-904B-4DE5-A33C-5E0F0230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E1E7-1B82-4FC7-89C3-E8181A62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E68-992B-4E2D-A12E-F5A140AB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5A0EC-E6AB-4949-AEF7-F6481C13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1EF93-EBE6-466F-92F5-D1F3E340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93BE7-C079-4362-8BAE-4B439943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C59FC-E7D7-4647-B842-05B0DD52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0EADD-36A0-43A8-8A9F-ECDE001D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4AF6C-9FB4-4EB4-90D4-F5EBD6A8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82164-C859-4937-AC08-A5037429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8E9B7-0416-4AD2-8314-D0C7AB0C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49E97-6A28-4EA6-9C63-DB5A94C0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C594F-688E-4048-97DB-5D82E219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DF5-52B9-4B50-94D5-FD611DFF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ACB67-DC45-4437-9988-6ECD4D99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7B5F7-C6AC-437B-B71F-5E5182D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E0B11-FA00-4671-98EC-3411466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E5BEE-5657-4AE5-A517-FE73282F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28AA4-9077-45C6-9810-6981DCD3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2A4-0723-4F33-95A0-00AAF5FA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9D4C-9E4F-48A0-8BA4-498E6391B30F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857-EAE1-42E8-971C-6B1085A6431C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8EBB-F185-4DF0-85BF-2BD699583A7C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CAA1-24D2-4C56-ACF0-11B5ADD9CE58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3DE8-7E90-4308-B4B4-FED3883BDCBA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24F1-98DB-494E-BE21-554C54B73FC0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FAF1-4BB6-472C-9B5F-EBB73C126F0C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2B59-92B7-4880-BC54-11D633ECEF00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A03D-7E5E-4D9B-864A-19A3D622877B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19CB-5BDE-42F0-95D4-2AA39EB19279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17E6-C13D-4F3A-9AC4-47B036ED4091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AB7E-D858-4F1D-9901-C3A8DC427DCF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3E10-7FA2-4C3A-8EBC-6259F1073DA4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B52A-2253-4D35-931A-62A856B4832B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07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о-педагогическое сопровождение беременности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928520" y="5505120"/>
            <a:ext cx="6429240" cy="94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Научный руководитель: доцент , к.п.н. Черкасова О.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Выполнила: Кузнецова М.С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12" descr="4.jpg"/>
          <p:cNvPicPr/>
          <p:nvPr/>
        </p:nvPicPr>
        <p:blipFill>
          <a:blip r:embed="rId1"/>
          <a:stretch/>
        </p:blipFill>
        <p:spPr>
          <a:xfrm>
            <a:off x="2000160" y="1747800"/>
            <a:ext cx="5483160" cy="35593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ический компонент гестационной доминанты (ПКГД)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900000" y="1860480"/>
            <a:ext cx="792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Оптимальный тип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1143000" y="15001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embarazo.jpg"/>
          <p:cNvPicPr/>
          <p:nvPr/>
        </p:nvPicPr>
        <p:blipFill>
          <a:blip r:embed="rId1"/>
          <a:stretch/>
        </p:blipFill>
        <p:spPr>
          <a:xfrm>
            <a:off x="3209760" y="2924280"/>
            <a:ext cx="5577120" cy="372276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Гипогестогнозический вариант ПКГД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1143000" y="1428840"/>
            <a:ext cx="607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4" descr="pregnant-belly.jpg"/>
          <p:cNvPicPr/>
          <p:nvPr/>
        </p:nvPicPr>
        <p:blipFill>
          <a:blip r:embed="rId1"/>
          <a:stretch/>
        </p:blipFill>
        <p:spPr>
          <a:xfrm>
            <a:off x="3900600" y="3244680"/>
            <a:ext cx="4867200" cy="3327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Эйфорически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1071720" y="135720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4" descr="image111.png"/>
          <p:cNvPicPr/>
          <p:nvPr/>
        </p:nvPicPr>
        <p:blipFill>
          <a:blip r:embed="rId1"/>
          <a:stretch/>
        </p:blipFill>
        <p:spPr>
          <a:xfrm>
            <a:off x="1500120" y="2766960"/>
            <a:ext cx="3854520" cy="37562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Тревожны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1214280" y="2000160"/>
            <a:ext cx="4786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1285920" y="128592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1" descr="6a00e5536e2024883301127938699028a4-320wi.jpg"/>
          <p:cNvPicPr/>
          <p:nvPr/>
        </p:nvPicPr>
        <p:blipFill>
          <a:blip r:embed="rId1"/>
          <a:stretch/>
        </p:blipFill>
        <p:spPr>
          <a:xfrm>
            <a:off x="1357200" y="235728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Диаграмма 2" descr=""/>
          <p:cNvPicPr/>
          <p:nvPr/>
        </p:nvPicPr>
        <p:blipFill>
          <a:blip r:embed="rId1"/>
          <a:stretch/>
        </p:blipFill>
        <p:spPr>
          <a:xfrm>
            <a:off x="1425600" y="1577880"/>
            <a:ext cx="7108920" cy="4654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3"/>
          <p:cNvSpPr/>
          <p:nvPr/>
        </p:nvSpPr>
        <p:spPr>
          <a:xfrm>
            <a:off x="1187280" y="47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ребёнка для Вас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3024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"/>
          <p:cNvSpPr/>
          <p:nvPr/>
        </p:nvSpPr>
        <p:spPr>
          <a:xfrm>
            <a:off x="1187280" y="33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ременность для Вас проход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966000" cy="51580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971640" y="522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ещаете ли Вы курсы дородовой подготов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Диаграмма 1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7373880" cy="5157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332000" y="404640"/>
            <a:ext cx="74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з каких источников Вы черпаете информацию о беременности, родах и развитии малы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2"/>
          <p:cNvSpPr/>
          <p:nvPr/>
        </p:nvSpPr>
        <p:spPr>
          <a:xfrm>
            <a:off x="846000" y="31284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ст отношений беременной  Добряк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Диаграмма 3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15808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8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Актуальность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6240" y="1197000"/>
            <a:ext cx="77868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-20880"/>
            <a:ext cx="70246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Программа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1116000" y="905040"/>
            <a:ext cx="80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работы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ое, воспитательное, оздоро­в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3" descr=""/>
          <p:cNvPicPr/>
          <p:nvPr/>
        </p:nvPicPr>
        <p:blipFill>
          <a:blip r:embed="rId1"/>
          <a:stretch/>
        </p:blipFill>
        <p:spPr>
          <a:xfrm>
            <a:off x="4067280" y="3789360"/>
            <a:ext cx="4476600" cy="28576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1046160" y="476280"/>
            <a:ext cx="81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бъект работы - беременные женщины со сроком беременности начиная от 20 - 25 нед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Форма работы: группо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став участников группы - 6 - 8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ремя работы: 12 занятий (2 раза в неделю по 2,5 — 3 час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 программе принимают участие: психолог,  педагог, акушер-гинеко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1187280" y="260280"/>
            <a:ext cx="76327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 прием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ематические 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Аутогенная тренир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лесно-ориентированная 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Арттерапия (рисование, пение, танец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Ролев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изу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татическая гимнастика с элементами массажа, палси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Гопнотомия, голо­совые упражнения, приемы дыхательной гимна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Арома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Спокойная медленная му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042920" y="179280"/>
            <a:ext cx="8101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ка эффектив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Усиление конструктивны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на себя ответственности за семью, ребенка, процесс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анализ и самосовершенств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родительской компет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ажение к ребенку и взаимодействие с н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позитивных чувств: радости, уверенности, спокой­ствия,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слабление деструктивных факт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го безразлич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к ребенку как к объек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абление негативных чувств: вины, страха, тревоги, агрес­сии, уны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7160" y="-171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157400" y="692280"/>
            <a:ext cx="757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688b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5f688b"/>
              </a:solidFill>
              <a:latin typeface="Corbel"/>
            </a:endParaRPr>
          </a:p>
        </p:txBody>
      </p:sp>
      <p:pic>
        <p:nvPicPr>
          <p:cNvPr id="408" name="Рисунок 2" descr=""/>
          <p:cNvPicPr/>
          <p:nvPr/>
        </p:nvPicPr>
        <p:blipFill>
          <a:blip r:embed="rId1"/>
          <a:stretch/>
        </p:blipFill>
        <p:spPr>
          <a:xfrm>
            <a:off x="1695600" y="1197000"/>
            <a:ext cx="6140160" cy="53085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4977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Проблемами перинатальной педагогики и психологии занимались такие учёные как: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1357200" y="2025720"/>
            <a:ext cx="764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делевич В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туев А.С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иппова Г.Г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мурак Ю.И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бед Н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тин А.М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гай К.Н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ехман Г.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ич Р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йнз Д. и др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9" descr="cuidados_embarazo.jpg"/>
          <p:cNvPicPr/>
          <p:nvPr/>
        </p:nvPicPr>
        <p:blipFill>
          <a:blip r:embed="rId1"/>
          <a:stretch/>
        </p:blipFill>
        <p:spPr>
          <a:xfrm>
            <a:off x="4572000" y="3571920"/>
            <a:ext cx="3905280" cy="26002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1"/>
          <p:cNvSpPr/>
          <p:nvPr/>
        </p:nvSpPr>
        <p:spPr>
          <a:xfrm>
            <a:off x="1020600" y="98280"/>
            <a:ext cx="81439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497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688b"/>
                </a:solidFill>
                <a:latin typeface="Corbel"/>
              </a:rPr>
              <a:t>Теоретические подходы к рассмотрению перинатальной психологии и педагогики</a:t>
            </a:r>
            <a:br>
              <a:rPr sz="3900"/>
            </a:br>
            <a:endParaRPr b="0" lang="en-US" sz="28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1042920" y="1360440"/>
            <a:ext cx="7962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546d7a"/>
                </a:solidFill>
                <a:latin typeface="Corbel"/>
              </a:rPr>
              <a:t>Перинатальная психологи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143000" y="28584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Пренатальная педагогика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6" descr="pregnantbelly.jpg"/>
          <p:cNvPicPr/>
          <p:nvPr/>
        </p:nvPicPr>
        <p:blipFill>
          <a:blip r:embed="rId1"/>
          <a:stretch/>
        </p:blipFill>
        <p:spPr>
          <a:xfrm>
            <a:off x="1571760" y="3071880"/>
            <a:ext cx="6823080" cy="324792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Условия психолого-педагогического сопровождения беременности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500120" y="1500120"/>
            <a:ext cx="7143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7" descr="embarazo_blog.jpg"/>
          <p:cNvPicPr/>
          <p:nvPr/>
        </p:nvPicPr>
        <p:blipFill>
          <a:blip r:embed="rId1"/>
          <a:stretch/>
        </p:blipFill>
        <p:spPr>
          <a:xfrm>
            <a:off x="2143080" y="3714840"/>
            <a:ext cx="5429160" cy="28573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Синдром беременности </a:t>
            </a:r>
            <a:br>
              <a:rPr sz="3900"/>
            </a:b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(Боровикова Н.В.)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1357200" y="1643040"/>
            <a:ext cx="7500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688b"/>
                </a:solidFill>
                <a:latin typeface="Corbel"/>
              </a:rPr>
              <a:t>И. А. Аршавский</a:t>
            </a:r>
            <a:endParaRPr b="0" lang="en-US" sz="40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1214280" y="928800"/>
            <a:ext cx="728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актаци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2643120" y="33577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Гестационная домин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7"/>
          <p:cNvCxnSpPr/>
          <p:nvPr/>
        </p:nvCxnSpPr>
        <p:spPr>
          <a:xfrm flipH="1">
            <a:off x="221436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cxnSp>
        <p:nvCxnSpPr>
          <p:cNvPr id="355" name="Прямая со стрелкой 11"/>
          <p:cNvCxnSpPr/>
          <p:nvPr/>
        </p:nvCxnSpPr>
        <p:spPr>
          <a:xfrm>
            <a:off x="678672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sp>
        <p:nvSpPr>
          <p:cNvPr id="356" name="TextBox 12"/>
          <p:cNvSpPr/>
          <p:nvPr/>
        </p:nvSpPr>
        <p:spPr>
          <a:xfrm>
            <a:off x="1071720" y="485784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сих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5786280" y="48578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изи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8:25:57Z</dcterms:created>
  <dc:creator>Сё</dc:creator>
  <dc:description/>
  <dc:language>en-US</dc:language>
  <cp:lastModifiedBy>LEGION</cp:lastModifiedBy>
  <dcterms:modified xsi:type="dcterms:W3CDTF">2014-11-06T13:54:38Z</dcterms:modified>
  <cp:revision>68</cp:revision>
  <dc:subject/>
  <dc:title>Психолого-педагогическое сопровождение беременности</dc:title>
</cp:coreProperties>
</file>