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7B77-F2B9-4B4B-9B44-5A104FB964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о-педагогическое сопровождение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доцент , к.п.н. Черкасова О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Кузнецо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460B-5436-4684-94AE-5A56C3EF78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ический компонент гестационной доминанты (ПКГ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EBD1-F741-4D92-83C6-88F4B546AF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Оптимальный тип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276F-98D3-412C-B021-C0ECD501D7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ипогестогноз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1B41-1942-4EE9-8B2A-62504B5622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Эйфор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5F6D-807C-4590-9C10-12DF99D66C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ревожны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227F-F107-4038-84D9-F397EA3CCC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D08E-176F-40D0-AD74-E8DAE71F55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ое, воспитательное, оздоро­вите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90B5-E2F5-445C-9B6A-AF931B31DD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ъект работы - беременные женщины со сроком беременности начиная от 20 - 25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орма работы: групп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участников группы - 6 - 8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работы: 12 занятий (2 раза в неделю по 2,5 — 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ограмме принимают участие: психолог,  педагог, акушер-гинек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42F9-B87C-46A6-AF6F-C72E39430C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етоды и приемы работ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утогенная трен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лесно-ориентированная 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Арттерапия (рисование, пение, тан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Ролевые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изу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атическая гимнастика с элементами массажа, палс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Гопнотомия, голо­совые упражнения, приемы дыхательной гимнас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Арома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покойная медленна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B9B1-2655-450B-923E-4EC4146966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эффектив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Усиление конструктив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а себя ответственности за семью, ребенка, процесс 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анализ и самосовершен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родительской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е к ребенку и взаимодействие с н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позитивных чувств: радости, уверенности, спокой­ствия,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слабление деструкти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го безраз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ребенку как к объек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абление негативных чувств: вины, страха, тревоги, агрес­сии, уны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81BE-675C-4356-914D-40C93CDCF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658B-004B-4ECD-95D4-FD691D1C59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A53-66E4-4729-BC10-1FAFEF2216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ми перинатальной педагогики и психологии занимались такие учёные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вич В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ев А.С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иппова Г.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мурак Ю.И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ед Н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ин А.М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гай К.Н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хман Г.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ич Р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йнз Д. 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B76B-C4F8-4A20-AF96-ACD606FE29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4C44-713A-4734-9C36-F6FCEA6A1D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оретические подходы к рассмотрению перинатальной психологии и педагоги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еринатальная псих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3CCD-CCFA-4EDE-8BDF-1F987D54EF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ренатальная педагог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E7C9-AAA0-4587-9261-F39FFFD00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Условия психолого-педагогического сопровождения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0027-7728-4790-B959-72453E0AB0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индром беременности </a:t>
            </a:r>
            <a:br>
              <a:rPr sz="1200"/>
            </a:br>
            <a:r>
              <a:rPr b="0" lang="ru-RU" sz="1000" spc="-1" strike="noStrike">
                <a:solidFill>
                  <a:srgbClr val="11488b"/>
                </a:solidFill>
                <a:latin typeface="Calibri"/>
              </a:rPr>
              <a:t>(Боровикова Н.В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BB35-62B6-4310-80FB-5C37D4D5E4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. А. Арша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акт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A4E1-40F7-429B-89C5-BB456DB6ED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D4B-6514-479D-9D7F-2C044A33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D18-E73E-40B6-89F4-B8B8C442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9E7-8245-468F-8F3E-4A5BC14F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D6F-2D84-4AFB-87B2-9698B8C3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5DD1-0B12-45E3-9706-5BCAA055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20A5-71AD-4490-A923-18FD0ADD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7ED8-FAFD-4437-ACA3-826C8CAB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5B88-C8BD-4EC7-A84E-0DB13FA5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BD48-7CFA-4C1A-9074-9DD82212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E5EE-7BD1-4F5A-BA39-291328DB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2CC8-14A9-4EE4-ADE7-4726EAD7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FD8-1438-4EDE-B7A3-97A1602C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FA4E-C4F2-4EE3-B888-6C91C291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1D32-C458-462A-AB33-02D7A483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E85A-74DB-4ABF-B19E-CDBFFB5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EBF1-7549-4C83-B2EA-C3A2E000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D677-9E3B-43B0-BB43-FE079F49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DC51-CA97-4AE5-AFC3-C08541A4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95D1-3917-4F0D-96B7-8700AAAE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2F9F-CD51-4A94-932C-3AFF9526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52DF-7002-4F30-B1E8-75A090E3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B4EA-8C14-4316-B7FE-6DEE84A1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38E-3393-4CDB-9579-3199FCC3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82E2-4044-486D-B01E-38EF1904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D93A-C516-4F04-A320-BBA0C24B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8EA8-864F-4BE6-9F32-4284D90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03BB-48B2-486E-AACF-FEA16A9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C7CF-AEC8-4DF3-991C-CE1E71BA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64B9-CB9E-4422-9EA3-09DCB088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0721-138C-4BC4-B01D-0EEB1A0C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F097B-F5A4-4A03-B8AB-232FEAEA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A0D6-474E-4394-A056-9559971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4757-F585-47F6-9002-A16E8B47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E27-98DE-4BA6-A0A5-9A4B0CEB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1549-C6B1-463C-9551-D6388BD2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7F98-1F0C-46D9-8BF4-EB92718C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065A-59CD-412F-8198-99D0250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9626-B5AC-4AD4-84B4-1D98B2B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1F977-2B48-4A76-B70C-B5228B4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CD21-E5DB-4E7B-A199-47944AF1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51290-423E-4281-86D4-99B6CDD5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30A89-4D04-4F4D-9578-44267212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915DB-1BD9-4E71-AC24-63AFC455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6585-FF41-4B41-8794-BC0026E5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DDC-28BD-4E4A-984A-C58B8996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AFBC2-FE09-43C7-90DE-34AA6006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C3A7-D4A2-4347-A38E-51FA72AC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C1136-2EDD-4D81-BE8D-96F5DBBA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DC380-0718-4570-B5DC-3204BE12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14E55-0B3A-42DA-ADCA-7F77C73E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D5E8-DFC7-499D-A1BC-2229E4DC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D7FBA-7962-4B8D-BAE0-352112FB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6268D-7093-4DE1-8A5B-8787B5C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A1BE-CE31-4667-8793-612A4FD7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A14C-B8B5-43D8-A273-9420D4C8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F0B-E20F-4FD9-A78F-0621DED8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94237-CBFA-416D-8DDA-0EF76C03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C61CC-64FB-4793-8A40-8AE3D199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001C-7047-4A92-9448-BA27A5CC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CB0DC-382C-45F3-9815-81869E08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CEDFD-3444-4837-A24E-41DD4DBB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9E70-45BC-47FC-9C43-EB7EC8EB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17CC-4A69-4730-A2A5-7ED99F6A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0A46F-35A2-47DD-8BC1-D588248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B716D-106F-4B52-B0CD-915D2EA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95D30-1863-467A-BF9E-5D07EED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DB7-B876-43DE-B279-1909FD8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674F-B825-413A-889A-44B6ADC1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2FF93-5FAD-4272-B8DA-4BD5C51C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949F-50C6-4CFD-ABE7-4E696EF6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2567-CBE1-4F4B-9F40-E90ADC98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3474-57AB-400A-BB43-9F932B49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DC096-D089-4595-AFB9-975DF1FD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28259-A4DF-44E5-87CF-B0574B46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37DAB-FEF0-4D81-A06B-F4C0774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E045C-88B8-4BCD-8D64-BBD3D52F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9263E-EC7A-4367-9342-524A6EC9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A3F-DC65-4948-B710-123058D3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D14A4-BFFA-44AA-B782-CADC184F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DFC34-A4A3-4000-ABAB-7D61400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96001-91B8-49C5-93B4-82DFE4B5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AD8A-6B00-4DB0-AEE8-82F9F1BA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D9FA-F29A-42FF-8928-EBF785BF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F3E-14F7-4047-A786-097BAE4C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DF7E-8D5F-4C7B-8503-88CA566C9752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B80B-FFE1-41A6-9D40-57240AAD5251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5AD8-CE6B-4308-99A1-1FF4C9DE13C3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063-4557-42CF-ACCC-38A391D4ADE7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038A-5C06-45CA-9FAB-04BE341F964E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346-0EFC-4A21-A084-74CA12B36E9B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270F-107E-4FC1-9954-5D051D8A6315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6093-D9CD-4D6A-8181-000C029F1960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5776-652D-4833-822B-B052D6F6B50B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5963-A1C0-4330-BFF3-B7F90066A603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F076-010C-45B4-941F-61FEA76C4BAD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3017-19DC-4E0A-AFB8-3451D28ECEC9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35A3-0AAE-467A-94CD-58B8E6AD6F3B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1884-8F56-4686-BEB3-9771B7852587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07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о-педагогическое сопровождение беременности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928520" y="5505120"/>
            <a:ext cx="6429240" cy="94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Научный руководитель: доцент , к.п.н. Черкасова О.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Выполнила: Кузнецова М.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12" descr="4.jpg"/>
          <p:cNvPicPr/>
          <p:nvPr/>
        </p:nvPicPr>
        <p:blipFill>
          <a:blip r:embed="rId1"/>
          <a:stretch/>
        </p:blipFill>
        <p:spPr>
          <a:xfrm>
            <a:off x="2000160" y="1747800"/>
            <a:ext cx="5483160" cy="35593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ический компонент гестационной доминанты (ПКГД)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900000" y="1860480"/>
            <a:ext cx="792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Оптимальный тип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1143000" y="15001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embarazo.jpg"/>
          <p:cNvPicPr/>
          <p:nvPr/>
        </p:nvPicPr>
        <p:blipFill>
          <a:blip r:embed="rId1"/>
          <a:stretch/>
        </p:blipFill>
        <p:spPr>
          <a:xfrm>
            <a:off x="3209760" y="2924280"/>
            <a:ext cx="5577120" cy="372276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Гипогестогнозический вариант ПКГД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1143000" y="1428840"/>
            <a:ext cx="60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4" descr="pregnant-belly.jpg"/>
          <p:cNvPicPr/>
          <p:nvPr/>
        </p:nvPicPr>
        <p:blipFill>
          <a:blip r:embed="rId1"/>
          <a:stretch/>
        </p:blipFill>
        <p:spPr>
          <a:xfrm>
            <a:off x="3900600" y="3244680"/>
            <a:ext cx="4867200" cy="3327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Эйфорически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1071720" y="135720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4" descr="image111.png"/>
          <p:cNvPicPr/>
          <p:nvPr/>
        </p:nvPicPr>
        <p:blipFill>
          <a:blip r:embed="rId1"/>
          <a:stretch/>
        </p:blipFill>
        <p:spPr>
          <a:xfrm>
            <a:off x="1500120" y="2766960"/>
            <a:ext cx="3854520" cy="37562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Тревожны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214280" y="2000160"/>
            <a:ext cx="4786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285920" y="128592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1" descr="6a00e5536e2024883301127938699028a4-320wi.jpg"/>
          <p:cNvPicPr/>
          <p:nvPr/>
        </p:nvPicPr>
        <p:blipFill>
          <a:blip r:embed="rId1"/>
          <a:stretch/>
        </p:blipFill>
        <p:spPr>
          <a:xfrm>
            <a:off x="1357200" y="235728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Диаграмма 2" descr=""/>
          <p:cNvPicPr/>
          <p:nvPr/>
        </p:nvPicPr>
        <p:blipFill>
          <a:blip r:embed="rId1"/>
          <a:stretch/>
        </p:blipFill>
        <p:spPr>
          <a:xfrm>
            <a:off x="1425600" y="1577880"/>
            <a:ext cx="7108920" cy="4654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"/>
          <p:cNvSpPr/>
          <p:nvPr/>
        </p:nvSpPr>
        <p:spPr>
          <a:xfrm>
            <a:off x="1187280" y="47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ребёнка для Вас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3024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1187280" y="33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ременность для Вас проход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966000" cy="51580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971640" y="522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ещаете ли Вы курсы дородовой подготов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Диаграмма 1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7373880" cy="5157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332000" y="40464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каких источников Вы черпаете информацию о беременности, родах и развитии малы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846000" y="31284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 отношений беременной  Добря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Диаграмма 3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15808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8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Актуальность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6240" y="1197000"/>
            <a:ext cx="77868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-20880"/>
            <a:ext cx="70246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Программа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1116000" y="905040"/>
            <a:ext cx="80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работ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е, воспитательное, оздоро­в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3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4476600" cy="28576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1046160" y="476280"/>
            <a:ext cx="81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бъект работы - беременные женщины со сроком беременности начиная от 20 - 25 не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Форма работы: групп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став участников группы - 6 - 8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ремя работы: 12 занятий (2 раза в неделю по 2,5 — 3 ча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 программе принимают участие: психолог,  педагог, акушер-гинеко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1187280" y="260280"/>
            <a:ext cx="7632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 прием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ематические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утогенная тренир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лесно-ориентированная 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Арттерапия (рисование, пение, тане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олев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изу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татическая гимнастика с элементами массажа, палс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Гопнотомия, голо­совые упражнения, приемы дыхательной гимна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Арома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Спокойная медленная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042920" y="179280"/>
            <a:ext cx="810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ка эффектив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Усиление конструктивны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на себя ответственности за семью, ребенка, процесс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анализ и самосовершенств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родительской компет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ение к ребенку и взаимодействие с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позитивных чувств: радости, уверенности, спокой­ствия,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лабление деструктивных факт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го безразлич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к ребенку как к объек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абление негативных чувств: вины, страха, тревоги, агрес­сии, уны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716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157400" y="692280"/>
            <a:ext cx="757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688b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5f688b"/>
              </a:solidFill>
              <a:latin typeface="Corbel"/>
            </a:endParaRPr>
          </a:p>
        </p:txBody>
      </p:sp>
      <p:pic>
        <p:nvPicPr>
          <p:cNvPr id="408" name="Рисунок 2" descr=""/>
          <p:cNvPicPr/>
          <p:nvPr/>
        </p:nvPicPr>
        <p:blipFill>
          <a:blip r:embed="rId1"/>
          <a:stretch/>
        </p:blipFill>
        <p:spPr>
          <a:xfrm>
            <a:off x="1695600" y="1197000"/>
            <a:ext cx="6140160" cy="53085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Проблемами перинатальной педагогики и психологии занимались такие учёные как: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1357200" y="202572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делевич В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туев А.С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иппова Г.Г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мурак Ю.И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ед Н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тин А.М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гай К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ехман Г.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ич Р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йнз Д. и д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9" descr="cuidados_embarazo.jpg"/>
          <p:cNvPicPr/>
          <p:nvPr/>
        </p:nvPicPr>
        <p:blipFill>
          <a:blip r:embed="rId1"/>
          <a:stretch/>
        </p:blipFill>
        <p:spPr>
          <a:xfrm>
            <a:off x="4572000" y="3571920"/>
            <a:ext cx="3905280" cy="26002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1020600" y="98280"/>
            <a:ext cx="81439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97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688b"/>
                </a:solidFill>
                <a:latin typeface="Corbel"/>
              </a:rPr>
              <a:t>Теоретические подходы к рассмотрению перинатальной психологии и педагогики</a:t>
            </a:r>
            <a:br>
              <a:rPr sz="3900"/>
            </a:br>
            <a:endParaRPr b="0" lang="en-US" sz="28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1042920" y="1360440"/>
            <a:ext cx="7962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546d7a"/>
                </a:solidFill>
                <a:latin typeface="Corbel"/>
              </a:rPr>
              <a:t>Перинатальная психологи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143000" y="28584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Пренатальная педагогика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6" descr="pregnantbelly.jpg"/>
          <p:cNvPicPr/>
          <p:nvPr/>
        </p:nvPicPr>
        <p:blipFill>
          <a:blip r:embed="rId1"/>
          <a:stretch/>
        </p:blipFill>
        <p:spPr>
          <a:xfrm>
            <a:off x="1571760" y="3071880"/>
            <a:ext cx="6823080" cy="324792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Условия психолого-педагогического сопровождения беременности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500120" y="1500120"/>
            <a:ext cx="7143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7" descr="embarazo_blog.jpg"/>
          <p:cNvPicPr/>
          <p:nvPr/>
        </p:nvPicPr>
        <p:blipFill>
          <a:blip r:embed="rId1"/>
          <a:stretch/>
        </p:blipFill>
        <p:spPr>
          <a:xfrm>
            <a:off x="2143080" y="3714840"/>
            <a:ext cx="5429160" cy="28573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Синдром беременности </a:t>
            </a:r>
            <a:br>
              <a:rPr sz="3900"/>
            </a:b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(Боровикова Н.В.)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1357200" y="1643040"/>
            <a:ext cx="7500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688b"/>
                </a:solidFill>
                <a:latin typeface="Corbel"/>
              </a:rPr>
              <a:t>И. А. Аршавский</a:t>
            </a:r>
            <a:endParaRPr b="0" lang="en-US" sz="40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214280" y="92880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актаци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2643120" y="33577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Гестационная домин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7"/>
          <p:cNvCxnSpPr/>
          <p:nvPr/>
        </p:nvCxnSpPr>
        <p:spPr>
          <a:xfrm flipH="1">
            <a:off x="221436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cxnSp>
        <p:nvCxnSpPr>
          <p:cNvPr id="355" name="Прямая со стрелкой 11"/>
          <p:cNvCxnSpPr/>
          <p:nvPr/>
        </p:nvCxnSpPr>
        <p:spPr>
          <a:xfrm>
            <a:off x="678672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sp>
        <p:nvSpPr>
          <p:cNvPr id="356" name="TextBox 12"/>
          <p:cNvSpPr/>
          <p:nvPr/>
        </p:nvSpPr>
        <p:spPr>
          <a:xfrm>
            <a:off x="1071720" y="485784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сих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786280" y="48578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изи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25:57Z</dcterms:created>
  <dc:creator>Сё</dc:creator>
  <dc:description/>
  <dc:language>en-US</dc:language>
  <cp:lastModifiedBy>LEGION</cp:lastModifiedBy>
  <dcterms:modified xsi:type="dcterms:W3CDTF">2014-11-06T13:54:38Z</dcterms:modified>
  <cp:revision>68</cp:revision>
  <dc:subject/>
  <dc:title>Психолого-педагогическое сопровождение беременности</dc:title>
</cp:coreProperties>
</file>