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7EC-21CC-4F27-B8BC-84A2ED18B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о-педагогическое сопровождение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доцент , к.п.н. Черкасова О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Кузнецо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762-68E7-46EB-8AED-E6B5FD44FA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сихологический компонент гестационной доминанты (ПКГ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996-84E2-4D2F-809D-E74FFABF07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Оптимальный тип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26E2-3F30-4632-99E0-40302A040E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ипогестогноз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2369-BF29-4F5A-8431-5057F34CE7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Эйфорически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CB1-6218-4503-8B7B-25F6D727A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ревожный вариант ПКГ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9B6-397C-4882-BC8A-07C6C4E78B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949D-BDF8-4353-B805-5A6EC9111F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ое, воспитательное, оздоро­вите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7FAB-7D63-4C4A-927D-22C24EBA95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ъект работы - беременные женщины со сроком беременности начиная от 20 - 25 нед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орма работы: групп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участников группы - 6 - 8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работы: 12 занятий (2 раза в неделю по 2,5 — 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ограмме принимают участие: психолог,  педагог, акушер-гинеко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E311-A9CC-4554-8A11-7E0C925FC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етоды и приемы работ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бес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утогенная трен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лесно-ориентированная 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Арттерапия (рисование, пение, тан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Ролевые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изу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атическая гимнастика с элементами массажа, палс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Гопнотомия, голо­совые упражнения, приемы дыхательной гимнас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Ароматерап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покойная медленна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C6B3-7799-48F3-8854-0FEFD3755A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ка эффективности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Усиление конструктив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на себя ответственности за семью, ребенка, процесс 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анализ и самосовершен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родительской компет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е к ребенку и взаимодействие с н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позитивных чувств: радости, уверенности, спокой­ствия,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слабление деструкти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го безраз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ребенку как к объек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абление негативных чувств: вины, страха, тревоги, агрес­сии, уны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513-FD44-4EEC-91E1-B0CFC8B572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4D17-9D42-4BD7-A62D-A79B556C3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0750-46A1-461C-8CA7-36063F42C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ми перинатальной педагогики и психологии занимались такие учёны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делевич В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ев А.С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иппова Г.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мурак Ю.И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ед Н.Д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ин А.М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гай К.Н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хман Г.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ич Р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йнз Д. 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4B52-214D-4AA2-9909-294C8F928F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AED-2A4D-4163-B22B-3ACBF25A2A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оретические подходы к рассмотрению перинатальной психологии и педагоги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еринатальная псих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8961-37F8-491D-8DDF-17BEB322AF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Пренатальная педагог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A22-CCAD-49EE-85E8-9677120F98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Условия психолого-педагогического сопровождения бе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FD2-9A18-4374-9379-0FCD7702F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индром беременности </a:t>
            </a:r>
            <a:br>
              <a:rPr sz="1200"/>
            </a:br>
            <a:r>
              <a:rPr b="0" lang="ru-RU" sz="1000" spc="-1" strike="noStrike">
                <a:solidFill>
                  <a:srgbClr val="11488b"/>
                </a:solidFill>
                <a:latin typeface="Calibri"/>
              </a:rPr>
              <a:t>(Боровикова Н.В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6D19-830A-4D4A-B8B7-0F5C9D165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. А. Арша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акта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4A7-0EC3-4A15-8D02-76D613240C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AAB-A8A6-4F7E-A7C2-880E34BA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D32-21F7-4465-B8C6-AB349735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C23-793B-4518-AD22-6106DFF1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E1F-C770-462C-84E1-6F82F34A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62E-20AD-47AD-A59D-5ECE7017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76F1-85F9-47D2-A5D6-036C728B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BB6D-5AF4-4B7F-BF54-5C93B47B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132-21E0-4E35-84C4-5EA2606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59B9-45D2-4A59-9A20-D79C5B61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006-9077-4E4E-9D11-A4E6D741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FCB0-862C-4E46-AD49-99597D6E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E45-5CCF-4427-849C-EA707A00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8F9C-8EA1-4099-89BF-699E17C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A177-5CE9-48A8-9683-7879A95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5291-B5BC-476B-9582-2988150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6B11-DA20-4808-917B-3A2007A0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FC7A-DDCD-4605-AEF9-3A03C7BA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6012-5D30-4323-923F-00B08D67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0F71-BD0E-4A2E-BC99-B679C24C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AA51-223C-424F-B62B-BBA9D7D7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2D95-74E8-4214-8D69-E44E4F1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168EE-F971-4FFE-B53A-BA252CB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187-427F-41BE-9A33-15379A0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C259-1418-471A-8BFA-9321EFDE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DF4D-36B2-4233-A949-111FFCF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A412-705B-4AD8-B29A-7A73730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DFB8A-F46A-4D5D-B8AB-760B44B6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337B1-B04B-4392-8112-8D39D576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FFEEB-8EF1-4713-8A14-BA29CC63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50BF-ADED-458B-834D-E50901BE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57EA-9525-4CC7-BFC7-E686B81D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B04F-3A2E-4E91-B7F2-474B3ED6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F871-C2AB-4EC7-BC9E-0423DF36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AA6-5985-4E7B-A170-FFD8DCD6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7630-56A8-45C3-942F-3C12FF39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85C4-945E-4F4F-91A3-243022A4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852B7-25CF-4F1C-BDEC-A70E7DEF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05BB-CFAA-46AE-A56D-8A78111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0EC92-0F73-4588-B2CA-508D92FE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15D2-02ED-4EED-BFCF-FB850FC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2069-1D6E-4D4E-BEF4-01B788A6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3059-2285-440B-A18B-D6E070B9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0ABC-876A-49ED-9FAF-86FCD858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A222-279B-4E9F-939A-0E446B27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9B1-03B5-444E-A4F2-5511ED5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CB4B-E78B-41FE-A6E8-42C3C492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E0EE-EBF8-4FC7-B0C9-9A1CC08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9920-F670-4DA3-93F9-7BDFFC32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DDC6-72C4-4505-AE47-10DD2F4F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65CD6-8A29-4386-97BE-F31B90C9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CCC6-DB4A-4461-AB47-A480790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F09F-A4E3-4434-A2B2-EAC644B9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663A1-290A-4C79-973E-7A5D55B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8898-4875-4CF0-A7D8-133FFE36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300E-E4AB-4FC2-9736-004E147E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017-C6BD-4C72-B0BA-6B1242C2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6005-5DF5-4B8E-A1FB-F1BA71C0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82C5-F059-4757-8F6E-BD93806A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BFD05-02E8-46E5-9452-4B02865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E8E3-1167-49FB-B0F2-D3E2933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6CB09-5F57-45E5-9E61-FF831625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F798C-87DE-4B31-9527-A322D30B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4330-5D7E-4D0D-AB3E-4347C5D7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D6460-A338-40AB-BA1F-DC0F4D85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23505-718D-4DA8-97F5-FD9CDA0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0AFF1-689E-4494-AD9B-3E31A34C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D46-7C48-4AAF-ABFE-2ADD927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4054-A860-4B2F-9A40-33D7C2A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95F64-EE84-4E67-ADE6-3FC82E4B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DEFD-F9BF-45AF-B270-E459D553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9ED67-F7E7-455B-AC7B-13201199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BDF66-D2EE-4426-9B34-FD7F3A2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0170D-81EB-4C45-BC45-F19BCF26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FE588-3111-4991-B309-09F37C3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308E-A517-432E-B586-E23031CB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5D57-90D3-46DA-A36F-8F0292C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78B5-211E-49C7-9702-840A330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E9A-C891-40BE-BB57-867122A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9D99-8357-4FBE-93D9-E5AE4FB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15A6-FF2F-418A-92A0-57DA52C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DB188-DF7A-46C8-BFF0-7CEAEE8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A6123-4D78-4DB0-AF52-5A23FD89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75035-9CEC-4C9B-B96B-24866662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A55-1D17-4285-ABA2-4B51AF65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90D8-AA63-420F-990F-86B710CF07A4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C3FF-8186-41FD-8824-F3E0DC850A5B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4f8fa">
              <a:alpha val="33000"/>
            </a:srgbClr>
          </a:solidFill>
          <a:ln cap="rnd" w="3240">
            <a:solidFill>
              <a:srgbClr val="a0b5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0eef6"/>
            </a:solidFill>
            <a:miter/>
          </a:ln>
          <a:effectLst>
            <a:outerShdw dist="12600" dir="5400000" blurRad="0" rotWithShape="0">
              <a:srgbClr val="8d9aa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6BE-D8DC-43E6-8E88-CB665299D241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8F6-DDAF-49CF-A08A-EDBE2337A3CA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8563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017E-B6AB-438E-A960-659E33279810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4B5A-F061-4DBF-BCB1-B080B7E643DE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BF94-B9E6-48DD-96A2-6D44559F379B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0FE-822B-49F5-B93F-9AC556AED72B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5d6468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6ECD-9381-4535-ABAA-83DEEC8620F4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EE4-0AF5-438E-A3BD-0E43FC8772DD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EEC8-AC26-4123-BA94-F38FFF6F3BA9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8FA4-76CF-4E57-B313-9BC93CE10B68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3cad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5d1d7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f688b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ccb4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8cada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c7b7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C28-949C-4E56-852B-F3B6121FDC05}" type="datetime">
              <a:rPr b="0" lang="ru-RU" sz="1200" spc="-1" strike="noStrike">
                <a:solidFill>
                  <a:srgbClr val="899ba4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9ba4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9ba4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0307-C616-4CDE-ADAD-46937A42E80D}" type="slidenum">
              <a:rPr b="0" lang="ru-RU" sz="1200" spc="-1" strike="noStrike">
                <a:solidFill>
                  <a:srgbClr val="899ba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07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о-педагогическое сопровождение беременности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28520" y="5505120"/>
            <a:ext cx="6429240" cy="94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Научный руководитель: доцент , к.п.н. Черкасова О.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851"/>
                </a:solidFill>
                <a:latin typeface="Corbel"/>
              </a:rPr>
              <a:t>Выполнила: Кузнецова М.С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12" descr="4.jpg"/>
          <p:cNvPicPr/>
          <p:nvPr/>
        </p:nvPicPr>
        <p:blipFill>
          <a:blip r:embed="rId1"/>
          <a:stretch/>
        </p:blipFill>
        <p:spPr>
          <a:xfrm>
            <a:off x="2000160" y="1747800"/>
            <a:ext cx="5483160" cy="35593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Психологический компонент гестационной доминанты (ПКГД)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00000" y="1860480"/>
            <a:ext cx="792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ляет собой совокупность механизмов психической саморегуляции, включающихся у женщины при возникновении беременности, направленных на сохранение гестации и создание условий для развития будущего ребенка, формирующих отношение женщины к своей беременности, ее поведенческие стереоти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Оптимальный тип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3" name="TextBox 2"/>
          <p:cNvSpPr/>
          <p:nvPr/>
        </p:nvSpPr>
        <p:spPr>
          <a:xfrm>
            <a:off x="1143000" y="15001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декватный стиль восприят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4" descr="embarazo.jpg"/>
          <p:cNvPicPr/>
          <p:nvPr/>
        </p:nvPicPr>
        <p:blipFill>
          <a:blip r:embed="rId1"/>
          <a:stretch/>
        </p:blipFill>
        <p:spPr>
          <a:xfrm>
            <a:off x="3209760" y="2924280"/>
            <a:ext cx="5577120" cy="372276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Гипогестогнозический вариант ПКГД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143000" y="1428840"/>
            <a:ext cx="607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гнорирующ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Рисунок 4" descr="pregnant-belly.jpg"/>
          <p:cNvPicPr/>
          <p:nvPr/>
        </p:nvPicPr>
        <p:blipFill>
          <a:blip r:embed="rId1"/>
          <a:stretch/>
        </p:blipFill>
        <p:spPr>
          <a:xfrm>
            <a:off x="3900600" y="3244680"/>
            <a:ext cx="4867200" cy="3327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Эйфорически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1071720" y="135720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йфорический стиль переживания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4" descr="image111.png"/>
          <p:cNvPicPr/>
          <p:nvPr/>
        </p:nvPicPr>
        <p:blipFill>
          <a:blip r:embed="rId1"/>
          <a:stretch/>
        </p:blipFill>
        <p:spPr>
          <a:xfrm>
            <a:off x="1500120" y="2766960"/>
            <a:ext cx="3854520" cy="37562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Тревожный вариант ПКГД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75" name="TextBox 2"/>
          <p:cNvSpPr/>
          <p:nvPr/>
        </p:nvSpPr>
        <p:spPr>
          <a:xfrm>
            <a:off x="1214280" y="2000160"/>
            <a:ext cx="4786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1285920" y="128592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липпова Г.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бивалентный и тревожный ст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11" descr="6a00e5536e2024883301127938699028a4-320wi.jpg"/>
          <p:cNvPicPr/>
          <p:nvPr/>
        </p:nvPicPr>
        <p:blipFill>
          <a:blip r:embed="rId1"/>
          <a:stretch/>
        </p:blipFill>
        <p:spPr>
          <a:xfrm>
            <a:off x="1357200" y="2357280"/>
            <a:ext cx="4064040" cy="406404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Диаграмма 2" descr=""/>
          <p:cNvPicPr/>
          <p:nvPr/>
        </p:nvPicPr>
        <p:blipFill>
          <a:blip r:embed="rId1"/>
          <a:stretch/>
        </p:blipFill>
        <p:spPr>
          <a:xfrm>
            <a:off x="1425600" y="1577880"/>
            <a:ext cx="7108920" cy="4654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1187280" y="47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ребёнка для Вас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302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2"/>
          <p:cNvSpPr/>
          <p:nvPr/>
        </p:nvSpPr>
        <p:spPr>
          <a:xfrm>
            <a:off x="118728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ременность для Вас проход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966000" cy="515808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971640" y="522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ещаете ли Вы курсы дородовой подготов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Диаграмма 1" descr=""/>
          <p:cNvPicPr/>
          <p:nvPr/>
        </p:nvPicPr>
        <p:blipFill>
          <a:blip r:embed="rId1"/>
          <a:stretch/>
        </p:blipFill>
        <p:spPr>
          <a:xfrm>
            <a:off x="1352520" y="1362240"/>
            <a:ext cx="7373880" cy="5157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32000" y="404640"/>
            <a:ext cx="74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з каких источников Вы черпаете информацию о беременности, родах и развитии малы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846000" y="31284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ст отношений беременной  Добряк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Диаграмма 3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7326360" cy="515808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498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Актуальность</a:t>
            </a:r>
            <a:endParaRPr b="0" lang="en-US" sz="39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1146240" y="1197000"/>
            <a:ext cx="77868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 результатам исследования Овчаровой Р.В. можно сделать вывод, что существует достаточно большой процент женщин, не готовых  к материнству, для которых характерным является:  недооценивание важности эмоционального контакта с не рождённым ребёнком,  неправильный образ жизни, негативные мотивы сохранения беременности, недостаточный уровень педагогической компетенции и т.д.. Что в последствии может привести к нарушению родительско-детских отношений, неправильному стилю воспитания, к возникновению у детей неврозов, на почве эмоциональной депривации и депривации родительской любв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15640" y="-20880"/>
            <a:ext cx="70246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Программа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1116000" y="905040"/>
            <a:ext cx="80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сихолого-педагогическая деятельность по подготовке беременных женщин к рождению и воспитанию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работы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ое, воспитательное, оздоро­вите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3" descr=""/>
          <p:cNvPicPr/>
          <p:nvPr/>
        </p:nvPicPr>
        <p:blipFill>
          <a:blip r:embed="rId1"/>
          <a:stretch/>
        </p:blipFill>
        <p:spPr>
          <a:xfrm>
            <a:off x="4067280" y="3789360"/>
            <a:ext cx="4476600" cy="28576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1046160" y="476280"/>
            <a:ext cx="810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бъект работы - беременные женщины со сроком беременности начиная от 20 - 25 нед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а работы: группов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Состав участников группы - 6 - 8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ремя работы: 12 занятий (2 раза в неделю по 2,5 — 3 час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В программе принимают участие: психолог,  педагог, акушер-гинекол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187280" y="260280"/>
            <a:ext cx="76327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 прием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Тематические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Аутогенная тренир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Телесно-ориентированная 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Арттерапия (рисование, пение, танец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Ролев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изу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Статическая гимнастика с элементами массажа, палсин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Гопнотомия, голо­совые упражнения, приемы дыхательной гимна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Ароматера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Спокойная медленная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042920" y="179280"/>
            <a:ext cx="8101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ка эффективности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Усиление конструктивных фактор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на себя ответственности за семью, ребенка, процесс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анализ и самосовершенств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родительской компет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ажение к ребенку и взаимодействие с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позитивных чувств: радости, уверенности, спокой­ствия,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лабление деструктивных факто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го безразли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к ребенку как к объек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негативных чувств: вины, страха, тревоги, агрес­сии, уны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716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f688b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157400" y="692280"/>
            <a:ext cx="757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живание беременности и динамика стиля переживания беременности отражает ценность ребенка, является прогностическим для выявления особенностей материнского отношения и динамики ценности ребенка после родов. Это позволяет строить гипотезу о возможных осложнениях материнско-детского взаимодействия в родах и после родов. Диагностика содержания и развития материнской сферы позволяют выявить группу риска (нарушения материнско-детского взаимодействия, девиантное материнство, послеродовые депресии и т.п.) и оказать своевременную помощь по формированию готовности к рождению и воспитанию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f688b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f688b"/>
              </a:solidFill>
              <a:latin typeface="Corbel"/>
            </a:endParaRPr>
          </a:p>
        </p:txBody>
      </p:sp>
      <p:pic>
        <p:nvPicPr>
          <p:cNvPr id="408" name="Рисунок 2" descr=""/>
          <p:cNvPicPr/>
          <p:nvPr/>
        </p:nvPicPr>
        <p:blipFill>
          <a:blip r:embed="rId1"/>
          <a:stretch/>
        </p:blipFill>
        <p:spPr>
          <a:xfrm>
            <a:off x="1695600" y="1197000"/>
            <a:ext cx="6140160" cy="53085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Проблемами перинатальной педагогики и психологии занимались такие учёные как: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357200" y="2025720"/>
            <a:ext cx="764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делевич В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туев А.С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иппова Г.Г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мурак Ю.И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бед Н.Д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тин А.М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гай К.Н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хман Г.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ич 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йнз Д. и др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cuidados_embarazo.jpg"/>
          <p:cNvPicPr/>
          <p:nvPr/>
        </p:nvPicPr>
        <p:blipFill>
          <a:blip r:embed="rId1"/>
          <a:stretch/>
        </p:blipFill>
        <p:spPr>
          <a:xfrm>
            <a:off x="4572000" y="357192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1"/>
          <p:cNvSpPr/>
          <p:nvPr/>
        </p:nvSpPr>
        <p:spPr>
          <a:xfrm>
            <a:off x="1020600" y="98280"/>
            <a:ext cx="81439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Цель работы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рассмотрение психолого-педагогической деятельности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Объект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сихолого-педагогическое сопровождение беременных женщ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Предмет: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. : программа психолого-педагогической деятельности по  подготовке беременных женщин к рождению и воспитанию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Задачи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1) изучить научную литературу по данно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2) выявить теоретические подходы к рассмотрению перинатальной психологии   и педагоги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3) определить условия психолого-педагогического сопровождения берем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4) разработать программу психолого-педагогической деятельности  по подготовке беременных женщин к рождению и воспитанию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труктура работы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ведение, 2 главы, заключение, список использованных источ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7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688b"/>
                </a:solidFill>
                <a:latin typeface="Corbel"/>
              </a:rPr>
              <a:t>Теоретические подходы к рассмотрению перинатальной психологии и педагогики</a:t>
            </a:r>
            <a:br>
              <a:rPr sz="3900"/>
            </a:br>
            <a:endParaRPr b="0" lang="en-US" sz="28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1042920" y="1360440"/>
            <a:ext cx="7962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546d7a"/>
                </a:solidFill>
                <a:latin typeface="Corbel"/>
              </a:rPr>
              <a:t>Перинатальная психолог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это область психологической науки, изучающая возникновение, динамику и особенности психологического и психического развития системы «мать - дитя», закономерности самых ранних этапов онтогенеза человека от зачатия до первых лет жизни после рождения в его взаимодействии с матер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143000" y="28584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Пренатальная педагогика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комплексное воздействие (через музыку, эстетические впечатления, положительные эмоции) на беременную, плод, семейную систему в целом, с целью оптимизации внутриутробного развития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6" descr="pregnantbelly.jpg"/>
          <p:cNvPicPr/>
          <p:nvPr/>
        </p:nvPicPr>
        <p:blipFill>
          <a:blip r:embed="rId1"/>
          <a:stretch/>
        </p:blipFill>
        <p:spPr>
          <a:xfrm>
            <a:off x="1571760" y="3071880"/>
            <a:ext cx="6823080" cy="324792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Условия психолого-педагогического сопровождения беременности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500120" y="1500120"/>
            <a:ext cx="7143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«мать-дит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     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общие теле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 </a:t>
            </a:r>
            <a:r>
              <a:rPr b="0" lang="ru-RU" sz="4400" spc="-1" strike="noStrike">
                <a:solidFill>
                  <a:srgbClr val="747dc2"/>
                </a:solidFill>
                <a:latin typeface="Corbel"/>
              </a:rPr>
              <a:t>и психические гра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7" descr="embarazo_blog.jpg"/>
          <p:cNvPicPr/>
          <p:nvPr/>
        </p:nvPicPr>
        <p:blipFill>
          <a:blip r:embed="rId1"/>
          <a:stretch/>
        </p:blipFill>
        <p:spPr>
          <a:xfrm>
            <a:off x="2143080" y="3714840"/>
            <a:ext cx="5429160" cy="28573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f688b"/>
                </a:solidFill>
                <a:latin typeface="Corbel"/>
              </a:rPr>
              <a:t>Синдром беременности </a:t>
            </a:r>
            <a:br>
              <a:rPr sz="3900"/>
            </a:br>
            <a:r>
              <a:rPr b="0" lang="ru-RU" sz="3200" spc="-1" strike="noStrike">
                <a:solidFill>
                  <a:srgbClr val="5f688b"/>
                </a:solidFill>
                <a:latin typeface="Corbel"/>
              </a:rPr>
              <a:t>(Боровикова Н.В.)</a:t>
            </a:r>
            <a:endParaRPr b="0" lang="en-US" sz="32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357200" y="1643040"/>
            <a:ext cx="75009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импто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ффект осознания себя б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вого «Я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ой лаби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иворечивого отношения к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нятия новой жизни в себ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вышенных притязаний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щущения деприв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а перед род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гмалионизация родившегос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4977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688b"/>
                </a:solidFill>
                <a:latin typeface="Corbel"/>
              </a:rPr>
              <a:t>И. А. Аршавский</a:t>
            </a:r>
            <a:endParaRPr b="0" lang="en-US" sz="4000" spc="-1" strike="noStrike">
              <a:solidFill>
                <a:srgbClr val="5f688b"/>
              </a:solidFill>
              <a:latin typeface="Corbe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214280" y="92880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теринская домин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естационн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ов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актацио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2643120" y="3357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6d7a"/>
                </a:solidFill>
                <a:latin typeface="Corbel"/>
              </a:rPr>
              <a:t>Гестационная домин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7"/>
          <p:cNvCxnSpPr/>
          <p:nvPr/>
        </p:nvCxnSpPr>
        <p:spPr>
          <a:xfrm flipH="1">
            <a:off x="221436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cxnSp>
        <p:nvCxnSpPr>
          <p:cNvPr id="355" name="Прямая со стрелкой 11"/>
          <p:cNvCxnSpPr/>
          <p:nvPr/>
        </p:nvCxnSpPr>
        <p:spPr>
          <a:xfrm>
            <a:off x="6786720" y="4071600"/>
            <a:ext cx="429120" cy="572040"/>
          </a:xfrm>
          <a:prstGeom prst="straightConnector1">
            <a:avLst/>
          </a:prstGeom>
          <a:ln w="15840">
            <a:solidFill>
              <a:srgbClr val="6920fa"/>
            </a:solidFill>
            <a:miter/>
            <a:tailEnd len="med" type="arrow" w="med"/>
          </a:ln>
        </p:spPr>
      </p:cxnSp>
      <p:sp>
        <p:nvSpPr>
          <p:cNvPr id="356" name="TextBox 12"/>
          <p:cNvSpPr/>
          <p:nvPr/>
        </p:nvSpPr>
        <p:spPr>
          <a:xfrm>
            <a:off x="1071720" y="485784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сих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3"/>
          <p:cNvSpPr/>
          <p:nvPr/>
        </p:nvSpPr>
        <p:spPr>
          <a:xfrm>
            <a:off x="5786280" y="485784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изиологически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ba4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25:57Z</dcterms:created>
  <dc:creator>Сё</dc:creator>
  <dc:description/>
  <dc:language>en-US</dc:language>
  <cp:lastModifiedBy>LEGION</cp:lastModifiedBy>
  <dcterms:modified xsi:type="dcterms:W3CDTF">2014-11-06T13:54:38Z</dcterms:modified>
  <cp:revision>68</cp:revision>
  <dc:subject/>
  <dc:title>Психолого-педагогическое сопровождение беременности</dc:title>
</cp:coreProperties>
</file>