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FAEE-191A-4179-98A5-6B69FB0A9D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Жуки или Жесткокры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31C-2027-4A5B-822D-24EBCF8ABC2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F6B2-C674-4741-84C7-8600022A6B8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CB95-C8CF-4930-8C63-57334AFA0E5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0103-74E7-43A2-A611-1E9846C3878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жуку-навознику в Лондоне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-навозник признан самым сильным насекомым на пла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римеру, для человека это равноценно подъему большегрузного тягача с прицепом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D6A0-7FBD-4282-87E5-02C3257273A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рабей. Священный жук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вившиеся личинки питаются навозом, из которого сделаны ша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29-й день он отрывает шарик, бросает в воду, и из него появляются детены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93A9-93A8-45EC-836C-81A8C0B86DD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D718-5C87-4DB0-988A-1F930BA850B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EB97-DE2F-43B5-AF2E-8597C907D83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DBCE-72F5-45E6-8901-925877AC2C7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5FF9-25F7-44A0-BA58-FFC86FCBD01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4193-7D39-4123-9031-0B821F3E89A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D7BD-3184-43AC-A228-5CAC7FB32DB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B5C8-2B40-4121-AF70-55E96341C34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03F-C28B-4255-8EF7-2CD99EBD9A7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фасеточные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29B8-BAF2-4FC0-9BF3-933E6AA4080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грыз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0760-FE32-452F-BA99-96B9652BA5A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89A-C30B-4432-93EE-1C1F141F128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 полным превращ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30F-845C-4424-8182-0F7D87C09AD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4CF2-5ADD-4D19-B6DB-32946A7BE8B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ол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4734-8EAD-450B-BFC7-9012E5EA86F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а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9988-B12F-4D5E-9C1F-AE2A3141B66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F12-5208-4388-8F45-9BB9DD80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ED2-3284-4BD4-8E23-E10C0C8D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45E-3B7B-46C5-9E2E-27E89B0B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F26-C544-4F6F-99A8-727E1891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EA7C-0A3A-4537-8A1C-F98DE5B3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A74C-3843-4C44-BF80-71EF27C7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F775-7BDA-4E61-8EAD-EB564161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E20C-FFF0-4924-8C1D-14A04DD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9A51-4BEE-44D5-8B44-01147AD2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5D84-5C22-48C0-9D9F-C04AB107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251-B2B4-4EF9-A1A3-F4893A0E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354-F402-4014-BA79-DC698885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CEA0-5328-4D34-BB64-B59F7B97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B0FF-F24A-452D-8A62-08AD79EE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A8F3-6C44-461B-BB8E-D2AC088D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34C2-0D62-4612-8C42-808B83EE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8731-750E-4043-9CA6-73BE6933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6A4-CFA1-409F-96C9-4A55043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53B-3FF0-44E6-89F6-E5D6C413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1A7-05FE-43A2-8A29-2E326316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D20-7AB3-4EB9-9692-C02AF644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9A1-BC62-44F5-8C62-6416B72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B2F-601E-4235-9A0F-60DEFB5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0F9-1FEC-4B70-B96A-0EDB3A2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BBD2-7742-467B-91FB-0D3E40FA6C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1F14-98C2-496A-99E0-E253FA7568A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4140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Жуки или Жесткокрыл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9280" y="4869000"/>
            <a:ext cx="30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39640" y="18900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524560" cy="41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4352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жу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770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300px-Carabus_auratus_with_prey"/>
          <p:cNvPicPr/>
          <p:nvPr/>
        </p:nvPicPr>
        <p:blipFill>
          <a:blip r:embed="rId2"/>
          <a:stretch/>
        </p:blipFill>
        <p:spPr>
          <a:xfrm>
            <a:off x="324000" y="3112920"/>
            <a:ext cx="453528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6" name="Picture 7" descr="2942"/>
          <p:cNvPicPr/>
          <p:nvPr/>
        </p:nvPicPr>
        <p:blipFill>
          <a:blip r:embed="rId3"/>
          <a:stretch/>
        </p:blipFill>
        <p:spPr>
          <a:xfrm>
            <a:off x="4356000" y="3789360"/>
            <a:ext cx="4176720" cy="242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5" descr="17806"/>
          <p:cNvPicPr/>
          <p:nvPr/>
        </p:nvPicPr>
        <p:blipFill>
          <a:blip r:embed="rId2"/>
          <a:stretch/>
        </p:blipFill>
        <p:spPr>
          <a:xfrm>
            <a:off x="3995640" y="3213000"/>
            <a:ext cx="4969080" cy="335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0" name="Picture 9" descr="amer"/>
          <p:cNvPicPr/>
          <p:nvPr/>
        </p:nvPicPr>
        <p:blipFill>
          <a:blip r:embed="rId3"/>
          <a:stretch/>
        </p:blipFill>
        <p:spPr>
          <a:xfrm>
            <a:off x="250920" y="2421000"/>
            <a:ext cx="472572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5" descr="09d4c333a0606a246ea978198b7f9292"/>
          <p:cNvPicPr/>
          <p:nvPr/>
        </p:nvPicPr>
        <p:blipFill>
          <a:blip r:embed="rId2"/>
          <a:stretch/>
        </p:blipFill>
        <p:spPr>
          <a:xfrm>
            <a:off x="250920" y="1557360"/>
            <a:ext cx="4889520" cy="352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4" name="Picture 7" descr="Священный жук скарабей скачать заставки, обои на рабочий стол"/>
          <p:cNvPicPr/>
          <p:nvPr/>
        </p:nvPicPr>
        <p:blipFill>
          <a:blip r:embed="rId3"/>
          <a:stretch/>
        </p:blipFill>
        <p:spPr>
          <a:xfrm>
            <a:off x="4572000" y="3933720"/>
            <a:ext cx="4368960" cy="273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амятник жуку-навознику в Лондоне. 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052640"/>
            <a:ext cx="5821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Жук-навозник признан самым сильным насекомым на плане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примеру, для человека это равноценно подъему большегрузного тягача с прицепом. 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" descr="Памятник жуку-навознику в Лондоне. Фото с сайта fotki.yandex.ru"/>
          <p:cNvPicPr/>
          <p:nvPr/>
        </p:nvPicPr>
        <p:blipFill>
          <a:blip r:embed="rId4"/>
          <a:stretch/>
        </p:blipFill>
        <p:spPr>
          <a:xfrm>
            <a:off x="5938920" y="4419720"/>
            <a:ext cx="3097080" cy="232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карабей. Священный жук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560" y="620280"/>
            <a:ext cx="532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явившиеся личинки питаются навозом, из которого сделаны шари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 29-й день он отрывает шарик, бросает в воду, и из него появляются детеныш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5" descr="scarabaeus_2_londonzoo_400"/>
          <p:cNvPicPr/>
          <p:nvPr/>
        </p:nvPicPr>
        <p:blipFill>
          <a:blip r:embed="rId5"/>
          <a:stretch/>
        </p:blipFill>
        <p:spPr>
          <a:xfrm>
            <a:off x="5219640" y="4292640"/>
            <a:ext cx="3810240" cy="23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5" descr="ladybird"/>
          <p:cNvPicPr/>
          <p:nvPr/>
        </p:nvPicPr>
        <p:blipFill>
          <a:blip r:embed="rId2"/>
          <a:stretch/>
        </p:blipFill>
        <p:spPr>
          <a:xfrm>
            <a:off x="684360" y="2205000"/>
            <a:ext cx="6697440" cy="4491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38648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4 из 596"/>
          <p:cNvPicPr/>
          <p:nvPr/>
        </p:nvPicPr>
        <p:blipFill>
          <a:blip r:embed="rId2"/>
          <a:stretch/>
        </p:blipFill>
        <p:spPr>
          <a:xfrm>
            <a:off x="324000" y="1228680"/>
            <a:ext cx="7127640" cy="539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560" y="18864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5" descr="Картинка 5 из 13288"/>
          <p:cNvPicPr/>
          <p:nvPr/>
        </p:nvPicPr>
        <p:blipFill>
          <a:blip r:embed="rId2"/>
          <a:stretch/>
        </p:blipFill>
        <p:spPr>
          <a:xfrm>
            <a:off x="539640" y="1620720"/>
            <a:ext cx="6828120" cy="512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5160" y="155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5" descr="0_3e52b_8489b996_L"/>
          <p:cNvPicPr/>
          <p:nvPr/>
        </p:nvPicPr>
        <p:blipFill>
          <a:blip r:embed="rId2"/>
          <a:stretch/>
        </p:blipFill>
        <p:spPr>
          <a:xfrm>
            <a:off x="250920" y="1125360"/>
            <a:ext cx="4500360" cy="5410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5" name="Picture 7" descr="Картинка 6 из 33"/>
          <p:cNvPicPr/>
          <p:nvPr/>
        </p:nvPicPr>
        <p:blipFill>
          <a:blip r:embed="rId3"/>
          <a:stretch/>
        </p:blipFill>
        <p:spPr>
          <a:xfrm>
            <a:off x="4224240" y="3186000"/>
            <a:ext cx="4740480" cy="355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5" descr="Картинка 9 из 1109"/>
          <p:cNvPicPr/>
          <p:nvPr/>
        </p:nvPicPr>
        <p:blipFill>
          <a:blip r:embed="rId2"/>
          <a:stretch/>
        </p:blipFill>
        <p:spPr>
          <a:xfrm>
            <a:off x="324000" y="1263600"/>
            <a:ext cx="5400360" cy="537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9" name="Picture 7" descr="Картинка 14 из 1109"/>
          <p:cNvPicPr/>
          <p:nvPr/>
        </p:nvPicPr>
        <p:blipFill>
          <a:blip r:embed="rId3"/>
          <a:stretch/>
        </p:blipFill>
        <p:spPr>
          <a:xfrm>
            <a:off x="4859280" y="1844640"/>
            <a:ext cx="4097520" cy="409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Maybug"/>
          <p:cNvPicPr/>
          <p:nvPr/>
        </p:nvPicPr>
        <p:blipFill>
          <a:blip r:embed="rId1"/>
          <a:stretch/>
        </p:blipFill>
        <p:spPr>
          <a:xfrm>
            <a:off x="179280" y="434880"/>
            <a:ext cx="7705800" cy="62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5" name="Line 7"/>
          <p:cNvSpPr/>
          <p:nvPr/>
        </p:nvSpPr>
        <p:spPr>
          <a:xfrm flipH="1" flipV="1">
            <a:off x="5508360" y="1844280"/>
            <a:ext cx="1368360" cy="10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 flipV="1">
            <a:off x="2268360" y="2565000"/>
            <a:ext cx="4608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 flipV="1">
            <a:off x="1476000" y="5229000"/>
            <a:ext cx="4824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5435280" y="3860280"/>
            <a:ext cx="865080" cy="17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093080" y="2781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д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5" descr="Картинка 4 из 388"/>
          <p:cNvPicPr/>
          <p:nvPr/>
        </p:nvPicPr>
        <p:blipFill>
          <a:blip r:embed="rId2"/>
          <a:stretch/>
        </p:blipFill>
        <p:spPr>
          <a:xfrm>
            <a:off x="4572000" y="3514680"/>
            <a:ext cx="4371840" cy="30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3" name="Picture 7" descr="Картинка 9 из 388"/>
          <p:cNvPicPr/>
          <p:nvPr/>
        </p:nvPicPr>
        <p:blipFill>
          <a:blip r:embed="rId3"/>
          <a:stretch/>
        </p:blipFill>
        <p:spPr>
          <a:xfrm>
            <a:off x="250920" y="2060640"/>
            <a:ext cx="46242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5" descr="Картинка 5 из 382"/>
          <p:cNvPicPr/>
          <p:nvPr/>
        </p:nvPicPr>
        <p:blipFill>
          <a:blip r:embed="rId2"/>
          <a:stretch/>
        </p:blipFill>
        <p:spPr>
          <a:xfrm>
            <a:off x="250920" y="2205000"/>
            <a:ext cx="5715000" cy="440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7" name="Picture 7" descr="Картинка 1 из 63"/>
          <p:cNvPicPr/>
          <p:nvPr/>
        </p:nvPicPr>
        <p:blipFill>
          <a:blip r:embed="rId3"/>
          <a:stretch/>
        </p:blipFill>
        <p:spPr>
          <a:xfrm>
            <a:off x="5135400" y="765000"/>
            <a:ext cx="4008600" cy="30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8" name="Picture 9" descr="Картинка 37 из 63"/>
          <p:cNvPicPr/>
          <p:nvPr/>
        </p:nvPicPr>
        <p:blipFill>
          <a:blip r:embed="rId4"/>
          <a:stretch/>
        </p:blipFill>
        <p:spPr>
          <a:xfrm>
            <a:off x="6516720" y="3933720"/>
            <a:ext cx="1714320" cy="2867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5" descr="Картинка 4 из 322"/>
          <p:cNvPicPr/>
          <p:nvPr/>
        </p:nvPicPr>
        <p:blipFill>
          <a:blip r:embed="rId2"/>
          <a:stretch/>
        </p:blipFill>
        <p:spPr>
          <a:xfrm>
            <a:off x="179280" y="2736720"/>
            <a:ext cx="5329440" cy="388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82" name="Picture 7" descr="Картинка 7 из 322"/>
          <p:cNvPicPr/>
          <p:nvPr/>
        </p:nvPicPr>
        <p:blipFill>
          <a:blip r:embed="rId3"/>
          <a:stretch/>
        </p:blipFill>
        <p:spPr>
          <a:xfrm>
            <a:off x="4362480" y="1201680"/>
            <a:ext cx="4602240" cy="345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ложные фасеточные гла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5" descr="Картинка 163 из 186"/>
          <p:cNvPicPr/>
          <p:nvPr/>
        </p:nvPicPr>
        <p:blipFill>
          <a:blip r:embed="rId1"/>
          <a:stretch/>
        </p:blipFill>
        <p:spPr>
          <a:xfrm>
            <a:off x="250920" y="1312920"/>
            <a:ext cx="705780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грыз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5" descr="Картинка 69 из 186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68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с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9" descr="59736828_1275335910_8212"/>
          <p:cNvPicPr/>
          <p:nvPr/>
        </p:nvPicPr>
        <p:blipFill>
          <a:blip r:embed="rId1"/>
          <a:stretch/>
        </p:blipFill>
        <p:spPr>
          <a:xfrm>
            <a:off x="179280" y="1057320"/>
            <a:ext cx="8280360" cy="5524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звитие с полным превращение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6" descr="PM3_32"/>
          <p:cNvPicPr/>
          <p:nvPr/>
        </p:nvPicPr>
        <p:blipFill>
          <a:blip r:embed="rId1"/>
          <a:stretch/>
        </p:blipFill>
        <p:spPr>
          <a:xfrm>
            <a:off x="1763640" y="1628640"/>
            <a:ext cx="4664160" cy="502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чин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5" descr="Картинка 11 из 186"/>
          <p:cNvPicPr/>
          <p:nvPr/>
        </p:nvPicPr>
        <p:blipFill>
          <a:blip r:embed="rId1"/>
          <a:stretch/>
        </p:blipFill>
        <p:spPr>
          <a:xfrm>
            <a:off x="179280" y="1654200"/>
            <a:ext cx="7272360" cy="5035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1640" y="259920"/>
            <a:ext cx="34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5" descr="Картинка 5 из 186"/>
          <p:cNvPicPr/>
          <p:nvPr/>
        </p:nvPicPr>
        <p:blipFill>
          <a:blip r:embed="rId1"/>
          <a:stretch/>
        </p:blipFill>
        <p:spPr>
          <a:xfrm>
            <a:off x="324000" y="260280"/>
            <a:ext cx="4321080" cy="62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197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ма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5" descr="Картинка 25 из 64000"/>
          <p:cNvPicPr/>
          <p:nvPr/>
        </p:nvPicPr>
        <p:blipFill>
          <a:blip r:embed="rId1"/>
          <a:stretch/>
        </p:blipFill>
        <p:spPr>
          <a:xfrm>
            <a:off x="250920" y="861840"/>
            <a:ext cx="8497800" cy="573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7:40Z</dcterms:created>
  <dc:creator>Бочкова И.А.</dc:creator>
  <dc:description/>
  <dc:language>en-US</dc:language>
  <cp:lastModifiedBy>LEGION</cp:lastModifiedBy>
  <dcterms:modified xsi:type="dcterms:W3CDTF">2014-11-25T11:08:11Z</dcterms:modified>
  <cp:revision>8</cp:revision>
  <dc:subject/>
  <dc:title>Отряд Жуки или Жесткокрылые</dc:title>
</cp:coreProperties>
</file>