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DC9F-EA98-40A1-A36C-7F817CC6F9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Жуки или Жесткокрыл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биологии и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чкова Ирин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3CC7-D99E-4F20-BED6-E08A161C5C6E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жу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C20F-B7AF-4ACE-8375-D20D9EEA7B77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62A-E56B-4AB9-A908-E740B240137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FA8-02B2-4E70-A1B7-465F12C5B34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мятник жуку-навознику в Лондоне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-навозник признан самым сильным насекомым на плане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римеру, для человека это равноценно подъему большегрузного тягача с прицепом. 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5254-08E5-430A-9CDC-1450FD4BCC0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арабей. Священный жук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явившиеся личинки питаются навозом, из которого сделаны ша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29-й день он отрывает шарик, бросает в воду, и из него появляются детены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9033-C6DE-48C8-ACD3-FC7CD0D6C78B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94DB-7CB3-4C3D-9319-2ABC3D5BC4E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519A-9DB2-4C9D-82E5-785BA62C375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0723-D560-4C54-8CAF-87606B6F7C1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52A0-6038-4477-914B-C268C17B593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3303-3326-49E8-9440-D1D91BF37AF4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EB45-DD77-4DED-A312-75AC04CE436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8C8-0377-4E9F-B49E-482A81B9249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F8A-0E65-4382-8DDF-1B54E6E390F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фасеточные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080-8AFB-4607-BD71-0E92071D09F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товой аппарат грызущего ти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4C9C-494E-4C6E-95C1-499C6FFC5B6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26C5-168F-4EA8-9F8E-10A3769331C3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 полным превращ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B969-51C3-4B98-A4C2-F1B86557551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ин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30EA-CB32-4E74-BA78-6E04C5A65D4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колка ж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2E5D-6C31-4BA8-B741-9A9877F6FC1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а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B985-75E3-4E68-8D96-DF8B2EA00AC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4D1F-1EB8-4F2C-91D2-B6459DB2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1FC-FD15-4EDC-BE3F-7292FD34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3CD-F8C1-40F8-8D53-6347EBAB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1B6-3FB6-4DA9-974A-C3CC35F7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877F-3DFF-4B92-9BD0-B31489BA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0E46-865F-40E0-94C0-CD38332F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2C53-2392-4099-B85F-A6CA9EC7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D5ED-059B-47D4-9657-76411245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F68-5E5C-438B-85A9-BC5E87C1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605D-9DDF-4F65-A1CF-DDBCFBEC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1321-1ACF-4AF7-96E1-BED2AB13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9BD-A480-4516-9509-BD350799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7715-1CAF-408D-8DC5-E6E2B7D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1418-8E67-486F-84EB-6D11C44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0214-155C-4ED7-845D-233F9929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3541-CB8F-459E-BE5E-469A6A08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A0E6-3CDB-44BA-8016-623D42C7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681-D99D-4EA9-92D7-A133DF84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39C-EF07-43C2-B8A6-3F331086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63C-F91C-43EC-BECA-3BD137B8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A85-0AF4-4FBE-ADB9-8E307F4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D6F-2B5B-4A1A-AEF6-C7DE337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A93F-69CC-4667-82BE-A7077CB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170-8CA4-4596-9E13-0DD018B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898F-A608-4D1D-97BF-B6F24C2F53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75F9-E30B-48D2-81F9-B687048119E1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0560" y="836280"/>
            <a:ext cx="41403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тряд Жуки или Жесткокрыл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9280" y="4869000"/>
            <a:ext cx="306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Составила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учитель биологии и хим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высшей квалификационной категори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Бочкова Ирина Анатольевн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189000"/>
            <a:ext cx="676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ru-RU" sz="1800" spc="-1" strike="noStrike">
                <a:solidFill>
                  <a:srgbClr val="f7d47d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492360" y="2565360"/>
            <a:ext cx="5524560" cy="4143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4352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чение жу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8000" y="836280"/>
            <a:ext cx="770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Большую пользу человеку в борьбе с вредителями садов и огородов приносят хищные жуки, например, жужелицы. Жуки – красотелы помогают в борьбе с непарным шелкопрядо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5" descr="300px-Carabus_auratus_with_prey"/>
          <p:cNvPicPr/>
          <p:nvPr/>
        </p:nvPicPr>
        <p:blipFill>
          <a:blip r:embed="rId2"/>
          <a:stretch/>
        </p:blipFill>
        <p:spPr>
          <a:xfrm>
            <a:off x="324000" y="3112920"/>
            <a:ext cx="453528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36" name="Picture 7" descr="2942"/>
          <p:cNvPicPr/>
          <p:nvPr/>
        </p:nvPicPr>
        <p:blipFill>
          <a:blip r:embed="rId3"/>
          <a:stretch/>
        </p:blipFill>
        <p:spPr>
          <a:xfrm>
            <a:off x="4356000" y="3789360"/>
            <a:ext cx="4176720" cy="2422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могильщики и трупоеды закапывают мёртвых мелких животных и, питаясь разложившимися останками, способствуют очищению почвы от трупов, накоплению перегноя в не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5" descr="17806"/>
          <p:cNvPicPr/>
          <p:nvPr/>
        </p:nvPicPr>
        <p:blipFill>
          <a:blip r:embed="rId2"/>
          <a:stretch/>
        </p:blipFill>
        <p:spPr>
          <a:xfrm>
            <a:off x="3995640" y="3213000"/>
            <a:ext cx="4969080" cy="3359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0" name="Picture 9" descr="amer"/>
          <p:cNvPicPr/>
          <p:nvPr/>
        </p:nvPicPr>
        <p:blipFill>
          <a:blip r:embed="rId3"/>
          <a:stretch/>
        </p:blipFill>
        <p:spPr>
          <a:xfrm>
            <a:off x="250920" y="2421000"/>
            <a:ext cx="472572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навозники и скарабеи выполняют функцию санитаров, зарывая навоз в почв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5" descr="09d4c333a0606a246ea978198b7f9292"/>
          <p:cNvPicPr/>
          <p:nvPr/>
        </p:nvPicPr>
        <p:blipFill>
          <a:blip r:embed="rId2"/>
          <a:stretch/>
        </p:blipFill>
        <p:spPr>
          <a:xfrm>
            <a:off x="250920" y="1557360"/>
            <a:ext cx="4889520" cy="3521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44" name="Picture 7" descr="Священный жук скарабей скачать заставки, обои на рабочий стол"/>
          <p:cNvPicPr/>
          <p:nvPr/>
        </p:nvPicPr>
        <p:blipFill>
          <a:blip r:embed="rId3"/>
          <a:stretch/>
        </p:blipFill>
        <p:spPr>
          <a:xfrm>
            <a:off x="4572000" y="3933720"/>
            <a:ext cx="4368960" cy="273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амятник жуку-навознику в Лондоне. 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052640"/>
            <a:ext cx="5821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Жук-навозник признан самым сильным насекомым на планет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Для того чтобы измерить, какой груз сможет поднять жук, ученые приклеили к его надкрыльям нить и перекинули его через блок. К концу нити они прикрепили небольшое ведерко, в которое по каплям добавляли воду. По итогам эксперимента было установлено, что навозник способен поднимать груз, масса которого эквивалентна 1141 массе тела жу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 примеру, для человека это равноценно подъему большегрузного тягача с прицепом. </a:t>
            </a:r>
            <a:br>
              <a:rPr sz="2400"/>
            </a:b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 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Picture 5" descr="Памятник жуку-навознику в Лондоне. Фото с сайта fotki.yandex.ru"/>
          <p:cNvPicPr/>
          <p:nvPr/>
        </p:nvPicPr>
        <p:blipFill>
          <a:blip r:embed="rId4"/>
          <a:stretch/>
        </p:blipFill>
        <p:spPr>
          <a:xfrm>
            <a:off x="5938920" y="4419720"/>
            <a:ext cx="3097080" cy="232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-360"/>
            <a:ext cx="74768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Скарабей. Священный жук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560" y="620280"/>
            <a:ext cx="5329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людая за поведением жука скарабея египтяне заметили, что он обрабатывает вязкую массу навоза, настойчиво и упорно перекатывая ее перед собой так, что она постепенно превращается в совершенный круглый шарик - сферу, в которую потом скарабей откладывает яйц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явившиеся личинки питаются навозом, из которого сделаны шарик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пив навозный шарик, жук катит его с востока на запад и, вырыв норку, прячет его в ней на 28 дне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 29-й день он отрывает шарик, бросает в воду, и из него появляются детеныш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5" descr="scarabaeus_2_londonzoo_400"/>
          <p:cNvPicPr/>
          <p:nvPr/>
        </p:nvPicPr>
        <p:blipFill>
          <a:blip r:embed="rId5"/>
          <a:stretch/>
        </p:blipFill>
        <p:spPr>
          <a:xfrm>
            <a:off x="5219640" y="4292640"/>
            <a:ext cx="3810240" cy="2352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Божьи коровки приносят большую пользу хозяйству человека, уничтожая и во взрослом , и в личиночном состояниях вредителей растений: тлю, червеца и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5" descr="ladybird"/>
          <p:cNvPicPr/>
          <p:nvPr/>
        </p:nvPicPr>
        <p:blipFill>
          <a:blip r:embed="rId2"/>
          <a:stretch/>
        </p:blipFill>
        <p:spPr>
          <a:xfrm>
            <a:off x="684360" y="2205000"/>
            <a:ext cx="6697440" cy="4491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386480" cy="18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Вредят рыболовству жуки – плавунцы: они и их личинки нападают на мальков рыб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Picture 5" descr="Картинка 4 из 596"/>
          <p:cNvPicPr/>
          <p:nvPr/>
        </p:nvPicPr>
        <p:blipFill>
          <a:blip r:embed="rId2"/>
          <a:stretch/>
        </p:blipFill>
        <p:spPr>
          <a:xfrm>
            <a:off x="324000" y="1228680"/>
            <a:ext cx="7127640" cy="539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4560" y="188640"/>
            <a:ext cx="7921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Майские жуки, или хрущи, вредят огородным, почвенным и лесным растениям, объедая их кор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5" descr="Картинка 5 из 13288"/>
          <p:cNvPicPr/>
          <p:nvPr/>
        </p:nvPicPr>
        <p:blipFill>
          <a:blip r:embed="rId2"/>
          <a:stretch/>
        </p:blipFill>
        <p:spPr>
          <a:xfrm>
            <a:off x="539640" y="1620720"/>
            <a:ext cx="6828120" cy="5121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5160" y="155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Хлебные жуки, или кузьки, повреждают зёрна злаков: ржи, ячменя, пшениц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4" name="Picture 5" descr="0_3e52b_8489b996_L"/>
          <p:cNvPicPr/>
          <p:nvPr/>
        </p:nvPicPr>
        <p:blipFill>
          <a:blip r:embed="rId2"/>
          <a:stretch/>
        </p:blipFill>
        <p:spPr>
          <a:xfrm>
            <a:off x="250920" y="1125360"/>
            <a:ext cx="4500360" cy="5410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5" name="Picture 7" descr="Картинка 6 из 33"/>
          <p:cNvPicPr/>
          <p:nvPr/>
        </p:nvPicPr>
        <p:blipFill>
          <a:blip r:embed="rId3"/>
          <a:stretch/>
        </p:blipFill>
        <p:spPr>
          <a:xfrm>
            <a:off x="4224240" y="3186000"/>
            <a:ext cx="4740480" cy="3556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73864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бронзовки объедают цветки различных раст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8" name="Picture 5" descr="Картинка 9 из 1109"/>
          <p:cNvPicPr/>
          <p:nvPr/>
        </p:nvPicPr>
        <p:blipFill>
          <a:blip r:embed="rId2"/>
          <a:stretch/>
        </p:blipFill>
        <p:spPr>
          <a:xfrm>
            <a:off x="324000" y="1263600"/>
            <a:ext cx="5400360" cy="537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9" name="Picture 7" descr="Картинка 14 из 1109"/>
          <p:cNvPicPr/>
          <p:nvPr/>
        </p:nvPicPr>
        <p:blipFill>
          <a:blip r:embed="rId3"/>
          <a:stretch/>
        </p:blipFill>
        <p:spPr>
          <a:xfrm>
            <a:off x="4859280" y="1844640"/>
            <a:ext cx="4097520" cy="4097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Maybug"/>
          <p:cNvPicPr/>
          <p:nvPr/>
        </p:nvPicPr>
        <p:blipFill>
          <a:blip r:embed="rId1"/>
          <a:stretch/>
        </p:blipFill>
        <p:spPr>
          <a:xfrm>
            <a:off x="179280" y="434880"/>
            <a:ext cx="7705800" cy="6242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5" name="Line 7"/>
          <p:cNvSpPr/>
          <p:nvPr/>
        </p:nvSpPr>
        <p:spPr>
          <a:xfrm flipH="1" flipV="1">
            <a:off x="5508360" y="1844280"/>
            <a:ext cx="1368360" cy="107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 flipH="1" flipV="1">
            <a:off x="2268360" y="2565000"/>
            <a:ext cx="4608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 flipV="1">
            <a:off x="1476000" y="5229000"/>
            <a:ext cx="48243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 flipH="1" flipV="1">
            <a:off x="5435280" y="3860280"/>
            <a:ext cx="865080" cy="172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7093080" y="2781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д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Жуки – щелкуны и их личинки – проволочники вредят культурным растениям, повреждая их подземные част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Picture 5" descr="Картинка 4 из 388"/>
          <p:cNvPicPr/>
          <p:nvPr/>
        </p:nvPicPr>
        <p:blipFill>
          <a:blip r:embed="rId2"/>
          <a:stretch/>
        </p:blipFill>
        <p:spPr>
          <a:xfrm>
            <a:off x="4572000" y="3514680"/>
            <a:ext cx="4371840" cy="30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3" name="Picture 7" descr="Картинка 9 из 388"/>
          <p:cNvPicPr/>
          <p:nvPr/>
        </p:nvPicPr>
        <p:blipFill>
          <a:blip r:embed="rId3"/>
          <a:stretch/>
        </p:blipFill>
        <p:spPr>
          <a:xfrm>
            <a:off x="250920" y="2060640"/>
            <a:ext cx="4624200" cy="360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738648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Личинки жуков – дровосеков, или усачей, - опасные вредители лес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6" name="Picture 5" descr="Картинка 5 из 382"/>
          <p:cNvPicPr/>
          <p:nvPr/>
        </p:nvPicPr>
        <p:blipFill>
          <a:blip r:embed="rId2"/>
          <a:stretch/>
        </p:blipFill>
        <p:spPr>
          <a:xfrm>
            <a:off x="250920" y="2205000"/>
            <a:ext cx="5715000" cy="4400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7" name="Picture 7" descr="Картинка 1 из 63"/>
          <p:cNvPicPr/>
          <p:nvPr/>
        </p:nvPicPr>
        <p:blipFill>
          <a:blip r:embed="rId3"/>
          <a:stretch/>
        </p:blipFill>
        <p:spPr>
          <a:xfrm>
            <a:off x="5135400" y="765000"/>
            <a:ext cx="4008600" cy="3005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78" name="Picture 9" descr="Картинка 37 из 63"/>
          <p:cNvPicPr/>
          <p:nvPr/>
        </p:nvPicPr>
        <p:blipFill>
          <a:blip r:embed="rId4"/>
          <a:stretch/>
        </p:blipFill>
        <p:spPr>
          <a:xfrm>
            <a:off x="6516720" y="3933720"/>
            <a:ext cx="1714320" cy="2867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738648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Calibri"/>
              </a:rPr>
              <a:t>Слоники, или долгоносики, также вредят садам, огородам и леса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5" descr="Картинка 4 из 322"/>
          <p:cNvPicPr/>
          <p:nvPr/>
        </p:nvPicPr>
        <p:blipFill>
          <a:blip r:embed="rId2"/>
          <a:stretch/>
        </p:blipFill>
        <p:spPr>
          <a:xfrm>
            <a:off x="179280" y="2736720"/>
            <a:ext cx="5329440" cy="388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82" name="Picture 7" descr="Картинка 7 из 322"/>
          <p:cNvPicPr/>
          <p:nvPr/>
        </p:nvPicPr>
        <p:blipFill>
          <a:blip r:embed="rId3"/>
          <a:stretch/>
        </p:blipFill>
        <p:spPr>
          <a:xfrm>
            <a:off x="4362480" y="1201680"/>
            <a:ext cx="4602240" cy="345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ложные фасеточные глаз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5" descr="Картинка 163 из 186"/>
          <p:cNvPicPr/>
          <p:nvPr/>
        </p:nvPicPr>
        <p:blipFill>
          <a:blip r:embed="rId1"/>
          <a:stretch/>
        </p:blipFill>
        <p:spPr>
          <a:xfrm>
            <a:off x="250920" y="1312920"/>
            <a:ext cx="705780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отовой аппарат грызущего тип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5" descr="Картинка 69 из 186"/>
          <p:cNvPicPr/>
          <p:nvPr/>
        </p:nvPicPr>
        <p:blipFill>
          <a:blip r:embed="rId1"/>
          <a:stretch/>
        </p:blipFill>
        <p:spPr>
          <a:xfrm>
            <a:off x="1476360" y="981000"/>
            <a:ext cx="5616720" cy="568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си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Picture 9" descr="59736828_1275335910_8212"/>
          <p:cNvPicPr/>
          <p:nvPr/>
        </p:nvPicPr>
        <p:blipFill>
          <a:blip r:embed="rId1"/>
          <a:stretch/>
        </p:blipFill>
        <p:spPr>
          <a:xfrm>
            <a:off x="179280" y="1057320"/>
            <a:ext cx="8280360" cy="5524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Развитие с полным превращением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2" name="Picture 6" descr="PM3_32"/>
          <p:cNvPicPr/>
          <p:nvPr/>
        </p:nvPicPr>
        <p:blipFill>
          <a:blip r:embed="rId1"/>
          <a:stretch/>
        </p:blipFill>
        <p:spPr>
          <a:xfrm>
            <a:off x="1763640" y="1628640"/>
            <a:ext cx="4664160" cy="5021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чин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5" name="Picture 5" descr="Картинка 11 из 186"/>
          <p:cNvPicPr/>
          <p:nvPr/>
        </p:nvPicPr>
        <p:blipFill>
          <a:blip r:embed="rId1"/>
          <a:stretch/>
        </p:blipFill>
        <p:spPr>
          <a:xfrm>
            <a:off x="179280" y="1654200"/>
            <a:ext cx="7272360" cy="503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1640" y="259920"/>
            <a:ext cx="348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уколка жу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8" name="Picture 5" descr="Картинка 5 из 186"/>
          <p:cNvPicPr/>
          <p:nvPr/>
        </p:nvPicPr>
        <p:blipFill>
          <a:blip r:embed="rId1"/>
          <a:stretch/>
        </p:blipFill>
        <p:spPr>
          <a:xfrm>
            <a:off x="324000" y="260280"/>
            <a:ext cx="4321080" cy="62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58197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маг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1" name="Picture 5" descr="Картинка 25 из 64000"/>
          <p:cNvPicPr/>
          <p:nvPr/>
        </p:nvPicPr>
        <p:blipFill>
          <a:blip r:embed="rId1"/>
          <a:stretch/>
        </p:blipFill>
        <p:spPr>
          <a:xfrm>
            <a:off x="250920" y="861840"/>
            <a:ext cx="8497800" cy="573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4:27:40Z</dcterms:created>
  <dc:creator>Бочкова И.А.</dc:creator>
  <dc:description/>
  <dc:language>en-US</dc:language>
  <cp:lastModifiedBy>LEGION</cp:lastModifiedBy>
  <dcterms:modified xsi:type="dcterms:W3CDTF">2014-11-25T11:08:11Z</dcterms:modified>
  <cp:revision>8</cp:revision>
  <dc:subject/>
  <dc:title>Отряд Жуки или Жесткокрылые</dc:title>
</cp:coreProperties>
</file>