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1720-F2DB-4815-BB1D-266E238FCD2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Жуки или Жесткокрыл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биологии и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чкова Ирин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8672-1954-48AC-92CC-73960B03235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жу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ую пользу человеку в борьбе с вредителями садов и огородов приносят хищные жуки, например, жужелицы. Жуки – красотелы помогают в борьбе с непарным шелкоп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E3A6-2369-42ED-B9BC-AC201DCD1BE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могильщики и трупоеды закапывают мёртвых мелких животных и, питаясь разложившимися останками, способствуют очищению почвы от трупов, накоплению перегноя в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E912-7BB3-449B-8EB1-B875E06776C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навозники и скарабеи выполняют функцию санитаров, зарывая навоз в поч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86D9-9BA7-4906-91C1-D95769E8BD6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жуку-навознику в Лондоне.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-навозник признан самым сильным насекомым на план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того чтобы измерить, какой груз сможет поднять жук, ученые приклеили к его надкрыльям нить и перекинули его через блок. К концу нити они прикрепили небольшое ведерко, в которое по каплям добавляли воду. По итогам эксперимента было установлено, что навозник способен поднимать груз, масса которого эквивалентна 1141 массе тела ж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примеру, для человека это равноценно подъему большегрузного тягача с прицепом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0669-711F-4091-9A45-5BDD0FDD703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рабей. Священный жук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людая за поведением жука скарабея египтяне заметили, что он обрабатывает вязкую массу навоза, настойчиво и упорно перекатывая ее перед собой так, что она постепенно превращается в совершенный круглый шарик - сферу, в которую потом скарабей откладывает яй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вившиеся личинки питаются навозом, из которого сделаны ша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пив навозный шарик, жук катит его с востока на запад и, вырыв норку, прячет его в ней на 28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29-й день он отрывает шарик, бросает в воду, и из него появляются детены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4400-BDC1-47BB-89EA-DB164127C3C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жьи коровки приносят большую пользу хозяйству человека, уничтожая и во взрослом , и в личиночном состояниях вредителей растений: тлю, червец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1765-0CFC-4AA5-AFEE-87D9354B1CB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дят рыболовству жуки – плавунцы: они и их личинки нападают на мальков ры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4355-A236-4EA8-873E-2166BEE8DB5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йские жуки, или хрущи, вредят огородным, почвенным и лесным растениям, объедая их кор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7752-FC69-4AA1-8B35-167ACFD76DA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лебные жуки, или кузьки, повреждают зёрна злаков: ржи, ячменя, пше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7CCA-0BCD-448B-96E0-FD8E5343979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бронзовки объедают цветки различных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B724-3850-43F3-93AE-B2C81A0F150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щелкуны и их личинки – проволочники вредят культурным растениям, повреждая их подземные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636E-5209-41F5-9BD6-BAAE93F7BDB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инки жуков – дровосеков, или усачей, - опасные вредители л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B92D-7554-49C0-B233-7C9D252719B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ники, или долгоносики, также вредят садам, огородам и ле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F8C2-95D5-4FEC-B587-98035F650B8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е фасеточные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F9FD-2358-446D-AC3B-4649EAD866D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ой аппарат грызущего 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5D28-7B0B-4495-8344-F7802DB5E50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3D74-9CD1-4401-B70D-292EBB53A86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 полным превращ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E149-2FC5-4A7F-83EA-FA7E906049A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 ж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EB95-27CE-46F7-8AE8-BAC0AA8F1C5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олка ж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9B9F-437F-4ACA-8065-CE7AB17DDC6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а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E9D1-EFCF-4AD5-9F3E-14B79824A9B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BE8-BA21-4084-A8AD-E3B21EFA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610-FF23-4D23-8129-EC66E373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CD7-22E0-4C26-8D8C-71A08B60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2A9-DBD1-4032-8BFB-611E171B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B4A6-D449-4843-94F1-3BFB6920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8414-DBEA-4402-9713-41FA38AE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260B-E7E6-4E7D-A971-54F0825C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CEED-B233-4B85-B467-BECD7B31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4ED6-078C-4A8C-9A4B-5A86B7D3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DD41-61E4-4545-9C96-3EC9E5C8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3BC3-76F5-4E87-ACB5-42C3670C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C40-01F4-4896-AC01-F8000DCC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B51A-8850-475B-BD43-76AA0DE8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496C-7396-4BBB-BF37-35A47BCA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50F1-46E7-4CB9-92CA-D5A38F5C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71FA-8B26-4E73-A32C-5BF79437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E876-D9E9-4E57-8C66-E3C8EFD6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A30-78A0-4F55-98ED-107364D3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ACF-2737-4707-BE3E-375204B5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399-449A-4759-A3EF-650C0490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7FC-969B-4E8F-8E3A-8E6C1B12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FE6-04D7-4392-A1C1-D36C5560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8C5-0B8B-4A5F-94C7-3F3001D5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AE3-36D8-4078-95FE-03B1B6A8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1F83-0B4E-46E8-ADD0-D31C35E6A5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B7F7-38F0-43AD-9B74-19C4F3E478D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0560" y="836280"/>
            <a:ext cx="41403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ряд Жуки или Жесткокрылы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9280" y="4869000"/>
            <a:ext cx="306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оставила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учитель биологии и хим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ысшей квалификационной категор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Бочкова Ирина Анатольев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39640" y="189000"/>
            <a:ext cx="67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5524560" cy="4143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4352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чение жук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770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Большую пользу человеку в борьбе с вредителями садов и огородов приносят хищные жуки, например, жужелицы. Жуки – красотелы помогают в борьбе с непарным шелкопряд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300px-Carabus_auratus_with_prey"/>
          <p:cNvPicPr/>
          <p:nvPr/>
        </p:nvPicPr>
        <p:blipFill>
          <a:blip r:embed="rId2"/>
          <a:stretch/>
        </p:blipFill>
        <p:spPr>
          <a:xfrm>
            <a:off x="324000" y="3112920"/>
            <a:ext cx="4535280" cy="338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36" name="Picture 7" descr="2942"/>
          <p:cNvPicPr/>
          <p:nvPr/>
        </p:nvPicPr>
        <p:blipFill>
          <a:blip r:embed="rId3"/>
          <a:stretch/>
        </p:blipFill>
        <p:spPr>
          <a:xfrm>
            <a:off x="4356000" y="3789360"/>
            <a:ext cx="4176720" cy="2422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могильщики и трупоеды закапывают мёртвых мелких животных и, питаясь разложившимися останками, способствуют очищению почвы от трупов, накоплению перегноя в н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Picture 5" descr="17806"/>
          <p:cNvPicPr/>
          <p:nvPr/>
        </p:nvPicPr>
        <p:blipFill>
          <a:blip r:embed="rId2"/>
          <a:stretch/>
        </p:blipFill>
        <p:spPr>
          <a:xfrm>
            <a:off x="3995640" y="3213000"/>
            <a:ext cx="4969080" cy="3359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40" name="Picture 9" descr="amer"/>
          <p:cNvPicPr/>
          <p:nvPr/>
        </p:nvPicPr>
        <p:blipFill>
          <a:blip r:embed="rId3"/>
          <a:stretch/>
        </p:blipFill>
        <p:spPr>
          <a:xfrm>
            <a:off x="250920" y="2421000"/>
            <a:ext cx="472572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3868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навозники и скарабеи выполняют функцию санитаров, зарывая навоз в почв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5" descr="09d4c333a0606a246ea978198b7f9292"/>
          <p:cNvPicPr/>
          <p:nvPr/>
        </p:nvPicPr>
        <p:blipFill>
          <a:blip r:embed="rId2"/>
          <a:stretch/>
        </p:blipFill>
        <p:spPr>
          <a:xfrm>
            <a:off x="250920" y="1557360"/>
            <a:ext cx="4889520" cy="3521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44" name="Picture 7" descr="Священный жук скарабей скачать заставки, обои на рабочий стол"/>
          <p:cNvPicPr/>
          <p:nvPr/>
        </p:nvPicPr>
        <p:blipFill>
          <a:blip r:embed="rId3"/>
          <a:stretch/>
        </p:blipFill>
        <p:spPr>
          <a:xfrm>
            <a:off x="4572000" y="3933720"/>
            <a:ext cx="4368960" cy="2730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115920"/>
            <a:ext cx="7476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амятник жуку-навознику в Лондоне. 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052640"/>
            <a:ext cx="5821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Жук-навозник признан самым сильным насекомым на планет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Для того чтобы измерить, какой груз сможет поднять жук, ученые приклеили к его надкрыльям нить и перекинули его через блок. К концу нити они прикрепили небольшое ведерко, в которое по каплям добавляли воду. По итогам эксперимента было установлено, что навозник способен поднимать груз, масса которого эквивалентна 1141 массе тела жу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 примеру, для человека это равноценно подъему большегрузного тягача с прицепом. 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5" descr="Памятник жуку-навознику в Лондоне. Фото с сайта fotki.yandex.ru"/>
          <p:cNvPicPr/>
          <p:nvPr/>
        </p:nvPicPr>
        <p:blipFill>
          <a:blip r:embed="rId4"/>
          <a:stretch/>
        </p:blipFill>
        <p:spPr>
          <a:xfrm>
            <a:off x="5938920" y="4419720"/>
            <a:ext cx="3097080" cy="232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Скарабей. Священный жук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560" y="620280"/>
            <a:ext cx="5329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блюдая за поведением жука скарабея египтяне заметили, что он обрабатывает вязкую массу навоза, настойчиво и упорно перекатывая ее перед собой так, что она постепенно превращается в совершенный круглый шарик - сферу, в которую потом скарабей откладывает яй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явившиеся личинки питаются навозом, из которого сделаны шарик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лепив навозный шарик, жук катит его с востока на запад и, вырыв норку, прячет его в ней на 28 дне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 29-й день он отрывает шарик, бросает в воду, и из него появляются детеныш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5" descr="scarabaeus_2_londonzoo_400"/>
          <p:cNvPicPr/>
          <p:nvPr/>
        </p:nvPicPr>
        <p:blipFill>
          <a:blip r:embed="rId5"/>
          <a:stretch/>
        </p:blipFill>
        <p:spPr>
          <a:xfrm>
            <a:off x="5219640" y="4292640"/>
            <a:ext cx="3810240" cy="2352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Божьи коровки приносят большую пользу хозяйству человека, уничтожая и во взрослом , и в личиночном состояниях вредителей растений: тлю, червеца и т.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5" descr="ladybird"/>
          <p:cNvPicPr/>
          <p:nvPr/>
        </p:nvPicPr>
        <p:blipFill>
          <a:blip r:embed="rId2"/>
          <a:stretch/>
        </p:blipFill>
        <p:spPr>
          <a:xfrm>
            <a:off x="684360" y="2205000"/>
            <a:ext cx="6697440" cy="4491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38648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Вредят рыболовству жуки – плавунцы: они и их личинки нападают на мальков рыб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4 из 596"/>
          <p:cNvPicPr/>
          <p:nvPr/>
        </p:nvPicPr>
        <p:blipFill>
          <a:blip r:embed="rId2"/>
          <a:stretch/>
        </p:blipFill>
        <p:spPr>
          <a:xfrm>
            <a:off x="324000" y="1228680"/>
            <a:ext cx="7127640" cy="539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4560" y="188640"/>
            <a:ext cx="7921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Майские жуки, или хрущи, вредят огородным, почвенным и лесным растениям, объедая их кор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5" descr="Картинка 5 из 13288"/>
          <p:cNvPicPr/>
          <p:nvPr/>
        </p:nvPicPr>
        <p:blipFill>
          <a:blip r:embed="rId2"/>
          <a:stretch/>
        </p:blipFill>
        <p:spPr>
          <a:xfrm>
            <a:off x="539640" y="1620720"/>
            <a:ext cx="6828120" cy="5121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5160" y="155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Хлебные жуки, или кузьки, повреждают зёрна злаков: ржи, ячменя, пшениц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4" name="Picture 5" descr="0_3e52b_8489b996_L"/>
          <p:cNvPicPr/>
          <p:nvPr/>
        </p:nvPicPr>
        <p:blipFill>
          <a:blip r:embed="rId2"/>
          <a:stretch/>
        </p:blipFill>
        <p:spPr>
          <a:xfrm>
            <a:off x="250920" y="1125360"/>
            <a:ext cx="4500360" cy="5410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5" name="Picture 7" descr="Картинка 6 из 33"/>
          <p:cNvPicPr/>
          <p:nvPr/>
        </p:nvPicPr>
        <p:blipFill>
          <a:blip r:embed="rId3"/>
          <a:stretch/>
        </p:blipFill>
        <p:spPr>
          <a:xfrm>
            <a:off x="4224240" y="3186000"/>
            <a:ext cx="4740480" cy="3556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738648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бронзовки объедают цветки различных расте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8" name="Picture 5" descr="Картинка 9 из 1109"/>
          <p:cNvPicPr/>
          <p:nvPr/>
        </p:nvPicPr>
        <p:blipFill>
          <a:blip r:embed="rId2"/>
          <a:stretch/>
        </p:blipFill>
        <p:spPr>
          <a:xfrm>
            <a:off x="324000" y="1263600"/>
            <a:ext cx="5400360" cy="537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9" name="Picture 7" descr="Картинка 14 из 1109"/>
          <p:cNvPicPr/>
          <p:nvPr/>
        </p:nvPicPr>
        <p:blipFill>
          <a:blip r:embed="rId3"/>
          <a:stretch/>
        </p:blipFill>
        <p:spPr>
          <a:xfrm>
            <a:off x="4859280" y="1844640"/>
            <a:ext cx="4097520" cy="409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Maybug"/>
          <p:cNvPicPr/>
          <p:nvPr/>
        </p:nvPicPr>
        <p:blipFill>
          <a:blip r:embed="rId1"/>
          <a:stretch/>
        </p:blipFill>
        <p:spPr>
          <a:xfrm>
            <a:off x="179280" y="434880"/>
            <a:ext cx="7705800" cy="6242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5" name="Line 7"/>
          <p:cNvSpPr/>
          <p:nvPr/>
        </p:nvSpPr>
        <p:spPr>
          <a:xfrm flipH="1" flipV="1">
            <a:off x="5508360" y="1844280"/>
            <a:ext cx="1368360" cy="107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 flipH="1" flipV="1">
            <a:off x="2268360" y="2565000"/>
            <a:ext cx="460872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 flipV="1">
            <a:off x="1476000" y="5229000"/>
            <a:ext cx="48243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 flipH="1" flipV="1">
            <a:off x="5435280" y="3860280"/>
            <a:ext cx="865080" cy="172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7093080" y="2781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дкрыл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386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щелкуны и их личинки – проволочники вредят культурным растениям, повреждая их подземные ча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2" name="Picture 5" descr="Картинка 4 из 388"/>
          <p:cNvPicPr/>
          <p:nvPr/>
        </p:nvPicPr>
        <p:blipFill>
          <a:blip r:embed="rId2"/>
          <a:stretch/>
        </p:blipFill>
        <p:spPr>
          <a:xfrm>
            <a:off x="4572000" y="3514680"/>
            <a:ext cx="4371840" cy="30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3" name="Picture 7" descr="Картинка 9 из 388"/>
          <p:cNvPicPr/>
          <p:nvPr/>
        </p:nvPicPr>
        <p:blipFill>
          <a:blip r:embed="rId3"/>
          <a:stretch/>
        </p:blipFill>
        <p:spPr>
          <a:xfrm>
            <a:off x="250920" y="2060640"/>
            <a:ext cx="4624200" cy="360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Личинки жуков – дровосеков, или усачей, - опасные вредители лес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6" name="Picture 5" descr="Картинка 5 из 382"/>
          <p:cNvPicPr/>
          <p:nvPr/>
        </p:nvPicPr>
        <p:blipFill>
          <a:blip r:embed="rId2"/>
          <a:stretch/>
        </p:blipFill>
        <p:spPr>
          <a:xfrm>
            <a:off x="250920" y="2205000"/>
            <a:ext cx="5715000" cy="4400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7" name="Picture 7" descr="Картинка 1 из 63"/>
          <p:cNvPicPr/>
          <p:nvPr/>
        </p:nvPicPr>
        <p:blipFill>
          <a:blip r:embed="rId3"/>
          <a:stretch/>
        </p:blipFill>
        <p:spPr>
          <a:xfrm>
            <a:off x="5135400" y="765000"/>
            <a:ext cx="4008600" cy="300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8" name="Picture 9" descr="Картинка 37 из 63"/>
          <p:cNvPicPr/>
          <p:nvPr/>
        </p:nvPicPr>
        <p:blipFill>
          <a:blip r:embed="rId4"/>
          <a:stretch/>
        </p:blipFill>
        <p:spPr>
          <a:xfrm>
            <a:off x="6516720" y="3933720"/>
            <a:ext cx="1714320" cy="2867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38648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Слоники, или долгоносики, также вредят садам, огородам и лес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1" name="Picture 5" descr="Картинка 4 из 322"/>
          <p:cNvPicPr/>
          <p:nvPr/>
        </p:nvPicPr>
        <p:blipFill>
          <a:blip r:embed="rId2"/>
          <a:stretch/>
        </p:blipFill>
        <p:spPr>
          <a:xfrm>
            <a:off x="179280" y="2736720"/>
            <a:ext cx="5329440" cy="388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82" name="Picture 7" descr="Картинка 7 из 322"/>
          <p:cNvPicPr/>
          <p:nvPr/>
        </p:nvPicPr>
        <p:blipFill>
          <a:blip r:embed="rId3"/>
          <a:stretch/>
        </p:blipFill>
        <p:spPr>
          <a:xfrm>
            <a:off x="4362480" y="1201680"/>
            <a:ext cx="4602240" cy="345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ложные фасеточные глаз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5" descr="Картинка 163 из 186"/>
          <p:cNvPicPr/>
          <p:nvPr/>
        </p:nvPicPr>
        <p:blipFill>
          <a:blip r:embed="rId1"/>
          <a:stretch/>
        </p:blipFill>
        <p:spPr>
          <a:xfrm>
            <a:off x="250920" y="1312920"/>
            <a:ext cx="7057800" cy="525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отовой аппарат грызущего тип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Picture 5" descr="Картинка 69 из 186"/>
          <p:cNvPicPr/>
          <p:nvPr/>
        </p:nvPicPr>
        <p:blipFill>
          <a:blip r:embed="rId1"/>
          <a:stretch/>
        </p:blipFill>
        <p:spPr>
          <a:xfrm>
            <a:off x="1476360" y="981000"/>
            <a:ext cx="5616720" cy="568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си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9" descr="59736828_1275335910_8212"/>
          <p:cNvPicPr/>
          <p:nvPr/>
        </p:nvPicPr>
        <p:blipFill>
          <a:blip r:embed="rId1"/>
          <a:stretch/>
        </p:blipFill>
        <p:spPr>
          <a:xfrm>
            <a:off x="179280" y="1057320"/>
            <a:ext cx="8280360" cy="5524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азвитие с полным превращением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Picture 6" descr="PM3_32"/>
          <p:cNvPicPr/>
          <p:nvPr/>
        </p:nvPicPr>
        <p:blipFill>
          <a:blip r:embed="rId1"/>
          <a:stretch/>
        </p:blipFill>
        <p:spPr>
          <a:xfrm>
            <a:off x="1763640" y="1628640"/>
            <a:ext cx="4664160" cy="5021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ичинка жу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Picture 5" descr="Картинка 11 из 186"/>
          <p:cNvPicPr/>
          <p:nvPr/>
        </p:nvPicPr>
        <p:blipFill>
          <a:blip r:embed="rId1"/>
          <a:stretch/>
        </p:blipFill>
        <p:spPr>
          <a:xfrm>
            <a:off x="179280" y="1654200"/>
            <a:ext cx="7272360" cy="5035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1640" y="259920"/>
            <a:ext cx="348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уколка жу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Picture 5" descr="Картинка 5 из 186"/>
          <p:cNvPicPr/>
          <p:nvPr/>
        </p:nvPicPr>
        <p:blipFill>
          <a:blip r:embed="rId1"/>
          <a:stretch/>
        </p:blipFill>
        <p:spPr>
          <a:xfrm>
            <a:off x="324000" y="260280"/>
            <a:ext cx="4321080" cy="629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1976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маг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1" name="Picture 5" descr="Картинка 25 из 64000"/>
          <p:cNvPicPr/>
          <p:nvPr/>
        </p:nvPicPr>
        <p:blipFill>
          <a:blip r:embed="rId1"/>
          <a:stretch/>
        </p:blipFill>
        <p:spPr>
          <a:xfrm>
            <a:off x="250920" y="861840"/>
            <a:ext cx="8497800" cy="5735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27:40Z</dcterms:created>
  <dc:creator>Бочкова И.А.</dc:creator>
  <dc:description/>
  <dc:language>en-US</dc:language>
  <cp:lastModifiedBy>LEGION</cp:lastModifiedBy>
  <dcterms:modified xsi:type="dcterms:W3CDTF">2014-11-25T11:08:11Z</dcterms:modified>
  <cp:revision>8</cp:revision>
  <dc:subject/>
  <dc:title>Отряд Жуки или Жесткокрылые</dc:title>
</cp:coreProperties>
</file>