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46BD-6408-4DC5-9F63-F5E5E68F5D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Жуки или Жесткокры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C6E2-F6E6-466F-B622-256BF2D6708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4AD1-A0FE-4061-A2FC-6A87BEB9805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F372-8F64-42BB-A1B3-BB425100654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445C-914C-413B-9FCC-08B61A790AA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жуку-навознику в Лондоне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-навозник признан самым сильным насекомым на пла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римеру, для человека это равноценно подъему большегрузного тягача с прицепом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5F5D-06E9-4AB1-A8EE-AE82A649213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рабей. Священный жук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вившиеся личинки питаются навозом, из которого сделаны ша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29-й день он отрывает шарик, бросает в воду, и из него появляются детены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40AE-F195-448E-854C-96287FE0613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9CF4-8E0B-4D1D-BA14-9FBE967AA56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8148-3B4C-42D6-9360-A43A845E696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538C-6FA1-4359-A1DD-7400637B7A2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DA95-59EA-43C9-8116-FAE7091122E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6889-3BDF-4B43-A8F9-E98EA0EB350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3AE4-9944-4F5C-BB97-7866127FCB1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17F7-0445-439E-B3C8-E5519CD5001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B4E7-81E3-471D-A680-A3AFDFF22E3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фасеточные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6AA6-0EC1-4495-B0FF-E0D57870EA7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грыз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B36A-12F2-4364-AD69-FC2B6441B7A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9BFE-8E79-4A98-B35F-EA63321C08F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 полным превращ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7203-AD0F-49F2-BA07-ED15B0C06F6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A6FC-1AA8-4F7F-B6C2-1C1C05D66D5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ол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7194-5B25-4B12-A422-3B7E80BD91A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а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390C-42E7-49D6-A343-4AC16185AC9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B22-0700-4418-ADF1-3DDF2E42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AB1-BACE-4BAB-89B4-8150A34C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563-1136-4E0C-B438-5076C00B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CA9-5125-4022-9AD4-9DF7E402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3FB4-0BDB-4B89-B26D-A7C08909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86E0-7E38-4A47-8676-5CF6B0BB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DDA3-75EE-4C04-BB6C-57CD0121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0FD8-AC35-4263-AAE9-E1A04479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1798-194A-486B-AE5D-C84A1D81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2BAC-8B12-4266-AFCE-B41D6DCF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6D9E-A8B2-4774-ABFE-8988D315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E2F-EF8F-49E1-9355-F6640DE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1DFD-5EE5-442F-8D09-3614D6C2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9BF7-B83E-4BD0-86C5-D0E1B6A8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E4CA-EB6F-49D1-AA3F-B603C543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A48B-62E0-4DC1-A6F1-0DFC6D25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05C-B243-45D4-83A9-1AA766DD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4ED-0B03-4B91-9453-7A220695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08D-AD00-47CB-B9F5-361558E5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067-292A-423F-9168-B36CB555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E7C-9F4E-43C9-AB9C-50F2B763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932-4D84-474E-8FFE-248F4597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17B-B15C-427E-BE82-1475FF9C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5FA-949C-43F5-8804-898820E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F9AC-8F13-4A25-A868-C9CEF5D4EE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9241-8527-42B2-85F3-87E391797CA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4140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Жуки или Жесткокрыл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9280" y="4869000"/>
            <a:ext cx="30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39640" y="18900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524560" cy="41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4352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жу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770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300px-Carabus_auratus_with_prey"/>
          <p:cNvPicPr/>
          <p:nvPr/>
        </p:nvPicPr>
        <p:blipFill>
          <a:blip r:embed="rId2"/>
          <a:stretch/>
        </p:blipFill>
        <p:spPr>
          <a:xfrm>
            <a:off x="324000" y="3112920"/>
            <a:ext cx="453528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6" name="Picture 7" descr="2942"/>
          <p:cNvPicPr/>
          <p:nvPr/>
        </p:nvPicPr>
        <p:blipFill>
          <a:blip r:embed="rId3"/>
          <a:stretch/>
        </p:blipFill>
        <p:spPr>
          <a:xfrm>
            <a:off x="4356000" y="3789360"/>
            <a:ext cx="4176720" cy="242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5" descr="17806"/>
          <p:cNvPicPr/>
          <p:nvPr/>
        </p:nvPicPr>
        <p:blipFill>
          <a:blip r:embed="rId2"/>
          <a:stretch/>
        </p:blipFill>
        <p:spPr>
          <a:xfrm>
            <a:off x="3995640" y="3213000"/>
            <a:ext cx="4969080" cy="335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0" name="Picture 9" descr="amer"/>
          <p:cNvPicPr/>
          <p:nvPr/>
        </p:nvPicPr>
        <p:blipFill>
          <a:blip r:embed="rId3"/>
          <a:stretch/>
        </p:blipFill>
        <p:spPr>
          <a:xfrm>
            <a:off x="250920" y="2421000"/>
            <a:ext cx="472572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5" descr="09d4c333a0606a246ea978198b7f9292"/>
          <p:cNvPicPr/>
          <p:nvPr/>
        </p:nvPicPr>
        <p:blipFill>
          <a:blip r:embed="rId2"/>
          <a:stretch/>
        </p:blipFill>
        <p:spPr>
          <a:xfrm>
            <a:off x="250920" y="1557360"/>
            <a:ext cx="4889520" cy="352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4" name="Picture 7" descr="Священный жук скарабей скачать заставки, обои на рабочий стол"/>
          <p:cNvPicPr/>
          <p:nvPr/>
        </p:nvPicPr>
        <p:blipFill>
          <a:blip r:embed="rId3"/>
          <a:stretch/>
        </p:blipFill>
        <p:spPr>
          <a:xfrm>
            <a:off x="4572000" y="3933720"/>
            <a:ext cx="4368960" cy="273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амятник жуку-навознику в Лондоне. 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052640"/>
            <a:ext cx="5821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Жук-навозник признан самым сильным насекомым на плане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примеру, для человека это равноценно подъему большегрузного тягача с прицепом. 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" descr="Памятник жуку-навознику в Лондоне. Фото с сайта fotki.yandex.ru"/>
          <p:cNvPicPr/>
          <p:nvPr/>
        </p:nvPicPr>
        <p:blipFill>
          <a:blip r:embed="rId4"/>
          <a:stretch/>
        </p:blipFill>
        <p:spPr>
          <a:xfrm>
            <a:off x="5938920" y="4419720"/>
            <a:ext cx="3097080" cy="232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карабей. Священный жук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560" y="620280"/>
            <a:ext cx="532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явившиеся личинки питаются навозом, из которого сделаны шари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 29-й день он отрывает шарик, бросает в воду, и из него появляются детеныш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5" descr="scarabaeus_2_londonzoo_400"/>
          <p:cNvPicPr/>
          <p:nvPr/>
        </p:nvPicPr>
        <p:blipFill>
          <a:blip r:embed="rId5"/>
          <a:stretch/>
        </p:blipFill>
        <p:spPr>
          <a:xfrm>
            <a:off x="5219640" y="4292640"/>
            <a:ext cx="3810240" cy="23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5" descr="ladybird"/>
          <p:cNvPicPr/>
          <p:nvPr/>
        </p:nvPicPr>
        <p:blipFill>
          <a:blip r:embed="rId2"/>
          <a:stretch/>
        </p:blipFill>
        <p:spPr>
          <a:xfrm>
            <a:off x="684360" y="2205000"/>
            <a:ext cx="6697440" cy="4491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38648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4 из 596"/>
          <p:cNvPicPr/>
          <p:nvPr/>
        </p:nvPicPr>
        <p:blipFill>
          <a:blip r:embed="rId2"/>
          <a:stretch/>
        </p:blipFill>
        <p:spPr>
          <a:xfrm>
            <a:off x="324000" y="1228680"/>
            <a:ext cx="7127640" cy="539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560" y="18864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5" descr="Картинка 5 из 13288"/>
          <p:cNvPicPr/>
          <p:nvPr/>
        </p:nvPicPr>
        <p:blipFill>
          <a:blip r:embed="rId2"/>
          <a:stretch/>
        </p:blipFill>
        <p:spPr>
          <a:xfrm>
            <a:off x="539640" y="1620720"/>
            <a:ext cx="6828120" cy="512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5160" y="155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5" descr="0_3e52b_8489b996_L"/>
          <p:cNvPicPr/>
          <p:nvPr/>
        </p:nvPicPr>
        <p:blipFill>
          <a:blip r:embed="rId2"/>
          <a:stretch/>
        </p:blipFill>
        <p:spPr>
          <a:xfrm>
            <a:off x="250920" y="1125360"/>
            <a:ext cx="4500360" cy="5410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5" name="Picture 7" descr="Картинка 6 из 33"/>
          <p:cNvPicPr/>
          <p:nvPr/>
        </p:nvPicPr>
        <p:blipFill>
          <a:blip r:embed="rId3"/>
          <a:stretch/>
        </p:blipFill>
        <p:spPr>
          <a:xfrm>
            <a:off x="4224240" y="3186000"/>
            <a:ext cx="4740480" cy="355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5" descr="Картинка 9 из 1109"/>
          <p:cNvPicPr/>
          <p:nvPr/>
        </p:nvPicPr>
        <p:blipFill>
          <a:blip r:embed="rId2"/>
          <a:stretch/>
        </p:blipFill>
        <p:spPr>
          <a:xfrm>
            <a:off x="324000" y="1263600"/>
            <a:ext cx="5400360" cy="537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9" name="Picture 7" descr="Картинка 14 из 1109"/>
          <p:cNvPicPr/>
          <p:nvPr/>
        </p:nvPicPr>
        <p:blipFill>
          <a:blip r:embed="rId3"/>
          <a:stretch/>
        </p:blipFill>
        <p:spPr>
          <a:xfrm>
            <a:off x="4859280" y="1844640"/>
            <a:ext cx="4097520" cy="409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Maybug"/>
          <p:cNvPicPr/>
          <p:nvPr/>
        </p:nvPicPr>
        <p:blipFill>
          <a:blip r:embed="rId1"/>
          <a:stretch/>
        </p:blipFill>
        <p:spPr>
          <a:xfrm>
            <a:off x="179280" y="434880"/>
            <a:ext cx="7705800" cy="62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5" name="Line 7"/>
          <p:cNvSpPr/>
          <p:nvPr/>
        </p:nvSpPr>
        <p:spPr>
          <a:xfrm flipH="1" flipV="1">
            <a:off x="5508360" y="1844280"/>
            <a:ext cx="1368360" cy="10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 flipV="1">
            <a:off x="2268360" y="2565000"/>
            <a:ext cx="4608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 flipV="1">
            <a:off x="1476000" y="5229000"/>
            <a:ext cx="4824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5435280" y="3860280"/>
            <a:ext cx="865080" cy="17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093080" y="2781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д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5" descr="Картинка 4 из 388"/>
          <p:cNvPicPr/>
          <p:nvPr/>
        </p:nvPicPr>
        <p:blipFill>
          <a:blip r:embed="rId2"/>
          <a:stretch/>
        </p:blipFill>
        <p:spPr>
          <a:xfrm>
            <a:off x="4572000" y="3514680"/>
            <a:ext cx="4371840" cy="30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3" name="Picture 7" descr="Картинка 9 из 388"/>
          <p:cNvPicPr/>
          <p:nvPr/>
        </p:nvPicPr>
        <p:blipFill>
          <a:blip r:embed="rId3"/>
          <a:stretch/>
        </p:blipFill>
        <p:spPr>
          <a:xfrm>
            <a:off x="250920" y="2060640"/>
            <a:ext cx="46242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5" descr="Картинка 5 из 382"/>
          <p:cNvPicPr/>
          <p:nvPr/>
        </p:nvPicPr>
        <p:blipFill>
          <a:blip r:embed="rId2"/>
          <a:stretch/>
        </p:blipFill>
        <p:spPr>
          <a:xfrm>
            <a:off x="250920" y="2205000"/>
            <a:ext cx="5715000" cy="440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7" name="Picture 7" descr="Картинка 1 из 63"/>
          <p:cNvPicPr/>
          <p:nvPr/>
        </p:nvPicPr>
        <p:blipFill>
          <a:blip r:embed="rId3"/>
          <a:stretch/>
        </p:blipFill>
        <p:spPr>
          <a:xfrm>
            <a:off x="5135400" y="765000"/>
            <a:ext cx="4008600" cy="30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8" name="Picture 9" descr="Картинка 37 из 63"/>
          <p:cNvPicPr/>
          <p:nvPr/>
        </p:nvPicPr>
        <p:blipFill>
          <a:blip r:embed="rId4"/>
          <a:stretch/>
        </p:blipFill>
        <p:spPr>
          <a:xfrm>
            <a:off x="6516720" y="3933720"/>
            <a:ext cx="1714320" cy="2867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5" descr="Картинка 4 из 322"/>
          <p:cNvPicPr/>
          <p:nvPr/>
        </p:nvPicPr>
        <p:blipFill>
          <a:blip r:embed="rId2"/>
          <a:stretch/>
        </p:blipFill>
        <p:spPr>
          <a:xfrm>
            <a:off x="179280" y="2736720"/>
            <a:ext cx="5329440" cy="388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82" name="Picture 7" descr="Картинка 7 из 322"/>
          <p:cNvPicPr/>
          <p:nvPr/>
        </p:nvPicPr>
        <p:blipFill>
          <a:blip r:embed="rId3"/>
          <a:stretch/>
        </p:blipFill>
        <p:spPr>
          <a:xfrm>
            <a:off x="4362480" y="1201680"/>
            <a:ext cx="4602240" cy="345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ложные фасеточные гла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5" descr="Картинка 163 из 186"/>
          <p:cNvPicPr/>
          <p:nvPr/>
        </p:nvPicPr>
        <p:blipFill>
          <a:blip r:embed="rId1"/>
          <a:stretch/>
        </p:blipFill>
        <p:spPr>
          <a:xfrm>
            <a:off x="250920" y="1312920"/>
            <a:ext cx="705780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грыз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5" descr="Картинка 69 из 186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68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с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9" descr="59736828_1275335910_8212"/>
          <p:cNvPicPr/>
          <p:nvPr/>
        </p:nvPicPr>
        <p:blipFill>
          <a:blip r:embed="rId1"/>
          <a:stretch/>
        </p:blipFill>
        <p:spPr>
          <a:xfrm>
            <a:off x="179280" y="1057320"/>
            <a:ext cx="8280360" cy="5524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звитие с полным превращение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6" descr="PM3_32"/>
          <p:cNvPicPr/>
          <p:nvPr/>
        </p:nvPicPr>
        <p:blipFill>
          <a:blip r:embed="rId1"/>
          <a:stretch/>
        </p:blipFill>
        <p:spPr>
          <a:xfrm>
            <a:off x="1763640" y="1628640"/>
            <a:ext cx="4664160" cy="502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чин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5" descr="Картинка 11 из 186"/>
          <p:cNvPicPr/>
          <p:nvPr/>
        </p:nvPicPr>
        <p:blipFill>
          <a:blip r:embed="rId1"/>
          <a:stretch/>
        </p:blipFill>
        <p:spPr>
          <a:xfrm>
            <a:off x="179280" y="1654200"/>
            <a:ext cx="7272360" cy="5035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1640" y="259920"/>
            <a:ext cx="34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5" descr="Картинка 5 из 186"/>
          <p:cNvPicPr/>
          <p:nvPr/>
        </p:nvPicPr>
        <p:blipFill>
          <a:blip r:embed="rId1"/>
          <a:stretch/>
        </p:blipFill>
        <p:spPr>
          <a:xfrm>
            <a:off x="324000" y="260280"/>
            <a:ext cx="4321080" cy="62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197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ма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5" descr="Картинка 25 из 64000"/>
          <p:cNvPicPr/>
          <p:nvPr/>
        </p:nvPicPr>
        <p:blipFill>
          <a:blip r:embed="rId1"/>
          <a:stretch/>
        </p:blipFill>
        <p:spPr>
          <a:xfrm>
            <a:off x="250920" y="861840"/>
            <a:ext cx="8497800" cy="573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7:40Z</dcterms:created>
  <dc:creator>Бочкова И.А.</dc:creator>
  <dc:description/>
  <dc:language>en-US</dc:language>
  <cp:lastModifiedBy>LEGION</cp:lastModifiedBy>
  <dcterms:modified xsi:type="dcterms:W3CDTF">2014-11-25T11:08:11Z</dcterms:modified>
  <cp:revision>8</cp:revision>
  <dc:subject/>
  <dc:title>Отряд Жуки или Жесткокрылые</dc:title>
</cp:coreProperties>
</file>