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7829-D24F-45CA-9449-46CEBEE6E2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Жуки или Жесткокрыл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биологии и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чкова Ирин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7168-5AE1-4F9F-BAD2-DB0F5F39B89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жу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ую пользу человеку в борьбе с вредителями садов и огородов приносят хищные жуки, например, жужелицы. Жуки – красотелы помогают в борьбе с непарным шелкоп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69A7-B96F-43DF-A27E-1B35F7E2A06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могильщики и трупоеды закапывают мёртвых мелких животных и, питаясь разложившимися останками, способствуют очищению почвы от трупов, накоплению перегноя в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F825-6B9F-42DD-B931-46BE8D6A3A0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навозники и скарабеи выполняют функцию санитаров, зарывая навоз в поч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1A3A-8502-48D0-8F35-DC1F72807BA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жуку-навознику в Лондоне.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-навозник признан самым сильным насекомым на план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того чтобы измерить, какой груз сможет поднять жук, ученые приклеили к его надкрыльям нить и перекинули его через блок. К концу нити они прикрепили небольшое ведерко, в которое по каплям добавляли воду. По итогам эксперимента было установлено, что навозник способен поднимать груз, масса которого эквивалентна 1141 массе тела ж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примеру, для человека это равноценно подъему большегрузного тягача с прицепом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B5A6-53A3-4592-92D5-0248300EA73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рабей. Священный жук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людая за поведением жука скарабея египтяне заметили, что он обрабатывает вязкую массу навоза, настойчиво и упорно перекатывая ее перед собой так, что она постепенно превращается в совершенный круглый шарик - сферу, в которую потом скарабей откладывает яй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вившиеся личинки питаются навозом, из которого сделаны ша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пив навозный шарик, жук катит его с востока на запад и, вырыв норку, прячет его в ней на 28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29-й день он отрывает шарик, бросает в воду, и из него появляются детены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BBE2-70E7-40DA-9B52-1A9CCB9A739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жьи коровки приносят большую пользу хозяйству человека, уничтожая и во взрослом , и в личиночном состояниях вредителей растений: тлю, червец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CF5F-DB6E-4C1A-83F3-6128227EB01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дят рыболовству жуки – плавунцы: они и их личинки нападают на мальков ры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9466-703A-473C-8195-75536FC9140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йские жуки, или хрущи, вредят огородным, почвенным и лесным растениям, объедая их кор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0EC1-ECCC-4166-ABEF-95B5B3470AD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лебные жуки, или кузьки, повреждают зёрна злаков: ржи, ячменя, пше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EA05-9952-4656-B9D7-4B2CCAA8DD7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бронзовки объедают цветки различных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5B64-D1CA-4EE3-8C40-C827BAE7B2E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щелкуны и их личинки – проволочники вредят культурным растениям, повреждая их подземные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A8B3-8695-45C4-8E99-67257A39F9A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инки жуков – дровосеков, или усачей, - опасные вредители л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7595-909E-444C-9533-69A49FE5AA4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ники, или долгоносики, также вредят садам, огородам и ле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0070-FC58-4E22-83CB-AB995B77549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е фасеточные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DC17-1A67-4AD6-8C35-1F1C704F2E9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ой аппарат грызущего 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0A9F-71B8-43CC-81BC-C8340DB7C9C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9DA6-0CFA-4044-9BD6-919FB345F36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 полным превращ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8E77-C2D5-4955-B147-33AD8047837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 ж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CEB5-2B94-4F36-8520-E13A2B1679A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олка ж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E234-1E0A-4B0C-84FF-1E6E7C94D03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а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3B58-7A27-4F1B-9146-6287D65A608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1F6-06AB-4C4C-A47E-3EF1D186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13A-336D-4776-AA50-66AC05F9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BCA-CA22-4845-B2B2-660CEAD4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3BA-3473-45C9-8F84-15FE9CB6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8EA8-A387-4D2E-81E0-73202A5A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40BB-3765-48CF-94CE-87D65B47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F898-3EE2-4973-AA8D-E3A0697A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C9D3-3B4B-4692-9DBF-44ECCDBA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A3E2-5EA9-4662-93FC-04601AF6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5FB3-AF57-4255-83F9-C5F6A8FB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D6B2-4735-433A-B2A0-D425C438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C99-16E9-4DAD-9E87-3FD0FE7D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6913-411F-46D3-BF4E-800D7B0F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56F5-83A9-4888-B114-84348499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AA7C-B9D9-49F4-AD9A-B00E2B13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DF5B-0346-48D4-BFBF-70250CD2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A311-8023-49C0-A6CB-FA45F1C4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205-F7E6-4DFA-A964-3CAD50E0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232-ED86-4B02-B114-D75743CB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E07-2B9F-4D56-B8CB-1BAC4943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1C5-0CB9-4116-890D-E9598C2A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0AB-4E3D-4218-8EEE-9C42AEFE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7F7-1DC1-41F3-85F7-EBA3504D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072-7444-45D6-8E3A-44A61BFD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0A03-224D-4481-85CE-8E49873EC8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FD8D-CF9F-4A91-9619-30F452908C4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0560" y="836280"/>
            <a:ext cx="41403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ряд Жуки или Жесткокрылы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9280" y="4869000"/>
            <a:ext cx="306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оставила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учитель биологии и хим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ысшей квалификационной категор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Бочкова Ирина Анатольев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39640" y="189000"/>
            <a:ext cx="67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5524560" cy="4143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4352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чение жук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770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Большую пользу человеку в борьбе с вредителями садов и огородов приносят хищные жуки, например, жужелицы. Жуки – красотелы помогают в борьбе с непарным шелкопряд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300px-Carabus_auratus_with_prey"/>
          <p:cNvPicPr/>
          <p:nvPr/>
        </p:nvPicPr>
        <p:blipFill>
          <a:blip r:embed="rId2"/>
          <a:stretch/>
        </p:blipFill>
        <p:spPr>
          <a:xfrm>
            <a:off x="324000" y="3112920"/>
            <a:ext cx="4535280" cy="338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36" name="Picture 7" descr="2942"/>
          <p:cNvPicPr/>
          <p:nvPr/>
        </p:nvPicPr>
        <p:blipFill>
          <a:blip r:embed="rId3"/>
          <a:stretch/>
        </p:blipFill>
        <p:spPr>
          <a:xfrm>
            <a:off x="4356000" y="3789360"/>
            <a:ext cx="4176720" cy="2422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могильщики и трупоеды закапывают мёртвых мелких животных и, питаясь разложившимися останками, способствуют очищению почвы от трупов, накоплению перегноя в н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Picture 5" descr="17806"/>
          <p:cNvPicPr/>
          <p:nvPr/>
        </p:nvPicPr>
        <p:blipFill>
          <a:blip r:embed="rId2"/>
          <a:stretch/>
        </p:blipFill>
        <p:spPr>
          <a:xfrm>
            <a:off x="3995640" y="3213000"/>
            <a:ext cx="4969080" cy="3359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40" name="Picture 9" descr="amer"/>
          <p:cNvPicPr/>
          <p:nvPr/>
        </p:nvPicPr>
        <p:blipFill>
          <a:blip r:embed="rId3"/>
          <a:stretch/>
        </p:blipFill>
        <p:spPr>
          <a:xfrm>
            <a:off x="250920" y="2421000"/>
            <a:ext cx="472572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3868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навозники и скарабеи выполняют функцию санитаров, зарывая навоз в почв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5" descr="09d4c333a0606a246ea978198b7f9292"/>
          <p:cNvPicPr/>
          <p:nvPr/>
        </p:nvPicPr>
        <p:blipFill>
          <a:blip r:embed="rId2"/>
          <a:stretch/>
        </p:blipFill>
        <p:spPr>
          <a:xfrm>
            <a:off x="250920" y="1557360"/>
            <a:ext cx="4889520" cy="3521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44" name="Picture 7" descr="Священный жук скарабей скачать заставки, обои на рабочий стол"/>
          <p:cNvPicPr/>
          <p:nvPr/>
        </p:nvPicPr>
        <p:blipFill>
          <a:blip r:embed="rId3"/>
          <a:stretch/>
        </p:blipFill>
        <p:spPr>
          <a:xfrm>
            <a:off x="4572000" y="3933720"/>
            <a:ext cx="4368960" cy="2730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115920"/>
            <a:ext cx="7476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амятник жуку-навознику в Лондоне. 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052640"/>
            <a:ext cx="5821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Жук-навозник признан самым сильным насекомым на планет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Для того чтобы измерить, какой груз сможет поднять жук, ученые приклеили к его надкрыльям нить и перекинули его через блок. К концу нити они прикрепили небольшое ведерко, в которое по каплям добавляли воду. По итогам эксперимента было установлено, что навозник способен поднимать груз, масса которого эквивалентна 1141 массе тела жу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 примеру, для человека это равноценно подъему большегрузного тягача с прицепом. 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5" descr="Памятник жуку-навознику в Лондоне. Фото с сайта fotki.yandex.ru"/>
          <p:cNvPicPr/>
          <p:nvPr/>
        </p:nvPicPr>
        <p:blipFill>
          <a:blip r:embed="rId4"/>
          <a:stretch/>
        </p:blipFill>
        <p:spPr>
          <a:xfrm>
            <a:off x="5938920" y="4419720"/>
            <a:ext cx="3097080" cy="232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Скарабей. Священный жук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560" y="620280"/>
            <a:ext cx="5329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блюдая за поведением жука скарабея египтяне заметили, что он обрабатывает вязкую массу навоза, настойчиво и упорно перекатывая ее перед собой так, что она постепенно превращается в совершенный круглый шарик - сферу, в которую потом скарабей откладывает яй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явившиеся личинки питаются навозом, из которого сделаны шарик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лепив навозный шарик, жук катит его с востока на запад и, вырыв норку, прячет его в ней на 28 дне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 29-й день он отрывает шарик, бросает в воду, и из него появляются детеныш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5" descr="scarabaeus_2_londonzoo_400"/>
          <p:cNvPicPr/>
          <p:nvPr/>
        </p:nvPicPr>
        <p:blipFill>
          <a:blip r:embed="rId5"/>
          <a:stretch/>
        </p:blipFill>
        <p:spPr>
          <a:xfrm>
            <a:off x="5219640" y="4292640"/>
            <a:ext cx="3810240" cy="2352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Божьи коровки приносят большую пользу хозяйству человека, уничтожая и во взрослом , и в личиночном состояниях вредителей растений: тлю, червеца и т.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5" descr="ladybird"/>
          <p:cNvPicPr/>
          <p:nvPr/>
        </p:nvPicPr>
        <p:blipFill>
          <a:blip r:embed="rId2"/>
          <a:stretch/>
        </p:blipFill>
        <p:spPr>
          <a:xfrm>
            <a:off x="684360" y="2205000"/>
            <a:ext cx="6697440" cy="4491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38648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Вредят рыболовству жуки – плавунцы: они и их личинки нападают на мальков рыб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4 из 596"/>
          <p:cNvPicPr/>
          <p:nvPr/>
        </p:nvPicPr>
        <p:blipFill>
          <a:blip r:embed="rId2"/>
          <a:stretch/>
        </p:blipFill>
        <p:spPr>
          <a:xfrm>
            <a:off x="324000" y="1228680"/>
            <a:ext cx="7127640" cy="539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4560" y="188640"/>
            <a:ext cx="7921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Майские жуки, или хрущи, вредят огородным, почвенным и лесным растениям, объедая их кор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5" descr="Картинка 5 из 13288"/>
          <p:cNvPicPr/>
          <p:nvPr/>
        </p:nvPicPr>
        <p:blipFill>
          <a:blip r:embed="rId2"/>
          <a:stretch/>
        </p:blipFill>
        <p:spPr>
          <a:xfrm>
            <a:off x="539640" y="1620720"/>
            <a:ext cx="6828120" cy="5121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5160" y="155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Хлебные жуки, или кузьки, повреждают зёрна злаков: ржи, ячменя, пшениц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4" name="Picture 5" descr="0_3e52b_8489b996_L"/>
          <p:cNvPicPr/>
          <p:nvPr/>
        </p:nvPicPr>
        <p:blipFill>
          <a:blip r:embed="rId2"/>
          <a:stretch/>
        </p:blipFill>
        <p:spPr>
          <a:xfrm>
            <a:off x="250920" y="1125360"/>
            <a:ext cx="4500360" cy="5410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5" name="Picture 7" descr="Картинка 6 из 33"/>
          <p:cNvPicPr/>
          <p:nvPr/>
        </p:nvPicPr>
        <p:blipFill>
          <a:blip r:embed="rId3"/>
          <a:stretch/>
        </p:blipFill>
        <p:spPr>
          <a:xfrm>
            <a:off x="4224240" y="3186000"/>
            <a:ext cx="4740480" cy="3556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738648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бронзовки объедают цветки различных расте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8" name="Picture 5" descr="Картинка 9 из 1109"/>
          <p:cNvPicPr/>
          <p:nvPr/>
        </p:nvPicPr>
        <p:blipFill>
          <a:blip r:embed="rId2"/>
          <a:stretch/>
        </p:blipFill>
        <p:spPr>
          <a:xfrm>
            <a:off x="324000" y="1263600"/>
            <a:ext cx="5400360" cy="537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9" name="Picture 7" descr="Картинка 14 из 1109"/>
          <p:cNvPicPr/>
          <p:nvPr/>
        </p:nvPicPr>
        <p:blipFill>
          <a:blip r:embed="rId3"/>
          <a:stretch/>
        </p:blipFill>
        <p:spPr>
          <a:xfrm>
            <a:off x="4859280" y="1844640"/>
            <a:ext cx="4097520" cy="409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Maybug"/>
          <p:cNvPicPr/>
          <p:nvPr/>
        </p:nvPicPr>
        <p:blipFill>
          <a:blip r:embed="rId1"/>
          <a:stretch/>
        </p:blipFill>
        <p:spPr>
          <a:xfrm>
            <a:off x="179280" y="434880"/>
            <a:ext cx="7705800" cy="6242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5" name="Line 7"/>
          <p:cNvSpPr/>
          <p:nvPr/>
        </p:nvSpPr>
        <p:spPr>
          <a:xfrm flipH="1" flipV="1">
            <a:off x="5508360" y="1844280"/>
            <a:ext cx="1368360" cy="107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 flipH="1" flipV="1">
            <a:off x="2268360" y="2565000"/>
            <a:ext cx="460872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 flipV="1">
            <a:off x="1476000" y="5229000"/>
            <a:ext cx="48243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 flipH="1" flipV="1">
            <a:off x="5435280" y="3860280"/>
            <a:ext cx="865080" cy="172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7093080" y="2781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дкрыл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386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щелкуны и их личинки – проволочники вредят культурным растениям, повреждая их подземные ча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2" name="Picture 5" descr="Картинка 4 из 388"/>
          <p:cNvPicPr/>
          <p:nvPr/>
        </p:nvPicPr>
        <p:blipFill>
          <a:blip r:embed="rId2"/>
          <a:stretch/>
        </p:blipFill>
        <p:spPr>
          <a:xfrm>
            <a:off x="4572000" y="3514680"/>
            <a:ext cx="4371840" cy="30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3" name="Picture 7" descr="Картинка 9 из 388"/>
          <p:cNvPicPr/>
          <p:nvPr/>
        </p:nvPicPr>
        <p:blipFill>
          <a:blip r:embed="rId3"/>
          <a:stretch/>
        </p:blipFill>
        <p:spPr>
          <a:xfrm>
            <a:off x="250920" y="2060640"/>
            <a:ext cx="4624200" cy="360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Личинки жуков – дровосеков, или усачей, - опасные вредители лес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6" name="Picture 5" descr="Картинка 5 из 382"/>
          <p:cNvPicPr/>
          <p:nvPr/>
        </p:nvPicPr>
        <p:blipFill>
          <a:blip r:embed="rId2"/>
          <a:stretch/>
        </p:blipFill>
        <p:spPr>
          <a:xfrm>
            <a:off x="250920" y="2205000"/>
            <a:ext cx="5715000" cy="4400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7" name="Picture 7" descr="Картинка 1 из 63"/>
          <p:cNvPicPr/>
          <p:nvPr/>
        </p:nvPicPr>
        <p:blipFill>
          <a:blip r:embed="rId3"/>
          <a:stretch/>
        </p:blipFill>
        <p:spPr>
          <a:xfrm>
            <a:off x="5135400" y="765000"/>
            <a:ext cx="4008600" cy="300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8" name="Picture 9" descr="Картинка 37 из 63"/>
          <p:cNvPicPr/>
          <p:nvPr/>
        </p:nvPicPr>
        <p:blipFill>
          <a:blip r:embed="rId4"/>
          <a:stretch/>
        </p:blipFill>
        <p:spPr>
          <a:xfrm>
            <a:off x="6516720" y="3933720"/>
            <a:ext cx="1714320" cy="2867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38648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Слоники, или долгоносики, также вредят садам, огородам и лес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1" name="Picture 5" descr="Картинка 4 из 322"/>
          <p:cNvPicPr/>
          <p:nvPr/>
        </p:nvPicPr>
        <p:blipFill>
          <a:blip r:embed="rId2"/>
          <a:stretch/>
        </p:blipFill>
        <p:spPr>
          <a:xfrm>
            <a:off x="179280" y="2736720"/>
            <a:ext cx="5329440" cy="388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82" name="Picture 7" descr="Картинка 7 из 322"/>
          <p:cNvPicPr/>
          <p:nvPr/>
        </p:nvPicPr>
        <p:blipFill>
          <a:blip r:embed="rId3"/>
          <a:stretch/>
        </p:blipFill>
        <p:spPr>
          <a:xfrm>
            <a:off x="4362480" y="1201680"/>
            <a:ext cx="4602240" cy="345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ложные фасеточные глаз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5" descr="Картинка 163 из 186"/>
          <p:cNvPicPr/>
          <p:nvPr/>
        </p:nvPicPr>
        <p:blipFill>
          <a:blip r:embed="rId1"/>
          <a:stretch/>
        </p:blipFill>
        <p:spPr>
          <a:xfrm>
            <a:off x="250920" y="1312920"/>
            <a:ext cx="7057800" cy="525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отовой аппарат грызущего тип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Picture 5" descr="Картинка 69 из 186"/>
          <p:cNvPicPr/>
          <p:nvPr/>
        </p:nvPicPr>
        <p:blipFill>
          <a:blip r:embed="rId1"/>
          <a:stretch/>
        </p:blipFill>
        <p:spPr>
          <a:xfrm>
            <a:off x="1476360" y="981000"/>
            <a:ext cx="5616720" cy="568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си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9" descr="59736828_1275335910_8212"/>
          <p:cNvPicPr/>
          <p:nvPr/>
        </p:nvPicPr>
        <p:blipFill>
          <a:blip r:embed="rId1"/>
          <a:stretch/>
        </p:blipFill>
        <p:spPr>
          <a:xfrm>
            <a:off x="179280" y="1057320"/>
            <a:ext cx="8280360" cy="5524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азвитие с полным превращением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Picture 6" descr="PM3_32"/>
          <p:cNvPicPr/>
          <p:nvPr/>
        </p:nvPicPr>
        <p:blipFill>
          <a:blip r:embed="rId1"/>
          <a:stretch/>
        </p:blipFill>
        <p:spPr>
          <a:xfrm>
            <a:off x="1763640" y="1628640"/>
            <a:ext cx="4664160" cy="5021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ичинка жу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Picture 5" descr="Картинка 11 из 186"/>
          <p:cNvPicPr/>
          <p:nvPr/>
        </p:nvPicPr>
        <p:blipFill>
          <a:blip r:embed="rId1"/>
          <a:stretch/>
        </p:blipFill>
        <p:spPr>
          <a:xfrm>
            <a:off x="179280" y="1654200"/>
            <a:ext cx="7272360" cy="5035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1640" y="259920"/>
            <a:ext cx="348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уколка жу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Picture 5" descr="Картинка 5 из 186"/>
          <p:cNvPicPr/>
          <p:nvPr/>
        </p:nvPicPr>
        <p:blipFill>
          <a:blip r:embed="rId1"/>
          <a:stretch/>
        </p:blipFill>
        <p:spPr>
          <a:xfrm>
            <a:off x="324000" y="260280"/>
            <a:ext cx="4321080" cy="629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1976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маг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1" name="Picture 5" descr="Картинка 25 из 64000"/>
          <p:cNvPicPr/>
          <p:nvPr/>
        </p:nvPicPr>
        <p:blipFill>
          <a:blip r:embed="rId1"/>
          <a:stretch/>
        </p:blipFill>
        <p:spPr>
          <a:xfrm>
            <a:off x="250920" y="861840"/>
            <a:ext cx="8497800" cy="5735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27:40Z</dcterms:created>
  <dc:creator>Бочкова И.А.</dc:creator>
  <dc:description/>
  <dc:language>en-US</dc:language>
  <cp:lastModifiedBy>LEGION</cp:lastModifiedBy>
  <dcterms:modified xsi:type="dcterms:W3CDTF">2014-11-25T11:08:11Z</dcterms:modified>
  <cp:revision>8</cp:revision>
  <dc:subject/>
  <dc:title>Отряд Жуки или Жесткокрылые</dc:title>
</cp:coreProperties>
</file>