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EDE-1149-48F4-85AC-CA3CB3333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GEO-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ата основания: 8 мая 2007 год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ой Географический Фестив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6 апрел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A867-FDFA-4D2F-8CC6-5C294C49AE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ненко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131-123F-43C1-8123-B9E14FAF5E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люди ассоци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бжанидзе А.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ндидат географических наук МП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шевой В. 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66EB-71E2-4AAD-B474-A1EF56BE71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ылов А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ван Затевахи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биологических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9761-410D-4005-AC3E-2A62CEFD84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А. Во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рис Мурав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BB1D-7CCC-4884-A0BC-255CEBD83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игорий  Кубат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тешественник, журналист «GEO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Баланди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RAFIA.RU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6C9-1294-4FF7-B7D9-D2B24102D3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ститель главного реда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зеты  «Коммерса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орь Трос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кликнулись на приглаш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Баринова И.И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мирнягин Л.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упина Л.Б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мерёва Г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EB7-E663-4A37-8840-C05D0F0C52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тивные рядовые члены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митрий Са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Желез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EB6-DB72-42A7-9BF6-0738CB62B3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Бах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ексей Сидор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ктор Мат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пирант Таврического Национа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ниверситета  (Укра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ргей Гу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AD62-0C42-4AAA-B2B0-03464AE801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ван Прох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ей Саб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638-456B-4DC2-8D83-AD2A9A9A81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 идеального географа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я географа – 8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матические отрасли  в географии - 2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ездки, путешествия, туризм - 10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рода России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е мышление – 4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трудоустройств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учение географии в школе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софт и игры – 8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ий юмор – 3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ИС- 6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графическая культура – 15 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934C-21B9-4054-9574-C8E0456451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29F6-0F8A-4804-A1A4-DCCDF20BCB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и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социальн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тевые кни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у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Намечена стратегия развит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форум-катало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0E8-0179-4693-81FF-31B69872EB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поставлены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) Обсуждение проблем в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36DA-F7FE-47A0-972F-C8A0092752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ая степен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убл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дости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79A5-AD0E-4D78-B11B-5F16F3E4A5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уктура СИА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созда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5 кафе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 лаборатор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электронно-книжная библиот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видео-географический архи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61A9-C3D4-4D41-89E8-0B7CE2543B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урбанизации ми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географии религий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федра страноведения и м.д.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E95-8C8A-47D8-B325-9609266D28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Форум-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Geographical Forum-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G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форума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9AF-B7CB-45B4-82BC-0940B8CB24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A7FB-2CB9-480C-8E68-A2EB15C71B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рвисы Web 2.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контак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 Созданная Ивановым Алексеем, российский аналог англоязычного сервиса «Facebook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45D1-3714-4105-8FF4-6F34703BBF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легом Сычевы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 учителем географии московск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иченко Владимир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8E50-2BA5-4B71-8946-149DAA0D16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и создания 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географии ка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ешения проблем трудоустро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ышения статуса предмета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88E2-B0F5-45D3-965C-96AFFD970D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й соста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Географ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овед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граф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циалисты по ГИС и в сфере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ит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с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ноло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384-38C9-4546-8CB4-A1C7E0153F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е с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7BD-9786-4EEB-8449-171E0597FC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F92-3A08-456D-BD0C-95FC73A5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4B1-59AD-407C-A69A-A7FE6232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427-3F60-4991-8624-EEF3D778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48D-B1DE-4A58-A327-D9548355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4F8D-01EC-44E0-A326-4BBDBEB1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A12-A3F3-44F5-9CFB-2680843E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DC0E-AF94-4151-A5B3-FCD79916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5DBB-F214-4037-8969-779DA4F8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D57-3F30-4556-A926-85930F61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254B-6B0C-488E-AED1-83FD8DB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1011-85AE-4A32-8E26-0D141F77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C9B-080C-4CF4-A26A-CDA42AE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554A-8547-4655-9F70-E59F8F83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32B-20F6-42FB-A72E-823BE9B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EDC-E7E2-4FCB-A0D5-C944767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E2A4-A58E-4C43-924A-CEE89957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70E-2CBA-429C-B4FC-BD6301D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A74-E144-4056-85F7-AE986713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314-4702-4C51-B64C-58AF8C2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C55-EDEE-4A92-A5DE-A2F815D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017-91A6-4478-A4F8-C5A822B1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8E7-2867-4167-A87E-3CB8CC3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39A-FB75-4F24-B0FD-99F9B799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4D0-6EAB-42CE-945E-CFC676FB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85C-A2E4-4156-B42D-400A604A3D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461-FF35-400D-BC0F-4EE1AC56F3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wiki/Faceboo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INTERNATIONAL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-ASSOCI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ая географическая ассоци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ата основания: 8 мая 2007 год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ой Географический Фестива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-6 апреля 2008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1" descr="95084_lzn"/>
          <p:cNvPicPr/>
          <p:nvPr/>
        </p:nvPicPr>
        <p:blipFill>
          <a:blip r:embed="rId1"/>
          <a:stretch/>
        </p:blipFill>
        <p:spPr>
          <a:xfrm>
            <a:off x="3492360" y="2349360"/>
            <a:ext cx="2303640" cy="1216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zast_lzn"/>
          <p:cNvPicPr/>
          <p:nvPr/>
        </p:nvPicPr>
        <p:blipFill>
          <a:blip r:embed="rId2"/>
          <a:stretch/>
        </p:blipFill>
        <p:spPr>
          <a:xfrm>
            <a:off x="3419640" y="0"/>
            <a:ext cx="230472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к почетным Президентом IIGA и ее научным руководителем является бывший зам. главного редактора "Известия РАН (серия географическая)", кандидат географических нау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ненков В. 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a_c58d422_lzn"/>
          <p:cNvPicPr/>
          <p:nvPr/>
        </p:nvPicPr>
        <p:blipFill>
          <a:blip r:embed="rId1"/>
          <a:stretch/>
        </p:blipFill>
        <p:spPr>
          <a:xfrm>
            <a:off x="755640" y="2781360"/>
            <a:ext cx="1905120" cy="2790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звестные люди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четными руководителями Ассоциации являю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, доцент географического  факультета МПГУ, Президент Российской Ассоциации Учителей Географ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бжанидзе А. 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ндидат географических наук МПГ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шевой В. 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6" descr="x_4a52be9f_lzn"/>
          <p:cNvPicPr/>
          <p:nvPr/>
        </p:nvPicPr>
        <p:blipFill>
          <a:blip r:embed="rId1"/>
          <a:stretch/>
        </p:blipFill>
        <p:spPr>
          <a:xfrm>
            <a:off x="1403280" y="170028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a_52c98944_lzn"/>
          <p:cNvPicPr/>
          <p:nvPr/>
        </p:nvPicPr>
        <p:blipFill>
          <a:blip r:embed="rId2"/>
          <a:stretch/>
        </p:blipFill>
        <p:spPr>
          <a:xfrm>
            <a:off x="5364000" y="1989000"/>
            <a:ext cx="2294280" cy="3959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тодист методической лаборатории географии Московского института открытого образования. Руководитель Виртуального методического объединения учителей географии (ВМОУГ), координатор Дистанционной обучающей олимпиады по географии, координатор сообщества учителей географии портала «Сеть творческих учителей»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ылов А.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Затевахи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дио- и телеведущий передач о животных,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андидат биологических наук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krylov-teleclass-mini_lzn"/>
          <p:cNvPicPr/>
          <p:nvPr/>
        </p:nvPicPr>
        <p:blipFill>
          <a:blip r:embed="rId1"/>
          <a:stretch/>
        </p:blipFill>
        <p:spPr>
          <a:xfrm>
            <a:off x="4284720" y="1773360"/>
            <a:ext cx="1879560" cy="244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x_5d28e08e_lzn"/>
          <p:cNvPicPr/>
          <p:nvPr/>
        </p:nvPicPr>
        <p:blipFill>
          <a:blip r:embed="rId2"/>
          <a:stretch/>
        </p:blipFill>
        <p:spPr>
          <a:xfrm>
            <a:off x="6012000" y="4481640"/>
            <a:ext cx="2447640" cy="2376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.А. Волков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дседатель Океанографической комиссии РГ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рис Муравь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ействительный член РГО, сектор экологии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88_lzn"/>
          <p:cNvPicPr/>
          <p:nvPr/>
        </p:nvPicPr>
        <p:blipFill>
          <a:blip r:embed="rId1"/>
          <a:stretch/>
        </p:blipFill>
        <p:spPr>
          <a:xfrm>
            <a:off x="2124000" y="1052640"/>
            <a:ext cx="4248360" cy="271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_9c512e0a_lzn"/>
          <p:cNvPicPr/>
          <p:nvPr/>
        </p:nvPicPr>
        <p:blipFill>
          <a:blip r:embed="rId2"/>
          <a:stretch/>
        </p:blipFill>
        <p:spPr>
          <a:xfrm>
            <a:off x="4859280" y="4221000"/>
            <a:ext cx="2233800" cy="2637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игорий  Кубатьян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ешественник, журналист «GEO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колай Баландинск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тор съемок на местах географических передач НТВ, автор сайта "GE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RAFIA.RU"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a_339b4e1_lzn"/>
          <p:cNvPicPr/>
          <p:nvPr/>
        </p:nvPicPr>
        <p:blipFill>
          <a:blip r:embed="rId1"/>
          <a:stretch/>
        </p:blipFill>
        <p:spPr>
          <a:xfrm>
            <a:off x="5796000" y="189000"/>
            <a:ext cx="313056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nb-portret_lzn"/>
          <p:cNvPicPr/>
          <p:nvPr/>
        </p:nvPicPr>
        <p:blipFill>
          <a:blip r:embed="rId2"/>
          <a:stretch/>
        </p:blipFill>
        <p:spPr>
          <a:xfrm>
            <a:off x="5292720" y="3564000"/>
            <a:ext cx="3560760" cy="3294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меститель главного редактора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азеты  «Коммерсант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орь Трос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реди известных людей в географической среде , которы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ткликнулись на приглаш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аринова И.И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главный редактор журнала "География и экология в школе 21 века", профессор М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мирнягин Л. 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 к.г.н., доцент географического факультета МГУ, научный консультант Фонда «Институт экономики города»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упина Л.Б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к.г.н., доцент географического факультета ПГУ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Чмерёва Г.В.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(ответственный секретарь объединения выпускников географического факультета МГУ им. М.В. Ломоносова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4" descr="x_0f1d8a68_lzn"/>
          <p:cNvPicPr/>
          <p:nvPr/>
        </p:nvPicPr>
        <p:blipFill>
          <a:blip r:embed="rId1"/>
          <a:stretch/>
        </p:blipFill>
        <p:spPr>
          <a:xfrm>
            <a:off x="4140360" y="189000"/>
            <a:ext cx="3457440" cy="28875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Активные рядовые члены организ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931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факультета географии и геоэкологии Санкт-Петербургского Государственного Университета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митрий Са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ексей Железн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ссистент кафедры геоморфологии  Санкт-Петербургского Государственного Университ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отечественной истории Красноярского Государственного Педагогического Университета В.П. Астафь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Бахт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кафедры экономической и социальной географии России Московского Государственного Университета им. М.В. Ломоносо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ексей Сидоренк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Института наследия имени Дмитрия Лихаче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ктор Мат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спирант Таврического Национального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ниверситета  (Украина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ргей Гур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географического факультета Московского Государственного Университета им. М.В. Ломоносова, призер международной олимпиады по географ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ван Прохо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удент факультета естественных наук и природных ресурсов Новгород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ей Сабель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Рейтинг тем, кол-во человек принявших в обсуждениях, (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 идеального географа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я географа – 8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матические отрасли  в географии - 2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ездки, путешествия, туризм - 10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рода России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астие в различных географических организациях - 7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упление на географические факультеты страны – 13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ое мышление – 4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блемы трудоустройств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учение географии в школе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циальный статус и его роль в географии – 6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софт и игры – 8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ий юмор – 3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-территориальное деление России 10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ИС- 6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графическая культура – 15 %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дислов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развития социального общ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ременные информационные средства обще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тевые кни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ум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ые сети (Вконтакте, Википедия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ecff"/>
                </a:solidFill>
                <a:uFillTx/>
                <a:latin typeface="Times New Roman"/>
              </a:rPr>
              <a:t>Итоги работы организации за год существования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) Намечена стратегия развития проект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) Создан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форум-каталог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географических ресурсов http://geoforumkatalog.5bk.org/ , сотрудничающий с Елисеевским географическим обществом (руководителем которого является Николай Баландинский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) В рамках Ассоциации предпринята попытка создания дистанционного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социального географического университет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(http://vkontakte.ru/club1859707 ), состоящего из ряда дистанционных кафедр и лабораторий (дистанционное тьюторство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) Подготавливаются база для создания первого в России географического движения (несколько видных географов уже высказали свой интерес к этому проекту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5) Сформирован Банк географической информации (http://vkontakte.ru/club926972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6) Постоянно обновляется географический фото-, аудио- и видеоархив (в нашем архиве есть и эксклюзивные материалы с путешествий Григория Кубатьяна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7) Началось постепенное формирование географических компьютерных презентаций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8) В рамках ассоциированной с IIGA виртуальной кафедрой этнологии (http://vkontakte.ru/club258245 ) создана Инициативная группа по "проталкиванию" нового школьного предмета под условным названием "Народоведение" (http://vkontakte.ru/club1475221 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9) Организован ряд интересных встреч, конкурсов, фестивалей и этнографических полевых практикумов (см. раздел "Наши мероприятия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0) Вынесены на обсуждение актуальные теоретические и практические вопросы географии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1) По целому ряду географических проблем среди участников Ассоциации проводятся социологические опросы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2) Оперативно помещается самая свежая информация географического плана (раздел "Новости"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3) Создан уникальный банк данных по российским и зарубежным знаменитостям с высшим географическим образованием, но не ставших профессиональными географ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истанционный Социальный Географический Университе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началось с создания гео-национального проекта "Вконтакте с Географией"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с марта месяца 2008 года поменял свою направленность. Главной его сферой стала социальная, ориентированная на потребности человека в географи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ыли поставлены задач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) Развитие единой электронной библиотеки по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) Создание рекламной афиши по купле и продажи географических книг и пособий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) Консультации по спектру вопросов, касающихся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) Обучение информационным технология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) Обсуждение проблем в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6) Развитие отдельных отраслей географи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) Помощь в трудоустройстве (единая справочная сеть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8) Создание нового информационного класса для обучения и создание единого виртуального дистанционного географического университета;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сновные сведения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оциальный (Интерактивный) Географический Университ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службы "Вконтакте" был основан 4 марта 2008 года. Его состав включает все социальные слои в географии, геологии, картографии, истории, политологии и туризме и в других естественнонаучных и гуманитарных науках, тесно соприкасающихся с географией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ем заявок на вступление происходит по следующим критериям отб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И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разова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ная степень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каци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фессиональные достиж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труктура СИАГ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егодняшний день создан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 кафедр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 лаборатор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электронно-книжная библиотек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центр электронных географических ресурсов Интерн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видео-географический архи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подшефных организаций (фан-клубы, известных организаций и печатных изданий страны)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звание структурных подразделений (СИАГУ)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истории географической науки и образования стран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изучением истоков зарождения науки и развития гео. образования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урбанизации мира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проблемами исследования  урбанизации в мире);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политической географии (геополитики) и регионалистики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(занимается  геополитическими исследованиями стран мир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вузовской географии и трудоустройства (занимается вопросами качества высшего гео. образования и проблемами постдипломного трудоустройств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ческой визуализации (занимается вопросами картографии и ГИС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медийной географии (занимается изучением распространения СМИ и мультимедийной продукции в географии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культурной географии (география культуры и искусства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географии религий мира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электоральной географии (занимается изучением политики с точки зрения социально-экономической географии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-Кафедра страноведения и м.д. туризма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Географический Форум-Каталог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Geographical Forum-Catalog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представляет собой информационный ресурс. Состоит из 6 категорий. В основных темах форума представлены: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IGA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Ассоциация, на которой основан форум, «Географическая библиотека», «Гео-образование», кафедры Социально-Интерактивного Географического Университета, темы по направлениям географии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Цель форума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ъединение географов, геологов, почвоведов, картографов, специалистов в сфере туризма, историков, политологов, экономистов и всех любителей науки, кому не безразлична судьба современной географии, её проблем и дальнейших перспекти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адачи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влечение в форум по средствам интернет-общения сторонников национальной географической идеи, обсуждение актуальных проблем нынешней географии, её теоретических и практических вопрос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орум могут вступить все желающие, кому дорога география. Это могут быть: студенты, школьники,учителя,преподаватели школ и вузов, путешественники, туристы и просто любители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Ассоци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Object 1028"/>
          <p:cNvGraphicFramePr/>
          <p:nvPr/>
        </p:nvGraphicFramePr>
        <p:xfrm>
          <a:off x="0" y="981000"/>
          <a:ext cx="47912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4791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31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0" name="Object 1030"/>
          <p:cNvGraphicFramePr/>
          <p:nvPr/>
        </p:nvGraphicFramePr>
        <p:xfrm>
          <a:off x="4705200" y="1413000"/>
          <a:ext cx="4438800" cy="367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1413000"/>
                    <a:ext cx="44388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0" y="0"/>
          <a:ext cx="442908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29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4572000" y="0"/>
          <a:ext cx="443880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0" y="3357720"/>
          <a:ext cx="44388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7720"/>
                    <a:ext cx="44388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11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Object 10"/>
          <p:cNvGraphicFramePr/>
          <p:nvPr/>
        </p:nvGraphicFramePr>
        <p:xfrm>
          <a:off x="4500720" y="3357720"/>
          <a:ext cx="4448160" cy="3105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357720"/>
                    <a:ext cx="44481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12" descr="картаа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Сервисы Web 2.0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им  из многофункциональных лидеров социальных сетей в России стала  служб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контакт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 Созданная Ивановым Алексеем, российский аналог англоязычного сервиса «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acebook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йт был изначально создан для студентов и выпускников российских вузов и помогает им поддерживать связь между собой. В нынешнее время происходит расширение аудитории сайта для всех слоев пользователей Интерн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ом проекта является стипендиат премии Потанина Павел Дур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язычная общедоступная свободно распространяемая энциклопедия, публикуемая в Интернете. Создаётся на многих языках мира коллективным трудом добровольных авторов, использующих технологию ви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Вики — веб-сайт, структуру и содержимое которого пользователи могут сообща изменять с помощью инструментов, предоставляемых самим сайтом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История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IGA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весне 2007 года, когда шло развитие самой социальной службы, энтузиастами разрабатывалась сама концепция построения международной географической ассоциац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легом Сычевы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 учителем географии московской школ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иченко Владимиром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студентом геолого-географического факультета Астраханского государственного университ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Цели создания Ассоциа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уровня географического образования различ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географии как наук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здание единого Географического профсоюза (в дальнейшем - Движения Географов), который служил бы исполнительным органом за надзором качества преподаваемой дисциплин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решения проблем трудоустройств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я статуса предмета в школ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географическое сотрудничество между различными социальными статусами в географии и смежных наука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Задачи Ассоциации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в Ассоциацию посредством виртуального общения сторонников национальной географической идеи, обсуждение актуальных проблем нынешней географии, её теоретических и практических вопрос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амого большого в Интернете в первую очередь научно-образовательного и общественного профессионального географического сообществ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дание официального статуса Ассоциации (юридическая её регистрация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географического движения (Профсоюз географов России и стран СНГ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виртуального Географического университета, направленного на формирование географической культуры в самых широких слоях населения (популяризация географии, дистанционное консультирование (тьюторство)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влечение к проекту известных ученых-естественников и знаменитых путешественник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мобильных творческих групп для решения конкретных задач, например, написание пособий и учебников по географии и другим смежным дисциплина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иск спонсоров, в том числе информационных (установление связей с географическими С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разных конкурсов, олимпиад (различного социального уровня), дружеских встреч, научных конференций, туристических поездок, экспедиций, образовательных полевых практикум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здание своего мощного сайта на основ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ki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хнологий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ерспективе: установление дружественных и деловых связей с зарубежными географическими структурами; их привлечение к проекту в качестве партнеров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офессиональный состав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Географ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е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чвовед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тограф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ециалисты по ГИС и в сфере туризм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сторик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ит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кономи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нолог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иолог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Ассоциацию могут войти не только профессиональные географы, но и представители других смежных с географией нау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Общие сведе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конец марта 2008 года в Ассоциации насчитывается более 4650 чел. В основном из России и в основном студенты-географы. Но также есть участники из Украины, Белоруссии, Грузии, Азербайджана, Киргизии, Узбекистана, Казахстана, США, Израиля и Герма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и участников и руководителей Ассоциации есть и известные люд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03:48Z</dcterms:created>
  <dc:creator>USER</dc:creator>
  <dc:description/>
  <dc:language>en-US</dc:language>
  <cp:lastModifiedBy>LEGION</cp:lastModifiedBy>
  <dcterms:modified xsi:type="dcterms:W3CDTF">2014-12-29T08:36:47Z</dcterms:modified>
  <cp:revision>22</cp:revision>
  <dc:subject/>
  <dc:title>INTERNATIONAL-INTERNET GEO-ASSOCIATION</dc:title>
</cp:coreProperties>
</file>