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wmf" ContentType="image/x-wmf"/>
  <Override PartName="/ppt/media/image8.jpeg" ContentType="image/jpeg"/>
  <Override PartName="/ppt/media/image10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19.wmf" ContentType="image/x-wmf"/>
  <Override PartName="/ppt/media/image17.wmf" ContentType="image/x-wmf"/>
  <Override PartName="/ppt/media/image16.wmf" ContentType="image/x-wmf"/>
  <Override PartName="/ppt/media/image4.jpeg" ContentType="image/jpeg"/>
  <Override PartName="/ppt/media/image14.wmf" ContentType="image/x-wmf"/>
  <Override PartName="/ppt/media/image15.wmf" ContentType="image/x-wmf"/>
  <Override PartName="/ppt/media/image1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18.wmf" ContentType="image/x-wmf"/>
  <Override PartName="/ppt/media/image6.jpeg" ContentType="image/jpeg"/>
  <Override PartName="/ppt/media/image7.jpeg" ContentType="image/jpeg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embeddings/oleObject4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E6BB0-B877-42C3-B8B8-0EFED45BE02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INTERNATIONAL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GEO-ASSOCI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ждународная географическая ассоци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Дата основания: 8 мая 2007 года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ольшой Географический Фестива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-6 апреля 2008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анкт-Петербур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F32FC-59D2-432C-96DB-1D379C050B2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Так почетным Президентом IIGA и ее научным руководителем является бывший зам. главного редактора "Известия РАН (серия географическая)", кандидат географических нау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Анненков В. 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29970-789C-4832-8037-17B29A1AF0E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Известные люди ассоциаци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очетными руководителями Ассоциации являютс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Кандидат географических наук, доцент географического  факультета МПГУ, Президент Российской Ассоциации Учителей Географ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                              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Лобжанидзе А. 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Кандидат географических наук МПГ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     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ошевой В. 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EA38B-2526-4706-99D0-7BDD9221BD0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Методист методической лаборатории географии Московского института открытого образования. Руководитель Виртуального методического объединения учителей географии (ВМОУГ), координатор Дистанционной обучающей олимпиады по географии, координатор сообщества учителей географии портала «Сеть творческих учителей»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Крылов А.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Иван Затевахин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адио- и телеведущий передач о животных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ндидат биологических нау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7E7DA-51D7-4907-BCD0-C0519A484AC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.А. Волков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едседатель Океанографической комиссии РГО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Борис Муравье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Действительный член РГО, сектор экологи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EAF2F-31A1-4766-B0F5-31DEEF933B2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Григорий  Кубатьян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утешественник, журналист «GEO»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Николай Баландински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Организатор съемок на местах географических передач НТВ, автор сайта "GEO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RAFIA.RU"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0371A-EBFA-4B5E-8F35-9CEFE64E20D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Заместитель главного редактор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газеты  «Коммерсант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Игорь Тросник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реди известных людей в географической среде , котор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откликнулись на приглашение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Times New Roman"/>
              </a:rPr>
              <a:t>Баринова И.И.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(главный редактор журнала "География и экология в школе 21 века", профессор МПГУ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Times New Roman"/>
              </a:rPr>
              <a:t>Смирнягин Л. В.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( к.г.н., доцент географического факультета МГУ, научный консультант Фонда «Институт экономики города»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Times New Roman"/>
              </a:rPr>
              <a:t>Чупина Л.Б.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(к.г.н., доцент географического факультета ПГУ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Times New Roman"/>
              </a:rPr>
              <a:t>Чмерёва Г.В.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(ответственный секретарь объединения выпускников географического факультета МГУ им. М.В. Ломоносова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CB067-4867-4999-9B8D-47167899BB1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Активные рядовые члены организации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тудент факультета географии и геоэкологии Санкт-Петербургского Государственного Университета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Дмитрий Сальни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Алексей Железн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Ассистент кафедры геоморфологии  Санкт-Петербургского Государственного Университе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69F65-73B5-47E7-9E5F-66032D977E5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Аспирант кафедры отечественной истории Красноярского Государственного Педагогического Университета В.П. Астафье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ергей Бахти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Аспирант кафедры экономической и социальной географии России Московского Государственного Университета им. М.В. Ломоносо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Алексей Сидоренк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Аспирант Института наследия имени Дмитрия Лихаче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иктор Матас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Аспирант Таврического Национальног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Университета  (Украин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ергей Гур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763ED-355A-48C1-8A98-0595476DD93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тудент географического факультета Московского Государственного Университета им. М.В. Ломоносова, призер международной олимпиады по географ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Иван Прохор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тудент факультета естественных наук и природных ресурсов Новгородского Государственного Университе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Алексей Сабель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45B7A-E1E1-4D8E-9AFF-7313D48C2D9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Рейтинг тем, кол-во человек принявших в обсуждениях, (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%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Образ идеального географа – 3%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офессия географа – 8%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Тематические отрасли  в географии - 20%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оездки, путешествия, туризм - 10%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Города России – 3%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Участие в различных географических организациях - 7%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оступление на географические факультеты страны – 13 %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Географическое мышление – 4 %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облемы трудоустройства – 15 %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Обучение географии в школе – 3%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оциальный статус и его роль в географии – 6%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Географический софт и игры – 8 %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Географический юмор – 3%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Административно-территориальное деление России 10 %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ГИС- 6 %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Географическая культура – 15 %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D0854-7B71-4089-A467-8F0127F69FD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8E5CD-350D-478C-97BF-74EF2813E50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редислов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стория развития социального общ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временные информационные средства общени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стевые книг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орум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лог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циальные сети (Вконтакте, Википедия и др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Итоги работы организации за год существования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1) Намечена стратегия развития проект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2) Создан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форум-каталог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географических ресурсов http://geoforumkatalog.5bk.org/ , сотрудничающий с Елисеевским географическим обществом (руководителем которого является Николай Баландинский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3) В рамках Ассоциации предпринята попытка создания дистанционного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социального географического университета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(http://vkontakte.ru/club1859707 ), состоящего из ряда дистанционных кафедр и лабораторий (дистанционное тьюторство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4) Подготавливаются база для создания первого в России географического движения (несколько видных географов уже высказали свой интерес к этому проекту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5) Сформирован Банк географической информации (http://vkontakte.ru/club92697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6) Постоянно обновляется географический фото-, аудио- и видеоархив (в нашем архиве есть и эксклюзивные материалы с путешествий Григория Кубатьяна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7) Началось постепенное формирование географических компьютерных презентаци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8) В рамках ассоциированной с IIGA виртуальной кафедрой этнологии (http://vkontakte.ru/club258245 ) создана Инициативная группа по "проталкиванию" нового школьного предмета под условным названием "Народоведение" (http://vkontakte.ru/club147522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9) Организован ряд интересных встреч, конкурсов, фестивалей и этнографических полевых практикумов (см. раздел "Наши мероприятия"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10) Вынесены на обсуждение актуальные теоретические и практические вопросы географии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11) По целому ряду географических проблем среди участников Ассоциации проводятся социологические опрос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12) Оперативно помещается самая свежая информация географического плана (раздел "Новости"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13) Создан уникальный банк данных по российским и зарубежным знаменитостям с высшим географическим образованием, но не ставших профессиональными географ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625BC-1761-460B-9DB1-ADE4321F721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Дистанционный Социальный Географический Университ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се началось с создания гео-национального проекта "Вконтакте с Географией"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оект с марта месяца 2008 года поменял свою направленность. Главной его сферой стала социальная, ориентированная на потребности человека в географ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Были поставлены задач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1) Развитие единой электронной библиотеки по географии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2) Создание рекламной афиши по купле и продажи географических книг и пособий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3) Консультации по спектру вопросов, касающихся географии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4) Обучение информационным технологиям в географии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5) Обсуждение проблем в географии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6) Развитие отдельных отраслей географии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7) Помощь в трудоустройстве (единая справочная сеть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8) Создание нового информационного класса для обучения и создание единого виртуального дистанционного географического университета;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4EA13-65CC-4079-9FE3-C7C603E2C84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сновные сведен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Times New Roman"/>
              </a:rPr>
              <a:t>Социальный (Интерактивный) Географический Университет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службы "Вконтакте" был основан 4 марта 2008 года. Его состав включает все социальные слои в географии, геологии, картографии, истории, политологии и туризме и в других естественнонаучных и гуманитарных науках, тесно соприкасающихся с географией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ием заявок на вступление происходит по следующим критериям отбор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ФИО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образовани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ученая степень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убликаци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офессиональные достиже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B27E8-1E4F-4CE7-9783-C953F090CF7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труктура СИАГ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На сегодняшний день создано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15 кафедр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8 лаборатори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1 электронно-книжная библиотек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1 центр электронных географических ресурсов Интернет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1 видео-географический архи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несколько подшефных организаций (фан-клубы, известных организаций и печатных изданий страны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C6843-C2F6-41F6-83CE-86E2D941D9C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азвание структурных подразделений (СИАГУ)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Кафедра истории географической науки и образования стран мир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занимается изучением истоков зарождения науки и развития гео. образования в мире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Кафедра географии урбанизации мир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занимается проблемами исследования  урбанизации в мире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Кафедра политической географии (геополитики) и регионалистик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занимается  геополитическими исследованиями стран мира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Кафедра вузовской географии и трудоустройства (занимается вопросами качества высшего гео. образования и проблемами постдипломного трудоустройств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Кафедра Географической визуализации (занимается вопросами картографии и ГИС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Кафедра медийной географии (занимается изучением распространения СМИ и мультимедийной продукции в географ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Кафедра культурной географии (география культуры и искусства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Кафедра географии религий мир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Кафедра электоральной географии (занимается изучением политики с точки зрения социально-экономической географии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Кафедра страноведения и м.д. туриз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D9006-3549-43D0-85EB-AC4D5843348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Географический Форум-Каталог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Geographical Forum-Catalo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ум представляет собой информационный ресурс. Состоит из 6 категорий. В основных темах форума представлены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IGA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Ассоциация, на которой основан форум, «Географическая библиотека», «Гео-образование», кафедры Социально-Интерактивного Географического Университета, темы по направлениям географии и д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Цель форума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: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ъединение географов, геологов, почвоведов, картографов, специалистов в сфере туризма, историков, политологов, экономистов и всех любителей науки, кому не безразлична судьба современной географии, её проблем и дальнейших перспекти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Задачи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влечение в форум по средствам интернет-общения сторонников национальной географической идеи, обсуждение актуальных проблем нынешней географии, её теоретических и практических вопрос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ум могут вступить все желающие, кому дорога география. Это могут быть: студенты, школьники,учителя,преподаватели школ и вузов, путешественники, туристы и просто любители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D75DD-4B06-4510-B825-0CA5D539347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став Ассоци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339EB-23A5-4B5C-B9B7-DB974472189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Сервисы Web 2.0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дним  из многофункциональных лидеров социальных сетей в России стала  служба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Вконтакте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». Созданная Ивановым Алексеем, российский аналог англоязычного сервиса «Facebook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айт был изначально создан для студентов и выпускников российских вузов и помогает им поддерживать связь между собой. В нынешнее время происходит расширение аудитории сайта для всех слоев пользователей Интерне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Автором проекта является стипендиат премии Потанина Павел Дуров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100" spc="-1" strike="noStrike">
                <a:solidFill>
                  <a:srgbClr val="000000"/>
                </a:solidFill>
                <a:latin typeface="Times New Roman"/>
              </a:rPr>
              <a:t>Википедия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ногоязычная общедоступная свободно распространяемая энциклопедия, публикуемая в Интернете. Создаётся на многих языках мира коллективным трудом добровольных авторов, использующих технологию ви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(Вики — веб-сайт, структуру и содержимое которого пользователи могут сообща изменять с помощью инструментов, предоставляемых самим сайтом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866D0-1D28-4D3B-86A2-E90499C2738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История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IG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 весне 2007 года, когда шло развитие самой социальной службы, энтузиастами разрабатывалась сама концепция построения международной географической ассоци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легом Сычевым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,  учителем географии московской школ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и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ениченко Владимиром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, студентом геолого-географического факультета Астраханского государственного университе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DF5AB-31CF-457D-B824-585A70D43D8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Цели создания Ассоциации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овышение уровня географического образования различного статус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овышения статуса географии как наук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оздание единого Географического профсоюза (в дальнейшем - Движения Географов), который служил бы исполнительным органом за надзором качества преподаваемой дисциплин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азрешения проблем трудоустройства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овышения статуса предмета в школ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Международное географическое сотрудничество между различными социальными статусами в географии и смежных науках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32103-213F-4255-8971-449219EA140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рофессиональный состав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Times New Roman"/>
              </a:rPr>
              <a:t>Географ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Геологи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очвоведы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Картограф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пециалисты по ГИС и в сфере туризм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Историк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олитологи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Экономисты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Этнолог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Биологи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 Ассоциацию могут войти не только профессиональные географы, но и представители других смежных с географией нау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68692-E03F-4A92-8DA4-1F9995BDD8D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бщие свед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На конец марта 2008 года в Ассоциации насчитывается более 4650 чел. В основном из России и в основном студенты-географы. Но также есть участники из Украины, Белоруссии, Грузии, Азербайджана, Киргизии, Узбекистана, Казахстана, США, Израиля и Герман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реди участников и руководителей Ассоциации есть и известные люд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90E74-2FAF-41DA-A114-8FF9A0A09FE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337F9-DB43-423C-AFE0-E1F7AF01B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2781B-B93C-4D24-9848-29D4003F6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9F4A7-074F-42FC-9D54-13C74E8E0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581E8-83B4-4A34-ACA7-0E98A51F3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BC635-FDC7-4DA3-B5EC-CAD2E5D1E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46A46-DB0C-4FB0-AB82-9D7BD8679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B1B92-EB82-4A02-9758-D2C1CF868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A315A-F84E-433F-BBD3-E69F53020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14B78-E3EC-47F7-A001-54C30CF9A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1AEF9-8D09-466B-9E1E-F7D33FB8C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89A32-DDAC-4F51-B161-919A9AD18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0AC8E-8974-490A-809F-5F1487D08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E6FAC-F261-4E5A-80A7-DD6116787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77F97-D550-481F-9E88-7834AE27C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F15CE-A246-45D1-980F-2F19C9D6F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4E46C-7EBA-4E6E-9774-D571D1DD3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6162E-DEF5-4025-8E16-9EB6B0A32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071A5-7DC7-4D29-86EC-FD6DDDC46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6D2A9-47EC-4EB2-994F-58527AFF7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1385E-0E82-4A84-A53D-AF55393D2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25B69-1D2A-421C-9EB1-6864CA838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0550B-8787-4145-B81A-F8235669A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B15A8-A65A-4641-BBCA-77D34343F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EADAC-D342-4202-8309-3B38F87FC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FDC33-7F6F-45FD-B7AD-36929221971F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1884D-AFEE-4D54-B2D0-9557A38B58C9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6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17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18.wmf"/><Relationship Id="rId9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wiki/Facebook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00000" y="141300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ecff"/>
                </a:solidFill>
                <a:latin typeface="Times New Roman"/>
              </a:rPr>
              <a:t>INTERNATIONAL</a:t>
            </a:r>
            <a:br>
              <a:rPr sz="2800"/>
            </a:br>
            <a:r>
              <a:rPr b="0" lang="ru-RU" sz="2800" spc="-1" strike="noStrike">
                <a:solidFill>
                  <a:srgbClr val="ccecff"/>
                </a:solidFill>
                <a:latin typeface="Times New Roman"/>
              </a:rPr>
              <a:t>GEO-ASSOCIATION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1403280" y="3573360"/>
            <a:ext cx="6400800" cy="26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Международная географическая ассоциация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(Дата основания: 8 мая 2007 года)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Большой Географический Фестиваль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4-6 апреля 2008г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анкт-Петербург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5" name="Picture 11" descr="95084_lzn"/>
          <p:cNvPicPr/>
          <p:nvPr/>
        </p:nvPicPr>
        <p:blipFill>
          <a:blip r:embed="rId1"/>
          <a:stretch/>
        </p:blipFill>
        <p:spPr>
          <a:xfrm>
            <a:off x="3492360" y="2349360"/>
            <a:ext cx="2303640" cy="12160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2" descr="zast_lzn"/>
          <p:cNvPicPr/>
          <p:nvPr/>
        </p:nvPicPr>
        <p:blipFill>
          <a:blip r:embed="rId2"/>
          <a:stretch/>
        </p:blipFill>
        <p:spPr>
          <a:xfrm>
            <a:off x="3419640" y="0"/>
            <a:ext cx="2304720" cy="1441440"/>
          </a:xfrm>
          <a:prstGeom prst="rect">
            <a:avLst/>
          </a:prstGeom>
          <a:ln w="0">
            <a:noFill/>
          </a:ln>
        </p:spPr>
      </p:pic>
      <p:sp>
        <p:nvSpPr>
          <p:cNvPr id="1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95280" y="-31608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822960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Так почетным Президентом IIGA и ее научным руководителем является бывший зам. главного редактора "Известия РАН (серия географическая)", кандидат географических наук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Анненков В. В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4" name="Picture 4" descr="a_c58d422_lzn"/>
          <p:cNvPicPr/>
          <p:nvPr/>
        </p:nvPicPr>
        <p:blipFill>
          <a:blip r:embed="rId1"/>
          <a:stretch/>
        </p:blipFill>
        <p:spPr>
          <a:xfrm>
            <a:off x="755640" y="2781360"/>
            <a:ext cx="1905120" cy="2790720"/>
          </a:xfrm>
          <a:prstGeom prst="rect">
            <a:avLst/>
          </a:prstGeom>
          <a:ln w="0">
            <a:noFill/>
          </a:ln>
        </p:spPr>
      </p:pic>
      <p:sp>
        <p:nvSpPr>
          <p:cNvPr id="1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ecff"/>
                </a:solidFill>
                <a:latin typeface="Times New Roman"/>
              </a:rPr>
              <a:t>Известные люди ассоциации: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ffff"/>
                </a:solidFill>
                <a:latin typeface="Times New Roman"/>
              </a:rPr>
              <a:t>                              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Почетными руководителями Ассоциации являются: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Кандидат географических наук, доцент географического  факультета МПГУ, Президент Российской Ассоциации Учителей Географии.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Times New Roman"/>
              </a:rPr>
              <a:t>                                       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Лобжанидзе А. А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Кандидат географических наук МПГУ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                                                                                   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Кошевой В. А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8" name="Picture 6" descr="x_4a52be9f_lzn"/>
          <p:cNvPicPr/>
          <p:nvPr/>
        </p:nvPicPr>
        <p:blipFill>
          <a:blip r:embed="rId1"/>
          <a:stretch/>
        </p:blipFill>
        <p:spPr>
          <a:xfrm>
            <a:off x="1403280" y="1700280"/>
            <a:ext cx="3024360" cy="187164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7" descr="a_52c98944_lzn"/>
          <p:cNvPicPr/>
          <p:nvPr/>
        </p:nvPicPr>
        <p:blipFill>
          <a:blip r:embed="rId2"/>
          <a:stretch/>
        </p:blipFill>
        <p:spPr>
          <a:xfrm>
            <a:off x="5364000" y="1989000"/>
            <a:ext cx="2294280" cy="3959280"/>
          </a:xfrm>
          <a:prstGeom prst="rect">
            <a:avLst/>
          </a:prstGeom>
          <a:ln w="0">
            <a:noFill/>
          </a:ln>
        </p:spPr>
      </p:pic>
      <p:sp>
        <p:nvSpPr>
          <p:cNvPr id="20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457200" y="188640"/>
            <a:ext cx="822960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Методист методической лаборатории географии Московского института открытого образования. Руководитель Виртуального методического объединения учителей географии (ВМОУГ), координатор Дистанционной обучающей олимпиады по географии, координатор сообщества учителей географии портала «Сеть творческих учителей»,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Крылов А.И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Иван Затевахин,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imes New Roman"/>
              </a:rPr>
              <a:t>Радио- и телеведущий передач о животных,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imes New Roman"/>
              </a:rPr>
              <a:t>Кандидат биологических наук.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2" name="Picture 4" descr="krylov-teleclass-mini_lzn"/>
          <p:cNvPicPr/>
          <p:nvPr/>
        </p:nvPicPr>
        <p:blipFill>
          <a:blip r:embed="rId1"/>
          <a:stretch/>
        </p:blipFill>
        <p:spPr>
          <a:xfrm>
            <a:off x="4284720" y="1773360"/>
            <a:ext cx="1879560" cy="244764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5" descr="x_5d28e08e_lzn"/>
          <p:cNvPicPr/>
          <p:nvPr/>
        </p:nvPicPr>
        <p:blipFill>
          <a:blip r:embed="rId2"/>
          <a:stretch/>
        </p:blipFill>
        <p:spPr>
          <a:xfrm>
            <a:off x="6012000" y="4481640"/>
            <a:ext cx="2447640" cy="2376360"/>
          </a:xfrm>
          <a:prstGeom prst="rect">
            <a:avLst/>
          </a:prstGeom>
          <a:ln w="0">
            <a:noFill/>
          </a:ln>
        </p:spPr>
      </p:pic>
      <p:sp>
        <p:nvSpPr>
          <p:cNvPr id="2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539640" y="2602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В.А. Волков,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председатель Океанографической комиссии РГО.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Борис Муравьев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Действительный член РГО, сектор экологии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6" name="Picture 4" descr="88_lzn"/>
          <p:cNvPicPr/>
          <p:nvPr/>
        </p:nvPicPr>
        <p:blipFill>
          <a:blip r:embed="rId1"/>
          <a:stretch/>
        </p:blipFill>
        <p:spPr>
          <a:xfrm>
            <a:off x="2124000" y="1052640"/>
            <a:ext cx="4248360" cy="271764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6" descr="a_9c512e0a_lzn"/>
          <p:cNvPicPr/>
          <p:nvPr/>
        </p:nvPicPr>
        <p:blipFill>
          <a:blip r:embed="rId2"/>
          <a:stretch/>
        </p:blipFill>
        <p:spPr>
          <a:xfrm>
            <a:off x="4859280" y="4221000"/>
            <a:ext cx="2233800" cy="2637000"/>
          </a:xfrm>
          <a:prstGeom prst="rect">
            <a:avLst/>
          </a:prstGeom>
          <a:ln w="0">
            <a:noFill/>
          </a:ln>
        </p:spPr>
      </p:pic>
      <p:sp>
        <p:nvSpPr>
          <p:cNvPr id="2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395280" y="189000"/>
            <a:ext cx="8229600" cy="59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Григорий  Кубатьян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путешественник, журналист «GEO»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Николай Баландинский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Организатор съемок на местах географических передач НТВ, автор сайта "GEO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G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RAFIA.RU"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0" name="Picture 4" descr="a_339b4e1_lzn"/>
          <p:cNvPicPr/>
          <p:nvPr/>
        </p:nvPicPr>
        <p:blipFill>
          <a:blip r:embed="rId1"/>
          <a:stretch/>
        </p:blipFill>
        <p:spPr>
          <a:xfrm>
            <a:off x="5796000" y="189000"/>
            <a:ext cx="3130560" cy="223200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5" descr="nb-portret_lzn"/>
          <p:cNvPicPr/>
          <p:nvPr/>
        </p:nvPicPr>
        <p:blipFill>
          <a:blip r:embed="rId2"/>
          <a:stretch/>
        </p:blipFill>
        <p:spPr>
          <a:xfrm>
            <a:off x="5292720" y="3564000"/>
            <a:ext cx="3560760" cy="3294000"/>
          </a:xfrm>
          <a:prstGeom prst="rect">
            <a:avLst/>
          </a:prstGeom>
          <a:ln w="0">
            <a:noFill/>
          </a:ln>
        </p:spPr>
      </p:pic>
      <p:sp>
        <p:nvSpPr>
          <p:cNvPr id="21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395280" y="18864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Заместитель главного редактора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газеты  «Коммерсант»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Игорь Тросников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Среди известных людей в географической среде , которые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откликнулись на приглашение: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ffff"/>
                </a:solidFill>
                <a:uFillTx/>
                <a:latin typeface="Times New Roman"/>
              </a:rPr>
              <a:t>Баринова И.И.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 (главный редактор журнала "География и экология в школе 21 века", профессор МПГУ);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ffff"/>
                </a:solidFill>
                <a:uFillTx/>
                <a:latin typeface="Times New Roman"/>
              </a:rPr>
              <a:t>Смирнягин Л. В.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 ( к.г.н., доцент географического факультета МГУ, научный консультант Фонда «Институт экономики города»);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ffff"/>
                </a:solidFill>
                <a:uFillTx/>
                <a:latin typeface="Times New Roman"/>
              </a:rPr>
              <a:t>Чупина Л.Б.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 (к.г.н., доцент географического факультета ПГУ);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ffff"/>
                </a:solidFill>
                <a:uFillTx/>
                <a:latin typeface="Times New Roman"/>
              </a:rPr>
              <a:t>Чмерёва Г.В.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 (ответственный секретарь объединения выпускников географического факультета МГУ им. М.В. Ломоносова);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4" name="Picture 4" descr="x_0f1d8a68_lzn"/>
          <p:cNvPicPr/>
          <p:nvPr/>
        </p:nvPicPr>
        <p:blipFill>
          <a:blip r:embed="rId1"/>
          <a:stretch/>
        </p:blipFill>
        <p:spPr>
          <a:xfrm>
            <a:off x="4140360" y="189000"/>
            <a:ext cx="3457440" cy="2887560"/>
          </a:xfrm>
          <a:prstGeom prst="rect">
            <a:avLst/>
          </a:prstGeom>
          <a:ln w="0">
            <a:noFill/>
          </a:ln>
        </p:spPr>
      </p:pic>
      <p:sp>
        <p:nvSpPr>
          <p:cNvPr id="2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ecff"/>
                </a:solidFill>
                <a:latin typeface="Times New Roman"/>
              </a:rPr>
              <a:t>Активные рядовые члены организации: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6840" y="1125360"/>
            <a:ext cx="7931160" cy="50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Студент факультета географии и геоэкологии Санкт-Петербургского Государственного Университета 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Дмитрий Сальников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Алексей Железнов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Ассистент кафедры геоморфологии  Санкт-Петербургского Государственного Университета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324000" y="0"/>
            <a:ext cx="82296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Аспирант кафедры отечественной истории Красноярского Государственного Педагогического Университета В.П. Астафьева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Сергей Бахти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Аспирант кафедры экономической и социальной географии России Московского Государственного Университета им. М.В. Ломоносова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Алексей Сидоренко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Аспирант Института наследия имени Дмитрия Лихачева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Виктор Матасо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Аспирант Таврического Национального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Университета  (Украина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Сергей Гуро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468360" y="83628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Студент географического факультета Московского Государственного Университета им. М.В. Ломоносова, призер международной олимпиады по географии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Иван Прохоров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Студент факультета естественных наук и природных ресурсов Новгородского Государственного Университета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Алексей Сабельский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ecff"/>
                </a:solidFill>
                <a:latin typeface="Times New Roman"/>
              </a:rPr>
              <a:t>Рейтинг тем, кол-во человек принявших в обсуждениях, (</a:t>
            </a:r>
            <a:r>
              <a:rPr b="1" lang="en-US" sz="2800" spc="-1" strike="noStrike">
                <a:solidFill>
                  <a:srgbClr val="ccecff"/>
                </a:solidFill>
                <a:latin typeface="Times New Roman"/>
              </a:rPr>
              <a:t>%</a:t>
            </a:r>
            <a:r>
              <a:rPr b="1" lang="ru-RU" sz="2800" spc="-1" strike="noStrike">
                <a:solidFill>
                  <a:srgbClr val="ccecff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Образ идеального географа – 3%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Профессия географа – 8%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Тематические отрасли  в географии - 20%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Поездки, путешествия, туризм - 10%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Города России – 3%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Участие в различных географических организациях - 7%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Поступление на географические факультеты страны – 13 %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Географическое мышление – 4 %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Проблемы трудоустройства – 15 %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Обучение географии в школе – 3%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Социальный статус и его роль в географии – 6%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Географический софт и игры – 8 %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Географический юмор – 3%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Административно-территориальное деление России 10 %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ГИС- 6 %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Географическая культура – 15 %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ecff"/>
                </a:solidFill>
                <a:latin typeface="Times New Roman"/>
              </a:rPr>
              <a:t>Предисловие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8000" y="1341360"/>
            <a:ext cx="821844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История развития социального общения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овременные информационные средства общения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Гостевые книги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Форумы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Блоги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оциальные сети (Вконтакте, Википедия и др.)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8360" y="-2430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ccecff"/>
                </a:solidFill>
                <a:uFillTx/>
                <a:latin typeface="Times New Roman"/>
              </a:rPr>
              <a:t>Итоги работы организации за год существования: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11280" y="549000"/>
            <a:ext cx="8229600" cy="604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1) Намечена стратегия развития проекта;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2) Создан </a:t>
            </a:r>
            <a:r>
              <a:rPr b="1" i="1" lang="ru-RU" sz="1400" spc="-1" strike="noStrike">
                <a:solidFill>
                  <a:srgbClr val="ffffff"/>
                </a:solidFill>
                <a:latin typeface="Times New Roman"/>
              </a:rPr>
              <a:t>форум-каталог</a:t>
            </a: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 географических ресурсов http://geoforumkatalog.5bk.org/ , сотрудничающий с Елисеевским географическим обществом (руководителем которого является Николай Баландинский);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3) В рамках Ассоциации предпринята попытка создания дистанционного </a:t>
            </a:r>
            <a:r>
              <a:rPr b="1" i="1" lang="ru-RU" sz="1400" spc="-1" strike="noStrike">
                <a:solidFill>
                  <a:srgbClr val="ffffff"/>
                </a:solidFill>
                <a:latin typeface="Times New Roman"/>
              </a:rPr>
              <a:t>социального географического университета</a:t>
            </a: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 (http://vkontakte.ru/club1859707 ), состоящего из ряда дистанционных кафедр и лабораторий (дистанционное тьюторство);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4) Подготавливаются база для создания первого в России географического движения (несколько видных географов уже высказали свой интерес к этому проекту);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5) Сформирован Банк географической информации (http://vkontakte.ru/club926972 );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6) Постоянно обновляется географический фото-, аудио- и видеоархив (в нашем архиве есть и эксклюзивные материалы с путешествий Григория Кубатьяна);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7) Началось постепенное формирование географических компьютерных презентаций;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8) В рамках ассоциированной с IIGA виртуальной кафедрой этнологии (http://vkontakte.ru/club258245 ) создана Инициативная группа по "проталкиванию" нового школьного предмета под условным названием "Народоведение" (http://vkontakte.ru/club1475221 );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9) Организован ряд интересных встреч, конкурсов, фестивалей и этнографических полевых практикумов (см. раздел "Наши мероприятия");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10) Вынесены на обсуждение актуальные теоретические и практические вопросы географии;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11) По целому ряду географических проблем среди участников Ассоциации проводятся социологические опросы;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12) Оперативно помещается самая свежая информация географического плана (раздел "Новости");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13) Создан уникальный банк данных по российским и зарубежным знаменитостям с высшим географическим образованием, но не ставших профессиональными географами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ecff"/>
                </a:solidFill>
                <a:latin typeface="Times New Roman"/>
              </a:rPr>
              <a:t>Дистанционный Социальный Географический Университет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Все началось с создания гео-национального проекта "Вконтакте с Географией"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Проект с марта месяца 2008 года поменял свою направленность. Главной его сферой стала социальная, ориентированная на потребности человека в географии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                          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Были поставлены задачи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1) Развитие единой электронной библиотеки по географии;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2) Создание рекламной афиши по купле и продажи географических книг и пособий;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3) Консультации по спектру вопросов, касающихся географии;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4) Обучение информационным технологиям в географии;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5) Обсуждение проблем в географии;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6) Развитие отдельных отраслей географии;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7) Помощь в трудоустройстве (единая справочная сеть);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8) Создание нового информационного класса для обучения и создание единого виртуального дистанционного географического университета;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68360" y="-38736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ecff"/>
                </a:solidFill>
                <a:latin typeface="Times New Roman"/>
              </a:rPr>
              <a:t>Основные сведения: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620640"/>
            <a:ext cx="822960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ff"/>
                </a:solidFill>
                <a:uFillTx/>
                <a:latin typeface="Times New Roman"/>
              </a:rPr>
              <a:t>Социальный (Интерактивный) Географический Университет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 службы "Вконтакте" был основан 4 марта 2008 года. Его состав включает все социальные слои в географии, геологии, картографии, истории, политологии и туризме и в других естественнонаучных и гуманитарных науках, тесно соприкасающихся с географией)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Прием заявок на вступление происходит по следующим критериям отбора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ФИО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образование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ученая степень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публикации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профессиональные достижения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ecff"/>
                </a:solidFill>
                <a:latin typeface="Times New Roman"/>
              </a:rPr>
              <a:t>Структура СИАГУ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76500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На сегодняшний день создано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15 кафедр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8 лабораторий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1 электронно-книжная библиотека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1 центр электронных географических ресурсов Интернета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1 видео-географический архив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несколько подшефных организаций (фан-клубы, известных организаций и печатных изданий страны);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-24336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ecff"/>
                </a:solidFill>
                <a:latin typeface="Times New Roman"/>
              </a:rPr>
              <a:t>Название структурных подразделений (СИАГУ):</a:t>
            </a: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-Кафедра истории географической науки и образования стран мира: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(занимается изучением истоков зарождения науки и развития гео. образования в мире); 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     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-Кафедра географии урбанизации мира: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(занимается проблемами исследования  урбанизации в мире); 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-Кафедра политической географии (геополитики) и регионалистики: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(занимается  геополитическими исследованиями стран мира);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    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-Кафедра вузовской географии и трудоустройства (занимается вопросами качества высшего гео. образования и проблемами постдипломного трудоустройства;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-Кафедра Географической визуализации (занимается вопросами картографии и ГИС);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-Кафедра медийной географии (занимается изучением распространения СМИ и мультимедийной продукции в географии.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-Кафедра культурной географии (география культуры и искусства);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-Кафедра географии религий мира;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-Кафедра электоральной географии (занимается изучением политики с точки зрения социально-экономической географии);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-Кафедра страноведения и м.д. туризма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 </a:t>
            </a:r>
            <a:r>
              <a:rPr b="0" lang="ru-RU" sz="2800" spc="-1" strike="noStrike">
                <a:solidFill>
                  <a:srgbClr val="ccecff"/>
                </a:solidFill>
                <a:latin typeface="Times New Roman"/>
              </a:rPr>
              <a:t>Географический Форум-Каталог</a:t>
            </a:r>
            <a:br>
              <a:rPr sz="2800"/>
            </a:br>
            <a:r>
              <a:rPr b="0" lang="ru-RU" sz="2800" spc="-1" strike="noStrike">
                <a:solidFill>
                  <a:srgbClr val="ccecff"/>
                </a:solidFill>
                <a:latin typeface="Times New Roman"/>
              </a:rPr>
              <a:t>Geographical Forum-Catalog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Форум представляет собой информационный ресурс. Состоит из 6 категорий. В основных темах форума представлены: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IIGA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-Ассоциация, на которой основан форум, «Географическая библиотека», «Гео-образование», кафедры Социально-Интерактивного Географического Университета, темы по направлениям географии и др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ffff"/>
                </a:solidFill>
                <a:uFillTx/>
                <a:latin typeface="Verdana"/>
              </a:rPr>
              <a:t>Цель форума</a:t>
            </a:r>
            <a:r>
              <a:rPr b="1" lang="ru-RU" sz="1600" spc="-1" strike="noStrike" u="sng">
                <a:solidFill>
                  <a:srgbClr val="ffffff"/>
                </a:solidFill>
                <a:uFillTx/>
                <a:latin typeface="Verdana"/>
              </a:rPr>
              <a:t>: 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Объединение географов, геологов, почвоведов, картографов, специалистов в сфере туризма, историков, политологов, экономистов и всех любителей науки, кому не безразлична судьба современной географии, её проблем и дальнейших перспектив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ffff"/>
                </a:solidFill>
                <a:uFillTx/>
                <a:latin typeface="Verdana"/>
              </a:rPr>
              <a:t>Задачи</a:t>
            </a:r>
            <a:r>
              <a:rPr b="1" lang="ru-RU" sz="1600" spc="-1" strike="noStrike" u="sng">
                <a:solidFill>
                  <a:srgbClr val="ffffff"/>
                </a:solidFill>
                <a:uFillTx/>
                <a:latin typeface="Verdana"/>
              </a:rPr>
              <a:t>: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Привлечение в форум по средствам интернет-общения сторонников национальной географической идеи, обсуждение актуальных проблем нынешней географии, её теоретических и практических вопросов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Форум могут вступить все желающие, кому дорога география. Это могут быть: студенты, школьники,учителя,преподаватели школ и вузов, путешественники, туристы и просто любители!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Состав Ассоциаци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6" name="Rectangle 102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247" name="Object 1028"/>
          <p:cNvGraphicFramePr/>
          <p:nvPr/>
        </p:nvGraphicFramePr>
        <p:xfrm>
          <a:off x="0" y="981000"/>
          <a:ext cx="4791240" cy="4648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8" name="Object 102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81000"/>
                    <a:ext cx="4791240" cy="464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9" name="Rectangle 1031"/>
          <p:cNvSpPr/>
          <p:nvPr/>
        </p:nvSpPr>
        <p:spPr>
          <a:xfrm>
            <a:off x="0" y="180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250" name="Object 1030"/>
          <p:cNvGraphicFramePr/>
          <p:nvPr/>
        </p:nvGraphicFramePr>
        <p:xfrm>
          <a:off x="4705200" y="1413000"/>
          <a:ext cx="4438800" cy="36716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51" name="Object 103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05200" y="1413000"/>
                    <a:ext cx="4438800" cy="36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256" name="Object 4"/>
          <p:cNvGraphicFramePr/>
          <p:nvPr/>
        </p:nvGraphicFramePr>
        <p:xfrm>
          <a:off x="0" y="0"/>
          <a:ext cx="4429080" cy="3086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5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4429080" cy="308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8" name="Rectangle 7"/>
          <p:cNvSpPr/>
          <p:nvPr/>
        </p:nvSpPr>
        <p:spPr>
          <a:xfrm>
            <a:off x="0" y="1881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259" name="Object 6"/>
          <p:cNvGraphicFramePr/>
          <p:nvPr/>
        </p:nvGraphicFramePr>
        <p:xfrm>
          <a:off x="4572000" y="0"/>
          <a:ext cx="4438800" cy="30956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60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0"/>
                    <a:ext cx="4438800" cy="309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1" name="Rectangle 9"/>
          <p:cNvSpPr/>
          <p:nvPr/>
        </p:nvSpPr>
        <p:spPr>
          <a:xfrm>
            <a:off x="0" y="1881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262" name="Object 8"/>
          <p:cNvGraphicFramePr/>
          <p:nvPr/>
        </p:nvGraphicFramePr>
        <p:xfrm>
          <a:off x="0" y="3357720"/>
          <a:ext cx="4438800" cy="309564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263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3357720"/>
                    <a:ext cx="4438800" cy="309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4" name="Rectangle 11"/>
          <p:cNvSpPr/>
          <p:nvPr/>
        </p:nvSpPr>
        <p:spPr>
          <a:xfrm>
            <a:off x="0" y="1876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265" name="Object 10"/>
          <p:cNvGraphicFramePr/>
          <p:nvPr/>
        </p:nvGraphicFramePr>
        <p:xfrm>
          <a:off x="4500720" y="3357720"/>
          <a:ext cx="4448160" cy="310500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266" name="Object 1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500720" y="3357720"/>
                    <a:ext cx="4448160" cy="310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0" name="Rectangle 6"/>
          <p:cNvSpPr/>
          <p:nvPr/>
        </p:nvSpPr>
        <p:spPr>
          <a:xfrm>
            <a:off x="0" y="1881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1" name="Rectangle 8"/>
          <p:cNvSpPr/>
          <p:nvPr/>
        </p:nvSpPr>
        <p:spPr>
          <a:xfrm>
            <a:off x="0" y="1881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2" name="Rectangle 10"/>
          <p:cNvSpPr/>
          <p:nvPr/>
        </p:nvSpPr>
        <p:spPr>
          <a:xfrm>
            <a:off x="0" y="1876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73" name="Picture 12" descr="картаа"/>
          <p:cNvPicPr/>
          <p:nvPr/>
        </p:nvPicPr>
        <p:blipFill>
          <a:blip r:embed="rId1"/>
          <a:stretch/>
        </p:blipFill>
        <p:spPr>
          <a:xfrm>
            <a:off x="0" y="0"/>
            <a:ext cx="9144000" cy="5916600"/>
          </a:xfrm>
          <a:prstGeom prst="rect">
            <a:avLst/>
          </a:prstGeom>
          <a:ln w="0">
            <a:noFill/>
          </a:ln>
        </p:spPr>
      </p:pic>
      <p:sp>
        <p:nvSpPr>
          <p:cNvPr id="2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8794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ecff"/>
                </a:solidFill>
                <a:latin typeface="Times New Roman"/>
              </a:rPr>
              <a:t>Сервисы Web 2.0.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39640" y="105228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Одним  из многофункциональных лидеров социальных сетей в России стала  служба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«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Вконтакте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». Созданная Ивановым Алексеем, российский аналог англоязычного сервиса «</a:t>
            </a:r>
            <a:r>
              <a:rPr b="0" lang="ru-RU" sz="2000" spc="-1" strike="noStrike" u="sng">
                <a:solidFill>
                  <a:srgbClr val="ffffcc"/>
                </a:solidFill>
                <a:uFillTx/>
                <a:latin typeface="Times New Roman"/>
                <a:hlinkClick r:id="rId1"/>
              </a:rPr>
              <a:t>Facebook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»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айт был изначально создан для студентов и выпускников российских вузов и помогает им поддерживать связь между собой. В нынешнее время происходит расширение аудитории сайта для всех слоев пользователей Интернета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Автором проекта является стипендиат премии Потанина Павел Дуров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imes New Roman"/>
              </a:rPr>
              <a:t>Википедия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многоязычная общедоступная свободно распространяемая энциклопедия, публикуемая в Интернете. Создаётся на многих языках мира коллективным трудом добровольных авторов, использующих технологию вики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(Вики — веб-сайт, структуру и содержимое которого пользователи могут сообща изменять с помощью инструментов, предоставляемых самим сайтом)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ecff"/>
                </a:solidFill>
                <a:latin typeface="Times New Roman"/>
              </a:rPr>
              <a:t>История </a:t>
            </a:r>
            <a:r>
              <a:rPr b="1" lang="en-US" sz="2800" spc="-1" strike="noStrike">
                <a:solidFill>
                  <a:srgbClr val="ccecff"/>
                </a:solidFill>
                <a:latin typeface="Times New Roman"/>
              </a:rPr>
              <a:t>IIGA.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39640" y="1413000"/>
            <a:ext cx="8229600" cy="50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К весне 2007 года, когда шло развитие самой социальной службы, энтузиастами разрабатывалась сама концепция построения международной географической ассоциации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Олегом Сычевым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,  учителем географии московской школы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и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Сениченко Владимиром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, студентом геолого-географического факультета Астраханского государственного университета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ccecff"/>
                </a:solidFill>
                <a:latin typeface="Times New Roman"/>
              </a:rPr>
              <a:t>Цели создания Ассоциации: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овышение уровня географического образования различного статуса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овышения статуса географии как науки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Создание единого Географического профсоюза (в дальнейшем - Движения Географов), который служил бы исполнительным органом за надзором качества преподаваемой дисциплины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Разрешения проблем трудоустройства;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овышения статуса предмета в школе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Международное географическое сотрудничество между различными социальными статусами в географии и смежных науках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0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4" nodeType="after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6" nodeType="after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2" nodeType="after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48" nodeType="after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ccecff"/>
                </a:solidFill>
                <a:latin typeface="Times New Roman"/>
              </a:rPr>
              <a:t>Цели создания Ассоциации: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овышение уровня географического образования различного статуса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овышения статуса географии как науки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Создание единого Географического профсоюза (в дальнейшем - Движения Географов), который служил бы исполнительным органом за надзором качества преподаваемой дисциплины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Разрешения проблем трудоустройства;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овышения статуса предмета в школе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Международное географическое сотрудничество между различными социальными статусами в географии и смежных науках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0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3" nodeType="after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9" nodeType="after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75" nodeType="after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81" nodeType="after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87" nodeType="after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431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ecff"/>
                </a:solidFill>
                <a:latin typeface="Times New Roman"/>
              </a:rPr>
              <a:t>Задачи Ассоциации:</a:t>
            </a: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68360" y="836640"/>
            <a:ext cx="822960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Привлечение в Ассоциацию посредством виртуального общения сторонников национальной географической идеи, обсуждение актуальных проблем нынешней географии, её теоретических и практических вопросов;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Создание самого большого в Интернете в первую очередь научно-образовательного и общественного профессионального географического сообщества;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Придание официального статуса Ассоциации (юридическая её регистрация);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Создание своего географического движения (Профсоюз географов России и стран СНГ);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Создание виртуального Географического университета, направленного на формирование географической культуры в самых широких слоях населения (популяризация географии, дистанционное консультирование (тьюторство));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Привлечение к проекту известных ученых-естественников и знаменитых путешественников;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Создание мобильных творческих групп для решения конкретных задач, например, написание пособий и учебников по географии и другим смежным дисциплинам;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Поиск спонсоров, в том числе информационных (установление связей с географическими СМИ);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Организация разных конкурсов, олимпиад (различного социального уровня), дружеских встреч, научных конференций, туристических поездок, экспедиций, образовательных полевых практикумов;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Создание своего мощного сайта на основе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wiki-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технологий;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В перспективе: установление дружественных и деловых связей с зарубежными географическими структурами; их привлечение к проекту в качестве партнеров;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ecff"/>
                </a:solidFill>
                <a:latin typeface="Times New Roman"/>
              </a:rPr>
              <a:t>Профессиональный состав: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ff"/>
                </a:solidFill>
                <a:uFillTx/>
                <a:latin typeface="Times New Roman"/>
              </a:rPr>
              <a:t>Географы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Геологи;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Почвоведы;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Картографы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специалисты по ГИС и в сфере туризма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Историки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Политологи;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Экономисты;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Этнологи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Биологи;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В Ассоциацию могут войти не только профессиональные географы, но и представители других смежных с географией наук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95280" y="-31608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ecff"/>
                </a:solidFill>
                <a:latin typeface="Times New Roman"/>
              </a:rPr>
              <a:t>Общие сведения.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На конец марта 2008 года в Ассоциации насчитывается более 4650 чел. В основном из России и в основном студенты-географы. Но также есть участники из Украины, Белоруссии, Грузии, Азербайджана, Киргизии, Узбекистана, Казахстана, США, Израиля и Германии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Среди участников и руководителей Ассоциации есть и известные люди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1T12:03:48Z</dcterms:created>
  <dc:creator>USER</dc:creator>
  <dc:description/>
  <dc:language>en-US</dc:language>
  <cp:lastModifiedBy>LEGION</cp:lastModifiedBy>
  <dcterms:modified xsi:type="dcterms:W3CDTF">2014-12-29T08:36:47Z</dcterms:modified>
  <cp:revision>22</cp:revision>
  <dc:subject/>
  <dc:title>INTERNATIONAL-INTERNET GEO-ASSOCIATION</dc:title>
</cp:coreProperties>
</file>