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7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11DD-B593-4C90-B635-4BAA9BEAE5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GEO-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географическая ассоци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ата основания: 8 мая 2007 год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ой Географический Фестив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-6 апреля 200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9FE4-7AD9-4ADB-99E0-11A09006EC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к почетным Президентом IIGA и ее научным руководителем является бывший зам. главного редактора "Известия РАН (серия географическая)", кандидат географических н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ненков В.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DC6B-07B5-491D-A4F3-6B1220ED84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вестные люди ассоци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етными руководителями Ассоциаци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ндидат географических наук, доцент географического  факультета МПГУ, Президент Российской Ассоциации Учителей Географ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обжанидзе А.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ндидат географических наук МП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шевой В. 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FF33-6771-42D4-BDAD-C6D1337414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тодист методической лаборатории географии Московского института открытого образования. Руководитель Виртуального методического объединения учителей географии (ВМОУГ), координатор Дистанционной обучающей олимпиады по географии, координатор сообщества учителей географии портала «Сеть творческих учителей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ылов А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ван Затевахи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дио- и телеведущий передач о животны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биологических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BA9C-1BAF-438F-8CE9-3F9F86C24B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.А. Вол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седатель Океанографической комиссии Р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рис Мурав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йствительный член РГО, сектор эк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F2D0-DF76-4C1A-BFD7-E21336DF60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игорий  Кубатья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утешественник, журналист «GEO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иколай Баланд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изатор съемок на местах географических передач НТВ, автор сайта "GE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RAFIA.RU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167A-C20E-4386-8A38-25722510CD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меститель главного редак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зеты  «Коммерса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орь Трос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и известных людей в географической среде , котор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кликнулись на пригла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Баринова И.И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главный редактор журнала "География и экология в школе 21 века", профессор МПГ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мирнягин Л. 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 к.г.н., доцент географического факультета МГУ, научный консультант Фонда «Институт экономики города»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упина Л.Б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к.г.н., доцент географического факультета ПГ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мерёва Г.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ответственный секретарь объединения выпускников географического факультета МГУ им. М.В. Ломоносо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0290-7DBE-42E5-9C44-A82B05AF7A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ктивные рядовые члены организ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факультета географии и геоэкологии Санкт-Петербургского Государственного Университета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митрий Са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ексей Желез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систент кафедры геоморфологии  Санкт-Петербург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2847-A6D0-448F-B325-4DD1A28FE7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кафедры отечественной истории Красноярского Государственного Педагогического Университета В.П. Астафь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ргей Бахт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кафедры экономической и социальной географии России Московского Государственного Университета им. М.В. Ломонос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ексей Сидор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Института наследия имени Дмитрия Лихач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ктор Мат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Таврического Национа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ниверситета  (Укра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ргей Гу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E59D-4B7E-42E0-BD8F-3D617D007E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географического факультета Московского Государственного Университета им. М.В. Ломоносова, призер международной олимпиады по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ван Прох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факультета естественных наук и природных ресурсов Новгород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ексей Саб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EFF5-1603-4127-AB7E-791F2C0336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йтинг тем, кол-во человек принявших в обсуждениях,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з идеального географа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я географа – 8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матические отрасли  в географии - 20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ездки, путешествия, туризм - 10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рода России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астие в различных географических организациях - 7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упление на географические факультеты страны – 13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ое мышление – 4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трудоустройства – 15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учение географии в школе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циальный статус и его роль в географии – 6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ий софт и игры – 8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ий юмор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дминистративно-территориальное деление России 10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ИС- 6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ая культура – 15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AD47-FC82-4EBC-9CAC-2500590C1B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7172-2F22-4851-95A2-6E802ADBE6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и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я развития социальн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информационные средства общ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тевые кни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у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о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 сети (Вконтакте, Википедия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тоги работы организации за год существ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Намечена стратегия развития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Создан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форум-каталог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географических ресурсов http://geoforumkatalog.5bk.org/ , сотрудничающий с Елисеевским географическим обществом (руководителем которого является Николай Баландинск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В рамках Ассоциации предпринята попытка создания дистанционного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оциального географического университет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http://vkontakte.ru/club1859707 ), состоящего из ряда дистанционных кафедр и лабораторий (дистанционное тьюторств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) Подготавливаются база для создания первого в России географического движения (несколько видных географов уже высказали свой интерес к этому проект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) Сформирован Банк географической информации (http://vkontakte.ru/club92697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) Постоянно обновляется географический фото-, аудио- и видеоархив (в нашем архиве есть и эксклюзивные материалы с путешествий Григория Кубатьян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) Началось постепенное формирование географических компьютерных презент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) В рамках ассоциированной с IIGA виртуальной кафедрой этнологии (http://vkontakte.ru/club258245 ) создана Инициативная группа по "проталкиванию" нового школьного предмета под условным названием "Народоведение" (http://vkontakte.ru/club147522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) Организован ряд интересных встреч, конкурсов, фестивалей и этнографических полевых практикумов (см. раздел "Наши мероприятия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) Вынесены на обсуждение актуальные теоретические и практические вопросы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) По целому ряду географических проблем среди участников Ассоциации проводятся социологические опро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) Оперативно помещается самая свежая информация географического плана (раздел "Новости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3) Создан уникальный банк данных по российским и зарубежным знаменитостям с высшим географическим образованием, но не ставших профессиональными географ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58F3-1E77-4E84-B784-F8C21A09CC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станционный Социальный Географ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началось с создания гео-национального проекта "Вконтакте с Географией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ект с марта месяца 2008 года поменял свою направленность. Главной его сферой стала социальная, ориентированная на потребности человека в географ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поставлены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Развитие единой электронной библиотеки по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Создание рекламной афиши по купле и продажи географических книг и пособ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Консультации по спектру вопросов, касающихся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) Обучение информационным технологиям в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) Обсуждение проблем в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) Развитие отдельных отраслей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) Помощь в трудоустройстве (единая справочная сеть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) Создание нового информационного класса для обучения и создание единого виртуального дистанционного географического университета;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C3AB-125B-48AF-8C5E-CEE0A5BFC5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с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ый (Интерактивный) Географический Университе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лужбы "Вконтакте" был основан 4 марта 2008 года. Его состав включает все социальные слои в географии, геологии, картографии, истории, политологии и туризме и в других естественнонаучных и гуманитарных науках, тесно соприкасающихся с географие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ем заявок на вступление происходит по следующим критериям отб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ная степен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ублик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дости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E504-9C7F-4433-9309-9DF7FEDD6E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уктура СИА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созда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5 кафед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 лаборатор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электронно-книжная библиот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центр электронных географических ресурсов Интерн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видео-географический архи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сколько подшефных организаций (фан-клубы, известных организаций и печатных изданий стран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E280-8BD8-454F-8EFA-41D7E6735E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ние структурных подразделений (СИАГУ)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истории географической науки и образования стран ми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изучением истоков зарождения науки и развития гео. образования в мир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и урбанизации ми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проблемами исследования  урбанизации в мир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политической географии (геополитики) и регионали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 геополитическими исследованиями стран ми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вузовской географии и трудоустройства (занимается вопросами качества высшего гео. образования и проблемами постдипломного трудоустрой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ческой визуализации (занимается вопросами картографии и ГИ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медийной географии (занимается изучением распространения СМИ и мультимедийной продукции в геогра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культурной географии (география культуры и искус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и религий ми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электоральной географии (занимается изучением политики с точки зрения социально-экономической географ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страноведения и м.д.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2CE6-10C4-450E-923A-3F289AC3AE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ографический Форум-Катало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Geographical Forum-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ум представляет собой информационный ресурс. Состоит из 6 категорий. В основных темах форума представлены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G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ссоциация, на которой основан форум, «Географическая библиотека», «Гео-образование», кафедры Социально-Интерактивного Географического Университета, темы по направлениям географи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 форума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ение географов, геологов, почвоведов, картографов, специалистов в сфере туризма, историков, политологов, экономистов и всех любителей науки, кому не безразлична судьба современной географии, её проблем и дальнейших перспекти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в форум по средствам интернет-общения сторонников национальной географической идеи, обсуждение актуальных проблем нынешней географии, её теоретических и практически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ум могут вступить все желающие, кому дорога география. Это могут быть: студенты, школьники,учителя,преподаватели школ и вузов, путешественники, туристы и просто любите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2F0E-8D14-4916-8146-31E19C300D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CF2B-418C-4E8F-A78F-92C2C734A7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рвисы Web 2.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 из многофункциональных лидеров социальных сетей в России стала  служб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контакт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. Созданная Ивановым Алексеем, российский аналог англоязычного сервиса «Facebook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йт был изначально создан для студентов и выпускников российских вузов и помогает им поддерживать связь между собой. В нынешнее время происходит расширение аудитории сайта для всех слоев пользователей Интерн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Автором проекта является стипендиат премии Потанина Павел Дур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Википедия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язычная общедоступная свободно распространяемая энциклопедия, публикуемая в Интернете. Создаётся на многих языках мира коллективным трудом добровольных авторов, использующих технологию в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Вики — веб-сайт, структуру и содержимое которого пользователи могут сообща изменять с помощью инструментов, предоставляемых самим сайтом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9A9E-CCA7-401E-81E8-BAE296BF38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тор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весне 2007 года, когда шло развитие самой социальной службы, энтузиастами разрабатывалась сама концепция построения международной географической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легом Сычевы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 учителем географии московской шко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ниченко Владимиро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студентом геолого-географического факультета Астрахан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D248-1998-48F8-99F6-C0E5DE427C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и создания Ассоци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я статуса географии как нау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ешения проблем трудоустро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я статуса предмета в школ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5EF0-9B0D-46C6-9C53-2ED7C51F54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ессиональный соста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Географ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вовед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ртограф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ециалисты по ГИС и в сфере тур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ит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с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тноло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Ассоциацию могут войти не только профессиональные географы, но и представители других смежных с географией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F222-EAC5-451A-BD81-BFF72F59EA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е с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конец марта 2008 года в Ассоциации насчитывается более 4650 чел. В основном из России и в основном студенты-географы. Но также есть участники из Украины, Белоруссии, Грузии, Азербайджана, Киргизии, Узбекистана, Казахстана, США, Израиля и Герм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реди участников и руководителей Ассоциации есть и известные лю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0BB7-F402-436C-AB33-7C1C03ACFD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9E4-B7BE-4554-9B02-EC57FADD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62EE-B2CD-43C1-83A9-94E17572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BC2-3747-4402-B306-6EE6B481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282-B4DF-4117-82F2-3A580E14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FCDD-2017-4116-86F2-6B2C28DA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88FB-EB75-4664-ACBC-215DD4CC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36FA-D824-4CB9-8D02-A4B990B5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2F72-7C1E-46C7-9114-610E4BAD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033E-E066-4086-942E-EDB0A8F1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FF29-F141-4432-805A-94F673C8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6C45-1090-4360-86D9-01F9D1BD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B34E-A841-4199-B68F-1A73D5F6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4B1E-3A2C-4D0C-9220-2418BC6F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DEC6-57FE-4956-9D75-3270A628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B676-18A1-4A3A-9794-A2AB1957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9A45-B1E6-41C1-BE50-6453DD4C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B86A-7113-4A8B-8B7B-B1DA83C4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4D33-30BF-476E-9ED2-8EF9DF54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8563-735F-4EA5-B6A0-9AB08035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DDC-1BB9-4FAD-AA02-BB5D7D44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286-E192-49E1-A1D0-4EB2AE62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C82-2F7A-499F-94BE-AB880B61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B5A-DC7C-4A28-B0AA-4F65CBB1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17C-B73C-4740-9CBA-9E460C70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0B54-D2CE-45F2-A94F-790C0066DFF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7E9C-8BE4-4EAD-A11D-E456AFAB7CB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wiki/Faceboo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INTERNATIONAL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GEO-ASSOCI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03280" y="3573360"/>
            <a:ext cx="640080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ждународная географическая ассоци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Дата основания: 8 мая 2007 года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ой Географический Фестива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-6 апреля 2008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нкт-Петербург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11" descr="95084_lzn"/>
          <p:cNvPicPr/>
          <p:nvPr/>
        </p:nvPicPr>
        <p:blipFill>
          <a:blip r:embed="rId1"/>
          <a:stretch/>
        </p:blipFill>
        <p:spPr>
          <a:xfrm>
            <a:off x="3492360" y="2349360"/>
            <a:ext cx="2303640" cy="1216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zast_lzn"/>
          <p:cNvPicPr/>
          <p:nvPr/>
        </p:nvPicPr>
        <p:blipFill>
          <a:blip r:embed="rId2"/>
          <a:stretch/>
        </p:blipFill>
        <p:spPr>
          <a:xfrm>
            <a:off x="3419640" y="0"/>
            <a:ext cx="2304720" cy="14414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к почетным Президентом IIGA и ее научным руководителем является бывший зам. главного редактора "Известия РАН (серия географическая)", кандидат географических нау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нненков В. 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4" descr="a_c58d422_lzn"/>
          <p:cNvPicPr/>
          <p:nvPr/>
        </p:nvPicPr>
        <p:blipFill>
          <a:blip r:embed="rId1"/>
          <a:stretch/>
        </p:blipFill>
        <p:spPr>
          <a:xfrm>
            <a:off x="755640" y="2781360"/>
            <a:ext cx="1905120" cy="27907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Известные люди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четными руководителями Ассоциации являются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андидат географических наук, доцент географического  факультета МПГУ, Президент Российской Ассоциации Учителей Географи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обжанидзе А. 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ндидат географических наук МПГ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шевой В. 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6" descr="x_4a52be9f_lzn"/>
          <p:cNvPicPr/>
          <p:nvPr/>
        </p:nvPicPr>
        <p:blipFill>
          <a:blip r:embed="rId1"/>
          <a:stretch/>
        </p:blipFill>
        <p:spPr>
          <a:xfrm>
            <a:off x="1403280" y="1700280"/>
            <a:ext cx="3024360" cy="1871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a_52c98944_lzn"/>
          <p:cNvPicPr/>
          <p:nvPr/>
        </p:nvPicPr>
        <p:blipFill>
          <a:blip r:embed="rId2"/>
          <a:stretch/>
        </p:blipFill>
        <p:spPr>
          <a:xfrm>
            <a:off x="5364000" y="1989000"/>
            <a:ext cx="2294280" cy="39592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тодист методической лаборатории географии Московского института открытого образования. Руководитель Виртуального методического объединения учителей географии (ВМОУГ), координатор Дистанционной обучающей олимпиады по географии, координатор сообщества учителей географии портала «Сеть творческих учителей»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рылов А.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ван Затевахин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Радио- и телеведущий передач о животных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Кандидат биологических наук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4" descr="krylov-teleclass-mini_lzn"/>
          <p:cNvPicPr/>
          <p:nvPr/>
        </p:nvPicPr>
        <p:blipFill>
          <a:blip r:embed="rId1"/>
          <a:stretch/>
        </p:blipFill>
        <p:spPr>
          <a:xfrm>
            <a:off x="4284720" y="1773360"/>
            <a:ext cx="1879560" cy="2447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x_5d28e08e_lzn"/>
          <p:cNvPicPr/>
          <p:nvPr/>
        </p:nvPicPr>
        <p:blipFill>
          <a:blip r:embed="rId2"/>
          <a:stretch/>
        </p:blipFill>
        <p:spPr>
          <a:xfrm>
            <a:off x="6012000" y="4481640"/>
            <a:ext cx="2447640" cy="23763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.А. Волков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дседатель Океанографической комиссии РГО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орис Муравье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йствительный член РГО, сектор экологии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88_lzn"/>
          <p:cNvPicPr/>
          <p:nvPr/>
        </p:nvPicPr>
        <p:blipFill>
          <a:blip r:embed="rId1"/>
          <a:stretch/>
        </p:blipFill>
        <p:spPr>
          <a:xfrm>
            <a:off x="2124000" y="1052640"/>
            <a:ext cx="4248360" cy="2717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a_9c512e0a_lzn"/>
          <p:cNvPicPr/>
          <p:nvPr/>
        </p:nvPicPr>
        <p:blipFill>
          <a:blip r:embed="rId2"/>
          <a:stretch/>
        </p:blipFill>
        <p:spPr>
          <a:xfrm>
            <a:off x="4859280" y="4221000"/>
            <a:ext cx="2233800" cy="26370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игорий  Кубатьян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утешественник, журналист «GEO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иколай Баландински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ганизатор съемок на местах географических передач НТВ, автор сайта "GE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RAFIA.RU"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4" descr="a_339b4e1_lzn"/>
          <p:cNvPicPr/>
          <p:nvPr/>
        </p:nvPicPr>
        <p:blipFill>
          <a:blip r:embed="rId1"/>
          <a:stretch/>
        </p:blipFill>
        <p:spPr>
          <a:xfrm>
            <a:off x="5796000" y="189000"/>
            <a:ext cx="3130560" cy="2232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nb-portret_lzn"/>
          <p:cNvPicPr/>
          <p:nvPr/>
        </p:nvPicPr>
        <p:blipFill>
          <a:blip r:embed="rId2"/>
          <a:stretch/>
        </p:blipFill>
        <p:spPr>
          <a:xfrm>
            <a:off x="5292720" y="3564000"/>
            <a:ext cx="3560760" cy="3294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меститель главного редактора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азеты  «Коммерсант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горь Тросник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реди известных людей в географической среде , котор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ткликнулись на приглашение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Баринова И.И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главный редактор журнала "География и экология в школе 21 века", профессор МПГУ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Смирнягин Л. В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 к.г.н., доцент географического факультета МГУ, научный консультант Фонда «Институт экономики города»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Чупина Л.Б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к.г.н., доцент географического факультета ПГУ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Чмерёва Г.В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ответственный секретарь объединения выпускников географического факультета МГУ им. М.В. Ломоносова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4" descr="x_0f1d8a68_lzn"/>
          <p:cNvPicPr/>
          <p:nvPr/>
        </p:nvPicPr>
        <p:blipFill>
          <a:blip r:embed="rId1"/>
          <a:stretch/>
        </p:blipFill>
        <p:spPr>
          <a:xfrm>
            <a:off x="4140360" y="189000"/>
            <a:ext cx="3457440" cy="288756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Активные рядовые члены организ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9311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удент факультета географии и геоэкологии Санкт-Петербургского Государственного Университета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митрий Сальник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лексей Железн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ссистент кафедры геоморфологии  Санкт-Петербургского Государственного Университе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кафедры отечественной истории Красноярского Государственного Педагогического Университета В.П. Астафье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гей Бахт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кафедры экономической и социальной географии России Московского Государственного Университета им. М.В. Ломоносо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лексей Сидоренк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Института наследия имени Дмитрия Лихаче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ктор Мата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Таврического Национальног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ниверситета  (Украина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гей Гур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удент географического факультета Московского Государственного Университета им. М.В. Ломоносова, призер международной олимпиады по географ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ван Прохор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удент факультета естественных наук и природных ресурсов Новгородского Государственного Университе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лексей Сабельс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Рейтинг тем, кол-во человек принявших в обсуждениях, (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%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раз идеального географа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фессия географа – 8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ематические отрасли  в географии - 20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ездки, путешествия, туризм - 10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рода России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астие в различных географических организациях - 7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тупление на географические факультеты страны – 13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ое мышление – 4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блемы трудоустройства – 15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учение географии в школе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циальный статус и его роль в географии – 6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ий софт и игры – 8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ий юмор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-территориальное деление России 10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ИС- 6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ая культура – 15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дислов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развития социального общ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ременные информационные средства общения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стевые кни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ум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о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ые сети (Вконтакте, Википедия и др.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ecff"/>
                </a:solidFill>
                <a:uFillTx/>
                <a:latin typeface="Times New Roman"/>
              </a:rPr>
              <a:t>Итоги работы организации за год существования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22960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) Намечена стратегия развития проекта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2) Создан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форум-каталог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географических ресурсов http://geoforumkatalog.5bk.org/ , сотрудничающий с Елисеевским географическим обществом (руководителем которого является Николай Баландинский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3) В рамках Ассоциации предпринята попытка создания дистанционного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социального географического университета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(http://vkontakte.ru/club1859707 ), состоящего из ряда дистанционных кафедр и лабораторий (дистанционное тьюторство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4) Подготавливаются база для создания первого в России географического движения (несколько видных географов уже высказали свой интерес к этому проекту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5) Сформирован Банк географической информации (http://vkontakte.ru/club926972 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6) Постоянно обновляется географический фото-, аудио- и видеоархив (в нашем архиве есть и эксклюзивные материалы с путешествий Григория Кубатьяна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7) Началось постепенное формирование географических компьютерных презентаций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8) В рамках ассоциированной с IIGA виртуальной кафедрой этнологии (http://vkontakte.ru/club258245 ) создана Инициативная группа по "проталкиванию" нового школьного предмета под условным названием "Народоведение" (http://vkontakte.ru/club1475221 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9) Организован ряд интересных встреч, конкурсов, фестивалей и этнографических полевых практикумов (см. раздел "Наши мероприятия"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0) Вынесены на обсуждение актуальные теоретические и практические вопросы географии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1) По целому ряду географических проблем среди участников Ассоциации проводятся социологические опросы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2) Оперативно помещается самая свежая информация географического плана (раздел "Новости"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3) Создан уникальный банк данных по российским и зарубежным знаменитостям с высшим географическим образованием, но не ставших профессиональными географ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истанционный Социальный Географический Университет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 началось с создания гео-национального проекта "Вконтакте с Географией"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с марта месяца 2008 года поменял свою направленность. Главной его сферой стала социальная, ориентированная на потребности человека в географ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ыли поставлены задач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) Развитие единой электронной библиотеки по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) Создание рекламной афиши по купле и продажи географических книг и пособий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) Консультации по спектру вопросов, касающихся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) Обучение информационным технологиям в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) Обсуждение проблем в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6) Развитие отдельных отраслей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) Помощь в трудоустройстве (единая справочная сеть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8) Создание нового информационного класса для обучения и создание единого виртуального дистанционного географического университета;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Основные сведения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Социальный (Интерактивный) Географический Университет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службы "Вконтакте" был основан 4 марта 2008 года. Его состав включает все социальные слои в географии, геологии, картографии, истории, политологии и туризме и в других естественнонаучных и гуманитарных науках, тесно соприкасающихся с географией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ем заявок на вступление происходит по следующим критериям отбор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И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разование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еная степен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убликаци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фессиональные достиж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Структура СИАГ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сегодняшний день создано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5 кафедр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 лаборатор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электронно-книжная библиотек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центр электронных географических ресурсов Интернет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видео-географический архи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сколько подшефных организаций (фан-клубы, известных организаций и печатных изданий страны)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звание структурных подразделений (СИАГУ)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истории географической науки и образования стран мира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изучением истоков зарождения науки и развития гео. образования в мире);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и урбанизации мира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проблемами исследования  урбанизации в мире);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политической географии (геополитики) и регионалистики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 геополитическими исследованиями стран мира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вузовской географии и трудоустройства (занимается вопросами качества высшего гео. образования и проблемами постдипломного трудоустройства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ческой визуализации (занимается вопросами картографии и ГИС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медийной географии (занимается изучением распространения СМИ и мультимедийной продукции в географии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культурной географии (география культуры и искусства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и религий мира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электоральной географии (занимается изучением политики с точки зрения социально-экономической географии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страноведения и м.д. туризма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Географический Форум-Каталог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Geographical Forum-Catalog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орум представляет собой информационный ресурс. Состоит из 6 категорий. В основных темах форума представлены: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IGA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Ассоциация, на которой основан форум, «Географическая библиотека», «Гео-образование», кафедры Социально-Интерактивного Географического Университета, темы по направлениям географии и др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Цель форума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бъединение географов, геологов, почвоведов, картографов, специалистов в сфере туризма, историков, политологов, экономистов и всех любителей науки, кому не безразлична судьба современной географии, её проблем и дальнейших перспекти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Задач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влечение в форум по средствам интернет-общения сторонников национальной географической идеи, обсуждение актуальных проблем нынешней географии, её теоретических и практических вопрос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орум могут вступить все желающие, кому дорога география. Это могут быть: студенты, школьники,учителя,преподаватели школ и вузов, путешественники, туристы и просто любители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 Ассоци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Rectangle 10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Object 1028"/>
          <p:cNvGraphicFramePr/>
          <p:nvPr/>
        </p:nvGraphicFramePr>
        <p:xfrm>
          <a:off x="0" y="981000"/>
          <a:ext cx="479124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4791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1031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0" name="Object 1030"/>
          <p:cNvGraphicFramePr/>
          <p:nvPr/>
        </p:nvGraphicFramePr>
        <p:xfrm>
          <a:off x="4705200" y="1413000"/>
          <a:ext cx="4438800" cy="36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1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5200" y="1413000"/>
                    <a:ext cx="443880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0" y="0"/>
          <a:ext cx="4429080" cy="30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429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7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9" name="Object 6"/>
          <p:cNvGraphicFramePr/>
          <p:nvPr/>
        </p:nvGraphicFramePr>
        <p:xfrm>
          <a:off x="4572000" y="0"/>
          <a:ext cx="4438800" cy="309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0"/>
                    <a:ext cx="4438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9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2" name="Object 8"/>
          <p:cNvGraphicFramePr/>
          <p:nvPr/>
        </p:nvGraphicFramePr>
        <p:xfrm>
          <a:off x="0" y="3357720"/>
          <a:ext cx="4438800" cy="3095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357720"/>
                    <a:ext cx="4438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11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Object 10"/>
          <p:cNvGraphicFramePr/>
          <p:nvPr/>
        </p:nvGraphicFramePr>
        <p:xfrm>
          <a:off x="4500720" y="3357720"/>
          <a:ext cx="4448160" cy="3105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6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3357720"/>
                    <a:ext cx="44481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12" descr="картаа"/>
          <p:cNvPicPr/>
          <p:nvPr/>
        </p:nvPicPr>
        <p:blipFill>
          <a:blip r:embed="rId1"/>
          <a:stretch/>
        </p:blipFill>
        <p:spPr>
          <a:xfrm>
            <a:off x="0" y="0"/>
            <a:ext cx="9144000" cy="591660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Сервисы Web 2.0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им  из многофункциональных лидеров социальных сетей в России стала  служб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контакт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». Созданная Ивановым Алексеем, российский аналог англоязычного сервиса 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Facebook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йт был изначально создан для студентов и выпускников российских вузов и помогает им поддерживать связь между собой. В нынешнее время происходит расширение аудитории сайта для всех слоев пользователей Интерне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ом проекта является стипендиат премии Потанина Павел Дур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икипед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язычная общедоступная свободно распространяемая энциклопедия, публикуемая в Интернете. Создаётся на многих языках мира коллективным трудом добровольных авторов, использующих технологию ви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Вики — веб-сайт, структуру и содержимое которого пользователи могут сообща изменять с помощью инструментов, предоставляемых самим сайтом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История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IGA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весне 2007 года, когда шло развитие самой социальной службы, энтузиастами разрабатывалась сама концепция построения международной географической ассоциац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легом Сычевым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 учителем географии московской школ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ниченко Владимиром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студентом геолого-географического факультета Астраханского государственного университе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Цели создания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географии как наук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решения проблем трудоустройств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предмета в школ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Цели создания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географии как наук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решения проблем трудоустройств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предмета в школ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Задачи Ассоциации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влечение в Ассоциацию посредством виртуального общения сторонников национальной географической идеи, обсуждение актуальных проблем нынешней географии, её теоретических и практических вопрос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амого большого в Интернете в первую очередь научно-образовательного и общественного профессионального географического сообщества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дание официального статуса Ассоциации (юридическая её регистрация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воего географического движения (Профсоюз географов России и стран СНГ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виртуального Географического университета, направленного на формирование географической культуры в самых широких слоях населения (популяризация географии, дистанционное консультирование (тьюторство)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влечение к проекту известных ученых-естественников и знаменитых путешественник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мобильных творческих групп для решения конкретных задач, например, написание пособий и учебников по географии и другим смежным дисциплинам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иск спонсоров, в том числе информационных (установление связей с географическими СМИ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рганизация разных конкурсов, олимпиад (различного социального уровня), дружеских встреч, научных конференций, туристических поездок, экспедиций, образовательных полевых практикум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воего мощного сайта на основ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ki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хнологий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перспективе: установление дружественных и деловых связей с зарубежными географическими структурами; их привлечение к проекту в качестве партнер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офессиональный состав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Географы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чвовед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ртограф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ециалисты по ГИС и в сфере туризм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сторик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ит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кономист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тноло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и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Ассоциацию могут войти не только профессиональные географы, но и представители других смежных с географией нау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Общие сведения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 конец марта 2008 года в Ассоциации насчитывается более 4650 чел. В основном из России и в основном студенты-географы. Но также есть участники из Украины, Белоруссии, Грузии, Азербайджана, Киргизии, Узбекистана, Казахстана, США, Израиля и Герман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и участников и руководителей Ассоциации есть и известные люд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2:03:48Z</dcterms:created>
  <dc:creator>USER</dc:creator>
  <dc:description/>
  <dc:language>en-US</dc:language>
  <cp:lastModifiedBy>LEGION</cp:lastModifiedBy>
  <dcterms:modified xsi:type="dcterms:W3CDTF">2014-12-29T08:36:47Z</dcterms:modified>
  <cp:revision>22</cp:revision>
  <dc:subject/>
  <dc:title>INTERNATIONAL-INTERNET GEO-ASSOCIATION</dc:title>
</cp:coreProperties>
</file>