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6F59-DEFD-410B-B342-E330D86E566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ГЕОГРАФИЯ – ЭТ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 НАУК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ИЙ ВЗАИМОДЕЙСТВИЕ ПРИРОДЫ И ОБЩЕСТВА В ПРОЦЕССЕ ПРОИЗВОДСТВА МАТЕРИАЛЬНЫХ БЛАГ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0990-FFDC-402F-ACA2-C93A41FB5E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8.                                                                                                                                             Зарубежная Азия.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,2 Мы даем общую характеристику Зарубеж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   Мы изучаем Кита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  Мы познаем Япо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  Мы «открываем» Инд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6,7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знакомимся с Австралией и Океан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ая Америк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даем общую характеристику стран Латинской Америки. 3. Мы знакомимся с Бразил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966A-C795-4DFA-A576-0E0AF24DB5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ть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1. Глобальные проблемы человечества .     (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обосновываем глобальные проблемы человечества. Проблемы сохранения мира на Земле.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емографическая 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нергетическая и сырьевая проблемы. Проблемы отсталости развевающихся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блемы Мирового океана.                                     10  часов на подготовку к экзамену по материалам ЕГЭ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F97A-CBEF-4435-9E6C-1426C26BB6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ЭКОНОМИЧЕСКАЯ 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АСТНЫЕ ЭКОНОМИКО-ГЕОГРАФ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С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/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ГЕОГРАФИЯ ТРАНСПО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ДРУ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КАЖДАЯ ИМЕЕТ СВОЙ ОСОБЫЙ МЕТ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БЩАЯ ЭКОНОМИЧЕСК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(ИЗУЧЕНИЕ ХОЗЯЙСТВЕННО-ТЕРРИТОРИАЛЬНЫХ КОМПЛЕКСОВ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300C-6233-4656-9AFC-C14DBD1E465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алендарно- тематическое  факультативных уроков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10 кла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мира (3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25C4-DA37-4BF6-90E9-A37F41015E3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мира (3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2. Современная политическая карта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дготовка к экзамену  с использованием диска «Репетитор по географ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ждение и анализ последних территориальных изменений на политической карте мира с использованием карт атласа, ресурсов  Интерн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9BA7-BB2E-4FA0-B8F1-FF7155FBB53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я мировых природных ресурсов. Загрязнение и охрана окружающей среды (8 час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оцениваем мировые природные ресурсы. Мировые ресурсы минерального топл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емель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Лес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сурсы пресной воды и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смические   и   агроклиматические   ресурсы.   Альтернативные   источник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ы рассматриваем загрязнения окружающей среды.                                                                            7,8.  Подготовка к экзамену с помощью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таблиц, картосхем атласа, составление  диаграмм, использование  тематического диска         « География – 2007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C1B5-D26D-47FA-ADA3-EFDAA4FA5B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География населения мира. (5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2. Мы знакомимся с численностью и воспроизводством населения, структура населения, размещение и миграции населения, городское и сельское насе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« Урбанизация - зло или благо?».                                                                                      4,5.  Подготовка к экзамену с помощью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ловозрастных пирамид, моделирование половозрастных пирами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нформационного материала диска «Социальная и экономическая география ,         10 кл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A394-A0CD-4456-8145-8AC1711997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техническая революция и мировое хозяйство. (  7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Характеристика 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Изучение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Отраслевая и территориальная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 Факторы размещения промышленн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,6,7.  Подготовка к экзамену с помощью материалов ЕГЭ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дополнительной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0BFB-60F7-40F6-959F-1C3DDFA357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е   хозяйство.   География   отраслей   мирового   хозяйства. (11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пливно-энергетическая промышленность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лектроэнергетик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Металлургия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ашинострое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Химическая промышленность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есная и легкая отрасли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льское хозяйство и земледелие.    8.Животноводство. Рыболов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Мы занимаемся географией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11.Подготовка к экзамену с использованием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A393-6D94-402E-BE27-1B57B92C2E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Часть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характеристика мира. (34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даем общую характеристику С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ерриториальная структура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ельскохозяйственные районы С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знакомимся с Кана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Зарубежная Европ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даем общую характеристику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ерриториальная структура хозяйства стран                    Зарубеж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Мы изучаем географический рисунок расселения и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ы знакомимся с субрегионами и странами Зарубежной Европы. Страны Запад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траны Восточ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BD2E-46B2-4A34-8112-020007BC70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E988-E8FE-4865-814C-423502F4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6DA-9F17-4A07-ABB3-3C9FCA61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717-F077-47AA-BE65-4975A193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6F1-69A6-47AD-97BB-28AF0806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97256-6CCB-4CF2-8A65-792DB3D8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D6A4B-C385-4712-9253-100576C1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5BFB2-58A5-4151-83D5-06B99964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26EFB-B8B5-4D0B-B744-AE4DE952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0800B-C655-47F2-9227-01F2641B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EDE77-78AA-43E9-89D9-29FCACAE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83F2A-C2BC-4A83-A9AB-BCC5C650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0DB-44B9-4C87-BB5B-831A42ED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CFECD-27C3-4B21-B688-B9B7B175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27055-0577-4804-9421-B425F340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56F09-914B-4D25-AD61-4707E033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D1CA5-F426-4769-B9F6-5473A2CB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CE894-C5E1-4380-B027-4486CEE9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BF5-7497-4E16-A28C-BA9B64F2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BF4-416F-4B5C-A410-D29A3596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8A6-BAD7-4942-88A3-C989AC98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F7D-47BA-403C-9C6F-2DC0B837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86F-3ADE-4BA5-9915-2A8643DA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08D-470D-4B9E-9961-D7BDFE0C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525-5D14-4EEE-8D4B-DF1A0045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0F1B-C895-4AEE-AD73-F10081D94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15FC-0322-405B-B2FA-E79F515B00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258480"/>
            <a:ext cx="8642160" cy="62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cc"/>
                </a:solidFill>
                <a:latin typeface="Tahoma"/>
              </a:rPr>
              <a:t>ГЕОГРАФИЯ –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МПЛЕКС НАУК,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ЗУЧАЮЩИЙ ВЗАИМОДЕЙСТВИЕ ПРИРОДЫ И ОБЩЕСТВА В ПРОЦЕССЕ ПРОИЗВОДСТВА МАТЕРИАЛЬНЫХ БЛАГ И УСЛУ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4046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 8.                                                                                                                                             Зарубежная Азия.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,2 Мы даем общую характеристику Зарубежной А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   Мы изучаем Китай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  Мы познаем Япо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  Мы «открываем» Инд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6,7 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познакомимся с Австралией и Океан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тинская Америка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2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даем общую характеристику стран Латинской Америки. 3. Мы знакомимся с Бразил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79280" y="479520"/>
            <a:ext cx="874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асть 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11. Глобальные проблемы человечества .     (4 час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Мы обосновываем глобальные проблемы человечества. Проблемы сохранения мира на Земле. Экологические пробл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емографическая продовольственная пробл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Энергетическая и сырьевая проблемы. Проблемы отсталости развевающихся стр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Проблемы Мирового океана.                                     10  часов на подготовку к экзамену по материалам ЕГЭ.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ahoma"/>
              </a:rPr>
              <a:t>ЭКОНОМИЧЕСКАЯ ГЕОГРАФ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ЧАСТНЫЕ ЭКОНОМИКО-ГЕОГРАФ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АУ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НАС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ПРОМЫШЛ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С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/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ГЕОГРАФИЯ ТРАНСПОР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КАЖДАЯ ИМЕЕТ СВОЙ ОСОБЫЙ МЕТ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ИС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0" y="1915920"/>
            <a:ext cx="4114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БЩАЯ ЭКОНОМ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ГЕОГРАФ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ИЗУЧЕНИЕ ХОЗЯЙСТВЕННО-ТЕРРИТОРИАЛЬНЫХ КОМПЛЕКС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95280" y="98172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алендарно- тематическое  факультативных уроков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 10 класс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асть 1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щая характеристика мира (34 час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24000" y="69516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асть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ая характеристика мира (34 час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час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. Современная политическая карта ми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одготовка к экзамену  с использованием диска «Репетитор по географ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суждение и анализ последних территориальных изменений на политической карте мира с использованием карт атласа, ресурсов  Интерн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684360" y="370080"/>
            <a:ext cx="7920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графия мировых природных ресурсов. Загрязнение и охрана окружающей среды (8 час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оцениваем мировые природные ресурсы. Мировые ресурсы минерального топли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Земельные ресур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Лесные ресур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Ресурсы пресной воды и Мирового оке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осмические   и   агроклиматические   ресурсы.   Альтернативные   источники энер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Мы рассматриваем загрязнения окружающей среды.                                                                            7,8.  Подготовка к экзамену с помощью материалов ЕГ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таблиц, картосхем атласа, составление  диаграмм, использование  тематического диска         « География – 2007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324000" y="253800"/>
            <a:ext cx="8569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3. География населения мира. (5 ча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. Мы знакомимся с численностью и воспроизводством населения, структура населения, размещение и миграции населения, городское и сельское насе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« Урбанизация - зло или благо?».                                                                                      4,5.  Подготовка к экзамену с помощью материалов ЕГ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 половозрастных пирамид, моделирование половозрастных пирами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 информационного материала диска «Социальная и экономическая география ,         10 кл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79280" y="430560"/>
            <a:ext cx="8640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-техническая революция и мировое хозяйство. (  7 час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Характеристика  НТ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Изучение мирового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 Отраслевая и территориальная структура мирового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 Факторы размещения промышленного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,6,7.  Подготовка к экзамену с помощью материалов ЕГЭ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дополнительной литератур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60280" y="175320"/>
            <a:ext cx="862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ровое   хозяйство.   География   отраслей   мирового   хозяйства. (11 ча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Топливно-энергетическая промышленность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Электроэнергетика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Металлургия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ашиностроение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Химическая промышленность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Лесная и легкая отрасли промышлен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ельское хозяйство и земледелие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Животноводство. Рыболов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Мы занимаемся географией транспор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,11.Подготовка к экзамену с использованием материалов ЕГ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763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Часть 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ональная характеристика мира. (34ча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даем общую характеристику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Территориальная структура промышл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ельскохозяйственные районы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ы знакомимся с Кана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7. Зарубежная Европ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даем общую характеристику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Территориальная структура хозяйства стран                    Зарубеж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Мы изучаем географический рисунок расселения и хозяй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ы знакомимся с субрегионами и странами Зарубежной Европы. Страны Запад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Страны Восточ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1:25:19Z</dcterms:created>
  <dc:creator>Nemo</dc:creator>
  <dc:description/>
  <dc:language>en-US</dc:language>
  <cp:lastModifiedBy>LEGION</cp:lastModifiedBy>
  <dcterms:modified xsi:type="dcterms:W3CDTF">2014-12-29T08:38:08Z</dcterms:modified>
  <cp:revision>12</cp:revision>
  <dc:subject/>
  <dc:title>Слайд 1</dc:title>
</cp:coreProperties>
</file>