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47E6-83FF-47B0-B0DA-7002AC2E7FA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ГЕОГРАФИЯ – Э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НАУК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3D28-7E32-4AC9-8872-9A1769E42EC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 Мы даем общую характеристику Зарубе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   Мы изучаем Кита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  Мы познаем Яп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  Мы «открываем» Инд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6,7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накомимся с Австралией и Океа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ая Америк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даем общую характеристику стран Латинской Америки. 3. Мы знакомимся с Бразил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6936-0132-448C-8FB0-25869015DD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ь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859F-6CAB-483B-81A9-02D4EEB4A4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КОНОМИЧЕСКАЯ 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СТНЫЕ ЭКОНОМИКО-ГЕО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С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/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ТРАН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АЖДАЯ ИМЕЕТ СВОЙ ОСОБЫЙ МЕТ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БЩАЯ ЭКОНОМИЧЕ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ИЗУЧЕНИЕ ХОЗЯЙСТВЕННО-ТЕРРИТОРИАЛЬНЫХ КОМПЛЕКС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6F64-66AF-416C-AE49-5BDFB5EE10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10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9FDD-8FF6-440B-8592-A558146700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Современная политическая карта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B174-75F9-45F6-9B69-845B2EF108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емель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Лес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сурсы пресной воды и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4AD8-5617-4445-B588-6B7A06DE6F0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География населения мира. (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6ACD-9BBF-49FE-AFE8-90F2CE8DF6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Характеристика 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Изучение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дополнительной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0EDC-6B31-425F-9098-4E36969588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лектроэнергетик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еталлургия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шинострое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Хим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есная и легкая отрасли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льское хозяйство и земледелие.    8.Животноводство. Рыболов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Мы занимаемся географией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6677-36E8-4052-B57D-1F1D228CEB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Часть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характеристика мира. (34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ельскохозяйственные районы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знакомимся с Кана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Зарубежная Европ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траны Восточ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12D7-413A-4978-AFA1-FFFC284B862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B75-1FDD-45F1-8631-EC6F2A7D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CD60-098A-4F42-BCC7-12765CF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2B5-B78B-43AD-9372-CCEDAB28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F03-D5FC-46F7-9181-D27ADA3D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3E6D9E-90AF-43F5-BE01-0962188E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607A9-F409-4684-A7A3-0A3BE302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317CB-87FE-4065-BCC3-10CBFC7C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341D2-5D8D-44C4-81E3-36949E30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FAF5B-B1A7-4A63-B78A-3B661106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545A7-104A-4323-B75D-9CCFD261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031E8-49FD-442B-92FE-9097637D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FB6-D255-4A80-914E-8BA7D506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B9699-B9D9-4931-B92C-4D7364F9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927CC-550D-4E16-8B65-1F07B4B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EA217-6E33-4F40-BC38-744AA1BD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C87A5-AD1B-4DD7-B1B4-FE04F79D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8139F-712C-46F9-91D5-5AD15F89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39C-40C9-4C6D-A42B-9364E349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4E06-0638-4C11-961C-51F06557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52B5-15C2-49B9-B2BE-FA4BDF02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1DE5-84E1-4991-B4CE-58EF49E2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221-8375-401E-AEED-0043A3F1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84B-36CC-4E5A-A696-72523EBD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AA65-6AD3-4401-94D3-7C0E1743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FF65-7F90-4ED9-AF99-23BDAE487F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DDB9-9784-458C-8DB0-DB4FF5D547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258480"/>
            <a:ext cx="864216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Tahoma"/>
              </a:rPr>
              <a:t>ГЕОГРАФИЯ –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МПЛЕКС НАУК,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,2 Мы даем общую характеристику Зарубежной А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   Мы изучаем Китай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  Мы познаем Япо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  Мы «открываем» Инд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,7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познакомимся с Австралией и Океан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тинская Америк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даем общую характеристику стран Латинской Америки. 3. Мы знакомимся с Бразил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79280" y="479520"/>
            <a:ext cx="87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ь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ЭКОНОМИЧЕСКАЯ ГЕ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ЧАСТНЫЕ ЭКОНОМИКО-ГЕОГРАФ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У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НА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ПРОМЫШ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С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/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ГЕОГРАФИЯ ТРАНСПОР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КАЖДАЯ ИМЕЕТ СВОЙ ОСОБЫЙ МЕТ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0" y="1915920"/>
            <a:ext cx="4114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ЩАЯ 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ИЗУЧЕНИЕ ХОЗЯЙСТВЕННО-ТЕРРИТОРИАЛЬНЫХ КОМПЛЕКС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95280" y="98172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10 класс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24000" y="69516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час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Современная политическая карта м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4360" y="3700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емель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с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сурсы пресной воды и Мирового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24000" y="253800"/>
            <a:ext cx="856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3. География населения мира. (5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79280" y="430560"/>
            <a:ext cx="86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Характеристика  НТ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Изучение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дополнительной литерату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60280" y="175320"/>
            <a:ext cx="862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Электроэнергетика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Металлургия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ашиностроение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им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Лесная и легкая отрасли промышл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ельское хозяйство и земледелие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Животноводство. Рыболо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Мы занимаемся географией транспор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763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асть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ая характеристика мира. (34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промышл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ельскохозяйственные районы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знакомимся с Кана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7. Зарубежная Европ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Страны Восточ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1:25:19Z</dcterms:created>
  <dc:creator>Nemo</dc:creator>
  <dc:description/>
  <dc:language>en-US</dc:language>
  <cp:lastModifiedBy>LEGION</cp:lastModifiedBy>
  <dcterms:modified xsi:type="dcterms:W3CDTF">2014-12-29T08:38:08Z</dcterms:modified>
  <cp:revision>12</cp:revision>
  <dc:subject/>
  <dc:title>Слайд 1</dc:title>
</cp:coreProperties>
</file>