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F7F9-F4E0-4A80-B69C-3BCE090C84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ИВНОГО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Россия и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AD5D-84B8-4D17-9637-D2B0722C5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A182-4D5D-411F-96C6-58D7C5AB4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AE60-DDA9-4E68-97DE-D9014E54A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9797-B37E-4A67-97AB-435DAF299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труктура кур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A819-0CE4-452C-87B3-BDCCD2F65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ADED-5335-470B-85AD-9DEFE060D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1A0F-EAD4-4E45-94FA-AD4D91E74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27AE-5942-4DAD-BEE8-D7EF506F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E0D9-0004-4B37-B129-A37350C0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84BB-8014-4AE3-B481-398226C3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1C28-559C-41F0-935D-F29CCAC9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9055-1B2B-4D35-A439-FCB244C6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66C5-5641-444F-BBB7-F13A6779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1D44-3852-4194-91D0-0C434ADA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B918-40E7-4595-ABA2-C6CC2C56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8EBA-05AC-401A-9B28-9697C489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ECB2-D8CC-41B0-8F8F-24779A3E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7911-3F3B-43CB-8D1B-A5FB1146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D28D-3F54-4717-94A8-CB30AA74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68CD-AA23-48E3-997C-5281F36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8307-28C5-48F8-8385-731038A1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ADBF-93EA-4C5B-8CE6-B58F4025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C3DE-CF07-4E22-923F-082DFA4C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81F0-10BD-4EE3-ACF5-C2A0ACBC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D097-528C-444A-8D9F-79F206B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30E4-A4A2-40E2-9549-5706B1AE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6FBC-DF42-4519-ADEE-EF0AEBAE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7B56-E3F6-4200-894E-612E15A8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889B-F713-43EB-A76A-DBA4E3E6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D93D-091E-4E1E-9239-62918B0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1E53-9FD7-4CD8-A3BA-7B5D42B7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5097-B359-4A6B-8EB0-77F5F955DD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AD17-377E-4251-880A-9DFD3E2708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Коммерческая география.</a:t>
            </a:r>
            <a:br>
              <a:rPr sz="3500"/>
            </a:b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Россия и мировой рын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H01046J"/>
          <p:cNvPicPr/>
          <p:nvPr/>
        </p:nvPicPr>
        <p:blipFill>
          <a:blip r:embed="rId1"/>
          <a:stretch/>
        </p:blipFill>
        <p:spPr>
          <a:xfrm>
            <a:off x="7308720" y="4292640"/>
            <a:ext cx="154332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800"/>
            </a:b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800"/>
            </a:b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S01635_"/>
          <p:cNvPicPr/>
          <p:nvPr/>
        </p:nvPicPr>
        <p:blipFill>
          <a:blip r:embed="rId1"/>
          <a:stretch/>
        </p:blipFill>
        <p:spPr>
          <a:xfrm>
            <a:off x="6804000" y="404640"/>
            <a:ext cx="19810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Структура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37_"/>
          <p:cNvPicPr/>
          <p:nvPr/>
        </p:nvPicPr>
        <p:blipFill>
          <a:blip r:embed="rId1"/>
          <a:stretch/>
        </p:blipFill>
        <p:spPr>
          <a:xfrm>
            <a:off x="6372360" y="3213000"/>
            <a:ext cx="2771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5:51:57Z</dcterms:created>
  <dc:creator>user</dc:creator>
  <dc:description/>
  <dc:language>en-US</dc:language>
  <cp:lastModifiedBy>LEGION</cp:lastModifiedBy>
  <dcterms:modified xsi:type="dcterms:W3CDTF">2014-12-29T09:02:52Z</dcterms:modified>
  <cp:revision>8</cp:revision>
  <dc:subject/>
  <dc:title>Коммерческая 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1000000000001024140</vt:lpwstr>
  </property>
</Properties>
</file>