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5BC5-C5C9-46AD-A65C-FD5A5B53C4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ИВНОГО КУР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Коммерческая география.</a:t>
            </a:r>
            <a:br>
              <a:rPr sz="1200"/>
            </a:b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Россия и мировой ры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B8D1-5FF2-4275-B3F6-0CDD640577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200"/>
            </a:b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Коммерческая география. Россия  и  мировой ры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ивный курс предпрофильной подготовки для учащихся 9-х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34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базов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на основе авторской программы и учебника Е.Л.Плисецкого «Коммерческая география. Россия и мировой ры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E85D-E12A-410D-9F77-B78CC3E1FF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– формирование у учащихся представлений о коммерческой географии как научном направлении, имеющем важное практическое значение в условиях современных рыноч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редставлений об особенностях и тенденциях развития рынка в России, ее месте в мировом хозяй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6FBD-2A9A-4066-92BA-7EF4B28C0E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основы коммерческой геогра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бщее представление об условиях и факторах территориальной организации рынка и развития предпринимательств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собенности отраслевых рынков, в том числе финансовой и инвести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статистических данных научить строить и анализировать графики и диа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B0CD-AE87-41C8-8A5A-FFA048502A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Структура кур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етическая часть – 18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ая часть – 14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тные занятия – 2 ча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577B-C295-4B18-84A7-0D0198C5EC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Коммерческая география. 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Россия  и  мировой рын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яснительная запис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 элективному курсу в 9 класс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Коммерческая география. Россия и мировой рынок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ивный курс разработан на основе авторской программы и учебника Евгения Леонидовича Плисецкого «Коммерческая география. Россия и мировой рынок». Предназначен для изучения в профильных классах общеобразовательной школы социально-гуманитарной направленности, а также в учебных заведениях с углубленным изучением географических и экономических дисциплин – гимназиях, лицеях, колледж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й целью курса является формирование у учащихся представлений о коммерческой географии как научном направлении, имеющим важное практическое значение в условиях современных рыночных отношений, о факторах, особенностях и тенденциях формирования рынка в России, ее месте в мировом хозяй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6365-14F7-4945-BD5D-A3258CFE8B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Коммерческая география. 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Россия  и  мировой рын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урсе изучаются основы коммерческой географии, дается общее представление об условиях и факторах территориальной организации рынка и развития предпринимательства в России; рассматриваются особенности отраслевых рынков промышленной и сельскохозяйственной продукции, потребительских товаров и услуг, инфраструктуры рынка, в том числе сферы торговли, финансовой и инвестиционной деятельности, тран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состоит из лекционного материала, рассчитанного на 18 часов изучения, практической части – 14 часов и двух зачетных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й комплект соответствует требованиям профильного обучения в средней школе и современной концепции географического образования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2FB2-D7C4-4BD8-B354-07C0FE84C0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4CC07-CE8F-4D01-BEA1-7D87DA78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C054C-0F7D-45FE-88D5-23055229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2AC11-8CD6-47B3-A7A3-7C9B2701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985F1-A6DD-4B10-B41F-43400128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B721-1D75-4723-BADE-43B75336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7CD1-B90A-42EE-BF51-44F07F7A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5684-63B7-42B6-99AD-D82607B1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C726-70A3-4E5B-854A-0A995CA3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16E3-D5C8-41B5-A3B9-432298A2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F0D1-12E3-46A6-B4E2-AE33253E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A794-C45C-44AD-8EAA-A8079547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BCE49-DF40-4156-97E9-BF614DCF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67D9-7D3A-4255-8797-31831871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D719-8425-4F2D-824F-47D06D2F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118A-6897-4431-ADA5-D03233EA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2CE8-9F7C-4B13-AACC-CF9AB752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A653-C575-420C-8746-CEECF7C7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44CD1-AD5A-4787-9756-19DD8B2C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9BC60-0E6F-4491-83F8-9E3600A2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E2E07-2501-4AE6-AB86-A38AEAA5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03596-D86F-4021-BF3B-EDF9379C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0412-25BE-465C-9C40-1C4DB118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FCCF8-0BEC-48E6-A173-9D8FF120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EEA84-4744-4340-903D-FBE9441B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9945-5894-4F63-9D07-542D036C853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4FBA-035B-413E-A7BC-E984AB36FD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ОГРАММА 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ЭЛЕКТИВНОГО КУРС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547640" y="46530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cccc"/>
                </a:solidFill>
                <a:latin typeface="Arial"/>
              </a:rPr>
              <a:t>Коммерческая география.</a:t>
            </a:r>
            <a:br>
              <a:rPr sz="3500"/>
            </a:br>
            <a:r>
              <a:rPr b="0" lang="ru-RU" sz="3500" spc="-1" strike="noStrike">
                <a:solidFill>
                  <a:srgbClr val="33cccc"/>
                </a:solidFill>
                <a:latin typeface="Arial"/>
              </a:rPr>
              <a:t>Россия и мировой рынок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PH01046J"/>
          <p:cNvPicPr/>
          <p:nvPr/>
        </p:nvPicPr>
        <p:blipFill>
          <a:blip r:embed="rId1"/>
          <a:stretch/>
        </p:blipFill>
        <p:spPr>
          <a:xfrm>
            <a:off x="7308720" y="4292640"/>
            <a:ext cx="1543320" cy="22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17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800"/>
            </a:b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800"/>
            </a:br>
            <a:r>
              <a:rPr b="1" i="1" lang="ru-RU" sz="2800" spc="-1" strike="noStrike">
                <a:solidFill>
                  <a:srgbClr val="33cccc"/>
                </a:solidFill>
                <a:latin typeface="Arial"/>
              </a:rPr>
              <a:t>Коммерческая география. Россия  и  мировой ры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ивный курс предпрофильной подготовки для учащихся 9-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34 ча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ение базового 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 на основе авторской программы и учебника Е.Л.Плисецкого «Коммерческая география. Россия и мировой рын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Ц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ая цель – формирование у учащихся представлений о коммерческой географии как научном направлении, имеющем важное практическое значение в условиях современных рыночных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редставлений об особенностях и тенденциях развития рынка в России, ее месте в мировом хозяй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BS01635_"/>
          <p:cNvPicPr/>
          <p:nvPr/>
        </p:nvPicPr>
        <p:blipFill>
          <a:blip r:embed="rId1"/>
          <a:stretch/>
        </p:blipFill>
        <p:spPr>
          <a:xfrm>
            <a:off x="6804000" y="404640"/>
            <a:ext cx="198108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основы коммерческой географ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ь общее представление об условиях и факторах территориальной организации рынка и развития предпринимательства в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особенности отраслевых рынков, в том числе финансовой и инвестицион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е статистических данных научить строить и анализировать графики и диа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Структура кур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ая часть – 18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часть – 14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четные занятия – 2 ч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AG00037_"/>
          <p:cNvPicPr/>
          <p:nvPr/>
        </p:nvPicPr>
        <p:blipFill>
          <a:blip r:embed="rId1"/>
          <a:stretch/>
        </p:blipFill>
        <p:spPr>
          <a:xfrm>
            <a:off x="6372360" y="3213000"/>
            <a:ext cx="27716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500"/>
            </a:b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Коммерческая география. 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Россия  и  мировой рынок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яснительная запис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элективному курсу в 9 клас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Коммерческая география. Россия и мировой рын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лективный курс разработан на основе авторской программы и учебника Евгения Леонидовича Плисецкого «Коммерческая география. Россия и мировой рынок». Предназначен для изучения в профильных классах общеобразовательной школы социально-гуманитарной направленности, а также в учебных заведениях с углубленным изучением географических и экономических дисциплин – гимназиях, лицеях, колледж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лавной целью курса является формирование у учащихся представлений о коммерческой географии как научном направлении, имеющим важное практическое значение в условиях современных рыночных отношений, о факторах, особенностях и тенденциях формирования рынка в России, ее месте в мировом хозяйств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500"/>
            </a:b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Коммерческая география. 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Россия  и  мировой рынок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курсе изучаются основы коммерческой географии, дается общее представление об условиях и факторах территориальной организации рынка и развития предпринимательства в России; рассматриваются особенности отраслевых рынков промышленной и сельскохозяйственной продукции, потребительских товаров и услуг, инфраструктуры рынка, в том числе сферы торговли, финансовой и инвестиционной деятельности, транспор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урс состоит из лекционного материала, рассчитанного на 18 часов изучения, практической части – 14 часов и двух зачетных занят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ебно-методический комплект соответствует требованиям профильного обучения в средней школе и современной концепции географического образования в Росс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05:51:57Z</dcterms:created>
  <dc:creator>user</dc:creator>
  <dc:description/>
  <dc:language>en-US</dc:language>
  <cp:lastModifiedBy>LEGION</cp:lastModifiedBy>
  <dcterms:modified xsi:type="dcterms:W3CDTF">2014-12-29T09:02:52Z</dcterms:modified>
  <cp:revision>8</cp:revision>
  <dc:subject/>
  <dc:title>Коммерческая географ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1000000000001024140</vt:lpwstr>
  </property>
</Properties>
</file>