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2142-8F57-4631-974F-206F6A9682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ИВНОГО КУР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Коммерческая география.</a:t>
            </a:r>
            <a:br>
              <a:rPr sz="1200"/>
            </a:b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Россия и мировой ры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A014-D27E-4A2D-A096-F3608A02A5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200"/>
            </a:b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Коммерческая география. Россия  и  мировой ры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ивный курс предпрофильной подготовки для учащихся 9-х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34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базов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на основе авторской программы и учебника Е.Л.Плисецкого «Коммерческая география. Россия и мировой ры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143E-FDD3-4D0C-BE4F-4F3A417175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– формирование у учащихся представлений о коммерческой географии как научном направлении, имеющем важное практическое значение в условиях современных рыноч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редставлений об особенностях и тенденциях развития рынка в России, ее месте в мировом хозяй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EF2A-550B-49AB-A2F2-C4F448BA6A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основы коммерческой геогра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бщее представление об условиях и факторах территориальной организации рынка и развития предпринимательств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собенности отраслевых рынков, в том числе финансовой и инвести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статистических данных научить строить и анализировать графики и диа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0FF0-7AE6-43AB-8619-01FA1B76AF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Структура кур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етическая часть – 18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ая часть – 14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тные занятия – 2 ча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3C5E-11C5-42F1-8B8E-6E8842FA07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Коммерческая география. 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Россия  и  мировой рын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яснительная запис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 элективному курсу в 9 класс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Коммерческая география. Россия и мировой рынок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ивный курс разработан на основе авторской программы и учебника Евгения Леонидовича Плисецкого «Коммерческая география. Россия и мировой рынок». Предназначен для изучения в профильных классах общеобразовательной школы социально-гуманитарной направленности, а также в учебных заведениях с углубленным изучением географических и экономических дисциплин – гимназиях, лицеях, колледж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й целью курса является формирование у учащихся представлений о коммерческой географии как научном направлении, имеющим важное практическое значение в условиях современных рыночных отношений, о факторах, особенностях и тенденциях формирования рынка в России, ее месте в мировом хозяй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D1F6-EDC1-435A-A781-307B651597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Коммерческая география. 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Россия  и  мировой рын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урсе изучаются основы коммерческой географии, дается общее представление об условиях и факторах территориальной организации рынка и развития предпринимательства в России; рассматриваются особенности отраслевых рынков промышленной и сельскохозяйственной продукции, потребительских товаров и услуг, инфраструктуры рынка, в том числе сферы торговли, финансовой и инвестиционной деятельности, тран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состоит из лекционного материала, рассчитанного на 18 часов изучения, практической части – 14 часов и двух зачетных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й комплект соответствует требованиям профильного обучения в средней школе и современной концепции географического образования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783A-2A16-4807-BF18-1B6DDD935B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CD844-203D-418B-84CA-AD8248F7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E6129-99A4-4EA8-B15D-5AE59BC9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E7A7F-D50F-4843-9EBA-7F085DAE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9AF3C-369D-45F0-9143-02AF45DB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C3E4-95CF-4CA7-B499-A796282F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9D9A-198C-467D-BE59-C74CFA7C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5D9C-B8BC-4032-B327-016E0ECD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44AD-C589-409C-B0A5-07775572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043F-C85D-4B98-8BE0-33046EC1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63FD-F3E3-48B6-B278-A64CD69F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826A-ED08-4153-8E94-323EB728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612C7-5171-44B4-A93F-4B58965D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320A-E721-43E2-A2B7-EFFBFD5E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BEE9-62EE-436D-9B38-50D25AF6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0378-9B5C-4612-89C1-D8272A86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3E14-7264-4999-BD83-D89057B8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FAAA-C779-47EC-8475-C12FFF4B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790FE-7EB4-495E-A354-61412F34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F20AC-C8CC-4C3C-9815-7D5E1A78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91709-50DF-4E39-88EC-51CD3B52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B1117-EB97-4B5D-9177-B12CFE4E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574E-053D-46BF-A15C-8B819EDE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E3B05-6C23-48C8-8C25-A82D6057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7B638-D3FB-429C-9C87-9F0C5D13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B3C0-B155-4B21-BD53-6BF044A0EE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9C3E-C070-4BB9-8C5F-011465D4626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ОГРАММА 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ЭЛЕКТИВНОГО КУРС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547640" y="46530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cccc"/>
                </a:solidFill>
                <a:latin typeface="Arial"/>
              </a:rPr>
              <a:t>Коммерческая география.</a:t>
            </a:r>
            <a:br>
              <a:rPr sz="3500"/>
            </a:br>
            <a:r>
              <a:rPr b="0" lang="ru-RU" sz="3500" spc="-1" strike="noStrike">
                <a:solidFill>
                  <a:srgbClr val="33cccc"/>
                </a:solidFill>
                <a:latin typeface="Arial"/>
              </a:rPr>
              <a:t>Россия и мировой рынок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PH01046J"/>
          <p:cNvPicPr/>
          <p:nvPr/>
        </p:nvPicPr>
        <p:blipFill>
          <a:blip r:embed="rId1"/>
          <a:stretch/>
        </p:blipFill>
        <p:spPr>
          <a:xfrm>
            <a:off x="7308720" y="4292640"/>
            <a:ext cx="1543320" cy="22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17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800"/>
            </a:b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800"/>
            </a:br>
            <a:r>
              <a:rPr b="1" i="1" lang="ru-RU" sz="2800" spc="-1" strike="noStrike">
                <a:solidFill>
                  <a:srgbClr val="33cccc"/>
                </a:solidFill>
                <a:latin typeface="Arial"/>
              </a:rPr>
              <a:t>Коммерческая география. Россия  и  мировой ры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ивный курс предпрофильной подготовки для учащихся 9-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34 ча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ение базового 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 на основе авторской программы и учебника Е.Л.Плисецкого «Коммерческая география. Россия и мировой рын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Ц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ая цель – формирование у учащихся представлений о коммерческой географии как научном направлении, имеющем важное практическое значение в условиях современных рыночных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редставлений об особенностях и тенденциях развития рынка в России, ее месте в мировом хозяй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BS01635_"/>
          <p:cNvPicPr/>
          <p:nvPr/>
        </p:nvPicPr>
        <p:blipFill>
          <a:blip r:embed="rId1"/>
          <a:stretch/>
        </p:blipFill>
        <p:spPr>
          <a:xfrm>
            <a:off x="6804000" y="404640"/>
            <a:ext cx="198108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основы коммерческой географ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ь общее представление об условиях и факторах территориальной организации рынка и развития предпринимательства в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особенности отраслевых рынков, в том числе финансовой и инвестицион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е статистических данных научить строить и анализировать графики и диа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Структура кур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ая часть – 18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часть – 14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четные занятия – 2 ч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AG00037_"/>
          <p:cNvPicPr/>
          <p:nvPr/>
        </p:nvPicPr>
        <p:blipFill>
          <a:blip r:embed="rId1"/>
          <a:stretch/>
        </p:blipFill>
        <p:spPr>
          <a:xfrm>
            <a:off x="6372360" y="3213000"/>
            <a:ext cx="27716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500"/>
            </a:b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Коммерческая география. 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Россия  и  мировой рынок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яснительная запис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элективному курсу в 9 клас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Коммерческая география. Россия и мировой рын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лективный курс разработан на основе авторской программы и учебника Евгения Леонидовича Плисецкого «Коммерческая география. Россия и мировой рынок». Предназначен для изучения в профильных классах общеобразовательной школы социально-гуманитарной направленности, а также в учебных заведениях с углубленным изучением географических и экономических дисциплин – гимназиях, лицеях, колледж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лавной целью курса является формирование у учащихся представлений о коммерческой географии как научном направлении, имеющим важное практическое значение в условиях современных рыночных отношений, о факторах, особенностях и тенденциях формирования рынка в России, ее месте в мировом хозяйств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500"/>
            </a:b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Коммерческая география. 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Россия  и  мировой рынок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курсе изучаются основы коммерческой географии, дается общее представление об условиях и факторах территориальной организации рынка и развития предпринимательства в России; рассматриваются особенности отраслевых рынков промышленной и сельскохозяйственной продукции, потребительских товаров и услуг, инфраструктуры рынка, в том числе сферы торговли, финансовой и инвестиционной деятельности, транспор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урс состоит из лекционного материала, рассчитанного на 18 часов изучения, практической части – 14 часов и двух зачетных занят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ебно-методический комплект соответствует требованиям профильного обучения в средней школе и современной концепции географического образования в Росс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05:51:57Z</dcterms:created>
  <dc:creator>user</dc:creator>
  <dc:description/>
  <dc:language>en-US</dc:language>
  <cp:lastModifiedBy>LEGION</cp:lastModifiedBy>
  <dcterms:modified xsi:type="dcterms:W3CDTF">2014-12-29T09:02:52Z</dcterms:modified>
  <cp:revision>8</cp:revision>
  <dc:subject/>
  <dc:title>Коммерческая географ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1000000000001024140</vt:lpwstr>
  </property>
</Properties>
</file>