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49BB-3DB0-4CC8-BCC3-A6FB8F7257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ИВНОГО КУР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Россия и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57B-91CE-4B58-AB34-B01FFEF89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200"/>
            </a:b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0DC5-E08A-489A-A695-D590D6E6D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22FA-B4F6-42C6-90C0-396C525BB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51E8-6F22-4D08-8664-A5F10A3BC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труктура кур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1B23-3280-46AE-B132-BBCD40C914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7D64-D089-45E7-9448-928D65989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ОГРАММА </a:t>
            </a:r>
            <a:br>
              <a:rPr sz="1400"/>
            </a:b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ЭЛЕКТИВНОГО КУРСА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Коммерческая география. </a:t>
            </a: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Россия  и  мировой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028E-5AC7-4938-B97D-6B7CEA097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E966-59AC-423B-B301-CCFDAD29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303C-284E-4A5C-8E39-6212AA7E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6ED6-197B-49F3-A089-5CF37829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846E-5DF9-4202-B2E6-7E2898A0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5400-F582-4483-9E85-9E52486A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9334-4549-4F46-B3E9-DC7E7C50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75CE-4B7C-427F-9C4D-E08FCE9F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5EDD-9376-4716-B0B0-D09C4EA9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FDAB-6EE6-458A-ABBC-B27964CE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95D4-DD13-44FF-9828-953987B7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066C-D5A6-432B-8749-D0D40EE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1A1B-3942-41CD-8837-2CD1996A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3059-A7AA-4543-A343-4EEBF9CA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1554-CA0A-40EE-AD45-45A0D226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856F-878B-41B0-810F-816BB1DF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195B-2573-4EF7-A603-C2926BB8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3CCB-4B81-4BC9-95E1-ECBA61CD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A0570-9041-43AA-8524-787A92B8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7FE4-BCED-4ABD-B191-4375F805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4DB6-D5A0-4B60-A14B-971B03E5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7090-FD64-41A3-93EB-9D850DCE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7826-E645-4CDA-A681-EEE9470D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A9E4-E499-4C47-810D-23F27D3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7DEC-4628-4F98-A775-4CC515F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8A83-4B69-4602-89C8-67E921C47C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A11-38B7-49A8-82E4-C6EEE7DBA6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Коммерческая география.</a:t>
            </a:r>
            <a:br>
              <a:rPr sz="3500"/>
            </a:br>
            <a:r>
              <a:rPr b="0" lang="ru-RU" sz="3500" spc="-1" strike="noStrike">
                <a:solidFill>
                  <a:srgbClr val="33cccc"/>
                </a:solidFill>
                <a:latin typeface="Arial"/>
              </a:rPr>
              <a:t>Россия и мировой рынок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H01046J"/>
          <p:cNvPicPr/>
          <p:nvPr/>
        </p:nvPicPr>
        <p:blipFill>
          <a:blip r:embed="rId1"/>
          <a:stretch/>
        </p:blipFill>
        <p:spPr>
          <a:xfrm>
            <a:off x="7308720" y="4292640"/>
            <a:ext cx="1543320" cy="22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800"/>
            </a:br>
            <a:r>
              <a:rPr b="0" lang="ru-RU" sz="28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800"/>
            </a:br>
            <a:r>
              <a:rPr b="1" i="1" lang="ru-RU" sz="2800" spc="-1" strike="noStrike">
                <a:solidFill>
                  <a:srgbClr val="33cccc"/>
                </a:solidFill>
                <a:latin typeface="Arial"/>
              </a:rPr>
              <a:t>Коммерческая география. Россия  и  мировой ры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ивный курс предпрофильной подготовки для учащихся 9-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34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базового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 на основе авторской программы и учебника Е.Л.Плисецкого «Коммерческая география. Россия и мировой рын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цель – формирование у учащихся представлений о коммерческой географии как научном направлении, имеющем важное практическое значение в условиях современных рыночн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ставлений об особенностях и тенденциях развития рынка в России, ее месте в миров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S01635_"/>
          <p:cNvPicPr/>
          <p:nvPr/>
        </p:nvPicPr>
        <p:blipFill>
          <a:blip r:embed="rId1"/>
          <a:stretch/>
        </p:blipFill>
        <p:spPr>
          <a:xfrm>
            <a:off x="6804000" y="404640"/>
            <a:ext cx="198108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основы коммерческой географ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общее представление об условиях и факторах территориальной организации рынка и развития предпринимательства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особенности отраслевых рынков, в том числе финансовой и инвестицион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статистических данных научить строить и анализировать графики и ди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Структура кур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ая часть – 18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часть – 14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ые занятия – 2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37_"/>
          <p:cNvPicPr/>
          <p:nvPr/>
        </p:nvPicPr>
        <p:blipFill>
          <a:blip r:embed="rId1"/>
          <a:stretch/>
        </p:blipFill>
        <p:spPr>
          <a:xfrm>
            <a:off x="6372360" y="3213000"/>
            <a:ext cx="2771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элективному курсу в 9 клас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оммерческая география. Россия и мировой рын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ктивный курс разработан на основе авторской программы и учебника Евгения Леонидовича Плисецкого «Коммерческая география. Россия и мировой рынок». Предназначен для изучения в профильных классах общеобразовательной школы социально-гуманитарной направленности, а также в учебных заведениях с углубленным изучением географических и экономических дисциплин – гимназиях, лицеях, колледж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авной целью курса является формирование у учащихся представлений о коммерческой географии как научном направлении, имеющим важное практическое значение в условиях современных рыночных отношений, о факторах, особенностях и тенденциях формирования рынка в России, ее месте в мировом хозяйст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ПРОГРАММА </a:t>
            </a:r>
            <a:br>
              <a:rPr sz="2500"/>
            </a:br>
            <a:r>
              <a:rPr b="0" lang="ru-RU" sz="2500" spc="-1" strike="noStrike">
                <a:solidFill>
                  <a:srgbClr val="33cccc"/>
                </a:solidFill>
                <a:latin typeface="Arial"/>
              </a:rPr>
              <a:t>ЭЛЕКТИВНОГО КУРСА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Коммерческая география. </a:t>
            </a:r>
            <a:br>
              <a:rPr sz="2500"/>
            </a:br>
            <a:r>
              <a:rPr b="1" i="1" lang="ru-RU" sz="2500" spc="-1" strike="noStrike">
                <a:solidFill>
                  <a:srgbClr val="33cccc"/>
                </a:solidFill>
                <a:latin typeface="Arial"/>
              </a:rPr>
              <a:t>Россия  и  мировой ры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урсе изучаются основы коммерческой географии, дается общее представление об условиях и факторах территориальной организации рынка и развития предпринимательства в России; рассматриваются особенности отраслевых рынков промышленной и сельскохозяйственной продукции, потребительских товаров и услуг, инфраструктуры рынка, в том числе сферы торговли, финансовой и инвестиционной деятельности,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рс состоит из лекционного материала, рассчитанного на 18 часов изучения, практической части – 14 часов и двух зачетных занят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ебно-методический комплект соответствует требованиям профильного обучения в средней школе и современной концепции географического образования в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5:51:57Z</dcterms:created>
  <dc:creator>user</dc:creator>
  <dc:description/>
  <dc:language>en-US</dc:language>
  <cp:lastModifiedBy>LEGION</cp:lastModifiedBy>
  <dcterms:modified xsi:type="dcterms:W3CDTF">2014-12-29T09:02:52Z</dcterms:modified>
  <cp:revision>8</cp:revision>
  <dc:subject/>
  <dc:title>Коммерческая ге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1000000000001024140</vt:lpwstr>
  </property>
</Properties>
</file>