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F5A6-D223-4A8B-A32F-DEEEA583D4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ИВНОГО КУР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Россия и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13C2-C9AC-4B58-941B-FB46B5F9CB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F840-0D27-41BA-9CBF-E608D884F1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2952-9A75-4E28-9671-1E6DAF836C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0150-E0C5-4022-ABE4-CC3BA668DD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Структура кур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DADF-52E6-4E05-8543-90142BFDDA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D804-D7A6-4B5C-B5F0-B3BD2B4FFD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3371-BE6B-4E43-9549-0E0532BF51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C8211-1F0C-47C9-80F0-ED81D4FF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D81E-DEAA-48B5-9D6C-E0C4AE90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BA182-DC8F-4C5C-A3A2-2B6834CD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12BEE-56BC-47D4-BB59-6EAD256E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00BE-C339-491B-8438-66C92FDE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6BF6-4E13-4AAF-B123-DBEF44B8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31B0-0C3B-4E33-812E-612AE28F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812D-3A30-4E3E-8581-0ED22709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73D3-45B0-4E4A-9B4A-D9570136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87B4-981F-40CC-AD4A-2E6EEC50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AF6B-BA4E-4395-B672-56D47A48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457C-9223-4C2D-84D7-428BD927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F017-6F46-443F-990A-8F412223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4BFF-10D3-4CD1-A716-BFDD5D35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7AD7-04DC-43F6-B1EE-3A1149FD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CDD3-2B0C-4F8C-A917-3AAEC3FA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B441-0387-4662-9005-D0449020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E615D-0ACE-4ACB-B655-703D5662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0AC9-E98D-4C80-8F5C-A002CCDF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766A-F06A-4A2B-86BD-2D183875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7EDA-4E91-49F8-B8FA-A99C9580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E8515-E0CD-4CD8-B8E1-C2A26419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E84E-223E-484D-B22D-92283354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B5DE3-98E2-42DE-B887-66A5286A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DFB0-CDDB-46F1-BDE4-6DFDDEA78A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D47E-D81E-493A-BEEB-A5332CE715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ОГРАММА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ЭЛЕКТИВНОГО КУРС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Коммерческая география.</a:t>
            </a:r>
            <a:br>
              <a:rPr sz="3500"/>
            </a:b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Россия и мировой рынок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PH01046J"/>
          <p:cNvPicPr/>
          <p:nvPr/>
        </p:nvPicPr>
        <p:blipFill>
          <a:blip r:embed="rId1"/>
          <a:stretch/>
        </p:blipFill>
        <p:spPr>
          <a:xfrm>
            <a:off x="7308720" y="4292640"/>
            <a:ext cx="154332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800"/>
            </a:b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800"/>
            </a:br>
            <a:r>
              <a:rPr b="1" i="1" lang="ru-RU" sz="2800" spc="-1" strike="noStrike">
                <a:solidFill>
                  <a:srgbClr val="33cccc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BS01635_"/>
          <p:cNvPicPr/>
          <p:nvPr/>
        </p:nvPicPr>
        <p:blipFill>
          <a:blip r:embed="rId1"/>
          <a:stretch/>
        </p:blipFill>
        <p:spPr>
          <a:xfrm>
            <a:off x="6804000" y="404640"/>
            <a:ext cx="198108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Структура кур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G00037_"/>
          <p:cNvPicPr/>
          <p:nvPr/>
        </p:nvPicPr>
        <p:blipFill>
          <a:blip r:embed="rId1"/>
          <a:stretch/>
        </p:blipFill>
        <p:spPr>
          <a:xfrm>
            <a:off x="6372360" y="3213000"/>
            <a:ext cx="2771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5:51:57Z</dcterms:created>
  <dc:creator>user</dc:creator>
  <dc:description/>
  <dc:language>en-US</dc:language>
  <cp:lastModifiedBy>LEGION</cp:lastModifiedBy>
  <dcterms:modified xsi:type="dcterms:W3CDTF">2014-12-29T09:02:52Z</dcterms:modified>
  <cp:revision>8</cp:revision>
  <dc:subject/>
  <dc:title>Коммерческая географ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1000000000001024140</vt:lpwstr>
  </property>
</Properties>
</file>