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DAE4-8C11-4EEA-B634-FE73EEABFB4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а: «Введение»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№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знакомить с новым направлением в мире – глобальная география; формировать глобальное мышление; развивать познавательный интерес к общечеловеческим проблем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D7F8-BE39-4A7D-8DA6-E56DD97D3D3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ип занятия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я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рма работы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лекция, фронтальная (1 ча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BFDC-7BA3-4C04-9732-177EAB1370B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лан л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изучает глобальная географ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ция глобальной географии с другими науками и дисциплин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глобальный» - охватывает весь Земной ш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ланетарный» - относящийся к Земле, как части солнеч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нтернациональный» - культурологическое происхо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E135-5C2E-4A37-94D7-6AF79F670CE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ъек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- вся Земля (процессы, явления, закономерности, проблем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F684-6C0C-484C-A26A-8DCD0FFF8F3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нать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владение системой знаний о глобальных проблемах современности: естественно – научных и общественных. Интегрировать знания по другим предметам, максимально использовать общеобразовательный и культурологический потенциал географии как учебного предм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зывать и показыв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различных картах мира государства, столицы, крупнейшие промышленные и культурные центры мира, транспортные центры, природные ресурсы и районы их размещения, районы нового освоения, сельскохозяйственные районы, основные формы правления и государственного устро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пределя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экономического развития стран ми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зисные явления, угрожающие отдельным культурам и территори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ающие формы и сферы жизни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арактеризов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обальные проблемы соврем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родные, природно – антропогенные, психологические, аутэкологические проблемы современности, которые либо создают угрозу современности, либо служат лимитирующими факторами её разви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ъясня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лияние природных, экологических, социальных, экономических на особенности и размещение населения Земли; экологические ситуации отдельных территорий и стран ми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никновение и обострение глобальных проблем человечества; особенности рационального и нерационального природопольз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гнозиров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пы роста населения Земли в цел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направления антропогенного воздействия на природную среду в современном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6E32-4FAD-4278-8496-7463FE93572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истик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ая геога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учебна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цип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сследует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бучает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FD60-9566-4853-9163-534CC438A7D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курса «Глобальная географ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B4EF-7C17-45F8-94C3-AC36DE1EC68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7809-F14A-4BF1-B2E0-D99F323F6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691F-D716-4FE3-BC99-36BE9B98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6AEB-AF94-4A85-9DFF-CE9152F8A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6CC0-07D9-4796-9616-E6B3B8714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2CF8C-D2F3-4543-9F77-2E84C7991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138B82-1FF4-4BB4-A7CA-F9A86508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E95C9-433C-45B3-8154-9D137079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52732-8FD1-42D2-8B04-5F2AB493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1279C2-CE3E-4D61-99E3-3A5CC974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C2BDF-4683-4066-865E-ABCE8A6C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FF5BB-5D5E-4BA2-8948-EE5D946C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BD90-63D8-4DC4-8136-777ECD97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70200-0D9A-4A8D-A5B5-AA4C14CF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F63B5B-799B-4834-B704-53EA5CF1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19455-A527-474C-9148-504E5A05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81B695-AACE-43F9-AE56-235694583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BE7D79-01B8-4404-BF60-4864240AB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00A9-C7D3-4654-95DF-86EC89C4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7F7D-5927-4288-ABB9-D8484745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1B89-FECB-4E11-9E13-0137B57D5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79F2-A8C9-4E60-956F-1968B7F8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4BE5-5023-4F49-A341-65B4F772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3DDD-4D37-428F-A936-2E4DDCAB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186E-2B36-424C-965E-7871DE2A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A4F9-6E10-4AEB-AE0C-788B21B1E29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9C4B-4707-4034-B4D3-4796EF3309E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3e3ff"/>
                </a:solidFill>
                <a:latin typeface="Arial"/>
              </a:rPr>
              <a:t>Тема: «Введение»  </a:t>
            </a:r>
            <a:br>
              <a:rPr sz="5400"/>
            </a:b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урок №1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ель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знакомить с новым направлением в мире – глобальная география; формировать глобальное мышление; развивать познавательный интерес к общечеловеческим проблем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ип занятия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лек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хнология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И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а работы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лекция, фронтальная (1 час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лан лек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изучает глобальная географ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теграция глобальной географии с другими науками и дисциплин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онят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глобальный» - охватывает весь Земной ш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планетарный» - относящийся к Земле, как части солнечной систе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интернациональный» - культурологическое происхожд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ъек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- вся Земля (процессы, явления, закономерности, проблемы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5280" y="836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Знать: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владение системой знаний о глобальных проблемах современности: естественно – научных и общественных. Интегрировать знания по другим предметам, максимально использовать общеобразовательный и культурологический потенциал географии как учебного предмет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Называть и показывать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 различных картах мира государства, столицы, крупнейшие промышленные и культурные центры мира, транспортные центры, природные ресурсы и районы их размещения, районы нового освоения, сельскохозяйственные районы, основные формы правления и государственного устройст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Определять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ровень экономического развития стран мир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ризисные явления, угрожающие отдельным культурам и территориям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ешающие формы и сферы жизни человек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Характеризовать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лобальные проблемы современност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риродные, природно – антропогенные, психологические, аутэкологические проблемы современности, которые либо создают угрозу современности, либо служат лимитирующими факторами её развит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Объяснять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лияние природных, экологических, социальных, экономических на особенности и размещение населения Земли; экологические ситуации отдельных территорий и стран мир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озникновение и обострение глобальных проблем человечества; особенности рационального и нерационального природопользова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рогнозировать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емпы роста населения Земли в целом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сновные направления антропогенного воздействия на природную среду в современном мир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лобалистик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лобальная геогаф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ук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учебна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исципл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исследует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обучает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зучение курса «Глобальная географи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95280" y="2997360"/>
          <a:ext cx="7834320" cy="2614320"/>
        </p:xfrm>
        <a:graphic>
          <a:graphicData uri="http://schemas.openxmlformats.org/drawingml/2006/table">
            <a:tbl>
              <a:tblPr/>
              <a:tblGrid>
                <a:gridCol w="2089080"/>
                <a:gridCol w="5745240"/>
              </a:tblGrid>
              <a:tr h="541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ход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ждисциплинарны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еографически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ифференцированны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лобальны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блемны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15:55:24Z</dcterms:created>
  <dc:creator>Your User Name</dc:creator>
  <dc:description/>
  <dc:language>en-US</dc:language>
  <cp:lastModifiedBy>LEGION</cp:lastModifiedBy>
  <dcterms:modified xsi:type="dcterms:W3CDTF">2014-12-29T08:38:52Z</dcterms:modified>
  <cp:revision>5</cp:revision>
  <dc:subject/>
  <dc:title>Тема: «Введение»   урок №1</dc:title>
</cp:coreProperties>
</file>