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7361-1B82-44A0-8A42-B897C299DC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: «Введение»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комить с новым направлением в мире – глобальная география; формировать глобальное мышление; развивать познавательный интерес к общечеловеческим пробле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B234-EF1D-48A8-9D58-6368EBE375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занят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а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лекция, фронтальная (1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53AD-3725-4E1A-AEA5-B129C5E66C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учает глобальная географ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глобальной географии с другими науками и дисципли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лобальный» - охватывает весь Земной ш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ланетарный» - относящийся к Земле, как части солнеч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рнациональный» - культурологическое происх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21D5-F05F-46AC-B87E-75949AAE97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вся Земля (процессы, явления, закономерности, пробле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FB3E-82C5-4FEF-BB28-DA9C23A2F8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нат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глобальных проблемах современности: естественно – научных и общественных. Интегрировать знания по другим предметам, максимально использовать общеобразовательный и культурологический потенциал географии как учебного 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ывать и показы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азличных картах мира государства, столицы, крупнейшие промышленные и культурные центры мира, транспортные центры, природные ресурсы и районы их размещения, районы нового освоения, сельскохозяйственные районы, основные формы правления и государственного 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редел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экономического развития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ные явления, угрожающие отдельным культурам и территор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щие формы и сферы жизн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зо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соврем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ные, природно – антропогенные, психологические, аутэкологические проблемы современности, которые либо создают угрозу современности, либо служат лимитирующими факторами её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яс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природных, экологических, социальных, экономических на особенности и размещение населения Земли; экологические ситуации отдельных территорий и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и обострение глобальных проблем человечества; особенности рационального и нерационального природо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нозиро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пы роста населения Земл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антропогенного воздействия на природную среду в современ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32BC-EBCD-439C-89CE-78F541212E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сти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геог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учебн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сследует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учает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0AED-97B9-4D08-961A-459FA3ABA4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курса «Глобальная географ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F373-251C-4A70-A154-EE62CF95B8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3E4-2DD3-42D6-9463-9917AB2C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65D-7F78-4ECD-A1C1-6370AC98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5A1-3AE7-4075-A3F1-130431F5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6E3-06BD-4BCA-B8A1-F1802BA5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2DDF7-463D-43D1-905D-B9A30DD8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B465A-C5B5-4A7F-8282-AC28FE75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6A0CE-9AE4-4287-8589-A6251C3D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881A0-B502-4F41-ADC0-B17848A4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DCD5C-6995-416D-8C54-E604DA03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0A038-6AA5-4593-82EE-9223A5A2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8F9FD-41D4-4DF2-AD1B-9A9E9EE1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B2B-8F4D-4111-B726-3C1F55FA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4B35E-5B69-45A1-AB3B-22ECAA22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2846D-F144-4747-89D7-8833315C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4A902-C20F-487B-81B4-84099564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928E2-8933-4F9F-B4FE-58BAD2DB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3B404-FF54-4295-B036-E1AF42EC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C10-2582-4C2A-A8B5-9CCD5A68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52C-2C7C-41B0-B7B0-700F3992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DC7-4A29-46C8-AE2E-98393618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5FD-AD48-42EC-99A7-749F85A9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98F-6E16-44EC-9982-3950D594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F60-8C82-44D8-A85E-C8121F81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23B8-15E1-47A4-8C6F-D1651E72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7F37-AEF5-4713-A9D4-9F334F8BA6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6C9B-69D9-4D5D-B93A-D2B40A47296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3e3ff"/>
                </a:solidFill>
                <a:latin typeface="Arial"/>
              </a:rPr>
              <a:t>Тема: «Введение»  </a:t>
            </a:r>
            <a:br>
              <a:rPr sz="5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урок №1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знакомить с новым направлением в мире – глобальная география; формировать глобальное мышление; развивать познавательный интерес к общечеловеческим проблем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ип занятия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ек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а работы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лекция, фронтальная (1 ча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изучает глобальная географ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грация глобальной географии с другими науками и дисциплин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н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лобальный» - охватывает весь Земной ш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ланетарный» - относящийся к Земле, как части солнечной сис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нтернациональный» - культурологическое происхож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ъек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- вся Земля (процессы, явления, закономерности, проблем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нать: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владение системой знаний о глобальных проблемах современности: естественно – научных и общественных. Интегрировать знания по другим предметам, максимально использовать общеобразовательный и культурологический потенциал географии как учебного предм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зывать и показы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различных картах мира государства, столицы, крупнейшие промышленные и культурные центры мира, транспортные центры, природные ресурсы и районы их размещения, районы нового освоения, сельскохозяйственные районы, основные формы правления и государственного устрой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пределя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ровень экономического развития стран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изисные явления, угрожающие отдельным культурам и территория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шающие формы и сферы жизни человек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арактеризо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лобальные проблемы современ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родные, природно – антропогенные, психологические, аутэкологические проблемы современности, которые либо создают угрозу современности, либо служат лимитирующими факторами её развит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бъясня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лияние природных, экологических, социальных, экономических на особенности и размещение населения Земли; экологические ситуации отдельных территорий и стран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никновение и обострение глобальных проблем человечества; особенности рационального и нерационального природопольз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нозирова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емпы роста населения Земли в цело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новные направления антропогенного воздействия на природную среду в современном мир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истик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ьная геогаф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учебна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сследует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бучает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учение курса «Глобальная географ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280" y="2997360"/>
          <a:ext cx="7834320" cy="2614320"/>
        </p:xfrm>
        <a:graphic>
          <a:graphicData uri="http://schemas.openxmlformats.org/drawingml/2006/table">
            <a:tbl>
              <a:tblPr/>
              <a:tblGrid>
                <a:gridCol w="2089080"/>
                <a:gridCol w="5745240"/>
              </a:tblGrid>
              <a:tr h="54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ждисциплинар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графическ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ференцирован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обаль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н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5:55:24Z</dcterms:created>
  <dc:creator>Your User Name</dc:creator>
  <dc:description/>
  <dc:language>en-US</dc:language>
  <cp:lastModifiedBy>LEGION</cp:lastModifiedBy>
  <dcterms:modified xsi:type="dcterms:W3CDTF">2014-12-29T08:38:52Z</dcterms:modified>
  <cp:revision>5</cp:revision>
  <dc:subject/>
  <dc:title>Тема: «Введение»   урок №1</dc:title>
</cp:coreProperties>
</file>