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1A1-E510-4F65-ADD3-6A8C1E7A1A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: «Введение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F98A-EF31-4B62-95B2-C76767FBBE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за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екция, фронтальная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D3DD-B403-428F-9A64-B9F1051CB6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глобальная географ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глобальной географии с другими науками и дисципли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лобальный» - охватывает весь Земной 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анетарный» - относящийся к Земле, как части солнеч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национальный» - культурологическое происх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DC02-C5F5-47F3-8722-A8C7216615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вся Земля (процессы, явления, закономерности, пробле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3AF7-2736-42DA-8A83-AF814E746B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т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ывать и показы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редел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е формы и сферы жизн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сов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яс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ы роста населения Земл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ABAB-C361-4F40-976F-0434D979A4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ст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геог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учебн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сследу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уча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1384-496D-479F-88EB-8AE7ABEBE3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курса «Глобальная географ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7092-8176-49B0-AD0B-FB927A9D93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E23-116D-4367-A7FB-B03626EE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E1C-4C59-4C26-A943-6FF6D0A4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8DA-784A-4CF3-A33C-33A3B697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9F0-3FEE-4D20-A7F4-243A7422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73C75-6063-40A1-8832-EA477596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4DBAE-4E06-4FE0-94E9-73672337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67A98-29C3-438C-9C29-F5C029D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DCF70-E8E5-41E3-899E-A14DB1FC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0D43D-B169-43C0-8940-04DDEEFB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6A2CE-0D12-4D5E-AB74-9F5AD2ED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8619C-5C87-4638-B1A4-D96057C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40D-032C-4C53-8F54-6383270C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2DC3E-0FFE-4F1E-B972-5BBFC74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70ADD-9B0F-4735-B557-F6B5EE69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8FB44-0FAE-4A5F-A4D0-1B26190A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51522-27B5-4B2F-B6F2-65229E73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17383-5B35-46A1-8583-A5682080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B07-7606-4CB5-8F7B-2B5D7EA6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A23-0CA5-496B-AF26-7CE5F23B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F4B-8347-4272-9A3C-7B679E3D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2F3-7506-4465-84A1-44CDEF0E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09B-C06E-4F07-9251-DB30E83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A75-BB9D-4BE9-82E4-82B3FAD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C3E-F0EE-4190-A374-AB5A1A5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CF78-3D4D-480B-BC87-EFE3160836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610-B600-4220-B4E4-ACE02E152C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Тема: «Введение»  </a:t>
            </a:r>
            <a:br>
              <a:rPr sz="5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урок №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занят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лекция, фронтальная (1 ча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зучает глобальная географ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глобальной географии с другими науками и дисципл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бальный» - охватывает весь Земной ш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анетарный» - относящийся к Земле, как части солнечн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нтернациональный» - культурологическое происхо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вся Земля (процессы, явления, закономерности, пробл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ть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зывать и показы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предел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ающие формы и сферы жизни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арактериз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обальные проблемы современ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ъясн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нозир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мпы роста населения Земли в цел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истик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ая геог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учеб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следу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курса «Глобальная географ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997360"/>
          <a:ext cx="7834320" cy="2614320"/>
        </p:xfrm>
        <a:graphic>
          <a:graphicData uri="http://schemas.openxmlformats.org/drawingml/2006/table">
            <a:tbl>
              <a:tblPr/>
              <a:tblGrid>
                <a:gridCol w="2089080"/>
                <a:gridCol w="574524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исциплинар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е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цирован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55:24Z</dcterms:created>
  <dc:creator>Your User Name</dc:creator>
  <dc:description/>
  <dc:language>en-US</dc:language>
  <cp:lastModifiedBy>LEGION</cp:lastModifiedBy>
  <dcterms:modified xsi:type="dcterms:W3CDTF">2014-12-29T08:38:52Z</dcterms:modified>
  <cp:revision>5</cp:revision>
  <dc:subject/>
  <dc:title>Тема: «Введение»   урок №1</dc:title>
</cp:coreProperties>
</file>