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96BE-513E-4987-849D-5609136207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 Д.И. Менделеева в отечественную географи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Петунина Ольга, ученица 8»Б» клас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№32, г. Сургу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:  Авдюкова Татьяна Дмитри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географии МОУ СОШ «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88B4-E7BB-4650-A482-E2CCB24070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Ледник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9ACD-2A27-40AD-9355-B0BDF47393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й вулкан на о. Кунашир (Курильские остр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D84D-4837-4895-BD29-8EF20C16A6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щенко В. Е., Младенцев М. Н. Дмитрий Иванович Менделеев, его жизнь и деятельность.// Университетский период 1861 - 1890 гг. М., 1993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ев И. С. "Особая миссия" Менделеева - Аргументы и факты // Санкт-Петербургский университет. 1996. 16 мая. С. 17 - 22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ареня А.А. Менделеев в Петербурге//Л.:Лениздат,1982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ий энциклопедический словарь, главный редактор А.Ф. Трешников, Москва, “Советская энциклопедия”, 198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ушкин Ю.Г. “История и методология географической науки”, Издательство Московского университета, 197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ушкин Ю.Г. “Экономическая география: история, теория, методы, практика”, М., “Мысль”, 197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ский Б.Н. “Введение в географическую науку”, Ленинград, Издательство Ленинградского университета, 197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география в СССР. История и современное развитие”. Сост. Т.Е. Губанова, Просвещение, 198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школьная энциклопедия. 6-11 кл., / П.А.Кошель. Т. 2. - М.: ОЛМА - Пресс, 1999. - 717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обо всех: Т. 1 научно - популярное издание/ Г.П.Шалаева, Т.Н.Колядич. - М.: Филологическое общество «Слово», компания «Ключ - с», АСТ, 1996. - 480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ареня, А.А., Д.И.Менделеев: книга для учащихся 8-9 классов средней школы/ А.А.Макарелл, Ю.В.Рысев. - 3-е издание перераб. - М.: Просвещение, 1988. - 127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н, Д.К., 100 великих ученых/ Д.К.Самин. - М.: Вече, 2003. - 592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н, Д.К., 100 великих научных открытий/ Д.К.Самин. - М.: Вече, 2002. - 480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. Кто такой: В 3 т. Т. 2 - 4-е изд., перераб. И доп. - М.: Педагогика-Пресс, 1998. - 416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ознаю мир: Детская энциклопедия: Химия./ Авт. Сост. Л.А.Савина. - М.: ООО изд-во АСТ - ЛТД, 1988. - 448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3F1D-E22B-43E1-9A03-8C506ED18E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гда и в каждом деле для сознательности совершаемых в нем действий преполезно подсчитаться…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И. 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вопросов, относящихся к экономической географии, внимание Менделеева особенно привлекали хозяйственная оценка природных богатств и географического положения различных частей России, экономическое районирование России и установление системы показателей экономики района, развитие Урала, освоение Арктики, экономический анализ демографических показателей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A6CB-1ECB-408F-8804-601C7B1F93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исследованиям экономико-географического характера проявился у Менделеева очень рано. В одной из первых опубликованных им работ - “Северный Урал и береговой хребет Пай-Хой” - 23-летний ученый рассмотрел географию Северного Урала. На основании материалов экспедиций Географического общества (1847, 1848, 1850) он характеризует природу, хозяйственный быт и трудовые навыки населения Северного Ур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нний период своей деятельности Менделеев интересовался главным образом тремя отраслями хозяйства: сельским хозяйством, нефтяной и угольной промышленностью. К этим отраслям он в той или иной степени возвращается и в более поздних своих рабо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A2F6-9759-4ECC-935B-2AC1419932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69 г. в докладе Вольному экономическому обществу Менделеев ставит вопрос об организации в различных частях страны опытных участков для изучения почв и удобрений, что было прототипом будущих опытных сельскохозяйственных станций. В “Мыслях о развитии сельскохозяйственной промышленности” Менделеев говорит о важности преобразования природы культивируемых растений. В работе “К познанию России” ученый возвращается к вопросам сельского хозяйства и пишет об изменении его природно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же, “В дополнениях к познанию России”, Менделеев ставит вопрос о “ветряных двигателях”, которые смогут подавать воду для орошения в районе низовий Вол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 глав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CFAA-DB00-4D36-99C4-91EFC97B4F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яная 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фть не топливо — топить можно и ассигнациями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И. 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му не было еще тридцати, когда известный нефтепромышленник В.А. Кокорев попросил его выехать в Баку для изучения состояния нефтедобычи и нефтепереработки. Менделеев тщательно обследовал все Бакинские нефтепромыслы и установки по переработке нефти, но не ограничился этим, а наметил целую программу повышения эффективности отрасли. Он оценил потребности всей России в нефтепродуктах, принял в расчет все тогда известные и предполагаемые им месторождения нефти, выявил условия, когда нефтеперерабатывающие заводы лучше размещать в местах добычи нефти, а когда - в центрах ее потребления, и составил схему размещения новых нефтеперерабатывающих заводов в Центральной России, в особенности вблизи Москвы и в крупнейших городах на Волге (в Царицыне, Саратове, Самаре, Нижнем Новгороде, Ярославле, Рыбинске). Мало того, он предложил построить нефтепровод Баку - Батуми и заводы по переработке нефти на Черноморском побережье с тем, чтобы не только избавить Россию от импорта американского керосина, но и самим экспортировать нефтепродукты в Европу. Он считал варварством, что сырая нефть, из которой можно получать столько ценнейших продуктов, используется как топли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1DD9-8859-4999-AFD8-B6D59446BD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ьная 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Центры развития нашей будущей заводской и фабричной деятельности — это места, где находится уголь и другие полезные ископаемые…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И. 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так же комплексно подошел Менделеев и к оценке перспектив развития незадолго до того открытых залежей угля в Донецком бассейне. Менделеев просчитал, во что обходится снабжение Петербурга и Москвы польским (из Силезии) и импортным английским углем, и определил, при каких условиях донецкий уголь окажется конкурентоспособным с ними. Он разработал предложения по изменению таможенных тарифов на уголь, обосновал необходимость постройки специальной углевозной железнодорожной магистрали, проведения шлюзования и дноуглубительных работ на Донце и Дону, развития портов на побережьях Азовского и Черного морей. При проведении намеченных им мероприятий Россия могла бы не только отказаться от импорта угля, но и сама экспортировать его сначала в страны Средиземноморья, а затем и в страны Балтики, причем эта задача рассматривалась им не только как экономическая, но и как политическая, как вопрос престижа нашей страны. Не ограничившись изучением только Донецкого угольного бассейна, Менделеев обратил внимание общественности и промышленных кругов на месторождения угля на востоке, в первую очередь в Кузнецком бассейне и далее, вплоть до Сахалина. Он первым поставил вопрос о принципиально новых методах добычи и использования угля, в частности, на возможность его подземной газ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F0CE-AA34-46B1-804A-08885404CD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идее подземной газификации углей Менделеев не однократно возвращался: в 1899, наблюдая во время поездки на Урал подземные пожары в Кизеловском районе, Менделеев сделал ряд практических выводов о возможности управления процессом горения угольного пл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у разработки многочисленных угольных месторождений России Менделеев связывал с развитием отечественной металлургии и в первую очередь её развитием производства чугуна, железа, стали и меди, обращая особое внимание на использование бедных руд. Он отмечал также необходимость раз работки богатых месторождений хромовых и марганцовых руд на Урале и Кавка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8841-DB73-4974-90C2-07EDF61EF5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око исследовал Менделеев и пути развития промышленности Урала, переживавшей тогда серьезный кризис. Разработанные Менделеевым меры по расширению топливной базы для металлургии Урала, в частности, за счет каменных углей востока, в том числе Кизеловского и в перспективе Кузнецкого бассейнов, стали залогом спасения целого промышленного района, который впоследствии сыграл столь важную роль в экономическом развити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8E81-6761-4EED-8852-E0359AA8D1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В представлении большинства людей Менделеев – великий химик. Но гораздо больше его трудов посвящено физике, географии, экономике, метеор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казать неоценимый вклад Менделеева в отечественную географию в эпоху реформ середин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информацию  о деятельности Менделеева в области экономики, географии, промышл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ть и систематизировать информацию о работе Менделеева в разных областях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диться, что Менделеев не только известный химик, но и замечательный специалист в области географии, экономики, метеор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: личность Д.И.Менделе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исследования: деятельность ученого в становлении географической науки в эпоху реформ середин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2A76-C801-4F18-A899-A61F7CD1B7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тельно то, что и внутри каждого из этих территориальных комплексов Менделеев наметил как бы микро-комплексы на основе кооперирования и комбинирования предприятий таким образом, чтобы отходы одного производства служили сырьем для другого. Там, где добываются и перерабатываются нефть и уголь, выплавляется металл и пр., из отходов надо извлекать соду, соль, серу, деготь и другие ценные продукты. Это не только повысит рентабельность производства, но и позволит решить уже тогда встававшие перед человечеством 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7A7B-6405-41A6-9182-A050410E0B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ельское хозяйство – своего рода промышленность для производства растений и животных. Гораздо выгоднее экспортировать не зерно, а скот…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И. 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я сельское хозяйство как отрасль единого народно-хозяйственного комплекса, ученый указывал на необходимость оказания ему помощи через промышленное покровительство, так как оно не только не противоречит интересам сельского хозяйства, но, напротив, способствует его развитию. Менделеев пришел к убеждению, что, продолжая идти через колосящиеся хлебные нивы, столь привычные и дорогие русскому сердцу, Россия не достигнет благополучия и экономического процветания. Подчеркивая важность и необходимость "нормальной комбинации сельского труда с заводско-фабричным", он не был сторонником активных государственных мер, направленных непосредственно на подъем аграрного сектора и "считал всякое массовое вмешательство в это дело... совершенно ненужным и даже могущим быть чрезвычайно вредны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9E19-A2C8-4836-8420-C4DA092FC3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пятидесяти лет, с присущей ему основательностью, Менделеев изучал проблемы земледелия. В книге "Заветные мысли" (1904) ученый сообщал о том, что еще в начале 60-х годов его "глубоко занимала мысль о возможности выгодно вести хозяйство при помощи улучшений и вкладов в землю свободного труда и капитал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рганизовал четыре опытные станции, на которые Вольное Экономическое общество выделило необходимые средства, и на них провел изучение влияния удобр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реализовать свои идеи о рациональном ведении хозяйства, Дмитрий Иванович покупает запущенное имение Боблово и на личном опыте, организовав экспериментальные делянки, убеждается в том, что в российских климатических и экономических условиях западноевропейская культура земледелия непримени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9CFB-C50E-4E88-BBA9-AFE0678FF4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ясь на результатах полевых опытов (1867--1869), Менделеев указывал на необходимость известкования кислых почв, применения размолотых фосфоритов, суперфосфата, азотных и калийных удобрений, совместного внесения минеральных и органических удобр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делеев уделял большое внимание орошению земель Нижнего Поволж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36DD-DFE9-45B6-B08B-9505068F51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еоролог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Менделеева по изучению свойств газов инициировали его интерес к проблемам в области геофизики и метеорологии. Разрабатывая эти вопросы, Менделеев заинтересовался исследованиями атмосферы (особенно ее верхних слоев) с помощью летательных аппаратов. В процессе исследований верхних слоев атмосферы Менделеев начал разрабатывать конструкции летательных аппаратов, позволяющих проводить наблюдения температуры, давления, влажности и других параметров на больших высотах. 7-го августа 1887 года Менделеев совершил полет на воздушном шаре. За совершение этого полёта Д.И. Менделеев был удостоен медали Французского общества воздухопла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EF21-FBF7-4D3E-91DB-2DB643A5B7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менем нашего выдающегося соотечественника Дмитрия Ивановича Менделеева каждый школьник знакомится, приступив к изучению хи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ий закон Д.И. Менделеев открыл в 1869 году в возрасте всего 35 лет. После этого химия в его творчестве отходит на второй план, а его научные интересы смещаются в сторону промышленности, экономики, финансов, народного образования. К концу XIX века Дмитрий Иванович занял в русском обществе уникальное место универсального эксперта, консультирующего русское правительство по широкому кругу научных и народно-хозяйственных проблем – воздухоплаванию, нефтяным делам, бездымным порохам, таможенному тарифу, реформе высшего образования, постановке метрологического дела в стране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761E-4CB0-4211-B8D5-60301F7442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исследовала по этапам все, что создал, что сделал, в чем участвовал знаменитый и гениальный ученый Дмитрий Иванович Менделеев, и с гордостью могу сказать, что это великий ученый, завоевавший мировую известность, а так же это человек исключительных душевных качеств, с мужским и неустрашимым характером. Благодаря Д.И.Менделееву мы можем пользоваться достоянием науки, потому что именно он очень многое сделал для своей Ро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10E2-3559-48A1-BF69-09C06E2642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делеев ещё при жизни был известен во многих странах, получил свыше 130 дипломов и почётных званий от русских и зарубежных академий, учёных обществ и учебных заве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я великого географа благодарные потомки нанесли на карту страны 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DFAB-299F-4D9A-8723-1032539E4D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одводный хребет Менделеева в Северном Ледовитом оке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A563-5160-4D81-A995-056EC92060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оселок Менделеево (Московская область, Солнечногорский рай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AA32-AA67-4169-B59A-7FF83859B2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Город Менделеевск (Республика Татарст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E817-C2FD-4473-9A3B-1D33C04511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7B7-56BA-4033-BCD3-012FD937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D95-124C-4526-98F7-211BEF74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37D-B0B0-4430-80B0-F9A8E020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9FB-1ECE-4204-A866-2E7BA1EE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492F-9CA1-4978-AFFA-5518C6A0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CE26-6F51-4840-A725-F3E3C993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22B9-0245-4C07-9F99-60057220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DB69-163E-4A2D-BBD1-944C3219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F4B0-15E1-46C7-8BE8-44FA4D0A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F93E-D7ED-4F49-9F46-96121FB8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88A1-44A3-44CA-8868-217E9D0E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D32-0A59-4712-A2A3-417BDE09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CE21-6B88-4554-BF92-9FA99F2F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53C0-66D3-47A9-B30E-DE8970D7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B4F4-CBDF-4A96-88C0-82332E68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2E10-9E4A-404D-AB47-591E5C24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2F56-2C7B-4EA8-B824-24F06BC4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BC7EB-5BBF-465C-964A-58FE9C5E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745C-6F97-47D1-A4A3-E1F06FDD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1E1D2-39EA-4AF3-879C-55D65A6F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524AF-6D14-4DED-AA71-E43E8E98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75377-FD6C-481C-9FAB-EDB12B39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589-B7DB-4733-810B-8B5A8438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41F47-3436-4E06-AA45-AC882E19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D833F-2452-4CF0-811F-B0E99E6C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5520-CB3C-4A06-BA91-6EA272B9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35AAD-0517-4599-834C-3D6C1621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8DAF3-B58B-4BE1-8750-3B2693F9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4932-3FF5-4FA2-80F7-71461E38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0AA8C-A4FE-4502-9BF1-413FF3D3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7D316-F3FE-4E87-8D95-C787A2CC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8D8CD-43A4-4AF8-B839-64B97558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78783-79A9-44DD-BA12-1925AD8D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926E-7699-4295-AC56-9B539FAD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9E19E-724D-476A-AD35-A0205DE9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1C80F-E2B0-49D0-8687-D551AAFC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FDB29-2080-4500-B948-116942F8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7705A-753E-44D7-8DCF-170BA544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3B1CD-EFC4-4FAE-9E60-3AB14187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C8EE-D003-4CBE-B6D2-A4E48780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0D64-2691-4861-B85A-651E5603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DBECD-8AB7-4E5A-ACCB-ECDA2235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C31E6-AC9E-4E27-83D2-B0386E07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E51-B731-460D-840A-92245F5F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73D-D200-443B-8126-46A72966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7C9-2988-4335-AAFB-0C75ABAA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A87B-80C2-4D64-887F-2D1D451A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E6CD-1CBF-4F93-B05B-E6EC0372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AB2A-16C9-4127-90AE-CA27F0D1B5D7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D1DB-5636-47B5-AAAB-534E554DC78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CD72-4B8E-4E7D-A94A-7F609D83D893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114F-B585-4C56-ADD9-A60C0F625E0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129D-404B-4279-B8DE-D74AF45FB58F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96D5-DB3F-48E4-8443-3A38904F8FC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9F1D-78B6-47D8-817B-BB151351A020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718A-2798-4EE5-A902-751D818BE0F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3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69800" y="706320"/>
            <a:ext cx="8472600" cy="2494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ыполнила: Петунина Ольга, ученица 8»Б» класса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ОУ СОШ №32, г. Сургу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Руководитель:  Авдюкова Татьяна Дмитриевна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Учитель географии МОУ СОШ «32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Ледник Менделеев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5" descr="2856241_large"/>
          <p:cNvPicPr/>
          <p:nvPr/>
        </p:nvPicPr>
        <p:blipFill>
          <a:blip r:embed="rId1"/>
          <a:stretch/>
        </p:blipFill>
        <p:spPr>
          <a:xfrm>
            <a:off x="457200" y="1484280"/>
            <a:ext cx="8075520" cy="48243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836280"/>
            <a:ext cx="3251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йствующий вулкан на о. Кунашир (Курильские остров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C:\Documents and Settings\КЕКС\Рабочий стол\мама\500px-Вулкан_Менделеева.JPG"/>
          <p:cNvPicPr/>
          <p:nvPr/>
        </p:nvPicPr>
        <p:blipFill>
          <a:blip r:embed="rId1"/>
          <a:stretch/>
        </p:blipFill>
        <p:spPr>
          <a:xfrm>
            <a:off x="3924360" y="765000"/>
            <a:ext cx="4830840" cy="4319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КЕКС\Рабочий стол\мама\300px-Kurily.svg.png"/>
          <p:cNvPicPr/>
          <p:nvPr/>
        </p:nvPicPr>
        <p:blipFill>
          <a:blip r:embed="rId2"/>
          <a:stretch/>
        </p:blipFill>
        <p:spPr>
          <a:xfrm>
            <a:off x="971640" y="3573360"/>
            <a:ext cx="3313080" cy="306720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84000" y="475920"/>
            <a:ext cx="331164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Литератур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ищенко В. Е., Младенцев М. Н. Дмитрий Иванович Менделеев, его жизнь и деятельность.// Университетский период 1861 - 1890 гг. М., 1993.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митриев И. С. "Особая миссия" Менделеева - Аргументы и факты // Санкт-Петербургский университет. 1996. 16 мая. С. 17 - 22.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кареня А.А. Менделеев в Петербурге//Л.:Лениздат,1982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еографический энциклопедический словарь, главный редактор А.Ф. Трешников, Москва, “Советская энциклопедия”, 1989 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аушкин Ю.Г. “История и методология географической науки”, Издательство Московского университета, 1976 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аушкин Ю.Г. “Экономическая география: история, теория, методы, практика”, М., “Мысль”, 1973 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еменовский Б.Н. “Введение в географическую науку”, Ленинград, Издательство Ленинградского университета, 1976 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Экономическая география в СССР. История и современное развитие”. Сост. Т.Е. Губанова, Просвещение, 1987 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ольшая школьная энциклопедия. 6-11 кл., / П.А.Кошель. Т. 2. - М.: ОЛМА - Пресс, 1999. - 717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се обо всех: Т. 1 научно - популярное издание/ Г.П.Шалаева, Т.Н.Колядич. - М.: Филологическое общество «Слово», компания «Ключ - с», АСТ, 1996. - 480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кареня, А.А., Д.И.Менделеев: книга для учащихся 8-9 классов средней школы/ А.А.Макарелл, Ю.В.Рысев. - 3-е издание перераб. - М.: Просвещение, 1988. - 127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амин, Д.К., 100 великих ученых/ Д.К.Самин. - М.: Вече, 2003. - 592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амин, Д.К., 100 великих научных открытий/ Д.К.Самин. - М.: Вече, 2002. - 480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то такое. Кто такой: В 3 т. Т. 2 - 4-е изд., перераб. И доп. - М.: Педагогика-Пресс, 1998. - 416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Я познаю мир: Детская энциклопедия: Химия./ Авт. Сост. Л.А.Савина. - М.: ООО изд-во АСТ - ЛТД, 1988. - 448с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e2d700"/>
                </a:solidFill>
                <a:uFillTx/>
                <a:latin typeface="Calibri"/>
                <a:hlinkClick r:id="rId1" action="ppaction://hlinksldjump"/>
              </a:rPr>
              <a:t>Экономическая географ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сегда и в каждом деле для сознательности совершаемых в нем действий преполезно подсчитаться…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Д.И. Менделее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 вопросов, относящихся к экономической географии, внимание Менделеева особенно привлекали хозяйственная оценка природных богатств и географического положения различных частей России, экономическое районирование России и установление системы показателей экономики района, развитие Урала, освоение Арктики, экономический анализ демографических показателей Росс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Рисунок 3" descr="x_b57df75b.jpg"/>
          <p:cNvPicPr/>
          <p:nvPr/>
        </p:nvPicPr>
        <p:blipFill>
          <a:blip r:embed="rId2"/>
          <a:stretch/>
        </p:blipFill>
        <p:spPr>
          <a:xfrm>
            <a:off x="7500960" y="2214720"/>
            <a:ext cx="1238400" cy="15332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терес к исследованиям экономико-географического характера проявился у Менделеева очень рано. В одной из первых опубликованных им работ - “Северный Урал и береговой хребет Пай-Хой” - 23-летний ученый рассмотрел географию Северного Урала. На основании материалов экспедиций Географического общества (1847, 1848, 1850) он характеризует природу, хозяйственный быт и трудовые навыки населения Северного Урал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ранний период своей деятельности Менделеев интересовался главным образом тремя отраслями хозяйства: сельским хозяйством, нефтяной и угольной промышленностью. К этим отраслям он в той или иной степени возвращается и в более поздних своих рабо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Рисунок 3" descr="00144.jpg"/>
          <p:cNvPicPr/>
          <p:nvPr/>
        </p:nvPicPr>
        <p:blipFill>
          <a:blip r:embed="rId1"/>
          <a:stretch/>
        </p:blipFill>
        <p:spPr>
          <a:xfrm>
            <a:off x="7143840" y="214200"/>
            <a:ext cx="1231920" cy="16430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5745960"/>
            <a:ext cx="1522440" cy="778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500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69 г. в докладе Вольному экономическому обществу Менделеев ставит вопрос об организации в различных частях страны опытных участков для изучения почв и удобрений, что было прототипом будущих опытных сельскохозяйственных станций. В “Мыслях о развитии сельскохозяйственной промышленности” Менделеев говорит о важности преобразования природы культивируемых растений. В работе “К познанию России” ученый возвращается к вопросам сельского хозяйства и пишет об изменении его природной сред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зже, “В дополнениях к познанию России”, Менделеев ставит вопрос о “ветряных двигателях”, которые смогут подавать воду для орошения в районе низовий Волг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на главную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Рисунок 3" descr="16_mendeleev.jpg"/>
          <p:cNvPicPr/>
          <p:nvPr/>
        </p:nvPicPr>
        <p:blipFill>
          <a:blip r:embed="rId2"/>
          <a:stretch/>
        </p:blipFill>
        <p:spPr>
          <a:xfrm>
            <a:off x="7358040" y="142920"/>
            <a:ext cx="914400" cy="17143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фтяная промышлен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5000"/>
            <a:ext cx="768672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Нефть не топливо — топить можно и ассигнациями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Д.И. Менделеев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Ему не было еще тридцати, когда известный нефтепромышленник В.А. Кокорев попросил его выехать в Баку для изучения состояния нефтедобычи и нефтепереработки. Менделеев тщательно обследовал все Бакинские нефтепромыслы и установки по переработке нефти, но не ограничился этим, а наметил целую программу повышения эффективности отрасли. Он оценил потребности всей России в нефтепродуктах, принял в расчет все тогда известные и предполагаемые им месторождения нефти, выявил условия, когда нефтеперерабатывающие заводы лучше размещать в местах добычи нефти, а когда - в центрах ее потребления, и составил схему размещения новых нефтеперерабатывающих заводов в Центральной России, в особенности вблизи Москвы и в крупнейших городах на Волге (в Царицыне, Саратове, Самаре, Нижнем Новгороде, Ярославле, Рыбинске). Мало того, он предложил построить нефтепровод Баку - Батуми и заводы по переработке нефти на Черноморском побережье с тем, чтобы не только избавить Россию от импорта американского керосина, но и самим экспортировать нефтепродукты в Европу. Он считал варварством, что сырая нефть, из которой можно получать столько ценнейших продуктов, используется как топливо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Рисунок 3" descr="NeftyanayapromishlennostbAzerbaydzhana-24.jpg"/>
          <p:cNvPicPr/>
          <p:nvPr/>
        </p:nvPicPr>
        <p:blipFill>
          <a:blip r:embed="rId1"/>
          <a:stretch/>
        </p:blipFill>
        <p:spPr>
          <a:xfrm>
            <a:off x="4429080" y="5286240"/>
            <a:ext cx="1928880" cy="131148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4" descr="1.jpg"/>
          <p:cNvPicPr/>
          <p:nvPr/>
        </p:nvPicPr>
        <p:blipFill>
          <a:blip r:embed="rId2"/>
          <a:stretch/>
        </p:blipFill>
        <p:spPr>
          <a:xfrm>
            <a:off x="1785960" y="5214960"/>
            <a:ext cx="1928880" cy="140328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5"/>
          <p:cNvSpPr/>
          <p:nvPr/>
        </p:nvSpPr>
        <p:spPr>
          <a:xfrm>
            <a:off x="6804000" y="5229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Угольная промышленность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557000"/>
            <a:ext cx="7775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«Центры развития нашей будущей заводской и фабричной деятельности — это места, где находится уголь и другие полезные ископаемые…»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Д.И. Менделеев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очно так же комплексно подошел Менделеев и к оценке перспектив развития незадолго до того открытых залежей угля в Донецком бассейне. Менделеев просчитал, во что обходится снабжение Петербурга и Москвы польским (из Силезии) и импортным английским углем, и определил, при каких условиях донецкий уголь окажется конкурентоспособным с ними. Он разработал предложения по изменению таможенных тарифов на уголь, обосновал необходимость постройки специальной углевозной железнодорожной магистрали, проведения шлюзования и дноуглубительных работ на Донце и Дону, развития портов на побережьях Азовского и Черного морей. При проведении намеченных им мероприятий Россия могла бы не только отказаться от импорта угля, но и сама экспортировать его сначала в страны Средиземноморья, а затем и в страны Балтики, причем эта задача рассматривалась им не только как экономическая, но и как политическая, как вопрос престижа нашей страны. Не ограничившись изучением только Донецкого угольного бассейна, Менделеев обратил внимание общественности и промышленных кругов на месторождения угля на востоке, в первую очередь в Кузнецком бассейне и далее, вплоть до Сахалина. Он первым поставил вопрос о принципиально новых методах добычи и использования угля, в частности, на возможность его подземной газификаци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Рисунок 3" descr="coal-mine.jpg"/>
          <p:cNvPicPr/>
          <p:nvPr/>
        </p:nvPicPr>
        <p:blipFill>
          <a:blip r:embed="rId1"/>
          <a:stretch/>
        </p:blipFill>
        <p:spPr>
          <a:xfrm>
            <a:off x="1857240" y="5500800"/>
            <a:ext cx="1857600" cy="1249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Strip_coal_mining.jpg"/>
          <p:cNvPicPr/>
          <p:nvPr/>
        </p:nvPicPr>
        <p:blipFill>
          <a:blip r:embed="rId2"/>
          <a:stretch/>
        </p:blipFill>
        <p:spPr>
          <a:xfrm>
            <a:off x="4286160" y="5429160"/>
            <a:ext cx="2000520" cy="133344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907560"/>
            <a:ext cx="82580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 идее подземной газификации углей Менделеев не однократно возвращался: в 1899, наблюдая во время поездки на Урал подземные пожары в Кизеловском районе, Менделеев сделал ряд практических выводов о возможности управления процессом горения угольного пласт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блему разработки многочисленных угольных месторождений России Менделеев связывал с развитием отечественной металлургии и в первую очередь её развитием производства чугуна, железа, стали и меди, обращая особое внимание на использование бедных руд. Он отмечал также необходимость раз работки богатых месторождений хромовых и марганцовых руд на Урале и Кавказ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Рисунок 3" descr="ugol.jpg"/>
          <p:cNvPicPr/>
          <p:nvPr/>
        </p:nvPicPr>
        <p:blipFill>
          <a:blip r:embed="rId1"/>
          <a:stretch/>
        </p:blipFill>
        <p:spPr>
          <a:xfrm>
            <a:off x="2857680" y="4786200"/>
            <a:ext cx="1785600" cy="17859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5" descr="5-4.gif"/>
          <p:cNvPicPr/>
          <p:nvPr/>
        </p:nvPicPr>
        <p:blipFill>
          <a:blip r:embed="rId2"/>
          <a:stretch/>
        </p:blipFill>
        <p:spPr>
          <a:xfrm>
            <a:off x="5143680" y="4714920"/>
            <a:ext cx="2690640" cy="201600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6"/>
          <p:cNvSpPr/>
          <p:nvPr/>
        </p:nvSpPr>
        <p:spPr>
          <a:xfrm>
            <a:off x="468360" y="5013360"/>
            <a:ext cx="47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627280" y="549360"/>
            <a:ext cx="605952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Металлург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484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лубоко исследовал Менделеев и пути развития промышленности Урала, переживавшей тогда серьезный кризис. Разработанные Менделеевым меры по расширению топливной базы для металлургии Урала, в частности, за счет каменных углей востока, в том числе Кизеловского и в перспективе Кузнецкого бассейнов, стали залогом спасения целого промышленного района, который впоследствии сыграл столь важную роль в экономическом развитии стра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Рисунок 3" descr="201432.jpg"/>
          <p:cNvPicPr/>
          <p:nvPr/>
        </p:nvPicPr>
        <p:blipFill>
          <a:blip r:embed="rId1"/>
          <a:stretch/>
        </p:blipFill>
        <p:spPr>
          <a:xfrm>
            <a:off x="928800" y="4357800"/>
            <a:ext cx="2701800" cy="207144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4" descr="black190_1.gif"/>
          <p:cNvPicPr/>
          <p:nvPr/>
        </p:nvPicPr>
        <p:blipFill>
          <a:blip r:embed="rId2"/>
          <a:stretch/>
        </p:blipFill>
        <p:spPr>
          <a:xfrm>
            <a:off x="4357800" y="4357800"/>
            <a:ext cx="2643120" cy="199044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блема: В представлении большинства людей Менделеев – великий химик. Но гораздо больше его трудов посвящено физике, географии, экономике, метеорологи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Цель: Показать неоценимый вклад Менделеева в отечественную географию в эпоху реформ середины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XIX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ек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учить информацию  о деятельности Менделеева в области экономики, географии, промышленнос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брать и систематизировать информацию о работе Менделеева в разных областях наук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бедиться, что Менделеев не только известный химик, но и замечательный специалист в области географии, экономики, метеорологи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бъект исследования: личность Д.И.Менделеев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дмет исследования: деятельность ученого в становлении географической науки в эпоху реформ середины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XIX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ек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7496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83664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мечательно то, что и внутри каждого из этих территориальных комплексов Менделеев наметил как бы микро-комплексы на основе кооперирования и комбинирования предприятий таким образом, чтобы отходы одного производства служили сырьем для другого. Там, где добываются и перерабатываются нефть и уголь, выплавляется металл и пр., из отходов надо извлекать соду, соль, серу, деготь и другие ценные продукты. Это не только повысит рентабельность производства, но и позволит решить уже тогда встававшие перед человечеством экологические проблем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Рисунок 3" descr="kuonanpoisto_parempi_2007nvt.jpg"/>
          <p:cNvPicPr/>
          <p:nvPr/>
        </p:nvPicPr>
        <p:blipFill>
          <a:blip r:embed="rId1"/>
          <a:stretch/>
        </p:blipFill>
        <p:spPr>
          <a:xfrm>
            <a:off x="1714680" y="4143240"/>
            <a:ext cx="2143080" cy="228312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4" descr="metalll.jpg"/>
          <p:cNvPicPr/>
          <p:nvPr/>
        </p:nvPicPr>
        <p:blipFill>
          <a:blip r:embed="rId2"/>
          <a:stretch/>
        </p:blipFill>
        <p:spPr>
          <a:xfrm>
            <a:off x="4356000" y="3789360"/>
            <a:ext cx="2357640" cy="221292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5"/>
          <p:cNvSpPr/>
          <p:nvPr/>
        </p:nvSpPr>
        <p:spPr>
          <a:xfrm>
            <a:off x="7020000" y="49417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onstantia"/>
              </a:rPr>
              <a:t>на главну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704520"/>
            <a:ext cx="7283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ельское хозяйст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12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«Сельское хозяйство – своего рода промышленность для производства растений и животных. Гораздо выгоднее экспортировать не зерно, а скот…»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Д.И. Менделеев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ассматривая сельское хозяйство как отрасль единого народно-хозяйственного комплекса, ученый указывал на необходимость оказания ему помощи через промышленное покровительство, так как оно не только не противоречит интересам сельского хозяйства, но, напротив, способствует его развитию. Менделеев пришел к убеждению, что, продолжая идти через колосящиеся хлебные нивы, столь привычные и дорогие русскому сердцу, Россия не достигнет благополучия и экономического процветания. Подчеркивая важность и необходимость "нормальной комбинации сельского труда с заводско-фабричным", он не был сторонником активных государственных мер, направленных непосредственно на подъем аграрного сектора и "считал всякое массовое вмешательство в это дело... совершенно ненужным и даже могущим быть чрезвычайно вредным"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Рисунок 3" descr="agriculture.jpg"/>
          <p:cNvPicPr/>
          <p:nvPr/>
        </p:nvPicPr>
        <p:blipFill>
          <a:blip r:embed="rId1"/>
          <a:stretch/>
        </p:blipFill>
        <p:spPr>
          <a:xfrm>
            <a:off x="1000080" y="4786200"/>
            <a:ext cx="2643120" cy="187164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4" descr="kolosya.jpg"/>
          <p:cNvPicPr/>
          <p:nvPr/>
        </p:nvPicPr>
        <p:blipFill>
          <a:blip r:embed="rId2"/>
          <a:stretch/>
        </p:blipFill>
        <p:spPr>
          <a:xfrm>
            <a:off x="4643280" y="478620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98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лее пятидесяти лет, с присущей ему основательностью, Менделеев изучал проблемы земледелия. В книге "Заветные мысли" (1904) ученый сообщал о том, что еще в начале 60-х годов его "глубоко занимала мысль о возможности выгодно вести хозяйство при помощи улучшений и вкладов в землю свободного труда и капитала"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н организовал четыре опытные станции, на которые Вольное Экономическое общество выделило необходимые средства, и на них провел изучение влияния удобре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бы реализовать свои идеи о рациональном ведении хозяйства, Дмитрий Иванович покупает запущенное имение Боблово и на личном опыте, организовав экспериментальные делянки, убеждается в том, что в российских климатических и экономических условиях западноевропейская культура земледелия неприменим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Рисунок 4" descr="psheno.jpg"/>
          <p:cNvPicPr/>
          <p:nvPr/>
        </p:nvPicPr>
        <p:blipFill>
          <a:blip r:embed="rId1"/>
          <a:stretch/>
        </p:blipFill>
        <p:spPr>
          <a:xfrm>
            <a:off x="1143000" y="4286160"/>
            <a:ext cx="2948040" cy="221472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5" descr="S3010646.jpg"/>
          <p:cNvPicPr/>
          <p:nvPr/>
        </p:nvPicPr>
        <p:blipFill>
          <a:blip r:embed="rId2"/>
          <a:stretch/>
        </p:blipFill>
        <p:spPr>
          <a:xfrm>
            <a:off x="5072040" y="4286160"/>
            <a:ext cx="2762280" cy="207180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280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90756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овываясь на результатах полевых опытов (1867--1869), Менделеев указывал на необходимость известкования кислых почв, применения размолотых фосфоритов, суперфосфата, азотных и калийных удобрений, совместного внесения минеральных и органических удобрени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нделеев уделял большое внимание орошению земель Нижнего Поволжь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Рисунок 3" descr="Сельское-хозяйство.jpg"/>
          <p:cNvPicPr/>
          <p:nvPr/>
        </p:nvPicPr>
        <p:blipFill>
          <a:blip r:embed="rId1"/>
          <a:stretch/>
        </p:blipFill>
        <p:spPr>
          <a:xfrm>
            <a:off x="2857680" y="4786200"/>
            <a:ext cx="2500200" cy="187488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4"/>
          <p:cNvSpPr/>
          <p:nvPr/>
        </p:nvSpPr>
        <p:spPr>
          <a:xfrm>
            <a:off x="5796000" y="4797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на глав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4176720" cy="193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етеорология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5000"/>
            <a:ext cx="822960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боты Менделеева по изучению свойств газов инициировали его интерес к проблемам в области геофизики и метеорологии. Разрабатывая эти вопросы, Менделеев заинтересовался исследованиями атмосферы (особенно ее верхних слоев) с помощью летательных аппаратов. В процессе исследований верхних слоев атмосферы Менделеев начал разрабатывать конструкции летательных аппаратов, позволяющих проводить наблюдения температуры, давления, влажности и других параметров на больших высотах. 7-го августа 1887 года Менделеев совершил полет на воздушном шаре. За совершение этого полёта Д.И. Менделеев был удостоен медали Французского общества воздухоплав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Рисунок 3" descr="350px-Isabel_eye.jpg"/>
          <p:cNvPicPr/>
          <p:nvPr/>
        </p:nvPicPr>
        <p:blipFill>
          <a:blip r:embed="rId1"/>
          <a:stretch/>
        </p:blipFill>
        <p:spPr>
          <a:xfrm>
            <a:off x="928800" y="4500720"/>
            <a:ext cx="3333600" cy="220968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4" descr="Cyclone_Catarina_from_the_ISS_on_March_26_2004.JPG"/>
          <p:cNvPicPr/>
          <p:nvPr/>
        </p:nvPicPr>
        <p:blipFill>
          <a:blip r:embed="rId2"/>
          <a:stretch/>
        </p:blipFill>
        <p:spPr>
          <a:xfrm>
            <a:off x="4786200" y="4357800"/>
            <a:ext cx="3286080" cy="217152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5"/>
          <p:cNvSpPr/>
          <p:nvPr/>
        </p:nvSpPr>
        <p:spPr>
          <a:xfrm flipH="1">
            <a:off x="5244480" y="1341360"/>
            <a:ext cx="23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32000" y="704880"/>
            <a:ext cx="73548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веде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1196640"/>
            <a:ext cx="44956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именем нашего выдающегося соотечественника Дмитрия Ивановича Менделеева каждый школьник знакомится, приступив к изучению химии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ериодический закон Д.И. Менделеев открыл в 1869 году в возрасте всего 35 лет. После этого химия в его творчестве отходит на второй план, а его научные интересы смещаются в сторону промышленности, экономики, финансов, народного образования. К концу XIX века Дмитрий Иванович занял в русском обществе уникальное место универсального эксперта, консультирующего русское правительство по широкому кругу научных и народно-хозяйственных проблем – воздухоплаванию, нефтяным делам, бездымным порохам, таможенному тарифу, реформе высшего образования, постановке метрологического дела в стране..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tretch/>
        </p:blipFill>
        <p:spPr>
          <a:xfrm>
            <a:off x="4672080" y="1920960"/>
            <a:ext cx="3990960" cy="443376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211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Содержимое 18" descr="mendeleev.jpg"/>
          <p:cNvPicPr/>
          <p:nvPr/>
        </p:nvPicPr>
        <p:blipFill>
          <a:blip r:embed="rId1"/>
          <a:stretch/>
        </p:blipFill>
        <p:spPr>
          <a:xfrm>
            <a:off x="3643200" y="3571920"/>
            <a:ext cx="1785960" cy="2494080"/>
          </a:xfrm>
          <a:prstGeom prst="rect">
            <a:avLst/>
          </a:prstGeom>
          <a:ln w="0">
            <a:noFill/>
          </a:ln>
        </p:spPr>
      </p:pic>
      <p:sp>
        <p:nvSpPr>
          <p:cNvPr id="214" name="Овал 14"/>
          <p:cNvSpPr/>
          <p:nvPr/>
        </p:nvSpPr>
        <p:spPr>
          <a:xfrm>
            <a:off x="826920" y="549360"/>
            <a:ext cx="2592720" cy="1800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Экономическая 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9"/>
          <p:cNvSpPr/>
          <p:nvPr/>
        </p:nvSpPr>
        <p:spPr>
          <a:xfrm>
            <a:off x="3429000" y="1428840"/>
            <a:ext cx="2160720" cy="1800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мыш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  <a:ea typeface="Andalus"/>
              </a:rPr>
              <a:t>ленно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20"/>
          <p:cNvSpPr/>
          <p:nvPr/>
        </p:nvSpPr>
        <p:spPr>
          <a:xfrm>
            <a:off x="4500720" y="0"/>
            <a:ext cx="2087280" cy="13683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нефтя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21"/>
          <p:cNvSpPr/>
          <p:nvPr/>
        </p:nvSpPr>
        <p:spPr>
          <a:xfrm>
            <a:off x="5796000" y="1268280"/>
            <a:ext cx="1728720" cy="1440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уг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22"/>
          <p:cNvSpPr/>
          <p:nvPr/>
        </p:nvSpPr>
        <p:spPr>
          <a:xfrm>
            <a:off x="5867280" y="3500280"/>
            <a:ext cx="2305080" cy="1657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Металлу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23"/>
          <p:cNvSpPr/>
          <p:nvPr/>
        </p:nvSpPr>
        <p:spPr>
          <a:xfrm>
            <a:off x="468360" y="2852640"/>
            <a:ext cx="2087640" cy="16560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Сельское хозя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24"/>
          <p:cNvSpPr/>
          <p:nvPr/>
        </p:nvSpPr>
        <p:spPr>
          <a:xfrm>
            <a:off x="900000" y="4941720"/>
            <a:ext cx="2448000" cy="1916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Метеор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26"/>
          <p:cNvSpPr/>
          <p:nvPr/>
        </p:nvSpPr>
        <p:spPr>
          <a:xfrm>
            <a:off x="2699640" y="2276640"/>
            <a:ext cx="942840" cy="1652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28"/>
          <p:cNvSpPr/>
          <p:nvPr/>
        </p:nvSpPr>
        <p:spPr>
          <a:xfrm>
            <a:off x="4507920" y="3228840"/>
            <a:ext cx="27000" cy="343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30"/>
          <p:cNvSpPr/>
          <p:nvPr/>
        </p:nvSpPr>
        <p:spPr>
          <a:xfrm flipH="1">
            <a:off x="4928760" y="1285920"/>
            <a:ext cx="71640" cy="2142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2"/>
          <p:cNvSpPr/>
          <p:nvPr/>
        </p:nvSpPr>
        <p:spPr>
          <a:xfrm>
            <a:off x="5580000" y="2276640"/>
            <a:ext cx="28728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36"/>
          <p:cNvSpPr/>
          <p:nvPr/>
        </p:nvSpPr>
        <p:spPr>
          <a:xfrm flipH="1" flipV="1">
            <a:off x="2411280" y="4076640"/>
            <a:ext cx="1231920" cy="495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38"/>
          <p:cNvSpPr/>
          <p:nvPr/>
        </p:nvSpPr>
        <p:spPr>
          <a:xfrm flipH="1">
            <a:off x="3132000" y="4929120"/>
            <a:ext cx="511200" cy="51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40"/>
          <p:cNvSpPr/>
          <p:nvPr/>
        </p:nvSpPr>
        <p:spPr>
          <a:xfrm flipV="1">
            <a:off x="5429160" y="4508640"/>
            <a:ext cx="438120" cy="63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35280" y="704880"/>
            <a:ext cx="68515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ключе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исследовала по этапам все, что создал, что сделал, в чем участвовал знаменитый и гениальный ученый Дмитрий Иванович Менделеев, и с гордостью могу сказать, что это великий ученый, завоевавший мировую известность, а так же это человек исключительных душевных качеств, с мужским и неустрашимым характером. Благодаря Д.И.Менделееву мы можем пользоваться достоянием науки, потому что именно он очень многое сделал для своей Род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1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980640"/>
            <a:ext cx="7715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нделеев ещё при жизни был известен во многих странах, получил свыше 130 дипломов и почётных званий от русских и зарубежных академий, учёных обществ и учебных заведени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мя великого географа благодарные потомки нанесли на карту страны и ми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Подводный хребет Менделеева в Северном Ледовитом океан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968828_1182856376"/>
          <p:cNvPicPr/>
          <p:nvPr/>
        </p:nvPicPr>
        <p:blipFill>
          <a:blip r:embed="rId1"/>
          <a:stretch/>
        </p:blipFill>
        <p:spPr>
          <a:xfrm>
            <a:off x="1979640" y="2565360"/>
            <a:ext cx="4968720" cy="39402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селок Менделеево (Московская область, Солнечногорский район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Picture 2" descr="sign"/>
          <p:cNvPicPr/>
          <p:nvPr/>
        </p:nvPicPr>
        <p:blipFill>
          <a:blip r:embed="rId1"/>
          <a:stretch/>
        </p:blipFill>
        <p:spPr>
          <a:xfrm>
            <a:off x="5435640" y="2276640"/>
            <a:ext cx="3240000" cy="248112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242" name="Picture 4" descr="mendeleevo2"/>
          <p:cNvPicPr/>
          <p:nvPr/>
        </p:nvPicPr>
        <p:blipFill>
          <a:blip r:embed="rId2"/>
          <a:stretch/>
        </p:blipFill>
        <p:spPr>
          <a:xfrm>
            <a:off x="457200" y="2276640"/>
            <a:ext cx="4835520" cy="3165480"/>
          </a:xfrm>
          <a:prstGeom prst="rect">
            <a:avLst/>
          </a:prstGeom>
          <a:ln w="19080">
            <a:solidFill>
              <a:srgbClr val="993366"/>
            </a:solidFill>
            <a:miter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Город Менделеевск (Республика Татарстан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Picture 2" descr="karta"/>
          <p:cNvPicPr/>
          <p:nvPr/>
        </p:nvPicPr>
        <p:blipFill>
          <a:blip r:embed="rId1"/>
          <a:stretch/>
        </p:blipFill>
        <p:spPr>
          <a:xfrm>
            <a:off x="108000" y="1197000"/>
            <a:ext cx="5338800" cy="395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i8"/>
          <p:cNvPicPr/>
          <p:nvPr/>
        </p:nvPicPr>
        <p:blipFill>
          <a:blip r:embed="rId2"/>
          <a:stretch/>
        </p:blipFill>
        <p:spPr>
          <a:xfrm>
            <a:off x="5364000" y="3500280"/>
            <a:ext cx="3105360" cy="3008520"/>
          </a:xfrm>
          <a:prstGeom prst="rect">
            <a:avLst/>
          </a:prstGeom>
          <a:ln w="12600">
            <a:solidFill>
              <a:srgbClr val="00ccff"/>
            </a:solidFill>
            <a:miter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7:28:27Z</dcterms:created>
  <dc:creator>яна</dc:creator>
  <dc:description/>
  <dc:language>en-US</dc:language>
  <cp:lastModifiedBy>LEGION</cp:lastModifiedBy>
  <dcterms:modified xsi:type="dcterms:W3CDTF">2014-12-29T08:40:30Z</dcterms:modified>
  <cp:revision>43</cp:revision>
  <dc:subject/>
  <dc:title>Вклад Д.И. Менделеева в отечественную географию.</dc:title>
</cp:coreProperties>
</file>