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5B00-CDAC-4DC0-935E-5048076FC8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Д.И. Менделеева в отечественную географ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Петунина Ольга, ученица 8»Б» клас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32, г. Сург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  Авдюкова Татьяна Дмитри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МОУ СОШ «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2EAA-563B-41C6-9532-73449B862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Ледник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97B6-7629-4C4F-B15E-6B840069F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й вулкан на о. Кунашир (Курильские остр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86FF-BDC3-4BD4-BDCE-A1056132A0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щенко В. Е., Младенцев М. Н. Дмитрий Иванович Менделеев, его жизнь и деятельность.// Университетский период 1861 - 1890 гг. М., 1993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ев И. С. "Особая миссия" Менделеева - Аргументы и факты // Санкт-Петербургский университет. 1996. 16 мая. С. 17 - 22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ареня А.А. Менделеев в Петербурге//Л.:Лениздат,198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энциклопедический словарь, главный редактор А.Ф. Трешников, Москва, “Советская энциклопедия”, 198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ушкин Ю.Г. “История и методология географической науки”, Издательство Московского университета, 197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ушкин Ю.Г. “Экономическая география: история, теория, методы, практика”, М., “Мысль”, 197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ский Б.Н. “Введение в географическую науку”, Ленинград, Издательство Ленинградского университета, 197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 в СССР. История и современное развитие”. Сост. Т.Е. Губанова, Просвещение,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школьная энциклопедия. 6-11 кл., / П.А.Кошель. Т. 2. - М.: ОЛМА - Пресс, 1999. - 717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обо всех: Т. 1 научно - популярное издание/ Г.П.Шалаева, Т.Н.Колядич. - М.: Филологическое общество «Слово», компания «Ключ - с», АСТ, 1996. - 480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ареня, А.А., Д.И.Менделеев: книга для учащихся 8-9 классов средней школы/ А.А.Макарелл, Ю.В.Рысев. - 3-е издание перераб. - М.: Просвещение, 1988. - 127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н, Д.К., 100 великих ученых/ Д.К.Самин. - М.: Вече, 2003. - 592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н, Д.К., 100 великих научных открытий/ Д.К.Самин. - М.: Вече, 2002. - 480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. Кто такой: В 3 т. Т. 2 - 4-е изд., перераб. И доп. - М.: Педагогика-Пресс, 1998. - 41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знаю мир: Детская энциклопедия: Химия./ Авт. Сост. Л.А.Савина. - М.: ООО изд-во АСТ - ЛТД, 1988. - 448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4DD7-DA20-4204-B7D9-34013F194A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гда и в каждом деле для сознательности совершаемых в нем действий преполезно подсчитаться…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 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вопросов, относящихся к экономической географии, внимание Менделеева особенно привлекали хозяйственная оценка природных богатств и географического положения различных частей России, экономическое районирование России и установление системы показателей экономики района, развитие Урала, освоение Арктики, экономический анализ демографических показателей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3374-6C59-4661-86B4-06292A3C5D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исследованиям экономико-географического характера проявился у Менделеева очень рано. В одной из первых опубликованных им работ - “Северный Урал и береговой хребет Пай-Хой” - 23-летний ученый рассмотрел географию Северного Урала. На основании материалов экспедиций Географического общества (1847, 1848, 1850) он характеризует природу, хозяйственный быт и трудовые навыки населения Северного Ур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нний период своей деятельности Менделеев интересовался главным образом тремя отраслями хозяйства: сельским хозяйством, нефтяной и угольной промышленностью. К этим отраслям он в той или иной степени возвращается и в более поздних своих рабо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B76-84F5-4C20-95B7-ECA20D992F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9 г. в докладе Вольному экономическому обществу Менделеев ставит вопрос об организации в различных частях страны опытных участков для изучения почв и удобрений, что было прототипом будущих опытных сельскохозяйственных станций. В “Мыслях о развитии сельскохозяйственной промышленности” Менделеев говорит о важности преобразования природы культивируемых растений. В работе “К познанию России” ученый возвращается к вопросам сельского хозяйства и пишет об изменении его природно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, “В дополнениях к познанию России”, Менделеев ставит вопрос о “ветряных двигателях”, которые смогут подавать воду для орошения в районе низовий Вол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глав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2822-2DF8-4815-BD9C-492D17BABB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яная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фть не топливо — топить можно и ассигнациям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у не было еще тридцати, когда известный нефтепромышленник В.А. Кокорев попросил его выехать в Баку для изучения состояния нефтедобычи и нефтепереработки. Менделеев тщательно обследовал все Бакинские нефтепромыслы и установки по переработке нефти, но не ограничился этим, а наметил целую программу повышения эффективности отрасли. Он оценил потребности всей России в нефтепродуктах, принял в расчет все тогда известные и предполагаемые им месторождения нефти, выявил условия, когда нефтеперерабатывающие заводы лучше размещать в местах добычи нефти, а когда - в центрах ее потребления, и составил схему размещения новых нефтеперерабатывающих заводов в Центральной России, в особенности вблизи Москвы и в крупнейших городах на Волге (в Царицыне, Саратове, Самаре, Нижнем Новгороде, Ярославле, Рыбинске). Мало того, он предложил построить нефтепровод Баку - Батуми и заводы по переработке нефти на Черноморском побережье с тем, чтобы не только избавить Россию от импорта американского керосина, но и самим экспортировать нефтепродукты в Европу. Он считал варварством, что сырая нефть, из которой можно получать столько ценнейших продуктов, используется как топли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28DC-4C2E-4AF5-BB9E-75FD14800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ьная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Центры развития нашей будущей заводской и фабричной деятельности — это места, где находится уголь и другие полезные ископаемые…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 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так же комплексно подошел Менделеев и к оценке перспектив развития незадолго до того открытых залежей угля в Донецком бассейне. Менделеев просчитал, во что обходится снабжение Петербурга и Москвы польским (из Силезии) и импортным английским углем, и определил, при каких условиях донецкий уголь окажется конкурентоспособным с ними. Он разработал предложения по изменению таможенных тарифов на уголь, обосновал необходимость постройки специальной углевозной железнодорожной магистрали, проведения шлюзования и дноуглубительных работ на Донце и Дону, развития портов на побережьях Азовского и Черного морей. При проведении намеченных им мероприятий Россия могла бы не только отказаться от импорта угля, но и сама экспортировать его сначала в страны Средиземноморья, а затем и в страны Балтики, причем эта задача рассматривалась им не только как экономическая, но и как политическая, как вопрос престижа нашей страны. Не ограничившись изучением только Донецкого угольного бассейна, Менделеев обратил внимание общественности и промышленных кругов на месторождения угля на востоке, в первую очередь в Кузнецком бассейне и далее, вплоть до Сахалина. Он первым поставил вопрос о принципиально новых методах добычи и использования угля, в частности, на возможность его подземной газ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0EBA-AAAA-48B3-847A-DF1877F21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идее подземной газификации углей Менделеев не однократно возвращался: в 1899, наблюдая во время поездки на Урал подземные пожары в Кизеловском районе, Менделеев сделал ряд практических выводов о возможности управления процессом горения угольного пл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у разработки многочисленных угольных месторождений России Менделеев связывал с развитием отечественной металлургии и в первую очередь её развитием производства чугуна, железа, стали и меди, обращая особое внимание на использование бедных руд. Он отмечал также необходимость раз работки богатых месторождений хромовых и марганцовых руд на Урале и Кавка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DCAC-6C8B-4193-B188-CB99C7F5E6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 исследовал Менделеев и пути развития промышленности Урала, переживавшей тогда серьезный кризис. Разработанные Менделеевым меры по расширению топливной базы для металлургии Урала, в частности, за счет каменных углей востока, в том числе Кизеловского и в перспективе Кузнецкого бассейнов, стали залогом спасения целого промышленного района, который впоследствии сыграл столь важную роль в экономическом развити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10AF-7514-4A86-AD19-D28E77F504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В представлении большинства людей Менделеев – великий химик. Но гораздо больше его трудов посвящено физике, географии, экономике, метеор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казать неоценимый вклад Менделеева в отечественную географию в эпоху реформ середин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информацию  о деятельности Менделеева в области экономики, географии,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 систематизировать информацию о работе Менделеева в разных областях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ься, что Менделеев не только известный химик, но и замечательный специалист в области географии, экономики, метеор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 личность Д.И.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: деятельность ученого в становлении географической науки в эпоху реформ середин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B9A-314A-4720-B1DA-8390A0353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тельно то, что и внутри каждого из этих территориальных комплексов Менделеев наметил как бы микро-комплексы на основе кооперирования и комбинирования предприятий таким образом, чтобы отходы одного производства служили сырьем для другого. Там, где добываются и перерабатываются нефть и уголь, выплавляется металл и пр., из отходов надо извлекать соду, соль, серу, деготь и другие ценные продукты. Это не только повысит рентабельность производства, но и позволит решить уже тогда встававшие перед человечеством 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6F71-428C-411B-BF48-014C528A8B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ельское хозяйство – своего рода промышленность для производства растений и животных. Гораздо выгоднее экспортировать не зерно, а скот…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сельское хозяйство как отрасль единого народно-хозяйственного комплекса, ученый указывал на необходимость оказания ему помощи через промышленное покровительство, так как оно не только не противоречит интересам сельского хозяйства, но, напротив, способствует его развитию. Менделеев пришел к убеждению, что, продолжая идти через колосящиеся хлебные нивы, столь привычные и дорогие русскому сердцу, Россия не достигнет благополучия и экономического процветания. Подчеркивая важность и необходимость "нормальной комбинации сельского труда с заводско-фабричным", он не был сторонником активных государственных мер, направленных непосредственно на подъем аграрного сектора и "считал всякое массовое вмешательство в это дело... совершенно ненужным и даже могущим быть чрезвычайно вредны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CB21-ACC1-46E2-B9EA-B065A909A6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ятидесяти лет, с присущей ему основательностью, Менделеев изучал проблемы земледелия. В книге "Заветные мысли" (1904) ученый сообщал о том, что еще в начале 60-х годов его "глубоко занимала мысль о возможности выгодно вести хозяйство при помощи улучшений и вкладов в землю свободного труда и капита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рганизовал четыре опытные станции, на которые Вольное Экономическое общество выделило необходимые средства, и на них провел изучение влияния удобр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реализовать свои идеи о рациональном ведении хозяйства, Дмитрий Иванович покупает запущенное имение Боблово и на личном опыте, организовав экспериментальные делянки, убеждается в том, что в российских климатических и экономических условиях западноевропейская культура земледелия непримен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B970-2829-4F11-94D1-5538DDD769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результатах полевых опытов (1867--1869), Менделеев указывал на необходимость известкования кислых почв, применения размолотых фосфоритов, суперфосфата, азотных и калийных удобрений, совместного внесения минеральных и органических удоб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ев уделял большое внимание орошению земель Нижнего Поволж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1A0B-3C13-4CD8-B3ED-D8C1E94FB3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Менделеева по изучению свойств газов инициировали его интерес к проблемам в области геофизики и метеорологии. Разрабатывая эти вопросы, Менделеев заинтересовался исследованиями атмосферы (особенно ее верхних слоев) с помощью летательных аппаратов. В процессе исследований верхних слоев атмосферы Менделеев начал разрабатывать конструкции летательных аппаратов, позволяющих проводить наблюдения температуры, давления, влажности и других параметров на больших высотах. 7-го августа 1887 года Менделеев совершил полет на воздушном шаре. За совершение этого полёта Д.И. Менделеев был удостоен медали Французского общества воздухопла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8934-5FBB-4C88-86C5-C6A7773269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менем нашего выдающегося соотечественника Дмитрия Ивановича Менделеева каждый школьник знакомится, приступив к изучению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ий закон Д.И. Менделеев открыл в 1869 году в возрасте всего 35 лет. После этого химия в его творчестве отходит на второй план, а его научные интересы смещаются в сторону промышленности, экономики, финансов, народного образования. К концу XIX века Дмитрий Иванович занял в русском обществе уникальное место универсального эксперта, консультирующего русское правительство по широкому кругу научных и народно-хозяйственных проблем – воздухоплаванию, нефтяным делам, бездымным порохам, таможенному тарифу, реформе высшего образования, постановке метрологического дела в стране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980E-9A24-4B8E-BB1D-7BC83C7496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сследовала по этапам все, что создал, что сделал, в чем участвовал знаменитый и гениальный ученый Дмитрий Иванович Менделеев, и с гордостью могу сказать, что это великий ученый, завоевавший мировую известность, а так же это человек исключительных душевных качеств, с мужским и неустрашимым характером. Благодаря Д.И.Менделееву мы можем пользоваться достоянием науки, потому что именно он очень многое сделал для своей Ро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43EE-ABE2-416E-8BCB-D569A04671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ев ещё при жизни был известен во многих странах, получил свыше 130 дипломов и почётных званий от русских и зарубежных академий, учёных обществ и учебных за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великого географа благодарные потомки нанесли на карту страны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373B-B632-413E-BCC7-75BCC32ACF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дводный хребет Менделеева в Северном Ледовит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5EFB-7CD2-4C6C-B392-2F1E7B14F9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селок Менделеево (Московская область, Солнечногорский рай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B37B-EFED-40C6-A658-CBBD979B90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ород Менделеевск (Республика Татар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23E3-51C4-414A-A433-617FC4D57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3C6-ECDC-43FA-A873-0DC36713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1CD-5770-4692-AB2E-16DA13F8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85A-52D4-4924-964C-7FF7E892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040-7016-49BB-A3EC-07A41055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10B7-9B5A-4699-9192-39D72BB3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3100-3427-4439-8C81-641DE7BC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C424-103D-42DF-ABEC-C45A4C01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A711-84A6-464B-BE9F-1DC59BCE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74BA-9FB7-46CB-BF66-1584A068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2C6D-7589-4184-BC97-7110C80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B196-D8E7-436C-A562-BEB5A18D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DCB-6AD4-4C41-BC03-06C51295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FDA6-BFAD-4DDA-A755-15BB1635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AF6F-FA09-4375-A260-C8379AA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0B91-2C09-48E6-9E43-9F1A0736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5B8D-7968-4D6A-8DFF-55A3D20E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5A73-E41D-466D-9C11-645FF782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FF78-8922-456B-8242-D9CB4FA4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8A7F-A341-4D4D-AB4D-16AF2B48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60AF-582C-48F8-A567-3045A536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E1A7-7FC1-49F6-8D27-7594C868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0FEB-807F-451B-BCA6-774D12B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33B-3097-4DBD-B13C-4C889A4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8CF3-C022-4030-A113-AE6168DD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DAA7-1732-4344-8BAE-C13547D5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8488-E125-4649-8E71-9644F57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C022-EAF7-4451-A87E-2939B44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A1C64-212A-447C-9B29-935DF8CF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C3D9-D9C5-4626-AA58-C31F75E9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784F-CF1F-498A-BBCC-872A631F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E209-707B-4894-8929-4573030C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5C3A-5E2C-4BA9-8A88-C934AE7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4233-3776-4B6A-97E3-7EA47305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608-239E-4313-88D0-BFDA19DA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6783-77AB-4F95-8F6E-7406A09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E5FA9-4B46-4802-8D4E-9A806D69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CA62-BB57-4E0A-9CF1-83C0185D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112D-8B9A-4A00-BF1B-006EC2C9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FD55-0626-4EDD-9F01-A3DE50E1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D910-7F4B-4E8A-B96D-225080C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D0BF-EB48-42AC-B722-C0F30DCF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4CE1-FEB6-4D82-918C-2027BA1E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1492-5EF0-4027-9EFC-4CB8CF3B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63D-308B-4770-A640-6F09DBB3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3FC-9557-44C0-BB30-43CE56CF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350-1F3B-4535-B449-6DE17DA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3F4-CE48-49B5-AEBA-7F31AD0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863-A9DC-46AA-AF3A-4643F76E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D837-C11C-4FCF-9A17-2009357DDBAF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6352-26D2-4FF2-9799-3C1E578EA1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040A-CC8D-4429-9E53-2461811658A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1AC6-8A1F-4E55-939C-CB720EB66E8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235C-D397-4DF0-A482-30A020E03D0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851-2861-44BE-8F97-11A979983B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30F1-7607-4393-AAA0-2DEBFFE80A4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D088-CC42-4137-BDCE-232A7BDEF9A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706320"/>
            <a:ext cx="8472600" cy="2494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ыполнила: Петунина Ольга, ученица 8»Б» класс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ОУ СОШ №32, г. Сургу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уководитель:  Авдюкова Татьяна Дмитриевна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читель географии МОУ СОШ «3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Ледник Менделеев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2856241_large"/>
          <p:cNvPicPr/>
          <p:nvPr/>
        </p:nvPicPr>
        <p:blipFill>
          <a:blip r:embed="rId1"/>
          <a:stretch/>
        </p:blipFill>
        <p:spPr>
          <a:xfrm>
            <a:off x="457200" y="1484280"/>
            <a:ext cx="8075520" cy="48243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836280"/>
            <a:ext cx="3251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ующий вулкан на о. Кунашир (Курильские остров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C:\Documents and Settings\КЕКС\Рабочий стол\мама\500px-Вулкан_Менделеева.JPG"/>
          <p:cNvPicPr/>
          <p:nvPr/>
        </p:nvPicPr>
        <p:blipFill>
          <a:blip r:embed="rId1"/>
          <a:stretch/>
        </p:blipFill>
        <p:spPr>
          <a:xfrm>
            <a:off x="3924360" y="765000"/>
            <a:ext cx="4830840" cy="4319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КЕКС\Рабочий стол\мама\300px-Kurily.svg.png"/>
          <p:cNvPicPr/>
          <p:nvPr/>
        </p:nvPicPr>
        <p:blipFill>
          <a:blip r:embed="rId2"/>
          <a:stretch/>
        </p:blipFill>
        <p:spPr>
          <a:xfrm>
            <a:off x="971640" y="3573360"/>
            <a:ext cx="3313080" cy="306720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331164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ищенко В. Е., Младенцев М. Н. Дмитрий Иванович Менделеев, его жизнь и деятельность.// Университетский период 1861 - 1890 гг. М., 1993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митриев И. С. "Особая миссия" Менделеева - Аргументы и факты // Санкт-Петербургский университет. 1996. 16 мая. С. 17 - 22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кареня А.А. Менделеев в Петербурге//Л.:Лениздат,1982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еографический энциклопедический словарь, главный редактор А.Ф. Трешников, Москва, “Советская энциклопедия”, 1989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ушкин Ю.Г. “История и методология географической науки”, Издательство Московского университета, 1976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ушкин Ю.Г. “Экономическая география: история, теория, методы, практика”, М., “Мысль”, 1973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еменовский Б.Н. “Введение в географическую науку”, Ленинград, Издательство Ленинградского университета, 1976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Экономическая география в СССР. История и современное развитие”. Сост. Т.Е. Губанова, Просвещение, 1987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ольшая школьная энциклопедия. 6-11 кл., / П.А.Кошель. Т. 2. - М.: ОЛМА - Пресс, 1999. - 717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се обо всех: Т. 1 научно - популярное издание/ Г.П.Шалаева, Т.Н.Колядич. - М.: Филологическое общество «Слово», компания «Ключ - с», АСТ, 1996. - 480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кареня, А.А., Д.И.Менделеев: книга для учащихся 8-9 классов средней школы/ А.А.Макарелл, Ю.В.Рысев. - 3-е издание перераб. - М.: Просвещение, 1988. - 127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мин, Д.К., 100 великих ученых/ Д.К.Самин. - М.: Вече, 2003. - 592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мин, Д.К., 100 великих научных открытий/ Д.К.Самин. - М.: Вече, 2002. - 480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то такое. Кто такой: В 3 т. Т. 2 - 4-е изд., перераб. И доп. - М.: Педагогика-Пресс, 1998. - 416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Я познаю мир: Детская энциклопедия: Химия./ Авт. Сост. Л.А.Савина. - М.: ООО изд-во АСТ - ЛТД, 1988. - 448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Экономическая географ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сегда и в каждом деле для сознательности совершаемых в нем действий преполезно подсчитаться…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Д.И. Менделе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 вопросов, относящихся к экономической географии, внимание Менделеева особенно привлекали хозяйственная оценка природных богатств и географического положения различных частей России, экономическое районирование России и установление системы показателей экономики района, развитие Урала, освоение Арктики, экономический анализ демографических показателей Росс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Рисунок 3" descr="x_b57df75b.jpg"/>
          <p:cNvPicPr/>
          <p:nvPr/>
        </p:nvPicPr>
        <p:blipFill>
          <a:blip r:embed="rId2"/>
          <a:stretch/>
        </p:blipFill>
        <p:spPr>
          <a:xfrm>
            <a:off x="7500960" y="2214720"/>
            <a:ext cx="1238400" cy="153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рес к исследованиям экономико-географического характера проявился у Менделеева очень рано. В одной из первых опубликованных им работ - “Северный Урал и береговой хребет Пай-Хой” - 23-летний ученый рассмотрел географию Северного Урала. На основании материалов экспедиций Географического общества (1847, 1848, 1850) он характеризует природу, хозяйственный быт и трудовые навыки населения Северного Урал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ранний период своей деятельности Менделеев интересовался главным образом тремя отраслями хозяйства: сельским хозяйством, нефтяной и угольной промышленностью. К этим отраслям он в той или иной степени возвращается и в более поздних своих рабо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Рисунок 3" descr="00144.jpg"/>
          <p:cNvPicPr/>
          <p:nvPr/>
        </p:nvPicPr>
        <p:blipFill>
          <a:blip r:embed="rId1"/>
          <a:stretch/>
        </p:blipFill>
        <p:spPr>
          <a:xfrm>
            <a:off x="7143840" y="214200"/>
            <a:ext cx="1231920" cy="1643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5745960"/>
            <a:ext cx="1522440" cy="77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50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69 г. в докладе Вольному экономическому обществу Менделеев ставит вопрос об организации в различных частях страны опытных участков для изучения почв и удобрений, что было прототипом будущих опытных сельскохозяйственных станций. В “Мыслях о развитии сельскохозяйственной промышленности” Менделеев говорит о важности преобразования природы культивируемых растений. В работе “К познанию России” ученый возвращается к вопросам сельского хозяйства и пишет об изменении его природной сред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зже, “В дополнениях к познанию России”, Менделеев ставит вопрос о “ветряных двигателях”, которые смогут подавать воду для орошения в районе низовий Волг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 главную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Рисунок 3" descr="16_mendeleev.jpg"/>
          <p:cNvPicPr/>
          <p:nvPr/>
        </p:nvPicPr>
        <p:blipFill>
          <a:blip r:embed="rId2"/>
          <a:stretch/>
        </p:blipFill>
        <p:spPr>
          <a:xfrm>
            <a:off x="7358040" y="142920"/>
            <a:ext cx="914400" cy="17143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фтяная промышлен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5000"/>
            <a:ext cx="76867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ефть не топливо — топить можно и ассигнациями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Д.И. Менделее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му не было еще тридцати, когда известный нефтепромышленник В.А. Кокорев попросил его выехать в Баку для изучения состояния нефтедобычи и нефтепереработки. Менделеев тщательно обследовал все Бакинские нефтепромыслы и установки по переработке нефти, но не ограничился этим, а наметил целую программу повышения эффективности отрасли. Он оценил потребности всей России в нефтепродуктах, принял в расчет все тогда известные и предполагаемые им месторождения нефти, выявил условия, когда нефтеперерабатывающие заводы лучше размещать в местах добычи нефти, а когда - в центрах ее потребления, и составил схему размещения новых нефтеперерабатывающих заводов в Центральной России, в особенности вблизи Москвы и в крупнейших городах на Волге (в Царицыне, Саратове, Самаре, Нижнем Новгороде, Ярославле, Рыбинске). Мало того, он предложил построить нефтепровод Баку - Батуми и заводы по переработке нефти на Черноморском побережье с тем, чтобы не только избавить Россию от импорта американского керосина, но и самим экспортировать нефтепродукты в Европу. Он считал варварством, что сырая нефть, из которой можно получать столько ценнейших продуктов, используется как топлив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Рисунок 3" descr="NeftyanayapromishlennostbAzerbaydzhana-24.jpg"/>
          <p:cNvPicPr/>
          <p:nvPr/>
        </p:nvPicPr>
        <p:blipFill>
          <a:blip r:embed="rId1"/>
          <a:stretch/>
        </p:blipFill>
        <p:spPr>
          <a:xfrm>
            <a:off x="4429080" y="5286240"/>
            <a:ext cx="1928880" cy="13114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1.jpg"/>
          <p:cNvPicPr/>
          <p:nvPr/>
        </p:nvPicPr>
        <p:blipFill>
          <a:blip r:embed="rId2"/>
          <a:stretch/>
        </p:blipFill>
        <p:spPr>
          <a:xfrm>
            <a:off x="1785960" y="5214960"/>
            <a:ext cx="1928880" cy="14032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5"/>
          <p:cNvSpPr/>
          <p:nvPr/>
        </p:nvSpPr>
        <p:spPr>
          <a:xfrm>
            <a:off x="6804000" y="522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гольная промышленност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557000"/>
            <a:ext cx="77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«Центры развития нашей будущей заводской и фабричной деятельности — это места, где находится уголь и другие полезные ископаемые…»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Д.И. Менделее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чно так же комплексно подошел Менделеев и к оценке перспектив развития незадолго до того открытых залежей угля в Донецком бассейне. Менделеев просчитал, во что обходится снабжение Петербурга и Москвы польским (из Силезии) и импортным английским углем, и определил, при каких условиях донецкий уголь окажется конкурентоспособным с ними. Он разработал предложения по изменению таможенных тарифов на уголь, обосновал необходимость постройки специальной углевозной железнодорожной магистрали, проведения шлюзования и дноуглубительных работ на Донце и Дону, развития портов на побережьях Азовского и Черного морей. При проведении намеченных им мероприятий Россия могла бы не только отказаться от импорта угля, но и сама экспортировать его сначала в страны Средиземноморья, а затем и в страны Балтики, причем эта задача рассматривалась им не только как экономическая, но и как политическая, как вопрос престижа нашей страны. Не ограничившись изучением только Донецкого угольного бассейна, Менделеев обратил внимание общественности и промышленных кругов на месторождения угля на востоке, в первую очередь в Кузнецком бассейне и далее, вплоть до Сахалина. Он первым поставил вопрос о принципиально новых методах добычи и использования угля, в частности, на возможность его подземной газификаци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Рисунок 3" descr="coal-mine.jpg"/>
          <p:cNvPicPr/>
          <p:nvPr/>
        </p:nvPicPr>
        <p:blipFill>
          <a:blip r:embed="rId1"/>
          <a:stretch/>
        </p:blipFill>
        <p:spPr>
          <a:xfrm>
            <a:off x="1857240" y="5500800"/>
            <a:ext cx="1857600" cy="1249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Strip_coal_mining.jpg"/>
          <p:cNvPicPr/>
          <p:nvPr/>
        </p:nvPicPr>
        <p:blipFill>
          <a:blip r:embed="rId2"/>
          <a:stretch/>
        </p:blipFill>
        <p:spPr>
          <a:xfrm>
            <a:off x="4286160" y="5429160"/>
            <a:ext cx="2000520" cy="133344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907560"/>
            <a:ext cx="82580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 идее подземной газификации углей Менделеев не однократно возвращался: в 1899, наблюдая во время поездки на Урал подземные пожары в Кизеловском районе, Менделеев сделал ряд практических выводов о возможности управления процессом горения угольного плас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блему разработки многочисленных угольных месторождений России Менделеев связывал с развитием отечественной металлургии и в первую очередь её развитием производства чугуна, железа, стали и меди, обращая особое внимание на использование бедных руд. Он отмечал также необходимость раз работки богатых месторождений хромовых и марганцовых руд на Урале и Кавказ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Рисунок 3" descr="ugol.jpg"/>
          <p:cNvPicPr/>
          <p:nvPr/>
        </p:nvPicPr>
        <p:blipFill>
          <a:blip r:embed="rId1"/>
          <a:stretch/>
        </p:blipFill>
        <p:spPr>
          <a:xfrm>
            <a:off x="2857680" y="4786200"/>
            <a:ext cx="1785600" cy="17859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" descr="5-4.gif"/>
          <p:cNvPicPr/>
          <p:nvPr/>
        </p:nvPicPr>
        <p:blipFill>
          <a:blip r:embed="rId2"/>
          <a:stretch/>
        </p:blipFill>
        <p:spPr>
          <a:xfrm>
            <a:off x="5143680" y="4714920"/>
            <a:ext cx="2690640" cy="201600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6"/>
          <p:cNvSpPr/>
          <p:nvPr/>
        </p:nvSpPr>
        <p:spPr>
          <a:xfrm>
            <a:off x="468360" y="5013360"/>
            <a:ext cx="47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27280" y="549360"/>
            <a:ext cx="60595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еталлург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4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лубоко исследовал Менделеев и пути развития промышленности Урала, переживавшей тогда серьезный кризис. Разработанные Менделеевым меры по расширению топливной базы для металлургии Урала, в частности, за счет каменных углей востока, в том числе Кизеловского и в перспективе Кузнецкого бассейнов, стали залогом спасения целого промышленного района, который впоследствии сыграл столь важную роль в экономическом развитии стра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Рисунок 3" descr="201432.jpg"/>
          <p:cNvPicPr/>
          <p:nvPr/>
        </p:nvPicPr>
        <p:blipFill>
          <a:blip r:embed="rId1"/>
          <a:stretch/>
        </p:blipFill>
        <p:spPr>
          <a:xfrm>
            <a:off x="928800" y="4357800"/>
            <a:ext cx="2701800" cy="20714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black190_1.gif"/>
          <p:cNvPicPr/>
          <p:nvPr/>
        </p:nvPicPr>
        <p:blipFill>
          <a:blip r:embed="rId2"/>
          <a:stretch/>
        </p:blipFill>
        <p:spPr>
          <a:xfrm>
            <a:off x="4357800" y="4357800"/>
            <a:ext cx="2643120" cy="19904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блема: В представлении большинства людей Менделеев – великий химик. Но гораздо больше его трудов посвящено физике, географии, экономике, метеоролог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ель: Показать неоценимый вклад Менделеева в отечественную географию в эпоху реформ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е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информацию  о деятельности Менделеева в области экономики, географии, промышл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брать и систематизировать информацию о работе Менделеева в разных областях наук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бедиться, что Менделеев не только известный химик, но и замечательный специалист в области географии, экономики, метеоролог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 исследования: личность Д.И.Менделеев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мет исследования: деятельность ученого в становлении географической науки в эпоху реформ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е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74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83664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чательно то, что и внутри каждого из этих территориальных комплексов Менделеев наметил как бы микро-комплексы на основе кооперирования и комбинирования предприятий таким образом, чтобы отходы одного производства служили сырьем для другого. Там, где добываются и перерабатываются нефть и уголь, выплавляется металл и пр., из отходов надо извлекать соду, соль, серу, деготь и другие ценные продукты. Это не только повысит рентабельность производства, но и позволит решить уже тогда встававшие перед человечеством экологические проблем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Рисунок 3" descr="kuonanpoisto_parempi_2007nvt.jpg"/>
          <p:cNvPicPr/>
          <p:nvPr/>
        </p:nvPicPr>
        <p:blipFill>
          <a:blip r:embed="rId1"/>
          <a:stretch/>
        </p:blipFill>
        <p:spPr>
          <a:xfrm>
            <a:off x="1714680" y="4143240"/>
            <a:ext cx="2143080" cy="228312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4" descr="metalll.jpg"/>
          <p:cNvPicPr/>
          <p:nvPr/>
        </p:nvPicPr>
        <p:blipFill>
          <a:blip r:embed="rId2"/>
          <a:stretch/>
        </p:blipFill>
        <p:spPr>
          <a:xfrm>
            <a:off x="4356000" y="3789360"/>
            <a:ext cx="2357640" cy="22129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5"/>
          <p:cNvSpPr/>
          <p:nvPr/>
        </p:nvSpPr>
        <p:spPr>
          <a:xfrm>
            <a:off x="7020000" y="49417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704520"/>
            <a:ext cx="7283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ельское хозяйст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«Сельское хозяйство – своего рода промышленность для производства растений и животных. Гораздо выгоднее экспортировать не зерно, а скот…»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Д.И. Менделеев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ссматривая сельское хозяйство как отрасль единого народно-хозяйственного комплекса, ученый указывал на необходимость оказания ему помощи через промышленное покровительство, так как оно не только не противоречит интересам сельского хозяйства, но, напротив, способствует его развитию. Менделеев пришел к убеждению, что, продолжая идти через колосящиеся хлебные нивы, столь привычные и дорогие русскому сердцу, Россия не достигнет благополучия и экономического процветания. Подчеркивая важность и необходимость "нормальной комбинации сельского труда с заводско-фабричным", он не был сторонником активных государственных мер, направленных непосредственно на подъем аграрного сектора и "считал всякое массовое вмешательство в это дело... совершенно ненужным и даже могущим быть чрезвычайно вредным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Рисунок 3" descr="agriculture.jpg"/>
          <p:cNvPicPr/>
          <p:nvPr/>
        </p:nvPicPr>
        <p:blipFill>
          <a:blip r:embed="rId1"/>
          <a:stretch/>
        </p:blipFill>
        <p:spPr>
          <a:xfrm>
            <a:off x="1000080" y="4786200"/>
            <a:ext cx="2643120" cy="18716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4" descr="kolosya.jpg"/>
          <p:cNvPicPr/>
          <p:nvPr/>
        </p:nvPicPr>
        <p:blipFill>
          <a:blip r:embed="rId2"/>
          <a:stretch/>
        </p:blipFill>
        <p:spPr>
          <a:xfrm>
            <a:off x="4643280" y="4786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ее пятидесяти лет, с присущей ему основательностью, Менделеев изучал проблемы земледелия. В книге "Заветные мысли" (1904) ученый сообщал о том, что еще в начале 60-х годов его "глубоко занимала мысль о возможности выгодно вести хозяйство при помощи улучшений и вкладов в землю свободного труда и капитала"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н организовал четыре опытные станции, на которые Вольное Экономическое общество выделило необходимые средства, и на них провел изучение влияния удобр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ы реализовать свои идеи о рациональном ведении хозяйства, Дмитрий Иванович покупает запущенное имение Боблово и на личном опыте, организовав экспериментальные делянки, убеждается в том, что в российских климатических и экономических условиях западноевропейская культура земледелия неприменим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Рисунок 4" descr="psheno.jpg"/>
          <p:cNvPicPr/>
          <p:nvPr/>
        </p:nvPicPr>
        <p:blipFill>
          <a:blip r:embed="rId1"/>
          <a:stretch/>
        </p:blipFill>
        <p:spPr>
          <a:xfrm>
            <a:off x="1143000" y="4286160"/>
            <a:ext cx="2948040" cy="22147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5" descr="S3010646.jpg"/>
          <p:cNvPicPr/>
          <p:nvPr/>
        </p:nvPicPr>
        <p:blipFill>
          <a:blip r:embed="rId2"/>
          <a:stretch/>
        </p:blipFill>
        <p:spPr>
          <a:xfrm>
            <a:off x="5072040" y="4286160"/>
            <a:ext cx="2762280" cy="207180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280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ываясь на результатах полевых опытов (1867--1869), Менделеев указывал на необходимость известкования кислых почв, применения размолотых фосфоритов, суперфосфата, азотных и калийных удобрений, совместного внесения минеральных и органических удобрен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нделеев уделял большое внимание орошению земель Нижнего Поволжь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Рисунок 3" descr="Сельское-хозяйство.jpg"/>
          <p:cNvPicPr/>
          <p:nvPr/>
        </p:nvPicPr>
        <p:blipFill>
          <a:blip r:embed="rId1"/>
          <a:stretch/>
        </p:blipFill>
        <p:spPr>
          <a:xfrm>
            <a:off x="2857680" y="478620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4"/>
          <p:cNvSpPr/>
          <p:nvPr/>
        </p:nvSpPr>
        <p:spPr>
          <a:xfrm>
            <a:off x="5796000" y="4797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417672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еорология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5000"/>
            <a:ext cx="82296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ты Менделеева по изучению свойств газов инициировали его интерес к проблемам в области геофизики и метеорологии. Разрабатывая эти вопросы, Менделеев заинтересовался исследованиями атмосферы (особенно ее верхних слоев) с помощью летательных аппаратов. В процессе исследований верхних слоев атмосферы Менделеев начал разрабатывать конструкции летательных аппаратов, позволяющих проводить наблюдения температуры, давления, влажности и других параметров на больших высотах. 7-го августа 1887 года Менделеев совершил полет на воздушном шаре. За совершение этого полёта Д.И. Менделеев был удостоен медали Французского общества воздухопла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Рисунок 3" descr="350px-Isabel_eye.jpg"/>
          <p:cNvPicPr/>
          <p:nvPr/>
        </p:nvPicPr>
        <p:blipFill>
          <a:blip r:embed="rId1"/>
          <a:stretch/>
        </p:blipFill>
        <p:spPr>
          <a:xfrm>
            <a:off x="928800" y="4500720"/>
            <a:ext cx="3333600" cy="22096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Cyclone_Catarina_from_the_ISS_on_March_26_2004.JPG"/>
          <p:cNvPicPr/>
          <p:nvPr/>
        </p:nvPicPr>
        <p:blipFill>
          <a:blip r:embed="rId2"/>
          <a:stretch/>
        </p:blipFill>
        <p:spPr>
          <a:xfrm>
            <a:off x="4786200" y="4357800"/>
            <a:ext cx="3286080" cy="217152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5"/>
          <p:cNvSpPr/>
          <p:nvPr/>
        </p:nvSpPr>
        <p:spPr>
          <a:xfrm flipH="1">
            <a:off x="5244480" y="134136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704880"/>
            <a:ext cx="73548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вед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119664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именем нашего выдающегося соотечественника Дмитрия Ивановича Менделеева каждый школьник знакомится, приступив к изучению хими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риодический закон Д.И. Менделеев открыл в 1869 году в возрасте всего 35 лет. После этого химия в его творчестве отходит на второй план, а его научные интересы смещаются в сторону промышленности, экономики, финансов, народного образования. К концу XIX века Дмитрий Иванович занял в русском обществе уникальное место универсального эксперта, консультирующего русское правительство по широкому кругу научных и народно-хозяйственных проблем – воздухоплаванию, нефтяным делам, бездымным порохам, таможенному тарифу, реформе высшего образования, постановке метрологического дела в стране..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4672080" y="1920960"/>
            <a:ext cx="3990960" cy="44337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21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18" descr="mendeleev.jpg"/>
          <p:cNvPicPr/>
          <p:nvPr/>
        </p:nvPicPr>
        <p:blipFill>
          <a:blip r:embed="rId1"/>
          <a:stretch/>
        </p:blipFill>
        <p:spPr>
          <a:xfrm>
            <a:off x="3643200" y="3571920"/>
            <a:ext cx="1785960" cy="2494080"/>
          </a:xfrm>
          <a:prstGeom prst="rect">
            <a:avLst/>
          </a:prstGeom>
          <a:ln w="0">
            <a:noFill/>
          </a:ln>
        </p:spPr>
      </p:pic>
      <p:sp>
        <p:nvSpPr>
          <p:cNvPr id="214" name="Овал 14"/>
          <p:cNvSpPr/>
          <p:nvPr/>
        </p:nvSpPr>
        <p:spPr>
          <a:xfrm>
            <a:off x="826920" y="549360"/>
            <a:ext cx="2592720" cy="180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Экономическая 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9"/>
          <p:cNvSpPr/>
          <p:nvPr/>
        </p:nvSpPr>
        <p:spPr>
          <a:xfrm>
            <a:off x="3429000" y="1428840"/>
            <a:ext cx="2160720" cy="180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мыш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Andalus"/>
              </a:rPr>
              <a:t>ленно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20"/>
          <p:cNvSpPr/>
          <p:nvPr/>
        </p:nvSpPr>
        <p:spPr>
          <a:xfrm>
            <a:off x="4500720" y="0"/>
            <a:ext cx="2087280" cy="13683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нефтя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21"/>
          <p:cNvSpPr/>
          <p:nvPr/>
        </p:nvSpPr>
        <p:spPr>
          <a:xfrm>
            <a:off x="5796000" y="1268280"/>
            <a:ext cx="1728720" cy="144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уг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2"/>
          <p:cNvSpPr/>
          <p:nvPr/>
        </p:nvSpPr>
        <p:spPr>
          <a:xfrm>
            <a:off x="5867280" y="3500280"/>
            <a:ext cx="2305080" cy="1657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Металлу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3"/>
          <p:cNvSpPr/>
          <p:nvPr/>
        </p:nvSpPr>
        <p:spPr>
          <a:xfrm>
            <a:off x="468360" y="2852640"/>
            <a:ext cx="2087640" cy="1656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Сельско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4"/>
          <p:cNvSpPr/>
          <p:nvPr/>
        </p:nvSpPr>
        <p:spPr>
          <a:xfrm>
            <a:off x="900000" y="4941720"/>
            <a:ext cx="2448000" cy="1916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Метеор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6"/>
          <p:cNvSpPr/>
          <p:nvPr/>
        </p:nvSpPr>
        <p:spPr>
          <a:xfrm>
            <a:off x="2699640" y="2276640"/>
            <a:ext cx="942840" cy="1652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8"/>
          <p:cNvSpPr/>
          <p:nvPr/>
        </p:nvSpPr>
        <p:spPr>
          <a:xfrm>
            <a:off x="4507920" y="3228840"/>
            <a:ext cx="27000" cy="343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0"/>
          <p:cNvSpPr/>
          <p:nvPr/>
        </p:nvSpPr>
        <p:spPr>
          <a:xfrm flipH="1">
            <a:off x="4928760" y="1285920"/>
            <a:ext cx="71640" cy="214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2"/>
          <p:cNvSpPr/>
          <p:nvPr/>
        </p:nvSpPr>
        <p:spPr>
          <a:xfrm>
            <a:off x="5580000" y="2276640"/>
            <a:ext cx="2872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6"/>
          <p:cNvSpPr/>
          <p:nvPr/>
        </p:nvSpPr>
        <p:spPr>
          <a:xfrm flipH="1" flipV="1">
            <a:off x="2411280" y="4076640"/>
            <a:ext cx="1231920" cy="495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8"/>
          <p:cNvSpPr/>
          <p:nvPr/>
        </p:nvSpPr>
        <p:spPr>
          <a:xfrm flipH="1">
            <a:off x="3132000" y="4929120"/>
            <a:ext cx="511200" cy="51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40"/>
          <p:cNvSpPr/>
          <p:nvPr/>
        </p:nvSpPr>
        <p:spPr>
          <a:xfrm flipV="1">
            <a:off x="5429160" y="4508640"/>
            <a:ext cx="438120" cy="63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704880"/>
            <a:ext cx="68515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ключ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исследовала по этапам все, что создал, что сделал, в чем участвовал знаменитый и гениальный ученый Дмитрий Иванович Менделеев, и с гордостью могу сказать, что это великий ученый, завоевавший мировую известность, а так же это человек исключительных душевных качеств, с мужским и неустрашимым характером. Благодаря Д.И.Менделееву мы можем пользоваться достоянием науки, потому что именно он очень многое сделал для своей Род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1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980640"/>
            <a:ext cx="7715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нделеев ещё при жизни был известен во многих странах, получил свыше 130 дипломов и почётных званий от русских и зарубежных академий, учёных обществ и учебных заведен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я великого географа благодарные потомки нанесли на карту страны и ми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одводный хребет Менделеева в Северном Ледовитом океан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968828_1182856376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9402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селок Менделеево (Московская область, Солнечногорский район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2" descr="sign"/>
          <p:cNvPicPr/>
          <p:nvPr/>
        </p:nvPicPr>
        <p:blipFill>
          <a:blip r:embed="rId1"/>
          <a:stretch/>
        </p:blipFill>
        <p:spPr>
          <a:xfrm>
            <a:off x="5435640" y="2276640"/>
            <a:ext cx="3240000" cy="248112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242" name="Picture 4" descr="mendeleevo2"/>
          <p:cNvPicPr/>
          <p:nvPr/>
        </p:nvPicPr>
        <p:blipFill>
          <a:blip r:embed="rId2"/>
          <a:stretch/>
        </p:blipFill>
        <p:spPr>
          <a:xfrm>
            <a:off x="457200" y="2276640"/>
            <a:ext cx="4835520" cy="3165480"/>
          </a:xfrm>
          <a:prstGeom prst="rect">
            <a:avLst/>
          </a:prstGeom>
          <a:ln w="19080">
            <a:solidFill>
              <a:srgbClr val="993366"/>
            </a:solidFill>
            <a:miter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ород Менделеевск (Республика Татарстан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karta"/>
          <p:cNvPicPr/>
          <p:nvPr/>
        </p:nvPicPr>
        <p:blipFill>
          <a:blip r:embed="rId1"/>
          <a:stretch/>
        </p:blipFill>
        <p:spPr>
          <a:xfrm>
            <a:off x="108000" y="1197000"/>
            <a:ext cx="5338800" cy="395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i8"/>
          <p:cNvPicPr/>
          <p:nvPr/>
        </p:nvPicPr>
        <p:blipFill>
          <a:blip r:embed="rId2"/>
          <a:stretch/>
        </p:blipFill>
        <p:spPr>
          <a:xfrm>
            <a:off x="5364000" y="3500280"/>
            <a:ext cx="3105360" cy="3008520"/>
          </a:xfrm>
          <a:prstGeom prst="rect">
            <a:avLst/>
          </a:prstGeom>
          <a:ln w="12600">
            <a:solidFill>
              <a:srgbClr val="00ccff"/>
            </a:solidFill>
            <a:miter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7:28:27Z</dcterms:created>
  <dc:creator>яна</dc:creator>
  <dc:description/>
  <dc:language>en-US</dc:language>
  <cp:lastModifiedBy>LEGION</cp:lastModifiedBy>
  <dcterms:modified xsi:type="dcterms:W3CDTF">2014-12-29T08:40:30Z</dcterms:modified>
  <cp:revision>43</cp:revision>
  <dc:subject/>
  <dc:title>Вклад Д.И. Менделеева в отечественную географию.</dc:title>
</cp:coreProperties>
</file>