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276-C4D4-4842-A13A-C8B8F576B1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Д.И. Менделеева в отечественную географ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Петунина Ольга, ученица 8»Б» клас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32, г. Сург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  Авдюкова Татьяна Дмитри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МОУ СОШ «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40D-7DAD-4EF5-9062-4C8512515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Ледник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439-1381-4C4C-AC1C-1698630C4D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й вулкан на о. Кунашир (Курильские остр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72A1-3137-46E7-B9CE-94FDFF98E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щенко В. Е., Младенцев М. Н. Дмитрий Иванович Менделеев, его жизнь и деятельность.// Университетский период 1861 - 1890 гг. М., 1993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ев И. С. "Особая миссия" Менделеева - Аргументы и факты // Санкт-Петербургский университет. 1996. 16 мая. С. 17 - 22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ареня А.А. Менделеев в Петербурге//Л.:Лениздат,198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энциклопедический словарь, главный редактор А.Ф. Трешников, Москва, “Советская энциклопедия”, 198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ушкин Ю.Г. “История и методология географической науки”, Издательство Московского университета, 197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ушкин Ю.Г. “Экономическая география: история, теория, методы, практика”, М., “Мысль”, 197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ский Б.Н. “Введение в географическую науку”, Ленинград, Издательство Ленинградского университета, 197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 в СССР. История и современное развитие”. Сост. Т.Е. Губанова, Просвещение,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школьная энциклопедия. 6-11 кл., / П.А.Кошель. Т. 2. - М.: ОЛМА - Пресс, 1999. - 717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обо всех: Т. 1 научно - популярное издание/ Г.П.Шалаева, Т.Н.Колядич. - М.: Филологическое общество «Слово», компания «Ключ - с», АСТ, 1996. - 480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ареня, А.А., Д.И.Менделеев: книга для учащихся 8-9 классов средней школы/ А.А.Макарелл, Ю.В.Рысев. - 3-е издание перераб. - М.: Просвещение, 1988. - 127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н, Д.К., 100 великих ученых/ Д.К.Самин. - М.: Вече, 2003. - 592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н, Д.К., 100 великих научных открытий/ Д.К.Самин. - М.: Вече, 2002. - 480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. Кто такой: В 3 т. Т. 2 - 4-е изд., перераб. И доп. - М.: Педагогика-Пресс, 1998. - 41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знаю мир: Детская энциклопедия: Химия./ Авт. Сост. Л.А.Савина. - М.: ООО изд-во АСТ - ЛТД, 1988. - 448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D48-7750-44C3-BD89-326427C79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гда и в каждом деле для сознательности совершаемых в нем действий преполезно подсчитаться…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 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вопросов, относящихся к экономической географии, внимание Менделеева особенно привлекали хозяйственная оценка природных богатств и географического положения различных частей России, экономическое районирование России и установление системы показателей экономики района, развитие Урала, освоение Арктики, экономический анализ демографических показател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A1F6-B681-428E-96F4-B6E4FA91B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исследованиям экономико-географического характера проявился у Менделеева очень рано. В одной из первых опубликованных им работ - “Северный Урал и береговой хребет Пай-Хой” - 23-летний ученый рассмотрел географию Северного Урала. На основании материалов экспедиций Географического общества (1847, 1848, 1850) он характеризует природу, хозяйственный быт и трудовые навыки населения Северного Ур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нний период своей деятельности Менделеев интересовался главным образом тремя отраслями хозяйства: сельским хозяйством, нефтяной и угольной промышленностью. К этим отраслям он в той или иной степени возвращается и в более поздних своих рабо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DDCA-99DF-4CD3-8710-868DC5EFE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9 г. в докладе Вольному экономическому обществу Менделеев ставит вопрос об организации в различных частях страны опытных участков для изучения почв и удобрений, что было прототипом будущих опытных сельскохозяйственных станций. В “Мыслях о развитии сельскохозяйственной промышленности” Менделеев говорит о важности преобразования природы культивируемых растений. В работе “К познанию России” ученый возвращается к вопросам сельского хозяйства и пишет об изменении его природно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, “В дополнениях к познанию России”, Менделеев ставит вопрос о “ветряных двигателях”, которые смогут подавать воду для орошения в районе низовий Вол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глав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53B9-4A80-4549-8BCF-0C23EA02F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яная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фть не топливо — топить можно и ассигнациям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у не было еще тридцати, когда известный нефтепромышленник В.А. Кокорев попросил его выехать в Баку для изучения состояния нефтедобычи и нефтепереработки. Менделеев тщательно обследовал все Бакинские нефтепромыслы и установки по переработке нефти, но не ограничился этим, а наметил целую программу повышения эффективности отрасли. Он оценил потребности всей России в нефтепродуктах, принял в расчет все тогда известные и предполагаемые им месторождения нефти, выявил условия, когда нефтеперерабатывающие заводы лучше размещать в местах добычи нефти, а когда - в центрах ее потребления, и составил схему размещения новых нефтеперерабатывающих заводов в Центральной России, в особенности вблизи Москвы и в крупнейших городах на Волге (в Царицыне, Саратове, Самаре, Нижнем Новгороде, Ярославле, Рыбинске). Мало того, он предложил построить нефтепровод Баку - Батуми и заводы по переработке нефти на Черноморском побережье с тем, чтобы не только избавить Россию от импорта американского керосина, но и самим экспортировать нефтепродукты в Европу. Он считал варварством, что сырая нефть, из которой можно получать столько ценнейших продуктов, используется как топли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75E4-8460-44D7-82A8-BC1820EF23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ьная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Центры развития нашей будущей заводской и фабричной деятельности — это места, где находится уголь и другие полезные ископаемые…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 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так же комплексно подошел Менделеев и к оценке перспектив развития незадолго до того открытых залежей угля в Донецком бассейне. Менделеев просчитал, во что обходится снабжение Петербурга и Москвы польским (из Силезии) и импортным английским углем, и определил, при каких условиях донецкий уголь окажется конкурентоспособным с ними. Он разработал предложения по изменению таможенных тарифов на уголь, обосновал необходимость постройки специальной углевозной железнодорожной магистрали, проведения шлюзования и дноуглубительных работ на Донце и Дону, развития портов на побережьях Азовского и Черного морей. При проведении намеченных им мероприятий Россия могла бы не только отказаться от импорта угля, но и сама экспортировать его сначала в страны Средиземноморья, а затем и в страны Балтики, причем эта задача рассматривалась им не только как экономическая, но и как политическая, как вопрос престижа нашей страны. Не ограничившись изучением только Донецкого угольного бассейна, Менделеев обратил внимание общественности и промышленных кругов на месторождения угля на востоке, в первую очередь в Кузнецком бассейне и далее, вплоть до Сахалина. Он первым поставил вопрос о принципиально новых методах добычи и использования угля, в частности, на возможность его подземной газ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4F68-D0FD-4A86-878E-E0B4F36BB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идее подземной газификации углей Менделеев не однократно возвращался: в 1899, наблюдая во время поездки на Урал подземные пожары в Кизеловском районе, Менделеев сделал ряд практических выводов о возможности управления процессом горения угольного пл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у разработки многочисленных угольных месторождений России Менделеев связывал с развитием отечественной металлургии и в первую очередь её развитием производства чугуна, железа, стали и меди, обращая особое внимание на использование бедных руд. Он отмечал также необходимость раз работки богатых месторождений хромовых и марганцовых руд на Урале и Кавка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30D7-BAE6-4EA7-9EED-DEE89C28F7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 исследовал Менделеев и пути развития промышленности Урала, переживавшей тогда серьезный кризис. Разработанные Менделеевым меры по расширению топливной базы для металлургии Урала, в частности, за счет каменных углей востока, в том числе Кизеловского и в перспективе Кузнецкого бассейнов, стали залогом спасения целого промышленного района, который впоследствии сыграл столь важную роль в экономическом развити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23E9-A9CE-4985-BC1D-C3EE2CA10D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В представлении большинства людей Менделеев – великий химик. Но гораздо больше его трудов посвящено физике, географии, экономике, метеор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казать неоценимый вклад Менделеева в отечественную географию в эпоху реформ середин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информацию  о деятельности Менделеева в области экономики, географии,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 систематизировать информацию о работе Менделеева в разных областях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ься, что Менделеев не только известный химик, но и замечательный специалист в области географии, экономики, метеор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 личность Д.И.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: деятельность ученого в становлении географической науки в эпоху реформ середин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4388-228C-4214-AC22-222E140FA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тельно то, что и внутри каждого из этих территориальных комплексов Менделеев наметил как бы микро-комплексы на основе кооперирования и комбинирования предприятий таким образом, чтобы отходы одного производства служили сырьем для другого. Там, где добываются и перерабатываются нефть и уголь, выплавляется металл и пр., из отходов надо извлекать соду, соль, серу, деготь и другие ценные продукты. Это не только повысит рентабельность производства, но и позволит решить уже тогда встававшие перед человечеством 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9CE9-8124-4536-A604-9F06BF6CA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ельское хозяйство – своего рода промышленность для производства растений и животных. Гораздо выгоднее экспортировать не зерно, а скот…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сельское хозяйство как отрасль единого народно-хозяйственного комплекса, ученый указывал на необходимость оказания ему помощи через промышленное покровительство, так как оно не только не противоречит интересам сельского хозяйства, но, напротив, способствует его развитию. Менделеев пришел к убеждению, что, продолжая идти через колосящиеся хлебные нивы, столь привычные и дорогие русскому сердцу, Россия не достигнет благополучия и экономического процветания. Подчеркивая важность и необходимость "нормальной комбинации сельского труда с заводско-фабричным", он не был сторонником активных государственных мер, направленных непосредственно на подъем аграрного сектора и "считал всякое массовое вмешательство в это дело... совершенно ненужным и даже могущим быть чрезвычайно вредны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72D-AF1B-4C49-9959-935697671C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ятидесяти лет, с присущей ему основательностью, Менделеев изучал проблемы земледелия. В книге "Заветные мысли" (1904) ученый сообщал о том, что еще в начале 60-х годов его "глубоко занимала мысль о возможности выгодно вести хозяйство при помощи улучшений и вкладов в землю свободного труда и капита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рганизовал четыре опытные станции, на которые Вольное Экономическое общество выделило необходимые средства, и на них провел изучение влияния удобр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реализовать свои идеи о рациональном ведении хозяйства, Дмитрий Иванович покупает запущенное имение Боблово и на личном опыте, организовав экспериментальные делянки, убеждается в том, что в российских климатических и экономических условиях западноевропейская культура земледелия непримен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D2B-4E00-472A-B067-DF1FCBD0F0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результатах полевых опытов (1867--1869), Менделеев указывал на необходимость известкования кислых почв, применения размолотых фосфоритов, суперфосфата, азотных и калийных удобрений, совместного внесения минеральных и органических удоб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ев уделял большое внимание орошению земель Нижнего Поволж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5B8D-51D2-4E24-9B78-BFE58124D5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Менделеева по изучению свойств газов инициировали его интерес к проблемам в области геофизики и метеорологии. Разрабатывая эти вопросы, Менделеев заинтересовался исследованиями атмосферы (особенно ее верхних слоев) с помощью летательных аппаратов. В процессе исследований верхних слоев атмосферы Менделеев начал разрабатывать конструкции летательных аппаратов, позволяющих проводить наблюдения температуры, давления, влажности и других параметров на больших высотах. 7-го августа 1887 года Менделеев совершил полет на воздушном шаре. За совершение этого полёта Д.И. Менделеев был удостоен медали Французского общества воздухопла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22DE-7CA2-45EA-AF71-6376A8D286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менем нашего выдающегося соотечественника Дмитрия Ивановича Менделеева каждый школьник знакомится, приступив к изучению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ий закон Д.И. Менделеев открыл в 1869 году в возрасте всего 35 лет. После этого химия в его творчестве отходит на второй план, а его научные интересы смещаются в сторону промышленности, экономики, финансов, народного образования. К концу XIX века Дмитрий Иванович занял в русском обществе уникальное место универсального эксперта, консультирующего русское правительство по широкому кругу научных и народно-хозяйственных проблем – воздухоплаванию, нефтяным делам, бездымным порохам, таможенному тарифу, реформе высшего образования, постановке метрологического дела в стране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848A-475F-4EB2-B88F-20746564B4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сследовала по этапам все, что создал, что сделал, в чем участвовал знаменитый и гениальный ученый Дмитрий Иванович Менделеев, и с гордостью могу сказать, что это великий ученый, завоевавший мировую известность, а так же это человек исключительных душевных качеств, с мужским и неустрашимым характером. Благодаря Д.И.Менделееву мы можем пользоваться достоянием науки, потому что именно он очень многое сделал для своей Ро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3D7-C19A-414C-9E05-7B951C9EB2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ев ещё при жизни был известен во многих странах, получил свыше 130 дипломов и почётных званий от русских и зарубежных академий, учёных обществ и учебных за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великого географа благодарные потомки нанесли на карту страны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F92-703B-4F37-80C2-D57CD03824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дводный хребет Менделеева в Северном Ледовит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4079-8CD0-4A45-8572-C9145C288B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селок Менделеево (Московская область, Солнечногорский рай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E971-1FB7-4D0B-9152-F56CC4578E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ород Менделеевск (Республика Татар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D8E2-47B4-491B-8F3B-FF971FA6BD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BDC-60E3-472C-91E2-904DA4E8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079-08DC-4762-80C0-21E66853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89D-8EBE-49BF-BC89-9923DEB1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F50-61AE-48D1-8D4A-71E288D3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7DA3-3A88-4303-8007-037D8697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B1F3-AE6D-4135-81DC-CDE8ABB5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2C2B-1448-42DE-9D84-A2F6C8B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B0F0-8B7D-4B21-A7F8-0D2DAA7E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3B0-90D6-415E-8688-ADD74FA0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062C-4055-4424-B125-4DDDBD47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EB31-CD34-4347-A7A3-BB5DBE4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41B-69A3-4152-96D9-78E8106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07B-85E1-4981-A107-8E6F517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EF2-0159-4769-B6A5-84D7355C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819F-F165-4A5A-8117-63232677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1F3F-06C0-4A99-B851-10024F17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A7B-A375-40AE-BA30-7EC49864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81F0-E528-4FC5-9F44-ABEE6312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EA13-0E92-4436-888F-64656212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4E51-B56E-42AD-8ACE-2EDA4E73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3F00-DED8-433F-A8C3-EAEE787E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4429-533F-4400-9563-1103517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49F-3B38-420B-9481-644601C4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D113-3504-4D71-BEB1-1F20A2C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44C1-0C19-4BB0-8AED-EE7286A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451D-323E-4EFD-BC60-29A9C23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D256-7542-46B3-9FEF-4ECB27E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EDD8-C5C5-40D1-976F-B40CB6B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F6CC-E9B7-437D-BE45-CC951A04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C3AD-AAF9-4A77-A265-9BA4D48C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B062-B916-49BD-9050-0B22137E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F5E8-BF0F-4D98-BC04-55A2CAED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9D992-8B6A-4879-B8A1-F06F5A8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464-D72C-481D-B723-6D55EC3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46BB-51F0-494D-A6D7-4493F35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EA6F-C2E6-4AEC-B115-C503D46F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FA97-4384-48C7-8327-62BE2FA9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33D46-C872-4684-BB88-7DF07E65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C31A-6C2A-4338-B6E3-F145121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521C-0FDF-4604-AE31-A3057EB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B1A6-03E3-4E82-AB7C-364CDAE3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2D98-7FE0-43F1-9B4F-A2C28830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F554-1649-48A0-A0AC-A57385C1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0E0-4196-476A-A108-D8F41EF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269-B270-477C-8647-B7D8BD0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093-480A-46BC-A9B3-A99B60F7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DD8-F12F-4EB6-8D37-211051B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233-885D-474E-AC15-E65D2BC9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2030-F25E-4A67-96D9-2595E11D8CC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619-6D92-4B7D-A054-5AF8C8B4DF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D51-8D58-4EAE-A0D3-BB8B74EA6AC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6CFA-98CA-41C3-A50A-2FEAF46A865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5E2-55FB-4329-8234-24BA78BDD5A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9AC6-99EB-4214-AB13-46AFFE56F0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9F0-6A73-4F18-AC4F-A71F01B98FD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B192-2649-46E3-AB72-10B528527F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706320"/>
            <a:ext cx="8472600" cy="2494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ыполнила: Петунина Ольга, ученица 8»Б» класс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ОУ СОШ №32, г. Сургу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уководитель:  Авдюкова Татьяна Дмитриевна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читель географии МОУ СОШ «3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Ледник Менделее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2856241_large"/>
          <p:cNvPicPr/>
          <p:nvPr/>
        </p:nvPicPr>
        <p:blipFill>
          <a:blip r:embed="rId1"/>
          <a:stretch/>
        </p:blipFill>
        <p:spPr>
          <a:xfrm>
            <a:off x="457200" y="1484280"/>
            <a:ext cx="8075520" cy="48243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836280"/>
            <a:ext cx="3251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ующий вулкан на о. Кунашир (Курильские остров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C:\Documents and Settings\КЕКС\Рабочий стол\мама\500px-Вулкан_Менделеева.JPG"/>
          <p:cNvPicPr/>
          <p:nvPr/>
        </p:nvPicPr>
        <p:blipFill>
          <a:blip r:embed="rId1"/>
          <a:stretch/>
        </p:blipFill>
        <p:spPr>
          <a:xfrm>
            <a:off x="3924360" y="765000"/>
            <a:ext cx="4830840" cy="4319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КЕКС\Рабочий стол\мама\300px-Kurily.svg.png"/>
          <p:cNvPicPr/>
          <p:nvPr/>
        </p:nvPicPr>
        <p:blipFill>
          <a:blip r:embed="rId2"/>
          <a:stretch/>
        </p:blipFill>
        <p:spPr>
          <a:xfrm>
            <a:off x="971640" y="3573360"/>
            <a:ext cx="3313080" cy="306720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331164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ищенко В. Е., Младенцев М. Н. Дмитрий Иванович Менделеев, его жизнь и деятельность.// Университетский период 1861 - 1890 гг. М., 1993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митриев И. С. "Особая миссия" Менделеева - Аргументы и факты // Санкт-Петербургский университет. 1996. 16 мая. С. 17 - 22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кареня А.А. Менделеев в Петербурге//Л.:Лениздат,1982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еографический энциклопедический словарь, главный редактор А.Ф. Трешников, Москва, “Советская энциклопедия”, 1989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ушкин Ю.Г. “История и методология географической науки”, Издательство Московского университета, 1976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ушкин Ю.Г. “Экономическая география: история, теория, методы, практика”, М., “Мысль”, 1973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еменовский Б.Н. “Введение в географическую науку”, Ленинград, Издательство Ленинградского университета, 1976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Экономическая география в СССР. История и современное развитие”. Сост. Т.Е. Губанова, Просвещение, 1987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ольшая школьная энциклопедия. 6-11 кл., / П.А.Кошель. Т. 2. - М.: ОЛМА - Пресс, 1999. - 717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се обо всех: Т. 1 научно - популярное издание/ Г.П.Шалаева, Т.Н.Колядич. - М.: Филологическое общество «Слово», компания «Ключ - с», АСТ, 1996. - 480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кареня, А.А., Д.И.Менделеев: книга для учащихся 8-9 классов средней школы/ А.А.Макарелл, Ю.В.Рысев. - 3-е издание перераб. - М.: Просвещение, 1988. - 127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ин, Д.К., 100 великих ученых/ Д.К.Самин. - М.: Вече, 2003. - 592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ин, Д.К., 100 великих научных открытий/ Д.К.Самин. - М.: Вече, 2002. - 480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такое. Кто такой: В 3 т. Т. 2 - 4-е изд., перераб. И доп. - М.: Педагогика-Пресс, 1998. - 416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Я познаю мир: Детская энциклопедия: Химия./ Авт. Сост. Л.А.Савина. - М.: ООО изд-во АСТ - ЛТД, 1988. - 448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Экономическая географ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сегда и в каждом деле для сознательности совершаемых в нем действий преполезно подсчитаться…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.И. Менделе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вопросов, относящихся к экономической географии, внимание Менделеева особенно привлекали хозяйственная оценка природных богатств и географического положения различных частей России, экономическое районирование России и установление системы показателей экономики района, развитие Урала, освоение Арктики, экономический анализ демографических показателей Ро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Рисунок 3" descr="x_b57df75b.jpg"/>
          <p:cNvPicPr/>
          <p:nvPr/>
        </p:nvPicPr>
        <p:blipFill>
          <a:blip r:embed="rId2"/>
          <a:stretch/>
        </p:blipFill>
        <p:spPr>
          <a:xfrm>
            <a:off x="7500960" y="2214720"/>
            <a:ext cx="1238400" cy="153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ес к исследованиям экономико-географического характера проявился у Менделеева очень рано. В одной из первых опубликованных им работ - “Северный Урал и береговой хребет Пай-Хой” - 23-летний ученый рассмотрел географию Северного Урала. На основании материалов экспедиций Географического общества (1847, 1848, 1850) он характеризует природу, хозяйственный быт и трудовые навыки населения Северного Ур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ранний период своей деятельности Менделеев интересовался главным образом тремя отраслями хозяйства: сельским хозяйством, нефтяной и угольной промышленностью. К этим отраслям он в той или иной степени возвращается и в более поздних своих рабо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Рисунок 3" descr="00144.jpg"/>
          <p:cNvPicPr/>
          <p:nvPr/>
        </p:nvPicPr>
        <p:blipFill>
          <a:blip r:embed="rId1"/>
          <a:stretch/>
        </p:blipFill>
        <p:spPr>
          <a:xfrm>
            <a:off x="7143840" y="214200"/>
            <a:ext cx="1231920" cy="1643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5745960"/>
            <a:ext cx="1522440" cy="77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50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69 г. в докладе Вольному экономическому обществу Менделеев ставит вопрос об организации в различных частях страны опытных участков для изучения почв и удобрений, что было прототипом будущих опытных сельскохозяйственных станций. В “Мыслях о развитии сельскохозяйственной промышленности” Менделеев говорит о важности преобразования природы культивируемых растений. В работе “К познанию России” ученый возвращается к вопросам сельского хозяйства и пишет об изменении его природной сред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же, “В дополнениях к познанию России”, Менделеев ставит вопрос о “ветряных двигателях”, которые смогут подавать воду для орошения в районе низовий Вол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 главную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Рисунок 3" descr="16_mendeleev.jpg"/>
          <p:cNvPicPr/>
          <p:nvPr/>
        </p:nvPicPr>
        <p:blipFill>
          <a:blip r:embed="rId2"/>
          <a:stretch/>
        </p:blipFill>
        <p:spPr>
          <a:xfrm>
            <a:off x="7358040" y="142920"/>
            <a:ext cx="914400" cy="17143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фтяная промышлен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5000"/>
            <a:ext cx="76867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ефть не топливо — топить можно и ассигнациям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Д.И. Менделее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му не было еще тридцати, когда известный нефтепромышленник В.А. Кокорев попросил его выехать в Баку для изучения состояния нефтедобычи и нефтепереработки. Менделеев тщательно обследовал все Бакинские нефтепромыслы и установки по переработке нефти, но не ограничился этим, а наметил целую программу повышения эффективности отрасли. Он оценил потребности всей России в нефтепродуктах, принял в расчет все тогда известные и предполагаемые им месторождения нефти, выявил условия, когда нефтеперерабатывающие заводы лучше размещать в местах добычи нефти, а когда - в центрах ее потребления, и составил схему размещения новых нефтеперерабатывающих заводов в Центральной России, в особенности вблизи Москвы и в крупнейших городах на Волге (в Царицыне, Саратове, Самаре, Нижнем Новгороде, Ярославле, Рыбинске). Мало того, он предложил построить нефтепровод Баку - Батуми и заводы по переработке нефти на Черноморском побережье с тем, чтобы не только избавить Россию от импорта американского керосина, но и самим экспортировать нефтепродукты в Европу. Он считал варварством, что сырая нефть, из которой можно получать столько ценнейших продуктов, используется как топлив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Рисунок 3" descr="NeftyanayapromishlennostbAzerbaydzhana-24.jpg"/>
          <p:cNvPicPr/>
          <p:nvPr/>
        </p:nvPicPr>
        <p:blipFill>
          <a:blip r:embed="rId1"/>
          <a:stretch/>
        </p:blipFill>
        <p:spPr>
          <a:xfrm>
            <a:off x="4429080" y="5286240"/>
            <a:ext cx="1928880" cy="13114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1.jpg"/>
          <p:cNvPicPr/>
          <p:nvPr/>
        </p:nvPicPr>
        <p:blipFill>
          <a:blip r:embed="rId2"/>
          <a:stretch/>
        </p:blipFill>
        <p:spPr>
          <a:xfrm>
            <a:off x="1785960" y="5214960"/>
            <a:ext cx="1928880" cy="14032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6804000" y="522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гольная промышленност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55700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«Центры развития нашей будущей заводской и фабричной деятельности — это места, где находится уголь и другие полезные ископаемые…»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Д.И. Менделее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чно так же комплексно подошел Менделеев и к оценке перспектив развития незадолго до того открытых залежей угля в Донецком бассейне. Менделеев просчитал, во что обходится снабжение Петербурга и Москвы польским (из Силезии) и импортным английским углем, и определил, при каких условиях донецкий уголь окажется конкурентоспособным с ними. Он разработал предложения по изменению таможенных тарифов на уголь, обосновал необходимость постройки специальной углевозной железнодорожной магистрали, проведения шлюзования и дноуглубительных работ на Донце и Дону, развития портов на побережьях Азовского и Черного морей. При проведении намеченных им мероприятий Россия могла бы не только отказаться от импорта угля, но и сама экспортировать его сначала в страны Средиземноморья, а затем и в страны Балтики, причем эта задача рассматривалась им не только как экономическая, но и как политическая, как вопрос престижа нашей страны. Не ограничившись изучением только Донецкого угольного бассейна, Менделеев обратил внимание общественности и промышленных кругов на месторождения угля на востоке, в первую очередь в Кузнецком бассейне и далее, вплоть до Сахалина. Он первым поставил вопрос о принципиально новых методах добычи и использования угля, в частности, на возможность его подземной газифик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Рисунок 3" descr="coal-mine.jpg"/>
          <p:cNvPicPr/>
          <p:nvPr/>
        </p:nvPicPr>
        <p:blipFill>
          <a:blip r:embed="rId1"/>
          <a:stretch/>
        </p:blipFill>
        <p:spPr>
          <a:xfrm>
            <a:off x="1857240" y="5500800"/>
            <a:ext cx="1857600" cy="1249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Strip_coal_mining.jpg"/>
          <p:cNvPicPr/>
          <p:nvPr/>
        </p:nvPicPr>
        <p:blipFill>
          <a:blip r:embed="rId2"/>
          <a:stretch/>
        </p:blipFill>
        <p:spPr>
          <a:xfrm>
            <a:off x="4286160" y="5429160"/>
            <a:ext cx="2000520" cy="133344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907560"/>
            <a:ext cx="82580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 идее подземной газификации углей Менделеев не однократно возвращался: в 1899, наблюдая во время поездки на Урал подземные пожары в Кизеловском районе, Менделеев сделал ряд практических выводов о возможности управления процессом горения угольного плас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блему разработки многочисленных угольных месторождений России Менделеев связывал с развитием отечественной металлургии и в первую очередь её развитием производства чугуна, железа, стали и меди, обращая особое внимание на использование бедных руд. Он отмечал также необходимость раз работки богатых месторождений хромовых и марганцовых руд на Урале и Кавказ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Рисунок 3" descr="ugol.jpg"/>
          <p:cNvPicPr/>
          <p:nvPr/>
        </p:nvPicPr>
        <p:blipFill>
          <a:blip r:embed="rId1"/>
          <a:stretch/>
        </p:blipFill>
        <p:spPr>
          <a:xfrm>
            <a:off x="2857680" y="4786200"/>
            <a:ext cx="1785600" cy="17859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" descr="5-4.gif"/>
          <p:cNvPicPr/>
          <p:nvPr/>
        </p:nvPicPr>
        <p:blipFill>
          <a:blip r:embed="rId2"/>
          <a:stretch/>
        </p:blipFill>
        <p:spPr>
          <a:xfrm>
            <a:off x="5143680" y="4714920"/>
            <a:ext cx="2690640" cy="201600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6"/>
          <p:cNvSpPr/>
          <p:nvPr/>
        </p:nvSpPr>
        <p:spPr>
          <a:xfrm>
            <a:off x="468360" y="5013360"/>
            <a:ext cx="47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27280" y="549360"/>
            <a:ext cx="60595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еталлург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лубоко исследовал Менделеев и пути развития промышленности Урала, переживавшей тогда серьезный кризис. Разработанные Менделеевым меры по расширению топливной базы для металлургии Урала, в частности, за счет каменных углей востока, в том числе Кизеловского и в перспективе Кузнецкого бассейнов, стали залогом спасения целого промышленного района, который впоследствии сыграл столь важную роль в экономическом развитии стра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Рисунок 3" descr="201432.jpg"/>
          <p:cNvPicPr/>
          <p:nvPr/>
        </p:nvPicPr>
        <p:blipFill>
          <a:blip r:embed="rId1"/>
          <a:stretch/>
        </p:blipFill>
        <p:spPr>
          <a:xfrm>
            <a:off x="928800" y="4357800"/>
            <a:ext cx="2701800" cy="20714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black190_1.gif"/>
          <p:cNvPicPr/>
          <p:nvPr/>
        </p:nvPicPr>
        <p:blipFill>
          <a:blip r:embed="rId2"/>
          <a:stretch/>
        </p:blipFill>
        <p:spPr>
          <a:xfrm>
            <a:off x="4357800" y="4357800"/>
            <a:ext cx="2643120" cy="19904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блема: В представлении большинства людей Менделеев – великий химик. Но гораздо больше его трудов посвящено физике, географии, экономике, метеоролог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ь: Показать неоценимый вклад Менделеева в отечественную географию в эпоху реформ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информацию  о деятельности Менделеева в области экономики, географии, промышл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брать и систематизировать информацию о работе Менделеева в разных областях наук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бедиться, что Менделеев не только известный химик, но и замечательный специалист в области географии, экономики, метеоролог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 исследования: личность Д.И.Менделее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мет исследования: деятельность ученого в становлении географической науки в эпоху реформ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83664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чательно то, что и внутри каждого из этих территориальных комплексов Менделеев наметил как бы микро-комплексы на основе кооперирования и комбинирования предприятий таким образом, чтобы отходы одного производства служили сырьем для другого. Там, где добываются и перерабатываются нефть и уголь, выплавляется металл и пр., из отходов надо извлекать соду, соль, серу, деготь и другие ценные продукты. Это не только повысит рентабельность производства, но и позволит решить уже тогда встававшие перед человечеством экологические пробле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Рисунок 3" descr="kuonanpoisto_parempi_2007nvt.jpg"/>
          <p:cNvPicPr/>
          <p:nvPr/>
        </p:nvPicPr>
        <p:blipFill>
          <a:blip r:embed="rId1"/>
          <a:stretch/>
        </p:blipFill>
        <p:spPr>
          <a:xfrm>
            <a:off x="1714680" y="4143240"/>
            <a:ext cx="2143080" cy="22831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4" descr="metalll.jpg"/>
          <p:cNvPicPr/>
          <p:nvPr/>
        </p:nvPicPr>
        <p:blipFill>
          <a:blip r:embed="rId2"/>
          <a:stretch/>
        </p:blipFill>
        <p:spPr>
          <a:xfrm>
            <a:off x="4356000" y="3789360"/>
            <a:ext cx="2357640" cy="22129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5"/>
          <p:cNvSpPr/>
          <p:nvPr/>
        </p:nvSpPr>
        <p:spPr>
          <a:xfrm>
            <a:off x="7020000" y="4941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704520"/>
            <a:ext cx="7283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ельское хозяйст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Сельское хозяйство – своего рода промышленность для производства растений и животных. Гораздо выгоднее экспортировать не зерно, а скот…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Д.И. Менделее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сматривая сельское хозяйство как отрасль единого народно-хозяйственного комплекса, ученый указывал на необходимость оказания ему помощи через промышленное покровительство, так как оно не только не противоречит интересам сельского хозяйства, но, напротив, способствует его развитию. Менделеев пришел к убеждению, что, продолжая идти через колосящиеся хлебные нивы, столь привычные и дорогие русскому сердцу, Россия не достигнет благополучия и экономического процветания. Подчеркивая важность и необходимость "нормальной комбинации сельского труда с заводско-фабричным", он не был сторонником активных государственных мер, направленных непосредственно на подъем аграрного сектора и "считал всякое массовое вмешательство в это дело... совершенно ненужным и даже могущим быть чрезвычайно вредным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Рисунок 3" descr="agriculture.jpg"/>
          <p:cNvPicPr/>
          <p:nvPr/>
        </p:nvPicPr>
        <p:blipFill>
          <a:blip r:embed="rId1"/>
          <a:stretch/>
        </p:blipFill>
        <p:spPr>
          <a:xfrm>
            <a:off x="1000080" y="4786200"/>
            <a:ext cx="2643120" cy="18716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4" descr="kolosya.jpg"/>
          <p:cNvPicPr/>
          <p:nvPr/>
        </p:nvPicPr>
        <p:blipFill>
          <a:blip r:embed="rId2"/>
          <a:stretch/>
        </p:blipFill>
        <p:spPr>
          <a:xfrm>
            <a:off x="4643280" y="4786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ее пятидесяти лет, с присущей ему основательностью, Менделеев изучал проблемы земледелия. В книге "Заветные мысли" (1904) ученый сообщал о том, что еще в начале 60-х годов его "глубоко занимала мысль о возможности выгодно вести хозяйство при помощи улучшений и вкладов в землю свободного труда и капитала"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 организовал четыре опытные станции, на которые Вольное Экономическое общество выделило необходимые средства, и на них провел изучение влияния удобр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ы реализовать свои идеи о рациональном ведении хозяйства, Дмитрий Иванович покупает запущенное имение Боблово и на личном опыте, организовав экспериментальные делянки, убеждается в том, что в российских климатических и экономических условиях западноевропейская культура земледелия непримени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Рисунок 4" descr="psheno.jpg"/>
          <p:cNvPicPr/>
          <p:nvPr/>
        </p:nvPicPr>
        <p:blipFill>
          <a:blip r:embed="rId1"/>
          <a:stretch/>
        </p:blipFill>
        <p:spPr>
          <a:xfrm>
            <a:off x="1143000" y="428616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5" descr="S3010646.jpg"/>
          <p:cNvPicPr/>
          <p:nvPr/>
        </p:nvPicPr>
        <p:blipFill>
          <a:blip r:embed="rId2"/>
          <a:stretch/>
        </p:blipFill>
        <p:spPr>
          <a:xfrm>
            <a:off x="5072040" y="4286160"/>
            <a:ext cx="2762280" cy="207180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280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ываясь на результатах полевых опытов (1867--1869), Менделеев указывал на необходимость известкования кислых почв, применения размолотых фосфоритов, суперфосфата, азотных и калийных удобрений, совместного внесения минеральных и органических удобр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делеев уделял большое внимание орошению земель Нижнего Поволжь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Рисунок 3" descr="Сельское-хозяйство.jpg"/>
          <p:cNvPicPr/>
          <p:nvPr/>
        </p:nvPicPr>
        <p:blipFill>
          <a:blip r:embed="rId1"/>
          <a:stretch/>
        </p:blipFill>
        <p:spPr>
          <a:xfrm>
            <a:off x="2857680" y="478620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4"/>
          <p:cNvSpPr/>
          <p:nvPr/>
        </p:nvSpPr>
        <p:spPr>
          <a:xfrm>
            <a:off x="5796000" y="4797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417672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еорология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5000"/>
            <a:ext cx="82296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ты Менделеева по изучению свойств газов инициировали его интерес к проблемам в области геофизики и метеорологии. Разрабатывая эти вопросы, Менделеев заинтересовался исследованиями атмосферы (особенно ее верхних слоев) с помощью летательных аппаратов. В процессе исследований верхних слоев атмосферы Менделеев начал разрабатывать конструкции летательных аппаратов, позволяющих проводить наблюдения температуры, давления, влажности и других параметров на больших высотах. 7-го августа 1887 года Менделеев совершил полет на воздушном шаре. За совершение этого полёта Д.И. Менделеев был удостоен медали Французского общества воздухопла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350px-Isabel_eye.jpg"/>
          <p:cNvPicPr/>
          <p:nvPr/>
        </p:nvPicPr>
        <p:blipFill>
          <a:blip r:embed="rId1"/>
          <a:stretch/>
        </p:blipFill>
        <p:spPr>
          <a:xfrm>
            <a:off x="928800" y="450072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Cyclone_Catarina_from_the_ISS_on_March_26_2004.JPG"/>
          <p:cNvPicPr/>
          <p:nvPr/>
        </p:nvPicPr>
        <p:blipFill>
          <a:blip r:embed="rId2"/>
          <a:stretch/>
        </p:blipFill>
        <p:spPr>
          <a:xfrm>
            <a:off x="4786200" y="4357800"/>
            <a:ext cx="3286080" cy="21715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5"/>
          <p:cNvSpPr/>
          <p:nvPr/>
        </p:nvSpPr>
        <p:spPr>
          <a:xfrm flipH="1">
            <a:off x="5244480" y="134136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704880"/>
            <a:ext cx="73548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вед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19664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именем нашего выдающегося соотечественника Дмитрия Ивановича Менделеева каждый школьник знакомится, приступив к изучению хим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риодический закон Д.И. Менделеев открыл в 1869 году в возрасте всего 35 лет. После этого химия в его творчестве отходит на второй план, а его научные интересы смещаются в сторону промышленности, экономики, финансов, народного образования. К концу XIX века Дмитрий Иванович занял в русском обществе уникальное место универсального эксперта, консультирующего русское правительство по широкому кругу научных и народно-хозяйственных проблем – воздухоплаванию, нефтяным делам, бездымным порохам, таможенному тарифу, реформе высшего образования, постановке метрологического дела в стране..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4672080" y="1920960"/>
            <a:ext cx="3990960" cy="44337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21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18" descr="mendeleev.jpg"/>
          <p:cNvPicPr/>
          <p:nvPr/>
        </p:nvPicPr>
        <p:blipFill>
          <a:blip r:embed="rId1"/>
          <a:stretch/>
        </p:blipFill>
        <p:spPr>
          <a:xfrm>
            <a:off x="3643200" y="3571920"/>
            <a:ext cx="1785960" cy="2494080"/>
          </a:xfrm>
          <a:prstGeom prst="rect">
            <a:avLst/>
          </a:prstGeom>
          <a:ln w="0">
            <a:noFill/>
          </a:ln>
        </p:spPr>
      </p:pic>
      <p:sp>
        <p:nvSpPr>
          <p:cNvPr id="214" name="Овал 14"/>
          <p:cNvSpPr/>
          <p:nvPr/>
        </p:nvSpPr>
        <p:spPr>
          <a:xfrm>
            <a:off x="826920" y="549360"/>
            <a:ext cx="2592720" cy="180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Экономическая 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9"/>
          <p:cNvSpPr/>
          <p:nvPr/>
        </p:nvSpPr>
        <p:spPr>
          <a:xfrm>
            <a:off x="3429000" y="1428840"/>
            <a:ext cx="2160720" cy="180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мыш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Andalus"/>
              </a:rPr>
              <a:t>ленно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0"/>
          <p:cNvSpPr/>
          <p:nvPr/>
        </p:nvSpPr>
        <p:spPr>
          <a:xfrm>
            <a:off x="4500720" y="0"/>
            <a:ext cx="2087280" cy="13683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нефтя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21"/>
          <p:cNvSpPr/>
          <p:nvPr/>
        </p:nvSpPr>
        <p:spPr>
          <a:xfrm>
            <a:off x="5796000" y="1268280"/>
            <a:ext cx="1728720" cy="144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уг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2"/>
          <p:cNvSpPr/>
          <p:nvPr/>
        </p:nvSpPr>
        <p:spPr>
          <a:xfrm>
            <a:off x="5867280" y="3500280"/>
            <a:ext cx="2305080" cy="1657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Металлу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3"/>
          <p:cNvSpPr/>
          <p:nvPr/>
        </p:nvSpPr>
        <p:spPr>
          <a:xfrm>
            <a:off x="468360" y="2852640"/>
            <a:ext cx="2087640" cy="1656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Сельск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4"/>
          <p:cNvSpPr/>
          <p:nvPr/>
        </p:nvSpPr>
        <p:spPr>
          <a:xfrm>
            <a:off x="900000" y="4941720"/>
            <a:ext cx="2448000" cy="1916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Метеор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6"/>
          <p:cNvSpPr/>
          <p:nvPr/>
        </p:nvSpPr>
        <p:spPr>
          <a:xfrm>
            <a:off x="2699640" y="2276640"/>
            <a:ext cx="942840" cy="1652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8"/>
          <p:cNvSpPr/>
          <p:nvPr/>
        </p:nvSpPr>
        <p:spPr>
          <a:xfrm>
            <a:off x="4507920" y="3228840"/>
            <a:ext cx="27000" cy="343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0"/>
          <p:cNvSpPr/>
          <p:nvPr/>
        </p:nvSpPr>
        <p:spPr>
          <a:xfrm flipH="1">
            <a:off x="4928760" y="1285920"/>
            <a:ext cx="7164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>
            <a:off x="5580000" y="2276640"/>
            <a:ext cx="287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6"/>
          <p:cNvSpPr/>
          <p:nvPr/>
        </p:nvSpPr>
        <p:spPr>
          <a:xfrm flipH="1" flipV="1">
            <a:off x="2411280" y="4076640"/>
            <a:ext cx="1231920" cy="495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8"/>
          <p:cNvSpPr/>
          <p:nvPr/>
        </p:nvSpPr>
        <p:spPr>
          <a:xfrm flipH="1">
            <a:off x="3132000" y="4929120"/>
            <a:ext cx="511200" cy="51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0"/>
          <p:cNvSpPr/>
          <p:nvPr/>
        </p:nvSpPr>
        <p:spPr>
          <a:xfrm flipV="1">
            <a:off x="5429160" y="4508640"/>
            <a:ext cx="438120" cy="63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704880"/>
            <a:ext cx="68515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ключ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исследовала по этапам все, что создал, что сделал, в чем участвовал знаменитый и гениальный ученый Дмитрий Иванович Менделеев, и с гордостью могу сказать, что это великий ученый, завоевавший мировую известность, а так же это человек исключительных душевных качеств, с мужским и неустрашимым характером. Благодаря Д.И.Менделееву мы можем пользоваться достоянием науки, потому что именно он очень многое сделал для своей Род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1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980640"/>
            <a:ext cx="7715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делеев ещё при жизни был известен во многих странах, получил свыше 130 дипломов и почётных званий от русских и зарубежных академий, учёных обществ и учебных завед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я великого географа благодарные потомки нанесли на карту страны и ми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одводный хребет Менделеева в Северном Ледовитом океа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968828_1182856376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9402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селок Менделеево (Московская область, Солнечногорский район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sign"/>
          <p:cNvPicPr/>
          <p:nvPr/>
        </p:nvPicPr>
        <p:blipFill>
          <a:blip r:embed="rId1"/>
          <a:stretch/>
        </p:blipFill>
        <p:spPr>
          <a:xfrm>
            <a:off x="5435640" y="2276640"/>
            <a:ext cx="3240000" cy="248112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242" name="Picture 4" descr="mendeleevo2"/>
          <p:cNvPicPr/>
          <p:nvPr/>
        </p:nvPicPr>
        <p:blipFill>
          <a:blip r:embed="rId2"/>
          <a:stretch/>
        </p:blipFill>
        <p:spPr>
          <a:xfrm>
            <a:off x="457200" y="2276640"/>
            <a:ext cx="4835520" cy="3165480"/>
          </a:xfrm>
          <a:prstGeom prst="rect">
            <a:avLst/>
          </a:prstGeom>
          <a:ln w="19080">
            <a:solidFill>
              <a:srgbClr val="993366"/>
            </a:solidFill>
            <a:miter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ород Менделеевск (Республика Татарстан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karta"/>
          <p:cNvPicPr/>
          <p:nvPr/>
        </p:nvPicPr>
        <p:blipFill>
          <a:blip r:embed="rId1"/>
          <a:stretch/>
        </p:blipFill>
        <p:spPr>
          <a:xfrm>
            <a:off x="108000" y="1197000"/>
            <a:ext cx="5338800" cy="395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i8"/>
          <p:cNvPicPr/>
          <p:nvPr/>
        </p:nvPicPr>
        <p:blipFill>
          <a:blip r:embed="rId2"/>
          <a:stretch/>
        </p:blipFill>
        <p:spPr>
          <a:xfrm>
            <a:off x="5364000" y="3500280"/>
            <a:ext cx="3105360" cy="3008520"/>
          </a:xfrm>
          <a:prstGeom prst="rect">
            <a:avLst/>
          </a:prstGeom>
          <a:ln w="12600">
            <a:solidFill>
              <a:srgbClr val="00ccff"/>
            </a:solidFill>
            <a:miter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7:28:27Z</dcterms:created>
  <dc:creator>яна</dc:creator>
  <dc:description/>
  <dc:language>en-US</dc:language>
  <cp:lastModifiedBy>LEGION</cp:lastModifiedBy>
  <dcterms:modified xsi:type="dcterms:W3CDTF">2014-12-29T08:40:30Z</dcterms:modified>
  <cp:revision>43</cp:revision>
  <dc:subject/>
  <dc:title>Вклад Д.И. Менделеева в отечественную географию.</dc:title>
</cp:coreProperties>
</file>