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A2A4-34EE-4DD9-A495-76D518B81A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Обязательные результат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азывать основные объекты отдыха, лечения, туризма на территории окр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писывать по картам географические особенности рекреационных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ъяснять причины того или иного уровня развития рекреационного объект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8C67-4737-4D49-AEED-6F0FD35B62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Тип урока: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практическ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Оборудование: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карты атласа, статьи из журналов, фотографии различных объектов рекреации Сибирского Ф.О. (Телецкое озеро, озеро Яровое, озеро Байкал, Горная Шория), видеофильм «Байк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Атлас. География России. Часть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 I,II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. – Омск,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журналов «Алтай. Знакомое и неизвест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российского географического журнала «Живописная Росс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журналов «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Дидактический материал: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карточка с планом описания объекта описания рекреационного о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BBE9-E981-47ED-A665-6465C4B681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Вступительное слово учителя о целях и задачах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Выполнение практической работы после четкого инструктажа учителя. Учащиеся разбиваются на группы по 3-4 человека, выбирают (по желанию) объект рекреации, для составления его характеристики. Характеристика объекта выполняются по плану.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План характеристики рекреационного объ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Географическое положение (Г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тепень освоен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B3BD-F117-4FF0-B9FE-84BB69FC8C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Учащиеся озвучивают результаты работ и заполняют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Домашнее зад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а основе таблицы составить карту: «Рекреационные ресурсы Сибирского Ф.О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Разработать программу перспективного использования одного рекреационного ресурса (по выбору). Результаты представить  в творческой форме (форма выполнения выбирается с помощью учи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98A8-652E-4FBC-98D2-C6DB018385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оломин В.П., Финаров Д.П., Всемирное культурное и природное наследие//География в школе. – 1999. -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олеванов В. Потому что они существуют//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. – 2007. - №3. – с.160-1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етров Н.Н. Методика преподавания географии в дифференцированной школе. – М., 200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равцов В.М., Донукалова Р.П. География Новосибирской области. – Новосибирск., 199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овосибирская область: природа, население, хозяйство. – Новосибирск,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Уфимцев Г., Сизов А. Были и явь степного Алтая//Живописная Россия. – 2006. - №3. – с. 15-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География международного туризма // География в школе. – 2007. - №6. – с.70-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Абдульмянов С.Н. Знакомтесь: Кош-Агач//География и экология в школе 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XXI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век. – 2006. - №4. – с. 21-2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A4B7-5DFF-40DD-BD62-92CD29EBE6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Санатории Алт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Байка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санаторий «Сибиря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Телецкое озер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2153-A404-4273-9CFB-9B513C49B6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ъяснительная запи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ивный курс «Рекреационная география Сибирского ФО» рассчитана на 18 часов и предназначен для изучения в социально-экономическом профиле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асс) профи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содержания курса лежат знания, уже усвоенные учащимися при изучении географии, экономики,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урса – создание у учащихся представления о туризме в Сибирском ФО, о его проблемах и перспективах; формирование знаний о рекреационной деятельности; воспитание патриотического отношения к родному кра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элективный курс является междисциплинарным и способствует решению следующих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физико-географических и экономико-географических аспектах формирования рекреации в Сибирском Ф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ю учащимися знаниями, умениями и навыками, позволяющими им самостоятельно давать оценку о развитии туризма в рекреационных зонах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4086-BCA6-4899-8567-717DA94ED7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базируется на природно-географических, экономико-географических и др. составляющих и предполагает приобретение и развитие знаний у старшеклассников о рекреации в Сибирском ФО, проблемах и перспективах развития. А также курс позволяет применить полеченные знания в ходе подготовки индивидуальных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нный курс включает в себя сведения о природных ресурсах и природных условиях Сибирского ФО; экономический обзор туристической деятельности; географию рекреационных районов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стема практических работ позволяет учащимся закрепить приобретённые знания, умения и навыки работы с картографическими, статистическими, экономико-географическими и д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ходе изучения данного курса возможно применение следующих форм обучения: урок, лекция, семинар, практикум, самостоятельная работа учащихся, экскурсии, представление и защита творческих рабо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A5B3-C198-45F5-845D-012BE218C9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держание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мет и понятия рекреационная география. Место в системе на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реация – это определённые виды избирательной жизнедеятельности людей в свободное время и пространство, в котором они функционируют. Рекреационная география находится на стыке наук: географии, экономики, истории, эколог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ставить ЛОК «Предмет и понятия рекреационная география. Место в системе нау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Физико-географические и экологические предпосылки развития рекреации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е условия и природные ресурсы Сибирского ФО. Климат, рельеф и природные зоны данного региона. Экологическая обстановка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ть оценку экологического состояния территории Сибирского Ф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3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ко-географический фактор развития рекреации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данной территории. Общий уровень развития, структура хозяйства, качество жизни, степень урбанизированности и мобильности населения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ть оценку экономико-географического положения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59A7-8148-4822-B848-655BB8C720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4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ассы туристической деятельности. Виды тур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туристической деятельности. Виды туризма. Особенности туристической деятельности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работать туристический маршрут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5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уристический рынок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туризма на Мировом рынке и на внутреннем рынке. Особенности туристическ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 туристическим фирмам г. Новосибир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6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креационные ресурсы Сибирского ФО. Проблемы и перспективы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реационно-ресурсный потенциал территории, выражающийся в количестве и качестве природных и культурно-исторических ресурсов. Проблемы и перспективы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ставить таблицу «Рекреационные ресурсы Сибирского Ф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основе таблицы составить карту : «Рекреационные ресурсы Сибирского Ф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работать программу одного рекреационного ресурса по выб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скурсии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святой источник г. Ложок; по санаториям и лагерям г. Бердска (санатории: «Рассвет», «Сибиряк» и др.; ДОЛ  «Юбилейны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B426-041F-4969-A66A-F580E5FA76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Темат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0B38-033F-4CC4-B855-438BBF7470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Контрольно-измерительные материа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Лист оценк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Индивидуальная карта взаимооценки участника проек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3004-E3DE-4A4C-BBEE-65EE059BEA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Тем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едерального округ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Проблемы и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B014-42AD-4C4C-9116-27979E6DA1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родолжить формирование представлений о рекреационных ресурсах Сибирского Ф.О., проблемах и перспективах развития отдыха, туризма,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развивать мышление и речь учащихся, в процессе работы с печатными изданиями и последующем представлении результатов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одействовать экологическому воспитанию, при рассмотрении проблем стоящих перед объектами рекреации Сибирского Ф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5D95-8F7F-4C16-A365-D8C6E0C9F2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A22-B84B-4739-A4BA-2836243D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B91-1E4A-4DEC-ABF1-7A86F94B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28E-8ED6-48DE-8ECC-E5A93B82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4E0-27B7-47FF-98E1-D1CBBCDD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6F46-0425-4FEB-A9A1-9FB60BB4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4C4E-F258-43EB-B986-A4E3DA7A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B535-3045-4AD5-99D5-D286A28D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427C-02E1-4215-94B4-D8382C2E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4FF0-677E-4FAC-85DB-8107870A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468A-83C1-4CE7-B406-A18CDA8E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B8E9-C061-4A75-8232-747FC637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9DF-8046-472B-B80B-4DA5AF51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F1F9-D98D-4BF3-8267-04A3BA60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FE36-1F02-4D3A-9D80-565A95E8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9C73-0FC0-4E1D-B020-33A55337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63FE-64AA-4DB8-9530-4834B0AD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AE37-86BE-4210-B176-3009D615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A72-E333-425D-95DE-12C33FB7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6FC-A9F4-446D-99E7-95370AE1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26E-309C-441A-96EA-61DEE768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143-8816-47BA-8EE5-5F735DC1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A1E-7D80-42F0-B07A-A90E9ADF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5595-AB43-4447-955C-04AF0265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391-6E61-41FB-B2F3-C05126CF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3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FBFB-21C5-46DA-9A21-CC0AFDC984F7}" type="slidenum">
              <a:rPr b="1" lang="ru-RU" sz="2800" spc="-1" strike="noStrike">
                <a:solidFill>
                  <a:srgbClr val="fff3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fff3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8E8D-5238-4C79-8F77-A30D5732B506}" type="slidenum">
              <a:rPr b="1" lang="ru-RU" sz="3200" spc="-1" strike="noStrike">
                <a:solidFill>
                  <a:srgbClr val="fff3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1083;&#1080;&#1089;&#1090;%20&#1086;&#1094;&#1077;&#1085;&#1082;&#1080;%20&#1087;&#1088;&#1086;&#1077;&#1082;&#1090;&#1072;.doc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Сибирский Федеральный округ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7"/>
          <p:cNvSpPr txBox="1"/>
          <p:nvPr/>
        </p:nvSpPr>
        <p:spPr>
          <a:xfrm>
            <a:off x="539640" y="1557360"/>
            <a:ext cx="82090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Georgia"/>
              </a:rPr>
              <a:t>Рекреационная география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1835280" y="2492280"/>
            <a:ext cx="597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Georgia"/>
              </a:rPr>
              <a:t>Сибирского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468360" y="4005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Georgia"/>
              </a:rPr>
              <a:t>Федерального округ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лективный 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858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620280"/>
            <a:ext cx="7669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бязательные результаты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31640" y="1700280"/>
            <a:ext cx="7086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Называть основные объекты отдыха, лечения, туризма на территории округ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писывать по картам географические особенности рекреационных объект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ъяснять причины того или иного уровня развития рекреационного объекта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j0295178"/>
          <p:cNvPicPr/>
          <p:nvPr/>
        </p:nvPicPr>
        <p:blipFill>
          <a:blip r:embed="rId1"/>
          <a:stretch/>
        </p:blipFill>
        <p:spPr>
          <a:xfrm>
            <a:off x="6948360" y="5300640"/>
            <a:ext cx="2017800" cy="14349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5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9280" y="764640"/>
            <a:ext cx="672624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ип урока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практическая рабо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31640" y="1268280"/>
            <a:ext cx="7086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борудование: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карты атласа, статьи из журналов, фотографии различных объектов рекреации Сибирского Ф.О. (Телецкое озеро, озеро Яровое, озеро Байкал, Горная Шория), видеофильм «Байкал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тлас. География России. Часть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I,II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 – Омск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журналов «Алтай. Знакомое и неизвестное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российского географического журнала «Живописная Росс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журналов «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Дидактический материал: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карточка с планом описания объекта описания рекреационного объек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62d8"/>
            </a:gs>
            <a:gs pos="50000">
              <a:srgbClr val="dedef7"/>
            </a:gs>
            <a:gs pos="100000">
              <a:srgbClr val="6262d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086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Ход уро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4920" y="1484280"/>
            <a:ext cx="7086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ступительное слово учителя о целях и задачах зан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ыполнение практической работы после четкого инструктажа учителя. Учащиеся разбиваются на группы по 3-4 человека, выбирают (по желанию) объект рекреации, для составления его характеристики. Характеристика объекта выполняются по плану.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лан характеристики рекреационного объек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Географическое положение (ГП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тепень освоенности ресур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бле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ерспекти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62d8"/>
            </a:gs>
            <a:gs pos="50000">
              <a:srgbClr val="c5c5f1"/>
            </a:gs>
            <a:gs pos="100000">
              <a:srgbClr val="6262d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15640" y="1197000"/>
            <a:ext cx="726588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чащиеся озвучивают результаты работ и заполняют таблиц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.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Домашнее зада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а основе таблицы составить карту: «Рекреационные ресурсы Сибирского Ф.О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азработать программу перспективного использования одного рекреационного ресурса (по выбору). Результаты представить  в творческой форме (форма выполнения выбирается с помощью учите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2565360"/>
          <a:ext cx="7201080" cy="1225440"/>
        </p:xfrm>
        <a:graphic>
          <a:graphicData uri="http://schemas.openxmlformats.org/drawingml/2006/table">
            <a:tbl>
              <a:tblPr/>
              <a:tblGrid>
                <a:gridCol w="1800360"/>
                <a:gridCol w="1513080"/>
                <a:gridCol w="1871640"/>
                <a:gridCol w="20160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кт рекре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тепень осво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блемы и перспект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708660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48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оломин В.П., Финаров Д.П., Всемирное культурное и природное наследие//География в школе. – 1999. - №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леванов В. Потому что они существуют//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 – 2007. - №3. – с.160-17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етров Н.Н. Методика преподавания географии в дифференцированной школе. – М., 2000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равцов В.М., Донукалова Р.П. География Новосибирской области. – Новосибирск., 1996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овосибирская область: природа, население, хозяйство. – Новосибирск, 2006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фимцев Г., Сизов А. Были и явь степного Алтая//Живописная Россия. – 2006. - №3. – с. 15-1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География международного туризма // География в школе. – 2007. - №6. – с.70-7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бдульмянов С.Н. Знакомтесь: Кош-Агач//География и экология в школе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XXI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век. – 2006. - №4. – с. 21-25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5"/>
          <p:cNvSpPr/>
          <p:nvPr/>
        </p:nvSpPr>
        <p:spPr>
          <a:xfrm>
            <a:off x="1116000" y="1628640"/>
            <a:ext cx="7272360" cy="4608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00">
                  <a:alpha val="51372"/>
                </a:srgbClr>
              </a:gs>
              <a:gs pos="50000">
                <a:srgbClr val="ffffff"/>
              </a:gs>
              <a:gs pos="100000">
                <a:srgbClr val="009900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4920" y="836280"/>
            <a:ext cx="7086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eorgia"/>
              </a:rPr>
              <a:t>Приложение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3640" y="2276280"/>
            <a:ext cx="6618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Санатории Алта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Байка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санаторий «Сибиряк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Телецкое озеро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 rot="640200">
            <a:off x="684000" y="1773360"/>
            <a:ext cx="74167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1584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4791ff"/>
                    </a:gs>
                    <a:gs pos="100000">
                      <a:srgbClr val="0000cc"/>
                    </a:gs>
                  </a:gsLst>
                  <a:lin ang="4758000"/>
                </a:gradFill>
                <a:latin typeface="GothicG"/>
              </a:rPr>
              <a:t>Спасибо за внимание!</a:t>
            </a:r>
            <a:endParaRPr b="1" i="1" lang="en-US" sz="1800" spc="1" strike="noStrike">
              <a:ln cap="rnd" w="1584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4791ff"/>
                  </a:gs>
                  <a:gs pos="100000">
                    <a:srgbClr val="0000cc"/>
                  </a:gs>
                </a:gsLst>
                <a:lin ang="4758000"/>
              </a:gradFill>
              <a:latin typeface="GothicG"/>
              <a:ea typeface="GothicG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Объяснительная запис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628280"/>
            <a:ext cx="7086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ивный курс «Рекреационная география Сибирского ФО» рассчитана на 18 часов и предназначен для изучения в социально-экономическом профиле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ласс) профильной школ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снове содержания курса лежат знания, уже усвоенные учащимися при изучении географии, экономики, истор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курса – создание у учащихся представления о туризме в Сибирском ФО, о его проблемах и перспективах; формирование знаний о рекреационной деятельности; воспитание патриотического отношения к родному кра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й элективный курс является междисциплинарным и способствует решению следующих задач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физико-географических и экономико-географических аспектах формирования рекреации в Сибирском Ф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ладению учащимися знаниями, умениями и навыками, позволяющими им самостоятельно давать оценку о развитии туризма в рекреационных зонах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5"/>
          <p:cNvSpPr/>
          <p:nvPr/>
        </p:nvSpPr>
        <p:spPr>
          <a:xfrm rot="5400000">
            <a:off x="4011120" y="5502240"/>
            <a:ext cx="976320" cy="1439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3399ff"/>
              </a:gs>
              <a:gs pos="100000">
                <a:srgbClr val="000099"/>
              </a:gs>
            </a:gsLst>
            <a:lin ang="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86920" y="1125360"/>
            <a:ext cx="7231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с базируется на природно-географических, экономико-географических и др. составляющих и предполагает приобретение и развитие знаний у старшеклассников о рекреации в Сибирском ФО, проблемах и перспективах развития. А также курс позволяет применить полеченные знания в ходе подготовки индивидуальных проект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анный курс включает в себя сведения о природных ресурсах и природных условиях Сибирского ФО; экономический обзор туристической деятельности; географию рекреационных районов на территории Сибирского Ф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практических работ позволяет учащимся закрепить приобретённые знания, умения и навыки работы с картографическими, статистическими, экономико-географическими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ходе изучения данного курса возможно применение следующих форм обучения: урок, лекция, семинар, практикум, самостоятельная работа учащихся, экскурсии, представление и защита творческих рабо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d200"/>
            </a:gs>
            <a:gs pos="100000">
              <a:srgbClr val="d0f7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280" y="691920"/>
            <a:ext cx="7086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Содержание програм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6920" y="1484280"/>
            <a:ext cx="72313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едмет и понятия рекреационная география. Место в системе нау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реация – это определённые виды избирательной жизнедеятельности людей в свободное время и пространство, в котором они функционируют. Рекреационная география находится на стыке наук: географии, экономики, истории, экологии и др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авить ЛОК «Предмет и понятия рекреационная география. Место в системе наук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2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Физико-географические и экологические предпосылки развития рекреации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родные условия и природные ресурсы Сибирского ФО. Климат, рельеф и природные зоны данного региона. Экологическая обстановка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ать оценку экологического состояния территории Сибирского ФО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Экономико-географический фактор развития рекреации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данной территории. Общий уровень развития, структура хозяйства, качество жизни, степень урбанизированности и мобильности населения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ать оценку экономико-географического положения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5"/>
          <p:cNvSpPr/>
          <p:nvPr/>
        </p:nvSpPr>
        <p:spPr>
          <a:xfrm rot="5400000">
            <a:off x="3986280" y="5958000"/>
            <a:ext cx="606240" cy="876240"/>
          </a:xfrm>
          <a:custGeom>
            <a:avLst/>
            <a:gdLst>
              <a:gd name="textAreaLeft" fmla="*/ 75600 w 606240"/>
              <a:gd name="textAreaRight" fmla="*/ 530640 w 606240"/>
              <a:gd name="textAreaTop" fmla="*/ 218880 h 876240"/>
              <a:gd name="textAreaBottom" fmla="*/ 6573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d200"/>
              </a:gs>
              <a:gs pos="100000">
                <a:srgbClr val="ffffff"/>
              </a:gs>
            </a:gsLst>
            <a:lin ang="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d200"/>
            </a:gs>
            <a:gs pos="100000">
              <a:srgbClr val="bff4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8560" y="1125360"/>
            <a:ext cx="7086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4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лассы туристической деятельности. Виды туризм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ассификация туристической деятельности. Виды туризма. Особенности туристической деятельности на территории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работать туристический маршрут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5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уристический рынок на территории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сто туризма на Мировом рынке и на внутреннем рынке. Особенности туристического бизнес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 туристическим фирмам г. Новосибирс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6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екреационные ресурсы Сибирского ФО. Проблемы и перспективы развит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реационно-ресурсный потенциал территории, выражающийся в количестве и качестве природных и культурно-исторических ресурсов. Проблемы и перспективы развит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авить таблицу «Рекреационные ресурсы Сибирского ФО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основе таблицы составить карту : «Рекреационные ресурсы Сибирского ФО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работать программу одного рекреационного ресурса по выбору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Экскурси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святой источник г. Ложок; по санаториям и лагерям г. Бердска (санатории: «Рассвет», «Сибиряк» и др.; ДОЛ  «Юбилейный»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62658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атическое план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1640" y="1413000"/>
          <a:ext cx="7905600" cy="5364000"/>
        </p:xfrm>
        <a:graphic>
          <a:graphicData uri="http://schemas.openxmlformats.org/drawingml/2006/table">
            <a:tbl>
              <a:tblPr/>
              <a:tblGrid>
                <a:gridCol w="701640"/>
                <a:gridCol w="2836800"/>
                <a:gridCol w="968400"/>
                <a:gridCol w="1036800"/>
                <a:gridCol w="1234800"/>
                <a:gridCol w="1127160"/>
              </a:tblGrid>
              <a:tr h="647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к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инары,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курс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 и понятие рекреационная география. Место в системе наук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ко-географические и экологические предпосылки развития рекреации в Сибирском Ф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ко-географический фактор развития рекреации в Сибирском Ф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ы туристической деятельности. Виды туриз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истический рынок на территории Сибирского Ф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реационная география Сибирского ФО. Проблемы и перспективы разви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творческих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83664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Контрольно-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41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4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  <a:hlinkClick r:id="rId2"/>
              </a:rPr>
              <a:t>Лист оценки прое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4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ндивидуальная карта взаимооценки участника проект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74"/>
          <p:cNvSpPr/>
          <p:nvPr/>
        </p:nvSpPr>
        <p:spPr>
          <a:xfrm>
            <a:off x="-9216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7"/>
          <p:cNvSpPr/>
          <p:nvPr/>
        </p:nvSpPr>
        <p:spPr>
          <a:xfrm>
            <a:off x="1116000" y="422100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80"/>
          <p:cNvGrpSpPr/>
          <p:nvPr/>
        </p:nvGrpSpPr>
        <p:grpSpPr>
          <a:xfrm>
            <a:off x="611280" y="3716280"/>
            <a:ext cx="7705800" cy="2881440"/>
            <a:chOff x="611280" y="3716280"/>
            <a:chExt cx="7705800" cy="2881440"/>
          </a:xfrm>
        </p:grpSpPr>
        <p:sp>
          <p:nvSpPr>
            <p:cNvPr id="153" name="AutoShape 76"/>
            <p:cNvSpPr/>
            <p:nvPr/>
          </p:nvSpPr>
          <p:spPr>
            <a:xfrm>
              <a:off x="611280" y="3716280"/>
              <a:ext cx="7705800" cy="288144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8"/>
            <p:cNvSpPr/>
            <p:nvPr/>
          </p:nvSpPr>
          <p:spPr>
            <a:xfrm>
              <a:off x="1403280" y="4221000"/>
              <a:ext cx="676908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Все пункты оцениваются по единой бальной системе: 0, 5, 10, 15, 20 балл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Самооценка и оценка класса выставляются по критериям подготовки и защиты проекта, оценки учителя выставляются только по критериям защиты проекта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WordArt 79"/>
            <p:cNvSpPr txBox="1"/>
            <p:nvPr/>
          </p:nvSpPr>
          <p:spPr>
            <a:xfrm>
              <a:off x="1042920" y="4221000"/>
              <a:ext cx="488880" cy="6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c4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latin typeface="Goudy Stout"/>
                </a:rPr>
                <a:t>!</a:t>
              </a:r>
              <a:endParaRPr b="1" i="1" lang="en-US" sz="1800" spc="1" strike="noStrike">
                <a:ln w="15840">
                  <a:solidFill>
                    <a:srgbClr val="c4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Goudy Stout"/>
                <a:ea typeface="Goudy Stout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133360"/>
            <a:ext cx="8497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Тема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едерального округа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Проблемы и перспектив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57200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мер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c7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294920" y="1125000"/>
            <a:ext cx="7086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должить формирование представлений о рекреационных ресурсах Сибирского Ф.О., проблемах и перспективах развития отдыха, туризма, ле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звивать мышление и речь учащихся, в процессе работы с печатными изданиями и последующем представлении результатов раб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одействовать экологическому воспитанию, при рассмотрении проблем стоящих перед объектами рекреации Сибирского Ф.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5" descr="j0297003"/>
          <p:cNvPicPr/>
          <p:nvPr/>
        </p:nvPicPr>
        <p:blipFill>
          <a:blip r:embed="rId1"/>
          <a:stretch/>
        </p:blipFill>
        <p:spPr>
          <a:xfrm>
            <a:off x="6588000" y="115920"/>
            <a:ext cx="2376720" cy="16952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3:56:03Z</dcterms:created>
  <dc:creator>Шаманаев С.Н.</dc:creator>
  <dc:description/>
  <dc:language>en-US</dc:language>
  <cp:lastModifiedBy>LEGION</cp:lastModifiedBy>
  <dcterms:modified xsi:type="dcterms:W3CDTF">2014-12-29T09:12:55Z</dcterms:modified>
  <cp:revision>51</cp:revision>
  <dc:subject/>
  <dc:title>Тема: Рекреационные ресурсы Сибирского Федерального округа. Проблемы и перспективы</dc:title>
</cp:coreProperties>
</file>