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25D1-2B97-4EFD-8350-17A79EF551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7808-38F1-4AB6-BAB6-F96EA2896A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D022-9852-4B29-B04E-B8794C2BAC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F8D-9596-426C-8543-5A1683EA0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CF3-4A41-44FA-8FEB-96876947E4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B6D1-2A67-4E4E-8FEF-B783B14777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A663-2F36-48F2-8BD6-4E3CF38843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509D-A7AF-4352-A4E6-63D2E74441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9E76-B104-4815-95B7-4B14812FEF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5577-B5E4-4D54-9876-EDB1FBCD12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FFEF-0E3F-403D-865F-36091D6E32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CE32-7467-4B1C-841B-7DA5F8AEA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Лист оценк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14B5-6EAA-4F04-A2DD-A200D8215A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26CD-CB96-4A16-87FF-0B5FE850B0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490F-782E-45F9-9BAC-73BE6B6C4B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A22-4D1C-4744-A102-8023E7A4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1BF-44B1-466C-A653-08D126D3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C90-EB16-485B-9716-9DB701C5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31A-97FD-4C69-85C8-755DBCA4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7C8D-C13C-4E38-8BF8-395B8454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61AA-6669-45BD-85D2-F6E2016C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F8A0-1B91-427C-BC33-1F64E89C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D35C-ECE2-436A-B27E-1B8CC118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8D75-F9AE-4A64-B905-700222E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2C11-FC58-4B1C-AB0B-1073156B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B0C4-9FF1-478B-A820-D47A4032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BEB-57D3-424C-AED7-0BCD6D04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25DC-55B5-42BA-89FB-3BFED19C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8D60-D82B-419F-8624-F17FD9EB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CC39-E875-46A5-BA1D-438E6C4C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62E3-BC62-4171-8505-B08048F5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C19D-01B1-4E84-9F8A-FC6732B2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570-6F9A-421C-9BD9-C18B69C1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0E9-2411-4B8B-857A-A2A64416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9FF-F7D0-44B2-87D9-1BD8969B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BEF-91CB-4342-A21D-F5B18CF7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43E-B078-473C-AFC3-FBC4717E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BEC-0AD5-46BA-A760-95F202A0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D81-3557-4CB5-9787-B9F4663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9498-8656-47C4-A3BD-F8FA848F4038}" type="slidenum">
              <a:rPr b="1" lang="ru-RU" sz="28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45B0-634C-4659-8C04-19FF3CCC08E8}" type="slidenum">
              <a:rPr b="1" lang="ru-RU" sz="32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83;&#1080;&#1089;&#1090;%20&#1086;&#1094;&#1077;&#1085;&#1082;&#1080;%20&#1087;&#1088;&#1086;&#1077;&#1082;&#1090;&#1072;.do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Сибирский Федеральный округ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539640" y="1557360"/>
            <a:ext cx="8209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eorgia"/>
              </a:rPr>
              <a:t>Рекреационная география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1835280" y="2492280"/>
            <a:ext cx="59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Georgia"/>
              </a:rPr>
              <a:t>Сибирского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468360" y="4005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Федерального округ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лективны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858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20280"/>
            <a:ext cx="7669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7086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j0295178"/>
          <p:cNvPicPr/>
          <p:nvPr/>
        </p:nvPicPr>
        <p:blipFill>
          <a:blip r:embed="rId1"/>
          <a:stretch/>
        </p:blipFill>
        <p:spPr>
          <a:xfrm>
            <a:off x="6948360" y="5300640"/>
            <a:ext cx="2017800" cy="14349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5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672624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31640" y="1268280"/>
            <a:ext cx="7086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dedef7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086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484280"/>
            <a:ext cx="7086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c5c5f1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15640" y="1197000"/>
            <a:ext cx="72658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565360"/>
          <a:ext cx="7201080" cy="1225440"/>
        </p:xfrm>
        <a:graphic>
          <a:graphicData uri="http://schemas.openxmlformats.org/drawingml/2006/table">
            <a:tbl>
              <a:tblPr/>
              <a:tblGrid>
                <a:gridCol w="1800360"/>
                <a:gridCol w="1513080"/>
                <a:gridCol w="1871640"/>
                <a:gridCol w="2016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кт рекре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епень осво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блемы и перспект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0866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8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5"/>
          <p:cNvSpPr/>
          <p:nvPr/>
        </p:nvSpPr>
        <p:spPr>
          <a:xfrm>
            <a:off x="1116000" y="1628640"/>
            <a:ext cx="7272360" cy="4608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00">
                  <a:alpha val="51372"/>
                </a:srgbClr>
              </a:gs>
              <a:gs pos="50000">
                <a:srgbClr val="ffffff"/>
              </a:gs>
              <a:gs pos="100000">
                <a:srgbClr val="009900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836280"/>
            <a:ext cx="7086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640" y="2276280"/>
            <a:ext cx="6618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 rot="640200">
            <a:off x="684000" y="1773360"/>
            <a:ext cx="7416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4791ff"/>
                    </a:gs>
                    <a:gs pos="100000">
                      <a:srgbClr val="0000cc"/>
                    </a:gs>
                  </a:gsLst>
                  <a:lin ang="4758000"/>
                </a:gradFill>
                <a:latin typeface="GothicG"/>
              </a:rPr>
              <a:t>Спасибо за внимание!</a:t>
            </a:r>
            <a:endParaRPr b="1" i="1" lang="en-US" sz="1800" spc="1" strike="noStrike">
              <a:ln cap="rnd"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4791ff"/>
                  </a:gs>
                  <a:gs pos="100000">
                    <a:srgbClr val="0000cc"/>
                  </a:gs>
                </a:gsLst>
                <a:lin ang="4758000"/>
              </a:gradFill>
              <a:latin typeface="GothicG"/>
              <a:ea typeface="GothicG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628280"/>
            <a:ext cx="7086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5"/>
          <p:cNvSpPr/>
          <p:nvPr/>
        </p:nvSpPr>
        <p:spPr>
          <a:xfrm rot="5400000">
            <a:off x="4011120" y="5502240"/>
            <a:ext cx="976320" cy="143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3399ff"/>
              </a:gs>
              <a:gs pos="100000">
                <a:srgbClr val="000099"/>
              </a:gs>
            </a:gsLst>
            <a:lin ang="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6920" y="1125360"/>
            <a:ext cx="7231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d0f7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7086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2313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5"/>
          <p:cNvSpPr/>
          <p:nvPr/>
        </p:nvSpPr>
        <p:spPr>
          <a:xfrm rot="5400000">
            <a:off x="3986280" y="5958000"/>
            <a:ext cx="606240" cy="876240"/>
          </a:xfrm>
          <a:custGeom>
            <a:avLst/>
            <a:gdLst>
              <a:gd name="textAreaLeft" fmla="*/ 75600 w 606240"/>
              <a:gd name="textAreaRight" fmla="*/ 530640 w 606240"/>
              <a:gd name="textAreaTop" fmla="*/ 218880 h 876240"/>
              <a:gd name="textAreaBottom" fmla="*/ 6573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d200"/>
              </a:gs>
              <a:gs pos="100000">
                <a:srgbClr val="ffffff"/>
              </a:gs>
            </a:gsLst>
            <a:lin ang="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bff4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560" y="1125360"/>
            <a:ext cx="7086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62658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1640" y="1413000"/>
          <a:ext cx="7905600" cy="5364000"/>
        </p:xfrm>
        <a:graphic>
          <a:graphicData uri="http://schemas.openxmlformats.org/drawingml/2006/table">
            <a:tbl>
              <a:tblPr/>
              <a:tblGrid>
                <a:gridCol w="701640"/>
                <a:gridCol w="2836800"/>
                <a:gridCol w="968400"/>
                <a:gridCol w="1036800"/>
                <a:gridCol w="1234800"/>
                <a:gridCol w="112716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нары,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 и понятие рекреационная география. Место в системе наук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ко-географические и экологические предпосылки развития рекреации в Сибирском 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о-географический фактор развития рекреации в Сибирском Ф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ы туристической деятельности. Виды туриз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ический рынок на территории Сибирского Ф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реационная география Сибирского ФО. Проблемы и перспективы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твор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41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  <a:hlinkClick r:id="rId2"/>
              </a:rPr>
              <a:t>Лист оценки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-9216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7"/>
          <p:cNvSpPr/>
          <p:nvPr/>
        </p:nvSpPr>
        <p:spPr>
          <a:xfrm>
            <a:off x="1116000" y="4221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80"/>
          <p:cNvGrpSpPr/>
          <p:nvPr/>
        </p:nvGrpSpPr>
        <p:grpSpPr>
          <a:xfrm>
            <a:off x="611280" y="3716280"/>
            <a:ext cx="7705800" cy="2881440"/>
            <a:chOff x="611280" y="3716280"/>
            <a:chExt cx="7705800" cy="2881440"/>
          </a:xfrm>
        </p:grpSpPr>
        <p:sp>
          <p:nvSpPr>
            <p:cNvPr id="153" name="AutoShape 76"/>
            <p:cNvSpPr/>
            <p:nvPr/>
          </p:nvSpPr>
          <p:spPr>
            <a:xfrm>
              <a:off x="611280" y="3716280"/>
              <a:ext cx="7705800" cy="28814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8"/>
            <p:cNvSpPr/>
            <p:nvPr/>
          </p:nvSpPr>
          <p:spPr>
            <a:xfrm>
              <a:off x="1403280" y="4221000"/>
              <a:ext cx="676908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Все пункты оцениваются по единой бальной системе: 0, 5, 10, 15, 20 бал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амооценка и оценка класса выставляются по критериям подготовки и защиты проекта, оценки учителя выставляются только по критериям защиты проект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79"/>
            <p:cNvSpPr txBox="1"/>
            <p:nvPr/>
          </p:nvSpPr>
          <p:spPr>
            <a:xfrm>
              <a:off x="1042920" y="4221000"/>
              <a:ext cx="488880" cy="6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c4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Goudy Stout"/>
                </a:rPr>
                <a:t>!</a:t>
              </a:r>
              <a:endParaRPr b="1" i="1" lang="en-US" sz="1800" spc="1" strike="noStrike">
                <a:ln w="15840">
                  <a:solidFill>
                    <a:srgbClr val="c4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Goudy Stout"/>
                <a:ea typeface="Goudy Stout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57200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мер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c7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94920" y="1125000"/>
            <a:ext cx="7086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5" descr="j0297003"/>
          <p:cNvPicPr/>
          <p:nvPr/>
        </p:nvPicPr>
        <p:blipFill>
          <a:blip r:embed="rId1"/>
          <a:stretch/>
        </p:blipFill>
        <p:spPr>
          <a:xfrm>
            <a:off x="6588000" y="115920"/>
            <a:ext cx="2376720" cy="16952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3:56:03Z</dcterms:created>
  <dc:creator>Шаманаев С.Н.</dc:creator>
  <dc:description/>
  <dc:language>en-US</dc:language>
  <cp:lastModifiedBy>LEGION</cp:lastModifiedBy>
  <dcterms:modified xsi:type="dcterms:W3CDTF">2014-12-29T09:12:55Z</dcterms:modified>
  <cp:revision>51</cp:revision>
  <dc:subject/>
  <dc:title>Тема: Рекреационные ресурсы Сибирского Федерального округа. Проблемы и перспективы</dc:title>
</cp:coreProperties>
</file>