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87D2-4AD5-497C-B8C7-9640E8DF21C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0BCE-7F23-4763-AE85-5016A0EA59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69B2-E3FC-4F3F-BEC8-362298FC4C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173F-DBFE-4C07-AF5B-3959DAD703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F207-FCD1-4830-8308-348F2F51AA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02B6-CBA7-4907-84D0-50E23B1ED0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8145-F7DD-40F0-A3DC-B28F2B542A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C707-E217-467E-9BC5-30FD0DF92F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E33D8-C6EE-4B4C-B995-794239D3ACA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FCC0-4D73-41BD-A003-A06D300AC4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8917-504D-4D32-8B4D-E94071D3B21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782D-9FE2-4609-BC75-C15F28F0D2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Лист оценк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E2B2-19A1-41C9-B7AA-DE5CAF2CF6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8BE0-BD82-4247-A3E2-CD2B33F603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4CF6-8447-460F-9511-0D23D4984D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8D7A-B879-4898-B3C6-B0CBE99A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AB8-CFBD-4D03-B0ED-6233BF59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4C3-1F3B-46EA-A646-52EBB8BF3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E24-5972-4755-A810-AA09D9B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2770-EA7B-4FE2-9BC1-BC850AAF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1ED7-624F-4DFC-8183-EA7F0F75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6EFA-95C3-48B4-80FC-FDD3B5A9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9496-CE07-40D9-8E46-298556B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4BFE-A355-4766-87BC-7A58FA548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C3E2-4121-4960-9B95-756F74A4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237D-FC3B-49F1-AEF9-5FB08605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90C-F752-425C-8826-1F0F293F6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6204-1D2C-42CA-991A-C51C6079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D0B9-948D-4070-919B-DF290E50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F1C7-45A4-4DBA-943F-3F07FDD41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12E-0F94-4820-9329-A441E091C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FA69A-D0A6-4514-83E9-E0D4CAAE4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E0E-4CC5-4EF9-9F0C-289DB59A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88C-D39A-4438-B4D0-6811043FD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B80-79C8-497C-BB2C-97D74D59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8D46-2804-4A37-9EBA-B7AE9782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DBD-46B2-46F0-8389-1A86AE44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34E1-EFEA-426E-ADF4-48EA0A3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62F2-80DD-4A1F-ADE4-BFC2EDE39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5F10-8E83-4A15-9967-E2DB1C848A50}" type="slidenum">
              <a:rPr b="1" lang="ru-RU" sz="28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4025-973A-416B-9628-3BB646038F66}" type="slidenum">
              <a:rPr b="1" lang="ru-RU" sz="32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3;&#1080;&#1089;&#1090;%20&#1086;&#1094;&#1077;&#1085;&#1082;&#1080;%20&#1087;&#1088;&#1086;&#1077;&#1082;&#1090;&#1072;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Сибирский Федеральный округ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539640" y="1557360"/>
            <a:ext cx="820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Рекреационная географ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835280" y="2492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Сибирского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4005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Федерального округ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лективны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858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20280"/>
            <a:ext cx="766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j0295178"/>
          <p:cNvPicPr/>
          <p:nvPr/>
        </p:nvPicPr>
        <p:blipFill>
          <a:blip r:embed="rId1"/>
          <a:stretch/>
        </p:blipFill>
        <p:spPr>
          <a:xfrm>
            <a:off x="6948360" y="5300640"/>
            <a:ext cx="2017800" cy="14349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5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672624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086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dedef7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086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484280"/>
            <a:ext cx="7086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c5c5f1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265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565360"/>
          <a:ext cx="7201080" cy="1225440"/>
        </p:xfrm>
        <a:graphic>
          <a:graphicData uri="http://schemas.openxmlformats.org/drawingml/2006/table">
            <a:tbl>
              <a:tblPr/>
              <a:tblGrid>
                <a:gridCol w="1800360"/>
                <a:gridCol w="1513080"/>
                <a:gridCol w="1871640"/>
                <a:gridCol w="2016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кт рекре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пень осво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ы и перспек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0866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1116000" y="1628640"/>
            <a:ext cx="7272360" cy="460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00">
                  <a:alpha val="51372"/>
                </a:srgbClr>
              </a:gs>
              <a:gs pos="50000">
                <a:srgbClr val="ffffff"/>
              </a:gs>
              <a:gs pos="100000">
                <a:srgbClr val="009900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640" y="2276280"/>
            <a:ext cx="6618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640200">
            <a:off x="684000" y="1773360"/>
            <a:ext cx="7416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4791ff"/>
                    </a:gs>
                    <a:gs pos="100000">
                      <a:srgbClr val="0000cc"/>
                    </a:gs>
                  </a:gsLst>
                  <a:lin ang="4758000"/>
                </a:gradFill>
                <a:latin typeface="GothicG"/>
              </a:rPr>
              <a:t>Спасибо за внимание!</a:t>
            </a:r>
            <a:endParaRPr b="1" i="1" lang="en-US" sz="1800" spc="1" strike="noStrike">
              <a:ln cap="rnd"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4791ff"/>
                  </a:gs>
                  <a:gs pos="100000">
                    <a:srgbClr val="0000cc"/>
                  </a:gs>
                </a:gsLst>
                <a:lin ang="4758000"/>
              </a:gradFill>
              <a:latin typeface="GothicG"/>
              <a:ea typeface="GothicG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28280"/>
            <a:ext cx="708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 rot="5400000">
            <a:off x="4011120" y="5502240"/>
            <a:ext cx="976320" cy="143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3399ff"/>
              </a:gs>
              <a:gs pos="100000">
                <a:srgbClr val="000099"/>
              </a:gs>
            </a:gsLst>
            <a:lin ang="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231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d0f7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231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 rot="5400000">
            <a:off x="3986280" y="5958000"/>
            <a:ext cx="606240" cy="876240"/>
          </a:xfrm>
          <a:custGeom>
            <a:avLst/>
            <a:gdLst>
              <a:gd name="textAreaLeft" fmla="*/ 75600 w 606240"/>
              <a:gd name="textAreaRight" fmla="*/ 530640 w 606240"/>
              <a:gd name="textAreaTop" fmla="*/ 218880 h 876240"/>
              <a:gd name="textAreaBottom" fmla="*/ 6573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d200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bff4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7086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2658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1413000"/>
          <a:ext cx="7905600" cy="5364000"/>
        </p:xfrm>
        <a:graphic>
          <a:graphicData uri="http://schemas.openxmlformats.org/drawingml/2006/table">
            <a:tbl>
              <a:tblPr/>
              <a:tblGrid>
                <a:gridCol w="701640"/>
                <a:gridCol w="2836800"/>
                <a:gridCol w="968400"/>
                <a:gridCol w="1036800"/>
                <a:gridCol w="1234800"/>
                <a:gridCol w="112716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ы,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и понятие рекреационная география. Место в системе нау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ко-географические и экологические предпосылки развития рекреации в Сибирском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о-географический фактор развития рекреации в Сибирском Ф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туристической деятельности. Виды туриз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ический рынок на территории Сибирского Ф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ционная география Сибирского ФО. Проблемы и перспективы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41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  <a:hlinkClick r:id="rId2"/>
              </a:rPr>
              <a:t>Лист оценки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-921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7"/>
          <p:cNvSpPr/>
          <p:nvPr/>
        </p:nvSpPr>
        <p:spPr>
          <a:xfrm>
            <a:off x="1116000" y="4221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0"/>
          <p:cNvGrpSpPr/>
          <p:nvPr/>
        </p:nvGrpSpPr>
        <p:grpSpPr>
          <a:xfrm>
            <a:off x="611280" y="3716280"/>
            <a:ext cx="7705800" cy="2881440"/>
            <a:chOff x="611280" y="3716280"/>
            <a:chExt cx="7705800" cy="2881440"/>
          </a:xfrm>
        </p:grpSpPr>
        <p:sp>
          <p:nvSpPr>
            <p:cNvPr id="153" name="AutoShape 76"/>
            <p:cNvSpPr/>
            <p:nvPr/>
          </p:nvSpPr>
          <p:spPr>
            <a:xfrm>
              <a:off x="611280" y="3716280"/>
              <a:ext cx="7705800" cy="2881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8"/>
            <p:cNvSpPr/>
            <p:nvPr/>
          </p:nvSpPr>
          <p:spPr>
            <a:xfrm>
              <a:off x="1403280" y="4221000"/>
              <a:ext cx="6769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Все пункты оцениваются по единой бальной системе: 0, 5, 10, 15, 20 б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амооценка и оценка класса выставляются по критериям подготовки и защиты проекта, оценки учителя выставляются только по критериям защиты проект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79"/>
            <p:cNvSpPr txBox="1"/>
            <p:nvPr/>
          </p:nvSpPr>
          <p:spPr>
            <a:xfrm>
              <a:off x="1042920" y="4221000"/>
              <a:ext cx="488880" cy="6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c4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Goudy Stout"/>
                </a:rPr>
                <a:t>!</a:t>
              </a:r>
              <a:endParaRPr b="1" i="1" lang="en-US" sz="1800" spc="1" strike="noStrike">
                <a:ln w="15840">
                  <a:solidFill>
                    <a:srgbClr val="c4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oudy Stout"/>
                <a:ea typeface="Goudy Stout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57200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мер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c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4920" y="1125000"/>
            <a:ext cx="7086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j0297003"/>
          <p:cNvPicPr/>
          <p:nvPr/>
        </p:nvPicPr>
        <p:blipFill>
          <a:blip r:embed="rId1"/>
          <a:stretch/>
        </p:blipFill>
        <p:spPr>
          <a:xfrm>
            <a:off x="6588000" y="115920"/>
            <a:ext cx="2376720" cy="16952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6:03Z</dcterms:created>
  <dc:creator>Шаманаев С.Н.</dc:creator>
  <dc:description/>
  <dc:language>en-US</dc:language>
  <cp:lastModifiedBy>LEGION</cp:lastModifiedBy>
  <dcterms:modified xsi:type="dcterms:W3CDTF">2014-12-29T09:12:55Z</dcterms:modified>
  <cp:revision>51</cp:revision>
  <dc:subject/>
  <dc:title>Тема: Рекреационные ресурсы Сибирского Федерального округа. Проблемы и перспективы</dc:title>
</cp:coreProperties>
</file>