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2535-CB38-42B4-8008-E965E990E02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Заболевания внутренних органов у беременных. Беременность и п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Кафедра внутренних болезней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№2 и курс нефр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7EBC-D353-4CBA-B6EA-3D57869373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Ы БУДЕТЕ ЗН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как строить взаимоотношения с беременными, их родственниками, своими колле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основные правовые вопросы охраны здоровья матери и реб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BAF4-EB14-4B35-9D11-F426AD9E21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Ы ОВЛАДЕЕТЕ НАВЫК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сбора анамнеза у беременной с патологией внутренних орган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пальпации, перкуссии, аускультации,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измерения АД и пульса у берем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2387-A802-4FA6-A947-CAF6381324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Ы ОВЛАДЕЕТЕ НАВЫК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ыбора безопасных инструментальных методов исследования у беременных с патологией внутренних органов и интерпретации полученных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правильной формулировки диагноза заболевания внутренних органов у берем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24FE-71A0-43DB-B467-B82CB26001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Ы ОВЛАДЕЕТЕ НАВЫК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безопасного лечения беременных с заболеваниями внутренних органов в гестационном периоде, в родах и послеродовом период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2D31-FC75-4C25-8E2B-8DE69CD1EE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Ы ПРИОБРЕТЕТЕ НАВЫ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клинического мыш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анализа и критического осмысления научной информации и доказа-тельных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правильных взаимо-отношений с пациентами, их родственниками, своими колле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работы в коман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59D7-6B7B-40B6-A327-358492A686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МЫ ЗА ДЕВИЗ: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ЗДОРОВАЯ МАТЬ – ЗДОРОВЫЕ ДЕ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0967-7C1E-4C70-A640-88F251B750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ЧТО МЫ ПРЕДЛАГАЕМ И КО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Интегрированный элективный модуль «Заболевания внутренних органов у беременных. Беременность и почки» для студентов </a:t>
            </a:r>
            <a:r>
              <a:rPr b="1" lang="en-US" sz="1200" spc="-1" strike="noStrike">
                <a:solidFill>
                  <a:srgbClr val="244583"/>
                </a:solidFill>
                <a:latin typeface="Calibri"/>
              </a:rPr>
              <a:t>V</a:t>
            </a: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 курса по специальности «Общая медицина» - 051301 (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сего 135 часов</a:t>
            </a: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, из них «Заболевания внутренних органов у беременных» - 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90 часов </a:t>
            </a: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(практ. зан. – 60 час, СРС – 30 час)  и «Беременность и почки» -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45 часов</a:t>
            </a: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 (практ. зан. – 30 час, СРС – 15 ча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Направления подготовки: «Врач общей практики», «Терап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B24B-EBC4-44D6-A227-8DDBF258A4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Почему их важно изучать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Экстрагенитальные заболевания внутренних органов у беременных могут быть причиной материнской заболеваемости и смертности, повышают риск фетальных осложнений (отслойка плаценты, задержка внутриутробного развития и аномалии развития плода, внутриутробная гибель плода, преждевременные роды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C650-7670-47FA-B83C-F13FFCFC95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Наша цель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формирование знаний и умений по диагностике и лечению заболеваний внутренних органов у берем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601D-D5E4-4AE1-9EB1-9CFABA5B25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АКИЕ ЗАБОЛЕВАНИЯ ВНУТРЕННИХ ОРГАНОВ </a:t>
            </a:r>
            <a:r>
              <a:rPr b="1" lang="ru-RU" sz="1200" spc="-1" strike="noStrike" u="sng">
                <a:solidFill>
                  <a:srgbClr val="c00000"/>
                </a:solidFill>
                <a:uFillTx/>
                <a:latin typeface="Calibri"/>
              </a:rPr>
              <a:t>У БЕРЕМЕННЫХ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Ы БУДЕТЕ ИЗУЧАТ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Первичная и вторичная артериальная гипертенз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рожденные и приобретенные пороки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Аритмии и нарушения провод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Перипартальная кардиомиопа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Пневмо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Бронхиальная аст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Хронический гепат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Ревматоидный артрит и ДБ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1B6C-8B45-4ED7-AEB7-BA4BAF46DD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АКИЕ ЗАБОЛЕВАНИЯ ВНУТРЕННИХ ОРГАНОВ У </a:t>
            </a:r>
            <a:r>
              <a:rPr b="1" lang="ru-RU" sz="1200" spc="-1" strike="noStrike" u="sng">
                <a:solidFill>
                  <a:srgbClr val="c00000"/>
                </a:solidFill>
                <a:uFillTx/>
                <a:latin typeface="Calibri"/>
              </a:rPr>
              <a:t>БЕРЕМЕННЫХ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ВЫ БУДЕТЕ ИЗУЧАТ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нфекция мочев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Гломерулонефриты и другие хронические болезни по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страя и хроническая почечная недостаточ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Диабетическая нефропати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85D3-633A-4CC1-A9D3-EDB75894CC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ЙДЯ ОБУЧЕНИЕ НА НАШЕМ МОДУЛЕ ВЫ БУДЕТЕ ЗН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этиологию, патогенез, особенности клинического течения и осложнения заболеваний внутренних органов при берем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овременные клинико-лабораторные и инстру-ментальные исследования у беременных при патологии внутренних орг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44F3-C766-42A3-8E4C-917D49E877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Ы БУДЕТЕ ЗН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MD" sz="1200" spc="-1" strike="noStrike">
                <a:solidFill>
                  <a:srgbClr val="000066"/>
                </a:solidFill>
                <a:latin typeface="Calibri"/>
              </a:rPr>
              <a:t>противопоказания к беременности и родам при заболеваниях внутренних органов у берем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риски для матери и плода при наличии заболеваний внутренних органов у берем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87CD-7EAA-47D1-A4AE-2EF58EABBE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Ы БУДЕТЕ ЗН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безопасную для беременной и плода фармакотерапию, основанную на международных стандартах и доказательной медицине при патологии внутренних органов в гестационном периоде, в родах и послеродовом пери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6D49-B10B-4198-9C6B-D279DF8265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6A15-F4D2-427C-AC92-1C8514CED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5E23-2CD2-4DBF-8FE4-046844ED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FCCE-919B-41FE-822A-FD4FAC383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E3CF-104C-447E-8969-7C54FB9FC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870C-E9EA-424C-8DAB-59168CEB7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F3D9-D38A-4BCB-B2D6-C0711744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97025-5D5D-4DBF-9C0A-B13EEF14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4C0F-51C3-4FF0-81BF-C4AD9D9B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EAA3-82DE-440D-BE08-C4265813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EB6B-7C67-4A62-9925-9289E706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D725-C15E-4C54-8A5F-81A1D339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7FE6-B05F-42B1-9087-8F7E089D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CF66-B136-467C-A6ED-E4913EA1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5692-333D-48F5-AB49-F8A55595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741C-DA67-45D5-9B4A-7908C3C4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9692-0666-4A89-8CCB-FAA1A00A9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B512-3662-4A6D-8F02-A797A1528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C97D8E-62B7-4B61-AAFF-25C1D55DF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92CC70-65FD-4FE5-B362-ACDD7DF4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ABF82B-C268-439F-8018-4E0DBA31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DDA7F3-2F4E-4FEF-84F1-05CC0002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05ECF5-1210-45B1-8721-D0D2CB5D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1BEB-12F8-42FB-8A7D-CE82AD53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7BBA64-EAB3-4E84-8F6E-25E604C4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E67C56-468F-4020-8409-2CD2576A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4B4F9B-082B-449C-8DE1-6F431E35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374D6D-FAA8-4B55-91F4-60485886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1555F8-99D2-45E9-8927-16DC9DD6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0E017E-40EC-4274-9172-5EC4DD576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B37852-4E87-45A5-BC16-8D74FC794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6646C-26C7-4B3F-BB83-EDB65BF9F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482B6-226F-4024-8D15-022D7A38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AFE88-D979-4CC6-AF65-E40E53E5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E95D-7079-4632-9136-F45FCD07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43BD4-111A-42A0-92DD-7C448A62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08B13-B177-4083-94B0-C03F352A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EB71F-E1B0-485F-B72A-0EEDCE56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07E82-2C78-4F8B-AC2A-73D7186F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6F92D-5CE8-4E75-AFEA-1BE4A12C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484CB-1593-4983-B1B5-009A1BC0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33B23-4260-4BCE-89F3-958C578B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7AFCA-FA28-4EA1-900F-527BF9DA8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0026B-5F82-48AC-A991-C31CB6D19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BC6982-4E76-4713-8EE9-F44757EF0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4992-C542-42C0-8DD6-88804ABB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CF943D-1C11-42D0-8227-E8CF219F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F4B705-2FFD-4C2F-92CE-8117FCF3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C0352B-8058-413D-9A90-9605564E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4C5117-24CD-4E6B-85DA-F5EC1940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20106D-49D3-418C-B17F-3E7A8591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945475-F521-4C5B-8053-D9EB3453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0FE5EA-735E-4C8F-B072-91DEABD3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FD12BF-A57B-4A6F-B77C-9444826A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96991C-5354-4CE9-9905-36FAD9B8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340AE1-F4C6-4C85-9D4F-4C1E54153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504D-34F3-44DB-AAE6-1FE37062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9F07F9-A5E1-4A43-96BF-2CCF5C3D3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C5A22D-66F0-4EBD-BEA6-26C5519F5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4B1B54-618A-4400-B781-8BD31D42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53039D-24B6-4776-B7BA-EA81A050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687E86-1661-45EA-8CB1-EC84E87A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8B371F-0332-42ED-B150-FB086FA7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1CA662-0813-4ED3-9646-1EA621D6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65706C-F4E6-4BCE-A15A-FE296F12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BA059E-5668-40DC-81D6-27B153EA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444F96-182B-4452-812E-3E5F5131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1529-FD4D-457F-AA49-38ED241B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5E2C76-F4CC-47CD-B7BF-78083FDB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C4D747-475A-4652-9AC0-E058E9FA4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4494A4-BDBC-478B-A6A2-FCCA07DE8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80FDD6-A99B-46A9-B783-4238B11B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43920D-F790-45E7-AB92-EC24CE32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D7C252-63FB-4BAB-916C-E1010B41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189DEB-6EE4-4DD0-9EC9-E7A44270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6AD9D1-B7A6-4C6E-8351-266119D0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996B8D-8ECE-488A-A727-E214AE25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9DA40D-8DBA-423E-9C17-106741E7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05B2-6B33-445C-92E8-6DC0206A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74B1C7-E529-4A4A-8C45-2B40CCF7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40362E-F6CD-4560-BD2C-C8247AB4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A3A569-8D32-4D2D-88F2-0D469940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F12DDB-7D15-4C76-A07B-167418C3A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0797CD-FA5B-4C49-8A7E-550E45953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0C5B-A9F7-4900-9AC6-D75D82CA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82F6-B1CB-4DA5-A431-7FA76832CC4D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1047-6ECF-44F2-8B5D-2D8E4257527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437B-1277-4E1D-805C-20D844C20985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A4B4-0C68-424C-B09B-F27877E5327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37D9-3704-40D1-9FAD-CF31FD2DC878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504B-A987-4B45-A3DB-567BD84E831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62C4-A6AF-4923-B576-2D6073949FEE}" type="datetime"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EB6B-7551-4222-AC4B-4CC1379CCCD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1E42-3669-4BC3-A5C9-66069CD59E1A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2A92-4F28-4FB7-B57B-8CD0E79C0B3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30D6-4F03-4D97-80A7-BC80A27192FC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9F82-2E63-41B0-B2BF-24F0BD8287C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C170-98B4-45E4-90DC-FA780B0DBAE1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4CBA-4C9B-47BF-8E62-3A39E785DA6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500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entury Schoolbook"/>
              </a:rPr>
              <a:t>ЗАБОЛЕВАНИЯ ВНУТРЕННИХ ОРГАНОВ У БЕРЕМЕННЫХ. БЕРЕМЕННОСТЬ И ПОЧКИ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428920" y="4857480"/>
            <a:ext cx="6143760" cy="15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entury Schoolbook"/>
              </a:rPr>
              <a:t>Кафедра внутренних болезней</a:t>
            </a:r>
            <a:r>
              <a:rPr b="1" lang="en-US" sz="3200" spc="-1" strike="noStrike">
                <a:solidFill>
                  <a:srgbClr val="000066"/>
                </a:solidFill>
                <a:latin typeface="Century Schoolbook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Century Schoolbook"/>
              </a:rPr>
              <a:t>№2 и курс нефрологии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4" descr=""/>
          <p:cNvPicPr/>
          <p:nvPr/>
        </p:nvPicPr>
        <p:blipFill>
          <a:blip r:embed="rId1"/>
          <a:stretch/>
        </p:blipFill>
        <p:spPr>
          <a:xfrm>
            <a:off x="6000840" y="642960"/>
            <a:ext cx="2619360" cy="4048200"/>
          </a:xfrm>
          <a:prstGeom prst="rect">
            <a:avLst/>
          </a:prstGeom>
          <a:ln w="0">
            <a:noFill/>
          </a:ln>
        </p:spPr>
      </p:pic>
      <p:sp>
        <p:nvSpPr>
          <p:cNvPr id="361" name="Місце для нижнього колонтитула 2"/>
          <p:cNvSpPr/>
          <p:nvPr/>
        </p:nvSpPr>
        <p:spPr>
          <a:xfrm rot="5400000">
            <a:off x="707652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ВЫ БУДЕТЕ ЗНАТЬ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00040" y="1500120"/>
            <a:ext cx="440064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как строить взаимоотношения с беременными, их родственниками, своими коллегам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основные правовые вопросы охраны здоровья матери и ребенк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6" name="Picture 3" descr=""/>
          <p:cNvPicPr/>
          <p:nvPr/>
        </p:nvPicPr>
        <p:blipFill>
          <a:blip r:embed="rId1"/>
          <a:stretch/>
        </p:blipFill>
        <p:spPr>
          <a:xfrm>
            <a:off x="5214960" y="4143240"/>
            <a:ext cx="2571840" cy="20718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397" name="Picture 4" descr=""/>
          <p:cNvPicPr/>
          <p:nvPr/>
        </p:nvPicPr>
        <p:blipFill>
          <a:blip r:embed="rId2"/>
          <a:stretch/>
        </p:blipFill>
        <p:spPr>
          <a:xfrm>
            <a:off x="5214960" y="1643040"/>
            <a:ext cx="2571840" cy="22860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398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54295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Century Schoolbook"/>
              </a:rPr>
              <a:t>ВЫ ОВЛАДЕЕТЕ НАВЫКАМИ: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213840" y="1357200"/>
            <a:ext cx="535788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сбора анамнеза у беременной с патологией внутренних органов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пальпации, перкуссии, аускультации, измерения АД и пульса у беременны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5857920" y="285840"/>
            <a:ext cx="2857320" cy="25718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402" name="Picture 2" descr=""/>
          <p:cNvPicPr/>
          <p:nvPr/>
        </p:nvPicPr>
        <p:blipFill>
          <a:blip r:embed="rId2"/>
          <a:stretch/>
        </p:blipFill>
        <p:spPr>
          <a:xfrm>
            <a:off x="5857920" y="2928960"/>
            <a:ext cx="2857320" cy="2214720"/>
          </a:xfrm>
          <a:prstGeom prst="rect">
            <a:avLst/>
          </a:prstGeom>
          <a:ln w="9360">
            <a:solidFill>
              <a:srgbClr val="244583"/>
            </a:solidFill>
            <a:miter/>
          </a:ln>
        </p:spPr>
      </p:pic>
      <p:pic>
        <p:nvPicPr>
          <p:cNvPr id="403" name="Picture 3" descr=""/>
          <p:cNvPicPr/>
          <p:nvPr/>
        </p:nvPicPr>
        <p:blipFill>
          <a:blip r:embed="rId3"/>
          <a:stretch/>
        </p:blipFill>
        <p:spPr>
          <a:xfrm>
            <a:off x="2786040" y="4357800"/>
            <a:ext cx="2857680" cy="2214360"/>
          </a:xfrm>
          <a:prstGeom prst="rect">
            <a:avLst/>
          </a:prstGeom>
          <a:ln w="9360">
            <a:solidFill>
              <a:srgbClr val="244583"/>
            </a:solidFill>
            <a:miter/>
          </a:ln>
        </p:spPr>
      </p:pic>
      <p:sp>
        <p:nvSpPr>
          <p:cNvPr id="404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85560" y="285480"/>
            <a:ext cx="6329160" cy="66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ВЫ ОВЛАДЕЕТЕ НАВЫКАМИ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13840" y="1285560"/>
            <a:ext cx="564372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выбора безопасных инструментальных методов исследования у беременных с патологией внутренних органов и интерпретации полученных данны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правильной формулировки диагноза заболевания внутренних органов у беременны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5929200" y="3786120"/>
            <a:ext cx="2786040" cy="2786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408" name="Picture 2" descr=""/>
          <p:cNvPicPr/>
          <p:nvPr/>
        </p:nvPicPr>
        <p:blipFill>
          <a:blip r:embed="rId2"/>
          <a:stretch/>
        </p:blipFill>
        <p:spPr>
          <a:xfrm>
            <a:off x="6072120" y="1357200"/>
            <a:ext cx="2614680" cy="214308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71320" y="428400"/>
            <a:ext cx="485748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ВЫ ОВЛАДЕЕТЕ НАВЫКАМИ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713880" y="1857240"/>
            <a:ext cx="49294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безопасного лечения беременных с заболеваниями внутренних органов в гестационном периоде, в родах и послеродовом периоде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2" name="Picture 3" descr=""/>
          <p:cNvPicPr/>
          <p:nvPr/>
        </p:nvPicPr>
        <p:blipFill>
          <a:blip r:embed="rId1"/>
          <a:stretch/>
        </p:blipFill>
        <p:spPr>
          <a:xfrm>
            <a:off x="5786280" y="571680"/>
            <a:ext cx="2786400" cy="3643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413" name="Picture 3" descr=""/>
          <p:cNvPicPr/>
          <p:nvPr/>
        </p:nvPicPr>
        <p:blipFill>
          <a:blip r:embed="rId2"/>
          <a:stretch/>
        </p:blipFill>
        <p:spPr>
          <a:xfrm>
            <a:off x="5857920" y="4357800"/>
            <a:ext cx="2786040" cy="22143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414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ВЫ ПРИОБРЕТЕТЕ НАВЫКИ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56760" y="1714320"/>
            <a:ext cx="56437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клинического мышления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анализа и критического осмысления научной информации и доказа-тельных исследовани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правильных взаимо-отношений с пациентами, их родственниками, своими коллегам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работы в команде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1"/>
          <a:stretch/>
        </p:blipFill>
        <p:spPr>
          <a:xfrm>
            <a:off x="6000840" y="2357280"/>
            <a:ext cx="2714400" cy="2857680"/>
          </a:xfrm>
          <a:prstGeom prst="rect">
            <a:avLst/>
          </a:prstGeom>
          <a:ln w="9360">
            <a:solidFill>
              <a:srgbClr val="244583"/>
            </a:solidFill>
            <a:miter/>
          </a:ln>
        </p:spPr>
      </p:pic>
      <p:sp>
        <p:nvSpPr>
          <p:cNvPr id="418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МЫ ЗА ДЕВИЗ: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ЗДОРОВАЯ МАТЬ – ЗДОРОВЫЕ ДЕТИ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6143760" y="1714680"/>
            <a:ext cx="2214360" cy="1666800"/>
          </a:xfrm>
          <a:prstGeom prst="rect">
            <a:avLst/>
          </a:prstGeom>
          <a:ln w="9360">
            <a:solidFill>
              <a:srgbClr val="244583"/>
            </a:solidFill>
            <a:miter/>
          </a:ln>
        </p:spPr>
      </p:pic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642960" y="1857240"/>
            <a:ext cx="2076480" cy="1543320"/>
          </a:xfrm>
          <a:prstGeom prst="rect">
            <a:avLst/>
          </a:prstGeom>
          <a:ln w="9360">
            <a:solidFill>
              <a:srgbClr val="244583"/>
            </a:solidFill>
            <a:miter/>
          </a:ln>
        </p:spPr>
      </p:pic>
      <p:pic>
        <p:nvPicPr>
          <p:cNvPr id="422" name="Picture 4" descr=""/>
          <p:cNvPicPr/>
          <p:nvPr/>
        </p:nvPicPr>
        <p:blipFill>
          <a:blip r:embed="rId3"/>
          <a:stretch/>
        </p:blipFill>
        <p:spPr>
          <a:xfrm>
            <a:off x="6143760" y="4000680"/>
            <a:ext cx="2143080" cy="1714320"/>
          </a:xfrm>
          <a:prstGeom prst="rect">
            <a:avLst/>
          </a:prstGeom>
          <a:ln w="9360">
            <a:solidFill>
              <a:srgbClr val="244583"/>
            </a:solidFill>
            <a:miter/>
          </a:ln>
        </p:spPr>
      </p:pic>
      <p:pic>
        <p:nvPicPr>
          <p:cNvPr id="423" name="Picture 5" descr=""/>
          <p:cNvPicPr/>
          <p:nvPr/>
        </p:nvPicPr>
        <p:blipFill>
          <a:blip r:embed="rId4"/>
          <a:stretch/>
        </p:blipFill>
        <p:spPr>
          <a:xfrm>
            <a:off x="571680" y="3929040"/>
            <a:ext cx="2071440" cy="1824120"/>
          </a:xfrm>
          <a:prstGeom prst="rect">
            <a:avLst/>
          </a:prstGeom>
          <a:ln w="9360">
            <a:solidFill>
              <a:srgbClr val="244583"/>
            </a:solidFill>
            <a:miter/>
          </a:ln>
        </p:spPr>
      </p:pic>
      <p:pic>
        <p:nvPicPr>
          <p:cNvPr id="424" name="Picture 6" descr=""/>
          <p:cNvPicPr/>
          <p:nvPr/>
        </p:nvPicPr>
        <p:blipFill>
          <a:blip r:embed="rId5"/>
          <a:stretch/>
        </p:blipFill>
        <p:spPr>
          <a:xfrm>
            <a:off x="3429000" y="4000680"/>
            <a:ext cx="2019240" cy="1723680"/>
          </a:xfrm>
          <a:prstGeom prst="rect">
            <a:avLst/>
          </a:prstGeom>
          <a:ln w="9360">
            <a:solidFill>
              <a:srgbClr val="244583"/>
            </a:solidFill>
            <a:miter/>
          </a:ln>
        </p:spPr>
      </p:pic>
      <p:pic>
        <p:nvPicPr>
          <p:cNvPr id="425" name="Picture 7" descr=""/>
          <p:cNvPicPr/>
          <p:nvPr/>
        </p:nvPicPr>
        <p:blipFill>
          <a:blip r:embed="rId6"/>
          <a:stretch/>
        </p:blipFill>
        <p:spPr>
          <a:xfrm>
            <a:off x="3429000" y="1785960"/>
            <a:ext cx="1928880" cy="1714320"/>
          </a:xfrm>
          <a:prstGeom prst="rect">
            <a:avLst/>
          </a:prstGeom>
          <a:ln w="9360">
            <a:solidFill>
              <a:srgbClr val="244583"/>
            </a:solidFill>
            <a:miter/>
          </a:ln>
        </p:spPr>
      </p:pic>
      <p:sp>
        <p:nvSpPr>
          <p:cNvPr id="426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792936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ЧТО МЫ ПРЕДЛАГАЕМ И КОМУ?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999720"/>
            <a:ext cx="8258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Интегрированный элективный модуль «Заболевания внутренних органов у беременных. Беременность и почки» для студентов </a:t>
            </a:r>
            <a:r>
              <a:rPr b="1" lang="en-US" sz="2800" spc="-1" strike="noStrike">
                <a:solidFill>
                  <a:srgbClr val="244583"/>
                </a:solidFill>
                <a:latin typeface="Century Schoolbook"/>
              </a:rPr>
              <a:t>V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 курса по специальности «Общая медицина» - 051301 (</a:t>
            </a: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всего 135 часов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, из них «Заболевания внутренних органов у беременных» -  </a:t>
            </a: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90 часов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(практ. зан. – 60 час, СРС – 30 час)  и «Беременность и почки» - </a:t>
            </a: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45 часов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 (практ. зан. – 30 час, СРС – 15 час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Направления подготовки: «Врач общей практики», «Терапия»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8400" y="64260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ПОЧЕМУ ИХ ВАЖНО ИЗУЧАТЬ?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2071440"/>
            <a:ext cx="74725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entury Schoolbook"/>
              </a:rPr>
              <a:t>   </a:t>
            </a: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Экстрагенитальные заболевания внутренних органов у беременных могут быть причиной материнской заболеваемости и смертности, повышают риск фетальных осложнений (отслойка плаценты, задержка внутриутробного развития и аномалии развития плода, внутриутробная гибель плода, преждевременные роды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Picture 4" descr=""/>
          <p:cNvPicPr/>
          <p:nvPr/>
        </p:nvPicPr>
        <p:blipFill>
          <a:blip r:embed="rId1"/>
          <a:stretch/>
        </p:blipFill>
        <p:spPr>
          <a:xfrm>
            <a:off x="6286680" y="214200"/>
            <a:ext cx="2209680" cy="1857600"/>
          </a:xfrm>
          <a:prstGeom prst="rect">
            <a:avLst/>
          </a:prstGeom>
          <a:ln w="0">
            <a:noFill/>
          </a:ln>
        </p:spPr>
      </p:pic>
      <p:sp>
        <p:nvSpPr>
          <p:cNvPr id="368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НАША ЦЕЛЬ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213840" y="1356840"/>
            <a:ext cx="40006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формирование знаний и умений по диагностике и лечению заболеваний внутренних органов у беременны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Picture 7" descr=""/>
          <p:cNvPicPr/>
          <p:nvPr/>
        </p:nvPicPr>
        <p:blipFill>
          <a:blip r:embed="rId1"/>
          <a:stretch/>
        </p:blipFill>
        <p:spPr>
          <a:xfrm>
            <a:off x="4572000" y="1214280"/>
            <a:ext cx="3286080" cy="24289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9" descr="C:\Users\Назипа\Pictures\Кафедра 23.01.10\Кафедра 23.01.10 043 - копия.jpg"/>
          <p:cNvPicPr/>
          <p:nvPr/>
        </p:nvPicPr>
        <p:blipFill>
          <a:blip r:embed="rId2"/>
          <a:stretch/>
        </p:blipFill>
        <p:spPr>
          <a:xfrm>
            <a:off x="4214880" y="3857760"/>
            <a:ext cx="4286160" cy="2670120"/>
          </a:xfrm>
          <a:prstGeom prst="rect">
            <a:avLst/>
          </a:prstGeom>
          <a:ln w="0">
            <a:noFill/>
          </a:ln>
        </p:spPr>
      </p:pic>
      <p:sp>
        <p:nvSpPr>
          <p:cNvPr id="373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152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Century Schoolbook"/>
              </a:rPr>
              <a:t>КАКИЕ ЗАБОЛЕВАНИЯ ВНУТРЕННИХ ОРГАНОВ </a:t>
            </a:r>
            <a:r>
              <a:rPr b="1" lang="ru-RU" sz="2500" spc="-1" strike="noStrike" u="sng">
                <a:solidFill>
                  <a:srgbClr val="c00000"/>
                </a:solidFill>
                <a:uFillTx/>
                <a:latin typeface="Century Schoolbook"/>
              </a:rPr>
              <a:t>У БЕРЕМЕННЫХ </a:t>
            </a:r>
            <a:r>
              <a:rPr b="1" lang="ru-RU" sz="2500" spc="-1" strike="noStrike">
                <a:solidFill>
                  <a:srgbClr val="c00000"/>
                </a:solidFill>
                <a:latin typeface="Century Schoolbook"/>
              </a:rPr>
              <a:t>ВЫ БУДЕТЕ ИЗУЧАТЬ? 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99680" y="1714680"/>
            <a:ext cx="82868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Первичная и вторичная артериальная гипертензия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Врожденные и приобретенные пороки сердц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Аритмии и нарушения проводимост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Перипартальная кардиомиопат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Пневмо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Бронхиальная астм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Хронический гепати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Ревматоидный артрит и ДБС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746748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КАКИЕ ЗАБОЛЕВАНИЯ ВНУТРЕННИХ ОРГАНОВ У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Century Schoolbook"/>
              </a:rPr>
              <a:t>БЕРЕМЕННЫХ</a:t>
            </a: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 ВЫ БУДЕТЕ ИЗУЧАТЬ? 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28760" y="2214360"/>
            <a:ext cx="82152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Инфекция мочевой систем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Гломерулонефриты и другие хронические болезни почек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Острая и хроническая почечная недостаточность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Диабетическая нефропатия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3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Century Schoolbook"/>
              </a:rPr>
              <a:t>ПРОЙДЯ ОБУЧЕНИЕ НА НАШЕМ МОДУЛЕ ВЫ БУДЕТЕ ЗНАТЬ: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285480" y="1428840"/>
            <a:ext cx="55004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этиологию, патогенез, особенности клинического течения и осложнения заболеваний внутренних органов при беременност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современные клинико-лабораторные и инстру-ментальные исследования у беременных при патологии внутренних органов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Picture 5" descr=""/>
          <p:cNvPicPr/>
          <p:nvPr/>
        </p:nvPicPr>
        <p:blipFill>
          <a:blip r:embed="rId1"/>
          <a:stretch/>
        </p:blipFill>
        <p:spPr>
          <a:xfrm>
            <a:off x="5715000" y="1500120"/>
            <a:ext cx="3000240" cy="35006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383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ВЫ БУДЕТЕ ЗНАТЬ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285560"/>
            <a:ext cx="46148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MD" sz="2800" spc="-1" strike="noStrike">
                <a:solidFill>
                  <a:srgbClr val="000066"/>
                </a:solidFill>
                <a:latin typeface="Century Schoolbook"/>
              </a:rPr>
              <a:t>противопоказания к беременности и родам при заболеваниях внутренних органов у беременны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риски для матери и плода при наличии заболеваний внутренних органов у беременны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6" name="Picture 3" descr=""/>
          <p:cNvPicPr/>
          <p:nvPr/>
        </p:nvPicPr>
        <p:blipFill>
          <a:blip r:embed="rId1"/>
          <a:stretch/>
        </p:blipFill>
        <p:spPr>
          <a:xfrm>
            <a:off x="5143680" y="1500120"/>
            <a:ext cx="3429000" cy="23576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387" name="Picture 4" descr=""/>
          <p:cNvPicPr/>
          <p:nvPr/>
        </p:nvPicPr>
        <p:blipFill>
          <a:blip r:embed="rId2"/>
          <a:stretch/>
        </p:blipFill>
        <p:spPr>
          <a:xfrm>
            <a:off x="5072040" y="3929040"/>
            <a:ext cx="3643200" cy="2448000"/>
          </a:xfrm>
          <a:prstGeom prst="rect">
            <a:avLst/>
          </a:prstGeom>
          <a:ln w="0">
            <a:noFill/>
          </a:ln>
        </p:spPr>
      </p:pic>
      <p:sp>
        <p:nvSpPr>
          <p:cNvPr id="388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557208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ВЫ БУДЕТЕ ЗНАТЬ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00040" y="1143000"/>
            <a:ext cx="52149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безопасную для беременной и плода фармакотерапию, основанную на международных стандартах и доказательной медицине при патологии внутренних органов в гестационном периоде, в родах и послеродовом периоде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1" name="Picture 4" descr=""/>
          <p:cNvPicPr/>
          <p:nvPr/>
        </p:nvPicPr>
        <p:blipFill>
          <a:blip r:embed="rId1"/>
          <a:stretch/>
        </p:blipFill>
        <p:spPr>
          <a:xfrm>
            <a:off x="5715000" y="1000080"/>
            <a:ext cx="2928960" cy="2643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392" name="Picture 6" descr=""/>
          <p:cNvPicPr/>
          <p:nvPr/>
        </p:nvPicPr>
        <p:blipFill>
          <a:blip r:embed="rId2"/>
          <a:stretch/>
        </p:blipFill>
        <p:spPr>
          <a:xfrm>
            <a:off x="5857920" y="3857760"/>
            <a:ext cx="2857320" cy="2500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05:36:21Z</dcterms:created>
  <dc:creator>Назипа</dc:creator>
  <dc:description/>
  <dc:language>en-US</dc:language>
  <cp:lastModifiedBy>LEGION</cp:lastModifiedBy>
  <dcterms:modified xsi:type="dcterms:W3CDTF">2014-11-06T13:56:47Z</dcterms:modified>
  <cp:revision>128</cp:revision>
  <dc:subject/>
  <dc:title>Слайд 1</dc:title>
</cp:coreProperties>
</file>