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7D38-6D66-41D9-80E8-9FF1F7E951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болевания внутренних органов у беременных. Беременность и п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Кафедра внутренних болезней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№2 и курс нефр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89E5-5944-429F-958D-6AB0ABA107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ак строить взаимоотношения с беременны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основные правовые вопросы охраны здоровья матери 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E2A9-5B52-4E51-BCC5-4AFA4E576B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сбора анамнеза у беременной с патологией внутренних орг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пальпации, перкуссии, аускультации,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измерения АД и пульса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DACA-613E-431A-8C4B-8A5B64741E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ой формулировки диагноза заболевания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8B32-1012-4859-88B5-247232567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ОВЛАДЕЕТЕ 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0DE6-37AE-4E8C-B9FE-45F2B9C43E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ПРИОБРЕТЕТЕ НАВЫ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клиническ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анализа и критического осмысления научной информации и доказа-те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ильных взаимо-отношений с пациентами, их родственниками, своими колл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работы в коман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9CBB-7D9E-4C78-8C1E-70E3349248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Ы ЗА ДЕВИЗ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ОРОВАЯ МАТЬ – ЗДОРОВЫЕ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A0D9-FBC3-46DC-A424-892ED1D2B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МЫ ПРЕДЛАГАЕМ И КО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1200" spc="-1" strike="noStrike">
                <a:solidFill>
                  <a:srgbClr val="244583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курса по специальности «Общая медицина» - 051301 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сего 13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, из них «Заболевания внутренних органов у беременных» -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90 часов 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(практ. зан. – 60 час, СРС – 30 час)  и «Беременность и почки» -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5 часов</a:t>
            </a: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 (практ. зан. – 30 час, СРС – 15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44583"/>
                </a:solidFill>
                <a:latin typeface="Calibri"/>
              </a:rPr>
              <a:t>Направления подготовки: «Врач общей практики», «Терап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1296-6573-467C-B0E4-730A730E4E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очему их важно изучать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4FA3-614F-44FC-8560-804708FC72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ша 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6C5-906A-4921-9CE8-8A997F43BE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У БЕРЕМЕННЫХ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вичная и вторичная артериальная гипертен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рожденные и приобретенные порок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Аритмии и нарушения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ерипартальная кардиомиопа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Хронический геп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Ревматоидный артрит и ДБ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0520-BC12-4C09-B538-1569166646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Е ЗАБОЛЕВАНИЯ ВНУТРЕННИХ ОРГАНОВ У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Calibri"/>
              </a:rPr>
              <a:t>БЕРЕМЕННЫХ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ВЫ БУДЕТЕ ИЗУЧ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фекция моче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ломерулонефриты и другие хронические болезни п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трая и хроническая почечная недостато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иабетическая нефропат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AEA8-8580-4508-AB35-0E2DBD8B53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Я ОБУЧЕНИЕ НА НАШЕМ МОДУЛЕ 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EE0B-37B3-48A4-84A4-79D2D772A2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1200" spc="-1" strike="noStrike">
                <a:solidFill>
                  <a:srgbClr val="000066"/>
                </a:solidFill>
                <a:latin typeface="Calibri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иски для матери и плода при наличии заболеваний внутренних органов у б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03D-6C33-4259-B5D0-DFF31E049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 БУДЕТЕ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7A83-6521-4996-96F5-B63DE53A9D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482-A80C-4C6F-B033-76A1C4AD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9AB-61CB-435E-8B4A-8255DEEF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1F5-D5CF-47F1-982F-BB3DF264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B5A-4B1A-43E4-BE3C-992F57D0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528-6FA9-402A-BDD6-4DDBDB5F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0858-7476-486D-B29C-507432A6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158B-9B4F-43B9-A19E-277B1078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168B-8807-4B6A-96C8-875BF3CE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2072-6FAA-4D20-A157-B8FA2DA1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530E-3DEB-4701-B3CD-988406A3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7ED4-FB48-43A2-AF15-29506BF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FED-5EB0-48E8-8DBA-270243C0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644B-1B5B-4BC4-A50C-5B63994C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9A0A-D282-4D89-B901-E61A0A5E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E3F3-194E-4A12-825B-27B074E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2E48-E8E7-48E8-97C2-DC905AD6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5C3D-9A80-4CA5-BB37-4672A426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60ED3-6C46-4869-A233-2518EC89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11D99-8A53-498B-B7FE-A5CE76CC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B15DB-6FBA-4E6B-91EB-0A6572D0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EFECC-99A3-4757-8326-777267BD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2C9A2-1024-4DEB-8289-A06CA3D5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FF9-7768-4D53-ADE9-633F6E4F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53607-5782-4258-9C78-24F2956C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A1457-3A90-40A7-BD81-910D370A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795BF-0316-41C3-99B2-A31AD328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C088D-62C5-4675-8722-9CE63407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742D4-B150-4CDA-A517-DD8BEB71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A2930-C148-49D4-9D2B-C4E401CA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40295-A43D-4FEE-96AD-7B19187E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D854-586B-42D9-8C1F-31DA9026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DBFD-071E-46F3-9B93-CA770F61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B7252-504C-47D9-8724-B5DDE859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B66-62A9-4627-9658-3A7A4F80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E2CC-8610-4AAC-9C37-F9B5C06D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9A1B-7C0D-4509-BF84-26E77CD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E5D8-7650-491F-B3E7-DCBE137B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6CD81-24BE-45CF-B434-5F10892F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5727-1341-40E2-B10F-BBA21FA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4FA5-E248-434E-B082-FF4DCB2D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57A7-0F6B-478D-8448-8BC39B95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F0C9-A006-4458-A627-824FEE30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8DC3E-379F-44B2-921D-B9CD3D92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169B5-0B6D-4465-A2E7-FDD14A55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56E-0E8A-435C-8168-2977AC06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FF784-39CD-42B8-88E2-9F7304A6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539E5-E184-43CD-95E2-56D26966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601B3-4E19-4DDB-9E26-F4082367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CBC6B-02B9-4169-8D78-86106D1C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500EF-3B0F-452A-9FE5-FE27E59B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429E7-184F-4FDF-B0DD-C3609D5C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F7181-5580-43CF-B4E4-3344A48B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4EFB1-B755-4B7D-BE13-BF9AC31D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7DA81-005D-4713-AF87-D73074BD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ADB02-C3CB-47A8-8D1B-8C05CD86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69E-2918-4B7B-A592-FD866289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CA286-8BC8-4ECE-8CA8-538052D4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96B3B-508D-4CB0-A705-1FB41028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3E5FD-C7FB-4BF0-82A1-A46C019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46EA0-8334-4EB9-8C30-582F5F67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A8DD7-B3DC-4C9D-AE8B-CB220BE6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416CB-9579-4A38-A90A-62EF42CB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72ECE-0F57-4D80-954C-02C93F7E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D8662-40AF-4CE4-8226-07CE3F3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FB082-BC79-4E2C-9B09-06AC0C4C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9DF69-D480-4C41-99A6-08D9E2E1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557-E38A-435B-8B6A-3CD3CC9A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5A7C3-A047-4F39-9D49-F66C982C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865AC-823B-4180-B878-45BDD6D0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FFE6A-6D76-46B2-83FF-5A4E58C6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74AEA-FB2E-4A0F-8B38-B449392E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28932-AD61-4D1A-AA16-63727B86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ECAC5-7A48-4B54-9FC5-D9295EBE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B3C92-1060-4BF9-A0E4-28855D32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145CF-F746-43EE-95B6-7083DAAA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7918C-54CF-43E0-B161-7C57F359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F0C17-5695-49C4-9853-F900EF1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3DB-CD8D-4069-9C48-BAED81B1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034AE-DC16-42C5-8A78-B407FB0C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6C241-10A4-46F5-A112-7A920E87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D1270-981E-4E63-B566-C5E8D60F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B662A-7EE7-4EA7-8969-814B1E83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63319-132A-4CA5-AD4B-93CE6238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1D8-E9AF-4AE9-A0E7-F082DBEC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C1BC-53DA-4241-AC43-C6438F4F826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387D-5020-4E72-B598-A8CDCED1B4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75EB-332F-42FA-A1C8-151DDD2C2F8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CCF8-1D7E-4943-BDAF-21F7774D4C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968A-6FC5-436F-AC90-C255E5CEC8E6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22A1-17C3-430A-A379-487D39FC71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2B7C-DCC8-42B4-9843-31521AE8E5C3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4132-9531-41C6-8A12-8E09F198C7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05AF-0F0C-4B70-A745-8345DF0A6AC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BE2F-1C60-4F73-B953-9490DC4C98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4896-2095-4632-A4D3-A53C489D5CE3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BAEA-C43C-44D4-A83F-4A4CF5173B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9CD4-AEE3-44B7-A681-9388AECC6F95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61C6-D0CC-4266-A0B6-6386F65D453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500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entury Schoolbook"/>
              </a:rPr>
              <a:t>ЗАБОЛЕВАНИЯ ВНУТРЕННИХ ОРГАНОВ У БЕРЕМЕННЫХ. БЕРЕМЕННОСТЬ И ПОЧ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428920" y="4857480"/>
            <a:ext cx="6143760" cy="15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Кафедра внутренних болезней</a:t>
            </a:r>
            <a:r>
              <a:rPr b="1" lang="en-US" sz="32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Century Schoolbook"/>
              </a:rPr>
              <a:t>№2 и курс нефрологи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6000840" y="642960"/>
            <a:ext cx="2619360" cy="4048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0040" y="1500120"/>
            <a:ext cx="4400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ак строить взаимоотношения с беременны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основные правовые вопросы охраны здоровья матери и ребен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5214960" y="4143240"/>
            <a:ext cx="2571840" cy="20718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5214960" y="1643040"/>
            <a:ext cx="2571840" cy="2286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5429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13840" y="1357200"/>
            <a:ext cx="5357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бора анамнеза у беременной с патологией внутренних органов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альпации, перкуссии, аускультации, измерения АД и пульса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857320" cy="25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857920" y="2928960"/>
            <a:ext cx="2857320" cy="22147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2786040" y="4357800"/>
            <a:ext cx="2857680" cy="221436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6329160" cy="66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3840" y="1285560"/>
            <a:ext cx="5643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ыбора безопасных инструментальных методов исследования у беременных с патологией внутренних органов и интерпретации полученных да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ой формулировки диагноза заболевания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929200" y="3786120"/>
            <a:ext cx="2786040" cy="278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6072120" y="1357200"/>
            <a:ext cx="2614680" cy="21430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485748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ОВЛАДЕЕТЕ НАВЫКАМ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713880" y="1857240"/>
            <a:ext cx="4929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ого лечения беременных с заболеваниями внутренних органов в гестационном периоде, в родах и послеродовом период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5786280" y="571680"/>
            <a:ext cx="278640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5857920" y="4357800"/>
            <a:ext cx="2786040" cy="2214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ПРИОБРЕТЕТЕ НАВЫК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6760" y="1714320"/>
            <a:ext cx="5643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клинического мышле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нализа и критического осмысления научной информации и доказа-тельных исследован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равильных взаимо-отношений с пациентами, их родственниками, своими коллегам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аботы в коман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000840" y="2357280"/>
            <a:ext cx="2714400" cy="2857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МЫ ЗА ДЕВИЗ: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ДОРОВАЯ МАТЬ – ЗДОРОВЫЕ ДЕТ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6143760" y="1714680"/>
            <a:ext cx="2214360" cy="166680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642960" y="1857240"/>
            <a:ext cx="2076480" cy="1543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6143760" y="4000680"/>
            <a:ext cx="21430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3" name="Picture 5" descr=""/>
          <p:cNvPicPr/>
          <p:nvPr/>
        </p:nvPicPr>
        <p:blipFill>
          <a:blip r:embed="rId4"/>
          <a:stretch/>
        </p:blipFill>
        <p:spPr>
          <a:xfrm>
            <a:off x="571680" y="3929040"/>
            <a:ext cx="2071440" cy="18241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4" name="Picture 6" descr=""/>
          <p:cNvPicPr/>
          <p:nvPr/>
        </p:nvPicPr>
        <p:blipFill>
          <a:blip r:embed="rId5"/>
          <a:stretch/>
        </p:blipFill>
        <p:spPr>
          <a:xfrm>
            <a:off x="3429000" y="4000680"/>
            <a:ext cx="2019240" cy="172368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pic>
        <p:nvPicPr>
          <p:cNvPr id="425" name="Picture 7" descr=""/>
          <p:cNvPicPr/>
          <p:nvPr/>
        </p:nvPicPr>
        <p:blipFill>
          <a:blip r:embed="rId6"/>
          <a:stretch/>
        </p:blipFill>
        <p:spPr>
          <a:xfrm>
            <a:off x="3429000" y="1785960"/>
            <a:ext cx="1928880" cy="1714320"/>
          </a:xfrm>
          <a:prstGeom prst="rect">
            <a:avLst/>
          </a:prstGeom>
          <a:ln w="9360">
            <a:solidFill>
              <a:srgbClr val="244583"/>
            </a:solidFill>
            <a:miter/>
          </a:ln>
        </p:spPr>
      </p:pic>
      <p:sp>
        <p:nvSpPr>
          <p:cNvPr id="42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9293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ЧТО МЫ ПРЕДЛАГАЕМ И КОМУ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999720"/>
            <a:ext cx="82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Интегрированный элективный модуль «Заболевания внутренних органов у беременных. Беременность и почки» для студентов </a:t>
            </a:r>
            <a:r>
              <a:rPr b="1" lang="en-US" sz="2800" spc="-1" strike="noStrike">
                <a:solidFill>
                  <a:srgbClr val="244583"/>
                </a:solidFill>
                <a:latin typeface="Century Schoolbook"/>
              </a:rPr>
              <a:t>V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курса по специальности «Общая медицина» - 051301 (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всего 13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, из них «Заболевания внутренних органов у беременных» - 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90 часов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(практ. зан. – 60 час, СРС – 30 час)  и «Беременность и почки» -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45 часов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(практ. зан. – 30 час, СРС – 15 час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Направления подготовки: «Врач общей практики», «Терапия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ОЧЕМУ ИХ ВАЖНО ИЗУЧАТЬ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2071440"/>
            <a:ext cx="7472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кстрагенитальные заболевания внутренних органов у беременных могут быть причиной материнской заболеваемости и смертности, повышают риск фетальных осложнений (отслойка плаценты, задержка внутриутробного развития и аномалии развития плода, внутриутробная гибель плода, преждевременные роды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209680" cy="18576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НАША ЦЕЛЬ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13840" y="1356840"/>
            <a:ext cx="40006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формирование знаний и умений по диагностике и лечению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4572000" y="121428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C:\Users\Назипа\Pictures\Кафедра 23.01.10\Кафедра 23.01.10 043 - копия.jpg"/>
          <p:cNvPicPr/>
          <p:nvPr/>
        </p:nvPicPr>
        <p:blipFill>
          <a:blip r:embed="rId2"/>
          <a:stretch/>
        </p:blipFill>
        <p:spPr>
          <a:xfrm>
            <a:off x="4214880" y="3857760"/>
            <a:ext cx="4286160" cy="267012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152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</a:t>
            </a:r>
            <a:r>
              <a:rPr b="1" lang="ru-RU" sz="2500" spc="-1" strike="noStrike" u="sng">
                <a:solidFill>
                  <a:srgbClr val="c00000"/>
                </a:solidFill>
                <a:uFillTx/>
                <a:latin typeface="Century Schoolbook"/>
              </a:rPr>
              <a:t>У БЕРЕМЕННЫХ </a:t>
            </a: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ВЫ БУДЕТЕ ИЗУЧАТЬ? 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99680" y="171468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вичная и вторичная артериальная гипертенз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Врожденные и приобретенные пороки сердц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Аритмии и нарушения проводим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ерипартальная кардиомиопат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Пневмо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ронхиальная аст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Хронический гепати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Ревматоидный артрит и ДБС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КАКИЕ ЗАБОЛЕВАНИЯ ВНУТРЕННИХ ОРГАНОВ У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БЕРЕМЕННЫХ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ВЫ БУДЕТЕ ИЗУЧАТЬ?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8760" y="2214360"/>
            <a:ext cx="8215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Инфекция мочевой систем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Гломерулонефриты и другие хронические болезни поч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Острая и хроническая почечная недостаточность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Диабетическая нефропатия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ПРОЙДЯ ОБУЧЕНИЕ НА НАШЕМ МОДУЛЕ ВЫ БУДЕТЕ ЗНАТЬ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85480" y="1428840"/>
            <a:ext cx="5500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этиологию, патогенез, особенности клинического течения и осложнения заболеваний внутренних органов при беремен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современные клинико-лабораторные и инстру-ментальные исследования у беременных при патологии внутренних орган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5715000" y="1500120"/>
            <a:ext cx="3000240" cy="3500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8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285560"/>
            <a:ext cx="46148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000066"/>
                </a:solidFill>
                <a:latin typeface="Century Schoolbook"/>
              </a:rPr>
              <a:t>противопоказания к беременности и родам при заболеваниях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Schoolbook"/>
              </a:rPr>
              <a:t>риски для матери и плода при наличии заболеваний внутренних органов у беременны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143680" y="1500120"/>
            <a:ext cx="3429000" cy="2357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5072040" y="3929040"/>
            <a:ext cx="3643200" cy="244800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5572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Ы БУДЕТЕ ЗНАТЬ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0040" y="114300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безопасную для беременной и плода фармакотерапию, основанную на международных стандартах и доказательной медицине при патологии внутренних органов в гестационном периоде, в родах и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5715000" y="1000080"/>
            <a:ext cx="2928960" cy="26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5857920" y="3857760"/>
            <a:ext cx="2857320" cy="250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5:36:21Z</dcterms:created>
  <dc:creator>Назипа</dc:creator>
  <dc:description/>
  <dc:language>en-US</dc:language>
  <cp:lastModifiedBy>LEGION</cp:lastModifiedBy>
  <dcterms:modified xsi:type="dcterms:W3CDTF">2014-11-06T13:56:47Z</dcterms:modified>
  <cp:revision>128</cp:revision>
  <dc:subject/>
  <dc:title>Слайд 1</dc:title>
</cp:coreProperties>
</file>