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jpeg" ContentType="image/jpeg"/>
  <Override PartName="/ppt/media/image2.png" ContentType="image/png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jpeg" ContentType="image/jpeg"/>
  <Override PartName="/ppt/media/image14.png" ContentType="image/png"/>
  <Override PartName="/ppt/media/image1.png" ContentType="image/png"/>
  <Override PartName="/ppt/media/image24.png" ContentType="image/png"/>
  <Override PartName="/ppt/media/image3.jpeg" ContentType="image/jpeg"/>
  <Override PartName="/ppt/media/image1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17C8B-80A8-45D6-AD15-C096E6714ACB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50021"/>
                </a:solidFill>
                <a:latin typeface="Calibri"/>
              </a:rPr>
              <a:t>Заболевания внутренних органов у беременных. Беременность и поч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66"/>
                </a:solidFill>
                <a:latin typeface="Calibri"/>
              </a:rPr>
              <a:t>Кафедра внутренних болезней</a:t>
            </a:r>
            <a:r>
              <a:rPr b="0" lang="en-US" sz="12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66"/>
                </a:solidFill>
                <a:latin typeface="Calibri"/>
              </a:rPr>
              <a:t>№2 и курс нефроло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14847-8A37-4BA5-8E5F-7534C42F18E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ВЫ БУДЕТЕ ЗНАТ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632523"/>
                </a:solidFill>
                <a:latin typeface="Calibri"/>
              </a:rPr>
              <a:t>как строить взаимоотношения с беременными, их родственниками, своими коллег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32523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632523"/>
                </a:solidFill>
                <a:latin typeface="Calibri"/>
              </a:rPr>
              <a:t>основные правовые вопросы охраны здоровья матери и ребен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C6AFD-8958-49D1-9E5E-40AB50454D1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ВЫ ОВЛАДЕЕТЕ НАВЫКАМ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244583"/>
                </a:solidFill>
                <a:latin typeface="Calibri"/>
              </a:rPr>
              <a:t>сбора анамнеза у беременной с патологией внутренних орган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44583"/>
                </a:solidFill>
                <a:latin typeface="Calibri"/>
              </a:rPr>
              <a:t>пальпации, перкуссии, аускультации, </a:t>
            </a:r>
            <a:r>
              <a:rPr b="1" lang="ru-RU" sz="1200" spc="-1" strike="noStrike">
                <a:solidFill>
                  <a:srgbClr val="632523"/>
                </a:solidFill>
                <a:latin typeface="Calibri"/>
              </a:rPr>
              <a:t>измерения АД и пульса у беременн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B8617-BDB3-4C25-9A06-CF91F645D35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ВЫ ОВЛАДЕЕТЕ НАВЫКАМ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32523"/>
                </a:solidFill>
                <a:latin typeface="Calibri"/>
              </a:rPr>
              <a:t>выбора безопасных инструментальных методов исследования у беременных с патологией внутренних органов и интерпретации полученных данн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32523"/>
                </a:solidFill>
                <a:latin typeface="Calibri"/>
              </a:rPr>
              <a:t>правильной формулировки диагноза заболевания внутренних органов у беременн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91730-648C-47AE-A8A4-0B5589F55BF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ВЫ ОВЛАДЕЕТЕ НАВЫКАМ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244583"/>
                </a:solidFill>
                <a:latin typeface="Calibri"/>
              </a:rPr>
              <a:t>безопасного лечения беременных с заболеваниями внутренних органов в гестационном периоде, в родах и послеродовом период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50676-85BD-4D56-BB70-DE80B8D1476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ВЫ ПРИОБРЕТЕТЕ НАВЫК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44583"/>
                </a:solidFill>
                <a:latin typeface="Calibri"/>
              </a:rPr>
              <a:t>клинического мышл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44583"/>
                </a:solidFill>
                <a:latin typeface="Calibri"/>
              </a:rPr>
              <a:t>анализа и критического осмысления научной информации и доказа-тельных исследова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32523"/>
                </a:solidFill>
                <a:latin typeface="Calibri"/>
              </a:rPr>
              <a:t>правильных взаимо-отношений с пациентами, их родственниками, своими коллег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44583"/>
                </a:solidFill>
                <a:latin typeface="Calibri"/>
              </a:rPr>
              <a:t>работы в команд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01933-6392-4E8F-969F-C94486A28A1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МЫ ЗА ДЕВИЗ:</a:t>
            </a:r>
            <a:br>
              <a:rPr sz="1200"/>
            </a:b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ЗДОРОВАЯ МАТЬ – ЗДОРОВЫЕ ДЕ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7840B-246C-4DEC-B5EA-C07E7B9D9C7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ЧТО МЫ ПРЕДЛАГАЕМ И КОМУ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44583"/>
                </a:solidFill>
                <a:latin typeface="Calibri"/>
              </a:rPr>
              <a:t>Интегрированный элективный модуль «Заболевания внутренних органов у беременных. Беременность и почки» для студентов </a:t>
            </a:r>
            <a:r>
              <a:rPr b="1" lang="en-US" sz="1200" spc="-1" strike="noStrike">
                <a:solidFill>
                  <a:srgbClr val="244583"/>
                </a:solidFill>
                <a:latin typeface="Calibri"/>
              </a:rPr>
              <a:t>V</a:t>
            </a:r>
            <a:r>
              <a:rPr b="1" lang="ru-RU" sz="1200" spc="-1" strike="noStrike">
                <a:solidFill>
                  <a:srgbClr val="244583"/>
                </a:solidFill>
                <a:latin typeface="Calibri"/>
              </a:rPr>
              <a:t> курса по специальности «Общая медицина» - 051301 (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всего 135 часов</a:t>
            </a:r>
            <a:r>
              <a:rPr b="1" lang="ru-RU" sz="1200" spc="-1" strike="noStrike">
                <a:solidFill>
                  <a:srgbClr val="244583"/>
                </a:solidFill>
                <a:latin typeface="Calibri"/>
              </a:rPr>
              <a:t>, из них «Заболевания внутренних органов у беременных» -  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90 часов </a:t>
            </a:r>
            <a:r>
              <a:rPr b="1" lang="ru-RU" sz="1200" spc="-1" strike="noStrike">
                <a:solidFill>
                  <a:srgbClr val="244583"/>
                </a:solidFill>
                <a:latin typeface="Calibri"/>
              </a:rPr>
              <a:t>(практ. зан. – 60 час, СРС – 30 час)  и «Беременность и почки» - 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45 часов</a:t>
            </a:r>
            <a:r>
              <a:rPr b="1" lang="ru-RU" sz="1200" spc="-1" strike="noStrike">
                <a:solidFill>
                  <a:srgbClr val="244583"/>
                </a:solidFill>
                <a:latin typeface="Calibri"/>
              </a:rPr>
              <a:t> (практ. зан. – 30 час, СРС – 15 час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44583"/>
                </a:solidFill>
                <a:latin typeface="Calibri"/>
              </a:rPr>
              <a:t>Направления подготовки: «Врач общей практики», «Терапия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59312-A2AD-4978-861F-31D074FF738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Calibri"/>
              </a:rPr>
              <a:t>Почему их важно изучать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   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Экстрагенитальные заболевания внутренних органов у беременных могут быть причиной материнской заболеваемости и смертности, повышают риск фетальных осложнений (отслойка плаценты, задержка внутриутробного развития и аномалии развития плода, внутриутробная гибель плода, преждевременные роды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8301A-6C47-4C9C-A81E-D1F98A4EB5C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Calibri"/>
              </a:rPr>
              <a:t>Наша цель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формирование знаний и умений по диагностике и лечению заболеваний внутренних органов у беременн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F3D8A-0F11-4FAE-BD17-9FF95E06978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КАКИЕ ЗАБОЛЕВАНИЯ ВНУТРЕННИХ ОРГАНОВ </a:t>
            </a:r>
            <a:r>
              <a:rPr b="1" lang="ru-RU" sz="1200" spc="-1" strike="noStrike" u="sng">
                <a:solidFill>
                  <a:srgbClr val="c00000"/>
                </a:solidFill>
                <a:uFillTx/>
                <a:latin typeface="Calibri"/>
              </a:rPr>
              <a:t>У БЕРЕМЕННЫХ 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ВЫ БУДЕТЕ ИЗУЧАТЬ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632523"/>
                </a:solidFill>
                <a:latin typeface="Calibri"/>
              </a:rPr>
              <a:t>Первичная и вторичная артериальная гипертенз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32523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632523"/>
                </a:solidFill>
                <a:latin typeface="Calibri"/>
              </a:rPr>
              <a:t>Врожденные и приобретенные пороки сердц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32523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632523"/>
                </a:solidFill>
                <a:latin typeface="Calibri"/>
              </a:rPr>
              <a:t>Аритмии и нарушения проводим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32523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632523"/>
                </a:solidFill>
                <a:latin typeface="Calibri"/>
              </a:rPr>
              <a:t>Перипартальная кардиомиопа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32523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632523"/>
                </a:solidFill>
                <a:latin typeface="Calibri"/>
              </a:rPr>
              <a:t>Пневмо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32523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632523"/>
                </a:solidFill>
                <a:latin typeface="Calibri"/>
              </a:rPr>
              <a:t>Бронхиальная аст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32523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632523"/>
                </a:solidFill>
                <a:latin typeface="Calibri"/>
              </a:rPr>
              <a:t>Хронический гепати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32523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632523"/>
                </a:solidFill>
                <a:latin typeface="Calibri"/>
              </a:rPr>
              <a:t>Ревматоидный артрит и ДБС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2649D-04A7-460A-ABA8-DDB870653FC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КАКИЕ ЗАБОЛЕВАНИЯ ВНУТРЕННИХ ОРГАНОВ У </a:t>
            </a:r>
            <a:r>
              <a:rPr b="1" lang="ru-RU" sz="1200" spc="-1" strike="noStrike" u="sng">
                <a:solidFill>
                  <a:srgbClr val="c00000"/>
                </a:solidFill>
                <a:uFillTx/>
                <a:latin typeface="Calibri"/>
              </a:rPr>
              <a:t>БЕРЕМЕННЫХ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 ВЫ БУДЕТЕ ИЗУЧАТЬ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Инфекция мочевой сист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Гломерулонефриты и другие хронические болезни поче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Острая и хроническая почечная недостаточност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Диабетическая нефропатия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1C4D0-360A-401C-BB66-BC12DE87CF5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ПРОЙДЯ ОБУЧЕНИЕ НА НАШЕМ МОДУЛЕ ВЫ БУДЕТЕ ЗНАТ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этиологию, патогенез, особенности клинического течения и осложнения заболеваний внутренних органов при беремен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современные клинико-лабораторные и инстру-ментальные исследования у беременных при патологии внутренних орган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33BB0-8390-4702-BD01-BAB68804918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ВЫ БУДЕТЕ ЗНАТ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MD" sz="1200" spc="-1" strike="noStrike">
                <a:solidFill>
                  <a:srgbClr val="000066"/>
                </a:solidFill>
                <a:latin typeface="Calibri"/>
              </a:rPr>
              <a:t>противопоказания к беременности и родам при заболеваниях внутренних органов у беременн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риски для матери и плода при наличии заболеваний внутренних органов у беременн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4910A-DC9A-4DD3-A0C5-9A526F22E18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ВЫ БУДЕТЕ ЗНАТ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632523"/>
                </a:solidFill>
                <a:latin typeface="Calibri"/>
              </a:rPr>
              <a:t>безопасную для беременной и плода фармакотерапию, основанную на международных стандартах и доказательной медицине при патологии внутренних органов в гестационном периоде, в родах и послеродовом период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1F81A-B133-483A-96BF-00D14521FE0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948EC-339B-458B-8C09-4F2661CC7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10EAE-1870-49B1-92AA-26150FB07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30920-F682-494F-B00D-0055EB74D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511C3-D420-4BCC-9591-60D28C966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D1B9B-8B60-408E-8C7C-98AEBE199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4B3DB-A418-48B1-9751-3521BAB24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F6148-F7BD-4448-8369-2C7F25045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3AB27-1612-48BE-99A7-F720C2F88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10086-2D36-4854-B382-C786DCCE1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40368-09C4-4F29-889C-0E43DBB15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99F9E-FB85-4851-BF84-FE02028D3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B407E-2920-4AA8-A562-3F629AB02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18AB8-A5FF-4F2B-8C53-C87D0FE4A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EC6D1-AB82-44AC-A452-F083F7FBF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7508D-A886-4070-9348-612970D85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9D9C1-BB0C-4741-9364-1573C7910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A0B15-EA50-44B0-BAE3-CDF49314C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9417F7D-91CB-4B54-9B03-603DA4903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6A3421D-7F15-4D01-81C0-A1AE3D2AF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AF58822-3B67-4F1E-A167-07FFB952E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F619383-25B8-471C-8B13-5CB646776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0F2E9E3-8AA4-4FB8-8FAE-5DD2A0913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ACB50-CB57-4670-92C9-647F919B8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A0B353-8A3D-4CDD-B3D2-A4E28B376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9E4D486-B4B9-497B-94EC-50B8A1EBC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F73575B-D6D7-4B08-8E2D-1BEAF847B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4DA006A-6E44-4AFF-8A82-6372C440C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68AE6E9-64ED-4E3A-B036-FF0724CE5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555C009-CB8E-483F-A1DA-8CDEEBAF9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49A0D52-D98E-4EFF-B2CF-7F587FADE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6209F7-124D-4B37-9F2C-CB3058F27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FB937D-134A-4848-9D00-AF28A75AE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D85EB3-6083-44F9-8F99-DFADDDDE2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43177-27EF-4DEA-A67D-96CDD276E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BCC281-CD71-4895-8C8E-936C5EC89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98563D-0D9C-43BC-8328-62914240E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863110-3C04-4167-A8AE-CD8C088B4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B82C89-4FD4-4938-9129-97DA194E0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B61D6F-7FC0-4C58-AAF1-70EAE5928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C39558-13C3-497B-9819-C95D0B9A5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BADDE9-C597-4B4D-A63A-E192759B7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1AC24D-8516-4502-B311-7DDE05222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964729-E14A-4127-B652-1F2AB5CB5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409F955-F83D-4E58-B030-2FE816E02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B1E96-269D-4D4A-BB2A-0E19B6DB1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6AF83FC-43BE-4706-96E8-511DBDBA0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1AF68D2-6CB4-4CF4-9205-4A29A5475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86821E1-9A64-44B8-87BF-18E92ABB8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6A54203-967C-4043-94CB-3F7B0DB67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0777AF7-B19F-446C-AEFE-8D28A167D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044F4E6-E3EE-496E-887A-44D8C36A4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37837E3-55A3-4099-8443-A32EFBC43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1C35A26-5B95-4C3C-930B-BA548D9E6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18867EB-35A9-479C-AB97-E9C9CD606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DC82528-8570-4E80-A4B1-6B06EC298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F0E4C-91D7-4289-A64B-7E1802680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9ABB684-90B3-4B2F-AA83-38706CDC5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680E62F-70AC-444A-88BB-3E7085C5B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D25928E-345C-4F5B-88F6-F7C7449FE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34FC803-71F0-4013-BAB0-DD1C447A3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02FCDDC-BAEF-47CF-86C7-05735FB66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5FF775E-EFA7-4210-90BD-EBAD8EB41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A18AA2B-4352-4395-820A-7F329C766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E0265A4-2803-4244-9BFC-3A2EA3729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988FCA8-203D-41EC-9C4B-8C6F63EC7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2A1B3C0-AC0F-4810-8F5C-DD7372394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57FC8-C0C9-4506-BFB4-5538626C6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964E6C5-DA9D-4782-A83A-E8155FF71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F8975B9-0C40-4062-96F8-D9D7D3C92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438BF30-ECED-4022-9042-DEC7D2412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3047325-7991-4F05-AC8B-E3EEC5FF5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3BAB044-4CED-45E0-8FB3-F0AB9C7C3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93D265E-ABFF-4186-876C-DBF77E2E5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D69A199-B71B-476A-8E3D-1B8351F51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EC6B6CF-371C-4419-B6C1-629173C88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24172D1-E030-4F34-95C9-023D398E1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5462420-4C01-4E30-9A52-0F378AC7C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0AFE4-10B3-46EB-B370-0644B046F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9F70F24-42E3-4898-A569-0551DEEAA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DFC3FC0-B11E-4BFD-A78D-FBBDB3C30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9AADC2D-BD1F-4478-BA13-B1B7A048A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0280FF4-8EB8-4D26-83CE-1500A636E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62B5826-81FE-4371-AEE2-2E5F81AE9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2EF09-CAAE-44B4-9EA1-89358BA00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3BB89-98E0-40C7-A068-072EFF3DA76C}" type="datetime"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808A4-9C5F-4105-B46C-B59F157552CB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0D757-BE78-4E9D-9FED-138CAE62FD44}" type="datetime"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F6F56-C77B-447A-9DB3-1F4A7C41F033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DECC5-4662-4597-AD0D-23334B9BC76A}" type="datetime"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54E53-084E-43AC-AEC1-57F7D82DFFE7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D5D27-193A-4A05-8E86-77F246AB0823}" type="datetime">
              <a:rPr b="0" lang="ru-RU" sz="1200" spc="-1" strike="noStrike">
                <a:solidFill>
                  <a:srgbClr val="fff39d"/>
                </a:solidFill>
                <a:latin typeface="Century Schoolbook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AEA13-6E9A-45D9-A7EB-5F624E82CC32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D4745-1A31-4D50-9B44-CB5B6D405EF1}" type="datetime"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EA4A4-2E92-4C85-91A9-077221737523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CE3EB-5DAD-45FB-94A7-16E59102E05F}" type="datetime"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94D71-8C45-435E-B1EA-93E07ED1DFAC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AF325-A879-4A93-B907-840E7DB2A330}" type="datetime"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92B48-61BD-4840-B043-AC5A9ADBD998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28400" y="714240"/>
            <a:ext cx="55004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Century Schoolbook"/>
              </a:rPr>
              <a:t>ЗАБОЛЕВАНИЯ ВНУТРЕННИХ ОРГАНОВ У БЕРЕМЕННЫХ. БЕРЕМЕННОСТЬ И ПОЧКИ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2428920" y="4857480"/>
            <a:ext cx="6143760" cy="151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Century Schoolbook"/>
              </a:rPr>
              <a:t>Кафедра внутренних болезней</a:t>
            </a:r>
            <a:r>
              <a:rPr b="1" lang="en-US" sz="3200" spc="-1" strike="noStrike">
                <a:solidFill>
                  <a:srgbClr val="000066"/>
                </a:solidFill>
                <a:latin typeface="Century Schoolbook"/>
              </a:rPr>
              <a:t> </a:t>
            </a:r>
            <a:r>
              <a:rPr b="1" lang="ru-RU" sz="3200" spc="-1" strike="noStrike">
                <a:solidFill>
                  <a:srgbClr val="000066"/>
                </a:solidFill>
                <a:latin typeface="Century Schoolbook"/>
              </a:rPr>
              <a:t>№2 и курс нефрологии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0" name="Picture 4" descr=""/>
          <p:cNvPicPr/>
          <p:nvPr/>
        </p:nvPicPr>
        <p:blipFill>
          <a:blip r:embed="rId1"/>
          <a:stretch/>
        </p:blipFill>
        <p:spPr>
          <a:xfrm>
            <a:off x="6000840" y="642960"/>
            <a:ext cx="2619360" cy="4048200"/>
          </a:xfrm>
          <a:prstGeom prst="rect">
            <a:avLst/>
          </a:prstGeom>
          <a:ln w="0">
            <a:noFill/>
          </a:ln>
        </p:spPr>
      </p:pic>
      <p:sp>
        <p:nvSpPr>
          <p:cNvPr id="361" name="Місце для нижнього колонтитула 2"/>
          <p:cNvSpPr/>
          <p:nvPr/>
        </p:nvSpPr>
        <p:spPr>
          <a:xfrm rot="5400000">
            <a:off x="707652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011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entury Schoolbook"/>
              </a:rPr>
              <a:t>ВЫ БУДЕТЕ ЗНАТЬ:</a:t>
            </a:r>
            <a:endParaRPr b="0" lang="en-US" sz="2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500040" y="1500120"/>
            <a:ext cx="440064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ru-RU" sz="2800" spc="-1" strike="noStrike">
                <a:solidFill>
                  <a:srgbClr val="244583"/>
                </a:solidFill>
                <a:latin typeface="Century Schoolbook"/>
              </a:rPr>
              <a:t>как строить взаимоотношения с беременными, их родственниками, своими коллегами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44583"/>
                </a:solidFill>
                <a:latin typeface="Century Schoolbook"/>
              </a:rPr>
              <a:t> </a:t>
            </a:r>
            <a:r>
              <a:rPr b="1" lang="ru-RU" sz="2800" spc="-1" strike="noStrike">
                <a:solidFill>
                  <a:srgbClr val="244583"/>
                </a:solidFill>
                <a:latin typeface="Century Schoolbook"/>
              </a:rPr>
              <a:t>основные правовые вопросы охраны здоровья матери и ребенка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96" name="Picture 3" descr=""/>
          <p:cNvPicPr/>
          <p:nvPr/>
        </p:nvPicPr>
        <p:blipFill>
          <a:blip r:embed="rId1"/>
          <a:stretch/>
        </p:blipFill>
        <p:spPr>
          <a:xfrm>
            <a:off x="5214960" y="4143240"/>
            <a:ext cx="2571840" cy="207180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  <p:pic>
        <p:nvPicPr>
          <p:cNvPr id="397" name="Picture 4" descr=""/>
          <p:cNvPicPr/>
          <p:nvPr/>
        </p:nvPicPr>
        <p:blipFill>
          <a:blip r:embed="rId2"/>
          <a:stretch/>
        </p:blipFill>
        <p:spPr>
          <a:xfrm>
            <a:off x="5214960" y="1643040"/>
            <a:ext cx="2571840" cy="228600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  <p:sp>
        <p:nvSpPr>
          <p:cNvPr id="398" name="Місце для нижнього колонтитула 1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214200" y="356760"/>
            <a:ext cx="5429520" cy="85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c00000"/>
                </a:solidFill>
                <a:latin typeface="Century Schoolbook"/>
              </a:rPr>
              <a:t>ВЫ ОВЛАДЕЕТЕ НАВЫКАМИ:</a:t>
            </a:r>
            <a:endParaRPr b="0" lang="en-US" sz="25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213840" y="1357200"/>
            <a:ext cx="5357880" cy="29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ru-RU" sz="2800" spc="-1" strike="noStrike">
                <a:solidFill>
                  <a:srgbClr val="244583"/>
                </a:solidFill>
                <a:latin typeface="Century Schoolbook"/>
              </a:rPr>
              <a:t>сбора анамнеза у беременной с патологией внутренних органов;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44583"/>
                </a:solidFill>
                <a:latin typeface="Century Schoolbook"/>
              </a:rPr>
              <a:t>пальпации, перкуссии, аускультации, измерения АД и пульса у беременных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01" name="Picture 2" descr=""/>
          <p:cNvPicPr/>
          <p:nvPr/>
        </p:nvPicPr>
        <p:blipFill>
          <a:blip r:embed="rId1"/>
          <a:stretch/>
        </p:blipFill>
        <p:spPr>
          <a:xfrm>
            <a:off x="5857920" y="285840"/>
            <a:ext cx="2857320" cy="257184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402" name="Picture 2" descr=""/>
          <p:cNvPicPr/>
          <p:nvPr/>
        </p:nvPicPr>
        <p:blipFill>
          <a:blip r:embed="rId2"/>
          <a:stretch/>
        </p:blipFill>
        <p:spPr>
          <a:xfrm>
            <a:off x="5857920" y="2928960"/>
            <a:ext cx="2857320" cy="2214720"/>
          </a:xfrm>
          <a:prstGeom prst="rect">
            <a:avLst/>
          </a:prstGeom>
          <a:ln w="9360">
            <a:solidFill>
              <a:srgbClr val="244583"/>
            </a:solidFill>
            <a:miter/>
          </a:ln>
        </p:spPr>
      </p:pic>
      <p:pic>
        <p:nvPicPr>
          <p:cNvPr id="403" name="Picture 3" descr=""/>
          <p:cNvPicPr/>
          <p:nvPr/>
        </p:nvPicPr>
        <p:blipFill>
          <a:blip r:embed="rId3"/>
          <a:stretch/>
        </p:blipFill>
        <p:spPr>
          <a:xfrm>
            <a:off x="2786040" y="4357800"/>
            <a:ext cx="2857680" cy="2214360"/>
          </a:xfrm>
          <a:prstGeom prst="rect">
            <a:avLst/>
          </a:prstGeom>
          <a:ln w="9360">
            <a:solidFill>
              <a:srgbClr val="244583"/>
            </a:solidFill>
            <a:miter/>
          </a:ln>
        </p:spPr>
      </p:pic>
      <p:sp>
        <p:nvSpPr>
          <p:cNvPr id="404" name="Місце для нижнього колонтитула 1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285560" y="285480"/>
            <a:ext cx="6329160" cy="66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entury Schoolbook"/>
              </a:rPr>
              <a:t>ВЫ ОВЛАДЕЕТЕ НАВЫКАМИ:</a:t>
            </a:r>
            <a:endParaRPr b="0" lang="en-US" sz="2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213840" y="1285560"/>
            <a:ext cx="5643720" cy="53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44583"/>
                </a:solidFill>
                <a:latin typeface="Century Schoolbook"/>
              </a:rPr>
              <a:t>выбора безопасных инструментальных методов исследования у беременных с патологией внутренних органов и интерпретации полученных данных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44583"/>
                </a:solidFill>
                <a:latin typeface="Century Schoolbook"/>
              </a:rPr>
              <a:t>правильной формулировки диагноза заболевания внутренних органов у беременных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07" name="Picture 3" descr=""/>
          <p:cNvPicPr/>
          <p:nvPr/>
        </p:nvPicPr>
        <p:blipFill>
          <a:blip r:embed="rId1"/>
          <a:stretch/>
        </p:blipFill>
        <p:spPr>
          <a:xfrm>
            <a:off x="5929200" y="3786120"/>
            <a:ext cx="2786040" cy="278604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408" name="Picture 2" descr=""/>
          <p:cNvPicPr/>
          <p:nvPr/>
        </p:nvPicPr>
        <p:blipFill>
          <a:blip r:embed="rId2"/>
          <a:stretch/>
        </p:blipFill>
        <p:spPr>
          <a:xfrm>
            <a:off x="6072120" y="1357200"/>
            <a:ext cx="2614680" cy="2143080"/>
          </a:xfrm>
          <a:prstGeom prst="rect">
            <a:avLst/>
          </a:prstGeom>
          <a:ln w="0">
            <a:noFill/>
          </a:ln>
        </p:spPr>
      </p:pic>
      <p:sp>
        <p:nvSpPr>
          <p:cNvPr id="409" name="Місце для нижнього колонтитула 1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71320" y="428400"/>
            <a:ext cx="4857480" cy="1035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entury Schoolbook"/>
              </a:rPr>
              <a:t>ВЫ ОВЛАДЕЕТЕ НАВЫКАМИ:</a:t>
            </a:r>
            <a:endParaRPr b="0" lang="en-US" sz="2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713880" y="1857240"/>
            <a:ext cx="4929480" cy="35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ru-RU" sz="2800" spc="-1" strike="noStrike">
                <a:solidFill>
                  <a:srgbClr val="244583"/>
                </a:solidFill>
                <a:latin typeface="Century Schoolbook"/>
              </a:rPr>
              <a:t>безопасного лечения беременных с заболеваниями внутренних органов в гестационном периоде, в родах и послеродовом периоде;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12" name="Picture 3" descr=""/>
          <p:cNvPicPr/>
          <p:nvPr/>
        </p:nvPicPr>
        <p:blipFill>
          <a:blip r:embed="rId1"/>
          <a:stretch/>
        </p:blipFill>
        <p:spPr>
          <a:xfrm>
            <a:off x="5786280" y="571680"/>
            <a:ext cx="2786400" cy="36432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413" name="Picture 3" descr=""/>
          <p:cNvPicPr/>
          <p:nvPr/>
        </p:nvPicPr>
        <p:blipFill>
          <a:blip r:embed="rId2"/>
          <a:stretch/>
        </p:blipFill>
        <p:spPr>
          <a:xfrm>
            <a:off x="5857920" y="4357800"/>
            <a:ext cx="2786040" cy="221436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  <p:sp>
        <p:nvSpPr>
          <p:cNvPr id="414" name="Місце для нижнього колонтитула 1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entury Schoolbook"/>
              </a:rPr>
              <a:t>ВЫ ПРИОБРЕТЕТЕ НАВЫКИ:</a:t>
            </a:r>
            <a:endParaRPr b="0" lang="en-US" sz="2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356760" y="1714320"/>
            <a:ext cx="564372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44583"/>
                </a:solidFill>
                <a:latin typeface="Century Schoolbook"/>
              </a:rPr>
              <a:t>клинического мышления;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44583"/>
                </a:solidFill>
                <a:latin typeface="Century Schoolbook"/>
              </a:rPr>
              <a:t>анализа и критического осмысления научной информации и доказа-тельных исследований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44583"/>
                </a:solidFill>
                <a:latin typeface="Century Schoolbook"/>
              </a:rPr>
              <a:t>правильных взаимо-отношений с пациентами, их родственниками, своими коллегами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44583"/>
                </a:solidFill>
                <a:latin typeface="Century Schoolbook"/>
              </a:rPr>
              <a:t>работы в команде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17" name="Picture 2" descr=""/>
          <p:cNvPicPr/>
          <p:nvPr/>
        </p:nvPicPr>
        <p:blipFill>
          <a:blip r:embed="rId1"/>
          <a:stretch/>
        </p:blipFill>
        <p:spPr>
          <a:xfrm>
            <a:off x="6000840" y="2357280"/>
            <a:ext cx="2714400" cy="2857680"/>
          </a:xfrm>
          <a:prstGeom prst="rect">
            <a:avLst/>
          </a:prstGeom>
          <a:ln w="9360">
            <a:solidFill>
              <a:srgbClr val="244583"/>
            </a:solidFill>
            <a:miter/>
          </a:ln>
        </p:spPr>
      </p:pic>
      <p:sp>
        <p:nvSpPr>
          <p:cNvPr id="418" name="Місце для нижнього колонтитула 1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entury Schoolbook"/>
              </a:rPr>
              <a:t>МЫ ЗА ДЕВИЗ:</a:t>
            </a:r>
            <a:br>
              <a:rPr sz="2800"/>
            </a:br>
            <a:r>
              <a:rPr b="1" lang="ru-RU" sz="2800" spc="-1" strike="noStrike">
                <a:solidFill>
                  <a:srgbClr val="c00000"/>
                </a:solidFill>
                <a:latin typeface="Century Schoolbook"/>
              </a:rPr>
              <a:t>ЗДОРОВАЯ МАТЬ – ЗДОРОВЫЕ ДЕТИ</a:t>
            </a:r>
            <a:endParaRPr b="0" lang="en-US" sz="28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20" name="Picture 2" descr=""/>
          <p:cNvPicPr/>
          <p:nvPr/>
        </p:nvPicPr>
        <p:blipFill>
          <a:blip r:embed="rId1"/>
          <a:stretch/>
        </p:blipFill>
        <p:spPr>
          <a:xfrm>
            <a:off x="6143760" y="1714680"/>
            <a:ext cx="2214360" cy="1666800"/>
          </a:xfrm>
          <a:prstGeom prst="rect">
            <a:avLst/>
          </a:prstGeom>
          <a:ln w="9360">
            <a:solidFill>
              <a:srgbClr val="244583"/>
            </a:solidFill>
            <a:miter/>
          </a:ln>
        </p:spPr>
      </p:pic>
      <p:pic>
        <p:nvPicPr>
          <p:cNvPr id="421" name="Picture 3" descr=""/>
          <p:cNvPicPr/>
          <p:nvPr/>
        </p:nvPicPr>
        <p:blipFill>
          <a:blip r:embed="rId2"/>
          <a:stretch/>
        </p:blipFill>
        <p:spPr>
          <a:xfrm>
            <a:off x="642960" y="1857240"/>
            <a:ext cx="2076480" cy="1543320"/>
          </a:xfrm>
          <a:prstGeom prst="rect">
            <a:avLst/>
          </a:prstGeom>
          <a:ln w="9360">
            <a:solidFill>
              <a:srgbClr val="244583"/>
            </a:solidFill>
            <a:miter/>
          </a:ln>
        </p:spPr>
      </p:pic>
      <p:pic>
        <p:nvPicPr>
          <p:cNvPr id="422" name="Picture 4" descr=""/>
          <p:cNvPicPr/>
          <p:nvPr/>
        </p:nvPicPr>
        <p:blipFill>
          <a:blip r:embed="rId3"/>
          <a:stretch/>
        </p:blipFill>
        <p:spPr>
          <a:xfrm>
            <a:off x="6143760" y="4000680"/>
            <a:ext cx="2143080" cy="1714320"/>
          </a:xfrm>
          <a:prstGeom prst="rect">
            <a:avLst/>
          </a:prstGeom>
          <a:ln w="9360">
            <a:solidFill>
              <a:srgbClr val="244583"/>
            </a:solidFill>
            <a:miter/>
          </a:ln>
        </p:spPr>
      </p:pic>
      <p:pic>
        <p:nvPicPr>
          <p:cNvPr id="423" name="Picture 5" descr=""/>
          <p:cNvPicPr/>
          <p:nvPr/>
        </p:nvPicPr>
        <p:blipFill>
          <a:blip r:embed="rId4"/>
          <a:stretch/>
        </p:blipFill>
        <p:spPr>
          <a:xfrm>
            <a:off x="571680" y="3929040"/>
            <a:ext cx="2071440" cy="1824120"/>
          </a:xfrm>
          <a:prstGeom prst="rect">
            <a:avLst/>
          </a:prstGeom>
          <a:ln w="9360">
            <a:solidFill>
              <a:srgbClr val="244583"/>
            </a:solidFill>
            <a:miter/>
          </a:ln>
        </p:spPr>
      </p:pic>
      <p:pic>
        <p:nvPicPr>
          <p:cNvPr id="424" name="Picture 6" descr=""/>
          <p:cNvPicPr/>
          <p:nvPr/>
        </p:nvPicPr>
        <p:blipFill>
          <a:blip r:embed="rId5"/>
          <a:stretch/>
        </p:blipFill>
        <p:spPr>
          <a:xfrm>
            <a:off x="3429000" y="4000680"/>
            <a:ext cx="2019240" cy="1723680"/>
          </a:xfrm>
          <a:prstGeom prst="rect">
            <a:avLst/>
          </a:prstGeom>
          <a:ln w="9360">
            <a:solidFill>
              <a:srgbClr val="244583"/>
            </a:solidFill>
            <a:miter/>
          </a:ln>
        </p:spPr>
      </p:pic>
      <p:pic>
        <p:nvPicPr>
          <p:cNvPr id="425" name="Picture 7" descr=""/>
          <p:cNvPicPr/>
          <p:nvPr/>
        </p:nvPicPr>
        <p:blipFill>
          <a:blip r:embed="rId6"/>
          <a:stretch/>
        </p:blipFill>
        <p:spPr>
          <a:xfrm>
            <a:off x="3429000" y="1785960"/>
            <a:ext cx="1928880" cy="1714320"/>
          </a:xfrm>
          <a:prstGeom prst="rect">
            <a:avLst/>
          </a:prstGeom>
          <a:ln w="9360">
            <a:solidFill>
              <a:srgbClr val="244583"/>
            </a:solidFill>
            <a:miter/>
          </a:ln>
        </p:spPr>
      </p:pic>
      <p:sp>
        <p:nvSpPr>
          <p:cNvPr id="426" name="Місце для нижнього колонтитула 1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7929360" cy="71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entury Schoolbook"/>
              </a:rPr>
              <a:t>ЧТО МЫ ПРЕДЛАГАЕМ И КОМУ?</a:t>
            </a:r>
            <a:endParaRPr b="0" lang="en-US" sz="2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456840" y="999720"/>
            <a:ext cx="82580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44583"/>
                </a:solidFill>
                <a:latin typeface="Century Schoolbook"/>
              </a:rPr>
              <a:t>Интегрированный элективный модуль «Заболевания внутренних органов у беременных. Беременность и почки» для студентов </a:t>
            </a:r>
            <a:r>
              <a:rPr b="1" lang="en-US" sz="2800" spc="-1" strike="noStrike">
                <a:solidFill>
                  <a:srgbClr val="244583"/>
                </a:solidFill>
                <a:latin typeface="Century Schoolbook"/>
              </a:rPr>
              <a:t>V</a:t>
            </a:r>
            <a:r>
              <a:rPr b="1" lang="ru-RU" sz="2800" spc="-1" strike="noStrike">
                <a:solidFill>
                  <a:srgbClr val="244583"/>
                </a:solidFill>
                <a:latin typeface="Century Schoolbook"/>
              </a:rPr>
              <a:t> курса по специальности «Общая медицина» - 051301 (</a:t>
            </a:r>
            <a:r>
              <a:rPr b="1" lang="ru-RU" sz="2800" spc="-1" strike="noStrike">
                <a:solidFill>
                  <a:srgbClr val="ff0000"/>
                </a:solidFill>
                <a:latin typeface="Century Schoolbook"/>
              </a:rPr>
              <a:t>всего 135 часов</a:t>
            </a:r>
            <a:r>
              <a:rPr b="1" lang="ru-RU" sz="2800" spc="-1" strike="noStrike">
                <a:solidFill>
                  <a:srgbClr val="244583"/>
                </a:solidFill>
                <a:latin typeface="Century Schoolbook"/>
              </a:rPr>
              <a:t>, из них «Заболевания внутренних органов у беременных» -  </a:t>
            </a:r>
            <a:r>
              <a:rPr b="1" lang="ru-RU" sz="2800" spc="-1" strike="noStrike">
                <a:solidFill>
                  <a:srgbClr val="ff0000"/>
                </a:solidFill>
                <a:latin typeface="Century Schoolbook"/>
              </a:rPr>
              <a:t>90 часов </a:t>
            </a:r>
            <a:r>
              <a:rPr b="1" lang="ru-RU" sz="2800" spc="-1" strike="noStrike">
                <a:solidFill>
                  <a:srgbClr val="244583"/>
                </a:solidFill>
                <a:latin typeface="Century Schoolbook"/>
              </a:rPr>
              <a:t>(практ. зан. – 60 час, СРС – 30 час)  и «Беременность и почки» - </a:t>
            </a:r>
            <a:r>
              <a:rPr b="1" lang="ru-RU" sz="2800" spc="-1" strike="noStrike">
                <a:solidFill>
                  <a:srgbClr val="ff0000"/>
                </a:solidFill>
                <a:latin typeface="Century Schoolbook"/>
              </a:rPr>
              <a:t>45 часов</a:t>
            </a:r>
            <a:r>
              <a:rPr b="1" lang="ru-RU" sz="2800" spc="-1" strike="noStrike">
                <a:solidFill>
                  <a:srgbClr val="244583"/>
                </a:solidFill>
                <a:latin typeface="Century Schoolbook"/>
              </a:rPr>
              <a:t> (практ. зан. – 30 час, СРС – 15 час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44583"/>
                </a:solidFill>
                <a:latin typeface="Century Schoolbook"/>
              </a:rPr>
              <a:t>Направления подготовки: «Врач общей практики», «Терапия»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4" name="Місце для нижнього колонтитула 1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28400" y="642600"/>
            <a:ext cx="5715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entury Schoolbook"/>
              </a:rPr>
              <a:t>ПОЧЕМУ ИХ ВАЖНО ИЗУЧАТЬ?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56840" y="2071440"/>
            <a:ext cx="747252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Century Schoolbook"/>
              </a:rPr>
              <a:t>   </a:t>
            </a:r>
            <a:r>
              <a:rPr b="1" lang="ru-RU" sz="2800" spc="-1" strike="noStrike">
                <a:solidFill>
                  <a:srgbClr val="000066"/>
                </a:solidFill>
                <a:latin typeface="Century Schoolbook"/>
              </a:rPr>
              <a:t>Экстрагенитальные заболевания внутренних органов у беременных могут быть причиной материнской заболеваемости и смертности, повышают риск фетальных осложнений (отслойка плаценты, задержка внутриутробного развития и аномалии развития плода, внутриутробная гибель плода, преждевременные роды)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7" name="Picture 4" descr=""/>
          <p:cNvPicPr/>
          <p:nvPr/>
        </p:nvPicPr>
        <p:blipFill>
          <a:blip r:embed="rId1"/>
          <a:stretch/>
        </p:blipFill>
        <p:spPr>
          <a:xfrm>
            <a:off x="6286680" y="214200"/>
            <a:ext cx="2209680" cy="1857600"/>
          </a:xfrm>
          <a:prstGeom prst="rect">
            <a:avLst/>
          </a:prstGeom>
          <a:ln w="0">
            <a:noFill/>
          </a:ln>
        </p:spPr>
      </p:pic>
      <p:sp>
        <p:nvSpPr>
          <p:cNvPr id="368" name="Місце для нижнього колонтитула 2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entury Schoolbook"/>
              </a:rPr>
              <a:t>НАША ЦЕЛЬ: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213840" y="1356840"/>
            <a:ext cx="4000680" cy="43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entury Schoolbook"/>
              </a:rPr>
              <a:t>формирование знаний и умений по диагностике и лечению заболеваний внутренних органов у беременных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1" name="Picture 7" descr=""/>
          <p:cNvPicPr/>
          <p:nvPr/>
        </p:nvPicPr>
        <p:blipFill>
          <a:blip r:embed="rId1"/>
          <a:stretch/>
        </p:blipFill>
        <p:spPr>
          <a:xfrm>
            <a:off x="4572000" y="1214280"/>
            <a:ext cx="3286080" cy="242892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9" descr="C:\Users\Назипа\Pictures\Кафедра 23.01.10\Кафедра 23.01.10 043 - копия.jpg"/>
          <p:cNvPicPr/>
          <p:nvPr/>
        </p:nvPicPr>
        <p:blipFill>
          <a:blip r:embed="rId2"/>
          <a:stretch/>
        </p:blipFill>
        <p:spPr>
          <a:xfrm>
            <a:off x="4214880" y="3857760"/>
            <a:ext cx="4286160" cy="2670120"/>
          </a:xfrm>
          <a:prstGeom prst="rect">
            <a:avLst/>
          </a:prstGeom>
          <a:ln w="0">
            <a:noFill/>
          </a:ln>
        </p:spPr>
      </p:pic>
      <p:sp>
        <p:nvSpPr>
          <p:cNvPr id="373" name="Місце для нижнього колонтитула 2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00040" y="214200"/>
            <a:ext cx="8215200" cy="1285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c00000"/>
                </a:solidFill>
                <a:latin typeface="Century Schoolbook"/>
              </a:rPr>
              <a:t>КАКИЕ ЗАБОЛЕВАНИЯ ВНУТРЕННИХ ОРГАНОВ </a:t>
            </a:r>
            <a:r>
              <a:rPr b="1" lang="ru-RU" sz="2500" spc="-1" strike="noStrike" u="sng">
                <a:solidFill>
                  <a:srgbClr val="c00000"/>
                </a:solidFill>
                <a:uFillTx/>
                <a:latin typeface="Century Schoolbook"/>
              </a:rPr>
              <a:t>У БЕРЕМЕННЫХ </a:t>
            </a:r>
            <a:r>
              <a:rPr b="1" lang="ru-RU" sz="2500" spc="-1" strike="noStrike">
                <a:solidFill>
                  <a:srgbClr val="c00000"/>
                </a:solidFill>
                <a:latin typeface="Century Schoolbook"/>
              </a:rPr>
              <a:t>ВЫ БУДЕТЕ ИЗУЧАТЬ? </a:t>
            </a:r>
            <a:endParaRPr b="0" lang="en-US" sz="25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499680" y="1714680"/>
            <a:ext cx="828684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ru-RU" sz="2800" spc="-1" strike="noStrike">
                <a:solidFill>
                  <a:srgbClr val="244583"/>
                </a:solidFill>
                <a:latin typeface="Century Schoolbook"/>
              </a:rPr>
              <a:t>Первичная и вторичная артериальная гипертензия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44583"/>
                </a:solidFill>
                <a:latin typeface="Century Schoolbook"/>
              </a:rPr>
              <a:t> </a:t>
            </a:r>
            <a:r>
              <a:rPr b="1" lang="ru-RU" sz="2800" spc="-1" strike="noStrike">
                <a:solidFill>
                  <a:srgbClr val="244583"/>
                </a:solidFill>
                <a:latin typeface="Century Schoolbook"/>
              </a:rPr>
              <a:t>Врожденные и приобретенные пороки сердца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44583"/>
                </a:solidFill>
                <a:latin typeface="Century Schoolbook"/>
              </a:rPr>
              <a:t> </a:t>
            </a:r>
            <a:r>
              <a:rPr b="1" lang="ru-RU" sz="2800" spc="-1" strike="noStrike">
                <a:solidFill>
                  <a:srgbClr val="244583"/>
                </a:solidFill>
                <a:latin typeface="Century Schoolbook"/>
              </a:rPr>
              <a:t>Аритмии и нарушения проводимости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44583"/>
                </a:solidFill>
                <a:latin typeface="Century Schoolbook"/>
              </a:rPr>
              <a:t> </a:t>
            </a:r>
            <a:r>
              <a:rPr b="1" lang="ru-RU" sz="2800" spc="-1" strike="noStrike">
                <a:solidFill>
                  <a:srgbClr val="244583"/>
                </a:solidFill>
                <a:latin typeface="Century Schoolbook"/>
              </a:rPr>
              <a:t>Перипартальная кардиомиопатия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44583"/>
                </a:solidFill>
                <a:latin typeface="Century Schoolbook"/>
              </a:rPr>
              <a:t> </a:t>
            </a:r>
            <a:r>
              <a:rPr b="1" lang="ru-RU" sz="2800" spc="-1" strike="noStrike">
                <a:solidFill>
                  <a:srgbClr val="244583"/>
                </a:solidFill>
                <a:latin typeface="Century Schoolbook"/>
              </a:rPr>
              <a:t>Пневмония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44583"/>
                </a:solidFill>
                <a:latin typeface="Century Schoolbook"/>
              </a:rPr>
              <a:t> </a:t>
            </a:r>
            <a:r>
              <a:rPr b="1" lang="ru-RU" sz="2800" spc="-1" strike="noStrike">
                <a:solidFill>
                  <a:srgbClr val="244583"/>
                </a:solidFill>
                <a:latin typeface="Century Schoolbook"/>
              </a:rPr>
              <a:t>Бронхиальная астма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44583"/>
                </a:solidFill>
                <a:latin typeface="Century Schoolbook"/>
              </a:rPr>
              <a:t> </a:t>
            </a:r>
            <a:r>
              <a:rPr b="1" lang="ru-RU" sz="2800" spc="-1" strike="noStrike">
                <a:solidFill>
                  <a:srgbClr val="244583"/>
                </a:solidFill>
                <a:latin typeface="Century Schoolbook"/>
              </a:rPr>
              <a:t>Хронический гепатит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44583"/>
                </a:solidFill>
                <a:latin typeface="Century Schoolbook"/>
              </a:rPr>
              <a:t> </a:t>
            </a:r>
            <a:r>
              <a:rPr b="1" lang="ru-RU" sz="2800" spc="-1" strike="noStrike">
                <a:solidFill>
                  <a:srgbClr val="244583"/>
                </a:solidFill>
                <a:latin typeface="Century Schoolbook"/>
              </a:rPr>
              <a:t>Ревматоидный артрит и ДБСТ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6" name="Місце для нижнього колонтитула 1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99680" y="213840"/>
            <a:ext cx="7467480" cy="1785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entury Schoolbook"/>
              </a:rPr>
              <a:t>КАКИЕ ЗАБОЛЕВАНИЯ ВНУТРЕННИХ ОРГАНОВ У </a:t>
            </a:r>
            <a:r>
              <a:rPr b="1" lang="ru-RU" sz="2800" spc="-1" strike="noStrike" u="sng">
                <a:solidFill>
                  <a:srgbClr val="c00000"/>
                </a:solidFill>
                <a:uFillTx/>
                <a:latin typeface="Century Schoolbook"/>
              </a:rPr>
              <a:t>БЕРЕМЕННЫХ</a:t>
            </a:r>
            <a:r>
              <a:rPr b="1" lang="ru-RU" sz="2800" spc="-1" strike="noStrike">
                <a:solidFill>
                  <a:srgbClr val="c00000"/>
                </a:solidFill>
                <a:latin typeface="Century Schoolbook"/>
              </a:rPr>
              <a:t> ВЫ БУДЕТЕ ИЗУЧАТЬ? </a:t>
            </a:r>
            <a:endParaRPr b="0" lang="en-US" sz="2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428760" y="2214360"/>
            <a:ext cx="8215200" cy="41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entury Schoolbook"/>
              </a:rPr>
              <a:t> </a:t>
            </a:r>
            <a:r>
              <a:rPr b="1" lang="ru-RU" sz="2800" spc="-1" strike="noStrike">
                <a:solidFill>
                  <a:srgbClr val="000066"/>
                </a:solidFill>
                <a:latin typeface="Century Schoolbook"/>
              </a:rPr>
              <a:t>Инфекция мочевой системы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Century Schoolbook"/>
              </a:rPr>
              <a:t> </a:t>
            </a:r>
            <a:r>
              <a:rPr b="1" lang="ru-RU" sz="2800" spc="-1" strike="noStrike">
                <a:solidFill>
                  <a:srgbClr val="000066"/>
                </a:solidFill>
                <a:latin typeface="Century Schoolbook"/>
              </a:rPr>
              <a:t>Гломерулонефриты и другие хронические болезни почек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Century Schoolbook"/>
              </a:rPr>
              <a:t> </a:t>
            </a:r>
            <a:r>
              <a:rPr b="1" lang="ru-RU" sz="2800" spc="-1" strike="noStrike">
                <a:solidFill>
                  <a:srgbClr val="000066"/>
                </a:solidFill>
                <a:latin typeface="Century Schoolbook"/>
              </a:rPr>
              <a:t>Острая и хроническая почечная недостаточность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Century Schoolbook"/>
              </a:rPr>
              <a:t> </a:t>
            </a:r>
            <a:r>
              <a:rPr b="1" lang="ru-RU" sz="2800" spc="-1" strike="noStrike">
                <a:solidFill>
                  <a:srgbClr val="000066"/>
                </a:solidFill>
                <a:latin typeface="Century Schoolbook"/>
              </a:rPr>
              <a:t>Диабетическая нефропатия 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9" name="Місце для нижнього колонтитула 1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939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c00000"/>
                </a:solidFill>
                <a:latin typeface="Century Schoolbook"/>
              </a:rPr>
              <a:t>ПРОЙДЯ ОБУЧЕНИЕ НА НАШЕМ МОДУЛЕ ВЫ БУДЕТЕ ЗНАТЬ:</a:t>
            </a:r>
            <a:endParaRPr b="0" lang="en-US" sz="25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285480" y="1428840"/>
            <a:ext cx="550044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ru-RU" sz="2800" spc="-1" strike="noStrike">
                <a:solidFill>
                  <a:srgbClr val="000066"/>
                </a:solidFill>
                <a:latin typeface="Century Schoolbook"/>
              </a:rPr>
              <a:t>этиологию, патогенез, особенности клинического течения и осложнения заболеваний внутренних органов при беременности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entury Schoolbook"/>
              </a:rPr>
              <a:t> </a:t>
            </a:r>
            <a:r>
              <a:rPr b="1" lang="ru-RU" sz="2800" spc="-1" strike="noStrike">
                <a:solidFill>
                  <a:srgbClr val="000066"/>
                </a:solidFill>
                <a:latin typeface="Century Schoolbook"/>
              </a:rPr>
              <a:t>современные клинико-лабораторные и инстру-ментальные исследования у беременных при патологии внутренних органов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2" name="Picture 5" descr=""/>
          <p:cNvPicPr/>
          <p:nvPr/>
        </p:nvPicPr>
        <p:blipFill>
          <a:blip r:embed="rId1"/>
          <a:stretch/>
        </p:blipFill>
        <p:spPr>
          <a:xfrm>
            <a:off x="5715000" y="1500120"/>
            <a:ext cx="3000240" cy="350064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  <p:sp>
        <p:nvSpPr>
          <p:cNvPr id="383" name="Місце для нижнього колонтитула 1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entury Schoolbook"/>
              </a:rPr>
              <a:t>ВЫ БУДЕТЕ ЗНАТЬ:</a:t>
            </a:r>
            <a:endParaRPr b="0" lang="en-US" sz="2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56840" y="1285560"/>
            <a:ext cx="461484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MD" sz="2800" spc="-1" strike="noStrike">
                <a:solidFill>
                  <a:srgbClr val="000066"/>
                </a:solidFill>
                <a:latin typeface="Century Schoolbook"/>
              </a:rPr>
              <a:t>противопоказания к беременности и родам при заболеваниях внутренних органов у беременных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entury Schoolbook"/>
              </a:rPr>
              <a:t>риски для матери и плода при наличии заболеваний внутренних органов у беременных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6" name="Picture 3" descr=""/>
          <p:cNvPicPr/>
          <p:nvPr/>
        </p:nvPicPr>
        <p:blipFill>
          <a:blip r:embed="rId1"/>
          <a:stretch/>
        </p:blipFill>
        <p:spPr>
          <a:xfrm>
            <a:off x="5143680" y="1500120"/>
            <a:ext cx="3429000" cy="2357640"/>
          </a:xfrm>
          <a:prstGeom prst="rect">
            <a:avLst/>
          </a:prstGeom>
          <a:ln w="12600">
            <a:solidFill>
              <a:srgbClr val="ff0000"/>
            </a:solidFill>
            <a:miter/>
          </a:ln>
        </p:spPr>
      </p:pic>
      <p:pic>
        <p:nvPicPr>
          <p:cNvPr id="387" name="Picture 4" descr=""/>
          <p:cNvPicPr/>
          <p:nvPr/>
        </p:nvPicPr>
        <p:blipFill>
          <a:blip r:embed="rId2"/>
          <a:stretch/>
        </p:blipFill>
        <p:spPr>
          <a:xfrm>
            <a:off x="5072040" y="3929040"/>
            <a:ext cx="3643200" cy="2448000"/>
          </a:xfrm>
          <a:prstGeom prst="rect">
            <a:avLst/>
          </a:prstGeom>
          <a:ln w="0">
            <a:noFill/>
          </a:ln>
        </p:spPr>
      </p:pic>
      <p:sp>
        <p:nvSpPr>
          <p:cNvPr id="388" name="Місце для нижнього колонтитула 1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500040" y="142560"/>
            <a:ext cx="5572080" cy="785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entury Schoolbook"/>
              </a:rPr>
              <a:t>ВЫ БУДЕТЕ ЗНАТЬ:</a:t>
            </a:r>
            <a:endParaRPr b="0" lang="en-US" sz="2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500040" y="1143000"/>
            <a:ext cx="521496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ru-RU" sz="2800" spc="-1" strike="noStrike">
                <a:solidFill>
                  <a:srgbClr val="244583"/>
                </a:solidFill>
                <a:latin typeface="Century Schoolbook"/>
              </a:rPr>
              <a:t>безопасную для беременной и плода фармакотерапию, основанную на международных стандартах и доказательной медицине при патологии внутренних органов в гестационном периоде, в родах и послеродовом периоде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91" name="Picture 4" descr=""/>
          <p:cNvPicPr/>
          <p:nvPr/>
        </p:nvPicPr>
        <p:blipFill>
          <a:blip r:embed="rId1"/>
          <a:stretch/>
        </p:blipFill>
        <p:spPr>
          <a:xfrm>
            <a:off x="5715000" y="1000080"/>
            <a:ext cx="2928960" cy="264312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392" name="Picture 6" descr=""/>
          <p:cNvPicPr/>
          <p:nvPr/>
        </p:nvPicPr>
        <p:blipFill>
          <a:blip r:embed="rId2"/>
          <a:stretch/>
        </p:blipFill>
        <p:spPr>
          <a:xfrm>
            <a:off x="5857920" y="3857760"/>
            <a:ext cx="2857320" cy="25002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393" name="Місце для нижнього колонтитула 1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7T05:36:21Z</dcterms:created>
  <dc:creator>Назипа</dc:creator>
  <dc:description/>
  <dc:language>en-US</dc:language>
  <cp:lastModifiedBy>LEGION</cp:lastModifiedBy>
  <dcterms:modified xsi:type="dcterms:W3CDTF">2014-11-06T13:56:47Z</dcterms:modified>
  <cp:revision>128</cp:revision>
  <dc:subject/>
  <dc:title>Слайд 1</dc:title>
</cp:coreProperties>
</file>