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BC224-E51F-45BB-87B6-1F6F904C644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hyperlink" Target="file:///../../&#1055;&#1088;&#1080;&#1084;&#1077;&#1088;&#1085;&#1099;&#1077;%20&#1079;&#1072;&#1076;&#1072;&#1085;&#1080;&#1103;%20&#1076;&#1083;&#1103;%20&#1091;&#1095;&#1072;&#1097;&#1080;&#1093;&#1089;&#1103;%20&#1088;&#1072;&#1079;&#1085;&#1086;&#1081;%20&#1089;&#1090;&#1077;&#1087;&#1077;&#1085;&#1080;%20&#1091;&#1089;&#1087;&#1077;&#1074;&#1072;&#1077;&#1084;&#1086;&#1089;&#1090;&#1080;.pptx" TargetMode="External"/><Relationship Id="rId2" Type="http://schemas.openxmlformats.org/officeDocument/2006/relationships/slide" Target="../slides/slide12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Развитие познавательного интереса учащихся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через индивидуальную работу по географии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во внеурочное время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рсовая работа учителя ге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нная презентация была создана на основе курсовой работы для обеспечения наглядности выступления учителя географии в рамках прохождения учителями естественнонаучных предметов курсовой переподготовки с марта по ноябрь 2008 г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фии МОУ лицея № 10 города Советска Калининградской области Ширшонковой Елены Нколаев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465C5-8D4F-495B-BBF4-DE1C8D14C11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люче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им образом, развитие познавательной деятельности можно определить как личностное свойство, которое приобретается, закрепляется и развивается в организованном процессе познания с учетом индивидуальных и возрастных особенностей учащих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основным показателям познавательной активности можно отнест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бильнос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лежа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знанность уч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ворческие проявл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едение в нестандартных учебных ситуациях; самостоятельность в принятии ре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AEE3B-F8F3-4440-A5EB-A3ED74BED5E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тератур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н А.А. приемы педагогической техники: Свобода выбора. Открытость. Деятельность. Обратная связь. Идеальность: Пособие для учителя – М.: Вита – Пресс, 200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дагогические технологии: Учебное пособие /Авт.-сост. Т.П. Сальникова. – М.: ТЦ Сфера, 2008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ротин В.И. Система географических заданий и упражнений как необходимое условие реализации деятельностного подхода при обучении географии. – М.: «География в школе» № 2/2003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ременный урок географии: Методическое разработки уроков / Сост. И.И. Баринова. – М.: Школа – Пресс, 2000 («География в школе». Библиотека журнала. Вып. 3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festival.1september/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FD973-ABB3-454F-924E-4DAFDCC5D49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лож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СОБЕННОСТИ ЛИЧНОСТНО – ОРИЕНТИРОВАННОГО УРО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МАТИЧЕСКОЕ ПЛАНИРОВАНИЕ ИНДИВИДУАЛЬНОЙ РАБОТЫ ПО  ГЕОГРАФИИ ( первое полугодие)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МАТИЧЕСКОЕ ПЛАНИРОВАНИЕ ИНДИВИДУАЛЬНОЙ РАБОТЫ ПО  ГЕОГРАФИИ ( второе полугодие)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МЕРНЫЕ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ЗАДАНИЯ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ДЛЯ УЧАЩИХСЯ РАЗНОЙ СТЕПЕНИ СЛОЖ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ЗУЛЬТАТЫ  ИНДИВИДУАЛЬНОЙ РАБОТЫ ПО ГЕОГРАФИИ С 2005 ГОДА  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                              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95AF8-0623-4EDA-BD0D-B2683E785D8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Е ПОЗНАВАТЕЛЬНОГО ИНТЕРЕСА УЧАЩИХС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ЧЕРЕЗ ИНДИВИДУАЛЬНУЮ РАБОТУ ПО ГЕОГРАФИ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ВО ВНЕУРОЧНОЕ ВРЕМЯ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астоящее время информационное общество ставит перед школой задачу подготовки социально ориентированных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ыпускников, которые должны уме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иентироваться в меняющихся жизненных ситуациях, самостоятельно приобретая знания, применяя их на практик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тически мыслить и находить пути решения возникающих пробле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меть работать с информаци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вать свой интеллектуальный и культурный уровен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Цель работы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казать, что развивать познавательный интерес учащихся возможно не только на уроках географии, но и во внеурочное время через индивидуальные занят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37836-CD26-428D-B4D1-6B36017F413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РАЗВИТИЕ ПОЗНАВАТЕЛЬНОГО ИНТЕРЕСА УЧАЩИХСЯ</a:t>
            </a: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К ГЕОГРАФИИ ЧЕРЕЗ ИСПОЛЬЗОВАНИЕ</a:t>
            </a: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 СОВРЕМЕННЫХ ПЕДАГОГИЧЕСКИХ ТЕХНОЛОГИ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е познавательного интереса к предмету возможно через использование современных педагогических технологий, в том числе через личностно-ориентированное обучение, инновационные и игровые технолог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чностно-ориентированные технологии ставят в центр всей образовательной системы личность обучаемого, обеспечение комфортных, бесконфликтных условий ее развития, реализацию ее природных потенциалов. Ученик при этом – цель образовательной системы, а не средство достижения чего-либо отвлеченн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6E32E-C279-4B44-93BA-26BD2CF4E77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шое значение в повышении качества географического образования играет умение учителя географии организовать учебную деятельность учащихся по практическому применению имеющихся у них теоретических знаний и самостоятельному получению из различных источников знаний, необходимых им для решения поставленных учебных задач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ализация деятельностного подхода в процессе преподавания географии позволяет добиться высокого качества географического образования и подготовить учащихся к использованию своих географических знаний в реальной жизни и практической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B18F4-8871-4DA9-BF70-0BDCD09A75B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РАЗВИТИЕ ПОЗНАВАТЕЛЬНОГО ИНТЕРЕСА УЧАЩИХСЯ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ЧЕРЕЗ ИНДИВИДУАЛЬНУЮ РАБОТУ  ПО  ГЕОГРАФИИ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ВО ВНЕУРОЧНОЕ ВРЕМЯ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истеме современной школы география – единственный предмет, формирующий у школьника комплексное и социально-ориентированное представление о Земле как о планете люд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ние географии – не только общая культура, но и практические умения, необходимые для жизн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ывая особенности современного этапа образования, необходимо целенаправленно активизировать познавательную и мыслительную деятельность учащихся. Этому способствуют универсальные методические приемы и инновационные технологии, которые можно с успехом использовать, как на уроке, так и во внеурочное врем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4A43A-6747-4EA9-9E3B-0B335A2D6F2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уальные дополнительные занятия, часы для которых выделяются Администрацией лицея, имеют своей целью не только развить интерес к предмету у учащихся разного уровня подготовленности, но и подготовку учащихся МОУ лицея № 10 к городским и областным олимпиадам и к городской научно – практической конференции.             Рациональное тематическое планирование позволяет определить основные вопросы каждой темы, наметить наиболее приемлемые для данной темы типы зада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385B4-94DC-4E63-9585-37045F948CF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бирая дидактический материал для каждого занятия, я стараюсь учитывать множество факторов, но в первую очередь индивидуальность каждого учащегося. Часы дополнительного индивидуального обучения способствуют установлению доброжелательного межличностного взаимодействия между учителем и учеником. На этих занятиях учащиеся активно высказываются по обсуждаемой теме, предлагают свои варианты, даже если они отличны от мнения учителя. Обсуждая, все вместе коллективно приходим к общему выводу или решению какой-либо проблемы. При использовании современных технологий, учитель, должен обязательно владеть и смежной профессией – профессией психоло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57C2B-DD97-4C0F-B695-98FE5E8995E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подготовке индивидуальных занятий учитывается не только количество материала, который может преподнести учитель, но и необходимость развивать у учащихся вкус к исследовательской деятельности, склонность к выполнению задания повышенной трудности, способность мыслить творчески, логически, и укреплять уверенность учащихся в своих силах. Важным аспектом является научить школьников работать самостоятельно, не бояться делать собственные выв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44B37-2F43-4AAF-AEA0-A55965D1934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 активных методов обучения приводит к изменению привычных форм общения между учителем и учеником. Современные педагогические технологии позволяют каждому ученику принять участие в подготовке и проведении занятия, выступить на каком-то этапе в роли учител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гласованная и обоснованная система уроков и дополнительных индивидуальных занятий по географии – важный фактор развития познавательного интереса к предмету, усвоения географической картины мира и развития личности учащих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568A5-7BBD-473E-8D38-0FB2CF6FDAE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8D70-497F-4A9B-8F13-A03388717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9123-D9EE-4498-A281-B3DC3A7ED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0720-F5DB-4800-BED0-2C267A8BD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4649-6DA9-4F26-B499-5E5244AEF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4DD9-C978-4ABC-8B20-EAF2E575F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90D6-512F-4FC2-8680-809A1D2CE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7A11-5762-4FFE-8BB2-0669134B9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5A4B-5269-4919-9AE7-18F27C4D7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5817-39C0-4139-BCC7-D4D28D6C3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C41B-89B9-4DF6-8C2D-4A54AA4A6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261E-E960-4D5B-8B0C-AABAFCB4D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4E6C-B975-4CBE-8DF5-0286B2B21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71C2B-BFFC-4D1C-B008-7A756151ACAF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318BD-F975-43EE-B7D8-F2B2D975775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../../&#1055;&#1088;&#1080;&#1084;&#1077;&#1088;&#1085;&#1099;&#1077;%20&#1079;&#1072;&#1076;&#1072;&#1085;&#1080;&#1103;%20&#1076;&#1083;&#1103;%20&#1091;&#1095;&#1072;&#1097;&#1080;&#1093;&#1089;&#1103;%20&#1088;&#1072;&#1079;&#1085;&#1086;&#1081;%20&#1089;&#1090;&#1077;&#1087;&#1077;&#1085;&#1080;%20&#1091;&#1089;&#1087;&#1077;&#1074;&#1072;&#1077;&#1084;&#1086;&#1089;&#1090;&#1080;.pptx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звитие познавательного интереса учащихся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через индивидуальную работу по географии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во внеурочное врем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0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Курсовая работа учителя географии МОУ лицея № 10 города Советска Калининградской области Ширшонковой Елены Нколаевн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98989"/>
                </a:solidFill>
                <a:latin typeface="Calibri"/>
              </a:rPr>
              <a:t>Данная презентация была создана на основе курсовой работы для обеспечения наглядности выступления учителя географии в рамках прохождения учителями естественнонаучных предметов курсовой переподготовки с марта по ноябрь 2008 год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ключение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аким образом, развитие познавательной деятельности можно определить как личностное свойство, которое приобретается, закрепляется и развивается в организованном процессе познания с учетом индивидуальных и возрастных особенностей учащихс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 основным показателям познавательной активности можно отнест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абильность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лежани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сознанность учени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ворческие проявлени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ведение в нестандартных учебных ситуациях; самостоятельность в принятии решен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Литератур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Гин А.А. приемы педагогической техники: Свобода выбора. Открытость. Деятельность. Обратная связь. Идеальность: Пособие для учителя – М.: Вита – Пресс, 2004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едагогические технологии: Учебное пособие /Авт.-сост. Т.П. Сальникова. – М.: ТЦ Сфера, 2008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иротин В.И. Система географических заданий и упражнений как необходимое условие реализации деятельностного подхода при обучении географии. – М.: «География в школе» № 2/2003 г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овременный урок географии: Методическое разработки уроков / Сост. И.И. Баринова. – М.: Школа – Пресс, 2000 («География в школе». Библиотека журнала. Вып. 3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ttp:/festival.1september/ru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иложения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СОБЕННОСТИ ЛИЧНОСТНО – ОРИЕНТИРОВАННОГО УРОК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ТЕМАТИЧЕСКОЕ ПЛАНИРОВАНИЕ ИНДИВИДУАЛЬНОЙ РАБОТЫ ПО  ГЕОГРАФИИ ( первое полугодие)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ТЕМАТИЧЕСКОЕ ПЛАНИРОВАНИЕ ИНДИВИДУАЛЬНОЙ РАБОТЫ ПО  ГЕОГРАФИИ ( второе полугодие)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ИМЕРНЫЕ 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ЗАДАНИЯ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ДЛЯ УЧАЩИХСЯ РАЗНОЙ СТЕПЕНИ СЛОЖН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ЕЗУЛЬТАТЫ  ИНДИВИДУАЛЬНОЙ РАБОТЫ ПО ГЕОГРАФИИ С 2005 ГОДА 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                      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ЗВИТИЕ ПОЗНАВАТЕЛЬНОГО ИНТЕРЕСА УЧАЩИХСЯ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ЧЕРЕЗ ИНДИВИДУАЛЬНУЮ РАБОТУ ПО ГЕОГРАФИИ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ВО ВНЕУРОЧНОЕ ВРЕМЯ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59984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настоящее время информационное общество ставит перед школой задачу подготовки социально ориентированных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ыпускников, которые должны уметь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риентироваться в меняющихся жизненных ситуациях, самостоятельно приобретая знания, применяя их на практик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ритически мыслить и находить пути решения возникающих проблем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меть работать с информацие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звивать свой интеллектуальный и культурный уровен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Цель работы: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оказать, что развивать познавательный интерес учащихся возможно не только на уроках географии, но и во внеурочное время через индивидуальные занят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ЗВИТИЕ ПОЗНАВАТЕЛЬНОГО ИНТЕРЕСА УЧАЩИХСЯ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К ГЕОГРАФИИ ЧЕРЕЗ ИСПОЛЬЗОВАНИЕ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СОВРЕМЕННЫХ ПЕДАГОГИЧЕСКИХ ТЕХНОЛОГ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Развитие познавательного интереса к предмету возможно через использование современных педагогических технологий, в том числе через личностно-ориентированное обучение, инновационные и игровые технологии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Личностно-ориентированные технологии ставят в центр всей образовательной системы личность обучаемого, обеспечение комфортных, бесконфликтных условий ее развития, реализацию ее природных потенциалов. Ученик при этом – цель образовательной системы, а не средство достижения чего-либо отвлеченного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Большое значение в повышении качества географического образования играет умение учителя географии организовать учебную деятельность учащихся по практическому применению имеющихся у них теоретических знаний и самостоятельному получению из различных источников знаний, необходимых им для решения поставленных учебных задач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Реализация деятельностного подхода в процессе преподавания географии позволяет добиться высокого качества географического образования и подготовить учащихся к использованию своих географических знаний в реальной жизни и практической деятельности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ЗВИТИЕ ПОЗНАВАТЕЛЬНОГО ИНТЕРЕСА УЧАЩИХСЯ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ЧЕРЕЗ ИНДИВИДУАЛЬНУЮ РАБОТУ  ПО  ГЕОГРАФИИ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ВО ВНЕУРОЧНОЕ ВРЕМ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В системе современной школы география – единственный предмет, формирующий у школьника комплексное и социально-ориентированное представление о Земле как о планете людей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Знание географии – не только общая культура, но и практические умения, необходимые для жизни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Учитывая особенности современного этапа образования, необходимо целенаправленно активизировать познавательную и мыслительную деятельность учащихся. Этому способствуют универсальные методические приемы и инновационные технологии, которые можно с успехом использовать, как на уроке, так и во внеурочное время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Индивидуальные дополнительные занятия, часы для которых выделяются Администрацией лицея, имеют своей целью не только развить интерес к предмету у учащихся разного уровня подготовленности, но и подготовку учащихся МОУ лицея № 10 к городским и областным олимпиадам и к городской научно – практической конференции.             Рациональное тематическое планирование позволяет определить основные вопросы каждой темы, наметить наиболее приемлемые для данной темы типы заданий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одбирая дидактический материал для каждого занятия, я стараюсь учитывать множество факторов, но в первую очередь индивидуальность каждого учащегося. Часы дополнительного индивидуального обучения способствуют установлению доброжелательного межличностного взаимодействия между учителем и учеником. На этих занятиях учащиеся активно высказываются по обсуждаемой теме, предлагают свои варианты, даже если они отличны от мнения учителя. Обсуждая, все вместе коллективно приходим к общему выводу или решению какой-либо проблемы. При использовании современных технологий, учитель, должен обязательно владеть и смежной профессией – профессией психолога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ри подготовке индивидуальных занятий учитывается не только количество материала, который может преподнести учитель, но и необходимость развивать у учащихся вкус к исследовательской деятельности, склонность к выполнению задания повышенной трудности, способность мыслить творчески, логически, и укреплять уверенность учащихся в своих силах. Важным аспектом является научить школьников работать самостоятельно, не бояться делать собственные выводы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Использование активных методов обучения приводит к изменению привычных форм общения между учителем и учеником. Современные педагогические технологии позволяют каждому ученику принять участие в подготовке и проведении занятия, выступить на каком-то этапе в роли учителя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Согласованная и обоснованная система уроков и дополнительных индивидуальных занятий по географии – важный фактор развития познавательного интереса к предмету, усвоения географической картины мира и развития личности учащихся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4T05:09:39Z</dcterms:created>
  <dc:creator>user</dc:creator>
  <dc:description/>
  <dc:language>en-US</dc:language>
  <cp:lastModifiedBy>LEGION</cp:lastModifiedBy>
  <dcterms:modified xsi:type="dcterms:W3CDTF">2014-12-29T09:16:36Z</dcterms:modified>
  <cp:revision>11</cp:revision>
  <dc:subject/>
  <dc:title>РАЗВИТИЕ ПОЗНАВАТЕЛЬНОГО ИНТЕРЕСА УЧАЩИХСЯ   ЧЕРЕЗ ИНДИВИДУАЛЬНУЮ РАБОТУ ПО ГЕОГРАФИИ    ВО ВНЕУРОЧНОЕ ВРЕМЯ</dc:title>
</cp:coreProperties>
</file>