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13F1-F514-4058-AA4E-035EFB942D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 учителя г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фии МОУ лицея № 10 города Советска Калининградской области Ширшонковой Елены Нколаев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1B05-5F34-4EB0-AD07-61F5736FC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584A-5657-47FA-9741-D39AEC09E0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A15E-44DA-4BF1-A9C8-CCFD943DB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5BF5-A34E-4A90-B5AE-F83157F801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E9D7-8348-4C8B-AD99-B4527BC480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29A5-F5C6-430E-961E-732DBDBD9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76DD-A776-4D02-BEB4-A81B73884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481E-7ABB-4E6A-AEF4-3996092947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2CE2-44BA-4FF7-9E4E-07A8A0B5AD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3E12-10D6-45B3-BF71-9AEF0B6EA6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223-7C58-4C41-88CD-E9FE28CE2E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74FE-4501-4AF1-91B5-2F2F676B1E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219-861A-440A-A11E-7252241E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61B-2C7A-44A8-A9D0-D148514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F9B-239A-41C6-A8E9-4AB9779E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5A5-2B49-4DD0-B95E-E3A917EF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804-6C7F-467D-A123-188385DB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068-62CC-40E5-8DA7-1CFE7223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456-4FA2-4F14-B36C-0ABBDBB5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525-4BB4-4715-BCC7-23128C2F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3D4-0F56-493E-8A26-DFAE6FC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F78-EA7C-468F-90C2-9F9BDD6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2BF-E345-440B-893F-F41E25E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4A1-A633-4CC8-9198-26CD3F1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567F-3356-449D-B17B-F5FAE809E4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9FC-2F08-49C7-94A3-AB42DDD09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урсовая работа учителя географии МОУ лицея № 10 города Советска Калининградской области Ширшонковой Елены Нкола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9:39Z</dcterms:created>
  <dc:creator>user</dc:creator>
  <dc:description/>
  <dc:language>en-US</dc:language>
  <cp:lastModifiedBy>LEGION</cp:lastModifiedBy>
  <dcterms:modified xsi:type="dcterms:W3CDTF">2014-12-29T09:16:36Z</dcterms:modified>
  <cp:revision>11</cp:revision>
  <dc:subject/>
  <dc:title>РАЗВИТИЕ ПОЗНАВАТЕЛЬНОГО ИНТЕРЕСА УЧАЩИХСЯ   ЧЕРЕЗ ИНДИВИДУАЛЬНУЮ РАБОТУ ПО ГЕОГРАФИИ    ВО ВНЕУРОЧНОЕ ВРЕМЯ</dc:title>
</cp:coreProperties>
</file>