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089C-31E6-4B02-B1EE-FF2FB93577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 учителя г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фии МОУ лицея № 10 города Советска Калининградской области Ширшонковой Елены Нколаев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09BE-BAD2-4871-8CD9-EC843CFDBF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7471-D956-4B3D-B09E-82DF5DBE10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3A3E-D004-4AF7-AA05-7F14B40199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469A-EAF4-488E-BA36-F60BEFB939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911C-636C-4283-B7F0-40DFE1DCCD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DBBB-D0F1-4089-B102-EBC8AB98AA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C3B2-3D0A-4695-9C27-6DBBAD468F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F35E-919C-4F10-A343-B26B0166C2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A771-F613-423E-AEB6-C168A0D974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45A6-8CAB-43F6-AB45-F913367ACA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5AEC-F06F-4396-9683-49902E006E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7044-2180-48A2-A759-188E1253B9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3F8-CA38-4A5A-A3C2-25816259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653-76E5-490E-BE72-980CAD16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C3F-0E37-40AE-A562-9B280245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EF8-5732-4012-AD3A-F8C466B6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2E6-7D80-462F-9D0A-FED89F70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262-D51F-4D71-B9F0-1255DA7A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708-CB77-42B5-9BF2-2BA2762A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6FA-9251-425C-A85E-01BE730A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740-617E-4387-8DE1-78BB6FE9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3FD-65CC-45ED-A9AC-6492645D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197-3A91-4741-91A1-8C7A8111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725-6550-435F-B050-D01760C2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2926-BBA5-4823-8A92-47478C8C8A5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36FD-A59C-42ED-92B6-A7D08A3F1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урсовая работа учителя географии МОУ лицея № 10 города Советска Калининградской области Ширшонковой Елены Нколае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5:09:39Z</dcterms:created>
  <dc:creator>user</dc:creator>
  <dc:description/>
  <dc:language>en-US</dc:language>
  <cp:lastModifiedBy>LEGION</cp:lastModifiedBy>
  <dcterms:modified xsi:type="dcterms:W3CDTF">2014-12-29T09:16:36Z</dcterms:modified>
  <cp:revision>11</cp:revision>
  <dc:subject/>
  <dc:title>РАЗВИТИЕ ПОЗНАВАТЕЛЬНОГО ИНТЕРЕСА УЧАЩИХСЯ   ЧЕРЕЗ ИНДИВИДУАЛЬНУЮ РАБОТУ ПО ГЕОГРАФИИ    ВО ВНЕУРОЧНОЕ ВРЕМЯ</dc:title>
</cp:coreProperties>
</file>