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334B-4798-48F9-B372-410BAFD79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20EC-3EF4-4DF5-BDCC-D58A412B17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содержания учебников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B56B-2C07-4E38-92A3-69D4250302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вышли на су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рия Земли и жизни на ней – знакомство с самыми главными событ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ед, в прошл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появилась на свет наша пла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оисходит  в недрах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уда на Земле вода и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вращения горны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менялась поверхность наше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читают палеонтологическую лет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и почему живые существа изме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ки и потом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да и как появилась жизнь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заре жизни: мир микроорганиз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перестали быть микроскопическ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живые организмы обзавелись скел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знь в древних мор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6A2E-9D5A-465C-83A7-53487ACB5B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1. География древнего мира. План и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ша Земля на ка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государства и перв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 и города библейский пред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планы в древности 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открытия в Древней Гр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ие знания в Римской имп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2. Средневековые путешествия и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викингов и ара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ия европейцев в Центральную Азию, Индию и 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ды и открытия русских на севере Европы и в Западной Сиб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а 3. Великие географические открытия. Градусная сетка на глобусе и кар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кие географические откр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я в Амер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кругосветные пл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лобус, параллели и мериди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еографические координ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скажение на карте и изменение во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ие Австралии и Оке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0871-CFD5-4990-8A23-63D968A413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6 класса  «Мир Зем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072B-A425-40EC-A62F-A023D6C7C6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 7 класс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 – планета лю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й аппарат учебника соответствует проблемно-диалогической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акт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 дополнительный тек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люстрации сопровождены комментариями и вопро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и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е репродуктивные и творческие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1E61-C8C3-43AF-9691-44346D21B5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5AF3-5DFA-426B-9C4E-85745AA580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линии развития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спользование географических карт в качестве источ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окружающего мира и критическое восприятие полученной информации с точки зрения геогра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A069-FD6A-4355-9C30-798CC75174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Раздел 6. «Мир географических систем» – единство природного и рукотвор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класс. Изучение природы, населения и хозяйства кажд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Единство физической и экономической географии на пример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BE3F-DE6B-41D4-AE92-210C36EC2E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7 классы – освоение тематических ка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 – использование карт в качестве источни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0C80-5051-42C4-BB1A-39E99645BB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нное овладение жизненно необходимыми географическими знаниями, умениями и навыкам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ля жизни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. Умение объяснять окружающий природный мир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Как себя вести в случае стихийного б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класс. Пособие для туриста. Как себя вести в разны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9 классы. Страна, в которой я живу, ее природа и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D3FF-0719-4E41-BE00-743CC386F5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К по естествознанию и ге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B86C-A724-41E1-8134-ABF9330D7F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00DB-0A0A-4E4D-ADE3-9D9ABB3849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ие цели курса естествознания – преодоление дефицитов биологии и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001-0456-4110-B2B8-494BAA0D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206-9C54-4A9B-90E6-1F578E53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883-51AA-47B6-B2E6-F9A23C90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289-1B5A-4B27-BDFB-D8380249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908F7-D0EC-4708-9C49-6991BD8A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5D278-DCB8-48F7-AAB7-DEF3ED79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C651B-22EE-4FE1-8F84-68A2F16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435E-0DFE-4F11-A0EE-2403A1E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9E3BD-4C29-4862-BB11-C9DEDF4F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E3016-28AB-4899-9C35-19F87DC6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81B1F-0FF3-4E2A-AC27-540F12B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6D0-C604-4BCC-B8F8-F443FF69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05608-C72E-4678-8980-D8FC4A4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D756C-9E08-41F8-80E0-4A96B6B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0D37E-6B26-4E4D-8974-AC104355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17180-BABA-46FA-AB14-B97AE665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54382-EE1C-41A1-A407-E1A654AF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A9A-E734-42CF-95E3-C3C2B72A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6DB-7DBF-4647-B581-B8D64447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637-C0A3-4A1D-B16B-C564647A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5A1-10C6-40F6-AE47-FA98A0BE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537-784F-4F30-94D4-FA9C1FE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16D-AED7-4CC2-ADDF-AE7FAED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E8C-576B-4881-BD3B-5027A428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02FA-303A-4877-A5D2-EF31A96FE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9028-A0E4-4E89-B2A2-C3DC766BA6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755295856&amp;p=141&amp;ag=ih&amp;rpt2=simage&amp;qs=rpt%3Dimage%26text%3D%25FA%25C5%25CD%25CC%25D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hyperlink" Target="http://images.yandex.ru/yandpage?q=755295856&amp;p=4&amp;ag=ih&amp;rpt2=simage&amp;qs=rpt%3Dimage%26text%3D%25FA%25C5%25CD%25CC%25D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2079720"/>
            <a:ext cx="6605640" cy="217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собенности содержания учебников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тория Земли и жизни на ней – знакомство с самыми главными события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5560" y="1905120"/>
            <a:ext cx="405108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перед, в прошлое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появилась на свет наша план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Что происходит  в недрах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ткуда на Земле вода и 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вращения горных п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менялась поверхность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читают палеонтологическую летопис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живые существа изменяютс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едки и потом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и как появилась жизнь на Зем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заре жизни: мир микроорганизм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перестали быть микроскопически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обзавелись скеле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Жизнь в древних мор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157720" y="2484360"/>
            <a:ext cx="3780000" cy="38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живые организмы вышли на суш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растения изменили облик суш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осваивали сушу первые позвоноч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ши далекие предки – зверозубые яще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гда владыками суши были драк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Завоевание моря и не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стки нового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вымир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ир травяных экосисте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исхождение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ликое оледен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к и почему менялся климат нашей планет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ошлое – ключ к будуще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люди открывали Землю и создавали карту – знакомство с картой на фоне истории географических откры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2033280"/>
            <a:ext cx="4365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1. География древнего мира. План и кар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Наша Земля на карт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государства и перв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Земли и города библейский предан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планы в древности и сегодн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открытия в Древней Грец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Географические знания в Римской импе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2. Средневековые путешествия и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викингов и арабов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европейцев в Центральную Азию, Индию и Кита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ходы и открытия русских на севере Европы и в Западной Сибир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3. Великие географические открытия. Градусная сетка на глобусе и карт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еликие географические открыт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мер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вые кругосветные плавания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обус, параллели и меридиан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еографические координаты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Искажение на карте и изменение во времен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е Австралии и Океан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292720" y="2033640"/>
            <a:ext cx="3328920" cy="44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4. Исследования в океанах и во внутренних частях матер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сследования Америк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русских землепроходцев в 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Русские экспедиции в Ледовитом и Тихом океанах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в Южном полушар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ткрытия в Арктике и Антарктик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кспедиции и открытия в Мировом океане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Изучение Евразии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Глава 5. Современные исследования. Значение и использова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утешествия и открытия 20 ве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Ориентирование по плану и на местности. Изображение рельеф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Аэро-и космические снимки. Разнообразие и значение карт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3300"/>
                </a:solidFill>
                <a:latin typeface="Tahoma"/>
              </a:rPr>
              <a:t>Глазомерная съемк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бник  6 класса  «Мир Земл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422360" y="1494000"/>
            <a:ext cx="755964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чальный курс общего земле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ширенный астрономический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Земля – частица Вселенн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ый акцент знакомства с оболочк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мли – три состояния вещества. Поэ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деле о гидросфере появили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разделы«Твердая вода» и «Жид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держание разделов имеет структур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введение в разд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содержание раздела: 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ждения до природопользов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ведение итогов изучения раз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3" descr="i?id=875718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2000" y="4194000"/>
            <a:ext cx="117000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25" descr=" География (6-й класс). «Мир Земли» "/>
          <p:cNvPicPr/>
          <p:nvPr/>
        </p:nvPicPr>
        <p:blipFill>
          <a:blip r:embed="rId3"/>
          <a:stretch/>
        </p:blipFill>
        <p:spPr>
          <a:xfrm>
            <a:off x="385920" y="1628640"/>
            <a:ext cx="933120" cy="12384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 7 класса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емля – планета люд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1035" descr="DSCN4006"/>
          <p:cNvPicPr/>
          <p:nvPr/>
        </p:nvPicPr>
        <p:blipFill>
          <a:blip r:embed="rId1"/>
          <a:stretch/>
        </p:blipFill>
        <p:spPr>
          <a:xfrm>
            <a:off x="6821640" y="414360"/>
            <a:ext cx="1828800" cy="1368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7" descr=" География (7-й класс). «Земля - планета людей» "/>
          <p:cNvPicPr/>
          <p:nvPr/>
        </p:nvPicPr>
        <p:blipFill>
          <a:blip r:embed="rId2"/>
          <a:stretch/>
        </p:blipFill>
        <p:spPr>
          <a:xfrm>
            <a:off x="431640" y="1628640"/>
            <a:ext cx="952560" cy="130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0" descr=" Народы мира. Книга для чтения по географии "/>
          <p:cNvPicPr/>
          <p:nvPr/>
        </p:nvPicPr>
        <p:blipFill>
          <a:blip r:embed="rId3"/>
          <a:stretch/>
        </p:blipFill>
        <p:spPr>
          <a:xfrm>
            <a:off x="385920" y="4734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2592360" y="2168640"/>
            <a:ext cx="6254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рс стран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диница рассмотрения – стр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накомство с природой, населением и хозяйством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032"/>
          <p:cNvSpPr/>
          <p:nvPr/>
        </p:nvSpPr>
        <p:spPr>
          <a:xfrm>
            <a:off x="2006640" y="5454720"/>
            <a:ext cx="66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роды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Книга для чтения по географ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1037" descr="i?id=1636019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315900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ческий аппарат учебника соответствует проблемно-диалогической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акту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й и дополнительный тек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люстрации сопровождены комментариями и вопро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кие вы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диционные репродуктивные и творческие зад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ажнейшие линии развития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16280" y="2124000"/>
            <a:ext cx="69768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у школьников системного географического мышления:  формирование представления о взаимодействии единой системы «природа – население – хозяйство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географических карт в качестве источника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ъяснение окружающего мира и критическое восприятие полученной информации с точки зрения географ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024" descr="e_maneb"/>
          <p:cNvPicPr/>
          <p:nvPr/>
        </p:nvPicPr>
        <p:blipFill>
          <a:blip r:embed="rId1"/>
          <a:stretch/>
        </p:blipFill>
        <p:spPr>
          <a:xfrm>
            <a:off x="385920" y="4959360"/>
            <a:ext cx="117144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26" descr="Leo"/>
          <p:cNvPicPr/>
          <p:nvPr/>
        </p:nvPicPr>
        <p:blipFill>
          <a:blip r:embed="rId2"/>
          <a:stretch/>
        </p:blipFill>
        <p:spPr>
          <a:xfrm>
            <a:off x="341280" y="2349360"/>
            <a:ext cx="1260360" cy="88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глобус"/>
          <p:cNvPicPr/>
          <p:nvPr/>
        </p:nvPicPr>
        <p:blipFill>
          <a:blip r:embed="rId3"/>
          <a:stretch/>
        </p:blipFill>
        <p:spPr>
          <a:xfrm>
            <a:off x="341280" y="3429000"/>
            <a:ext cx="1270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у школьников системного географического мышления:  формирование представления о взаимодействии единой системы «природа – население – хозяйство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46280" y="2033640"/>
            <a:ext cx="619920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Раздел 6. «Мир географических систем» – единство природного и рукотвор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Изучение природы, населения и хозяйства каждой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Единство физической и экономической географии на примере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024" descr="naber"/>
          <p:cNvPicPr/>
          <p:nvPr/>
        </p:nvPicPr>
        <p:blipFill>
          <a:blip r:embed="rId1"/>
          <a:stretch/>
        </p:blipFill>
        <p:spPr>
          <a:xfrm>
            <a:off x="297000" y="1808280"/>
            <a:ext cx="203832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26" descr="puspa_samadhi_1_web"/>
          <p:cNvPicPr/>
          <p:nvPr/>
        </p:nvPicPr>
        <p:blipFill>
          <a:blip r:embed="rId2"/>
          <a:stretch/>
        </p:blipFill>
        <p:spPr>
          <a:xfrm>
            <a:off x="250920" y="3338640"/>
            <a:ext cx="202572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28" descr="флаг России"/>
          <p:cNvPicPr/>
          <p:nvPr/>
        </p:nvPicPr>
        <p:blipFill>
          <a:blip r:embed="rId3"/>
          <a:stretch/>
        </p:blipFill>
        <p:spPr>
          <a:xfrm>
            <a:off x="206280" y="5003640"/>
            <a:ext cx="2070360" cy="11289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 помощью языка карт география позволяет понять место любого объекта окружающего мира на Земл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41640" y="1989000"/>
            <a:ext cx="669456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класс – «Как люди открывали Землю и создавали карту» – приобретение навыка использования физической кар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-7 классы – освоение тематических ка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 – использование карт в качестве источника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" descr="карта России"/>
          <p:cNvPicPr/>
          <p:nvPr/>
        </p:nvPicPr>
        <p:blipFill>
          <a:blip r:embed="rId1"/>
          <a:stretch/>
        </p:blipFill>
        <p:spPr>
          <a:xfrm>
            <a:off x="297000" y="216864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политическая карта"/>
          <p:cNvPicPr/>
          <p:nvPr/>
        </p:nvPicPr>
        <p:blipFill>
          <a:blip r:embed="rId2"/>
          <a:stretch/>
        </p:blipFill>
        <p:spPr>
          <a:xfrm>
            <a:off x="250920" y="333864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URAL"/>
          <p:cNvPicPr/>
          <p:nvPr/>
        </p:nvPicPr>
        <p:blipFill>
          <a:blip r:embed="rId3"/>
          <a:stretch/>
        </p:blipFill>
        <p:spPr>
          <a:xfrm>
            <a:off x="162000" y="482436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сознанное овладение жизненно необходимыми географическими знаниями, умениями и навыками для жизни в современных условия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97000" y="1943280"/>
            <a:ext cx="6794640" cy="4114800"/>
          </a:xfrm>
          <a:prstGeom prst="rect">
            <a:avLst/>
          </a:prstGeom>
          <a:solidFill>
            <a:srgbClr val="00c6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класс. Умение объяснять окружающий природный мир. Как себя вести в случае стихийного б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класс. Пособие для туриста. Как себя вести в разных стран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-9 классы. Страна, в которой я живу, ее природа и хозя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024" descr="флаг России"/>
          <p:cNvPicPr/>
          <p:nvPr/>
        </p:nvPicPr>
        <p:blipFill>
          <a:blip r:embed="rId1"/>
          <a:stretch/>
        </p:blipFill>
        <p:spPr>
          <a:xfrm>
            <a:off x="297000" y="5049720"/>
            <a:ext cx="1395360" cy="76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6" descr="23709"/>
          <p:cNvPicPr/>
          <p:nvPr/>
        </p:nvPicPr>
        <p:blipFill>
          <a:blip r:embed="rId2"/>
          <a:stretch/>
        </p:blipFill>
        <p:spPr>
          <a:xfrm>
            <a:off x="476280" y="194328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9" descr="2340"/>
          <p:cNvPicPr/>
          <p:nvPr/>
        </p:nvPicPr>
        <p:blipFill>
          <a:blip r:embed="rId3"/>
          <a:stretch/>
        </p:blipFill>
        <p:spPr>
          <a:xfrm>
            <a:off x="206280" y="3203640"/>
            <a:ext cx="1557360" cy="15462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МК по естествознанию и географ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0" descr="nat_5clm"/>
          <p:cNvPicPr/>
          <p:nvPr/>
        </p:nvPicPr>
        <p:blipFill>
          <a:blip r:embed="rId1"/>
          <a:stretch/>
        </p:blipFill>
        <p:spPr>
          <a:xfrm>
            <a:off x="539640" y="524664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nat_5cl1"/>
          <p:cNvPicPr/>
          <p:nvPr/>
        </p:nvPicPr>
        <p:blipFill>
          <a:blip r:embed="rId2"/>
          <a:stretch/>
        </p:blipFill>
        <p:spPr>
          <a:xfrm>
            <a:off x="539640" y="2149560"/>
            <a:ext cx="95256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nat_5cl2"/>
          <p:cNvPicPr/>
          <p:nvPr/>
        </p:nvPicPr>
        <p:blipFill>
          <a:blip r:embed="rId3"/>
          <a:stretch/>
        </p:blipFill>
        <p:spPr>
          <a:xfrm>
            <a:off x="539640" y="3608280"/>
            <a:ext cx="1052640" cy="1316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763640" y="2293920"/>
            <a:ext cx="151128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«Земля и люд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170028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92360" y="1700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372360" y="1628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76364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692360" y="5408640"/>
            <a:ext cx="153036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716360" y="2293920"/>
            <a:ext cx="136836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Мир Земл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716360" y="38052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7597800" y="2205000"/>
            <a:ext cx="1546200" cy="1067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    «Земля – планета людей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527720" y="5319720"/>
            <a:ext cx="161892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7632720" y="3699000"/>
            <a:ext cx="151128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ая тетрад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 География (6-й класс). «Мир Земли». Методические рекомендации "/>
          <p:cNvPicPr/>
          <p:nvPr/>
        </p:nvPicPr>
        <p:blipFill>
          <a:blip r:embed="rId4"/>
          <a:stretch/>
        </p:blipFill>
        <p:spPr>
          <a:xfrm>
            <a:off x="3492360" y="5138640"/>
            <a:ext cx="9302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 География (7-й класс). «Земля - планета людей» "/>
          <p:cNvPicPr/>
          <p:nvPr/>
        </p:nvPicPr>
        <p:blipFill>
          <a:blip r:embed="rId5"/>
          <a:stretch/>
        </p:blipFill>
        <p:spPr>
          <a:xfrm>
            <a:off x="6327720" y="2124000"/>
            <a:ext cx="986040" cy="134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 Рабочая тетрадь к учебнику географии «Земля - планета людей» "/>
          <p:cNvPicPr/>
          <p:nvPr/>
        </p:nvPicPr>
        <p:blipFill>
          <a:blip r:embed="rId6"/>
          <a:stretch/>
        </p:blipFill>
        <p:spPr>
          <a:xfrm>
            <a:off x="6281640" y="3564000"/>
            <a:ext cx="1101960" cy="1395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 Уроки географии в 7-м классе по учебнику «Земля – планета людей». Методические рекомендации для учителя "/>
          <p:cNvPicPr/>
          <p:nvPr/>
        </p:nvPicPr>
        <p:blipFill>
          <a:blip r:embed="rId7"/>
          <a:stretch/>
        </p:blipFill>
        <p:spPr>
          <a:xfrm>
            <a:off x="6327720" y="5049720"/>
            <a:ext cx="9525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 География (6-й класс). «Мир Земли» "/>
          <p:cNvPicPr/>
          <p:nvPr/>
        </p:nvPicPr>
        <p:blipFill>
          <a:blip r:embed="rId8"/>
          <a:stretch/>
        </p:blipFill>
        <p:spPr>
          <a:xfrm>
            <a:off x="3537000" y="2168640"/>
            <a:ext cx="933480" cy="1238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 Рабочая тетрадь к учебнику географии для 6-го класса «Мир Земли» "/>
          <p:cNvPicPr/>
          <p:nvPr/>
        </p:nvPicPr>
        <p:blipFill>
          <a:blip r:embed="rId9"/>
          <a:stretch/>
        </p:blipFill>
        <p:spPr>
          <a:xfrm>
            <a:off x="3446640" y="3473280"/>
            <a:ext cx="1180800" cy="1495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7316640" y="5364000"/>
            <a:ext cx="1619280" cy="520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чебник «Земля и люд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nat_5cl1"/>
          <p:cNvPicPr/>
          <p:nvPr/>
        </p:nvPicPr>
        <p:blipFill>
          <a:blip r:embed="rId1"/>
          <a:stretch/>
        </p:blipFill>
        <p:spPr>
          <a:xfrm>
            <a:off x="324000" y="1484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eo_6cl1"/>
          <p:cNvPicPr/>
          <p:nvPr/>
        </p:nvPicPr>
        <p:blipFill>
          <a:blip r:embed="rId2"/>
          <a:stretch/>
        </p:blipFill>
        <p:spPr>
          <a:xfrm>
            <a:off x="5940360" y="5373720"/>
            <a:ext cx="95256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835280" y="1844640"/>
            <a:ext cx="2663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Земли и жизни на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859280" y="1844640"/>
            <a:ext cx="4033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люди открывали землю и создавали кар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47640" y="2924280"/>
            <a:ext cx="3240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ые события в жизни Зем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м прошлое, а применяем – в настояще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5148360" y="2924280"/>
            <a:ext cx="3240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я географических открыт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мство с карт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ая номенклатур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bio_6cl1"/>
          <p:cNvPicPr/>
          <p:nvPr/>
        </p:nvPicPr>
        <p:blipFill>
          <a:blip r:embed="rId3"/>
          <a:stretch/>
        </p:blipFill>
        <p:spPr>
          <a:xfrm>
            <a:off x="2268360" y="530064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150" name="Line 10"/>
          <p:cNvSpPr/>
          <p:nvPr/>
        </p:nvSpPr>
        <p:spPr>
          <a:xfrm>
            <a:off x="2771640" y="4437000"/>
            <a:ext cx="0" cy="72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6372360" y="4653000"/>
            <a:ext cx="0" cy="64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4000" y="4797360"/>
            <a:ext cx="172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5800" y="4797360"/>
            <a:ext cx="172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едевтика географ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е цели курса естествознания – преодоление дефицитов биологии и географ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05920" y="1988640"/>
            <a:ext cx="414036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188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Противоречие биологии – провозглашение исторического подхода при отсутствие его последовательной реализа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976640" y="4689360"/>
            <a:ext cx="4005360" cy="139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освоения Земли и развития способов ее изображения на кар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932360" y="1989000"/>
            <a:ext cx="3960720" cy="134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Цель – сформировать целостную картину развития Земли и жизни на не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920" y="4734000"/>
            <a:ext cx="4006800" cy="14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Разрыв между историей в гуманитарном и естественнонаучном смыслах: история людей оказывается оторванной от истории природ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4346640" y="239400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302000" y="5184720"/>
            <a:ext cx="584280" cy="495360"/>
          </a:xfrm>
          <a:prstGeom prst="rightArrow">
            <a:avLst>
              <a:gd name="adj1" fmla="val 50000"/>
              <a:gd name="adj2" fmla="val 2948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1:21:39Z</dcterms:created>
  <dc:creator>Вахрушев Шура</dc:creator>
  <dc:description/>
  <dc:language>en-US</dc:language>
  <cp:lastModifiedBy>LEGION</cp:lastModifiedBy>
  <dcterms:modified xsi:type="dcterms:W3CDTF">2014-12-29T08:43:59Z</dcterms:modified>
  <cp:revision>118</cp:revision>
  <dc:subject/>
  <dc:title>БИОЛОГ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