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D85F-F201-4AB7-98F8-D44F15044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D4A0-0588-42E5-9FBA-B3F0B8618A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содержания учебников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D753-7F33-41BD-8257-4348FC2B77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вышли на су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Земли и жизни на ней – знакомство с самыми главными событ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перед, в прошл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появилась на свет наша пла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оисходит  в недрах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уда на Земле вода и воз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вращения горных п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менялась поверхность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читают палеонтологическую лет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и почему живые существа изме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ки и потом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да и как появилась жизнь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заре жизни: мир микроорганиз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перестали быть микроскопическ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обзавелись скел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изнь в древних мор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4A52-FD60-4B75-A302-77280285BC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1. География древнего мира. План и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ша Земля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государства и перв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 и города библейский пред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планы в древности 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открытия в Древней Гр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знания в Римской имп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2. Средневековые путешествия и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викингов и ара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европейцев в Центральную Азию, Индию и Кит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ды и открытия русских на севере Европы и в Западной Сиби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3. Великие географические открытия. Градусная сетка на глобусе и кар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я в Амер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кругосветн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лобус, параллели и мериди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координ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скажение на карте и изменение в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е Австралии и Оке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86C2-4DF0-4848-A0D8-AD65F9D8D3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6 класса  «Мир Земл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D35C-A527-4DAA-97C4-9809470AF1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7 класс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 – планета люд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й аппарат учебника соответствует проблемно-диалогическ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акт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 дополнительный тек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и сопровождены комментариями и вопрос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и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е репродуктивные и творческие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9BAE-3B29-4FEB-AE80-7257A246DD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2B45-EFC4-4C2C-95B3-6B8F8FF7D0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линии развития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Использование географических карт в качестве источ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 окружающего мира и критическое восприятие полученной информации с точки зрения геогра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0ECC-A8D2-4DF7-99C5-5B7B9C52D8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Раздел 6. «Мир географических систем» – единство природного и рукотвор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класс. Изучение природы, населения и хозяйства кажд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Единство физической и экономической географии на пример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5527-C94E-4F53-9702-32459714B7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7 классы – освоение тематически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 – использование карт в качестве источни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250B-CFB2-4384-B7A2-41A0433DB8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нное овладение жизненно необходимыми географическими знаниями, умениями и навыкам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ля жизни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Умение объяснять окружающий природный мир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Как себя вести в случае стихийного б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 класс. Пособие для туриста. Как себя вести в разны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Страна, в которой я живу, ее природа и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1F6B-D214-4770-99AF-7E1DA8B75A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К по естествознанию 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7F21-BBDC-4CA5-AE3C-19072E56D2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07CE-648B-4B8C-B061-E6A874F3C2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ие цели курса естествознания – преодоление дефицитов биологии и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6BF-209E-485D-A36E-D4FF212D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9D1-B6CA-46AD-9A58-E725FC77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9CC-2F5C-416E-A0A0-55B20624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52B-0E5C-434E-8F3F-FE0BF28B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BE769-25C4-4910-9E67-267BFE79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D2704-2790-4FB1-A4CC-4787C9FC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7F0A3-EB26-4347-8ED6-41B675C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8A5F4-F926-4AD9-B167-B3F801C2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A8239-344D-459D-B739-78A4BC63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ABB85-D3FD-4C78-81A1-D03345BA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A6CB2-4DFD-4391-9C7D-3E92D306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925-E3AF-4C26-8875-57BB712F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763B6-3EC0-40AB-B082-17C68F8B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4A44A-6DCC-426C-9775-6EBCA6A7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E89CF-07B4-4348-B62C-C5D2053F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1D380-B31C-4D75-9684-00E72430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B52A6-AE3F-4E41-8BF7-05584A0C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53B-990E-4997-A444-42DA627E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FDF-12E5-4361-BB90-3862F51C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802-AEC3-41A5-B680-3CE8585C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269-3835-4371-8438-4DD4802E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DE9-6E17-4D5A-AF42-E3224AF1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CB3-305B-4768-93CA-D037C66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282-32DB-4C5F-854F-0D7BC216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CFB3-60BF-4BCA-890F-B434FFECE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67E4-E73E-43E9-BE6A-3EBF678587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755295856&amp;p=141&amp;ag=ih&amp;rpt2=simage&amp;qs=rpt%3Dimage%26text%3D%25FA%25C5%25CD%25CC%25D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hyperlink" Target="http://images.yandex.ru/yandpage?q=755295856&amp;p=4&amp;ag=ih&amp;rpt2=simage&amp;qs=rpt%3Dimage%26text%3D%25FA%25C5%25CD%25CC%25D1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2000" y="2079720"/>
            <a:ext cx="6605640" cy="217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собенности содержания учебников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рия Земли и жизни на ней – знакомство с самыми главными событи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5560" y="1905120"/>
            <a:ext cx="405108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перед, в прошлое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появилась на свет наша плане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происходит  в недрах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ткуда на Земле вода и 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вращения горных пор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менялась поверхность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читают палеонтологическую летопис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живые существа изменяю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дки и потом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и как появилась жизнь на Зем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 заре жизни: мир микроорганизм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перестали быть микроскопически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обзавелись скелет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Жизнь в древних моря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157720" y="2484360"/>
            <a:ext cx="3780000" cy="38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вышли на суш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растения изменили облик суш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осваивали сушу первые позвоноч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ши далекие предки – зверозубые яще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владыками суши были драк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воевание моря и неб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стки нового ми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вымир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ир травяных экосист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исхождение челов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оледен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менялся климат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шлое – ключ к будуще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2033280"/>
            <a:ext cx="4365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1. География древнего мира. План и кар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Наша Земля на карт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государства и перв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Земли и города библейский предани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планы в древности и сегодн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открытия в Древней Грец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знания в Римской импе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2. Средневековые путешествия и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викингов и арабов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европейцев в Центральную Азию, Индию и Кита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ходы и открытия русских на севере Европы и в Западной Сибир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3. Великие географические открытия. Градусная сетка на глобусе и карт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еликие географические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мер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кругосветн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обус, параллели и меридиан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координат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Искажение на карте и изменение во времен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е Австралии и Океан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292720" y="2033640"/>
            <a:ext cx="3328920" cy="44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4. Исследования в океанах и во внутренних частях материко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сследования Америк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русских землепроходцев в 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Русские экспедиции в Ледовитом и Тихом океан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в Южном полуша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рктике и Антаркт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кспедиции и открытия в Мировом океан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зучение Евр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5. Современные исследования. Значение и использова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20 ве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Ориентирование по плану и на местности. Изображение рельеф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Аэро-и космические снимки. Разнообразие и значе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азомерная съем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бник  6 класса  «Мир Земл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422360" y="1494000"/>
            <a:ext cx="755964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чальный курс общего земле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ширенный астрономический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Земля – частица Вселенн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акцент знакомства с оболоч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мли – три состояния вещества. Поэт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деле о гидросфере появили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разделы«Твердая вода» и «Жид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д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держание разделов имеет структур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ткое введение в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содержание раздела: 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ждения до природополь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ведение итогов изучения раз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3" descr="i?id=875718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2000" y="4194000"/>
            <a:ext cx="1170000" cy="9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25" descr=" География (6-й класс). «Мир Земли» "/>
          <p:cNvPicPr/>
          <p:nvPr/>
        </p:nvPicPr>
        <p:blipFill>
          <a:blip r:embed="rId3"/>
          <a:stretch/>
        </p:blipFill>
        <p:spPr>
          <a:xfrm>
            <a:off x="385920" y="1628640"/>
            <a:ext cx="933120" cy="12384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 7 класса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емля – планета люд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035" descr="DSCN4006"/>
          <p:cNvPicPr/>
          <p:nvPr/>
        </p:nvPicPr>
        <p:blipFill>
          <a:blip r:embed="rId1"/>
          <a:stretch/>
        </p:blipFill>
        <p:spPr>
          <a:xfrm>
            <a:off x="6821640" y="414360"/>
            <a:ext cx="1828800" cy="136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7" descr=" География (7-й класс). «Земля - планета людей» "/>
          <p:cNvPicPr/>
          <p:nvPr/>
        </p:nvPicPr>
        <p:blipFill>
          <a:blip r:embed="rId2"/>
          <a:stretch/>
        </p:blipFill>
        <p:spPr>
          <a:xfrm>
            <a:off x="431640" y="1628640"/>
            <a:ext cx="952560" cy="130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0" descr=" Народы мира. Книга для чтения по географии "/>
          <p:cNvPicPr/>
          <p:nvPr/>
        </p:nvPicPr>
        <p:blipFill>
          <a:blip r:embed="rId3"/>
          <a:stretch/>
        </p:blipFill>
        <p:spPr>
          <a:xfrm>
            <a:off x="385920" y="473400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592360" y="2168640"/>
            <a:ext cx="6254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рс стран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иница рассмотрения – ст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комство с природой, населением и хозяйством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032"/>
          <p:cNvSpPr/>
          <p:nvPr/>
        </p:nvSpPr>
        <p:spPr>
          <a:xfrm>
            <a:off x="2006640" y="545472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роды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Книга для чтения по географ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037" descr="i?id=1636019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315900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ический аппарат учебника соответствует проблемно-диалогической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ы акту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й и дополнительный тек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люстрации сопровождены комментариями и вопрос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кие вы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диционные репродуктивные и творческие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жнейшие линии развития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16280" y="2124000"/>
            <a:ext cx="69768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географических карт в качестве источника информ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яснение окружающего мира и критическое восприятие полученной информации с точки зрения геогр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024" descr="e_maneb"/>
          <p:cNvPicPr/>
          <p:nvPr/>
        </p:nvPicPr>
        <p:blipFill>
          <a:blip r:embed="rId1"/>
          <a:stretch/>
        </p:blipFill>
        <p:spPr>
          <a:xfrm>
            <a:off x="385920" y="4959360"/>
            <a:ext cx="1171440" cy="87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26" descr="Leo"/>
          <p:cNvPicPr/>
          <p:nvPr/>
        </p:nvPicPr>
        <p:blipFill>
          <a:blip r:embed="rId2"/>
          <a:stretch/>
        </p:blipFill>
        <p:spPr>
          <a:xfrm>
            <a:off x="341280" y="2349360"/>
            <a:ext cx="1260360" cy="88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28" descr="глобус"/>
          <p:cNvPicPr/>
          <p:nvPr/>
        </p:nvPicPr>
        <p:blipFill>
          <a:blip r:embed="rId3"/>
          <a:stretch/>
        </p:blipFill>
        <p:spPr>
          <a:xfrm>
            <a:off x="341280" y="3429000"/>
            <a:ext cx="1270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46280" y="2033640"/>
            <a:ext cx="619920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Раздел 6. «Мир географических систем» – единство природного и рукотвор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Изучение природы, населения и хозяйства каждой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Единство физической и экономической географии на примере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024" descr="naber"/>
          <p:cNvPicPr/>
          <p:nvPr/>
        </p:nvPicPr>
        <p:blipFill>
          <a:blip r:embed="rId1"/>
          <a:stretch/>
        </p:blipFill>
        <p:spPr>
          <a:xfrm>
            <a:off x="297000" y="1808280"/>
            <a:ext cx="203832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26" descr="puspa_samadhi_1_web"/>
          <p:cNvPicPr/>
          <p:nvPr/>
        </p:nvPicPr>
        <p:blipFill>
          <a:blip r:embed="rId2"/>
          <a:stretch/>
        </p:blipFill>
        <p:spPr>
          <a:xfrm>
            <a:off x="250920" y="3338640"/>
            <a:ext cx="202572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28" descr="флаг России"/>
          <p:cNvPicPr/>
          <p:nvPr/>
        </p:nvPicPr>
        <p:blipFill>
          <a:blip r:embed="rId3"/>
          <a:stretch/>
        </p:blipFill>
        <p:spPr>
          <a:xfrm>
            <a:off x="206280" y="5003640"/>
            <a:ext cx="2070360" cy="11289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41640" y="1989000"/>
            <a:ext cx="669456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-7 классы – освоение тематических ка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 – использование карт в качестве источника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" descr="карта России"/>
          <p:cNvPicPr/>
          <p:nvPr/>
        </p:nvPicPr>
        <p:blipFill>
          <a:blip r:embed="rId1"/>
          <a:stretch/>
        </p:blipFill>
        <p:spPr>
          <a:xfrm>
            <a:off x="297000" y="2168640"/>
            <a:ext cx="126972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политическая карта"/>
          <p:cNvPicPr/>
          <p:nvPr/>
        </p:nvPicPr>
        <p:blipFill>
          <a:blip r:embed="rId2"/>
          <a:stretch/>
        </p:blipFill>
        <p:spPr>
          <a:xfrm>
            <a:off x="250920" y="333864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URAL"/>
          <p:cNvPicPr/>
          <p:nvPr/>
        </p:nvPicPr>
        <p:blipFill>
          <a:blip r:embed="rId3"/>
          <a:stretch/>
        </p:blipFill>
        <p:spPr>
          <a:xfrm>
            <a:off x="162000" y="482436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сознанное овладение жизненно необходимыми географическими знаниями, умениями и навыками для жизни в современных условия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97000" y="1943280"/>
            <a:ext cx="679464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Умение объяснять окружающий природный мир. Как себя вести в случае стихийного бед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Пособие для туриста. Как себя вести в разных стра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Страна, в которой я живу, ее природа и хозя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024" descr="флаг России"/>
          <p:cNvPicPr/>
          <p:nvPr/>
        </p:nvPicPr>
        <p:blipFill>
          <a:blip r:embed="rId1"/>
          <a:stretch/>
        </p:blipFill>
        <p:spPr>
          <a:xfrm>
            <a:off x="297000" y="5049720"/>
            <a:ext cx="1395360" cy="76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26" descr="23709"/>
          <p:cNvPicPr/>
          <p:nvPr/>
        </p:nvPicPr>
        <p:blipFill>
          <a:blip r:embed="rId2"/>
          <a:stretch/>
        </p:blipFill>
        <p:spPr>
          <a:xfrm>
            <a:off x="476280" y="194328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29" descr="2340"/>
          <p:cNvPicPr/>
          <p:nvPr/>
        </p:nvPicPr>
        <p:blipFill>
          <a:blip r:embed="rId3"/>
          <a:stretch/>
        </p:blipFill>
        <p:spPr>
          <a:xfrm>
            <a:off x="206280" y="3203640"/>
            <a:ext cx="1557360" cy="15462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МК по естествознанию и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0" descr="nat_5clm"/>
          <p:cNvPicPr/>
          <p:nvPr/>
        </p:nvPicPr>
        <p:blipFill>
          <a:blip r:embed="rId1"/>
          <a:stretch/>
        </p:blipFill>
        <p:spPr>
          <a:xfrm>
            <a:off x="539640" y="524664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nat_5cl1"/>
          <p:cNvPicPr/>
          <p:nvPr/>
        </p:nvPicPr>
        <p:blipFill>
          <a:blip r:embed="rId2"/>
          <a:stretch/>
        </p:blipFill>
        <p:spPr>
          <a:xfrm>
            <a:off x="539640" y="2149560"/>
            <a:ext cx="952560" cy="124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nat_5cl2"/>
          <p:cNvPicPr/>
          <p:nvPr/>
        </p:nvPicPr>
        <p:blipFill>
          <a:blip r:embed="rId3"/>
          <a:stretch/>
        </p:blipFill>
        <p:spPr>
          <a:xfrm>
            <a:off x="539640" y="3608280"/>
            <a:ext cx="1052640" cy="1316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763640" y="2293920"/>
            <a:ext cx="151128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95280" y="170028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92360" y="1700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372360" y="162864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76364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692360" y="5408640"/>
            <a:ext cx="153036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716360" y="2293920"/>
            <a:ext cx="136836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Мир Земл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71636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7597800" y="2205000"/>
            <a:ext cx="1546200" cy="1067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Земля – планета люде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527720" y="5319720"/>
            <a:ext cx="161892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7632720" y="36990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 География (6-й класс). «Мир Земли». Методические рекомендации "/>
          <p:cNvPicPr/>
          <p:nvPr/>
        </p:nvPicPr>
        <p:blipFill>
          <a:blip r:embed="rId4"/>
          <a:stretch/>
        </p:blipFill>
        <p:spPr>
          <a:xfrm>
            <a:off x="3492360" y="5138640"/>
            <a:ext cx="93024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 География (7-й класс). «Земля - планета людей» "/>
          <p:cNvPicPr/>
          <p:nvPr/>
        </p:nvPicPr>
        <p:blipFill>
          <a:blip r:embed="rId5"/>
          <a:stretch/>
        </p:blipFill>
        <p:spPr>
          <a:xfrm>
            <a:off x="6327720" y="2124000"/>
            <a:ext cx="986040" cy="134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 Рабочая тетрадь к учебнику географии «Земля - планета людей» "/>
          <p:cNvPicPr/>
          <p:nvPr/>
        </p:nvPicPr>
        <p:blipFill>
          <a:blip r:embed="rId6"/>
          <a:stretch/>
        </p:blipFill>
        <p:spPr>
          <a:xfrm>
            <a:off x="6281640" y="3564000"/>
            <a:ext cx="1101960" cy="139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 Уроки географии в 7-м классе по учебнику «Земля – планета людей». Методические рекомендации для учителя "/>
          <p:cNvPicPr/>
          <p:nvPr/>
        </p:nvPicPr>
        <p:blipFill>
          <a:blip r:embed="rId7"/>
          <a:stretch/>
        </p:blipFill>
        <p:spPr>
          <a:xfrm>
            <a:off x="6327720" y="504972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 География (6-й класс). «Мир Земли» "/>
          <p:cNvPicPr/>
          <p:nvPr/>
        </p:nvPicPr>
        <p:blipFill>
          <a:blip r:embed="rId8"/>
          <a:stretch/>
        </p:blipFill>
        <p:spPr>
          <a:xfrm>
            <a:off x="3537000" y="216864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 Рабочая тетрадь к учебнику географии для 6-го класса «Мир Земли» "/>
          <p:cNvPicPr/>
          <p:nvPr/>
        </p:nvPicPr>
        <p:blipFill>
          <a:blip r:embed="rId9"/>
          <a:stretch/>
        </p:blipFill>
        <p:spPr>
          <a:xfrm>
            <a:off x="3446640" y="3473280"/>
            <a:ext cx="1180800" cy="1495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7316640" y="5364000"/>
            <a:ext cx="161928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ебник «Земля и люд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nat_5cl1"/>
          <p:cNvPicPr/>
          <p:nvPr/>
        </p:nvPicPr>
        <p:blipFill>
          <a:blip r:embed="rId1"/>
          <a:stretch/>
        </p:blipFill>
        <p:spPr>
          <a:xfrm>
            <a:off x="324000" y="1484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geo_6cl1"/>
          <p:cNvPicPr/>
          <p:nvPr/>
        </p:nvPicPr>
        <p:blipFill>
          <a:blip r:embed="rId2"/>
          <a:stretch/>
        </p:blipFill>
        <p:spPr>
          <a:xfrm>
            <a:off x="5940360" y="5373720"/>
            <a:ext cx="952560" cy="122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835280" y="1844640"/>
            <a:ext cx="2663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Земли и жизни на 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859280" y="1844640"/>
            <a:ext cx="4033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47640" y="2924280"/>
            <a:ext cx="3240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ые события в жизни Зем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м прошлое, а применяем – в настоящ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148360" y="2924280"/>
            <a:ext cx="3240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я географических открыт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мство с карт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графическая номенклату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bio_6cl1"/>
          <p:cNvPicPr/>
          <p:nvPr/>
        </p:nvPicPr>
        <p:blipFill>
          <a:blip r:embed="rId3"/>
          <a:stretch/>
        </p:blipFill>
        <p:spPr>
          <a:xfrm>
            <a:off x="2268360" y="530064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150" name="Line 10"/>
          <p:cNvSpPr/>
          <p:nvPr/>
        </p:nvSpPr>
        <p:spPr>
          <a:xfrm>
            <a:off x="2771640" y="443700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372360" y="4653000"/>
            <a:ext cx="0" cy="64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24000" y="4797360"/>
            <a:ext cx="172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би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5800" y="4797360"/>
            <a:ext cx="17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географ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е цели курса естествознания – преодоление дефицитов биологии и ге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920" y="1988640"/>
            <a:ext cx="4140360" cy="11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188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976640" y="4689360"/>
            <a:ext cx="4005360" cy="139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освоения Земли и развития способов ее изображения на кар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932360" y="1989000"/>
            <a:ext cx="3960720" cy="134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развития Земли и жизни на не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920" y="4734000"/>
            <a:ext cx="4006800" cy="14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Разрыв между историей в гуманитарном и естественнонаучном смыслах: история людей оказывается оторванной от истории природы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4346640" y="239400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302000" y="518472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1:21:39Z</dcterms:created>
  <dc:creator>Вахрушев Шура</dc:creator>
  <dc:description/>
  <dc:language>en-US</dc:language>
  <cp:lastModifiedBy>LEGION</cp:lastModifiedBy>
  <dcterms:modified xsi:type="dcterms:W3CDTF">2014-12-29T08:43:59Z</dcterms:modified>
  <cp:revision>118</cp:revision>
  <dc:subject/>
  <dc:title>БИОЛОГ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Муниципалитет">
    <vt:lpwstr/>
  </property>
</Properties>
</file>