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ED93-7FAE-4C86-B633-5326E0048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8612-AE1F-4D8A-8458-D14E33D52D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содержания учебников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C292-18B6-4FCF-97FF-1AA972929A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вышли на су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Земли и жизни на ней – знакомство с самыми главными событ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ед, в прошл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появилась на свет наша пла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оисходит  в недрах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уда на Земле вода и воз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вращения горны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менялась поверхность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читают палеонтологическую лет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и почему живые существа изме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ки и потом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да и как появилась жизнь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заре жизни: мир микроорганиз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перестали быть микроскопическ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обзавелись скел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знь в древних мор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9398-B51B-40E4-8B5D-35F803C66D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1. География древнего мира. План и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ша Земля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государства и перв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 и города библейский пред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планы в древности 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открытия в Древней Гр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знания в Римской имп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2. Средневековые путешествия и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викингов и ара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европейцев в Центральную Азию, Индию и 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ды и открытия русских на севере Европы и в Западной Сиб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3. Великие географические открытия. Градусная сетка на глобусе и кар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я в Амер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кругосветн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лобус, параллели и мериди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координ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скажение на карте и изменение в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Австралии и Оке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D1CA-B507-4747-8EA4-9843FD99FE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6 класса  «Мир Зем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EC33-00BF-4A74-9AD8-6090212C24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7 класс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 – планета люд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й аппарат учебника соответствует проблемно-диалогическ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акт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 дополнительный 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сопровождены комментариями и вопро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и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е репродуктивные и творческие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C16C-4361-485E-8475-D4137DC8BC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F12D-78FA-4FC3-9C98-A7FE615D4B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линии развития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спользование географических карт в качестве источ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окружающего мира и критическое восприятие полученной информации с точки зрения геогра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B001-ABA8-4512-AAF2-DA5DFA071F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Раздел 6. «Мир географических систем» – единство природного и рукотвор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класс. Изучение природы, населения и хозяйства кажд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Единство физической и экономической географии на пример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912F-6031-4C3A-83ED-EC13DDF9F4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7 классы – освоение тематически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 – использование карт в качестве источни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EE33-E895-40F7-AF48-16A9FB72EA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нное овладение жизненно необходимыми географическими знаниями, умениями и навыкам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ля жизни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Умение объяснять окружающий природный мир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Как себя вести в случае стихийного б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класс. Пособие для туриста. Как себя вести в разны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Страна, в которой я живу, ее природа и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AA92-5D59-4580-987E-0C47E848F2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К по естествознанию 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1C7B-79BB-46E7-9921-505E042E95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5FAC-F4B1-4050-BECF-CB92DFECD4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ие цели курса естествознания – преодоление дефицитов биологии и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2B0-A9A9-474A-8F8F-1F3DED25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46F-9C83-4BDE-B98F-2B02C03D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F5F-0271-48FC-8F0C-3B88B9C9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D11-25A9-40D8-8BAC-39A8EC30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6E7A-3BE3-4881-8FC2-FFF8E255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2945A-9772-4F07-B180-31681F1D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93CBE-72E6-4068-9C43-5070B1E4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93E21-FD71-4273-B59C-676E4C61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7D27D-2C6E-46F3-B9EE-F72598CA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F947C-208E-454A-8D64-6521D05A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9B240-6153-445B-ABC5-5B51E621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82B-4556-4196-8B18-EA55F4D4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6E392-8CC2-40C3-A430-19CC411A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9D291-16F3-4F34-AF70-0118A7D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84E5A-832B-416E-8543-F67632D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0702B-1EC0-4946-82C9-5F432ACF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279DD-9B9D-4EBD-9392-31B1F28D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D02-D734-4006-AFDE-F85FB0CC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7BE-9F6E-4AA8-943F-ABD80CFB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116-FD46-4857-B5C1-BD99EA3F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D1D-3235-4EBB-841C-45AFA6C4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8E6-0391-4288-ACCB-C60DFAD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6C6-AEFB-4195-9A6D-6211F4F3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826-A674-4D21-BFB4-42DCD19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F1CD-690E-4993-AAD3-6235DC71C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4FFE-6B85-4624-9DF6-8767154DC8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55295856&amp;p=141&amp;ag=ih&amp;rpt2=simage&amp;qs=rpt%3Dimage%26text%3D%25FA%25C5%25CD%25CC%25D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hyperlink" Target="http://images.yandex.ru/yandpage?q=755295856&amp;p=4&amp;ag=ih&amp;rpt2=simage&amp;qs=rpt%3Dimage%26text%3D%25FA%25C5%25CD%25CC%25D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2079720"/>
            <a:ext cx="6605640" cy="217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обенности содержания учебников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Земли и жизни на ней – знакомство с самыми главными событи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5560" y="1905120"/>
            <a:ext cx="405108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перед, в прошлое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появилась на свет наша план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происходит  в недрах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ткуда на Земле вода и 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вращения горных пор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менялась поверхность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читают палеонтологическую летопис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живые существа изменяю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дки и потом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и как появилась жизнь на Зем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заре жизни: мир микроорганизм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перестали быть микроскопически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обзавелись скеле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Жизнь в древних моря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157720" y="2484360"/>
            <a:ext cx="3780000" cy="38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вышли на суш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растения изменили облик суш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осваивали сушу первые позвоноч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ши далекие предки – зверозубые яще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владыками суши были драк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воевание моря и неб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стки нового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вымир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ир травяных экосист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исхождение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оледен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менялся климат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шлое – ключ к будуще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2033280"/>
            <a:ext cx="4365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1. География древнего мира. План и кар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Наша Земля на карт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государства и перв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Земли и города библейский предан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планы в древности и сегодн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открытия в Древней Грец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знания в Римской импе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2. Средневековые путешествия и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викингов и арабов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европейцев в Центральную Азию, Индию и Кита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ходы и открытия русских на севере Европы и в Западной Сибир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3. Великие географические открытия. Градусная сетка на глобусе и карт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еликие географические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мер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кругосветн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обус, параллели и меридиан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координат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Искажение на карте и изменение во времен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е Австралии и Океан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292720" y="2033640"/>
            <a:ext cx="3328920" cy="44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4. Исследования в океанах и во внутренних частях матер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сследования Америк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русских землепроходцев в 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Русские экспедиции в Ледовитом и Тихом океан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в Южном полуша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рктике и Антаркт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кспедиции и открытия в Мировом океан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Евр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5. Современные исследования. Значение и использова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20 ве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Ориентирование по плану и на местности. Изображение рельеф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Аэро-и космические снимки. Разнообразие и значе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азомерная съем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бник  6 класса  «Мир Земл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422360" y="1494000"/>
            <a:ext cx="755964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чальный курс общего земле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ширенный астрономический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Земля – частица Вселенн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акцент знакомства с оболоч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и – три состояния вещества. Поэ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деле о гидросфере появили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разделы«Твердая вода» и «Жид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д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держание разделов имеет структур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кое введение в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содержание раздела: 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ждения до природополь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ведение итогов изучения раз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3" descr="i?id=875718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2000" y="4194000"/>
            <a:ext cx="117000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25" descr=" География (6-й класс). «Мир Земли» "/>
          <p:cNvPicPr/>
          <p:nvPr/>
        </p:nvPicPr>
        <p:blipFill>
          <a:blip r:embed="rId3"/>
          <a:stretch/>
        </p:blipFill>
        <p:spPr>
          <a:xfrm>
            <a:off x="385920" y="1628640"/>
            <a:ext cx="933120" cy="12384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 7 класса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емля – планета люд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035" descr="DSCN4006"/>
          <p:cNvPicPr/>
          <p:nvPr/>
        </p:nvPicPr>
        <p:blipFill>
          <a:blip r:embed="rId1"/>
          <a:stretch/>
        </p:blipFill>
        <p:spPr>
          <a:xfrm>
            <a:off x="6821640" y="41436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7" descr=" География (7-й класс). «Земля - планета людей» "/>
          <p:cNvPicPr/>
          <p:nvPr/>
        </p:nvPicPr>
        <p:blipFill>
          <a:blip r:embed="rId2"/>
          <a:stretch/>
        </p:blipFill>
        <p:spPr>
          <a:xfrm>
            <a:off x="431640" y="1628640"/>
            <a:ext cx="952560" cy="130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0" descr=" Народы мира. Книга для чтения по географии "/>
          <p:cNvPicPr/>
          <p:nvPr/>
        </p:nvPicPr>
        <p:blipFill>
          <a:blip r:embed="rId3"/>
          <a:stretch/>
        </p:blipFill>
        <p:spPr>
          <a:xfrm>
            <a:off x="385920" y="4734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92360" y="2168640"/>
            <a:ext cx="6254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 стран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ица рассмотрения – ст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комство с природой, населением и хозяйством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32"/>
          <p:cNvSpPr/>
          <p:nvPr/>
        </p:nvSpPr>
        <p:spPr>
          <a:xfrm>
            <a:off x="2006640" y="545472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роды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нига для чтения по географ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037" descr="i?id=1636019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315900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ческий аппарат учебника соответствует проблемно-диалогической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акту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й и дополнительный тек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люстрации сопровождены комментариями и вопро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ие вы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диционные репродуктивные и творческие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жнейшие линии развития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16280" y="2124000"/>
            <a:ext cx="69768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географических карт в качестве источника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снение окружающего мира и критическое восприятие полученной информации с точки зрения геогр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024" descr="e_maneb"/>
          <p:cNvPicPr/>
          <p:nvPr/>
        </p:nvPicPr>
        <p:blipFill>
          <a:blip r:embed="rId1"/>
          <a:stretch/>
        </p:blipFill>
        <p:spPr>
          <a:xfrm>
            <a:off x="385920" y="4959360"/>
            <a:ext cx="117144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6" descr="Leo"/>
          <p:cNvPicPr/>
          <p:nvPr/>
        </p:nvPicPr>
        <p:blipFill>
          <a:blip r:embed="rId2"/>
          <a:stretch/>
        </p:blipFill>
        <p:spPr>
          <a:xfrm>
            <a:off x="341280" y="2349360"/>
            <a:ext cx="1260360" cy="88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28" descr="глобус"/>
          <p:cNvPicPr/>
          <p:nvPr/>
        </p:nvPicPr>
        <p:blipFill>
          <a:blip r:embed="rId3"/>
          <a:stretch/>
        </p:blipFill>
        <p:spPr>
          <a:xfrm>
            <a:off x="341280" y="3429000"/>
            <a:ext cx="1270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46280" y="2033640"/>
            <a:ext cx="619920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Раздел 6. «Мир географических систем» – единство природного и рукотвор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Изучение природы, населения и хозяйства каждой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Единство физической и экономической географии на примере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24" descr="naber"/>
          <p:cNvPicPr/>
          <p:nvPr/>
        </p:nvPicPr>
        <p:blipFill>
          <a:blip r:embed="rId1"/>
          <a:stretch/>
        </p:blipFill>
        <p:spPr>
          <a:xfrm>
            <a:off x="297000" y="180828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26" descr="puspa_samadhi_1_web"/>
          <p:cNvPicPr/>
          <p:nvPr/>
        </p:nvPicPr>
        <p:blipFill>
          <a:blip r:embed="rId2"/>
          <a:stretch/>
        </p:blipFill>
        <p:spPr>
          <a:xfrm>
            <a:off x="250920" y="3338640"/>
            <a:ext cx="202572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8" descr="флаг России"/>
          <p:cNvPicPr/>
          <p:nvPr/>
        </p:nvPicPr>
        <p:blipFill>
          <a:blip r:embed="rId3"/>
          <a:stretch/>
        </p:blipFill>
        <p:spPr>
          <a:xfrm>
            <a:off x="206280" y="5003640"/>
            <a:ext cx="2070360" cy="11289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1640" y="1989000"/>
            <a:ext cx="669456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-7 классы – освоение тематических ка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 – использование карт в качестве источника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" descr="карта России"/>
          <p:cNvPicPr/>
          <p:nvPr/>
        </p:nvPicPr>
        <p:blipFill>
          <a:blip r:embed="rId1"/>
          <a:stretch/>
        </p:blipFill>
        <p:spPr>
          <a:xfrm>
            <a:off x="297000" y="216864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политическая карта"/>
          <p:cNvPicPr/>
          <p:nvPr/>
        </p:nvPicPr>
        <p:blipFill>
          <a:blip r:embed="rId2"/>
          <a:stretch/>
        </p:blipFill>
        <p:spPr>
          <a:xfrm>
            <a:off x="250920" y="333864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URAL"/>
          <p:cNvPicPr/>
          <p:nvPr/>
        </p:nvPicPr>
        <p:blipFill>
          <a:blip r:embed="rId3"/>
          <a:stretch/>
        </p:blipFill>
        <p:spPr>
          <a:xfrm>
            <a:off x="162000" y="482436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сознанное овладение жизненно необходимыми географическими знаниями, умениями и навыками для жизни в современных условия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97000" y="1943280"/>
            <a:ext cx="679464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Умение объяснять окружающий природный мир. Как себя вести в случае стихийного б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Пособие для туриста. Как себя вести в разных стра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Страна, в которой я живу, ее природа и хозя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24" descr="флаг России"/>
          <p:cNvPicPr/>
          <p:nvPr/>
        </p:nvPicPr>
        <p:blipFill>
          <a:blip r:embed="rId1"/>
          <a:stretch/>
        </p:blipFill>
        <p:spPr>
          <a:xfrm>
            <a:off x="297000" y="5049720"/>
            <a:ext cx="1395360" cy="76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6" descr="23709"/>
          <p:cNvPicPr/>
          <p:nvPr/>
        </p:nvPicPr>
        <p:blipFill>
          <a:blip r:embed="rId2"/>
          <a:stretch/>
        </p:blipFill>
        <p:spPr>
          <a:xfrm>
            <a:off x="476280" y="194328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9" descr="2340"/>
          <p:cNvPicPr/>
          <p:nvPr/>
        </p:nvPicPr>
        <p:blipFill>
          <a:blip r:embed="rId3"/>
          <a:stretch/>
        </p:blipFill>
        <p:spPr>
          <a:xfrm>
            <a:off x="206280" y="3203640"/>
            <a:ext cx="1557360" cy="15462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МК по естествознанию и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0" descr="nat_5clm"/>
          <p:cNvPicPr/>
          <p:nvPr/>
        </p:nvPicPr>
        <p:blipFill>
          <a:blip r:embed="rId1"/>
          <a:stretch/>
        </p:blipFill>
        <p:spPr>
          <a:xfrm>
            <a:off x="539640" y="524664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nat_5cl1"/>
          <p:cNvPicPr/>
          <p:nvPr/>
        </p:nvPicPr>
        <p:blipFill>
          <a:blip r:embed="rId2"/>
          <a:stretch/>
        </p:blipFill>
        <p:spPr>
          <a:xfrm>
            <a:off x="539640" y="2149560"/>
            <a:ext cx="95256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at_5cl2"/>
          <p:cNvPicPr/>
          <p:nvPr/>
        </p:nvPicPr>
        <p:blipFill>
          <a:blip r:embed="rId3"/>
          <a:stretch/>
        </p:blipFill>
        <p:spPr>
          <a:xfrm>
            <a:off x="539640" y="3608280"/>
            <a:ext cx="1052640" cy="131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763640" y="2293920"/>
            <a:ext cx="151128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170028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92360" y="1700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372360" y="16286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76364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692360" y="5408640"/>
            <a:ext cx="153036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716360" y="2293920"/>
            <a:ext cx="136836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Мир Земл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71636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7597800" y="2205000"/>
            <a:ext cx="1546200" cy="1067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Земля – планета люде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527720" y="5319720"/>
            <a:ext cx="161892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7632720" y="36990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 География (6-й класс). «Мир Земли». Методические рекомендации "/>
          <p:cNvPicPr/>
          <p:nvPr/>
        </p:nvPicPr>
        <p:blipFill>
          <a:blip r:embed="rId4"/>
          <a:stretch/>
        </p:blipFill>
        <p:spPr>
          <a:xfrm>
            <a:off x="3492360" y="5138640"/>
            <a:ext cx="93024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 География (7-й класс). «Земля - планета людей» "/>
          <p:cNvPicPr/>
          <p:nvPr/>
        </p:nvPicPr>
        <p:blipFill>
          <a:blip r:embed="rId5"/>
          <a:stretch/>
        </p:blipFill>
        <p:spPr>
          <a:xfrm>
            <a:off x="6327720" y="2124000"/>
            <a:ext cx="986040" cy="134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 Рабочая тетрадь к учебнику географии «Земля - планета людей» "/>
          <p:cNvPicPr/>
          <p:nvPr/>
        </p:nvPicPr>
        <p:blipFill>
          <a:blip r:embed="rId6"/>
          <a:stretch/>
        </p:blipFill>
        <p:spPr>
          <a:xfrm>
            <a:off x="6281640" y="3564000"/>
            <a:ext cx="1101960" cy="139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 Уроки географии в 7-м классе по учебнику «Земля – планета людей». Методические рекомендации для учителя "/>
          <p:cNvPicPr/>
          <p:nvPr/>
        </p:nvPicPr>
        <p:blipFill>
          <a:blip r:embed="rId7"/>
          <a:stretch/>
        </p:blipFill>
        <p:spPr>
          <a:xfrm>
            <a:off x="6327720" y="504972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 География (6-й класс). «Мир Земли» "/>
          <p:cNvPicPr/>
          <p:nvPr/>
        </p:nvPicPr>
        <p:blipFill>
          <a:blip r:embed="rId8"/>
          <a:stretch/>
        </p:blipFill>
        <p:spPr>
          <a:xfrm>
            <a:off x="3537000" y="216864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 Рабочая тетрадь к учебнику географии для 6-го класса «Мир Земли» "/>
          <p:cNvPicPr/>
          <p:nvPr/>
        </p:nvPicPr>
        <p:blipFill>
          <a:blip r:embed="rId9"/>
          <a:stretch/>
        </p:blipFill>
        <p:spPr>
          <a:xfrm>
            <a:off x="3446640" y="3473280"/>
            <a:ext cx="118080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7316640" y="5364000"/>
            <a:ext cx="161928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бник «Земля и люд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nat_5cl1"/>
          <p:cNvPicPr/>
          <p:nvPr/>
        </p:nvPicPr>
        <p:blipFill>
          <a:blip r:embed="rId1"/>
          <a:stretch/>
        </p:blipFill>
        <p:spPr>
          <a:xfrm>
            <a:off x="324000" y="1484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geo_6cl1"/>
          <p:cNvPicPr/>
          <p:nvPr/>
        </p:nvPicPr>
        <p:blipFill>
          <a:blip r:embed="rId2"/>
          <a:stretch/>
        </p:blipFill>
        <p:spPr>
          <a:xfrm>
            <a:off x="5940360" y="5373720"/>
            <a:ext cx="952560" cy="122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835280" y="1844640"/>
            <a:ext cx="2663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Земли и жизни на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859280" y="1844640"/>
            <a:ext cx="4033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47640" y="2924280"/>
            <a:ext cx="3240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ые события в жизни Зем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м прошлое, а применяем – в настоящ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148360" y="2924280"/>
            <a:ext cx="3240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я географических открыт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мство с карт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графическая номенклату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bio_6cl1"/>
          <p:cNvPicPr/>
          <p:nvPr/>
        </p:nvPicPr>
        <p:blipFill>
          <a:blip r:embed="rId3"/>
          <a:stretch/>
        </p:blipFill>
        <p:spPr>
          <a:xfrm>
            <a:off x="2268360" y="530064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150" name="Line 10"/>
          <p:cNvSpPr/>
          <p:nvPr/>
        </p:nvSpPr>
        <p:spPr>
          <a:xfrm>
            <a:off x="2771640" y="443700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372360" y="4653000"/>
            <a:ext cx="0" cy="64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4000" y="4797360"/>
            <a:ext cx="172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5800" y="4797360"/>
            <a:ext cx="17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географ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е цели курса естествознания – преодоление дефицитов биологии и ге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920" y="1988640"/>
            <a:ext cx="414036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188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976640" y="4689360"/>
            <a:ext cx="4005360" cy="139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освоения Земли и развития способов ее изображения на кар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32360" y="1989000"/>
            <a:ext cx="3960720" cy="134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развития Земли и жизни на не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4734000"/>
            <a:ext cx="4006800" cy="14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Разрыв между историей в гуманитарном и естественнонаучном смыслах: история людей оказывается оторванной от истории природ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4346640" y="239400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302000" y="518472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1:21:39Z</dcterms:created>
  <dc:creator>Вахрушев Шура</dc:creator>
  <dc:description/>
  <dc:language>en-US</dc:language>
  <cp:lastModifiedBy>LEGION</cp:lastModifiedBy>
  <dcterms:modified xsi:type="dcterms:W3CDTF">2014-12-29T08:43:59Z</dcterms:modified>
  <cp:revision>118</cp:revision>
  <dc:subject/>
  <dc:title>БИОЛОГ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