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9C0F-49F9-4C57-88AE-614080A29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глазами географ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8714-37B1-46A4-9374-4C74AF1417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ус не всегда был таким, как сейча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елем первого глобуса бы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цкий географ Мартин  Бехай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было в 1492 году. Свою модель он назвал «земное яблок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глобус Бехай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личается от современного глобуса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нём не было Северной и Южной Америк, они не были откры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т, глобусом в путешествии пользоваться неудоб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7A8-E059-4A4E-B4AE-BE2409D2CA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ути нужен другой помощник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оторыми видами географических карт мы уже пользовались: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а России, Политическая карта мира, Эколог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изображение Земли на бума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условное изображение поверхности Земли на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D7A-9B48-4087-97A0-38ABEC31DB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м глобус и карту полушарий. Что между ними общего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- это целый шар, а на карте две полов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адное полушарие и Восточное полуша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F91-6D24-4ED5-9DF0-8A2F929136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территориальную организацию человече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3373-05DB-4A67-B43E-24A5479602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чески развит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ие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BA6-4773-4BCB-A3BA-E8A04349A5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9A82-C30C-49FC-825E-7BDA767D7F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 текст учебника стр.22-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стр.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ься к те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9F7-45DF-4220-B78A-1F5169E6D3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368-4777-4495-A801-6A85FBA978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CC5-D5F6-4E8E-909D-717BC28014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же такое география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как толкует слово «география» С.И. Ожег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B500-C0FE-44C9-80B2-7CB3FE987D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географы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 - специалист по ге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учает география? Что же нам может объяснить  современная   география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других — жаркое лето, почему в одних странах ловят рыбу, а в других добывают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изобретения человека помогают нам путешествовать по планете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лобус и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9CF8-46FC-405E-AE7B-ADF3FB5648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форму имеет глобус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имеет форму шара, немного приплюснут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он имеет окраску?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глобусе есть синий, желтый, коричневый, зеленый, белый цвета. Си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да, желтый, коричневый, зеленый — суша, белый - л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глобус называют «мяч в сетке»?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Глобус покрыт линиями, будто с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BF8F-2685-4622-A8B1-FF7653AFD9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две точки глобуса остаются на месте при его враще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ращении на месте остаются полюса: северный и ю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линиях, расположенных горизонт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изонтальные линии разные по длине, у полюсов это маленькие кол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зывают «главный пояс Земли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Главный пояс земли» - эквато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вертикальных ли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ртикальные линии соединяются в одну точку на полю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5674-F6C9-4826-A6B0-0D523AFBCF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C63-54A7-4357-81ED-C207F431DA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ии расположены паралл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их можно назвать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аралл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Тихий, Атлантический ,Индийский и Северный Ледови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можете сказать о матери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657-E3D6-4B63-9006-E9809D1384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410-B12A-47DE-82FE-438206AE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59D-5298-475A-B768-6E6DB7FA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42-AC57-4CE0-AC5C-CDFDD18A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FAA-8029-4D37-9952-47091CC5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C539-9870-41D8-9666-A00DDC80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C5A61-C0EA-4674-8879-B1410482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C190-50A4-40E1-B96E-76A69E2A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CB677-E4FF-404F-9D13-AD5EEAEA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7C52-CCA7-4FF5-A0E5-B584697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02F1-DF84-43CA-B39E-97F41972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B97F5-2689-4DDC-95CE-E28DAB5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A88-33F1-4E30-8EA3-D608854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2EE99-6E73-434F-9EE1-853B0FD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0269C-D60A-4577-9556-9E4D9A80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25F67-A05E-4D45-B861-E898B204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3512-F3EA-4735-B69D-A8AFC2AB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E77BF-EB88-4542-81DF-9808445D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79F-8FBF-4410-A796-F3773D4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139-DDFA-45C9-924A-8EDBBD3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247-23FE-4C66-9F58-0D31A87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F47-197A-48F8-8F07-92895701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26B-EE61-41D4-8C39-5683FE9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682-4504-49DE-ACBD-0CBAB8E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45E-C761-45D2-BF4E-5D17662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F132-25AC-4445-AF29-4CEE8073B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E2F1-6765-422F-B47C-D82A5ACD99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р глазами географ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301252"/>
          <p:cNvPicPr/>
          <p:nvPr/>
        </p:nvPicPr>
        <p:blipFill>
          <a:blip r:embed="rId1"/>
          <a:stretch/>
        </p:blipFill>
        <p:spPr>
          <a:xfrm>
            <a:off x="4500720" y="1843200"/>
            <a:ext cx="4032000" cy="414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обус не всегда был таким, как сейчас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ем первого глобуса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ецкий географ Мартин  Бехай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было в 1492 году. Свою модель он назвал «земное яблок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 глобус Бехай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от современного глобуса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нём не было Северной и Южной Америк, они не были откры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, глобусом в путешествии пользоваться неудоб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ти нужен другой помощник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географ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торыми видами географических карт мы уже пользовались: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ая карта России, Политическая карта мира, Эколог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изображение Земли на бума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условное изображение поверхности Земли на плос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geo-small"/>
          <p:cNvPicPr/>
          <p:nvPr/>
        </p:nvPicPr>
        <p:blipFill>
          <a:blip r:embed="rId1"/>
          <a:stretch/>
        </p:blipFill>
        <p:spPr>
          <a:xfrm>
            <a:off x="4356000" y="1484280"/>
            <a:ext cx="4608720" cy="42498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м глобус и карту полушарий. Что между ними общего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обус - это целый шар, а на карте две полов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адное полушарие и Восточное полушар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ая географ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учает территориальную организацию человеческого об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j0251301"/>
          <p:cNvPicPr/>
          <p:nvPr/>
        </p:nvPicPr>
        <p:blipFill>
          <a:blip r:embed="rId1"/>
          <a:stretch/>
        </p:blipFill>
        <p:spPr>
          <a:xfrm>
            <a:off x="3924360" y="1843200"/>
            <a:ext cx="4535280" cy="4005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ономически развит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ющиес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j0285360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6087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 текст учебника стр.22-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те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11" descr="polit-map-small"/>
          <p:cNvPicPr/>
          <p:nvPr/>
        </p:nvPicPr>
        <p:blipFill>
          <a:blip r:embed="rId1"/>
          <a:stretch/>
        </p:blipFill>
        <p:spPr>
          <a:xfrm>
            <a:off x="755640" y="3357720"/>
            <a:ext cx="7488360" cy="2447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такое география?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как толкует слово «география» С.И. Ожег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ография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такие географы?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 - специалист по географ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изучает география? Что же нам может объяснить  современная   география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других — жаркое лето, почему в одних странах ловят рыбу, а в других добывают неф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ие изобретения человека помогают нам путешествовать по планете?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о глобус и географическая ка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форму имеет глобу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лобус имеет форму шара, немного приплюснут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он имеет окраску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глобусе есть синий, желтый, коричневый, зеленый, белый цвета. Си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да, желтый, коричневый, зеленый — суша, белый -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глобус называют «мяч в сетке»?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Глобус покрыт линиями, будто с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две точки глобуса остаются на месте при его вращ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вращении на месте остаются полюса: северный и юж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линиях, расположенных горизонта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изонтальные линии разные по длине, у полюсов это маленькие коле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азывают «главный пояс Земли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Главный пояс земли» - эквато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вертикальных линия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ртикальные линии соединяются в одну точку на полю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G-85-ATEv0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нии расположены паралл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х можно назвать?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ралл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Тихий, Атлантический ,Индийский и Северный Ледовит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можете сказать о матери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lip_image005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07Z</dcterms:created>
  <dc:creator>оля</dc:creator>
  <dc:description/>
  <dc:language>en-US</dc:language>
  <cp:lastModifiedBy>LEGION</cp:lastModifiedBy>
  <dcterms:modified xsi:type="dcterms:W3CDTF">2014-12-29T09:26:03Z</dcterms:modified>
  <cp:revision>8</cp:revision>
  <dc:subject/>
  <dc:title>Мир глазами географа!</dc:title>
</cp:coreProperties>
</file>