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B9E7-24BE-4FD3-80FE-CAA94103DC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глазами географ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A46E-9451-4AD3-87C1-0EF3F1493F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ус не всегда был таким, как сейча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елем первого глобуса бы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цкий географ Мартин  Бехай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было в 1492 году. Свою модель он назвал «земное яблок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глобус Бехай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личается от современного глобуса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нём не было Северной и Южной Америк, они не были откры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т, глобусом в путешествии пользоваться неудоб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B3F7-BDAE-4B6B-99F0-18035D12E4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ути нужен другой помощник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оторыми видами географических карт мы уже пользовались: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а России, Политическая карта мира, Эколог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изображение Земли на бума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условное изображение поверхности Земли на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26C4-68A2-4EDA-A7F3-685C41F85D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м глобус и карту полушарий. Что между ними общего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- это целый шар, а на карте две полов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адное полушарие и Восточное полуша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A037-679B-42DD-B7BD-40061A9302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т территориальную организацию человече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4C86-51F0-419B-8964-8E36D89AAB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чески развит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вающие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2E8C-037D-4DB4-9AF5-E9A94738B7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1CB3-C396-43B1-B426-48C2802B7B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 текст учебника стр.22-2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стр.2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ься к те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86CA-FC4B-48D8-9F11-E05302167A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E54F-87E4-4FBE-918A-440AC12378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3CA1-FFB4-4E6B-9039-27A70B7E87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же такое география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как толкует слово «география» С.И. Ожег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EB4C-5FD8-4C2B-B2A2-79F4134B22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географы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 - специалист по ге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учает география? Что же нам может объяснить  современная   география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других — жаркое лето, почему в одних странах ловят рыбу, а в других добывают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изобретения человека помогают нам путешествовать по планете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лобус и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8233-3C75-4169-B36A-CBD59AB7C6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форму имеет глобус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имеет форму шара, немного приплюснут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он имеет окраску?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глобусе есть синий, желтый, коричневый, зеленый, белый цвета. Си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да, желтый, коричневый, зеленый — суша, белый - л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глобус называют «мяч в сетке»?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Глобус покрыт линиями, будто с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9FB4-DFEF-4B8C-8E57-14FDCA298E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две точки глобуса остаются на месте при его враще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ращении на месте остаются полюса: северный и ю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линиях, расположенных горизонт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изонтальные линии разные по длине, у полюсов это маленькие кол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зывают «главный пояс Земли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Главный пояс земли» - эквато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вертикальных ли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ртикальные линии соединяются в одну точку на полю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33CC-140A-4F55-9DB7-FDCF8B176D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D9E1-D776-4B3A-98E0-4626675951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ии расположены паралл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их можно назвать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аралл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Тихий, Атлантический ,Индийский и Северный Ледови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можете сказать о матери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82E7-6202-4746-854F-558B33F702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174-EC59-4695-9475-1763A814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5F1-A866-4527-90A6-F66537F4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E74-8AB3-43B9-AEF6-961C739E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408-346E-40AE-8139-ACEC23D6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702DA-5E0C-4F49-81DD-F9943AC2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560AC-2F90-4257-9505-711B1182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CCDB0-9CF7-4CAC-B534-76819086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7AA89-F0DB-4A2B-8A79-50C25C8A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00EB8-C4C4-471C-9A0F-3CF65DF2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7F731-2104-47D5-BF42-6083BFFE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BA734-E22A-4343-A06D-D2A4A9C3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607-1E06-418C-89BD-6F31579F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CE1F9-5997-46C5-B20D-5FC6D1A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8D460-4AD6-4474-B706-552C415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0505A-697C-4792-8339-611A1EA0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AD312-08C4-4943-A031-3B821F8A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B8848-2F49-4D19-A7A0-54AF83F2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794-7F9F-4892-9175-FF34A1AE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B75-F7D3-4B1D-984C-DFD6C349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A38-3D02-4C71-9C27-FAE4589A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377-C2D7-4EE2-B94D-0A74F682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855-24E9-47C0-9C74-4D3FBBA9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F98-8E41-4BC8-912D-5ECAA002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B9E-889F-4A03-98D0-482D170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9790-3FCE-41B6-8BCC-174EC1BFC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CF22-F6C9-4B42-AC9F-DB4E994CC5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ир глазами географа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301252"/>
          <p:cNvPicPr/>
          <p:nvPr/>
        </p:nvPicPr>
        <p:blipFill>
          <a:blip r:embed="rId1"/>
          <a:stretch/>
        </p:blipFill>
        <p:spPr>
          <a:xfrm>
            <a:off x="4500720" y="1843200"/>
            <a:ext cx="4032000" cy="414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лобус не всегда был таким, как сейчас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телем первого глобуса бы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ецкий географ Мартин  Бехай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то было в 1492 году. Свою модель он назвал «земное яблок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м глобус Бехай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ается от современного глобуса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нём не было Северной и Южной Америк, они не были откры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т, глобусом в путешествии пользоваться неудоб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ти нужен другой помощник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о географ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торыми видами географических карт мы уже пользовались: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изическая карта России, Политическая карта мира, Эколог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изображение Земли на бума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условное изображение поверхности Земли на плос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geo-small"/>
          <p:cNvPicPr/>
          <p:nvPr/>
        </p:nvPicPr>
        <p:blipFill>
          <a:blip r:embed="rId1"/>
          <a:stretch/>
        </p:blipFill>
        <p:spPr>
          <a:xfrm>
            <a:off x="4356000" y="1484280"/>
            <a:ext cx="4608720" cy="42498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вним глобус и карту полушарий. Что между ними общего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лобус - это целый шар, а на карте две полови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падное полушарие и Восточное полушар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6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ономическая географ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зучает территориальную организацию человеческого об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7" descr="j0251301"/>
          <p:cNvPicPr/>
          <p:nvPr/>
        </p:nvPicPr>
        <p:blipFill>
          <a:blip r:embed="rId1"/>
          <a:stretch/>
        </p:blipFill>
        <p:spPr>
          <a:xfrm>
            <a:off x="3924360" y="1843200"/>
            <a:ext cx="4535280" cy="4005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кономически развит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вивающиес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j0285360"/>
          <p:cNvPicPr/>
          <p:nvPr/>
        </p:nvPicPr>
        <p:blipFill>
          <a:blip r:embed="rId1"/>
          <a:stretch/>
        </p:blipFill>
        <p:spPr>
          <a:xfrm>
            <a:off x="4572000" y="1484280"/>
            <a:ext cx="4248000" cy="46087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 текст учебника стр.22-2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2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тес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ль работы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11" descr="polit-map-small"/>
          <p:cNvPicPr/>
          <p:nvPr/>
        </p:nvPicPr>
        <p:blipFill>
          <a:blip r:embed="rId1"/>
          <a:stretch/>
        </p:blipFill>
        <p:spPr>
          <a:xfrm>
            <a:off x="755640" y="3357720"/>
            <a:ext cx="7488360" cy="2447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такое география?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как толкует слово «география» С.И. Ожег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ография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такие географы?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 - специалист по географ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изучает география? Что же нам может объяснить  современная   география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других — жаркое лето, почему в одних странах ловят рыбу, а в других добывают неф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ие изобретения человека помогают нам путешествовать по планете?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Это глобус и географическая кар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форму имеет глобу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лобус имеет форму шара, немного приплюснут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он имеет окраску?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глобусе есть синий, желтый, коричневый, зеленый, белый цвета. Син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да, желтый, коричневый, зеленый — суша, белый - л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ему глобус называют «мяч в сетке»?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Глобус покрыт линиями, будто сет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две точки глобуса остаются на месте при его вращен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вращении на месте остаются полюса: северный и юж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линиях, расположенных горизонта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оризонтальные линии разные по длине, у полюсов это маленькие коле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азывают «главный пояс Земли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Главный пояс земли» - эквато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вертикальных линия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ртикальные линии соединяются в одну точку на полю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MG-85-ATEv0"/>
          <p:cNvPicPr/>
          <p:nvPr/>
        </p:nvPicPr>
        <p:blipFill>
          <a:blip r:embed="rId1"/>
          <a:stretch/>
        </p:blipFill>
        <p:spPr>
          <a:xfrm>
            <a:off x="4932360" y="692280"/>
            <a:ext cx="3743280" cy="51847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инии расположены паралл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их можно назвать?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аралл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: Тихий, Атлантический ,Индийский и Северный Ледовит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можете сказать о материк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clip_image005"/>
          <p:cNvPicPr/>
          <p:nvPr/>
        </p:nvPicPr>
        <p:blipFill>
          <a:blip r:embed="rId1"/>
          <a:stretch/>
        </p:blipFill>
        <p:spPr>
          <a:xfrm>
            <a:off x="4500720" y="476280"/>
            <a:ext cx="424800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07Z</dcterms:created>
  <dc:creator>оля</dc:creator>
  <dc:description/>
  <dc:language>en-US</dc:language>
  <cp:lastModifiedBy>LEGION</cp:lastModifiedBy>
  <dcterms:modified xsi:type="dcterms:W3CDTF">2014-12-29T09:26:03Z</dcterms:modified>
  <cp:revision>8</cp:revision>
  <dc:subject/>
  <dc:title>Мир глазами географа!</dc:title>
</cp:coreProperties>
</file>