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911A-5193-43B5-A859-A63D636BF4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глазами географ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4FC4-0A1D-4467-A341-EBD79F6C02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обус не всегда был таким, как сейчас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елем первого глобуса бы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цкий географ Мартин  Бехай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было в 1492 году. Свою модель он назвал «земное яблок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глобус Бехай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личается от современного глобуса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нём не было Северной и Южной Америк, они не были откры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ре изучения Земли на глобусе появлялось все больше и больше географических объектов. Представьте себе, что вы отправляетесь в далекое путешествие по земному шару. Удобно ли вам будет в пути ориентироваться по глобу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т, глобусом в путешествии пользоваться неудоб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005A-A67A-40CC-9211-3B836EF123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ути нужен другой помощник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географ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оторыми видами географических карт мы уже пользовались: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изическая карта России, Политическая карта мира, Эколог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ческая карта - это изображение Земли на бума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ческая карта - это условное изображение поверхности Земли на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1CCB-9B0E-46BC-AB65-802BB243A1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м глобус и карту полушарий. Что между ними общего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карте и на глобусе встречаются одни и те же цвета: синий, белый, коричневый, зеленый, желтый. На карте, и на глобусе указаны материки и океаны. На карте и на глобусе мы видим экватор, параллели и меридианы. Также  указаны Северный Полюс и Южный Полю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лобус - это целый шар, а на карте две полов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сем не случайно эту карту называют «Карта полушарий». «Половинки» - это полушария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падное полушарие и Восточное полуша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масштаб. Он нам показывает, сколько километров на местности соответствует одному сантиметру на кар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D4FD-0221-458B-A6F4-5B554BF714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геогра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т территориальную организацию человече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8556-B897-48B3-BACC-9170098C2D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я из уровня социально-экономического развития, страны мира сегодня принято подразделять на два тип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чески развит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вающие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36E2-5367-400D-AC95-C0A3FF255B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география дает наиболее полные знания о природе, населении и хозяйстве того или иного региона нашей страны и мира в целом, она помогает прогнозировать и моделировать, те изменения природы, которые вызываются хозяйственной деятельностью людей. Без учета особенностей природы и населения нельзя определить политику развития региона. География обеспечивает контроль над состоянием природы, участвует в разработке системы мероприятий по борьбе с негативными последствиями воздействия человека на природу, дает прогнозы изменения и развития отдельных террит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7752-6487-4D3F-A03C-24086DC5EF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 текст учебника стр.22-2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 стр.2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ься к те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2D46-52BC-4750-825D-5AEE2C00E1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аукой, изучающей Землю, - географией; сформировать представление о глобусе и географической карте; закрепить умение работать с картой и глобусом; развивать умение наблюдать, сравнивать, анализировать, делать вы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B914-BE03-4EF7-820C-89CD545DAE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посмотрим на окружающий нас мир глазами географов, узнаем, что такое география и что она изуч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8E2C-D88C-4507-A49E-1B0B9C4A42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же такое география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наука о Земле. В переводе с греческого «география» означает «землеописание». Это слово образовалось из двух слов: «гео» - Земля и «графо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и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телось бы добавить, что «гео» - это сокращение от «Гея» - так звали греческую богиню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как толкует слово «география» С.И. Ожег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наук, изучающих поверхность Земли с ее природными условиями, распределение на ней населения, экономиче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8FDC-D11B-430B-862F-04078C9C64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такие географы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 - специалист по ге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учает география? Что же нам может объяснить  современная   география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изучает природу земной поверхности, население и его хозяйствен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объясняет,   почему Земля такая круглая, почему в одних районах лежит снег, а 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других — жаркое лето, почему в одних странах ловят рыбу, а в других добывают неф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изобретения человека помогают нам путешествовать по планете?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глобус и географ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D2AA-6757-419E-B745-8538A774C5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ую форму имеет глобус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лобус имеет форму шара, немного приплюснут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ую он имеет окраску?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глобусе есть синий, желтый, коричневый, зеленый, белый цвета. Си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да, желтый, коричневый, зеленый — суша, белый - л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глобус называют «мяч в сетке»?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Глобус покрыт линиями, будто с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6687-6B73-4A61-A5FB-A39114B8EE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две точки глобуса остаются на месте при его враще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ращении на месте остаются полюса: северный и юж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скажете о линиях, расположенных горизонт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изонтальные линии разные по длине, у полюсов это маленькие коле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называют «главный пояс Земли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Главный пояс земли» - эквато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скажете о вертикальных лин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ртикальные линии соединяются в одну точку на полю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55A5-967D-45CD-ABD8-78FB7D8030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линия на глобусе имеет, свое название. Вы уже сказали, что «главный пояс Земли» - это экватор, его еще называют «самая длинная параллель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0D08-9055-4F40-A7EE-00E32E81FB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же называют остальные горизонтальные линии? Как они расположены друг относительно  дру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ии расположены паралл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их можно назвать?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аралл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тикальные линии, соединяющие полюса, называются меридианами. На глобусе указаны материки и океаны. Четыре океана на земном шар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Тихий, Атлантический ,Индийский и Северный Ледови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можете сказать о матери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териков шесть: Евразия, Африка, Австралия, Антарктида, Северная Америка, Южная Амер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4383-E91E-4026-B34F-79F51FCFF4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BE6-DCCC-4CDE-A1AF-B4AE0AF3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A30-DEF0-45FF-B398-432EBCB2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FDC-20F8-48FA-B6CA-346FB02D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CB0-FFFC-47D7-8E43-39255569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DC01D-7C11-48D0-A37C-4B6E9AA4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32AA5-3779-4F7C-B8A4-BD814FE7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929EF-E45A-44D0-BE13-48FFE6EF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B3F71-919C-4DFE-AF5B-EF964F71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33182-EDC9-48C0-94A9-5F23F33D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1404C-F629-45FF-9B1F-1486B8AB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A2A50-1474-4001-9B7C-ADAE941A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9C9-B906-425D-BFEC-99DD7433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649A9-9061-4BB0-95D6-07951B21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4AE1B-BBEE-47DE-8687-85A9D514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F6922-8C40-4476-A28D-981E26BB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F9D86-84B9-4EDF-9A64-CABDF94C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B44E7-D10C-45E5-8453-3F55F4D4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CF8-4C07-4F9F-9EBC-B10096A8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D19-84F3-4E7B-BDE6-E08E86A6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31A-997C-4EC4-A856-1460FE97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04D-9912-46F9-828F-88066A88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D79-0259-46EE-A173-BE2DD16C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E6D-FC96-4C76-B378-D1644D59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726-EC7B-43B2-817A-E56CB91C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2CB9-2729-404F-AC54-C9EA5472E1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22FE-9683-440B-9B20-436A9B9DE6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ир глазами географа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j0301252"/>
          <p:cNvPicPr/>
          <p:nvPr/>
        </p:nvPicPr>
        <p:blipFill>
          <a:blip r:embed="rId1"/>
          <a:stretch/>
        </p:blipFill>
        <p:spPr>
          <a:xfrm>
            <a:off x="4500720" y="1843200"/>
            <a:ext cx="4032000" cy="4149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4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лобус не всегда был таким, как сейчас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телем первого глобуса бы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ецкий географ Мартин  Бехай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Это было в 1492 году. Свою модель он назвал «земное яблок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м глобус Бехай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ается от современного глобуса?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нём не было Северной и Южной Америк, они не были откры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мере изучения Земли на глобусе появлялось все больше и больше географических объектов. Представьте себе, что вы отправляетесь в далекое путешествие по земному шару. Удобно ли вам будет в пути ориентироваться по глобусу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т, глобусом в путешествии пользоваться неудоб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5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ти нужен другой помощник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Это географическая к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торыми видами географических карт мы уже пользовались: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изическая карта России, Политическая карта мира, Экологическая к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еографическая карта - это изображение Земли на бума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еографическая карта - это условное изображение поверхности Земли на плос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geo-small"/>
          <p:cNvPicPr/>
          <p:nvPr/>
        </p:nvPicPr>
        <p:blipFill>
          <a:blip r:embed="rId1"/>
          <a:stretch/>
        </p:blipFill>
        <p:spPr>
          <a:xfrm>
            <a:off x="4356000" y="1484280"/>
            <a:ext cx="4608720" cy="42498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5.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авним глобус и карту полушарий. Что между ними общего?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карте и на глобусе встречаются одни и те же цвета: синий, белый, коричневый, зеленый, желтый. На карте, и на глобусе указаны материки и океаны. На карте и на глобусе мы видим экватор, параллели и меридианы. Также  указаны Северный Полюс и Южный Полю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лобус - это целый шар, а на карте две полови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сем не случайно эту карту называют «Карта полушарий». «Половинки» - это полушария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падное полушарие и Восточное полушар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тите внимание на масштаб. Он нам показывает, сколько километров на местности соответствует одному сантиметру на кар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6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кономическая географ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зучает территориальную организацию человеческого общ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7" descr="j0251301"/>
          <p:cNvPicPr/>
          <p:nvPr/>
        </p:nvPicPr>
        <p:blipFill>
          <a:blip r:embed="rId1"/>
          <a:stretch/>
        </p:blipFill>
        <p:spPr>
          <a:xfrm>
            <a:off x="3924360" y="1843200"/>
            <a:ext cx="4535280" cy="40050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ходя из уровня социально-экономического развития, страны мира сегодня принято подразделять на два типа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экономически развиты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ы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звивающиес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лько география дает наиболее полные знания о природе, населении и хозяйстве того или иного региона нашей страны и мира в целом, она помогает прогнозировать и моделировать, те изменения природы, которые вызываются хозяйственной деятельностью людей. Без учета особенностей природы и населения нельзя определить политику развития региона. География обеспечивает контроль над состоянием природы, участвует в разработке системы мероприятий по борьбе с негативными последствиями воздействия человека на природу, дает прогнозы изменения и развития отдельных территор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8" descr="j0285360"/>
          <p:cNvPicPr/>
          <p:nvPr/>
        </p:nvPicPr>
        <p:blipFill>
          <a:blip r:embed="rId1"/>
          <a:stretch/>
        </p:blipFill>
        <p:spPr>
          <a:xfrm>
            <a:off x="4572000" y="1484280"/>
            <a:ext cx="4248000" cy="46087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итать  текст учебника стр.22-2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стр.2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ться к тес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ель работы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комить с наукой, изучающей Землю, - географией; сформировать представление о глобусе и географической карте; закрепить умение работать с картой и глобусом; развивать умение наблюдать, сравнивать, анализировать, делать выво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егодня мы посмотрим на окружающий нас мир глазами географов, узнаем, что такое география и что она изучает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11" descr="polit-map-small"/>
          <p:cNvPicPr/>
          <p:nvPr/>
        </p:nvPicPr>
        <p:blipFill>
          <a:blip r:embed="rId1"/>
          <a:stretch/>
        </p:blipFill>
        <p:spPr>
          <a:xfrm>
            <a:off x="755640" y="3357720"/>
            <a:ext cx="7488360" cy="24476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такое география?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то наука о Земле. В переводе с греческого «география» означает «землеописание». Это слово образовалось из двух слов: «гео» - Земля и «графо»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ш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телось бы добавить, что «гео» - это сокращение от «Гея» - так звали греческую богиню Зем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как толкует слово «география» С.И. Ожег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еография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лекс наук, изучающих поверхность Земли с ее природными условиями, распределение на ней населения, экономических ресур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то такие географы?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граф - специалист по географ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изучает география? Что же нам может объяснить  современная   география?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графия изучает природу земной поверхности, население и его хозяйственную деятель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графия объясняет,   почему Земля такая круглая, почему в одних районах лежит снег, а 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других — жаркое лето, почему в одних странах ловят рыбу, а в других добывают неф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ие изобретения человека помогают нам путешествовать по планете?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Это глобус и географическая кар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ую форму имеет глобус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лобус имеет форму шара, немного приплюснут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ую он имеет окраску? Поче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 глобусе есть синий, желтый, коричневый, зеленый, белый цвета. Сини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да, желтый, коричневый, зеленый — суша, белый - л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ему глобус называют «мяч в сетке»?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Глобус покрыт линиями, будто сет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е две точки глобуса остаются на месте при его вращен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вращении на месте остаются полюса: северный и юж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скажете о линиях, расположенных горизонталь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оризонтальные линии разные по длине, у полюсов это маленькие коле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азывают «главный пояс Земли»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Главный пояс земли» - экватор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скажете о вертикальных линия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ртикальные линии соединяются в одну точку на полюс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MG-85-ATEv0"/>
          <p:cNvPicPr/>
          <p:nvPr/>
        </p:nvPicPr>
        <p:blipFill>
          <a:blip r:embed="rId1"/>
          <a:stretch/>
        </p:blipFill>
        <p:spPr>
          <a:xfrm>
            <a:off x="4932360" y="692280"/>
            <a:ext cx="3743280" cy="51847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ая линия на глобусе имеет, свое название. Вы уже сказали, что «главный пояс Земли» - это экватор, его еще называют «самая длинная параллель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же называют остальные горизонтальные линии? Как они расположены друг относительно  друг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инии расположены параллель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их можно назвать?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аралл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тикальные линии, соединяющие полюса, называются меридианами. На глобусе указаны материки и океаны. Четыре океана на земном шар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: Тихий, Атлантический ,Индийский и Северный Ледовит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можете сказать о материка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ков шесть: Евразия, Африка, Австралия, Антарктида, Северная Америка, Южная Аме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clip_image005"/>
          <p:cNvPicPr/>
          <p:nvPr/>
        </p:nvPicPr>
        <p:blipFill>
          <a:blip r:embed="rId1"/>
          <a:stretch/>
        </p:blipFill>
        <p:spPr>
          <a:xfrm>
            <a:off x="4500720" y="476280"/>
            <a:ext cx="4248000" cy="5184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07Z</dcterms:created>
  <dc:creator>оля</dc:creator>
  <dc:description/>
  <dc:language>en-US</dc:language>
  <cp:lastModifiedBy>LEGION</cp:lastModifiedBy>
  <dcterms:modified xsi:type="dcterms:W3CDTF">2014-12-29T09:26:03Z</dcterms:modified>
  <cp:revision>8</cp:revision>
  <dc:subject/>
  <dc:title>Мир глазами географа!</dc:title>
</cp:coreProperties>
</file>