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D722-EC83-4D25-8F4F-C948D7ECA7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глазами географ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45E8-F764-4ED2-9A09-3955E7DC28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ус не всегда был таким, как сейча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елем первого глобуса бы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цкий географ Мартин  Бехай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было в 1492 году. Свою модель он назвал «земное яблок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глобус Бехай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личается от современного глобуса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нём не было Северной и Южной Америк, они не были откры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т, глобусом в путешествии пользоваться неудоб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C63C-B462-425A-8D3E-4D01F3D2D6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ути нужен другой помощник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оторыми видами географических карт мы уже пользовались: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а России, Политическая карта мира, Эколог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изображение Земли на бума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условное изображение поверхности Земли на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E18B-0EBC-417E-8C61-18A415355E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м глобус и карту полушарий. Что между ними общего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- это целый шар, а на карте две полов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адное полушарие и Восточное полуша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38F0-8821-4B0E-8117-A6B9F6FB15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т территориальную организацию человече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824C-21F4-417E-AB47-82B4C2EDC1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чески развит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вающие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3117-DF4E-4FA6-ADF5-530F5532EA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212B-1D5A-4805-94CA-F2C6C589A1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 текст учебника стр.22-2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стр.2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ься к те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6EBC-12A3-4EB7-B1A2-69635BBED0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C4C2-5FF5-4792-AA79-72C2EC0D87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8FA8-6E6D-4572-88B5-049B431E85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же такое география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как толкует слово «география» С.И. Ожег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199A-A88D-482D-A512-FBE49DC159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географы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 - специалист по ге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учает география? Что же нам может объяснить  современная   география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других — жаркое лето, почему в одних странах ловят рыбу, а в других добывают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изобретения человека помогают нам путешествовать по планете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лобус и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D206-9C2E-4287-80B5-0DED049879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форму имеет глобус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имеет форму шара, немного приплюснут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он имеет окраску?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глобусе есть синий, желтый, коричневый, зеленый, белый цвета. Си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да, желтый, коричневый, зеленый — суша, белый - л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глобус называют «мяч в сетке»?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Глобус покрыт линиями, будто с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C992-2CBD-4000-85A3-7AD0A33BFD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две точки глобуса остаются на месте при его враще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ращении на месте остаются полюса: северный и ю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линиях, расположенных горизонт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изонтальные линии разные по длине, у полюсов это маленькие кол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зывают «главный пояс Земли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Главный пояс земли» - эквато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вертикальных ли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ртикальные линии соединяются в одну точку на полю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6AFE-C313-4BEB-9870-55F55066A0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E7FC-2F79-4ECE-84BD-4E6776D829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ии расположены паралл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их можно назвать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аралл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Тихий, Атлантический ,Индийский и Северный Ледови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можете сказать о матери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426B-F5CA-44CA-A7C9-448D1B547B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8E6-CB17-4DA2-80F7-634F5009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3E3-3A81-4F93-A486-2C739D74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C4C-0FB1-4D46-BE97-3807D9E2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8D0-2094-42AC-B15D-A82BC7B8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96580-BE1F-4CE0-BFDD-5709708A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2241E-1D22-4B13-B8DC-D185814F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BBD95-7D55-4712-9D20-DD82BBA3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FEB1C-2823-4FF1-9C71-D385B2B4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45716-F1A2-41C4-A246-869DE285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68F48-7D23-440E-8E68-7A2DA80B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C9470-44B4-459C-A06E-378ACA4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581-0E97-4318-81B4-2F6F65EF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EEB71-BF46-4DBC-BAFA-C73D122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2AC8A-76E3-420F-8E82-19BFD69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AF0BE-7338-48FB-AA3A-567585EE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A55E1-5F67-4BB3-A6EB-CAE21608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63E74-ECCC-4A25-AFCD-3E92BF98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03D-57FC-4E4C-B623-08FD4E5A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B4E-A574-4F25-8551-0170CA76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9F6-679B-4EE1-BEA3-59B4572F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EA3-ED64-4FAD-800F-519F002F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50F-BC0F-4C22-8AB3-0D2A351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E0D-C268-42D2-AFB3-997D11EC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3A6-ED48-43B6-A5B0-FB6B419C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FDF5-C932-4C93-B0CB-25A486974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0D4B-220F-4C6A-BA53-38E5B6889B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ир глазами географа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301252"/>
          <p:cNvPicPr/>
          <p:nvPr/>
        </p:nvPicPr>
        <p:blipFill>
          <a:blip r:embed="rId1"/>
          <a:stretch/>
        </p:blipFill>
        <p:spPr>
          <a:xfrm>
            <a:off x="4500720" y="1843200"/>
            <a:ext cx="4032000" cy="414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лобус не всегда был таким, как сейчас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телем первого глобуса бы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ецкий географ Мартин  Бехай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то было в 1492 году. Свою модель он назвал «земное яблок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м глобус Бехай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ается от современного глобуса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нём не было Северной и Южной Америк, они не были откры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т, глобусом в путешествии пользоваться неудоб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ти нужен другой помощник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о географ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торыми видами географических карт мы уже пользовались: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изическая карта России, Политическая карта мира, Эколог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изображение Земли на бума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условное изображение поверхности Земли на плос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geo-small"/>
          <p:cNvPicPr/>
          <p:nvPr/>
        </p:nvPicPr>
        <p:blipFill>
          <a:blip r:embed="rId1"/>
          <a:stretch/>
        </p:blipFill>
        <p:spPr>
          <a:xfrm>
            <a:off x="4356000" y="1484280"/>
            <a:ext cx="4608720" cy="42498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вним глобус и карту полушарий. Что между ними общего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лобус - это целый шар, а на карте две полови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падное полушарие и Восточное полушар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6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ономическая географ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зучает территориальную организацию человеческого об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7" descr="j0251301"/>
          <p:cNvPicPr/>
          <p:nvPr/>
        </p:nvPicPr>
        <p:blipFill>
          <a:blip r:embed="rId1"/>
          <a:stretch/>
        </p:blipFill>
        <p:spPr>
          <a:xfrm>
            <a:off x="3924360" y="1843200"/>
            <a:ext cx="4535280" cy="4005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кономически развит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вивающиес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j0285360"/>
          <p:cNvPicPr/>
          <p:nvPr/>
        </p:nvPicPr>
        <p:blipFill>
          <a:blip r:embed="rId1"/>
          <a:stretch/>
        </p:blipFill>
        <p:spPr>
          <a:xfrm>
            <a:off x="4572000" y="1484280"/>
            <a:ext cx="4248000" cy="46087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 текст учебника стр.22-2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2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тес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ль работы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11" descr="polit-map-small"/>
          <p:cNvPicPr/>
          <p:nvPr/>
        </p:nvPicPr>
        <p:blipFill>
          <a:blip r:embed="rId1"/>
          <a:stretch/>
        </p:blipFill>
        <p:spPr>
          <a:xfrm>
            <a:off x="755640" y="3357720"/>
            <a:ext cx="7488360" cy="2447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такое география?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как толкует слово «география» С.И. Ожег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ография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такие географы?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 - специалист по географ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изучает география? Что же нам может объяснить  современная   география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других — жаркое лето, почему в одних странах ловят рыбу, а в других добывают неф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ие изобретения человека помогают нам путешествовать по планете?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Это глобус и географическая кар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форму имеет глобу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лобус имеет форму шара, немного приплюснут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он имеет окраску?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глобусе есть синий, желтый, коричневый, зеленый, белый цвета. Син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да, желтый, коричневый, зеленый — суша, белый - л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ему глобус называют «мяч в сетке»?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Глобус покрыт линиями, будто сет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две точки глобуса остаются на месте при его вращен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вращении на месте остаются полюса: северный и юж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линиях, расположенных горизонта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оризонтальные линии разные по длине, у полюсов это маленькие коле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азывают «главный пояс Земли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Главный пояс земли» - эквато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вертикальных линия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ртикальные линии соединяются в одну точку на полю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MG-85-ATEv0"/>
          <p:cNvPicPr/>
          <p:nvPr/>
        </p:nvPicPr>
        <p:blipFill>
          <a:blip r:embed="rId1"/>
          <a:stretch/>
        </p:blipFill>
        <p:spPr>
          <a:xfrm>
            <a:off x="4932360" y="692280"/>
            <a:ext cx="3743280" cy="51847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инии расположены паралл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их можно назвать?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аралл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: Тихий, Атлантический ,Индийский и Северный Ледовит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можете сказать о материк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clip_image005"/>
          <p:cNvPicPr/>
          <p:nvPr/>
        </p:nvPicPr>
        <p:blipFill>
          <a:blip r:embed="rId1"/>
          <a:stretch/>
        </p:blipFill>
        <p:spPr>
          <a:xfrm>
            <a:off x="4500720" y="476280"/>
            <a:ext cx="424800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07Z</dcterms:created>
  <dc:creator>оля</dc:creator>
  <dc:description/>
  <dc:language>en-US</dc:language>
  <cp:lastModifiedBy>LEGION</cp:lastModifiedBy>
  <dcterms:modified xsi:type="dcterms:W3CDTF">2014-12-29T09:26:03Z</dcterms:modified>
  <cp:revision>8</cp:revision>
  <dc:subject/>
  <dc:title>Мир глазами географа!</dc:title>
</cp:coreProperties>
</file>