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wmf" ContentType="image/x-wmf"/>
  <Override PartName="/ppt/media/image19.wmf" ContentType="image/x-wmf"/>
  <Override PartName="/ppt/media/image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4D65-832A-4B92-9B85-56B0A1B2AE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  К  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НА    УРО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Г Е О Г Р А Ф 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A6C3-0035-48E1-A4CF-2FF82B08EC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Этапы   внедрения   ИКТ</a:t>
            </a:r>
            <a:r>
              <a:rPr b="0" lang="en-US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d20000"/>
                </a:solidFill>
                <a:latin typeface="Times New Roman"/>
                <a:ea typeface="Times New Roman"/>
              </a:rPr>
              <a:t>на   уроках   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ение компьютера, работа с готовыми электронными изданиями, дисками, создание презентаций учителем  и учащимися, как демонстрационный, иллюстративный материал.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 2004-2005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наглядного материала по темам, изменение презентаций в сторону контроля, практики, отработки умений и навыков ( создание и решение тестовых заданий)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5-2006 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лектронных приложений к новым учебникам изд. «СФЕРЫ», использование ИНТЕРНЕТА  на уроках, как источника различной информации – текстовой и иллюстративной, использование прямого  подключения  ко всемирной сети на уроке для новостей, виртуальных экскурсий, решения  тестов ОН-ЛАЙН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6-2007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ение интерактивной дос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ITACH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спользование её внутреннего ресурса, создания своих шаблонов, создание сборно-разборных презентаций, слайдов, интегрированных уроков с учителями английского языка, химии, биологии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7-200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программы «Живая география», вновь поступивших «интерактивных  географических карт». Классификация накопленного материала, при подготовке к экзаменам и к ЕГЭ по географии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8-200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5052-A9D9-41D3-944C-38925CF481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Arial"/>
                <a:ea typeface="Arial"/>
              </a:rPr>
              <a:t>Новое  на  уроках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uk-UA" sz="1200" spc="-1" strike="noStrike">
                <a:solidFill>
                  <a:srgbClr val="00ff00"/>
                </a:solidFill>
                <a:latin typeface="Arial"/>
                <a:ea typeface="Arial"/>
              </a:rPr>
              <a:t>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1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активная дос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использование готовых дисков, программ, построение и создание нового)                                                               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2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(поиск различной информации – текстового и иллюстративного характера, решение тестов при подготовке к ЕГЭ                                        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3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Использова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вых учебников                       изд. «СФЕР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0CCC-C38A-4CA4-8A64-967A5271ED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Arial"/>
                <a:ea typeface="Arial"/>
              </a:rPr>
              <a:t>Создание  но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2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ВОД ТАБЛИЧНОЙ ИНФОРМАЦИИ В КАРТОГРАФИЧЕСК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ЗДАНИЕ СБОРНО-РАЗБОРНОГО «КОНСТРУКТОРА».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Учащиеся расставляют табличные данные в знаках  на страны, показывая фактические знания, умение сравнивать, знание  географической номенклат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вершенно новый уровень работы освоили старшеклассники (10-11 кл.)  Используя табличные данные  по любой теме они создают новые электронные пособия  -сборно-разборные картограммы, картосхемы ( по простому конструкторы), которые в последствии используются на уроках другими поколениями для отработки какого-либо нав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BD56-2805-43E1-8127-900E3586C7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активная дос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позволяет быстро строить различные  схемы, рисунки, объясняющие природные  процессы. При этом используются  ресурсы доски: готовые фигуры, изменение цвета, различные линии, картинки, шаблоны. Это все развивает творческий потенциал учащихся. Повышает интерес к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1CF5-0305-451A-A6C5-96181AF903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СПОЛЬЗОВАНИЯ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  К  Т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НА    УРОКАХ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НА    УРО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388E-731E-4451-9CB6-7D95484049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тущее количество учащихся, желающих сдавать географию, как экзамен по выбору, говорит о том, что  ребята более уверены в своих знаниях. Это тоже результат внедрения И К Т на уроках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993D-5C36-4A95-826E-E8197F16E6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Централизованное  тестирование  по  географии   2005-2006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d20000"/>
                </a:solidFill>
                <a:latin typeface="Calibri"/>
              </a:rPr>
              <a:t>9 классы                                                               11 кл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ало -13 че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писало 16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 - 1 чел.                                                                     «5»-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 – 8                                                                            «4» -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 - 4                                                                            «3» -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2» - 0                                                                            «2»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знаний 69 %                                      качество знаний – 94%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ваемость 100%                                          успеваемость – 94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18B6-3FE2-4E1C-BF24-0944F855D3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34A-233F-4E28-B25D-696355FB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C21D-0218-406D-A773-7520E69E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711-6EE6-4B88-A94D-2A0E51AA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F1A-290E-418C-8D3E-0A036D7B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C094-F28A-4B6E-831E-EEFE263B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175-70C9-4C9F-85A0-22CA0FA2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8BC-B698-4667-9586-52B11CF6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8D0A-FF90-44F6-ABFD-4D465FC8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4A9-9A4B-4086-9FAD-76CDF0E9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8BA-7A68-49E6-A1BE-5BD8330B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0F84-77A9-4666-A67F-7414175D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12B-C772-424C-9709-E296A2D1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FEC0-52B2-408A-9D7A-AEDB1C2137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5.jpe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595520" y="728640"/>
            <a:ext cx="6145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ЬЗОВАНИЕ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3227400" y="1701720"/>
            <a:ext cx="25938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 К  Т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171880" y="4618080"/>
            <a:ext cx="4705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   УРОКАХ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789200" y="5751360"/>
            <a:ext cx="633708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Е О Г Р А Ф И И 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6" descr="img008"/>
          <p:cNvPicPr/>
          <p:nvPr/>
        </p:nvPicPr>
        <p:blipFill>
          <a:blip r:embed="rId9"/>
          <a:stretch/>
        </p:blipFill>
        <p:spPr>
          <a:xfrm>
            <a:off x="2652840" y="2511360"/>
            <a:ext cx="3828960" cy="1878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3516480" y="135000"/>
            <a:ext cx="27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У № 4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1143000" y="0"/>
            <a:ext cx="6705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апы   внедрения   ИК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905120" y="685800"/>
            <a:ext cx="53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d2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  уроках    ГЕОГРАФИИ</a:t>
            </a:r>
            <a:endParaRPr b="0" lang="en-US" sz="1800" spc="1" strike="noStrike">
              <a:ln w="0">
                <a:noFill/>
              </a:ln>
              <a:solidFill>
                <a:srgbClr val="d2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52280" y="1143000"/>
            <a:ext cx="8991720" cy="60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ение компьютера, работа с готовыми электронными изданиями, дисками, создание презентаций учителем  и учащимися, как демонстрационный, иллюстративный материал.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 2004-2005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опление наглядного материала по темам, изменение презентаций в сторону контроля, практики, отработки умений и навыков ( создание и решение тестовых заданий)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5-2006 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электронных приложений к новым учебникам изд. «СФЕРЫ», использование ИНТЕРНЕТА  на уроках, как источника различной информации – текстовой и иллюстративной, использование прямого  подключения  ко всемирной сети на уроке для новостей, виртуальных экскурсий, решения  тестов ОН-ЛАЙН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6-2007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ение интерактивной дос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ITACH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ование её внутреннего ресурса, создания своих шаблонов, создание сборно-разборных презентаций, слайдов, интегрированных уроков с учителями английского языка, химии, биологии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7-2008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программы «Живая география», вновь поступивших «интерактивных  географических карт». Классификация накопленного материала, при подготовке к экзаменам и к ЕГЭ по географии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8-2009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d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IMG_0012"/>
          <p:cNvPicPr/>
          <p:nvPr/>
        </p:nvPicPr>
        <p:blipFill>
          <a:blip r:embed="rId1"/>
          <a:stretch/>
        </p:blipFill>
        <p:spPr>
          <a:xfrm>
            <a:off x="0" y="0"/>
            <a:ext cx="4251240" cy="31892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60" name="Picture 6" descr="IMG_0025"/>
          <p:cNvPicPr/>
          <p:nvPr/>
        </p:nvPicPr>
        <p:blipFill>
          <a:blip r:embed="rId2"/>
          <a:stretch/>
        </p:blipFill>
        <p:spPr>
          <a:xfrm>
            <a:off x="4740120" y="3554280"/>
            <a:ext cx="4403880" cy="33037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61" name="Picture 7" descr="IMG_0037"/>
          <p:cNvPicPr/>
          <p:nvPr/>
        </p:nvPicPr>
        <p:blipFill>
          <a:blip r:embed="rId3"/>
          <a:stretch/>
        </p:blipFill>
        <p:spPr>
          <a:xfrm>
            <a:off x="0" y="3541680"/>
            <a:ext cx="4419720" cy="33163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62" name="WordArt 9"/>
          <p:cNvSpPr txBox="1"/>
          <p:nvPr/>
        </p:nvSpPr>
        <p:spPr>
          <a:xfrm>
            <a:off x="4476600" y="0"/>
            <a:ext cx="466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овое  на  урока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5334120" y="609480"/>
            <a:ext cx="2781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ГЕОГРАФ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191120" y="914400"/>
            <a:ext cx="495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1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рактивная доск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использование готовых дисков, программ, построение и создание нового)                                                               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2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(поиск различной информации – текстового и иллюстративного характера, решение тестов при подготовке к ЕГЭ                                        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3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Использова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вых учебников                       изд. «СФЕ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IMG_0053"/>
          <p:cNvPicPr/>
          <p:nvPr/>
        </p:nvPicPr>
        <p:blipFill>
          <a:blip r:embed="rId1"/>
          <a:stretch/>
        </p:blipFill>
        <p:spPr>
          <a:xfrm>
            <a:off x="0" y="0"/>
            <a:ext cx="4648320" cy="348768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67" name="Picture 5" descr="IMG_0054"/>
          <p:cNvPicPr/>
          <p:nvPr/>
        </p:nvPicPr>
        <p:blipFill>
          <a:blip r:embed="rId2"/>
          <a:stretch/>
        </p:blipFill>
        <p:spPr>
          <a:xfrm>
            <a:off x="4664160" y="3497400"/>
            <a:ext cx="4479840" cy="33606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68" name="Text Box 6"/>
          <p:cNvSpPr/>
          <p:nvPr/>
        </p:nvSpPr>
        <p:spPr>
          <a:xfrm>
            <a:off x="152280" y="3657600"/>
            <a:ext cx="426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вершенно новый уровень работы освоили старшеклассники (10-11 кл.)  Используя табличные данные  по любой теме они создают новые электронные пособия  -сборно-разборные картограммы, картосхемы ( по простому конструкторы), которые в последствии используются на уроках другими поколениями для отработки какого-либо нав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724280" y="914400"/>
            <a:ext cx="457200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20000"/>
                </a:solidFill>
                <a:latin typeface="Arial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ЕРЕВОД ТАБЛИЧНОЙ ИНФОРМАЦИИ В КАРТОГРАФИЧЕСК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200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ОЗДАНИЕ СБОРНО-РАЗБОРНОГО «КОНСТРУКТОРА».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Учащиеся расставляют табличные данные в знаках  на страны, показывая фактические знания, умение сравнивать, знание  географической номенклатур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5029200" y="228600"/>
            <a:ext cx="3790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здание  нов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IMG_0058"/>
          <p:cNvPicPr/>
          <p:nvPr/>
        </p:nvPicPr>
        <p:blipFill>
          <a:blip r:embed="rId1"/>
          <a:stretch/>
        </p:blipFill>
        <p:spPr>
          <a:xfrm>
            <a:off x="0" y="0"/>
            <a:ext cx="4419720" cy="33163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73" name="Picture 5" descr="IMG_0049"/>
          <p:cNvPicPr/>
          <p:nvPr/>
        </p:nvPicPr>
        <p:blipFill>
          <a:blip r:embed="rId2"/>
          <a:stretch/>
        </p:blipFill>
        <p:spPr>
          <a:xfrm>
            <a:off x="0" y="3486240"/>
            <a:ext cx="4495680" cy="337176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  <p:pic>
        <p:nvPicPr>
          <p:cNvPr id="74" name="Picture 6" descr="IMG_0069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31632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  <p:sp>
        <p:nvSpPr>
          <p:cNvPr id="75" name="Text Box 7"/>
          <p:cNvSpPr/>
          <p:nvPr/>
        </p:nvSpPr>
        <p:spPr>
          <a:xfrm>
            <a:off x="4876920" y="3581280"/>
            <a:ext cx="403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рактивная доск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озволяет быстро строить различные  схемы, рисунки, объясняющие природные  процессы. При этом используются  ресурсы доски: готовые фигуры, изменение цвета, различные линии, картинки, шаблоны. Это все развивает творческий потенциал учащихся. Повышает интерес к предм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1595520" y="1646280"/>
            <a:ext cx="6145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ЬЗОВАНИЯ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WordArt 3"/>
          <p:cNvSpPr txBox="1"/>
          <p:nvPr/>
        </p:nvSpPr>
        <p:spPr>
          <a:xfrm>
            <a:off x="3421080" y="2349360"/>
            <a:ext cx="2592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 К  Т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2459160" y="5211720"/>
            <a:ext cx="47052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   УРОКАХ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1789200" y="5859360"/>
            <a:ext cx="633708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   УРОКАХ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6" descr="img008"/>
          <p:cNvPicPr/>
          <p:nvPr/>
        </p:nvPicPr>
        <p:blipFill>
          <a:blip r:embed="rId9"/>
          <a:stretch/>
        </p:blipFill>
        <p:spPr>
          <a:xfrm>
            <a:off x="2844720" y="3105000"/>
            <a:ext cx="3828960" cy="1879920"/>
          </a:xfrm>
          <a:prstGeom prst="rect">
            <a:avLst/>
          </a:prstGeom>
          <a:ln w="0">
            <a:noFill/>
          </a:ln>
        </p:spPr>
      </p:pic>
      <p:sp>
        <p:nvSpPr>
          <p:cNvPr id="82" name="WordArt 7"/>
          <p:cNvSpPr txBox="1"/>
          <p:nvPr/>
        </p:nvSpPr>
        <p:spPr>
          <a:xfrm>
            <a:off x="1690560" y="-243000"/>
            <a:ext cx="6626520" cy="12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838080" y="0"/>
          <a:ext cx="7391520" cy="53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739152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3"/>
          <p:cNvSpPr/>
          <p:nvPr/>
        </p:nvSpPr>
        <p:spPr>
          <a:xfrm>
            <a:off x="5867280" y="1828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3520" y="533412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тущее количество учащихся, желающих сдавать географию, как экзамен по выбору, говорит о том, что  ребята более уверены в своих знаниях. Это тоже результат внедрения И К Т на уроках ге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-707760" y="-44280"/>
            <a:ext cx="1104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Централизованное  тестирование  по  географии   2005-200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2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d20000"/>
                </a:solidFill>
                <a:latin typeface="Arial"/>
              </a:rPr>
              <a:t>9 классы                                                               11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ало -13 че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писало 16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5» - 1 чел.                                                                     «5»-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4» – 8                                                                            «4» -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3» - 4                                                                            «3» -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2» - 0                                                                            «2»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о знаний 69 %                                      качество знаний – 94%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певаемость 100%                                          успеваемость – 9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38080" y="609480"/>
            <a:ext cx="3353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334120" y="609480"/>
            <a:ext cx="35812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5"/>
          <p:cNvGraphicFramePr/>
          <p:nvPr/>
        </p:nvGraphicFramePr>
        <p:xfrm>
          <a:off x="152280" y="3017880"/>
          <a:ext cx="4267440" cy="297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17880"/>
                    <a:ext cx="42674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6"/>
          <p:cNvGraphicFramePr/>
          <p:nvPr/>
        </p:nvGraphicFramePr>
        <p:xfrm>
          <a:off x="4495680" y="3048120"/>
          <a:ext cx="4496040" cy="272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048120"/>
                    <a:ext cx="449604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7"/>
          <p:cNvSpPr/>
          <p:nvPr/>
        </p:nvSpPr>
        <p:spPr>
          <a:xfrm>
            <a:off x="1143000" y="4876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9%   9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371600" y="3733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4%   11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562720" y="2819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УСПЕВ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181480" y="38862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%             9 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6400800" y="47242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4%11 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762120" y="2895480"/>
            <a:ext cx="320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АЧЕСТВО 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2"/>
          <p:cNvGraphicFramePr/>
          <p:nvPr/>
        </p:nvGraphicFramePr>
        <p:xfrm>
          <a:off x="228600" y="380880"/>
          <a:ext cx="8534520" cy="621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8534520" cy="62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29T10:54:42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