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F421-853C-4535-88AE-159EE82BBB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ernard MT Condensed"/>
              </a:rPr>
              <a:t>Использование ИКТ на уроках географ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оголюбова Евгения Михайловна, учитель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У сош №3 г.Нелид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8E5D-2542-4F23-ACC6-B18B5CE116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 u="sng">
                <a:solidFill>
                  <a:srgbClr val="660066"/>
                </a:solidFill>
                <a:uFillTx/>
                <a:latin typeface="Calibri"/>
              </a:rPr>
              <a:t>Эпифит</a:t>
            </a:r>
            <a:r>
              <a:rPr b="0" i="1" lang="ru-RU" sz="1200" spc="-1" strike="noStrike">
                <a:solidFill>
                  <a:srgbClr val="660066"/>
                </a:solidFill>
                <a:latin typeface="Calibri"/>
              </a:rPr>
              <a:t> — это какое-либо растение, которое произрастает на другом растении, при этом не получает от него никаких питательных веществ.</a:t>
            </a:r>
            <a:r>
              <a:rPr b="0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F27F-0032-49E0-A94A-90E0952C9F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0910-B7D6-4FDA-96F0-1E10E9F95F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80"/>
                </a:solidFill>
                <a:latin typeface="Calibri"/>
              </a:rPr>
              <a:t>Проверка домашнего зад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 переводе с греческого обозначает слово «география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является объектом изучения физической географ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дал название науке географ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впервые совершил кругосветное путешеств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путешественник исследовал Азию в течение 24 л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путешественник оставил после себя труд «Хождение за три моря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три моря он перес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первым открыл морской путь в Индию вокруг Афр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открыл Амери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ют эпоху открытий конц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F8EC-218D-4C75-B461-A7D73E18B0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Проверь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000  - 3000 к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щность атм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8%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держание азота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 граду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нижение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на каждый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1%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держание кислорода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8 – 20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олщина тропосферы над эквато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0 – 55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ерхняя граница страт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14D6-E87E-4DF1-8865-F94A3EE3C5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шение задач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ётчик поднялся на высоту 2 км. Каково атмосферное давление воздуха на этой высоте, если у поверхности Земли оно равнялось 750 мм рт. ст.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пределите, чему равна приблизительно относительная высота горной вершины, если у подошвы горы барометр показывает 740 мм, а на вершине 440 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сота населённого пункта 2000 м над уровнем моря. Высчитайте атмосферное давление на этой выс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карте определите на какой высоте над уровнем моря находится наш населённый пункт? Высчитайте, какое атмосферное давление можно считать нормальным для нашей мес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0ACB-5EAE-435E-8D4F-02DDFC9831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нение ИКТ на уроках делает урок нетрадиционным, ярким, насыщенным, приводит к необходимости пересмотра различных способов подачи учебного материала и различных подходов в обучении. Но не следует забывать, что к информационным технологиям необходимо обращаться лишь в том случае, когда они обеспечивают более высокий уровень образовательного процесса на том или ином этапе обучения по сравнению с другими мет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заключении отмечу, что персональный компьютер сегодня одно из самых мощных и эффективных из всех существовавших до сих пор технических средств обучения, позволяющий заметно повысить качество усвоения информации и интерес к предмету, а также осуществлять интегративный подход в обуч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93C1-41F3-47B6-8F34-984681F0FF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им из направлений модернизации системы  географического образования  является внедрение компьютерных технологий  и мультимеди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нение в обучении компьютера в сочетании с аудиовизуальными средствами принято называть «новыми  информационными технологиями в образован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оследние годы  система  образования в нашей стране  направлена не столько на усвоение суммы готовых знаний,  сколько  на формирование интеллектуальных умений, умений самостоятельной   познавате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E7AD-3857-49F1-B508-AF67FB2F4B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нение информационных  компьютерных технологий на уроках географии не только облегчает усвоение учебного материала,  но и представляет новые возможности для  развития творческих  способностей  учащих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овышает мотивацию учащихся к учен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активизирует познавательную деятель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звивает мышление и творческие способности ребёнка;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формирует активную жизненную позицию в современном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7308-BC3D-44FD-AE56-83B9AE359D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сновные формы работы с ИКТ на уроках  географии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е применение в учебном проце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ИКТ  для организации  самостоятельной работы  учащихся  по географии вне  школьных  зан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информационных технологий для обеспечения познавательного дос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ы и учебные программы можно назвать универсальными  средствами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2F22-B8B0-4FC5-A8C2-7F49D878B1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грамм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ower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готовке к урокам моим незаменимым помощником является приложени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Poin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ходящее в состав пакет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 её помощью создаётся мультимедиа технология, которая позволяет объединить на одном носителе различные формы представления информации. Это приложение позволяет мне самостоятельно по собственному сценарию подготовить интерактивное мультимедийное пособие к уроку по любой теме с минимальными временными зат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B1DF-E571-4514-9D31-EDD85A69D9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яется возможность использовать фотографии, слайды, музыкальные фрагменты, дикторский текст, видеоматериалы, компьютерную анимацию, структурированные тексты с иллюстрациями, использовать ссылки на сайты Интернет, а также не только выстраивать материал в виде последовательного изложения, но и создавать возможность нелинейного перемещения между различными частями уро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19DA-D572-4A8B-B7D3-AD85166C2C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никален органический мир Байкала. В озере встречается около1500 видов животных и более 1000 видов растений, большая часть которых – водоро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70% обитателей озера –энде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C353-E388-4254-87A2-7C4AFFA34A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иродоохранные мероприят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ято много постановлений правительства по рациональному использованию природных ресурсов и охране природы в бассейне Байкала, налаживается очистка промышленных и бытовых стоков, поступающих в озе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999 г принят даже специальный закон о Байка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бассейне Селенги установлен особый режим хозяйственной деятельности , направленный на уменьшение загрязнения реки и ее прит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бассейне Байкала созданы три заповедника и два национальных па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дача сохранения чистейших байкальских вод , его уникальной фауны должна стать задачей не только хозяйственников и правительства, но и всех жителей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4EEE-A220-454F-9DE9-7AD2FFF931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62F-1B1F-4AA7-A355-1EF384BC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F5AD-68EF-40EE-9993-CB1C9385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EBE-D64C-4A77-882D-656AC85E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872C-7CEB-4C2F-9F64-E5ACAC54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552-D6EB-4E17-9CDE-4921C5BF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ECE-F4F2-47BD-8DB3-4D9BB1E6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F12D-1221-4BD4-A0EF-6B02DCEB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1012-3409-47A8-8E0B-5ECE5BC7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159-5AF9-46AD-A8C3-705E3513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A00-72B9-4E19-B6A4-91824BE5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850-06EA-4930-A0E1-C2C40D71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1A43-EFF7-49C5-9CCC-A0687D21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99ccff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B220-BBAB-4EE1-9559-8D672984FF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a/Ombres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u.wikipedia.org/wiki/&#1060;&#1072;&#1081;&#1083;:Omul_Fish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Bernard MT Condensed"/>
              </a:rPr>
              <a:t>Использование ИКТ на уроках географии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91120" y="4952520"/>
            <a:ext cx="4690800" cy="14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голюбова Евгения Михайловна, учитель ге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У сош №3 г.Нелид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 u="sng">
                <a:solidFill>
                  <a:srgbClr val="660066"/>
                </a:solidFill>
                <a:uFillTx/>
                <a:latin typeface="Arial"/>
              </a:rPr>
              <a:t>Эпифит</a:t>
            </a:r>
            <a:r>
              <a:rPr b="0" i="1" lang="ru-RU" sz="3200" spc="-1" strike="noStrike">
                <a:solidFill>
                  <a:srgbClr val="660066"/>
                </a:solidFill>
                <a:latin typeface="Arial"/>
              </a:rPr>
              <a:t> — это какое-либо растение, которое произрастает на другом растении, при этом не получает от него никаких питательных веществ.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Эпифиты"/>
          <p:cNvPicPr/>
          <p:nvPr/>
        </p:nvPicPr>
        <p:blipFill>
          <a:blip r:embed="rId1"/>
          <a:stretch/>
        </p:blipFill>
        <p:spPr>
          <a:xfrm>
            <a:off x="304920" y="304920"/>
            <a:ext cx="3733560" cy="5029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Эпифиты 12"/>
          <p:cNvPicPr/>
          <p:nvPr/>
        </p:nvPicPr>
        <p:blipFill>
          <a:blip r:embed="rId2"/>
          <a:stretch/>
        </p:blipFill>
        <p:spPr>
          <a:xfrm>
            <a:off x="4191120" y="304920"/>
            <a:ext cx="4724280" cy="4114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3733920" y="2514600"/>
            <a:ext cx="3676680" cy="4176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800px-Victoria_amazonica_JPG01"/>
          <p:cNvPicPr/>
          <p:nvPr/>
        </p:nvPicPr>
        <p:blipFill>
          <a:blip r:embed="rId4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228600"/>
          <a:ext cx="9144000" cy="6689880"/>
        </p:xfrm>
        <a:graphic>
          <a:graphicData uri="http://schemas.openxmlformats.org/drawingml/2006/table">
            <a:tbl>
              <a:tblPr/>
              <a:tblGrid>
                <a:gridCol w="2611440"/>
                <a:gridCol w="1457280"/>
                <a:gridCol w="1692360"/>
                <a:gridCol w="1690560"/>
                <a:gridCol w="1692360"/>
              </a:tblGrid>
              <a:tr h="4597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точный ход темп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духа в разные сезоны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5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ся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емя сут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1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00"/>
                </a:solidFill>
                <a:latin typeface="Arial"/>
              </a:rPr>
              <a:t>Проверка домашнего зад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610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 переводе с греческого обозначает слово «география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является объектом изучения физической географ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дал название науке географ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впервые совершил кругосветное путешеств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путешественник исследовал Азию в течение 24 л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й путешественник оставил после себя труд «Хождение за три моря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три моря он пересе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первым открыл морской путь в Индию вокруг Афри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открыл Амери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зывают эпоху открытий конц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000  - 3000 к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щность атм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78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держание азота в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6 граду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нижени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на каждый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1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держание кислорода в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8 – 2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олщина тропосферы над эква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0 – 55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рхняя граница страт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77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77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7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7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ешение задач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ётчик поднялся на высоту 2 км. Каково атмосферное давление воздуха на этой высоте, если у поверхности Земли оно равнялось 750 мм рт. ст.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ределите, чему равна приблизительно относительная высота горной вершины, если у подошвы горы барометр показывает 740 мм, а на вершине 440 м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сота населённого пункта 2000 м над уровнем моря. Высчитайте атмосферное давление на этой выс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карте определите на какой высоте над уровнем моря находится наш населённый пункт? Высчитайте, какое атмосферное давление можно считать нормальным для нашей мес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ение ИКТ на уроках делает урок нетрадиционным, ярким, насыщенным, приводит к необходимости пересмотра различных способов подачи учебного материала и различных подходов в обучении. Но не следует забывать, что к информационным технологиям необходимо обращаться лишь в том случае, когда они обеспечивают более высокий уровень образовательного процесса на том или ином этапе обучения по сравнению с другими мето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заключении отмечу, что персональный компьютер сегодня одно из самых мощных и эффективных из всех существовавших до сих пор технических средств обучения, позволяющий заметно повысить качество усвоения информации и интерес к предмету, а также осуществлять интегративный подход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им из направлений модернизации системы  географического образования  является внедрение компьютерных технологий  и мультимеди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нение в обучении компьютера в сочетании с аудиовизуальными средствами принято называть «новыми  информационными технологиями в образован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оследние годы  система  образования в нашей стране  направлена не столько на усвоение суммы готовых знаний,  сколько  на формирование интеллектуальных умений, умений самостоятельной   познав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нение информационных  компьютерных технологий на уроках географии не только облегчает усвоение учебного материала,  но и представляет новые возможности для  развития творческих  способностей  учащих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вышает мотивацию учащихся к учению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активизирует познавательную деятель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звивает мышление и творческие способности ребёнка;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формирует активную жизненную позицию в современном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сновные формы работы с ИКТ на уроках  географи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средственное применение в учебном проце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 ИКТ  для организации  самостоятельной работы  учащихся  по географии вне  школьных  занят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 информационных технологий для обеспечения познавательного дос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ы и учебные программы можно назвать универсальными  средствами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533520" y="83988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дготовке к урокам моим незаменимым помощником является прилож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ходящее в состав паке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Offic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 её помощью создаётся мультимедиа технология, которая позволяет объединить на одном носителе различные формы представления информации. Это приложение позволяет мне самостоятельно по собственному сценарию подготовить интерактивное мультимедийное пособие к уроку по любой теме с минимальными временными затрат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вляется возможность использовать фотографии, слайды, музыкальные фрагменты, дикторский текст, видеоматериалы, компьютерную анимацию, структурированные тексты с иллюстрациями, использовать ссылки на сайты Интернет, а также не только выстраивать материал в виде последовательного изложения, но и создавать возможность нелинейного перемещения между различными частями ур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никален органический мир Байкала. В озере встречается около1500 видов животных и более 1000 видов растений, большая часть которых – водоро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70% обитателей озера –энде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так называемые маты, целебные водоросли, образующиеся в ручьях серо-водородных источников на Хойто-Гл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8610480" cy="6248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Водоросли в минерализованном притоке Кынгарги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152280"/>
            <a:ext cx="8763120" cy="65534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иродоохранные мероприят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нято много постановлений правительства по рациональному использованию природных ресурсов и охране природы в бассейне Байкала, налаживается очистка промышленных и бытовых стоков, поступающих в озе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1999 г принят даже специальный закон о Байка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бассейне Селенги установлен особый режим хозяйственной деятельности , направленный на уменьшение загрязнения реки и ее прито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бассейне Байкала созданы три заповедника и два национальных пар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а сохранения чистейших байкальских вод , его уникальной фауны должна стать задачей не только хозяйственников и правительства, но и всех жителей рег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Байкальский берег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00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14539"/>
          <p:cNvPicPr/>
          <p:nvPr/>
        </p:nvPicPr>
        <p:blipFill>
          <a:blip r:embed="rId2"/>
          <a:stretch/>
        </p:blipFill>
        <p:spPr>
          <a:xfrm>
            <a:off x="228600" y="15228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36796"/>
          <p:cNvPicPr/>
          <p:nvPr/>
        </p:nvPicPr>
        <p:blipFill>
          <a:blip r:embed="rId3"/>
          <a:stretch/>
        </p:blipFill>
        <p:spPr>
          <a:xfrm>
            <a:off x="228600" y="152280"/>
            <a:ext cx="8763120" cy="655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296153"/>
          <p:cNvPicPr/>
          <p:nvPr/>
        </p:nvPicPr>
        <p:blipFill>
          <a:blip r:embed="rId4"/>
          <a:stretch/>
        </p:blipFill>
        <p:spPr>
          <a:xfrm>
            <a:off x="228600" y="152280"/>
            <a:ext cx="8763120" cy="6553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310935"/>
          <p:cNvPicPr/>
          <p:nvPr/>
        </p:nvPicPr>
        <p:blipFill>
          <a:blip r:embed="rId5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310933"/>
          <p:cNvPicPr/>
          <p:nvPr/>
        </p:nvPicPr>
        <p:blipFill>
          <a:blip r:embed="rId6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572000" cy="289548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sp>
        <p:nvSpPr>
          <p:cNvPr id="76" name="Rectangle 3"/>
          <p:cNvSpPr/>
          <p:nvPr/>
        </p:nvSpPr>
        <p:spPr>
          <a:xfrm>
            <a:off x="228600" y="3734280"/>
            <a:ext cx="297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тарктиду называют -    Землей в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198948787__45"/>
          <p:cNvPicPr/>
          <p:nvPr/>
        </p:nvPicPr>
        <p:blipFill>
          <a:blip r:embed="rId2"/>
          <a:stretch/>
        </p:blipFill>
        <p:spPr>
          <a:xfrm>
            <a:off x="4114800" y="2971800"/>
            <a:ext cx="4782960" cy="3722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13_antarktida_25574"/>
          <p:cNvPicPr/>
          <p:nvPr/>
        </p:nvPicPr>
        <p:blipFill>
          <a:blip r:embed="rId3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29T11:17:4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