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987F-FA27-4768-96BC-DE664CE6A6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ernard MT Condensed"/>
              </a:rPr>
              <a:t>Использование ИКТ на уроках географ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оголюбова Евгения Михайловна, учитель геогра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ОУ сош №3 г.Нелид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3733-92D5-43C5-BD30-4D1E0A63D7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 u="sng">
                <a:solidFill>
                  <a:srgbClr val="660066"/>
                </a:solidFill>
                <a:uFillTx/>
                <a:latin typeface="Calibri"/>
              </a:rPr>
              <a:t>Эпифит</a:t>
            </a:r>
            <a:r>
              <a:rPr b="0" i="1" lang="ru-RU" sz="1200" spc="-1" strike="noStrike">
                <a:solidFill>
                  <a:srgbClr val="660066"/>
                </a:solidFill>
                <a:latin typeface="Calibri"/>
              </a:rPr>
              <a:t> — это какое-либо растение, которое произрастает на другом растении, при этом не получает от него никаких питательных веществ.</a:t>
            </a:r>
            <a:r>
              <a:rPr b="0" lang="ru-RU" sz="1200" spc="-1" strike="noStrike">
                <a:solidFill>
                  <a:srgbClr val="66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1075-2EA2-4637-8BF0-476DE8AB12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E983-8DC8-4B20-9026-52AADB531F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80"/>
                </a:solidFill>
                <a:latin typeface="Calibri"/>
              </a:rPr>
              <a:t>Проверка домашнего зад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 переводе с греческого обозначает слово «география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является объектом изучения физической географ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дал название науке географ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впервые совершил кругосветное путешеств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путешественник исследовал Азию в течение 24 л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путешественник оставил после себя труд «Хождение за три моря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три моря он перес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первым открыл морской путь в Индию вокруг Афр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открыл Амери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называют эпоху открытий конц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F960-0BBB-406A-A3ED-BEDF3372F0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Проверь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000  - 3000 к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ощность атм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78%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держание азота в воздух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 граду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нижение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на каждый 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1%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держание кислорода в воздух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8 – 20 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олщина тропосферы над эквато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0 – 55 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ерхняя граница страт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62D2-55C2-44D5-BBED-06A5050CD1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шение задач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ётчик поднялся на высоту 2 км. Каково атмосферное давление воздуха на этой высоте, если у поверхности Земли оно равнялось 750 мм рт. ст.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пределите, чему равна приблизительно относительная высота горной вершины, если у подошвы горы барометр показывает 740 мм, а на вершине 440 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сота населённого пункта 2000 м над уровнем моря. Высчитайте атмосферное давление на этой выс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 карте определите на какой высоте над уровнем моря находится наш населённый пункт? Высчитайте, какое атмосферное давление можно считать нормальным для нашей мес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6300-A010-425E-88CB-93F999CB99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нение ИКТ на уроках делает урок нетрадиционным, ярким, насыщенным, приводит к необходимости пересмотра различных способов подачи учебного материала и различных подходов в обучении. Но не следует забывать, что к информационным технологиям необходимо обращаться лишь в том случае, когда они обеспечивают более высокий уровень образовательного процесса на том или ином этапе обучения по сравнению с другими мет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заключении отмечу, что персональный компьютер сегодня одно из самых мощных и эффективных из всех существовавших до сих пор технических средств обучения, позволяющий заметно повысить качество усвоения информации и интерес к предмету, а также осуществлять интегративный подход в обуч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BC82-851F-4216-958B-CF86B70832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им из направлений модернизации системы  географического образования  является внедрение компьютерных технологий  и мультимеди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нение в обучении компьютера в сочетании с аудиовизуальными средствами принято называть «новыми  информационными технологиями в образован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последние годы  система  образования в нашей стране  направлена не столько на усвоение суммы готовых знаний,  сколько  на формирование интеллектуальных умений, умений самостоятельной   познавате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88F9-E9AD-41E1-A06E-39501E4A4A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нение информационных  компьютерных технологий на уроках географии не только облегчает усвоение учебного материала,  но и представляет новые возможности для  развития творческих  способностей  учащих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овышает мотивацию учащихся к учен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активизирует познавательную деятель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развивает мышление и творческие способности ребёнка;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формирует активную жизненную позицию в современном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C345-6691-49F9-809A-544EABF5CC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сновные формы работы с ИКТ на уроках  географии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ое применение в учебном проце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ИКТ  для организации  самостоятельной работы  учащихся  по географии вне  школьных  занят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информационных технологий для обеспечения познавательного дос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ы и учебные программы можно назвать универсальными  средствами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4F38-14E9-4996-8E7E-098FC0779E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грамма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ower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готовке к урокам моим незаменимым помощником является приложени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Poin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ходящее в состав пакет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ffic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С её помощью создаётся мультимедиа технология, которая позволяет объединить на одном носителе различные формы представления информации. Это приложение позволяет мне самостоятельно по собственному сценарию подготовить интерактивное мультимедийное пособие к уроку по любой теме с минимальными временными затра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A96C-4D84-4CD8-8825-B584843873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яется возможность использовать фотографии, слайды, музыкальные фрагменты, дикторский текст, видеоматериалы, компьютерную анимацию, структурированные тексты с иллюстрациями, использовать ссылки на сайты Интернет, а также не только выстраивать материал в виде последовательного изложения, но и создавать возможность нелинейного перемещения между различными частями уро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121E-23B7-4DB4-A341-EE56F0CF21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никален органический мир Байкала. В озере встречается около1500 видов животных и более 1000 видов растений, большая часть которых – водоро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70% обитателей озера –энде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57D0-BA5E-47E9-95DA-60B661F811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иродоохранные мероприят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нято много постановлений правительства по рациональному использованию природных ресурсов и охране природы в бассейне Байкала, налаживается очистка промышленных и бытовых стоков, поступающих в озе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1999 г принят даже специальный закон о Байка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бассейне Селенги установлен особый режим хозяйственной деятельности , направленный на уменьшение загрязнения реки и ее прит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бассейне Байкала созданы три заповедника и два национальных пар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дача сохранения чистейших байкальских вод , его уникальной фауны должна стать задачей не только хозяйственников и правительства, но и всех жителей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EF8B-ABC5-4573-B0BE-592A27299E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AB24-7849-41BB-BAED-EAF56DB7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9BCC-999D-41C2-84B7-CCD83907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5BB3-AFBB-4E9F-B36C-38D6D2BD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2B2B-8DD0-41B0-A98F-9832DA56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0F7E-431F-4547-B547-A9777237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676F-2B55-4882-AC96-83805A16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ED76-2B91-49FD-9EDA-C9B30E74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0E2E-A466-4E0E-BD05-1F9D7A11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BA1E-BF3D-4F35-980D-96A20CFA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D1D3-44F8-4722-81E1-A6F30980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97FC-4C5C-4D79-80AB-69D5A038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AD63-9021-40B4-8CD4-78181B79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99ccff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3BC1-5266-444E-B1B1-85F4EA6A65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a/Ombres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ru.wikipedia.org/wiki/&#1060;&#1072;&#1081;&#1083;:Omul_Fish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07696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Bernard MT Condensed"/>
              </a:rPr>
              <a:t>Использование ИКТ на уроках географии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91120" y="4952520"/>
            <a:ext cx="4690800" cy="14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гото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оголюбова Евгения Михайловна, учитель ге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У сош №3 г.Нелид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 u="sng">
                <a:solidFill>
                  <a:srgbClr val="660066"/>
                </a:solidFill>
                <a:uFillTx/>
                <a:latin typeface="Arial"/>
              </a:rPr>
              <a:t>Эпифит</a:t>
            </a:r>
            <a:r>
              <a:rPr b="0" i="1" lang="ru-RU" sz="3200" spc="-1" strike="noStrike">
                <a:solidFill>
                  <a:srgbClr val="660066"/>
                </a:solidFill>
                <a:latin typeface="Arial"/>
              </a:rPr>
              <a:t> — это какое-либо растение, которое произрастает на другом растении, при этом не получает от него никаких питательных веществ.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Эпифиты"/>
          <p:cNvPicPr/>
          <p:nvPr/>
        </p:nvPicPr>
        <p:blipFill>
          <a:blip r:embed="rId1"/>
          <a:stretch/>
        </p:blipFill>
        <p:spPr>
          <a:xfrm>
            <a:off x="304920" y="304920"/>
            <a:ext cx="3733560" cy="5029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Эпифиты 12"/>
          <p:cNvPicPr/>
          <p:nvPr/>
        </p:nvPicPr>
        <p:blipFill>
          <a:blip r:embed="rId2"/>
          <a:stretch/>
        </p:blipFill>
        <p:spPr>
          <a:xfrm>
            <a:off x="4191120" y="304920"/>
            <a:ext cx="4724280" cy="4114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3"/>
          <a:stretch/>
        </p:blipFill>
        <p:spPr>
          <a:xfrm>
            <a:off x="3733920" y="2514600"/>
            <a:ext cx="3676680" cy="4176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800px-Victoria_amazonica_JPG01"/>
          <p:cNvPicPr/>
          <p:nvPr/>
        </p:nvPicPr>
        <p:blipFill>
          <a:blip r:embed="rId4"/>
          <a:stretch/>
        </p:blipFill>
        <p:spPr>
          <a:xfrm>
            <a:off x="304920" y="304920"/>
            <a:ext cx="8610480" cy="62481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228600"/>
          <a:ext cx="9144000" cy="6689880"/>
        </p:xfrm>
        <a:graphic>
          <a:graphicData uri="http://schemas.openxmlformats.org/drawingml/2006/table">
            <a:tbl>
              <a:tblPr/>
              <a:tblGrid>
                <a:gridCol w="2611440"/>
                <a:gridCol w="1457280"/>
                <a:gridCol w="1692360"/>
                <a:gridCol w="1690560"/>
                <a:gridCol w="1692360"/>
              </a:tblGrid>
              <a:tr h="4597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точный ход темпера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здуха в разные сезоны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5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ся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ремя сут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0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0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7f7ba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a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0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1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00"/>
                </a:solidFill>
                <a:latin typeface="Arial"/>
              </a:rPr>
              <a:t>Проверка домашнего зад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610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 переводе с греческого обозначает слово «география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является объектом изучения физической географ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дал название науке географ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впервые совершил кругосветное путешеств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путешественник исследовал Азию в течение 24 л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й путешественник оставил после себя труд «Хождение за три моря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три моря он пересе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первым открыл морской путь в Индию вокруг Афри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открыл Америк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зывают эпоху открытий конц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Проверь себ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000  - 3000 к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щность атм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78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держание азота в возду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6 граду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нижени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на каждый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1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держание кислорода в возду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8 – 20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олщина тропосферы над эква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50 – 55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рхняя граница страт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77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77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7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7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77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77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7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7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ешение задач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ётчик поднялся на высоту 2 км. Каково атмосферное давление воздуха на этой высоте, если у поверхности Земли оно равнялось 750 мм рт. ст.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ределите, чему равна приблизительно относительная высота горной вершины, если у подошвы горы барометр показывает 740 мм, а на вершине 440 м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сота населённого пункта 2000 м над уровнем моря. Высчитайте атмосферное давление на этой выс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 карте определите на какой высоте над уровнем моря находится наш населённый пункт? Высчитайте, какое атмосферное давление можно считать нормальным для нашей мес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ение ИКТ на уроках делает урок нетрадиционным, ярким, насыщенным, приводит к необходимости пересмотра различных способов подачи учебного материала и различных подходов в обучении. Но не следует забывать, что к информационным технологиям необходимо обращаться лишь в том случае, когда они обеспечивают более высокий уровень образовательного процесса на том или ином этапе обучения по сравнению с другими мето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заключении отмечу, что персональный компьютер сегодня одно из самых мощных и эффективных из всех существовавших до сих пор технических средств обучения, позволяющий заметно повысить качество усвоения информации и интерес к предмету, а также осуществлять интегративный подход в об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им из направлений модернизации системы  географического образования  является внедрение компьютерных технологий  и мультимеди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нение в обучении компьютера в сочетании с аудиовизуальными средствами принято называть «новыми  информационными технологиями в образован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оследние годы  система  образования в нашей стране  направлена не столько на усвоение суммы готовых знаний,  сколько  на формирование интеллектуальных умений, умений самостоятельной   познава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нение информационных  компьютерных технологий на уроках географии не только облегчает усвоение учебного материала,  но и представляет новые возможности для  развития творческих  способностей  учащих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вышает мотивацию учащихся к учению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активизирует познавательную деятель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азвивает мышление и творческие способности ребёнка;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формирует активную жизненную позицию в современном обще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сновные формы работы с ИКТ на уроках  географи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осредственное применение в учебном проце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ение ИКТ  для организации  самостоятельной работы  учащихся  по географии вне  школьных  занят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ение информационных технологий для обеспечения познавательного дос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ы и учебные программы можно назвать универсальными  средствами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533520" y="83988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одготовке к урокам моим незаменимым помощником является приложе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ходящее в состав пакет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Offic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 её помощью создаётся мультимедиа технология, которая позволяет объединить на одном носителе различные формы представления информации. Это приложение позволяет мне самостоятельно по собственному сценарию подготовить интерактивное мультимедийное пособие к уроку по любой теме с минимальными временными затрат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является возможность использовать фотографии, слайды, музыкальные фрагменты, дикторский текст, видеоматериалы, компьютерную анимацию, структурированные тексты с иллюстрациями, использовать ссылки на сайты Интернет, а также не только выстраивать материал в виде последовательного изложения, но и создавать возможность нелинейного перемещения между различными частями уро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никален органический мир Байкала. В озере встречается около1500 видов животных и более 1000 видов растений, большая часть которых – водорос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70% обитателей озера –эндем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так называемые маты, целебные водоросли, образующиеся в ручьях серо-водородных источников на Хойто-Гл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8610480" cy="6248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Водоросли в минерализованном притоке Кынгарги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152280"/>
            <a:ext cx="8763120" cy="655344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риродоохранные мероприят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нято много постановлений правительства по рациональному использованию природных ресурсов и охране природы в бассейне Байкала, налаживается очистка промышленных и бытовых стоков, поступающих в озер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1999 г принят даже специальный закон о Байка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бассейне Селенги установлен особый режим хозяйственной деятельности , направленный на уменьшение загрязнения реки и ее прито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бассейне Байкала созданы три заповедника и два национальных пар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дача сохранения чистейших байкальских вод , его уникальной фауны должна стать задачей не только хозяйственников и правительства, но и всех жителей рег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Байкальский берег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00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14539"/>
          <p:cNvPicPr/>
          <p:nvPr/>
        </p:nvPicPr>
        <p:blipFill>
          <a:blip r:embed="rId2"/>
          <a:stretch/>
        </p:blipFill>
        <p:spPr>
          <a:xfrm>
            <a:off x="228600" y="152280"/>
            <a:ext cx="8763120" cy="6477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36796"/>
          <p:cNvPicPr/>
          <p:nvPr/>
        </p:nvPicPr>
        <p:blipFill>
          <a:blip r:embed="rId3"/>
          <a:stretch/>
        </p:blipFill>
        <p:spPr>
          <a:xfrm>
            <a:off x="228600" y="152280"/>
            <a:ext cx="8763120" cy="6553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296153"/>
          <p:cNvPicPr/>
          <p:nvPr/>
        </p:nvPicPr>
        <p:blipFill>
          <a:blip r:embed="rId4"/>
          <a:stretch/>
        </p:blipFill>
        <p:spPr>
          <a:xfrm>
            <a:off x="228600" y="152280"/>
            <a:ext cx="8763120" cy="6553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310935"/>
          <p:cNvPicPr/>
          <p:nvPr/>
        </p:nvPicPr>
        <p:blipFill>
          <a:blip r:embed="rId5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310933"/>
          <p:cNvPicPr/>
          <p:nvPr/>
        </p:nvPicPr>
        <p:blipFill>
          <a:blip r:embed="rId6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572000" cy="2895480"/>
          </a:xfrm>
          <a:prstGeom prst="rect">
            <a:avLst/>
          </a:prstGeom>
          <a:ln w="38160">
            <a:solidFill>
              <a:srgbClr val="0000cc"/>
            </a:solidFill>
            <a:miter/>
          </a:ln>
        </p:spPr>
      </p:pic>
      <p:sp>
        <p:nvSpPr>
          <p:cNvPr id="76" name="Rectangle 3"/>
          <p:cNvSpPr/>
          <p:nvPr/>
        </p:nvSpPr>
        <p:spPr>
          <a:xfrm>
            <a:off x="228600" y="3734280"/>
            <a:ext cx="297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нтарктиду называют -    Землей ве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198948787__45"/>
          <p:cNvPicPr/>
          <p:nvPr/>
        </p:nvPicPr>
        <p:blipFill>
          <a:blip r:embed="rId2"/>
          <a:stretch/>
        </p:blipFill>
        <p:spPr>
          <a:xfrm>
            <a:off x="4114800" y="2971800"/>
            <a:ext cx="4782960" cy="3722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13_antarktida_25574"/>
          <p:cNvPicPr/>
          <p:nvPr/>
        </p:nvPicPr>
        <p:blipFill>
          <a:blip r:embed="rId3"/>
          <a:stretch/>
        </p:blipFill>
        <p:spPr>
          <a:xfrm>
            <a:off x="152280" y="228600"/>
            <a:ext cx="8839440" cy="64771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2-29T11:17:4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