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45B-63C2-4762-B6DE-B38CA0B3E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голюбова Евгения Михайловна, 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У сош №3 г.Нели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0C97-3F49-4C36-BD3C-B4CE396E2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 u="sng">
                <a:solidFill>
                  <a:srgbClr val="660066"/>
                </a:solidFill>
                <a:uFillTx/>
                <a:latin typeface="Calibri"/>
              </a:rPr>
              <a:t>Эпифит</a:t>
            </a:r>
            <a:r>
              <a:rPr b="0" i="1" lang="ru-RU" sz="1200" spc="-1" strike="noStrike">
                <a:solidFill>
                  <a:srgbClr val="660066"/>
                </a:solidFill>
                <a:latin typeface="Calibri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588D-2788-40C3-801A-828507CE55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E05-0109-4453-B85D-BA67FD61C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80"/>
                </a:solidFill>
                <a:latin typeface="Calibri"/>
              </a:rPr>
              <a:t>Проверка домашнего зад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 переводе с греческого обозначает слово «географи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является объектом изучения физической ге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ал название науке географ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совершил кругосветное путеше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утешественник исследовал Азию в течение 24 л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утешественник оставил после себя труд «Хождение за три мор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три моря он перес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первым открыл морской путь в Индию вокруг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Аме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 эпоху открытий конц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C28-F045-4829-924D-EE3ED5ADCB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роверь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000  - 3000 к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щность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8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азот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 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ижени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на каждый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1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– 2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лщина тропосферы над экв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0 – 55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рхняя граница страт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DD8-F15E-4359-AFC6-6760A50FB8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шение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635-5E3C-470D-8ABF-5556AAF9A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B3F-0B39-4DA9-862E-5CE4BA095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C615-5829-4DAA-BD26-D4E3457B42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овышает мотивацию учащихся к 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ивизирует познавательную деятель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вивает мышление и творческие способности ребёнка;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ирует активную жизненную позицию в современн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FB07-2068-4FC6-B826-24241FBD3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формы работы с ИКТ на уроках  географи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е применение в учеб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технологий для обеспечения познавательного дос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ы и учебные программы можно назвать универсальными  средствами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3C4-A3A2-4C8D-A859-BE1477DC6D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к урокам моим незаменимым помощником является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ходящее в состав пак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A6B-7623-4B4C-8EA4-00DFA61BD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90F7-33C4-4028-B095-FD672D9F4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70% обитателей озера –энде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97E-9E15-4A01-9F12-23EEF4B5A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родоохранны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999 г принят даже специальный закон о Байк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Байкала созданы три заповедника и два национальных п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3AF4-0EF8-4F69-A751-103BEFD8B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6DB-BD80-4B94-89E2-EB08307C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5FA-B7E7-451D-8270-D5D839A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4F-BE07-4A0F-8DE5-2D1D9ACC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7B6-225B-415A-905C-704FA7BD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336-A99C-434C-BB58-C01A9299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B7C-DD71-43C4-A307-1F0F083B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E7A-0CAA-486F-AF0F-DDC2029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7BF-B100-436B-B879-77455498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FFD-A91B-4D71-9341-C85E41C5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86A-0003-45B2-ACDE-3D88965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F0F-E8D5-4904-B0CA-4AAC29C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D15-D554-4937-B6E2-913D6380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cc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7CBB-8D39-4C32-906D-C9E59FF64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Ombre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Omul_Fish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520"/>
            <a:ext cx="469080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олюбова Евгения Михайловна,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сош №3 г.Нели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Эпифит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Эпифиты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Эпифиты 12"/>
          <p:cNvPicPr/>
          <p:nvPr/>
        </p:nvPicPr>
        <p:blipFill>
          <a:blip r:embed="rId2"/>
          <a:stretch/>
        </p:blipFill>
        <p:spPr>
          <a:xfrm>
            <a:off x="4191120" y="30492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7668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00px-Victoria_amazonica_JPG01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28600"/>
          <a:ext cx="9144000" cy="6689880"/>
        </p:xfrm>
        <a:graphic>
          <a:graphicData uri="http://schemas.openxmlformats.org/drawingml/2006/table">
            <a:tbl>
              <a:tblPr/>
              <a:tblGrid>
                <a:gridCol w="2611440"/>
                <a:gridCol w="1457280"/>
                <a:gridCol w="1692360"/>
                <a:gridCol w="1690560"/>
                <a:gridCol w="1692360"/>
              </a:tblGrid>
              <a:tr h="459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точный ход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уха в разные сезоны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я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 с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переводе с греческого обозначает слово «географ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физической ге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ал название науке географ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первые совершил кругосветн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утешественник исследовал Азию в течение 2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утешественник оставил после себя труд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три моря он перес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ервым открыл морской путь в Индию вокруг Афр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эпоху открытий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00  - 30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щность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азот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град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ижен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 каждый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8 – 2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0 – 5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яя граница страт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шает мотивацию учащихся к уче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ктивизирует познавательную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звивает мышление и творческие способности ребёнка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формы работы с ИКТ на уроках  географ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е применение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технологий для обеспечения познавательного дос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и учебные программы можно назвать универсальными  средствам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839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ам моим незаменимым помощником является при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ходящее в состав пак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0% обитателей озера –энде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так называемые маты, целебные водоросли, образующиеся в ручьях серо-водородных источников на Хойто-Г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одоросли в минерализованном притоке Кынгар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родоохран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99 г принят даже специальный закон о Байка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Байкала созданы три заповедника и два национальных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Байкальский берег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4539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6796"/>
          <p:cNvPicPr/>
          <p:nvPr/>
        </p:nvPicPr>
        <p:blipFill>
          <a:blip r:embed="rId3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96153"/>
          <p:cNvPicPr/>
          <p:nvPr/>
        </p:nvPicPr>
        <p:blipFill>
          <a:blip r:embed="rId4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1093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10933"/>
          <p:cNvPicPr/>
          <p:nvPr/>
        </p:nvPicPr>
        <p:blipFill>
          <a:blip r:embed="rId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228600" y="373428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арктиду называют -    Землей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98948787__45"/>
          <p:cNvPicPr/>
          <p:nvPr/>
        </p:nvPicPr>
        <p:blipFill>
          <a:blip r:embed="rId2"/>
          <a:stretch/>
        </p:blipFill>
        <p:spPr>
          <a:xfrm>
            <a:off x="4114800" y="2971800"/>
            <a:ext cx="4782960" cy="372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3_antarktida_25574"/>
          <p:cNvPicPr/>
          <p:nvPr/>
        </p:nvPicPr>
        <p:blipFill>
          <a:blip r:embed="rId3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17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