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0EE8-24A2-4F45-910F-B4F0FA7EB84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slide" Target="../slides/slide20.xml"/><Relationship Id="rId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МОУ-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школа №1 г.Арам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ятыгина Светлан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4AF8-71B1-4F65-8656-26814E515E7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Прием наложения слоёв карты</a:t>
            </a:r>
            <a:br>
              <a:rPr sz="1800"/>
            </a:b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актуален в курсе географии «Население и хозяйство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FE53-73B6-47A8-BB40-6E1C39AE3E2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грузоперевозо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8E83-A4F3-489B-A81A-9A68C88FFAA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онтроля знаний учащих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 (проведение географических диктан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 (ответ у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60E4-3751-47F5-9A26-65879763F6C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рактивной доски в работе с детьми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7C11-D1A2-4445-9993-D493B51606C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13AF-1201-4081-AF98-5E45D6E5F3D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E9AE-3698-4F40-A6CE-4D25F75214A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и издательства «Кирилл и Мефод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программный продукт «КМ-Школ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38D9-B341-4896-83E0-44FF802D9F6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37B5-D848-41A7-9664-20BEE0413E0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Интерактивные электронные карты, выпущенные издательством «Дроф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4FF1-98F1-4602-BB1E-2F0E4193922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а ИПП «КМ-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Экономика и культура Японии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траны Афри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1D7-A330-4AEA-934D-F813A602362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аиллю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97BC-C315-4D6E-A93F-721E556B1C7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a10"/>
                </a:solidFill>
                <a:latin typeface="Calibri"/>
              </a:rPr>
              <a:t>Медиаобъекты и текстовые комментар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757C-9567-48BD-8F65-50FD87289E4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мир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EEB0-DB89-48B8-97F5-D88AE607FEF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1442-A52E-4149-A5D7-E4C73D5599A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6069-031D-4B53-AFF2-05A7BFF16B1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ирование по тем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A28F-072A-4475-BA17-3D6891EBD88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кар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D05E-D6B2-4401-BDA5-E92EE4EB61A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FCA5-35D4-45AF-A868-AB71AE1B33A6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046-FB35-4FB0-9406-B5158515400C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и наглядного пособия: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ближать участки земной поверхности для более детального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61DD-6123-4492-B234-47982C73163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Снимать часть обозначений, упрощая карту, делая её более нагляд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Тема «Схема поверхностных течен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B7F2F-6236-4D21-A606-81911CE21FC4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Создавать рисунки,</a:t>
            </a: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наносить надписи на карт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: «Географическое положение Южной Америк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5340-D021-446C-9068-B8AC88AC4AE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86CB-8B3A-40EC-877C-2387DDB3E657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a10"/>
                </a:solidFill>
                <a:latin typeface="Calibri"/>
              </a:rPr>
              <a:t>Дополнительный иллюстративный  и текстовый материа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0C2D-E797-4304-96D2-EB631502865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Комбинирование слоями позволяет выявить причинно-следственные связи и закономер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. Тема «Тектоника и минеральные ресурсы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A8A5-2AB7-4794-9AF8-8503D70E7D2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EAF-3078-4BE9-8F4A-44FA6C80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96E5-7695-466F-9DE9-BD59A2AE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3D6-B350-48AF-A97C-BD685DBF2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D61-A496-44E4-A761-359FDEABC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AB0C5-6684-44C6-9C1F-6B172271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3E515-CB43-4E9C-8621-BE1F99AA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A9F0E-1C4B-4614-9587-AA8E8BD5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D5B94-25F4-4948-B85D-CE0C4B57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771F7-20DF-4338-A676-70140BBA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C27E1-C0F1-46F1-9BD3-F72DFA81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E41FD-6FE8-4F20-9E04-EC289B97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CB4-94E0-4CA2-8A71-F04285E9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F6D05-B218-4026-9D8A-1FCC4474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FC91E-CA8F-4E55-9E8B-CE0D5CA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6403F-387F-4723-A074-F2BDCBF3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A8668-AB69-418D-BA08-6863D1111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60AB0-F94D-4AB9-9DF2-04DD4F4C6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29726-8D51-4101-AE3D-875F7086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9FA07-473A-4411-9A5E-888FF3E1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036B-2263-4205-81D0-3AE6AEBB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EAB6-6541-43CF-B449-6924D080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21EB7-EF43-43B2-A771-7EB91540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3F9-36E9-480C-86DA-24E77B80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2EC3B-CCAF-4B88-B92D-258691BC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7BD0B-B579-4066-8FE4-8173AD3E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5F3C-B06F-4FFD-B233-488C3CF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9AF56-B721-41A4-842D-5BF715A6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15315-72C5-4513-AFD0-14C2070E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5CBDB-2845-4305-B5EC-9D216B286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56EB4-8DAE-4304-97A6-7BEBD470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27DEE-3CB8-44B0-A2BB-51D87BD5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DB5DE-4652-4F8E-8159-9BD22C65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ECF6-BD6B-4F71-B8AC-97AF1CD5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610-50BA-4D03-A498-F477EA5D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3E848-7B04-4879-B576-A027EF63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ABC50-851E-4584-9542-6BA8EEA1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FA74-8651-446A-AC5B-96A5B658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6667E-B28A-41D1-85D5-5457CBA5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8FBED-9CBE-4C0A-BD19-603B2894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B1DA-DCE2-4797-A934-559F27C9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1BDF0-4ED7-41E8-90CA-7023A466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8565C-8887-4C66-810A-BCC8E519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F9937-447B-44F0-ACAB-A6FFA042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EFA52-20EA-4866-9CB3-7809B564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F83-F6AE-4BAC-88D5-BEA4E357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76344-6830-439A-A7C1-A0D13089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D6D4F-F394-48E0-9E68-CC4AE101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BAFFE-4E1B-484D-9F2F-071A3583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48C63-EC47-4E81-8033-91F2F616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48FA-A2A3-4A65-A875-6A6B3729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EAA4F-6658-412F-8D9F-85C49CC2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8814-3AFB-47B9-8472-789BB6AB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F34DE-1E23-4F3E-9F51-CCB6AD79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EDAFF-4772-4C15-A4C4-067C53B3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528E6-F806-4B75-BFCA-31847FEF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9A5-D50F-4ECD-B56A-B0844A17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DCE94-1923-45E5-8F6B-1421BEEE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D86F8-8EEB-4A08-96C0-DF9AAFFF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CC56D-1B1D-4EF6-84D7-792992EF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3C6D6-A9A0-4348-B1BC-11C50FB4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5631B-584A-45AA-AB2B-7900EC5B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E418E-8936-4671-9994-8EC1FBA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94700-78DF-4498-A2E4-7D966B722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7B340C-6FCB-44D1-B1C7-08A7ACB3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C1FD4-7035-473B-9429-A3DA82C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D49DC-D2D6-4E43-9D5E-6FEA71F6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12B-66EE-462F-B2BA-96B3F35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5067A-8532-45FA-8C08-106F05D1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074F0-E526-458E-9EDD-D6548C96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7A6B8-FAED-407F-9A44-E69E8E845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726-EB16-479B-AD27-D9E263BF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D4DF-9DBD-4CA7-A986-EBA930AC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F5C9-E61D-48D1-B402-46A49DA301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82BD-3018-4921-B7A8-1356C5EAA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11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47E5-8FCA-4FAD-8E42-692F8A4339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9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BCAF-D9E6-43BE-A56B-E9C31D7ED2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0973-12F3-4622-A89D-46F931DC3D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4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4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46A9-179D-4435-AF65-4A7F0EB49FC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23640" y="3885840"/>
            <a:ext cx="33843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Учитель географии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МОУ-Средняя общеобразовательна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школа №1 г.Арамил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Пятыгина Светлана Петровн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684360" y="25560"/>
            <a:ext cx="7704000" cy="237924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a10"/>
                </a:solidFill>
                <a:latin typeface="Tahoma"/>
              </a:rPr>
              <a:t>Использование интерактивной доски Interwrite Board на уроках географии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2" name="Picture 0" descr="image002"/>
          <p:cNvPicPr/>
          <p:nvPr/>
        </p:nvPicPr>
        <p:blipFill>
          <a:blip r:embed="rId1"/>
          <a:stretch/>
        </p:blipFill>
        <p:spPr>
          <a:xfrm>
            <a:off x="3708360" y="2421000"/>
            <a:ext cx="5048280" cy="379080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Прием наложения слоёв карты</a:t>
            </a:r>
            <a:br>
              <a:rPr sz="4000"/>
            </a:b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актуален в курсе географии «Население и хозяйство России»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826920" y="260280"/>
            <a:ext cx="6409080" cy="3070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a10"/>
                </a:solidFill>
                <a:latin typeface="Tahoma"/>
              </a:rPr>
              <a:t>География размещения угля и железной руды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82" name="Picture 0" descr="image002"/>
          <p:cNvPicPr/>
          <p:nvPr/>
        </p:nvPicPr>
        <p:blipFill>
          <a:blip r:embed="rId1"/>
          <a:stretch/>
        </p:blipFill>
        <p:spPr>
          <a:xfrm>
            <a:off x="324000" y="1303200"/>
            <a:ext cx="8496000" cy="468468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Направление грузоперевозок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5" name="Picture 1" descr="image002"/>
          <p:cNvPicPr/>
          <p:nvPr/>
        </p:nvPicPr>
        <p:blipFill>
          <a:blip r:embed="rId1"/>
          <a:stretch/>
        </p:blipFill>
        <p:spPr>
          <a:xfrm>
            <a:off x="1403280" y="1628640"/>
            <a:ext cx="6147000" cy="4602240"/>
          </a:xfrm>
          <a:prstGeom prst="rect">
            <a:avLst/>
          </a:prstGeom>
          <a:ln w="0">
            <a:noFill/>
          </a:ln>
        </p:spPr>
      </p:pic>
      <p:sp>
        <p:nvSpPr>
          <p:cNvPr id="58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8" name="Picture 1" descr="image002"/>
          <p:cNvPicPr/>
          <p:nvPr/>
        </p:nvPicPr>
        <p:blipFill>
          <a:blip r:embed="rId1"/>
          <a:stretch/>
        </p:blipFill>
        <p:spPr>
          <a:xfrm>
            <a:off x="900000" y="1268280"/>
            <a:ext cx="6840720" cy="512784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Использование специализированных карт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692280"/>
            <a:ext cx="7489800" cy="54036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рганизация контроля знаний учащихся: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Фронтальный опрос (проведение географических диктантов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ндивидуальный  (ответ у доски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904000" cy="3220920"/>
          </a:xfrm>
          <a:prstGeom prst="rect">
            <a:avLst/>
          </a:prstGeom>
          <a:ln w="0">
            <a:noFill/>
          </a:ln>
        </p:spPr>
      </p:pic>
      <p:sp>
        <p:nvSpPr>
          <p:cNvPr id="5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9564"/>
                </a:solidFill>
                <a:latin typeface="Garamond"/>
              </a:rPr>
              <a:t>Использование интерактивной доски в работе с детьми с ограниченными возможностями здоровья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95" name="Picture 4" descr="SPM_A0376"/>
          <p:cNvPicPr/>
          <p:nvPr/>
        </p:nvPicPr>
        <p:blipFill>
          <a:blip r:embed="rId1"/>
          <a:srcRect l="11118" t="0" r="0" b="0"/>
          <a:stretch/>
        </p:blipFill>
        <p:spPr>
          <a:xfrm>
            <a:off x="25092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0"/>
          <p:cNvSpPr/>
          <p:nvPr/>
        </p:nvSpPr>
        <p:spPr>
          <a:xfrm>
            <a:off x="250920" y="5157720"/>
            <a:ext cx="3744720" cy="15087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Написать названия гор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6 коррекционный класс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Тема «Горы»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0" y="4941720"/>
            <a:ext cx="4032360" cy="21729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Впиши в клеточки название отраслей промышленности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7 коррекционный класс. Тема «Промышленность – основа хозяйства, её отрасли»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9" name="Picture 2" descr="image002"/>
          <p:cNvPicPr/>
          <p:nvPr/>
        </p:nvPicPr>
        <p:blipFill>
          <a:blip r:embed="rId2"/>
          <a:stretch/>
        </p:blipFill>
        <p:spPr>
          <a:xfrm>
            <a:off x="4498920" y="1700280"/>
            <a:ext cx="4645080" cy="2987640"/>
          </a:xfrm>
          <a:prstGeom prst="rect">
            <a:avLst/>
          </a:prstGeom>
          <a:ln w="0">
            <a:noFill/>
          </a:ln>
        </p:spPr>
      </p:pic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581360" y="1557360"/>
            <a:ext cx="456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пособствует развитию контроля и самоконтроля учащихс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 процессе выполнения заданий развивается внимание, расширяется его объём и концентраци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Учащиеся овладевают простыми, но необходимыми приёмами зрительного и слухового запоминания, а также сохранения увиденного и услышанного в памя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любознательности, самостоятельнос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предпосылки для формирования компьютерной грамотности, для дальнейшей адоптации в социуме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03" name="Picture 1" descr="image002"/>
          <p:cNvPicPr/>
          <p:nvPr/>
        </p:nvPicPr>
        <p:blipFill>
          <a:blip r:embed="rId1"/>
          <a:stretch/>
        </p:blipFill>
        <p:spPr>
          <a:xfrm>
            <a:off x="250920" y="1844640"/>
            <a:ext cx="4254480" cy="3670200"/>
          </a:xfrm>
          <a:prstGeom prst="rect">
            <a:avLst/>
          </a:prstGeom>
          <a:ln w="0">
            <a:noFill/>
          </a:ln>
        </p:spPr>
      </p:pic>
      <p:sp>
        <p:nvSpPr>
          <p:cNvPr id="60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07" name="Picture 1" descr="image002"/>
          <p:cNvPicPr/>
          <p:nvPr/>
        </p:nvPicPr>
        <p:blipFill>
          <a:blip r:embed="rId1"/>
          <a:stretch/>
        </p:blipFill>
        <p:spPr>
          <a:xfrm>
            <a:off x="4764240" y="1600200"/>
            <a:ext cx="380664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лектро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ски издательства «Кирилл и Мефодий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тегрированный программный продукт «КМ-Школ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Picture 1" descr="image002"/>
          <p:cNvPicPr/>
          <p:nvPr/>
        </p:nvPicPr>
        <p:blipFill>
          <a:blip r:embed="rId1"/>
          <a:stretch/>
        </p:blipFill>
        <p:spPr>
          <a:xfrm>
            <a:off x="4305240" y="1700280"/>
            <a:ext cx="2184480" cy="3097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image002"/>
          <p:cNvPicPr/>
          <p:nvPr/>
        </p:nvPicPr>
        <p:blipFill>
          <a:blip r:embed="rId2"/>
          <a:stretch/>
        </p:blipFill>
        <p:spPr>
          <a:xfrm>
            <a:off x="6732720" y="1700280"/>
            <a:ext cx="2190600" cy="3097080"/>
          </a:xfrm>
          <a:prstGeom prst="rect">
            <a:avLst/>
          </a:prstGeom>
          <a:ln w="0">
            <a:noFill/>
          </a:ln>
        </p:spPr>
      </p:pic>
      <p:sp>
        <p:nvSpPr>
          <p:cNvPr id="61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0" descr="image002"/>
          <p:cNvPicPr/>
          <p:nvPr/>
        </p:nvPicPr>
        <p:blipFill>
          <a:blip r:embed="rId1"/>
          <a:stretch/>
        </p:blipFill>
        <p:spPr>
          <a:xfrm>
            <a:off x="179280" y="4221000"/>
            <a:ext cx="5616720" cy="2484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image002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a10"/>
                </a:solidFill>
                <a:latin typeface="Garamond"/>
              </a:rPr>
              <a:t>Интерактивные электронные карты, выпущенные издательством «Дрофа»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52240" y="2876040"/>
            <a:ext cx="48704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179280" y="4869000"/>
            <a:ext cx="4032360" cy="18478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Garamond"/>
              </a:rPr>
              <a:t>В школе накоплено 62 интерактивные карты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7" name="Picture 1" descr="image002"/>
          <p:cNvPicPr/>
          <p:nvPr/>
        </p:nvPicPr>
        <p:blipFill>
          <a:blip r:embed="rId1"/>
          <a:stretch/>
        </p:blipFill>
        <p:spPr>
          <a:xfrm>
            <a:off x="611280" y="1628640"/>
            <a:ext cx="1998720" cy="2808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image002"/>
          <p:cNvPicPr/>
          <p:nvPr/>
        </p:nvPicPr>
        <p:blipFill>
          <a:blip r:embed="rId2"/>
          <a:stretch/>
        </p:blipFill>
        <p:spPr>
          <a:xfrm>
            <a:off x="3564000" y="1628640"/>
            <a:ext cx="1719360" cy="2521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image002"/>
          <p:cNvPicPr/>
          <p:nvPr/>
        </p:nvPicPr>
        <p:blipFill>
          <a:blip r:embed="rId3"/>
          <a:stretch/>
        </p:blipFill>
        <p:spPr>
          <a:xfrm>
            <a:off x="6227640" y="1628640"/>
            <a:ext cx="1984320" cy="280836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реда ИПП «КМ-Школ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«Экономика и культура Японии»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«Страны Африки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7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0" name="Picture 1" descr="image002"/>
          <p:cNvPicPr/>
          <p:nvPr/>
        </p:nvPicPr>
        <p:blipFill>
          <a:blip r:embed="rId4"/>
          <a:stretch/>
        </p:blipFill>
        <p:spPr>
          <a:xfrm>
            <a:off x="4645080" y="1725480"/>
            <a:ext cx="4362480" cy="4583160"/>
          </a:xfrm>
          <a:prstGeom prst="rect">
            <a:avLst/>
          </a:prstGeom>
          <a:ln w="0">
            <a:noFill/>
          </a:ln>
        </p:spPr>
      </p:pic>
      <p:sp>
        <p:nvSpPr>
          <p:cNvPr id="6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image002"/>
          <p:cNvPicPr/>
          <p:nvPr/>
        </p:nvPicPr>
        <p:blipFill>
          <a:blip r:embed="rId1"/>
          <a:stretch/>
        </p:blipFill>
        <p:spPr>
          <a:xfrm>
            <a:off x="2050920" y="1413000"/>
            <a:ext cx="3961080" cy="3133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иллюст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5" name="Picture 0" descr="image002"/>
          <p:cNvPicPr/>
          <p:nvPr/>
        </p:nvPicPr>
        <p:blipFill>
          <a:blip r:embed="rId2"/>
          <a:stretch/>
        </p:blipFill>
        <p:spPr>
          <a:xfrm>
            <a:off x="0" y="3284640"/>
            <a:ext cx="2522520" cy="3573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image002"/>
          <p:cNvPicPr/>
          <p:nvPr/>
        </p:nvPicPr>
        <p:blipFill>
          <a:blip r:embed="rId3"/>
          <a:stretch/>
        </p:blipFill>
        <p:spPr>
          <a:xfrm>
            <a:off x="3780000" y="3860640"/>
            <a:ext cx="5364000" cy="2532240"/>
          </a:xfrm>
          <a:prstGeom prst="rect">
            <a:avLst/>
          </a:prstGeom>
          <a:ln w="0">
            <a:noFill/>
          </a:ln>
        </p:spPr>
      </p:pic>
      <p:sp>
        <p:nvSpPr>
          <p:cNvPr id="6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9" name="Picture 1" descr="image002"/>
          <p:cNvPicPr/>
          <p:nvPr/>
        </p:nvPicPr>
        <p:blipFill>
          <a:blip r:embed="rId1"/>
          <a:stretch/>
        </p:blipFill>
        <p:spPr>
          <a:xfrm>
            <a:off x="539640" y="907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Arial"/>
              </a:rPr>
              <a:t>Медиаобъекты и текстовые комментарии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31" name="Picture 7" descr="image002"/>
          <p:cNvPicPr/>
          <p:nvPr/>
        </p:nvPicPr>
        <p:blipFill>
          <a:blip r:embed="rId2"/>
          <a:stretch/>
        </p:blipFill>
        <p:spPr>
          <a:xfrm>
            <a:off x="455760" y="3960720"/>
            <a:ext cx="4037040" cy="2097360"/>
          </a:xfrm>
          <a:prstGeom prst="rect">
            <a:avLst/>
          </a:prstGeom>
          <a:ln w="0">
            <a:noFill/>
          </a:ln>
        </p:spPr>
      </p:pic>
      <p:sp>
        <p:nvSpPr>
          <p:cNvPr id="6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еография ми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4" name="Picture 1" descr="image002"/>
          <p:cNvPicPr/>
          <p:nvPr/>
        </p:nvPicPr>
        <p:blipFill>
          <a:blip r:embed="rId1"/>
          <a:stretch/>
        </p:blipFill>
        <p:spPr>
          <a:xfrm>
            <a:off x="179280" y="299736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image002"/>
          <p:cNvPicPr/>
          <p:nvPr/>
        </p:nvPicPr>
        <p:blipFill>
          <a:blip r:embed="rId2"/>
          <a:stretch/>
        </p:blipFill>
        <p:spPr>
          <a:xfrm>
            <a:off x="3132000" y="2276640"/>
            <a:ext cx="2880000" cy="2628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image002"/>
          <p:cNvPicPr/>
          <p:nvPr/>
        </p:nvPicPr>
        <p:blipFill>
          <a:blip r:embed="rId3"/>
          <a:stretch/>
        </p:blipFill>
        <p:spPr>
          <a:xfrm>
            <a:off x="6294600" y="2924280"/>
            <a:ext cx="2849400" cy="259848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116000" y="5661000"/>
            <a:ext cx="6624720" cy="970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Garamond"/>
              </a:rPr>
              <a:t>Отработка умений и навыков у учащихся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1" name="Picture 1" descr="image002"/>
          <p:cNvPicPr/>
          <p:nvPr/>
        </p:nvPicPr>
        <p:blipFill>
          <a:blip r:embed="rId1"/>
          <a:stretch/>
        </p:blipFill>
        <p:spPr>
          <a:xfrm>
            <a:off x="900000" y="920880"/>
            <a:ext cx="6840720" cy="45180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4" name="Picture 1" descr="image002"/>
          <p:cNvPicPr/>
          <p:nvPr/>
        </p:nvPicPr>
        <p:blipFill>
          <a:blip r:embed="rId1"/>
          <a:stretch/>
        </p:blipFill>
        <p:spPr>
          <a:xfrm>
            <a:off x="324000" y="1341360"/>
            <a:ext cx="8604000" cy="4737240"/>
          </a:xfrm>
          <a:prstGeom prst="rect">
            <a:avLst/>
          </a:prstGeom>
          <a:ln w="0">
            <a:noFill/>
          </a:ln>
        </p:spPr>
      </p:pic>
      <p:sp>
        <p:nvSpPr>
          <p:cNvPr id="6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ирование по тем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24000" y="5805360"/>
            <a:ext cx="8424720" cy="970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8ae"/>
                </a:solidFill>
                <a:latin typeface="Garamond"/>
              </a:rPr>
              <a:t>Возможность проверить усвоение учебного материала.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8" name="Picture 1" descr="image002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4994280"/>
          </a:xfrm>
          <a:prstGeom prst="rect">
            <a:avLst/>
          </a:prstGeom>
          <a:ln w="0">
            <a:noFill/>
          </a:ln>
        </p:spPr>
      </p:pic>
      <p:sp>
        <p:nvSpPr>
          <p:cNvPr id="6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нтерактивные кар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591984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356000" y="4292640"/>
            <a:ext cx="288000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24000" y="4292640"/>
            <a:ext cx="251928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7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54" name="Picture 1" descr="image002"/>
          <p:cNvPicPr/>
          <p:nvPr/>
        </p:nvPicPr>
        <p:blipFill>
          <a:blip r:embed="rId1"/>
          <a:stretch/>
        </p:blipFill>
        <p:spPr>
          <a:xfrm>
            <a:off x="179280" y="10526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image002"/>
          <p:cNvPicPr/>
          <p:nvPr/>
        </p:nvPicPr>
        <p:blipFill>
          <a:blip r:embed="rId2"/>
          <a:stretch/>
        </p:blipFill>
        <p:spPr>
          <a:xfrm>
            <a:off x="4356000" y="1052640"/>
            <a:ext cx="4470480" cy="305280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6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59" name="Picture 1" descr="image002"/>
          <p:cNvPicPr/>
          <p:nvPr/>
        </p:nvPicPr>
        <p:blipFill>
          <a:blip r:embed="rId1"/>
          <a:stretch/>
        </p:blipFill>
        <p:spPr>
          <a:xfrm>
            <a:off x="250920" y="1916280"/>
            <a:ext cx="4824360" cy="3625560"/>
          </a:xfrm>
          <a:prstGeom prst="rect">
            <a:avLst/>
          </a:prstGeom>
          <a:ln w="0">
            <a:noFill/>
          </a:ln>
        </p:spPr>
      </p:pic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дача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1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63" name="Picture 1" descr="image002"/>
          <p:cNvPicPr/>
          <p:nvPr/>
        </p:nvPicPr>
        <p:blipFill>
          <a:blip r:embed="rId1"/>
          <a:stretch/>
        </p:blipFill>
        <p:spPr>
          <a:xfrm>
            <a:off x="4211640" y="1557360"/>
            <a:ext cx="4716360" cy="3530520"/>
          </a:xfrm>
          <a:prstGeom prst="rect">
            <a:avLst/>
          </a:prstGeom>
          <a:ln w="0">
            <a:noFill/>
          </a:ln>
        </p:spPr>
      </p:pic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Возможности наглядного пособия: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599840"/>
            <a:ext cx="4032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риближать участки земной поверхности для более детального рассмотрени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43" name="Picture 1" descr="image002"/>
          <p:cNvPicPr/>
          <p:nvPr/>
        </p:nvPicPr>
        <p:blipFill>
          <a:blip r:embed="rId1"/>
          <a:stretch/>
        </p:blipFill>
        <p:spPr>
          <a:xfrm>
            <a:off x="4932360" y="1341360"/>
            <a:ext cx="3651120" cy="3397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image002"/>
          <p:cNvPicPr/>
          <p:nvPr/>
        </p:nvPicPr>
        <p:blipFill>
          <a:blip r:embed="rId2"/>
          <a:stretch/>
        </p:blipFill>
        <p:spPr>
          <a:xfrm>
            <a:off x="179280" y="3645000"/>
            <a:ext cx="4643640" cy="289224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Снимать часть обозначений, упрощая карту, делая её более наглядной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«Схема поверхностных течений»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7636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49" name="Picture 1" descr="image002"/>
          <p:cNvPicPr/>
          <p:nvPr/>
        </p:nvPicPr>
        <p:blipFill>
          <a:blip r:embed="rId1"/>
          <a:stretch/>
        </p:blipFill>
        <p:spPr>
          <a:xfrm>
            <a:off x="1187280" y="2708280"/>
            <a:ext cx="6048720" cy="375912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Создавать рисунки,</a:t>
            </a:r>
            <a:br>
              <a:rPr sz="2800"/>
            </a:b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наносить надписи на карте 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27280" y="160020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.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: «Географическое положение Южной Америки»</a:t>
            </a:r>
            <a:br>
              <a:rPr sz="2000"/>
            </a:b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54" name="Picture 1" descr="image002"/>
          <p:cNvPicPr/>
          <p:nvPr/>
        </p:nvPicPr>
        <p:blipFill>
          <a:blip r:embed="rId1"/>
          <a:stretch/>
        </p:blipFill>
        <p:spPr>
          <a:xfrm>
            <a:off x="324000" y="1773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e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2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Garamond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0" r="17025" b="0"/>
          <a:stretch/>
        </p:blipFill>
        <p:spPr>
          <a:xfrm>
            <a:off x="250920" y="1773360"/>
            <a:ext cx="3384360" cy="30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2"/>
          <a:srcRect l="0" t="0" r="18210" b="0"/>
          <a:stretch/>
        </p:blipFill>
        <p:spPr>
          <a:xfrm>
            <a:off x="4859280" y="3213000"/>
            <a:ext cx="3672000" cy="33670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024"/>
          <p:cNvPicPr/>
          <p:nvPr/>
        </p:nvPicPr>
        <p:blipFill>
          <a:blip r:embed="rId3"/>
          <a:stretch/>
        </p:blipFill>
        <p:spPr>
          <a:xfrm>
            <a:off x="1042920" y="3357720"/>
            <a:ext cx="961920" cy="7617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0"/>
          <p:cNvSpPr/>
          <p:nvPr/>
        </p:nvSpPr>
        <p:spPr>
          <a:xfrm>
            <a:off x="539640" y="18900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556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a10"/>
                </a:solidFill>
                <a:latin typeface="Garamond"/>
              </a:rPr>
              <a:t>Дополнительный иллюстративный  и текстовый материал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104292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8 класс Тема: «Типы почв России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66" name="Picture 1" descr="image002"/>
          <p:cNvPicPr/>
          <p:nvPr/>
        </p:nvPicPr>
        <p:blipFill>
          <a:blip r:embed="rId1"/>
          <a:stretch/>
        </p:blipFill>
        <p:spPr>
          <a:xfrm>
            <a:off x="3780000" y="1268280"/>
            <a:ext cx="3456000" cy="2589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image002"/>
          <p:cNvPicPr/>
          <p:nvPr/>
        </p:nvPicPr>
        <p:blipFill>
          <a:blip r:embed="rId2"/>
          <a:stretch/>
        </p:blipFill>
        <p:spPr>
          <a:xfrm>
            <a:off x="5292720" y="3933720"/>
            <a:ext cx="3530520" cy="2664000"/>
          </a:xfrm>
          <a:prstGeom prst="rect">
            <a:avLst/>
          </a:prstGeom>
          <a:ln w="0">
            <a:noFill/>
          </a:ln>
        </p:spPr>
      </p:pic>
      <p:sp>
        <p:nvSpPr>
          <p:cNvPr id="5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Комбинирование слоями позволяет выявить причинно-следственные связи и закономерности.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8 класс. Тема «Тектоника и минеральные ресурсы России»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71" name="Picture 1" descr="image002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662640"/>
          </a:xfrm>
          <a:prstGeom prst="rect">
            <a:avLst/>
          </a:prstGeom>
          <a:ln w="0">
            <a:noFill/>
          </a:ln>
        </p:spPr>
      </p:pic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74" name="Picture 1" descr="image002"/>
          <p:cNvPicPr/>
          <p:nvPr/>
        </p:nvPicPr>
        <p:blipFill>
          <a:blip r:embed="rId1"/>
          <a:stretch/>
        </p:blipFill>
        <p:spPr>
          <a:xfrm>
            <a:off x="250920" y="1484280"/>
            <a:ext cx="8570880" cy="479592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2-29T09:38:29Z</dcterms:modified>
  <cp:revision>41</cp:revision>
  <dc:subject/>
  <dc:title>PowerPoint Presentation</dc:title>
</cp:coreProperties>
</file>