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3.jpeg" ContentType="image/jpeg"/>
  <Override PartName="/ppt/media/image3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2790-5A66-4129-AF18-96CD0D77156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hyperlink" Target="http://www.uraledu.ru/files/&#1071;&#1087;&#1086;&#1085;&#1080;&#1103;-1.ppt" TargetMode="External"/><Relationship Id="rId2" Type="http://schemas.openxmlformats.org/officeDocument/2006/relationships/hyperlink" Target="http://www.uraledu.ru/files/&#1069;&#1092;&#1080;&#1086;&#1087;&#1080;&#1103;.ppt" TargetMode="External"/><Relationship Id="rId3" Type="http://schemas.openxmlformats.org/officeDocument/2006/relationships/hyperlink" Target="http://www.uraledu.ru/files/&#1056;&#1077;&#1089;&#1087;&#1091;&#1073;&#1083;&#1080;&#1082;&#1072;%20&#1050;&#1077;&#1085;&#1080;&#1103;.ppt" TargetMode="External"/><Relationship Id="rId4" Type="http://schemas.openxmlformats.org/officeDocument/2006/relationships/slide" Target="../slides/slide20.xml"/><Relationship Id="rId5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Учитель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МОУ-Средняя обще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школа №1 г.Арами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Пятыгина Светлана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84FE-71E6-4474-B0B2-31E25FD4346F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Прием наложения слоёв карты</a:t>
            </a:r>
            <a:br>
              <a:rPr sz="1800"/>
            </a:b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актуален в курсе географии «Население и хозяйство Росси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выявить факторы размещения  предприятий черной металлургии (9 класс, тема: «География размещения предприятий чёрной металлурги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BF51-03EF-4DED-834D-21C719208DBF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грузоперевозо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D36B-3AB8-42F2-A62F-B79E0655605A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пециализирован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онтроля знаний учащих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онтальный опрос (проведение географических диктан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 (ответ у дос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547D-114A-4AA7-93E7-9FA4A6920944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терактивной доски в работе с детьми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DCCC-9435-4DE9-B39C-95CF6BDF1DC0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Положительные моменты использования интерактивной доски при работе с учащимися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9223-9972-4E36-BFB3-C63221662E4F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разных форм и методических приёмов при работе с электронной географической картой формирует у учащихся важнейшие географические умения  - картографи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B289-4048-4DFA-819A-D457B0242CF7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и издательства «Кирилл и Мефод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ированный программный продукт «КМ-Школ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8746-431C-4387-A535-1A8768C9A05E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ие природные процессы и явления показаны в динамике, в виде  видеофрагментов, которые развивают образное мышление, формируют географические представле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87DF-8377-4527-A762-668EAB731D67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Интерактивные электронные карты, выпущенные издательством «Дроф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12C7-C852-47B9-9522-D733CEA5FD63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а ИПП «КМ-Школ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обна для организации проектной работы учащихся.  Ученики получают возможность быстро найти необходимую информацию, оформить результаты самостоятельной групповой работы в виде презент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«Экономика и культура Японии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«Страны Афри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E8FA-8FA3-4432-B7A1-13AF47B1DA4D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аиллю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A361-D011-4040-801F-7B2889DD5FD2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a10"/>
                </a:solidFill>
                <a:latin typeface="Calibri"/>
              </a:rPr>
              <a:t>Медиаобъекты и текстовые комментар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являются очень ценными при знакомстве с внешними характерными чертами изучаемых объе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8C3D-05DE-4172-B7CE-0E597E856CBB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ая доска  позволяет эффективно использовать в работе  электронные учебники «Начальный курс географии», «Наш – дом Земля», «География России», «Экономическая и социальна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графия мира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C3C3-7A9B-436F-990D-E8E50253F374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ые тренаж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F79D-0308-48DC-93DB-DD5896167A95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активные тренаж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2878-BB24-47E4-9E0B-A17EF3927E45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ирование по тем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C925-B746-4965-9FF8-53DBE9253F36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ые карт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37DD-AE65-413B-BDD2-6F3483961EAF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технологии позволяют ученикам  с интересом усваивать большой объем информации, урок становится более наглядным, разнообразным и увлекате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518C-F14F-43AF-9BFC-EAF93A8A1BF1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ваивать новые возможности интерактивной доски при изучении географии чтобы повысить эффективность ур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3AD2-DE69-4217-B772-37B5A44F1820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Возможности наглядного пособия: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ближать участки земной поверхности для более детального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9778-582F-4483-AE95-DED476608481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Снимать часть обозначений, упрощая карту, делая её более нагляд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Тема «Схема поверхностных течений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E34F-9516-4594-96E2-C99C7EDDEC65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Создавать рисунки,</a:t>
            </a:r>
            <a:br>
              <a:rPr sz="1600"/>
            </a:b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наносить надписи на карте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 кла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: «Географическое положение Южной Америк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. Определить крайние точки материка Ю. Америка, определить географические координ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044D-43E2-49DC-8348-3AA3B4C77E3C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При изучении географического положения материков в 7 классе, учащиеся проводят меридианы и параллели, а затем, включив нужный слой, осуществляют самопроверк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A89A-1107-4BAB-9DFE-0E02A57B419A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a10"/>
                </a:solidFill>
                <a:latin typeface="Calibri"/>
              </a:rPr>
              <a:t>Дополнительный иллюстративный  и текстовый материа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ет возможность  учащимся глубже понять содержание изучаемого объекта или территории, сравнить географические объек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CA21-CDD5-42E9-83A1-75C665451134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Комбинирование слоями позволяет выявить причинно-следственные связи и закономер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. Тема «Тектоника и минеральные ресурсы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сделать вывод о соответствии крупных форм рельефа определенным структурам земной к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C59F-E993-4346-B778-43AC6354664E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7B8-297E-4E16-867E-E3236A6B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DC1-2412-4F9D-8AC4-7F4E172F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629-F898-462B-9B25-DC5C6C80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E3E-9B85-444D-A8CA-D62C0445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7A5A8-734D-42FD-9F53-D5F50341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3073C-39CF-474D-BD3D-DEB07787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BDBFF-24EA-4727-8C7B-FED49275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F9494-A646-45F4-9C49-5BDC48D2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A31B1-A011-48E9-B0FF-8CB88620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0CFCF-80D0-41A0-98A7-5149D333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AFB7C-6C3F-4781-A4E0-93110165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74AC-4C22-412B-B713-71226392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C2736-281C-4FDB-8CBF-2F7B1F49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2E453-FB1C-4C5E-B0E7-BCF135D4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0E3D5-E2A2-4429-8B89-9CEEDF41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15791-D22E-43E1-A403-77F03FB9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B165A-836D-4119-829D-19D9D5B7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89A26-657E-4CC5-8566-CFECCCF9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01B72-0485-4EF9-932B-3AC4BAE0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F7D06-F5D5-43CC-ADFB-1D112079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6BC19-AD07-48A2-83E6-FB57CFB1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4B238-DB71-4715-AA53-33386C33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992-2600-4583-950F-0CEBD000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ED9C0-0BFA-4B3D-8084-D2090B4E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E78BC-DFF3-42FF-A104-18DE4D3B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32393-1262-4836-96C1-E8AC5DC8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3D0C2-0752-4796-97A9-2AC0EDFD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4DBE0-2FA4-494A-B03A-1A4B250E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07368-1C13-44F0-9932-C4539BBE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A0856-63DE-457A-9E97-7B766457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01FDE-0C86-41E1-AB0F-36856B7F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4CA0C-4DF2-48B9-B264-E652A9CA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E88ED-F3E7-48DF-A6C4-9679CCDB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7BA-F62E-4CA7-A0A9-10CD3D32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93DC2-9896-4E7B-96FE-1FFAEF15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70661-C4CE-46C2-91D0-5348667A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AC860-5CAB-483C-8565-6B5595DE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F9492-4966-4F88-AAF4-679A9935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E4D7D-F09C-4ABC-BA21-23BBBE11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81516-AA60-4673-8F31-4D117348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55320-5B90-4714-8BD0-8479A236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7671D-2C9F-4E77-8943-9028F649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BD582-44BB-43AE-99B9-4F6AF34D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ED7B1-2687-4AF7-8695-B55DC63C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495-FADD-4C1F-83EC-56ED7B21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22328-3622-4C68-B7C4-DB64453E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ECEDD-8638-4D0D-8717-51BB9DBA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D2BD3-7B14-4D1A-A61E-79237208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7334C-00F1-43F4-8F45-BEF90B73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0362B-D180-448E-8BB1-C03477F1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87F84-0600-41A7-918E-F27ED247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DDD93-251A-420D-9B51-40BE3DA8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C7BF8-2541-4743-9D8A-C979BA79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84C3A-FA8D-4EFE-B133-8BC450A0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F21B4-8FE6-4AFE-A166-F230C4E8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BF94-1165-4416-B77E-88D96A7F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3A0C3-3826-420A-AAAB-EA234A47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903A9-D48C-4C31-864C-987B19E8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AFB61-7EDA-4100-9CF2-2A1A845D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E6A16-C2A4-4CAF-AD32-FE960EF9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0A3D8-F268-406A-91EB-FD30147A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E1448-9797-4E59-959A-5726A9B1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0841F-4E05-4CDC-B294-8DF55A4A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2B68A-375E-40C1-AA9E-A84989CC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72119-C6A4-4556-BF43-7199AF95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47B64-8480-4CFA-B963-BF999299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0B75-735E-4604-BDE7-BB1318AD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3C26F-3EB3-4277-BE1F-0BF95CE9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4C451-6212-42CF-A3AB-9A642877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CABC6-52D2-4411-938A-ED4F5DDE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CFC-65FE-4E92-AE89-4957F207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A2C-26AC-4C69-9D8E-BA796ABF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2CA0-49AC-4ADB-AF35-8C8C08198B1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EA85-8836-41A7-A7E7-3E2123C341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sp>
          <p:nvSpPr>
            <p:cNvPr id="11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11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8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159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6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171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190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9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208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16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1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1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2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07B4-B1AF-4D0C-BC2A-EAB36E54F5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63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264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65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90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1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2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3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4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5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6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7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8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9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0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1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2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3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4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5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306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07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8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309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10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1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2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3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4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5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6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7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8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19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04B1-B851-433A-84FD-DD084E3EC5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6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7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sp>
          <p:nvSpPr>
            <p:cNvPr id="37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BFEE-1892-4F1D-8303-522EE9F566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19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42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3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5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6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47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7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7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8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8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CD30-0649-4A24-971B-78804658B4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uraledu.ru/files/&#1071;&#1087;&#1086;&#1085;&#1080;&#1103;-1.ppt" TargetMode="External"/><Relationship Id="rId2" Type="http://schemas.openxmlformats.org/officeDocument/2006/relationships/hyperlink" Target="http://www.uraledu.ru/files/&#1069;&#1092;&#1080;&#1086;&#1087;&#1080;&#1103;.ppt" TargetMode="External"/><Relationship Id="rId3" Type="http://schemas.openxmlformats.org/officeDocument/2006/relationships/hyperlink" Target="http://www.uraledu.ru/files/&#1056;&#1077;&#1089;&#1087;&#1091;&#1073;&#1083;&#1080;&#1082;&#1072;%20&#1050;&#1077;&#1085;&#1080;&#1103;.ppt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5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323640" y="3885840"/>
            <a:ext cx="3384360" cy="25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Учитель географии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МОУ-Средняя общеобразовательна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школа №1 г.Арамил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Пятыгина Светлана Петровна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684360" y="25560"/>
            <a:ext cx="7704000" cy="237924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a10"/>
                </a:solidFill>
                <a:latin typeface="Tahoma"/>
              </a:rPr>
              <a:t>Использование интерактивной доски Interwrite Board на уроках географии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32" name="Picture 0" descr="image002"/>
          <p:cNvPicPr/>
          <p:nvPr/>
        </p:nvPicPr>
        <p:blipFill>
          <a:blip r:embed="rId1"/>
          <a:stretch/>
        </p:blipFill>
        <p:spPr>
          <a:xfrm>
            <a:off x="3708360" y="2421000"/>
            <a:ext cx="5048280" cy="3790800"/>
          </a:xfrm>
          <a:prstGeom prst="rect">
            <a:avLst/>
          </a:prstGeom>
          <a:ln w="0">
            <a:noFill/>
          </a:ln>
        </p:spPr>
      </p:pic>
      <p:sp>
        <p:nvSpPr>
          <p:cNvPr id="533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a10"/>
                </a:solidFill>
                <a:latin typeface="Garamond"/>
              </a:rPr>
              <a:t>Прием наложения слоёв карты</a:t>
            </a:r>
            <a:br>
              <a:rPr sz="4000"/>
            </a:br>
            <a:r>
              <a:rPr b="1" lang="ru-RU" sz="4000" spc="-1" strike="noStrike">
                <a:solidFill>
                  <a:srgbClr val="000a10"/>
                </a:solidFill>
                <a:latin typeface="Garamond"/>
              </a:rPr>
              <a:t>актуален в курсе географии «Население и хозяйство России»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Задание: выявить факторы размещения  предприятий черной металлургии (9 класс, тема: «География размещения предприятий чёрной металлургии»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826920" y="260280"/>
            <a:ext cx="6409080" cy="30708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a10"/>
                </a:solidFill>
                <a:latin typeface="Tahoma"/>
              </a:rPr>
              <a:t>География размещения угля и железной руды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82" name="Picture 0" descr="image002"/>
          <p:cNvPicPr/>
          <p:nvPr/>
        </p:nvPicPr>
        <p:blipFill>
          <a:blip r:embed="rId1"/>
          <a:stretch/>
        </p:blipFill>
        <p:spPr>
          <a:xfrm>
            <a:off x="324000" y="1303200"/>
            <a:ext cx="8496000" cy="4684680"/>
          </a:xfrm>
          <a:prstGeom prst="rect">
            <a:avLst/>
          </a:prstGeom>
          <a:ln w="0">
            <a:noFill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2500"/>
                </a:solidFill>
                <a:latin typeface="Garamond"/>
              </a:rPr>
              <a:t>Направление грузоперевозок</a:t>
            </a: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85" name="Picture 1" descr="image002"/>
          <p:cNvPicPr/>
          <p:nvPr/>
        </p:nvPicPr>
        <p:blipFill>
          <a:blip r:embed="rId1"/>
          <a:stretch/>
        </p:blipFill>
        <p:spPr>
          <a:xfrm>
            <a:off x="1403280" y="1628640"/>
            <a:ext cx="6147000" cy="4602240"/>
          </a:xfrm>
          <a:prstGeom prst="rect">
            <a:avLst/>
          </a:prstGeom>
          <a:ln w="0">
            <a:noFill/>
          </a:ln>
        </p:spPr>
      </p:pic>
      <p:sp>
        <p:nvSpPr>
          <p:cNvPr id="58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88" name="Picture 1" descr="image002"/>
          <p:cNvPicPr/>
          <p:nvPr/>
        </p:nvPicPr>
        <p:blipFill>
          <a:blip r:embed="rId1"/>
          <a:stretch/>
        </p:blipFill>
        <p:spPr>
          <a:xfrm>
            <a:off x="900000" y="1268280"/>
            <a:ext cx="6840720" cy="5127840"/>
          </a:xfrm>
          <a:prstGeom prst="rect">
            <a:avLst/>
          </a:prstGeom>
          <a:ln w="0">
            <a:noFill/>
          </a:ln>
        </p:spPr>
      </p:pic>
      <p:sp>
        <p:nvSpPr>
          <p:cNvPr id="58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Использование специализированных карт</a:t>
            </a: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2560" y="692280"/>
            <a:ext cx="7489800" cy="54036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Организация контроля знаний учащихся: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Фронтальный опрос (проведение географических диктантов)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индивидуальный  (ответ у доски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92" name="Picture 5" descr=""/>
          <p:cNvPicPr/>
          <p:nvPr/>
        </p:nvPicPr>
        <p:blipFill>
          <a:blip r:embed="rId1"/>
          <a:stretch/>
        </p:blipFill>
        <p:spPr>
          <a:xfrm>
            <a:off x="1763640" y="3357720"/>
            <a:ext cx="5904000" cy="3220920"/>
          </a:xfrm>
          <a:prstGeom prst="rect">
            <a:avLst/>
          </a:prstGeom>
          <a:ln w="0">
            <a:noFill/>
          </a:ln>
        </p:spPr>
      </p:pic>
      <p:sp>
        <p:nvSpPr>
          <p:cNvPr id="5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69564"/>
                </a:solidFill>
                <a:latin typeface="Garamond"/>
              </a:rPr>
              <a:t>Использование интерактивной доски в работе с детьми с ограниченными возможностями здоровья</a:t>
            </a: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95" name="Picture 4" descr="SPM_A0376"/>
          <p:cNvPicPr/>
          <p:nvPr/>
        </p:nvPicPr>
        <p:blipFill>
          <a:blip r:embed="rId1"/>
          <a:srcRect l="11118" t="0" r="0" b="0"/>
          <a:stretch/>
        </p:blipFill>
        <p:spPr>
          <a:xfrm>
            <a:off x="250920" y="17002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10"/>
          <p:cNvSpPr/>
          <p:nvPr/>
        </p:nvSpPr>
        <p:spPr>
          <a:xfrm>
            <a:off x="250920" y="5157720"/>
            <a:ext cx="3744720" cy="150876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Задание. Написать названия гор.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6 коррекционный класс. 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Тема «Горы»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97" name="Text Box 11"/>
          <p:cNvSpPr/>
          <p:nvPr/>
        </p:nvSpPr>
        <p:spPr>
          <a:xfrm>
            <a:off x="4572000" y="4941720"/>
            <a:ext cx="4032360" cy="217296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Задание. Впиши в клеточки название отраслей промышленности.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7 коррекционный класс. Тема «Промышленность – основа хозяйства, её отрасли» 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99" name="Picture 2" descr="image002"/>
          <p:cNvPicPr/>
          <p:nvPr/>
        </p:nvPicPr>
        <p:blipFill>
          <a:blip r:embed="rId2"/>
          <a:stretch/>
        </p:blipFill>
        <p:spPr>
          <a:xfrm>
            <a:off x="4498920" y="1700280"/>
            <a:ext cx="4645080" cy="2987640"/>
          </a:xfrm>
          <a:prstGeom prst="rect">
            <a:avLst/>
          </a:prstGeom>
          <a:ln w="0">
            <a:noFill/>
          </a:ln>
        </p:spPr>
      </p:pic>
      <p:sp>
        <p:nvSpPr>
          <p:cNvPr id="60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Положительные моменты использования интерактивной доски при работе с учащимися с ограниченными возможностями здоровья</a:t>
            </a: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4581360" y="1557360"/>
            <a:ext cx="4562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Способствует развитию контроля и самоконтроля учащихся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В процессе выполнения заданий развивается внимание, расширяется его объём и концентрация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Учащиеся овладевают простыми, но необходимыми приёмами зрительного и слухового запоминания, а также сохранения увиденного и услышанного в памяти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Закладываются любознательности, самостоятельности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Закладываются предпосылки для формирования компьютерной грамотности, для дальнейшей адоптации в социуме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03" name="Picture 1" descr="image002"/>
          <p:cNvPicPr/>
          <p:nvPr/>
        </p:nvPicPr>
        <p:blipFill>
          <a:blip r:embed="rId1"/>
          <a:stretch/>
        </p:blipFill>
        <p:spPr>
          <a:xfrm>
            <a:off x="250920" y="1844640"/>
            <a:ext cx="4254480" cy="3670200"/>
          </a:xfrm>
          <a:prstGeom prst="rect">
            <a:avLst/>
          </a:prstGeom>
          <a:ln w="0">
            <a:noFill/>
          </a:ln>
        </p:spPr>
      </p:pic>
      <p:sp>
        <p:nvSpPr>
          <p:cNvPr id="60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a10"/>
                </a:solidFill>
                <a:latin typeface="Garamond"/>
              </a:rPr>
              <a:t>Вывод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Применение разных форм и методических приёмов при работе с электронной географической картой формирует у учащихся важнейшие географические умения  - картографические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07" name="Picture 1" descr="image002"/>
          <p:cNvPicPr/>
          <p:nvPr/>
        </p:nvPicPr>
        <p:blipFill>
          <a:blip r:embed="rId1"/>
          <a:stretch/>
        </p:blipFill>
        <p:spPr>
          <a:xfrm>
            <a:off x="4764240" y="1600200"/>
            <a:ext cx="3806640" cy="4525920"/>
          </a:xfrm>
          <a:prstGeom prst="rect">
            <a:avLst/>
          </a:prstGeom>
          <a:ln w="0">
            <a:noFill/>
          </a:ln>
        </p:spPr>
      </p:pic>
      <p:sp>
        <p:nvSpPr>
          <p:cNvPr id="60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лектронные ресур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иски издательства «Кирилл и Мефодий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нтегрированный программный продукт «КМ-Школа»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11" name="Picture 1" descr="image002"/>
          <p:cNvPicPr/>
          <p:nvPr/>
        </p:nvPicPr>
        <p:blipFill>
          <a:blip r:embed="rId1"/>
          <a:stretch/>
        </p:blipFill>
        <p:spPr>
          <a:xfrm>
            <a:off x="4305240" y="1700280"/>
            <a:ext cx="2184480" cy="30970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image002"/>
          <p:cNvPicPr/>
          <p:nvPr/>
        </p:nvPicPr>
        <p:blipFill>
          <a:blip r:embed="rId2"/>
          <a:stretch/>
        </p:blipFill>
        <p:spPr>
          <a:xfrm>
            <a:off x="6732720" y="1700280"/>
            <a:ext cx="2190600" cy="3097080"/>
          </a:xfrm>
          <a:prstGeom prst="rect">
            <a:avLst/>
          </a:prstGeom>
          <a:ln w="0">
            <a:noFill/>
          </a:ln>
        </p:spPr>
      </p:pic>
      <p:sp>
        <p:nvSpPr>
          <p:cNvPr id="61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Многие природные процессы и явления показаны в динамике, в виде  видеофрагментов, которые развивают образное мышление, формируют географические представления учащихся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15" name="Picture 0" descr="image002"/>
          <p:cNvPicPr/>
          <p:nvPr/>
        </p:nvPicPr>
        <p:blipFill>
          <a:blip r:embed="rId1"/>
          <a:stretch/>
        </p:blipFill>
        <p:spPr>
          <a:xfrm>
            <a:off x="179280" y="4221000"/>
            <a:ext cx="5616720" cy="24847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" descr="image002"/>
          <p:cNvPicPr/>
          <p:nvPr/>
        </p:nvPicPr>
        <p:blipFill>
          <a:blip r:embed="rId2"/>
          <a:stretch/>
        </p:blipFill>
        <p:spPr>
          <a:xfrm>
            <a:off x="5651640" y="1557360"/>
            <a:ext cx="3492360" cy="2619360"/>
          </a:xfrm>
          <a:prstGeom prst="rect">
            <a:avLst/>
          </a:prstGeom>
          <a:ln w="0">
            <a:noFill/>
          </a:ln>
        </p:spPr>
      </p:pic>
      <p:sp>
        <p:nvSpPr>
          <p:cNvPr id="61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a10"/>
                </a:solidFill>
                <a:latin typeface="Garamond"/>
              </a:rPr>
              <a:t>Интерактивные электронные карты, выпущенные издательством «Дрофа»</a:t>
            </a: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52240" y="2876040"/>
            <a:ext cx="48704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6" name="Text Box 15"/>
          <p:cNvSpPr/>
          <p:nvPr/>
        </p:nvSpPr>
        <p:spPr>
          <a:xfrm>
            <a:off x="179280" y="4869000"/>
            <a:ext cx="4032360" cy="184788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Garamond"/>
              </a:rPr>
              <a:t>В школе накоплено 62 интерактивные карты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37" name="Picture 1" descr="image002"/>
          <p:cNvPicPr/>
          <p:nvPr/>
        </p:nvPicPr>
        <p:blipFill>
          <a:blip r:embed="rId1"/>
          <a:stretch/>
        </p:blipFill>
        <p:spPr>
          <a:xfrm>
            <a:off x="611280" y="1628640"/>
            <a:ext cx="1998720" cy="28083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image002"/>
          <p:cNvPicPr/>
          <p:nvPr/>
        </p:nvPicPr>
        <p:blipFill>
          <a:blip r:embed="rId2"/>
          <a:stretch/>
        </p:blipFill>
        <p:spPr>
          <a:xfrm>
            <a:off x="3564000" y="1628640"/>
            <a:ext cx="1719360" cy="2521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image002"/>
          <p:cNvPicPr/>
          <p:nvPr/>
        </p:nvPicPr>
        <p:blipFill>
          <a:blip r:embed="rId3"/>
          <a:stretch/>
        </p:blipFill>
        <p:spPr>
          <a:xfrm>
            <a:off x="6227640" y="1628640"/>
            <a:ext cx="1984320" cy="280836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реда ИПП «КМ-Школы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удобна для организации проектной работы учащихся.  Ученики получают возможность быстро найти необходимую информацию, оформить результаты самостоятельной групповой работы в виде презентации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«Экономика и культура Японии»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1 кла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«Страны Африки»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7 кла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20" name="Picture 1" descr="image002"/>
          <p:cNvPicPr/>
          <p:nvPr/>
        </p:nvPicPr>
        <p:blipFill>
          <a:blip r:embed="rId4"/>
          <a:stretch/>
        </p:blipFill>
        <p:spPr>
          <a:xfrm>
            <a:off x="4645080" y="1725480"/>
            <a:ext cx="4362480" cy="4583160"/>
          </a:xfrm>
          <a:prstGeom prst="rect">
            <a:avLst/>
          </a:prstGeom>
          <a:ln w="0">
            <a:noFill/>
          </a:ln>
        </p:spPr>
      </p:pic>
      <p:sp>
        <p:nvSpPr>
          <p:cNvPr id="6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image002"/>
          <p:cNvPicPr/>
          <p:nvPr/>
        </p:nvPicPr>
        <p:blipFill>
          <a:blip r:embed="rId1"/>
          <a:stretch/>
        </p:blipFill>
        <p:spPr>
          <a:xfrm>
            <a:off x="2050920" y="1413000"/>
            <a:ext cx="3961080" cy="313344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диаиллюстр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25" name="Picture 0" descr="image002"/>
          <p:cNvPicPr/>
          <p:nvPr/>
        </p:nvPicPr>
        <p:blipFill>
          <a:blip r:embed="rId2"/>
          <a:stretch/>
        </p:blipFill>
        <p:spPr>
          <a:xfrm>
            <a:off x="0" y="3284640"/>
            <a:ext cx="2522520" cy="35733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image002"/>
          <p:cNvPicPr/>
          <p:nvPr/>
        </p:nvPicPr>
        <p:blipFill>
          <a:blip r:embed="rId3"/>
          <a:stretch/>
        </p:blipFill>
        <p:spPr>
          <a:xfrm>
            <a:off x="3780000" y="3860640"/>
            <a:ext cx="5364000" cy="2532240"/>
          </a:xfrm>
          <a:prstGeom prst="rect">
            <a:avLst/>
          </a:prstGeom>
          <a:ln w="0">
            <a:noFill/>
          </a:ln>
        </p:spPr>
      </p:pic>
      <p:sp>
        <p:nvSpPr>
          <p:cNvPr id="6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29" name="Picture 1" descr="image002"/>
          <p:cNvPicPr/>
          <p:nvPr/>
        </p:nvPicPr>
        <p:blipFill>
          <a:blip r:embed="rId1"/>
          <a:stretch/>
        </p:blipFill>
        <p:spPr>
          <a:xfrm>
            <a:off x="539640" y="90792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a10"/>
                </a:solidFill>
                <a:latin typeface="Arial"/>
              </a:rPr>
              <a:t>Медиаобъекты и текстовые комментарии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являются очень ценными при знакомстве с внешними характерными чертами изучаемых объектов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31" name="Picture 7" descr="image002"/>
          <p:cNvPicPr/>
          <p:nvPr/>
        </p:nvPicPr>
        <p:blipFill>
          <a:blip r:embed="rId2"/>
          <a:stretch/>
        </p:blipFill>
        <p:spPr>
          <a:xfrm>
            <a:off x="455760" y="3960720"/>
            <a:ext cx="4037040" cy="2097360"/>
          </a:xfrm>
          <a:prstGeom prst="rect">
            <a:avLst/>
          </a:prstGeom>
          <a:ln w="0">
            <a:noFill/>
          </a:ln>
        </p:spPr>
      </p:pic>
      <p:sp>
        <p:nvSpPr>
          <p:cNvPr id="63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Интерактивная доска  позволяет эффективно использовать в работе  электронные учебники «Начальный курс географии», «Наш – дом Земля», «География России», «Экономическая и социальная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география мира»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34" name="Picture 1" descr="image002"/>
          <p:cNvPicPr/>
          <p:nvPr/>
        </p:nvPicPr>
        <p:blipFill>
          <a:blip r:embed="rId1"/>
          <a:stretch/>
        </p:blipFill>
        <p:spPr>
          <a:xfrm>
            <a:off x="179280" y="2997360"/>
            <a:ext cx="2808360" cy="25653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image002"/>
          <p:cNvPicPr/>
          <p:nvPr/>
        </p:nvPicPr>
        <p:blipFill>
          <a:blip r:embed="rId2"/>
          <a:stretch/>
        </p:blipFill>
        <p:spPr>
          <a:xfrm>
            <a:off x="3132000" y="2276640"/>
            <a:ext cx="2880000" cy="26287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5" descr="image002"/>
          <p:cNvPicPr/>
          <p:nvPr/>
        </p:nvPicPr>
        <p:blipFill>
          <a:blip r:embed="rId3"/>
          <a:stretch/>
        </p:blipFill>
        <p:spPr>
          <a:xfrm>
            <a:off x="6294600" y="2924280"/>
            <a:ext cx="2849400" cy="2598480"/>
          </a:xfrm>
          <a:prstGeom prst="rect">
            <a:avLst/>
          </a:prstGeom>
          <a:ln w="0">
            <a:noFill/>
          </a:ln>
        </p:spPr>
      </p:pic>
      <p:sp>
        <p:nvSpPr>
          <p:cNvPr id="6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Интерактивные тренажер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7"/>
          <p:cNvSpPr/>
          <p:nvPr/>
        </p:nvSpPr>
        <p:spPr>
          <a:xfrm>
            <a:off x="1116000" y="5661000"/>
            <a:ext cx="6624720" cy="97092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99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Garamond"/>
              </a:rPr>
              <a:t>Отработка умений и навыков у учащихся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41" name="Picture 1" descr="image002"/>
          <p:cNvPicPr/>
          <p:nvPr/>
        </p:nvPicPr>
        <p:blipFill>
          <a:blip r:embed="rId1"/>
          <a:stretch/>
        </p:blipFill>
        <p:spPr>
          <a:xfrm>
            <a:off x="900000" y="920880"/>
            <a:ext cx="6840720" cy="4518000"/>
          </a:xfrm>
          <a:prstGeom prst="rect">
            <a:avLst/>
          </a:prstGeom>
          <a:ln w="0">
            <a:noFill/>
          </a:ln>
        </p:spPr>
      </p:pic>
      <p:sp>
        <p:nvSpPr>
          <p:cNvPr id="6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терактивные тренаже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44" name="Picture 1" descr="image002"/>
          <p:cNvPicPr/>
          <p:nvPr/>
        </p:nvPicPr>
        <p:blipFill>
          <a:blip r:embed="rId1"/>
          <a:stretch/>
        </p:blipFill>
        <p:spPr>
          <a:xfrm>
            <a:off x="324000" y="1341360"/>
            <a:ext cx="8604000" cy="4737240"/>
          </a:xfrm>
          <a:prstGeom prst="rect">
            <a:avLst/>
          </a:prstGeom>
          <a:ln w="0">
            <a:noFill/>
          </a:ln>
        </p:spPr>
      </p:pic>
      <p:sp>
        <p:nvSpPr>
          <p:cNvPr id="6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стирование по тема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324000" y="5805360"/>
            <a:ext cx="8424720" cy="9709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8ae"/>
                </a:solidFill>
                <a:latin typeface="Garamond"/>
              </a:rPr>
              <a:t>Возможность проверить усвоение учебного материала.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48" name="Picture 1" descr="image002"/>
          <p:cNvPicPr/>
          <p:nvPr/>
        </p:nvPicPr>
        <p:blipFill>
          <a:blip r:embed="rId1"/>
          <a:stretch/>
        </p:blipFill>
        <p:spPr>
          <a:xfrm>
            <a:off x="900000" y="836640"/>
            <a:ext cx="7559640" cy="4994280"/>
          </a:xfrm>
          <a:prstGeom prst="rect">
            <a:avLst/>
          </a:prstGeom>
          <a:ln w="0">
            <a:noFill/>
          </a:ln>
        </p:spPr>
      </p:pic>
      <p:sp>
        <p:nvSpPr>
          <p:cNvPr id="6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Интерактивные карты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Text Box 10"/>
          <p:cNvSpPr/>
          <p:nvPr/>
        </p:nvSpPr>
        <p:spPr>
          <a:xfrm>
            <a:off x="5919840" y="3443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52" name="Text Box 11"/>
          <p:cNvSpPr/>
          <p:nvPr/>
        </p:nvSpPr>
        <p:spPr>
          <a:xfrm>
            <a:off x="4356000" y="4292640"/>
            <a:ext cx="2880000" cy="368280"/>
          </a:xfrm>
          <a:prstGeom prst="rect">
            <a:avLst/>
          </a:prstGeom>
          <a:solidFill>
            <a:srgbClr val="000a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8ae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53" name="Text Box 12"/>
          <p:cNvSpPr/>
          <p:nvPr/>
        </p:nvSpPr>
        <p:spPr>
          <a:xfrm>
            <a:off x="324000" y="4292640"/>
            <a:ext cx="2519280" cy="368280"/>
          </a:xfrm>
          <a:prstGeom prst="rect">
            <a:avLst/>
          </a:prstGeom>
          <a:solidFill>
            <a:srgbClr val="000a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7 класс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54" name="Picture 1" descr="image002"/>
          <p:cNvPicPr/>
          <p:nvPr/>
        </p:nvPicPr>
        <p:blipFill>
          <a:blip r:embed="rId1"/>
          <a:stretch/>
        </p:blipFill>
        <p:spPr>
          <a:xfrm>
            <a:off x="179280" y="105264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3" descr="image002"/>
          <p:cNvPicPr/>
          <p:nvPr/>
        </p:nvPicPr>
        <p:blipFill>
          <a:blip r:embed="rId2"/>
          <a:stretch/>
        </p:blipFill>
        <p:spPr>
          <a:xfrm>
            <a:off x="4356000" y="1052640"/>
            <a:ext cx="4470480" cy="305280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a10"/>
                </a:solidFill>
                <a:latin typeface="Garamond"/>
              </a:rPr>
              <a:t>Вывод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859280" y="1699920"/>
            <a:ext cx="39607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компьютерные технологии позволяют ученикам  с интересом усваивать большой объем информации, урок становится более наглядным, разнообразным и увлекательным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59" name="Picture 1" descr="image002"/>
          <p:cNvPicPr/>
          <p:nvPr/>
        </p:nvPicPr>
        <p:blipFill>
          <a:blip r:embed="rId1"/>
          <a:stretch/>
        </p:blipFill>
        <p:spPr>
          <a:xfrm>
            <a:off x="250920" y="1916280"/>
            <a:ext cx="4824360" cy="3625560"/>
          </a:xfrm>
          <a:prstGeom prst="rect">
            <a:avLst/>
          </a:prstGeom>
          <a:ln w="0">
            <a:noFill/>
          </a:ln>
        </p:spPr>
      </p:pic>
      <p:sp>
        <p:nvSpPr>
          <p:cNvPr id="6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Задача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1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осваивать новые возможности интерактивной доски при изучении географии чтобы повысить эффективность урока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63" name="Picture 1" descr="image002"/>
          <p:cNvPicPr/>
          <p:nvPr/>
        </p:nvPicPr>
        <p:blipFill>
          <a:blip r:embed="rId1"/>
          <a:stretch/>
        </p:blipFill>
        <p:spPr>
          <a:xfrm>
            <a:off x="4211640" y="1557360"/>
            <a:ext cx="4716360" cy="3530520"/>
          </a:xfrm>
          <a:prstGeom prst="rect">
            <a:avLst/>
          </a:prstGeom>
          <a:ln w="0">
            <a:noFill/>
          </a:ln>
        </p:spPr>
      </p:pic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Возможности наглядного пособия:</a:t>
            </a: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6840" y="1599840"/>
            <a:ext cx="40323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500"/>
                </a:solidFill>
                <a:latin typeface="Garamond"/>
              </a:rPr>
              <a:t>приближать участки земной поверхности для более детального рассмотрени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43" name="Picture 1" descr="image002"/>
          <p:cNvPicPr/>
          <p:nvPr/>
        </p:nvPicPr>
        <p:blipFill>
          <a:blip r:embed="rId1"/>
          <a:stretch/>
        </p:blipFill>
        <p:spPr>
          <a:xfrm>
            <a:off x="4932360" y="1341360"/>
            <a:ext cx="3651120" cy="33973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image002"/>
          <p:cNvPicPr/>
          <p:nvPr/>
        </p:nvPicPr>
        <p:blipFill>
          <a:blip r:embed="rId2"/>
          <a:stretch/>
        </p:blipFill>
        <p:spPr>
          <a:xfrm>
            <a:off x="179280" y="3645000"/>
            <a:ext cx="4643640" cy="289224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Снимать часть обозначений, упрощая карту, делая её более наглядной</a:t>
            </a: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7 класс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Тема «Схема поверхностных течений»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1763640" y="692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49" name="Picture 1" descr="image002"/>
          <p:cNvPicPr/>
          <p:nvPr/>
        </p:nvPicPr>
        <p:blipFill>
          <a:blip r:embed="rId1"/>
          <a:stretch/>
        </p:blipFill>
        <p:spPr>
          <a:xfrm>
            <a:off x="1187280" y="2708280"/>
            <a:ext cx="6048720" cy="3759120"/>
          </a:xfrm>
          <a:prstGeom prst="rect">
            <a:avLst/>
          </a:prstGeom>
          <a:ln w="0">
            <a:noFill/>
          </a:ln>
        </p:spPr>
      </p:pic>
      <p:sp>
        <p:nvSpPr>
          <p:cNvPr id="5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Создавать рисунки,</a:t>
            </a:r>
            <a:br>
              <a:rPr sz="2800"/>
            </a:b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наносить надписи на карте </a:t>
            </a:r>
            <a:br>
              <a:rPr sz="28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27280" y="1600200"/>
            <a:ext cx="29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7 класс.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Тема : «Географическое положение Южной Америки»</a:t>
            </a:r>
            <a:br>
              <a:rPr sz="2000"/>
            </a:b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Задание. Определить крайние точки материка Ю. Америка, определить географические координаты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491508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54" name="Picture 1" descr="image002"/>
          <p:cNvPicPr/>
          <p:nvPr/>
        </p:nvPicPr>
        <p:blipFill>
          <a:blip r:embed="rId1"/>
          <a:stretch/>
        </p:blipFill>
        <p:spPr>
          <a:xfrm>
            <a:off x="324000" y="1773360"/>
            <a:ext cx="5040000" cy="3778200"/>
          </a:xfrm>
          <a:prstGeom prst="rect">
            <a:avLst/>
          </a:prstGeom>
          <a:ln w="0">
            <a:noFill/>
          </a:ln>
        </p:spPr>
      </p:pic>
      <p:sp>
        <p:nvSpPr>
          <p:cNvPr id="5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e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47160" cy="1452600"/>
          </a:xfrm>
          <a:prstGeom prst="rect">
            <a:avLst/>
          </a:prstGeom>
          <a:solidFill>
            <a:srgbClr val="bfbfa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2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Garamond"/>
              </a:rPr>
              <a:t>При изучении географического положения материков в 7 классе, учащиеся проводят меридианы и параллели, а затем, включив нужный слой, осуществляют самопроверку. 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rcRect l="0" t="0" r="17025" b="0"/>
          <a:stretch/>
        </p:blipFill>
        <p:spPr>
          <a:xfrm>
            <a:off x="250920" y="1773360"/>
            <a:ext cx="3384360" cy="30589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2"/>
          <a:srcRect l="0" t="0" r="18210" b="0"/>
          <a:stretch/>
        </p:blipFill>
        <p:spPr>
          <a:xfrm>
            <a:off x="4859280" y="3213000"/>
            <a:ext cx="3672000" cy="33670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9" descr="024"/>
          <p:cNvPicPr/>
          <p:nvPr/>
        </p:nvPicPr>
        <p:blipFill>
          <a:blip r:embed="rId3"/>
          <a:stretch/>
        </p:blipFill>
        <p:spPr>
          <a:xfrm>
            <a:off x="1042920" y="3357720"/>
            <a:ext cx="961920" cy="76176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0"/>
          <p:cNvSpPr/>
          <p:nvPr/>
        </p:nvSpPr>
        <p:spPr>
          <a:xfrm>
            <a:off x="539640" y="189000"/>
            <a:ext cx="8147160" cy="1452600"/>
          </a:xfrm>
          <a:prstGeom prst="rect">
            <a:avLst/>
          </a:prstGeom>
          <a:solidFill>
            <a:srgbClr val="bfb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556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0a10"/>
                </a:solidFill>
                <a:latin typeface="Garamond"/>
              </a:rPr>
              <a:t>Дополнительный иллюстративный  и текстовый материал</a:t>
            </a: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Дает возможность  учащимся глубже понять содержание изучаемого объекта или территории, сравнить географические объекты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1042920" y="6237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8 класс Тема: «Типы почв России»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66" name="Picture 1" descr="image002"/>
          <p:cNvPicPr/>
          <p:nvPr/>
        </p:nvPicPr>
        <p:blipFill>
          <a:blip r:embed="rId1"/>
          <a:stretch/>
        </p:blipFill>
        <p:spPr>
          <a:xfrm>
            <a:off x="3780000" y="1268280"/>
            <a:ext cx="3456000" cy="2589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image002"/>
          <p:cNvPicPr/>
          <p:nvPr/>
        </p:nvPicPr>
        <p:blipFill>
          <a:blip r:embed="rId2"/>
          <a:stretch/>
        </p:blipFill>
        <p:spPr>
          <a:xfrm>
            <a:off x="5292720" y="3933720"/>
            <a:ext cx="3530520" cy="2664000"/>
          </a:xfrm>
          <a:prstGeom prst="rect">
            <a:avLst/>
          </a:prstGeom>
          <a:ln w="0">
            <a:noFill/>
          </a:ln>
        </p:spPr>
      </p:pic>
      <p:sp>
        <p:nvSpPr>
          <p:cNvPr id="56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Комбинирование слоями позволяет выявить причинно-следственные связи и закономерности.</a:t>
            </a:r>
            <a:br>
              <a:rPr sz="28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8 класс. Тема «Тектоника и минеральные ресурсы России»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Задание: сделать вывод о соответствии крупных форм рельефа определенным структурам земной коры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71" name="Picture 1" descr="image002"/>
          <p:cNvPicPr/>
          <p:nvPr/>
        </p:nvPicPr>
        <p:blipFill>
          <a:blip r:embed="rId1"/>
          <a:stretch/>
        </p:blipFill>
        <p:spPr>
          <a:xfrm>
            <a:off x="4500720" y="1628640"/>
            <a:ext cx="4643280" cy="3662640"/>
          </a:xfrm>
          <a:prstGeom prst="rect">
            <a:avLst/>
          </a:prstGeom>
          <a:ln w="0">
            <a:noFill/>
          </a:ln>
        </p:spPr>
      </p:pic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74" name="Picture 1" descr="image002"/>
          <p:cNvPicPr/>
          <p:nvPr/>
        </p:nvPicPr>
        <p:blipFill>
          <a:blip r:embed="rId1"/>
          <a:stretch/>
        </p:blipFill>
        <p:spPr>
          <a:xfrm>
            <a:off x="250920" y="1484280"/>
            <a:ext cx="8570880" cy="479592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2-29T09:38:29Z</dcterms:modified>
  <cp:revision>41</cp:revision>
  <dc:subject/>
  <dc:title>PowerPoint Presentation</dc:title>
</cp:coreProperties>
</file>