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440D-AF85-435E-8DD6-6E183A10B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Учитель географии МОУ Орловской СОШ Самоличенко Наталь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AA0-1CE5-4E36-926E-462137FC78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познавательной деятельности учащихся на урок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верка результатов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ктика,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самостоятельной работы учащихс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FAC2-5DCC-43F0-A57C-A966F80171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ожно выделить следующие особенности данн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спользования наглядности на ур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E862-42A7-4556-9D00-A8DB70197B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другими предм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0E2E-8A48-4FEF-9422-85B51A26A6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комендации по разработке мультимедийных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DEE6-AC84-479E-A016-26559FCA1E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чащихся данного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результаты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у познавательного простран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положение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7B3A-3519-4A95-87FB-34698B8BEA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создании слайдов необходимо учесть ряд основных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олжен содержать минимально возможное количество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7EEC-E444-4761-88E7-F0EF070512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перегружать слайды зрительно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3858-B2EE-4F11-B9F9-D0A9C0D1E4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ля обеспечения эффективности учебного процесса необходи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344-BB55-43D3-906E-379CA322E9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пути внедрения этих технологий возникают пробле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C8B7-95E0-445D-A771-5FC864E262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а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имеем два основных преимуществ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3A9-98C3-445E-B8F2-7E30F91E2F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личественные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C783-69D6-4FE5-8B98-3AAC878A09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обучением на различных этапах уро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отивации уч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ю возможностей компьютера, не только как средства для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E703-6BD4-4B18-8C8D-597907F991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базовые знания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усвоенные зн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навыки само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мотивацию к учению в целом и к информатике в час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E1F0-1D4C-4BAD-8DD1-C3B3C2CDA3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ая презент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им образом, наиболее оптимально и эффективно соответствует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един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дактической цели ур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й 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85CA-E4DE-4369-8882-1439839BB0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технологии могут быть использова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анонсирования 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контроля 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5C58-B867-4E1C-8A91-7808FFB07C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рианты использования компьютерных технологий в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D3FF-76E4-4565-B8FF-9EB43858A3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E9CB-848B-4F10-BEE3-73F95008B8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EE4-7432-42B8-B5C5-73DD84E0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FAD-4B47-4B4C-8CF5-FA8384A8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460-6182-478F-9FF3-BA614A88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D0B-D400-4FD5-8F0F-089FCF1F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298F-9A46-4CC1-BC53-35FCB446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9BED-F00E-4E41-9206-650C7A38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3F7B-5CAC-4834-9897-2A90EDA1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F17B-DFE8-4F75-A7D9-DF93D3A7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714F-71C8-45FD-B57A-93E0D2B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1FD8-4AB6-4AC9-876B-45CE851B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676A-C54A-4863-B01C-E9ED5B2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D33-086A-4500-9447-4271FE2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0264-146F-46D7-9520-512EADFB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0C2B-9E42-40E6-B399-1FC7F8F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2418-BB36-42D9-8FB6-E353A7C2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CC0-449C-45BD-B358-9B936EF5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FAA8-D07B-47D0-ACC2-9E85E7D5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53B-FA0F-4E9F-8BF8-B6F3887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A49-D25F-43E1-B2FD-C0C01293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902-E94A-4243-8A2F-7985607E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F1D-BC02-4ED2-B370-6012E48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5E8-C80C-478A-AD06-EFF409C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648-9374-4EAC-8066-9C45361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ADD-065C-48D2-BAF7-8D33F49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71E-E4DF-4475-9CBA-8D90D9A227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555B-9233-4B48-BA33-2574E7D238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75;&#1077;&#1086;&#1075;&#1088;&#1072;&#1092;&#1080;&#1103;/&#1084;&#1077;&#1090;&#1086;&#1076;.&#1088;&#1072;&#1073;&#1086;&#1090;&#1072;/&#1055;&#1088;&#1077;&#1079;&#1077;&#1085;&#1090;&#1072;&#1094;&#1080;&#1103;1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2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3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4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5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Verdana"/>
              </a:rPr>
              <a:t>Учитель географии МОУ Орловской СОШ Самоличенко Наталь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познавательной деятельности учащихся на уроке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ка результатов обуче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актика, 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самостоятельной работы учащихс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ожно выделить следующие особенности данной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вышение уровня использования наглядности на ур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вышение производительности уро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новление межпредметных связей с другими предмет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комендации по разработке мультимедийных презент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сихологические особенности учащихся данного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и результаты обуч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у познавательного простран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стоположение учащих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 создании слайдов необходимо учесть ряд основных требо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айд должен содержать минимально возможное количество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льзя перегружать слайды зрительной информ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ля обеспечения эффективности учебного процесса необходим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пути внедрения этих технологий возникают проблем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а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имеем два основных преимущества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чественн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личественны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одика использования мультимедиа технологий предполаг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ршенствование системы управления обучением на различных этапах урок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иление мотивации уч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нстрацию возможностей компьютера, не только как средства для иг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ультимедийные уроки помогают решить следующие дидактические 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воить базовые знания по предмет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зировать усвоенные зна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навыки самоконтро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мотивацию к учению в целом и к информатике в част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льтимедийная 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аким образом, наиболее оптимально и эффективно соответствует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триед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идактической цели уро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разовательны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Развивающи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оспитательный 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йные технологии могут быть использован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анонсирования 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контроля зна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арианты использования компьютерных технологий в обучении географ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71800" y="3124080"/>
            <a:ext cx="216072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Внеурочная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895480" y="3048120"/>
            <a:ext cx="2762280" cy="88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Электрон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учебник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971800" y="2971800"/>
            <a:ext cx="3025800" cy="9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артографические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оекци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7">
            <a:hlinkClick r:id="rId1"/>
          </p:cNvPr>
          <p:cNvSpPr/>
          <p:nvPr/>
        </p:nvSpPr>
        <p:spPr>
          <a:xfrm>
            <a:off x="3124080" y="3276720"/>
            <a:ext cx="2664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езентации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 урок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819520" y="1905120"/>
            <a:ext cx="33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Защита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сследовательских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 проектных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 работ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819520" y="3657600"/>
            <a:ext cx="3354120" cy="101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нтеллектуаль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гры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514600" y="3809880"/>
            <a:ext cx="295128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Творчески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ы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33526E-006 L 0.37014 0.00023 E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-0.33073 0.2622 E">
                                      <p:cBhvr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3.58382E-006 L -0.33056 3.58382E-006 E">
                                      <p:cBhvr>
                                        <p:cTn id="1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8.67052E-007 L -0.29532 -0.283 E">
                                      <p:cBhvr>
                                        <p:cTn id="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1.79191E-006 L -0.00382 0.35167 E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0.33872 0.2726 E">
                                      <p:cBhvr>
                                        <p:cTn id="3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5.78035E-007 L 0.29549 -0.32485 E">
                                      <p:cBhvr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Organization Chart 4"/>
          <p:cNvGrpSpPr/>
          <p:nvPr/>
        </p:nvGrpSpPr>
        <p:grpSpPr>
          <a:xfrm>
            <a:off x="457200" y="1713600"/>
            <a:ext cx="8228160" cy="5143680"/>
            <a:chOff x="457200" y="1713600"/>
            <a:chExt cx="8228160" cy="5143680"/>
          </a:xfrm>
        </p:grpSpPr>
        <p:cxnSp>
          <p:nvCxnSpPr>
            <p:cNvPr id="189" name="_s1028"/>
            <p:cNvCxnSpPr>
              <a:stCxn id="190" idx="1"/>
              <a:endCxn id="191" idx="2"/>
            </p:cNvCxnSpPr>
            <p:nvPr/>
          </p:nvCxnSpPr>
          <p:spPr>
            <a:xfrm rot="10800000">
              <a:off x="2925000" y="2580840"/>
              <a:ext cx="823320" cy="378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1" idx="2"/>
            </p:cNvCxnSpPr>
            <p:nvPr/>
          </p:nvCxnSpPr>
          <p:spPr>
            <a:xfrm rot="10800000">
              <a:off x="2925000" y="2580840"/>
              <a:ext cx="823320" cy="235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30"/>
            <p:cNvCxnSpPr>
              <a:stCxn id="195" idx="1"/>
              <a:endCxn id="191" idx="2"/>
            </p:cNvCxnSpPr>
            <p:nvPr/>
          </p:nvCxnSpPr>
          <p:spPr>
            <a:xfrm rot="10800000">
              <a:off x="2925000" y="2580840"/>
              <a:ext cx="823320" cy="92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1" name="_s1031"/>
            <p:cNvSpPr/>
            <p:nvPr/>
          </p:nvSpPr>
          <p:spPr>
            <a:xfrm>
              <a:off x="457200" y="1713600"/>
              <a:ext cx="4937040" cy="867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Компьютерные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технолог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3748320" y="301536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учителя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лан курса, темы, занят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держание занятия (конспект)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1"/>
                </a:rPr>
                <a:t>подготовка дидактического материа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748320" y="4440960"/>
              <a:ext cx="493704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дготовка ученика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домашн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творческ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дидактического материа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>
              <a:off x="3748320" y="586584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ведение занятий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3"/>
                </a:rPr>
                <a:t>обучающие программ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4"/>
                </a:rPr>
                <a:t>игр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5"/>
                </a:rPr>
                <a:t>тест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3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