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3AF4-E837-43C8-BF18-05E4D42B4C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пользование мультимедиа технологи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на уроках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Учитель географии МОУ Орловской СОШ Самоличенко Наталья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5B16-40BA-4AE8-AD8E-BDE7A2C429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сновные направления применения мультимедиа-учебников в обучении геогра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рганизация познавательной деятельности учащихся на уроке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едача учебной информации, мотивация обучения, показ, сопоставление процессов и явлений, демонстрация наглядных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верка результатов обуч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актика, те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рганизация самостоятельной работы учащихс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амостоятельное приобретение знаний и умений, подготовка докладов и сообщений, осуществление дифференцированного подхода, углубленное изучение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6161-8A89-4F57-AD6B-EB5956B29B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ожно выделить следующие особенности данной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изображения, выполняемого мелом на доске, не выдерживает никакого сравнения с аккуратным, ярким, чётким и цветным изображением на экран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доски и мела затруднительно и нелепо объяснять работу с различными приложения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ях выявления в слайдах пособия недостатков или ошибок, можно сравнительно легко устранить дефек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одготовленности учащихся, используя в презентациях гиперссылки, один и тот же материал можно объяснять и очень подробно, и рассматривая только базовые вопросы темы. Темп и объём излагаемого материала, определяется по ходу уро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демонстрации презентации, даже с применением проектора, рабочее место учащихся достаточно хорошо освеще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спользования наглядности на уро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A0F1-8A69-4310-BC7F-5C66CEA7B5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производительности уро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межпредметных связей с другими предм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яется возможность организации проектной деятельности учащихся по созданию учебных программ под руководством преподавателей информатики и учителями-предметник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 создающий, или использующий информационные технологии вынужден обращать огромное внимание на логику подачи учебного материала, что положительным образом сказывается на  уровне знаний учащих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тся, отношение к ПК. Ребята начинают воспринимать его в качестве универсального инструмента для работы в любой области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1876-DECD-4E89-94DD-0F59C70E29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екомендации по разработке мультимедийных презен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йные программные средства обладают большими возможностями в отображении информации, значительно отличающимися от привычных, и оказывают непосредственное влияние на мотивацию обучаемых, скорость восприятия материала, утомляемость и, таким образом, на эффективность учебного процесса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E456-A4ED-4957-BAF6-A6CCFF252A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а этапе создания мультимедийной презентации необходимо учитывать следующие момен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особенности учащихся данного кла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результаты обу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у познавательного простран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положение учащих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наиболее эффективных элементов компьютерных технологий для решения конкретных задач конкретного уро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ую гамму оформления учебного матер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2FF5-ED46-4121-A56A-440C3BFECB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 создании слайдов необходимо учесть ряд основных требован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должен содержать минимально возможное количество с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адписей и заголовков следует употреблять четкий крупный шрифт, ограничить использование просто текста. Лаконичность — одно из исходных требований при разработке учебных програм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ительнее выносить на слайд предложения, определения, слова, термины, которые учащиеся будут записывать в тетради, прочитывать их вслух во время демонстрации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букв, цифр, знаков, их контрастность определяется необходимостью их четкого рассмотрения с последнего ряда пар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A40A-0578-4E45-9B1A-1F2796B99F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ивка фона, букв, линий предпочтительна спокойного, «неядовитого» цвета, не вызывающая раздражение и утомление глаз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тежи, рисунки, фотографии и другие иллюстрационные материалы должны, по возможности, иметь максимальный равномерно заполнять все экранное пол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перегружать слайды зрительной информ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смотр одного слайда следует отводить достаточное время (не менее 2-3 мин.), чтобы учащиеся могли сконцентрировать внимание на экранном изображении, проследить последовательность действий, рассмотреть все элементы слайда, зафиксировать конечный результат, сделать записи в рабочие тетрад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уковое сопровождение слайдов не должно носить резкий, отвлекающий, раздражающий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9B1E-8254-48B4-AE01-58CFE9922B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ля обеспечения эффективности учебного процесса необходим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гать монотонности, учитывать смену деятельности учащихся по ее уровням: узнавание, воспроизведение, примен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на развитие мыслительных (умственных) способностей ребенка, т.е. развитие наблюдательности, ассоциативности, сравнения, аналогии, выделения главного, обобщения, воображения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возможность успешно работать на уроке с применением компьютерных технологий и сильным, и средним, и слабым учащим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ть фактор памяти ребенка (оперативной, кратковременной и долговременной). Ограниченно следует контролировать то, что введено только на уровне оперативной и кратковременной памя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9D70-81A7-4477-9AF4-72AD0CF66C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На пути внедрения этих технологий возникают проблем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в школе организованных условий с максимально свободным доступом к компьютеру - из-за наличия компьютеров в школе только в кабинете информатики и предназначенных в основном для обучения учащихся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заинтересованности учителей - предметников в проведении уроков, связанных с применением в учебном процессе электронных носителей информации, из-за отсутствия поддержки (материальной, организационной, методической и п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и не умеют интегрировать проектную методику, использовать компьютерные технологии с достаточно жесткой классно-урочной систем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89FB-9D38-4148-B6A5-D3CF19A201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а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представление объектов и процессов не традиционным текстовым описанием, но с помощью фото, видео, графики, анимации, звука, то есть во всех известных сегодня форм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мы имеем два основных преимущества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чественн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ичественн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4F9E-853D-4D20-B0C3-90B364BE8D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чествен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ые возможности очевидны, если сравнить словесные описания с непосредственным аудиовизуальным представлен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оличественные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выражаются в том, что мультимедиа среда много выше по информационной плот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тельно, одна страница текста, как известно, содержит около 2 Кбайт информации. Преподаватель произносит этот текст примерно в течении 1-2 минут. За ту же минуту полноэкранное видео приносит порядка 1,2 Гбайт информации. Вот почему «лучше один раз увидеть, чем миллион раз услыша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09E8-197B-40B5-9BF4-95F2A27C15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етодика использования мультимедиа технологий предполаг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системы управления обучением на различных этапах уро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мотивации уч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качества обучения и воспитания, что повысит информационную культуру учащих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подготовки учащихся в области современных информационных технолог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страцию возможностей компьютера, не только как средства для иг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F294-E9EE-4D7A-971D-87BEF4D686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йные уроки помогают решить следующие дидактические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воить базовые знания по предме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ировать усвоенные зн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ировать навыки самоконтро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ировать мотивацию к учению в целом и к информатике в част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ть учебно-методическую помощь учащимся в самостоятельной работе над учебным матери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C7A0-4CDD-4B9E-B200-E4844809D3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йная презент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аким образом, наиболее оптимально и эффективно соответствует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риедино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идактической цели уро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Образовательный аспект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восприятие  учащимися учебного материала, осмысливание связей и отношений в объектах изуч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Развивающий аспект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познавательного интереса у учащихся, умения обобщать, анализировать, сравнивать, активизация творческой деятельности учащих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Воспитательный  аспект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оспитание научного мировоззрения, умения четко организовать самостоятельную и групповую работу, воспитание чувства товарищества, взаимопом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4F95-CBCF-4163-B3EE-1256B54A94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йные технологии могут быть использова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 анонсирования те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ема урока представлена на слайдах, в которых кратко изложены ключевые моменты разбираемого вопрос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 сопровождение объяснения учи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 информационно-обучающее пособ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 контроля зн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6E63-81F0-4267-A12F-2E335EFC1F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арианты использования компьютерных технологий в обучении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BE80-E6D7-4B00-B5F4-CFF1C20EA3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Варианты использования ИКТ при обучении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4002-75E3-4884-A2C8-6ACA0ED870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AEC7-B55E-47CB-AA1C-9F4DB74D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767-A486-40BD-AF9A-6E11787F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41D-7909-413A-B4D7-8FAB77A4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F5F5-0A4D-4332-800C-D529DA2B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A00B-1B70-4F3F-9838-7015BAF8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472F-12F3-4F20-BBC8-CBDA33A7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2B9C-A001-49A3-9668-52EBCB80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2809-B0F4-483A-A5D5-A42FB2C1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547C-14F1-4FA5-A202-59281DEE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9570-4D51-4FCD-ACF4-9F9FD5EA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137C-5C05-4742-8778-4F46D268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49AA-9C78-44AE-AFC2-C077A2AE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E280-1B7F-4590-908E-B4E6C98E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8190-295B-4098-91BF-5A8C9ED0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57A4-0FD7-472A-9264-A9384EEF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689E-D94B-49B1-84E1-5C4CBAC1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CB08-233D-48C6-85B5-AE615C8A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387-B8F6-4FC0-9DA9-B6ED1637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F21-6A5D-43C4-B631-5818AB75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1E0-19AF-417D-9EDC-4095C8D5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2D9-82D7-448F-A3B8-F5ED63C3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842-50E6-49A6-8DE5-2B4A0174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DCB-579F-4808-8223-84F808FE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903-EC87-459F-BEBB-BD614248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75B5-0E1D-4645-97E6-9934CAC9E0E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10D4-BC2F-40BD-B6A8-BBA15F6C790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&#1075;&#1077;&#1086;&#1075;&#1088;&#1072;&#1092;&#1080;&#1103;/&#1084;&#1077;&#1090;&#1086;&#1076;.&#1088;&#1072;&#1073;&#1086;&#1090;&#1072;/&#1055;&#1088;&#1077;&#1079;&#1077;&#1085;&#1090;&#1072;&#1094;&#1080;&#1103;1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2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3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4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5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Использование мультимедиа технологий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на уроках географи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Verdana"/>
              </a:rPr>
              <a:t>Учитель географии МОУ Орловской СОШ Самоличенко Наталья Викторов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новные направления применения мультимедиа-учебников в обучении географ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рганизация познавательной деятельности учащихся на уроке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ередача учебной информации, мотивация обучения, показ, сопоставление процессов и явлений, демонстрация наглядных материал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роверка результатов обучения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рактика, тес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рганизация самостоятельной работы учащихся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амостоятельное приобретение знаний и умений, подготовка докладов и сообщений, осуществление дифференцированного подхода, углубленное изучение географ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ожно выделить следующие особенности данной технолог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чество изображения, выполняемого мелом на доске, не выдерживает никакого сравнения с аккуратным, ярким, чётким и цветным изображением на экране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 помощью доски и мела затруднительно и нелепо объяснять работу с различными приложениям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случаях выявления в слайдах пособия недостатков или ошибок, можно сравнительно легко устранить дефекты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зависимости от подготовленности учащихся, используя в презентациях гиперссылки, один и тот же материал можно объяснять и очень подробно, и рассматривая только базовые вопросы темы. Темп и объём излагаемого материала, определяется по ходу уро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о время демонстрации презентации, даже с применением проектора, рабочее место учащихся достаточно хорошо освещен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вышение уровня использования наглядности на урок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вышение производительности урок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становление межпредметных связей с другими предмет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является возможность организации проектной деятельности учащихся по созданию учебных программ под руководством преподавателей информатики и учителями-предметник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подаватель создающий, или использующий информационные технологии вынужден обращать огромное внимание на логику подачи учебного материала, что положительным образом сказывается на  уровне знаний учащих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зменяется, отношение к ПК. Ребята начинают воспринимать его в качестве универсального инструмента для работы в любой области человеческой деятель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Рекомендации по разработке мультимедийных презентац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льтимедийные программные средства обладают большими возможностями в отображении информации, значительно отличающимися от привычных, и оказывают непосредственное влияние на мотивацию обучаемых, скорость восприятия материала, утомляемость и, таким образом, на эффективность учебного процесса в цел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 этапе создания мультимедийной презентации необходимо учитывать следующие момент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сихологические особенности учащихся данного класс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и и результаты обучен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уктуру познавательного пространств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стоположение учащих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бор наиболее эффективных элементов компьютерных технологий для решения конкретных задач конкретного урок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ветовую гамму оформления учебного материал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и создании слайдов необходимо учесть ряд основных требований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лайд должен содержать минимально возможное количество сл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надписей и заголовков следует употреблять четкий крупный шрифт, ограничить использование просто текста. Лаконичность — одно из исходных требований при разработке учебных програм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дпочтительнее выносить на слайд предложения, определения, слова, термины, которые учащиеся будут записывать в тетради, прочитывать их вслух во время демонстрации презентаци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змер букв, цифр, знаков, их контрастность определяется необходимостью их четкого рассмотрения с последнего ряда парт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ливка фона, букв, линий предпочтительна спокойного, «неядовитого» цвета, не вызывающая раздражение и утомление глаз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ртежи, рисунки, фотографии и другие иллюстрационные материалы должны, по возможности, иметь максимальный равномерно заполнять все экранное пол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льзя перегружать слайды зрительной информацие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 просмотр одного слайда следует отводить достаточное время (не менее 2-3 мин.), чтобы учащиеся могли сконцентрировать внимание на экранном изображении, проследить последовательность действий, рассмотреть все элементы слайда, зафиксировать конечный результат, сделать записи в рабочие тетрад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вуковое сопровождение слайдов не должно носить резкий, отвлекающий, раздражающий характе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ля обеспечения эффективности учебного процесса необходимо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збегать монотонности, учитывать смену деятельности учащихся по ее уровням: узнавание, воспроизведение, применение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риентироваться на развитие мыслительных (умственных) способностей ребенка, т.е. развитие наблюдательности, ассоциативности, сравнения, аналогии, выделения главного, обобщения, воображения и т.п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ать возможность успешно работать на уроке с применением компьютерных технологий и сильным, и средним, и слабым учащимс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ывать фактор памяти ребенка (оперативной, кратковременной и долговременной). Ограниченно следует контролировать то, что введено только на уровне оперативной и кратковременной памят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 пути внедрения этих технологий возникают проблемы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тсутствие в школе организованных условий с максимально свободным доступом к компьютеру - из-за наличия компьютеров в школе только в кабинете информатики и предназначенных в основном для обучения учащихся;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т заинтересованности учителей - предметников в проведении уроков, связанных с применением в учебном процессе электронных носителей информации, из-за отсутствия поддержки (материальной, организационной, методической и пр.)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подаватели не умеют интегрировать проектную методику, использовать компьютерные технологии с достаточно жесткой классно-урочной системо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ультимедиа</a:t>
            </a:r>
            <a:r>
              <a:rPr b="0" i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то представление объектов и процессов не традиционным текстовым описанием, но с помощью фото, видео, графики, анимации, звука, то есть во всех известных сегодня формах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мы имеем два основных преимущества –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ачественно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личественно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ачественн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новые возможности очевидны, если сравнить словесные описания с непосредственным аудиовизуальным представление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оличественные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имущества выражаются в том, что мультимедиа среда много выше по информационной плотност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йствительно, одна страница текста, как известно, содержит около 2 Кбайт информации. Преподаватель произносит этот текст примерно в течении 1-2 минут. За ту же минуту полноэкранное видео приносит порядка 1,2 Гбайт информации. Вот почему «лучше один раз увидеть, чем миллион раз услышать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тодика использования мультимедиа технологий предполагает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вершенствование системы управления обучением на различных этапах урока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иление мотивации учени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лучшение качества обучения и воспитания, что повысит информационную культуру учащихс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вышение уровня подготовки учащихся в области современных информационных технологий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монстрацию возможностей компьютера, не только как средства для игр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ультимедийные уроки помогают решить следующие дидактические задач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воить базовые знания по предмету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стематизировать усвоенные знани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формировать навыки самоконтрол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формировать мотивацию к учению в целом и к информатике в частност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казать учебно-методическую помощь учащимся в самостоятельной работе над учебным материало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8839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ультимедийная презентац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таким образом, наиболее оптимально и эффективно соответствует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триединой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дидактической цели урок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Образовательный аспек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 восприятие  учащимися учебного материала, осмысливание связей и отношений в объектах изучени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Развивающий аспек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развитие познавательного интереса у учащихся, умения обобщать, анализировать, сравнивать, активизация творческой деятельности учащих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Воспитательный  аспек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воспитание научного мировоззрения, умения четко организовать самостоятельную и групповую работу, воспитание чувства товарищества, взаимопомощ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ультимедийные технологии могут быть использованы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ля анонсирования темы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Тема урока представлена на слайдах, в которых кратко изложены ключевые моменты разбираемого вопроса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 сопровождение объяснения учител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 информационно-обучающее пособи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ля контроля знаний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53416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арианты использования компьютерных технологий в обучении географ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2971800" y="3124080"/>
            <a:ext cx="2160720" cy="100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Внеурочная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работа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2895480" y="3048120"/>
            <a:ext cx="2762280" cy="88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Электронные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учебники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2971800" y="2971800"/>
            <a:ext cx="3025800" cy="944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Картографические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проекции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7">
            <a:hlinkClick r:id="rId1"/>
          </p:cNvPr>
          <p:cNvSpPr/>
          <p:nvPr/>
        </p:nvSpPr>
        <p:spPr>
          <a:xfrm>
            <a:off x="3124080" y="3276720"/>
            <a:ext cx="2664000" cy="100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Презентации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к урокам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2819520" y="1905120"/>
            <a:ext cx="3384360" cy="165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Защита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сследовательских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 проектных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 работ учащихся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2819520" y="3657600"/>
            <a:ext cx="3354120" cy="1017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нтеллектуальные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гры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2514600" y="3809880"/>
            <a:ext cx="2951280" cy="100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Творческие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работы учащихся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4.33526E-006 L 0.37014 0.00023 E">
                                      <p:cBhvr>
                                        <p:cTn id="9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-1.96532E-006 L -0.33073 0.2622 E">
                                      <p:cBhvr>
                                        <p:cTn id="1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72222E-006 3.58382E-006 L -0.33056 3.58382E-006 E">
                                      <p:cBhvr>
                                        <p:cTn id="1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-8.67052E-007 L -0.29532 -0.283 E">
                                      <p:cBhvr>
                                        <p:cTn id="25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1.79191E-006 L -0.00382 0.35167 E">
                                      <p:cBhvr>
                                        <p:cTn id="30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-1.96532E-006 L 0.33872 0.2726 E">
                                      <p:cBhvr>
                                        <p:cTn id="3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5.78035E-007 L 0.29549 -0.32485 E">
                                      <p:cBhvr>
                                        <p:cTn id="41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Варианты использования ИКТ при обучении географ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88" name="Organization Chart 4"/>
          <p:cNvGrpSpPr/>
          <p:nvPr/>
        </p:nvGrpSpPr>
        <p:grpSpPr>
          <a:xfrm>
            <a:off x="457200" y="1713600"/>
            <a:ext cx="8228160" cy="5143680"/>
            <a:chOff x="457200" y="1713600"/>
            <a:chExt cx="8228160" cy="5143680"/>
          </a:xfrm>
        </p:grpSpPr>
        <p:cxnSp>
          <p:nvCxnSpPr>
            <p:cNvPr id="189" name="_s1028"/>
            <p:cNvCxnSpPr>
              <a:stCxn id="190" idx="1"/>
              <a:endCxn id="191" idx="2"/>
            </p:cNvCxnSpPr>
            <p:nvPr/>
          </p:nvCxnSpPr>
          <p:spPr>
            <a:xfrm rot="10800000">
              <a:off x="2925000" y="2580840"/>
              <a:ext cx="823320" cy="3782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2" name="_s1029"/>
            <p:cNvCxnSpPr>
              <a:stCxn id="193" idx="1"/>
              <a:endCxn id="191" idx="2"/>
            </p:cNvCxnSpPr>
            <p:nvPr/>
          </p:nvCxnSpPr>
          <p:spPr>
            <a:xfrm rot="10800000">
              <a:off x="2925000" y="2580840"/>
              <a:ext cx="823320" cy="235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4" name="_s1030"/>
            <p:cNvCxnSpPr>
              <a:stCxn id="195" idx="1"/>
              <a:endCxn id="191" idx="2"/>
            </p:cNvCxnSpPr>
            <p:nvPr/>
          </p:nvCxnSpPr>
          <p:spPr>
            <a:xfrm rot="10800000">
              <a:off x="2925000" y="2580840"/>
              <a:ext cx="823320" cy="928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1" name="_s1031"/>
            <p:cNvSpPr/>
            <p:nvPr/>
          </p:nvSpPr>
          <p:spPr>
            <a:xfrm>
              <a:off x="457200" y="1713600"/>
              <a:ext cx="4937040" cy="867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ahoma"/>
                </a:rPr>
                <a:t>Компьютерные 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ahoma"/>
                </a:rPr>
                <a:t>технологии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_s1032"/>
            <p:cNvSpPr/>
            <p:nvPr/>
          </p:nvSpPr>
          <p:spPr>
            <a:xfrm>
              <a:off x="3748320" y="3015360"/>
              <a:ext cx="4937040" cy="9914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Подготовка учителя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план курса, темы, занятия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содержание занятия (конспект)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1"/>
                </a:rPr>
                <a:t>подготовка дидактического материа</a:t>
              </a: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ла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_s1033"/>
            <p:cNvSpPr/>
            <p:nvPr/>
          </p:nvSpPr>
          <p:spPr>
            <a:xfrm>
              <a:off x="3748320" y="4440960"/>
              <a:ext cx="4937040" cy="99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Подготовка ученика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домашние задания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творческие задания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подготовка дидактического материала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_s1034"/>
            <p:cNvSpPr/>
            <p:nvPr/>
          </p:nvSpPr>
          <p:spPr>
            <a:xfrm>
              <a:off x="3748320" y="5865840"/>
              <a:ext cx="4937040" cy="9914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Проведение занятий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2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3"/>
                </a:rPr>
                <a:t>обучающие программы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4"/>
                </a:rPr>
                <a:t>игры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5"/>
                </a:rPr>
                <a:t>тесты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29T11:31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