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3DA-FFC4-4B80-A1DA-6D10CA617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Учитель географии МОУ Орловской СОШ Самоличенко Наталь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ECBE-A6BC-4C5F-A2D5-BFD460F4B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познавательной деятельности учащихся на урок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верка результатов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ктика,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рганизация самостоятельной работы учащихс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A29F-05A0-4D70-8BC4-A27F0AAEA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ожно выделить следующие особенности данн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использования наглядности на ур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44CB-3451-44D9-AB38-46258C8B1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у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другими предм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FA55-A784-4355-9AF9-F121ABB1CB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комендации по разработке мультимедийных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130-9C33-456C-900F-D96EB60EF4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чащихся данного кла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результаты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у познавательного простран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положение учащих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ую гамму оформления учебного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3E20-4FFE-4BDD-9513-4C2E4D010C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создании слайдов необходимо учесть ряд основных треб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должен содержать минимально возможное количество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5B11-E440-4224-AC56-A7B253CD1E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перегружать слайды зрительной информ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B8C8-EF4B-4D00-9310-7769ED95C8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ля обеспечения эффективности учебного процесса необходи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FC0-1F15-4196-933C-B5B4210D39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 пути внедрения этих технологий возникают пробле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E19-88A3-4B4E-9493-9271AF057F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а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мы имеем два основных преимущества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енн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4190-2AFF-40FE-B4E2-73D75118CA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личественные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F73-7A0D-4FC4-BB57-48E2F3F52E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обучением на различных этапах уро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отивации уч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ю возможностей компьютера, не только как средства для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9A3-0E44-4D97-B566-C648F8FDC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базовые знания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ировать усвоенные зн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навыки само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ть мотивацию к учению в целом и к информатике в час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DE6-8B88-408E-B138-5064FA1070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ая презент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им образом, наиболее оптимально и эффективно соответствует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един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дактической цели уро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Образовательны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Развивающий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Воспитательный  аспект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8DFF-482F-4923-BC15-FB9AA1DFB7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ультимедийные технологии могут быть использова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анонсирования 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 контроля 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A67E-0FB5-4C41-A41D-34A02FF586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арианты использования компьютерных технологий в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79D-CED4-4451-892D-B34ED293E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FA2-D8F5-4E4D-BB7F-DF950E3452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45E-8078-4037-90EB-5DC33F05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A6B-9B52-47CF-891D-22B30509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DC4-EED6-4A01-9DB4-10922E75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E24-9E67-46FD-9975-72A8643F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6A5-3DFC-470B-A0FA-F162F109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CC01-1048-44B9-8CB1-253DAE4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A99-D279-486F-8E9A-F28D8BA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763D-5A4C-4027-B17F-2621F16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1A3-8FAE-4B91-8E98-1CB8A42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915-82C9-4110-B697-BA5528AD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BEFD-2D5F-43F5-A2F0-6E04B80A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618-0DE7-4701-98F1-256B502C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F1AD-EDE6-40EA-AE48-DFFBCC42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17D-C5B5-4B99-8FDC-8006836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0119-6775-49CD-83CA-19BE5565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3A84-0E79-490E-B2F7-AA5D9208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FE9F-5A75-4940-8F3D-11EDF15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D59-AE6A-4DB2-B022-0DA189F9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83C-48BF-4830-9047-5F87112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D64-5D5F-4E53-ADB2-9FEE4C82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4C0-7095-4CBC-9C5D-FA427D5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19A-38D3-43A7-A3EC-F962BAA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AC9-C476-4C0A-93B0-199CB11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046-7D27-4342-96E9-1B3B2AC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829-388A-4231-802B-FF348BCA69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8B8-E843-4F07-87D4-77DF5A6B80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1075;&#1077;&#1086;&#1075;&#1088;&#1072;&#1092;&#1080;&#1103;/&#1084;&#1077;&#1090;&#1086;&#1076;.&#1088;&#1072;&#1073;&#1086;&#1090;&#1072;/&#1055;&#1088;&#1077;&#1079;&#1077;&#1085;&#1090;&#1072;&#1094;&#1080;&#1103;1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2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3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4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5" Type="http://schemas.openxmlformats.org/officeDocument/2006/relationships/hyperlink" Target="file:///E:/Local%20Settings/Temp/&#1054;&#1073;&#1091;&#1095;&#1072;&#1102;&#1097;&#1080;&#1077;%20&#1087;&#1088;&#1086;&#1075;&#1088;&#1072;&#1084;&#1084;&#1099;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спользование мультимедиа технологий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на уроках географи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Verdana"/>
              </a:rPr>
              <a:t>Учитель географии МОУ Орловской СОШ Самоличенко Наталь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ые направления применения мультимедиа-учебников в обучении географ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познавательной деятельности учащихся на уроке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ередача учебной информации, мотивация обучения, показ, сопоставление процессов и явлений, демонстрация наглядных материа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роверка результатов обучени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рактика, тес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рганизация самостоятельной работы учащихся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амостоятельное приобретение знаний и умений, подготовка докладов и сообщений, осуществление дифференцированного подхода, углубленное изучение географ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ожно выделить следующие особенности данной технолог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чество изображения, выполняемого мелом на доске, не выдерживает никакого сравнения с аккуратным, ярким, чётким и цветным изображением на экран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помощью доски и мела затруднительно и нелепо объяснять работу с различными приложениям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лучаях выявления в слайдах пособия недостатков или ошибок, можно сравнительно легко устранить дефект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зависимости от подготовленности учащихся, используя в презентациях гиперссылки, один и тот же материал можно объяснять и очень подробно, и рассматривая только базовые вопросы темы. Темп и объём излагаемого материала, определяется по ходу уро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 время демонстрации презентации, даже с применением проектора, рабочее место учащихся достаточно хорошо освеще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вышение уровня использования наглядности на ур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вышение производительности уро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тановление межпредметных связей с другими предмет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является возможность организации проектной деятельности учащихся по созданию учебных программ под руководством преподавателей информатики и учителями-предметник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ь создающий, или использующий информационные технологии вынужден обращать огромное внимание на логику подачи учебного материала, что положительным образом сказывается на  уровне знаний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меняется, отношение к ПК. Ребята начинают воспринимать его в качестве универсального инструмента для работы в любой области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комендации по разработке мультимедийных презент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льтимедийные программные средства обладают большими возможностями в отображении информации, значительно отличающимися от привычных, и оказывают непосредственное влияние на мотивацию обучаемых, скорость восприятия материала, утомляемость и, таким образом, на эффективность учебного процесса в цел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этапе создания мультимедийной презентации необходимо учитывать следующие момен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сихологические особенности учащихся данного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и и результаты обуч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у познавательного пространст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стоположение учащих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ор наиболее эффективных элементов компьютерных технологий для решения конкретных задач конкретного уро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ветовую гамму оформления учебного материа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 создании слайдов необходимо учесть ряд основных требован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лайд должен содержать минимально возможное количество сл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надписей и заголовков следует употреблять четкий крупный шрифт, ограничить использование просто текста. Лаконичность — одно из исходных требований при разработке учебных програм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чтительнее выносить на слайд предложения, определения, слова, термины, которые учащиеся будут записывать в тетради, прочитывать их вслух во время демонстрации презент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мер букв, цифр, знаков, их контрастность определяется необходимостью их четкого рассмотрения с последнего ряда пар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ивка фона, букв, линий предпочтительна спокойного, «неядовитого» цвета, не вызывающая раздражение и утомление глаз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ртежи, рисунки, фотографии и другие иллюстрационные материалы должны, по возможности, иметь максимальный равномерно заполнять все экранное по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льзя перегружать слайды зрительной информац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просмотр одного слайда следует отводить достаточное время (не менее 2-3 мин.), чтобы учащиеся могли сконцентрировать внимание на экранном изображении, проследить последовательность действий, рассмотреть все элементы слайда, зафиксировать конечный результат, сделать записи в рабочие тетрад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уковое сопровождение слайдов не должно носить резкий, отвлекающий, раздражающий характе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ля обеспечения эффективности учебного процесса необходим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збегать монотонности, учитывать смену деятельности учащихся по ее уровням: узнавание, воспроизведение, примене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риентироваться на развитие мыслительных (умственных) способностей ребенка, т.е. развитие наблюдательности, ассоциативности, сравнения, аналогии, выделения главного, обобщения, воображения и т.п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ть возможность успешно работать на уроке с применением компьютерных технологий и сильным, и средним, и слабым учащимс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ывать фактор памяти ребенка (оперативной, кратковременной и долговременной). Ограниченно следует контролировать то, что введено только на уровне оперативной и кратковременной памя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 пути внедрения этих технологий возникают проблемы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сутствие в школе организованных условий с максимально свободным доступом к компьютеру - из-за наличия компьютеров в школе только в кабинете информатики и предназначенных в основном для обучения учащихся;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т заинтересованности учителей - предметников в проведении уроков, связанных с применением в учебном процессе электронных носителей информации, из-за отсутствия поддержки (материальной, организационной, методической и пр.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подаватели не умеют интегрировать проектную методику, использовать компьютерные технологии с достаточно жесткой классно-урочной системо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а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представление объектов и процессов не традиционным текстовым описанием, но с помощью фото, видео, графики, анимации, звука, то есть во всех известных сегодня форм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имеем два основных преимущества –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ачественн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овые возможности очевидны, если сравнить словесные описания с непосредственным аудиовизуальным представле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оличественные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имущества выражаются в том, что мультимедиа среда много выше по информационной плотн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йствительно, одна страница текста, как известно, содержит около 2 Кбайт информации. Преподаватель произносит этот текст примерно в течении 1-2 минут. За ту же минуту полноэкранное видео приносит порядка 1,2 Гбайт информации. Вот почему «лучше один раз увидеть, чем миллион раз услыша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тодика использования мультимедиа технологий предполага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ршенствование системы управления обучением на различных этапах урока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иление мотивации уче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лучшение качества обучения и воспитания, что повысит информационную культуру учащих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ие уровня подготовки учащихся в области современных информационных технологий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монстрацию возможностей компьютера, не только как средства для иг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ультимедийные уроки помогают решить следующие дидактические 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воить базовые знания по предмету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стематизировать усвоенные знани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навыки самоконтрол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ормировать мотивацию к учению в целом и к информатике в част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азать учебно-методическую помощь учащимся в самостоятельной работе над учебным материа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ультимедийная презента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таким образом, наиболее оптимально и эффективно соответствует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триед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дидактической цели урок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Образовательны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восприятие  учащимися учебного материала, осмысливание связей и отношений в объектах изуч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Развивающий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Воспитательный  аспект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ультимедийные технологии могут быть использован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анонсирования те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Тема урока представлена на слайдах, в которых кратко изложены ключевые моменты разбираемого вопрос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сопровождение объяснения учител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 информационно-обучающее пособ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ля контроля знан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арианты использования компьютерных технологий в обучении географ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971800" y="3124080"/>
            <a:ext cx="216072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Внеурочная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2895480" y="3048120"/>
            <a:ext cx="2762280" cy="88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Электрон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учебник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971800" y="2971800"/>
            <a:ext cx="3025800" cy="94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артографические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оекци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7">
            <a:hlinkClick r:id="rId1"/>
          </p:cNvPr>
          <p:cNvSpPr/>
          <p:nvPr/>
        </p:nvSpPr>
        <p:spPr>
          <a:xfrm>
            <a:off x="3124080" y="3276720"/>
            <a:ext cx="266400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Презентации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к урок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2819520" y="1905120"/>
            <a:ext cx="33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Защита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сследовательских 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 проектных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 работ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2819520" y="3657600"/>
            <a:ext cx="3354120" cy="101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нтеллектуальны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игры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514600" y="3809880"/>
            <a:ext cx="295128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Творческие</a:t>
            </a:r>
            <a:br>
              <a:rPr sz="2500"/>
            </a:br>
            <a:r>
              <a:rPr b="1" lang="ru-RU" sz="2500" spc="-1" strike="noStrike">
                <a:solidFill>
                  <a:srgbClr val="00ff00"/>
                </a:solidFill>
                <a:latin typeface="Arial"/>
              </a:rPr>
              <a:t>работы учащихся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33526E-006 L 0.37014 0.00023 E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-0.33073 0.2622 E">
                                      <p:cBhvr>
                                        <p:cTn id="1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3.58382E-006 L -0.33056 3.58382E-006 E">
                                      <p:cBhvr>
                                        <p:cTn id="1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8.67052E-007 L -0.29532 -0.283 E">
                                      <p:cBhvr>
                                        <p:cTn id="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1.79191E-006 L -0.00382 0.35167 E">
                                      <p:cBhvr>
                                        <p:cTn id="3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1.96532E-006 L 0.33872 0.2726 E">
                                      <p:cBhvr>
                                        <p:cTn id="3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5.78035E-007 L 0.29549 -0.32485 E">
                                      <p:cBhvr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арианты использования ИКТ при обучении географ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Organization Chart 4"/>
          <p:cNvGrpSpPr/>
          <p:nvPr/>
        </p:nvGrpSpPr>
        <p:grpSpPr>
          <a:xfrm>
            <a:off x="457200" y="1713600"/>
            <a:ext cx="8228160" cy="5143680"/>
            <a:chOff x="457200" y="1713600"/>
            <a:chExt cx="8228160" cy="5143680"/>
          </a:xfrm>
        </p:grpSpPr>
        <p:cxnSp>
          <p:nvCxnSpPr>
            <p:cNvPr id="189" name="_s1028"/>
            <p:cNvCxnSpPr>
              <a:stCxn id="190" idx="1"/>
              <a:endCxn id="191" idx="2"/>
            </p:cNvCxnSpPr>
            <p:nvPr/>
          </p:nvCxnSpPr>
          <p:spPr>
            <a:xfrm rot="10800000">
              <a:off x="2925000" y="2580840"/>
              <a:ext cx="823320" cy="378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2" name="_s1029"/>
            <p:cNvCxnSpPr>
              <a:stCxn id="193" idx="1"/>
              <a:endCxn id="191" idx="2"/>
            </p:cNvCxnSpPr>
            <p:nvPr/>
          </p:nvCxnSpPr>
          <p:spPr>
            <a:xfrm rot="10800000">
              <a:off x="2925000" y="2580840"/>
              <a:ext cx="823320" cy="235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4" name="_s1030"/>
            <p:cNvCxnSpPr>
              <a:stCxn id="195" idx="1"/>
              <a:endCxn id="191" idx="2"/>
            </p:cNvCxnSpPr>
            <p:nvPr/>
          </p:nvCxnSpPr>
          <p:spPr>
            <a:xfrm rot="10800000">
              <a:off x="2925000" y="2580840"/>
              <a:ext cx="823320" cy="92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1" name="_s1031"/>
            <p:cNvSpPr/>
            <p:nvPr/>
          </p:nvSpPr>
          <p:spPr>
            <a:xfrm>
              <a:off x="457200" y="1713600"/>
              <a:ext cx="4937040" cy="867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Компьютерные 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ahoma"/>
                </a:rPr>
                <a:t>технологии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3748320" y="301536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учителя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лан курса, темы, занят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держание занятия (конспект)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1"/>
                </a:rPr>
                <a:t>подготовка дидактического материа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33"/>
            <p:cNvSpPr/>
            <p:nvPr/>
          </p:nvSpPr>
          <p:spPr>
            <a:xfrm>
              <a:off x="3748320" y="4440960"/>
              <a:ext cx="4937040" cy="99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дготовка ученика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домашн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творческие задания;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подготовка дидактического материал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4"/>
            <p:cNvSpPr/>
            <p:nvPr/>
          </p:nvSpPr>
          <p:spPr>
            <a:xfrm>
              <a:off x="3748320" y="5865840"/>
              <a:ext cx="4937040" cy="991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оведение занятий: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3"/>
                </a:rPr>
                <a:t>обучающие программ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4"/>
                </a:rPr>
                <a:t>игр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 </a:t>
              </a:r>
              <a:r>
                <a:rPr b="0" lang="en-US" sz="1600" spc="-1" strike="noStrike" u="sng">
                  <a:solidFill>
                    <a:srgbClr val="ffffcc"/>
                  </a:solidFill>
                  <a:uFillTx/>
                  <a:latin typeface="Tahoma"/>
                  <a:hlinkClick r:id="rId5"/>
                </a:rPr>
                <a:t>тесты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3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