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2E38-C104-469F-AA59-2B2ECA687B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спользование мультимедиа технологий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на уроках 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Arial"/>
              </a:rPr>
              <a:t>Учитель географии МОУ Орловской СОШ Самоличенко Наталья Викто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DCE6-B3F1-460D-A7F3-8B0F04A1ADD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Основные направления применения мультимедиа-учебников в обучении географ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рганизация познавательной деятельности учащихся на уроке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ередача учебной информации, мотивация обучения, показ, сопоставление процессов и явлений, демонстрация наглядных материа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роверка результатов обуче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актика, тес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рганизация самостоятельной работы учащихс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амостоятельное приобретение знаний и умений, подготовка докладов и сообщений, осуществление дифференцированного подхода, углубленное изучение геогра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0560-7E8B-4019-94B3-C4BA10818D7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ожно выделить следующие особенности данной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о изображения, выполняемого мелом на доске, не выдерживает никакого сравнения с аккуратным, ярким, чётким и цветным изображением на экран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омощью доски и мела затруднительно и нелепо объяснять работу с различными приложениям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лучаях выявления в слайдах пособия недостатков или ошибок, можно сравнительно легко устранить дефект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подготовленности учащихся, используя в презентациях гиперссылки, один и тот же материал можно объяснять и очень подробно, и рассматривая только базовые вопросы темы. Темп и объём излагаемого материала, определяется по ходу уро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ремя демонстрации презентации, даже с применением проектора, рабочее место учащихся достаточно хорошо освещен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уровня использования наглядности на урок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CB2F-C3F8-4DBD-9F89-AC3233B3F15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производительности уро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ие межпредметных связей с другими предме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является возможность организации проектной деятельности учащихся по созданию учебных программ под руководством преподавателей информатики и учителями-предметник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одаватель создающий, или использующий информационные технологии вынужден обращать огромное внимание на логику подачи учебного материала, что положительным образом сказывается на  уровне знаний учащих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яется, отношение к ПК. Ребята начинают воспринимать его в качестве универсального инструмента для работы в любой области человече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5766-F14A-424A-8C7A-123F6A8C8BD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Рекомендации по разработке мультимедийных презент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льтимедийные программные средства обладают большими возможностями в отображении информации, значительно отличающимися от привычных, и оказывают непосредственное влияние на мотивацию обучаемых, скорость восприятия материала, утомляемость и, таким образом, на эффективность учебного процесса в це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B748-9A69-4616-B093-7C63EC085F9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На этапе создания мультимедийной презентации необходимо учитывать следующие момен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ие особенности учащихся данного клас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и результаты обуч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у познавательного простран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положение учащих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наиболее эффективных элементов компьютерных технологий для решения конкретных задач конкретного уро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ветовую гамму оформления учебного матери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231C-54F8-46DE-8CDD-95C9838DF31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и создании слайдов необходимо учесть ряд основных требовани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должен содержать минимально возможное количество сл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надписей и заголовков следует употреблять четкий крупный шрифт, ограничить использование просто текста. Лаконичность — одно из исходных требований при разработке учебных програм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очтительнее выносить на слайд предложения, определения, слова, термины, которые учащиеся будут записывать в тетради, прочитывать их вслух во время демонстрации презент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букв, цифр, знаков, их контрастность определяется необходимостью их четкого рассмотрения с последнего ряда пар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9BCA-0D82-45F4-8188-C24CE218D2C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ливка фона, букв, линий предпочтительна спокойного, «неядовитого» цвета, не вызывающая раздражение и утомление глаз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тежи, рисунки, фотографии и другие иллюстрационные материалы должны, по возможности, иметь максимальный равномерно заполнять все экранное пол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льзя перегружать слайды зрительной информаци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осмотр одного слайда следует отводить достаточное время (не менее 2-3 мин.), чтобы учащиеся могли сконцентрировать внимание на экранном изображении, проследить последовательность действий, рассмотреть все элементы слайда, зафиксировать конечный результат, сделать записи в рабочие тетрад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вуковое сопровождение слайдов не должно носить резкий, отвлекающий, раздражающий характ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B85D-C271-4B6F-85B1-23A272513E9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Для обеспечения эффективности учебного процесса необходим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бегать монотонности, учитывать смену деятельности учащихся по ее уровням: узнавание, воспроизведение, применени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иентироваться на развитие мыслительных (умственных) способностей ребенка, т.е. развитие наблюдательности, ассоциативности, сравнения, аналогии, выделения главного, обобщения, воображения и т.п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возможность успешно работать на уроке с применением компьютерных технологий и сильным, и средним, и слабым учащимс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ывать фактор памяти ребенка (оперативной, кратковременной и долговременной). Ограниченно следует контролировать то, что введено только на уровне оперативной и кратковременной памя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F76C-50B3-47D2-912B-79D7B388F56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На пути внедрения этих технологий возникают проблемы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утствие в школе организованных условий с максимально свободным доступом к компьютеру - из-за наличия компьютеров в школе только в кабинете информатики и предназначенных в основном для обучения учащихся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 заинтересованности учителей - предметников в проведении уроков, связанных с применением в учебном процессе электронных носителей информации, из-за отсутствия поддержки (материальной, организационной, методической и пр.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одаватели не умеют интегрировать проектную методику, использовать компьютерные технологии с достаточно жесткой классно-урочной систем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D55C-41A0-4FE9-95F8-F19017D7701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ультимедиа</a:t>
            </a: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то представление объектов и процессов не традиционным текстовым описанием, но с помощью фото, видео, графики, анимации, звука, то есть во всех известных сегодня форм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десь мы имеем два основных преимущества 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чественно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личественно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2464-FF90-44DD-8C9F-035A0E03784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ачественн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овые возможности очевидны, если сравнить словесные описания с непосредственным аудиовизуальным представлени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оличественные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 выражаются в том, что мультимедиа среда много выше по информационной плот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тельно, одна страница текста, как известно, содержит около 2 Кбайт информации. Преподаватель произносит этот текст примерно в течении 1-2 минут. За ту же минуту полноэкранное видео приносит порядка 1,2 Гбайт информации. Вот почему «лучше один раз увидеть, чем миллион раз услышат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CF7C-1068-4244-8F40-43839B00771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етодика использования мультимедиа технологий предполаг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енствование системы управления обучением на различных этапах урок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иление мотивации уче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качества обучения и воспитания, что повысит информационную культуру учащихс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уровня подготовки учащихся в области современных информационных технологи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нстрацию возможностей компьютера, не только как средства для иг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DB09-F81C-4A8E-8C02-C9A179D86BC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ультимедийные уроки помогают решить следующие дидактические 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воить базовые знания по предмет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зировать усвоенные зна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ормировать навыки самоконтрол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ормировать мотивацию к учению в целом и к информатике в част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азать учебно-методическую помощь учащимся в самостоятельной работе над учебным материа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56AA-D19B-404B-AF18-D97615809AF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ультимедийная презент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таким образом, наиболее оптимально и эффективно соответствует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триединой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дидактической цели уро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Образовательный аспект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восприятие  учащимися учебного материала, осмысливание связей и отношений в объектах изуч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Развивающий аспект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звитие познавательного интереса у учащихся, умения обобщать, анализировать, сравнивать, активизация творческой деятельности учащих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Воспитательный  аспект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оспитание научного мировоззрения, умения четко организовать самостоятельную и групповую работу, воспитание чувства товарищества, взаимопомощ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3DD6-8811-4B45-83D3-1283FF253AB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ультимедийные технологии могут быть использован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 анонсирования тем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Тема урока представлена на слайдах, в которых кратко изложены ключевые моменты разбираемого вопрос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 сопровождение объяснения учител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 информационно-обучающее пособ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 контроля зна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D072-99B5-4DCB-B112-6C3D020733A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арианты использования компьютерных технологий в обучении геогра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45D5-1063-4ACC-9909-A9F49F5C552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Варианты использования ИКТ при обучении геогра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2BC2-33D6-410E-BFBA-A4CAD4DEB48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0EE2-0A18-45B6-BBC6-CC66E0B86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294B-EADF-4FF0-8FFE-CDE1548B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3E39-8D61-4D5B-9078-DF634FE1E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F793-A78A-4D58-99AF-F5B89E3AD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5B609-2130-485C-9650-080D3C762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C779-29B7-421A-86B4-BEE25BF0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A78A-A1E2-41AB-A6E8-260306C2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8C82-5C9D-4A01-9AD8-9A703856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695AE-4ABB-44D2-9F82-5C70AFEC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3CF5-1504-4BD2-B1B8-74CAF827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E586-F4E3-4E4A-B004-2676F922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CE97-30EA-4CA8-89B4-30EB7CF5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3E6C-C4A3-4676-A3A7-60908651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13D3-4374-4B47-B752-6BD2A7EF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AF19-1EF2-44A2-9A30-D6725313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DCFC-2AF9-472A-A723-4F435133F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44D3-D07F-4731-B6E6-66E144230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1A3E-9E3C-4B24-BBB7-2D0E98BF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403B-2A3E-477C-BCCB-EBA7F963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1D38-93D5-431C-BDD6-97141A30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6DB4-7BB7-430C-971A-DC8A0C15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FE61-25AD-47AC-8363-06E1B1D2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AC06-D941-44F4-AFF3-80D53AF3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52B8-6584-4961-9041-0F314C8C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BEC9-E06D-465D-AFF3-3B7E074D8D1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CBD4-83A9-4C91-AD59-F5B57F62586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&#1075;&#1077;&#1086;&#1075;&#1088;&#1072;&#1092;&#1080;&#1103;/&#1084;&#1077;&#1090;&#1086;&#1076;.&#1088;&#1072;&#1073;&#1086;&#1090;&#1072;/&#1055;&#1088;&#1077;&#1079;&#1077;&#1085;&#1090;&#1072;&#1094;&#1080;&#1103;1.pp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E:/Local%20Settings/Temp/&#1054;&#1073;&#1091;&#1095;&#1072;&#1102;&#1097;&#1080;&#1077;%20&#1087;&#1088;&#1086;&#1075;&#1088;&#1072;&#1084;&#1084;&#1099;.ppt" TargetMode="External"/><Relationship Id="rId2" Type="http://schemas.openxmlformats.org/officeDocument/2006/relationships/hyperlink" Target="file:///E:/Local%20Settings/Temp/&#1054;&#1073;&#1091;&#1095;&#1072;&#1102;&#1097;&#1080;&#1077;%20&#1087;&#1088;&#1086;&#1075;&#1088;&#1072;&#1084;&#1084;&#1099;.ppt" TargetMode="External"/><Relationship Id="rId3" Type="http://schemas.openxmlformats.org/officeDocument/2006/relationships/hyperlink" Target="file:///E:/Local%20Settings/Temp/&#1054;&#1073;&#1091;&#1095;&#1072;&#1102;&#1097;&#1080;&#1077;%20&#1087;&#1088;&#1086;&#1075;&#1088;&#1072;&#1084;&#1084;&#1099;.ppt" TargetMode="External"/><Relationship Id="rId4" Type="http://schemas.openxmlformats.org/officeDocument/2006/relationships/hyperlink" Target="file:///E:/Local%20Settings/Temp/&#1054;&#1073;&#1091;&#1095;&#1072;&#1102;&#1097;&#1080;&#1077;%20&#1087;&#1088;&#1086;&#1075;&#1088;&#1072;&#1084;&#1084;&#1099;.ppt" TargetMode="External"/><Relationship Id="rId5" Type="http://schemas.openxmlformats.org/officeDocument/2006/relationships/hyperlink" Target="file:///E:/Local%20Settings/Temp/&#1054;&#1073;&#1091;&#1095;&#1072;&#1102;&#1097;&#1080;&#1077;%20&#1087;&#1088;&#1086;&#1075;&#1088;&#1072;&#1084;&#1084;&#1099;.ppt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Использование мультимедиа технологий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 на уроках географии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Verdana"/>
              </a:rPr>
              <a:t>Учитель географии МОУ Орловской СОШ Самоличенко Наталья Викторовн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сновные направления применения мультимедиа-учебников в обучении географи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Организация познавательной деятельности учащихся на уроке: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передача учебной информации, мотивация обучения, показ, сопоставление процессов и явлений, демонстрация наглядных материало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Проверка результатов обучения: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практика, тест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Организация самостоятельной работы учащихся: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самостоятельное приобретение знаний и умений, подготовка докладов и сообщений, осуществление дифференцированного подхода, углубленное изучение географ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8390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Можно выделить следующие особенности данной технологи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ачество изображения, выполняемого мелом на доске, не выдерживает никакого сравнения с аккуратным, ярким, чётким и цветным изображением на экране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 помощью доски и мела затруднительно и нелепо объяснять работу с различными приложениям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случаях выявления в слайдах пособия недостатков или ошибок, можно сравнительно легко устранить дефекты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зависимости от подготовленности учащихся, используя в презентациях гиперссылки, один и тот же материал можно объяснять и очень подробно, и рассматривая только базовые вопросы темы. Темп и объём излагаемого материала, определяется по ходу урок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о время демонстрации презентации, даже с применением проектора, рабочее место учащихся достаточно хорошо освещено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овышение уровня использования наглядности на уроке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вышение производительности урока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становление межпредметных связей с другими предметам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является возможность организации проектной деятельности учащихся по созданию учебных программ под руководством преподавателей информатики и учителями-предметникам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еподаватель создающий, или использующий информационные технологии вынужден обращать огромное внимание на логику подачи учебного материала, что положительным образом сказывается на  уровне знаний учащихся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зменяется, отношение к ПК. Ребята начинают воспринимать его в качестве универсального инструмента для работы в любой области человеческой деятельност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Рекомендации по разработке мультимедийных презентац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льтимедийные программные средства обладают большими возможностями в отображении информации, значительно отличающимися от привычных, и оказывают непосредственное влияние на мотивацию обучаемых, скорость восприятия материала, утомляемость и, таким образом, на эффективность учебного процесса в целом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На этапе создания мультимедийной презентации необходимо учитывать следующие моменты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сихологические особенности учащихся данного класса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Цели и результаты обучения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труктуру познавательного пространства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естоположение учащихся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ыбор наиболее эффективных элементов компьютерных технологий для решения конкретных задач конкретного урока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Цветовую гамму оформления учебного материал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При создании слайдов необходимо учесть ряд основных требований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лайд должен содержать минимально возможное количество слов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ля надписей и заголовков следует употреблять четкий крупный шрифт, ограничить использование просто текста. Лаконичность — одно из исходных требований при разработке учебных программ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едпочтительнее выносить на слайд предложения, определения, слова, термины, которые учащиеся будут записывать в тетради, прочитывать их вслух во время демонстрации презентаци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азмер букв, цифр, знаков, их контрастность определяется необходимостью их четкого рассмотрения с последнего ряда парт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53416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Заливка фона, букв, линий предпочтительна спокойного, «неядовитого» цвета, не вызывающая раздражение и утомление глаз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Чертежи, рисунки, фотографии и другие иллюстрационные материалы должны, по возможности, иметь максимальный равномерно заполнять все экранное поле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ельзя перегружать слайды зрительной информацией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 просмотр одного слайда следует отводить достаточное время (не менее 2-3 мин.), чтобы учащиеся могли сконцентрировать внимание на экранном изображении, проследить последовательность действий, рассмотреть все элементы слайда, зафиксировать конечный результат, сделать записи в рабочие тетрад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Звуковое сопровождение слайдов не должно носить резкий, отвлекающий, раздражающий характер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Для обеспечения эффективности учебного процесса необходимо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збегать монотонности, учитывать смену деятельности учащихся по ее уровням: узнавание, воспроизведение, применение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риентироваться на развитие мыслительных (умственных) способностей ребенка, т.е. развитие наблюдательности, ассоциативности, сравнения, аналогии, выделения главного, обобщения, воображения и т.п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ать возможность успешно работать на уроке с применением компьютерных технологий и сильным, и средним, и слабым учащимся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читывать фактор памяти ребенка (оперативной, кратковременной и долговременной). Ограниченно следует контролировать то, что введено только на уровне оперативной и кратковременной памят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На пути внедрения этих технологий возникают проблемы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тсутствие в школе организованных условий с максимально свободным доступом к компьютеру - из-за наличия компьютеров в школе только в кабинете информатики и предназначенных в основном для обучения учащихся;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ет заинтересованности учителей - предметников в проведении уроков, связанных с применением в учебном процессе электронных носителей информации, из-за отсутствия поддержки (материальной, организационной, методической и пр.)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еподаватели не умеют интегрировать проектную методику, использовать компьютерные технологии с достаточно жесткой классно-урочной системой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Мультимедиа</a:t>
            </a:r>
            <a:r>
              <a:rPr b="0" i="1" lang="ru-RU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это представление объектов и процессов не традиционным текстовым описанием, но с помощью фото, видео, графики, анимации, звука, то есть во всех известных сегодня формах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мы имеем два основных преимущества –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ачественное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и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оличественное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Качественно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новые возможности очевидны, если сравнить словесные описания с непосредственным аудиовизуальным представлением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Количественные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еимущества выражаются в том, что мультимедиа среда много выше по информационной плотности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ействительно, одна страница текста, как известно, содержит около 2 Кбайт информации. Преподаватель произносит этот текст примерно в течении 1-2 минут. За ту же минуту полноэкранное видео приносит порядка 1,2 Гбайт информации. Вот почему «лучше один раз увидеть, чем миллион раз услышать»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Методика использования мультимедиа технологий предполагает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вершенствование системы управления обучением на различных этапах урока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силение мотивации учения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лучшение качества обучения и воспитания, что повысит информационную культуру учащихся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вышение уровня подготовки учащихся в области современных информационных технологий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емонстрацию возможностей компьютера, не только как средства для игры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Мультимедийные уроки помогают решить следующие дидактические задачи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своить базовые знания по предмету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истематизировать усвоенные знания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формировать навыки самоконтроля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формировать мотивацию к учению в целом и к информатике в частности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казать учебно-методическую помощь учащимся в самостоятельной работе над учебным материалом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-360" y="304920"/>
            <a:ext cx="88390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Мультимедийная презентация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, таким образом, наиболее оптимально и эффективно соответствует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триединой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дидактической цели урока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Verdana"/>
              </a:rPr>
              <a:t>Образовательный аспект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  восприятие  учащимися учебного материала, осмысливание связей и отношений в объектах изучения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Verdana"/>
              </a:rPr>
              <a:t>Развивающий аспект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развитие познавательного интереса у учащихся, умения обобщать, анализировать, сравнивать, активизация творческой деятельности учащихся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Verdana"/>
              </a:rPr>
              <a:t>Воспитательный  аспект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воспитание научного мировоззрения, умения четко организовать самостоятельную и групповую работу, воспитание чувства товарищества, взаимопомощ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8390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Мультимедийные технологии могут быть использованы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Для анонсирования темы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(Тема урока представлена на слайдах, в которых кратко изложены ключевые моменты разбираемого вопроса)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Как сопровождение объяснения учителя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Как информационно-обучающее пособие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4.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Для контроля знаний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853416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Варианты использования компьютерных технологий в обучении географ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2971800" y="3124080"/>
            <a:ext cx="2160720" cy="1008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Внеурочная</a:t>
            </a:r>
            <a:br>
              <a:rPr sz="2500"/>
            </a:b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работа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2895480" y="3048120"/>
            <a:ext cx="2762280" cy="882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Электронные</a:t>
            </a:r>
            <a:br>
              <a:rPr sz="2500"/>
            </a:b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учебники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2971800" y="2971800"/>
            <a:ext cx="3025800" cy="944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Картографические </a:t>
            </a:r>
            <a:br>
              <a:rPr sz="2500"/>
            </a:b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проекции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AutoShape 7">
            <a:hlinkClick r:id="rId1"/>
          </p:cNvPr>
          <p:cNvSpPr/>
          <p:nvPr/>
        </p:nvSpPr>
        <p:spPr>
          <a:xfrm>
            <a:off x="3124080" y="3276720"/>
            <a:ext cx="2664000" cy="100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Презентации </a:t>
            </a:r>
            <a:br>
              <a:rPr sz="2500"/>
            </a:b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к урокам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AutoShape 8"/>
          <p:cNvSpPr/>
          <p:nvPr/>
        </p:nvSpPr>
        <p:spPr>
          <a:xfrm>
            <a:off x="2819520" y="1905120"/>
            <a:ext cx="3384360" cy="1655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Защита </a:t>
            </a:r>
            <a:br>
              <a:rPr sz="2500"/>
            </a:b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исследовательских </a:t>
            </a:r>
            <a:br>
              <a:rPr sz="2500"/>
            </a:b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и проектных</a:t>
            </a:r>
            <a:br>
              <a:rPr sz="2500"/>
            </a:b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 работ учащихся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AutoShape 9"/>
          <p:cNvSpPr/>
          <p:nvPr/>
        </p:nvSpPr>
        <p:spPr>
          <a:xfrm>
            <a:off x="2819520" y="3657600"/>
            <a:ext cx="3354120" cy="1017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Интеллектуальные</a:t>
            </a:r>
            <a:br>
              <a:rPr sz="2500"/>
            </a:b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игры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AutoShape 10"/>
          <p:cNvSpPr/>
          <p:nvPr/>
        </p:nvSpPr>
        <p:spPr>
          <a:xfrm>
            <a:off x="2514600" y="3809880"/>
            <a:ext cx="2951280" cy="1008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Творческие</a:t>
            </a:r>
            <a:br>
              <a:rPr sz="2500"/>
            </a:b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работы учащихся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38889E-006 4.33526E-006 L 0.37014 0.00023 E">
                                      <p:cBhvr>
                                        <p:cTn id="9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38889E-006 -1.96532E-006 L -0.33073 0.2622 E">
                                      <p:cBhvr>
                                        <p:cTn id="14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4.72222E-006 3.58382E-006 L -0.33056 3.58382E-006 E">
                                      <p:cBhvr>
                                        <p:cTn id="19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05556E-006 -8.67052E-007 L -0.29532 -0.283 E">
                                      <p:cBhvr>
                                        <p:cTn id="25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05556E-006 1.79191E-006 L -0.00382 0.35167 E">
                                      <p:cBhvr>
                                        <p:cTn id="30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38889E-006 -1.96532E-006 L 0.33872 0.2726 E">
                                      <p:cBhvr>
                                        <p:cTn id="35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33333E-006 -5.78035E-007 L 0.29549 -0.32485 E">
                                      <p:cBhvr>
                                        <p:cTn id="41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Варианты использования ИКТ при обучении географи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88" name="Organization Chart 4"/>
          <p:cNvGrpSpPr/>
          <p:nvPr/>
        </p:nvGrpSpPr>
        <p:grpSpPr>
          <a:xfrm>
            <a:off x="457200" y="1713600"/>
            <a:ext cx="8228160" cy="5143680"/>
            <a:chOff x="457200" y="1713600"/>
            <a:chExt cx="8228160" cy="5143680"/>
          </a:xfrm>
        </p:grpSpPr>
        <p:cxnSp>
          <p:nvCxnSpPr>
            <p:cNvPr id="189" name="_s1028"/>
            <p:cNvCxnSpPr>
              <a:stCxn id="190" idx="1"/>
              <a:endCxn id="191" idx="2"/>
            </p:cNvCxnSpPr>
            <p:nvPr/>
          </p:nvCxnSpPr>
          <p:spPr>
            <a:xfrm rot="10800000">
              <a:off x="2925000" y="2580840"/>
              <a:ext cx="823320" cy="3782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2" name="_s1029"/>
            <p:cNvCxnSpPr>
              <a:stCxn id="193" idx="1"/>
              <a:endCxn id="191" idx="2"/>
            </p:cNvCxnSpPr>
            <p:nvPr/>
          </p:nvCxnSpPr>
          <p:spPr>
            <a:xfrm rot="10800000">
              <a:off x="2925000" y="2580840"/>
              <a:ext cx="823320" cy="2356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4" name="_s1030"/>
            <p:cNvCxnSpPr>
              <a:stCxn id="195" idx="1"/>
              <a:endCxn id="191" idx="2"/>
            </p:cNvCxnSpPr>
            <p:nvPr/>
          </p:nvCxnSpPr>
          <p:spPr>
            <a:xfrm rot="10800000">
              <a:off x="2925000" y="2580840"/>
              <a:ext cx="823320" cy="928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91" name="_s1031"/>
            <p:cNvSpPr/>
            <p:nvPr/>
          </p:nvSpPr>
          <p:spPr>
            <a:xfrm>
              <a:off x="457200" y="1713600"/>
              <a:ext cx="4937040" cy="8676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ff"/>
                  </a:solidFill>
                  <a:latin typeface="Tahoma"/>
                </a:rPr>
                <a:t>Компьютерные </a:t>
              </a:r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ff"/>
                  </a:solidFill>
                  <a:latin typeface="Tahoma"/>
                </a:rPr>
                <a:t>технологии</a:t>
              </a:r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5" name="_s1032"/>
            <p:cNvSpPr/>
            <p:nvPr/>
          </p:nvSpPr>
          <p:spPr>
            <a:xfrm>
              <a:off x="3748320" y="3015360"/>
              <a:ext cx="4937040" cy="9914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Подготовка учителя: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 </a:t>
              </a: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план курса, темы, занятия;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 </a:t>
              </a: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содержание занятия (конспект);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 </a:t>
              </a:r>
              <a:r>
                <a:rPr b="0" lang="en-US" sz="1600" spc="-1" strike="noStrike" u="sng">
                  <a:solidFill>
                    <a:srgbClr val="ffffcc"/>
                  </a:solidFill>
                  <a:uFillTx/>
                  <a:latin typeface="Tahoma"/>
                  <a:hlinkClick r:id="rId1"/>
                </a:rPr>
                <a:t>подготовка дидактического материа</a:t>
              </a:r>
              <a:r>
                <a:rPr b="0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ла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3" name="_s1033"/>
            <p:cNvSpPr/>
            <p:nvPr/>
          </p:nvSpPr>
          <p:spPr>
            <a:xfrm>
              <a:off x="3748320" y="4440960"/>
              <a:ext cx="4937040" cy="99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Подготовка ученика: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 </a:t>
              </a: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домашние задания;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 </a:t>
              </a: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творческие задания;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 </a:t>
              </a: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подготовка дидактического материала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0" name="_s1034"/>
            <p:cNvSpPr/>
            <p:nvPr/>
          </p:nvSpPr>
          <p:spPr>
            <a:xfrm>
              <a:off x="3748320" y="5865840"/>
              <a:ext cx="4937040" cy="9914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Проведение занятий: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ffff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ffffcc"/>
                  </a:solidFill>
                  <a:uFillTx/>
                  <a:latin typeface="Tahoma"/>
                  <a:hlinkClick r:id="rId2"/>
                </a:rPr>
                <a:t> </a:t>
              </a:r>
              <a:r>
                <a:rPr b="0" lang="en-US" sz="1600" spc="-1" strike="noStrike" u="sng">
                  <a:solidFill>
                    <a:srgbClr val="ffffcc"/>
                  </a:solidFill>
                  <a:uFillTx/>
                  <a:latin typeface="Tahoma"/>
                  <a:hlinkClick r:id="rId3"/>
                </a:rPr>
                <a:t>обучающие программы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 </a:t>
              </a:r>
              <a:r>
                <a:rPr b="0" lang="en-US" sz="1600" spc="-1" strike="noStrike" u="sng">
                  <a:solidFill>
                    <a:srgbClr val="ffffcc"/>
                  </a:solidFill>
                  <a:uFillTx/>
                  <a:latin typeface="Tahoma"/>
                  <a:hlinkClick r:id="rId4"/>
                </a:rPr>
                <a:t>игры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 </a:t>
              </a:r>
              <a:r>
                <a:rPr b="0" lang="en-US" sz="1600" spc="-1" strike="noStrike" u="sng">
                  <a:solidFill>
                    <a:srgbClr val="ffffcc"/>
                  </a:solidFill>
                  <a:uFillTx/>
                  <a:latin typeface="Tahoma"/>
                  <a:hlinkClick r:id="rId5"/>
                </a:rPr>
                <a:t>тесты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77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770" fill="hold"/>
                                        <p:tgtEl>
                                          <p:spTgt spid="1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2-29T11:31:05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