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9CDE3-BC49-432A-9701-FB17AEE6AB9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В пустыне Афр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81AC6-CC36-43E6-965F-FC4EDC6C6C7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Основное занятие нас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Учебник стр. 113, выписать в рабочую тетрад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C555F-F223-4B16-987B-3688E14C6A1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ашнее задание: учебник стр. 110-113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 №4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7E502-9B71-47D4-A923-5DDFCF949E8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ADFFD-7F67-4F6C-B38C-97E9CFDB514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Определите по карте полушарий, ка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моря и океаны омывают Африк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Найдите на карте реку Нил. В какое мо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впадает эта река? Какие еще реки есть в Африк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Определите куда впадает каждая из этих р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Как называется остров который располож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к востоку от Афри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C61DF-B772-4F94-BE4C-8828787FB02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Погодные усло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хара- одна из самых больших и жарких пустынь плане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бо здесь почти безоблачное. Днём поверхность Зем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гревается до +80 С. Температура воздуха при эт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вышается до + 50 С. Ночью поверхность Земли и возду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стро охлаждаются. Дожди в Сахаре бывают очень редк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вот песчаные бури – часто. Во время бурь раскалённы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тер переносит тонны пес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57B4A-9BE5-4084-8671-9C8DEEF9B2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Особенности растительного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6EE9A-8DF5-4FCF-95D7-56863BA9EAA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Особенности животного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358F9-8455-4CB0-919C-D3039B44E72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BF63-C402-45E1-B424-BB94416CF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9B81-8879-4573-A0E6-55C1DEDEB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8CB9-866C-48AA-9C13-892D51780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80CE-8744-4E40-AC59-3751FAF7B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B7B7-EA08-46CB-82D3-B016E1872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8554-2DDA-4BB3-B77E-E0AD5AEF7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EB7F-58E7-4780-AD0D-5CBED133B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0373-FACB-4E65-8425-A8AABDFD3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FD11-2DA8-451F-B001-497ADD0F5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2911-467F-4B89-8FEF-8CA66675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6D12-AF57-44C8-ACF5-7B77078D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7055-FA79-48C5-ADB4-339583EE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E606B-E6F8-4E38-9230-CDD26FE9B2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6BPhysicalFeatures - Deser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1675440" y="2060640"/>
            <a:ext cx="606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В пустыне Афри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Красивый фон для презентации - Все лушие презент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1802880" y="549360"/>
            <a:ext cx="609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99"/>
                </a:solidFill>
                <a:latin typeface="Times New Roman"/>
              </a:rPr>
              <a:t>Основное занятие насе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725480" y="2349360"/>
            <a:ext cx="573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Учебник стр. 113, выписать в рабочую тетрад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Красивый фон для презентации - Все лушие презент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250920" y="2349360"/>
            <a:ext cx="8130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машнее задание: учебник стр. 110-113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прос №4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Животные Африки - Африка 1 - О животных - Фото"/>
          <p:cNvPicPr/>
          <p:nvPr/>
        </p:nvPicPr>
        <p:blipFill>
          <a:blip r:embed="rId1"/>
          <a:stretch/>
        </p:blipFill>
        <p:spPr>
          <a:xfrm>
            <a:off x="250920" y="115920"/>
            <a:ext cx="8388360" cy="629136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9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2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Пустыня Сахара Всё о туризме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1166760" y="1386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Заголовок 1" descr=""/>
          <p:cNvPicPr/>
          <p:nvPr/>
        </p:nvPicPr>
        <p:blipFill>
          <a:blip r:embed="rId2"/>
          <a:stretch/>
        </p:blipFill>
        <p:spPr>
          <a:xfrm>
            <a:off x="468360" y="1150920"/>
            <a:ext cx="9326520" cy="405432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2"/>
          <p:cNvSpPr/>
          <p:nvPr/>
        </p:nvSpPr>
        <p:spPr>
          <a:xfrm>
            <a:off x="3124080" y="62704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English Learning &amp; Correcti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735120" y="857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174600" y="1484280"/>
            <a:ext cx="89694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пределите по карте полушарий, ка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оря и океаны омывают Африк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айдите на карте реку Нил. В какое мор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падает эта река? Какие еще реки есть в Афри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пределите куда впадает каждая из этих р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ак называется остров который располож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 востоку от Афри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Красивый фон для презентации - Все лушие презент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2031840" y="136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2232360" y="274680"/>
            <a:ext cx="384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99"/>
                </a:solidFill>
                <a:latin typeface="Times New Roman"/>
              </a:rPr>
              <a:t>Погодные услов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108000" y="1700280"/>
            <a:ext cx="8856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ахара- одна из самых больших и жарких пустынь плане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бо здесь почти безоблачное. Днём поверхность Зем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гревается до +80 С. Температура воздуха при эт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ышается до + 50 С. Ночью поверхность Земли и возду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ыстро охлаждаются. Дожди в Сахаре бывают очень редк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вот песчаные бури – часто. Во время бурь раскалён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тер переносит тонны пес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Красивый фон для презентации - Все лушие презент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539640" y="404640"/>
            <a:ext cx="1843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095480" y="2224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Фото цветов - Фото цветов"/>
          <p:cNvPicPr/>
          <p:nvPr/>
        </p:nvPicPr>
        <p:blipFill>
          <a:blip r:embed="rId2"/>
          <a:stretch/>
        </p:blipFill>
        <p:spPr>
          <a:xfrm>
            <a:off x="1763640" y="1341360"/>
            <a:ext cx="2665440" cy="23338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9"/>
          <p:cNvSpPr/>
          <p:nvPr/>
        </p:nvSpPr>
        <p:spPr>
          <a:xfrm>
            <a:off x="4335480" y="3305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1" descr="Американские производители одежды бойкотируют узбекский хлопок - Рамблер-Новости"/>
          <p:cNvPicPr/>
          <p:nvPr/>
        </p:nvPicPr>
        <p:blipFill>
          <a:blip r:embed="rId3"/>
          <a:stretch/>
        </p:blipFill>
        <p:spPr>
          <a:xfrm>
            <a:off x="5148360" y="1341360"/>
            <a:ext cx="2809800" cy="23716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2"/>
          <p:cNvSpPr/>
          <p:nvPr/>
        </p:nvSpPr>
        <p:spPr>
          <a:xfrm>
            <a:off x="3111480" y="5105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4" descr="RUSTF.RU - Журнал о торговом финансировании"/>
          <p:cNvPicPr/>
          <p:nvPr/>
        </p:nvPicPr>
        <p:blipFill>
          <a:blip r:embed="rId4"/>
          <a:stretch/>
        </p:blipFill>
        <p:spPr>
          <a:xfrm>
            <a:off x="2484360" y="4005360"/>
            <a:ext cx="4556160" cy="222084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Красивый фон для презентации - Все лушие презент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2103480" y="3305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100430727_1324064647_20081011191406_img_4051"/>
          <p:cNvPicPr/>
          <p:nvPr/>
        </p:nvPicPr>
        <p:blipFill>
          <a:blip r:embed="rId2"/>
          <a:stretch/>
        </p:blipFill>
        <p:spPr>
          <a:xfrm>
            <a:off x="539640" y="333360"/>
            <a:ext cx="4464000" cy="29764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8"/>
          <p:cNvSpPr/>
          <p:nvPr/>
        </p:nvSpPr>
        <p:spPr>
          <a:xfrm>
            <a:off x="3903840" y="4889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0" descr="Еда для качков, здоровая пища - rusbody.com"/>
          <p:cNvPicPr/>
          <p:nvPr/>
        </p:nvPicPr>
        <p:blipFill>
          <a:blip r:embed="rId3"/>
          <a:stretch/>
        </p:blipFill>
        <p:spPr>
          <a:xfrm>
            <a:off x="4067280" y="2997360"/>
            <a:ext cx="4424400" cy="331920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Красивый фон для презентации - Все лушие презент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Красивый фон для презентации - Все лушие презент"/>
          <p:cNvPicPr/>
          <p:nvPr/>
        </p:nvPicPr>
        <p:blipFill>
          <a:blip r:embed="rId2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1095480" y="1432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ГОМЕОПАТИЯ. ВЕРБЛЮЖЬЯ КОЛЮЧКА (Alhagi)"/>
          <p:cNvPicPr/>
          <p:nvPr/>
        </p:nvPicPr>
        <p:blipFill>
          <a:blip r:embed="rId3"/>
          <a:stretch/>
        </p:blipFill>
        <p:spPr>
          <a:xfrm>
            <a:off x="108000" y="333360"/>
            <a:ext cx="4392720" cy="29178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9"/>
          <p:cNvSpPr/>
          <p:nvPr/>
        </p:nvSpPr>
        <p:spPr>
          <a:xfrm>
            <a:off x="4335480" y="424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1" descr="Фото автора Valery+Olga на Яндекс.Фотках - Valery+Olga- я.ру"/>
          <p:cNvPicPr/>
          <p:nvPr/>
        </p:nvPicPr>
        <p:blipFill>
          <a:blip r:embed="rId4"/>
          <a:stretch/>
        </p:blipFill>
        <p:spPr>
          <a:xfrm>
            <a:off x="3924360" y="2852640"/>
            <a:ext cx="4680000" cy="295272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Красивый фон для презентации - Все лушие презент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7"/>
          <p:cNvSpPr/>
          <p:nvPr/>
        </p:nvSpPr>
        <p:spPr>
          <a:xfrm>
            <a:off x="1196280" y="333360"/>
            <a:ext cx="653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99"/>
                </a:solidFill>
                <a:latin typeface="Times New Roman"/>
              </a:rPr>
              <a:t>Особенности животного ми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51912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0" descr="Тушканчики"/>
          <p:cNvPicPr/>
          <p:nvPr/>
        </p:nvPicPr>
        <p:blipFill>
          <a:blip r:embed="rId2"/>
          <a:stretch/>
        </p:blipFill>
        <p:spPr>
          <a:xfrm>
            <a:off x="900000" y="981000"/>
            <a:ext cx="3382920" cy="21193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543480" y="4168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3" descr="Знание и жизнь Журнал ПАРТНЕР"/>
          <p:cNvPicPr/>
          <p:nvPr/>
        </p:nvPicPr>
        <p:blipFill>
          <a:blip r:embed="rId3"/>
          <a:stretch/>
        </p:blipFill>
        <p:spPr>
          <a:xfrm>
            <a:off x="4932360" y="981000"/>
            <a:ext cx="3456000" cy="22179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4"/>
          <p:cNvSpPr/>
          <p:nvPr/>
        </p:nvSpPr>
        <p:spPr>
          <a:xfrm>
            <a:off x="1023840" y="4024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6" descr="В распространении нового коронавируса обвинили верблюдов - МедНовости - MedPortal.ru"/>
          <p:cNvPicPr/>
          <p:nvPr/>
        </p:nvPicPr>
        <p:blipFill>
          <a:blip r:embed="rId4"/>
          <a:stretch/>
        </p:blipFill>
        <p:spPr>
          <a:xfrm>
            <a:off x="971640" y="3429000"/>
            <a:ext cx="3240000" cy="23763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7"/>
          <p:cNvSpPr/>
          <p:nvPr/>
        </p:nvSpPr>
        <p:spPr>
          <a:xfrm>
            <a:off x="4840200" y="4097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9" descr="Происшествия"/>
          <p:cNvPicPr/>
          <p:nvPr/>
        </p:nvPicPr>
        <p:blipFill>
          <a:blip r:embed="rId5"/>
          <a:stretch/>
        </p:blipFill>
        <p:spPr>
          <a:xfrm>
            <a:off x="4932360" y="3500280"/>
            <a:ext cx="3384720" cy="243072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9T20:48:07Z</dcterms:created>
  <dc:creator>User</dc:creator>
  <dc:description/>
  <dc:language>en-US</dc:language>
  <cp:lastModifiedBy>LEGION</cp:lastModifiedBy>
  <dcterms:modified xsi:type="dcterms:W3CDTF">2014-12-30T08:16:17Z</dcterms:modified>
  <cp:revision>6</cp:revision>
  <dc:subject/>
  <dc:title>Слайд 1</dc:title>
</cp:coreProperties>
</file>