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2062-A3CB-4F8B-8795-78820B7340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 пустыне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2EC9-5CD2-4EB0-BF06-9B9E633F9E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новное занятие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Учебник стр. 113, выписать в рабочую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9A2F-9766-4E91-A6C4-862907C4DE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: учебник стр. 110-113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№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E2A3-2212-4511-9456-34FACEC0F3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1C9B-47A7-407F-A015-079F07336E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пределите по карте полушарий, ка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оря и океаны омывают Афри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йдите на карте реку Нил. В какое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падает эта река? Какие еще реки есть в Афри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пределите куда впадает каждая из этих р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ак называется остров который располо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 востоку от Афр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0F09-76EA-4616-BE1E-F04B70FCA7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огодные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а- одна из самых больших и жарких пустынь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бо здесь почти безоблачное. Днём поверхность Зем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евается до +80 С. Температура воздуха при э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ается до + 50 С. Ночью поверхность Земли и 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о охлаждаются. Дожди в Сахаре бывают очень ред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вот песчаные бури – часто. Во время бурь раскалё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ер переносит тонны пе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FB89-2526-48AC-A90A-4ED7DA4F57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обенности раститель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42C3-D72F-4B4E-9034-EB09B50FB6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обенности живот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DA89-A535-42A7-83F5-53CE3271A7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FF7-06A2-41AE-8102-29613EC9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311-D25A-418E-B6ED-2583A00B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1F7-A36A-470E-8065-F3367AB6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E0B-9C0D-4FE2-8F29-C81D527C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735-4A5E-4684-A255-80A7DCE7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B462-3CDB-44A5-B7BB-F32FDDC7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617-64BD-4E21-B29A-F11728A0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AAF-E9D1-4021-80A1-F19F4E94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B7D-92F2-4ABB-9D57-6D1454F8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3CB-A336-429B-AC09-9F3AC74F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0F6-C3E2-419D-8B36-31FDDBE1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D88-F8EC-4F1C-9752-CE967DF8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ED19-3874-4FCB-802B-6785018F3C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6BPhysicalFeatures - Dese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675440" y="2060640"/>
            <a:ext cx="606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В пустыне Афр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802880" y="549360"/>
            <a:ext cx="60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Основное занятие нас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725480" y="2349360"/>
            <a:ext cx="573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бник стр. 113, выписать в рабочую тетра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50920" y="2349360"/>
            <a:ext cx="813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ашнее задание: учебник стр. 110-11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 №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Животные Африки - Африка 1 - О животных - Фото"/>
          <p:cNvPicPr/>
          <p:nvPr/>
        </p:nvPicPr>
        <p:blipFill>
          <a:blip r:embed="rId1"/>
          <a:stretch/>
        </p:blipFill>
        <p:spPr>
          <a:xfrm>
            <a:off x="250920" y="115920"/>
            <a:ext cx="8388360" cy="62913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Пустыня Сахара Всё о туризме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166760" y="1386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68360" y="1150920"/>
            <a:ext cx="9326520" cy="40543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2"/>
          <p:cNvSpPr/>
          <p:nvPr/>
        </p:nvSpPr>
        <p:spPr>
          <a:xfrm>
            <a:off x="3124080" y="62704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English Learning &amp; Correc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35120" y="85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74600" y="1484280"/>
            <a:ext cx="896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ределите по карте полушарий, ка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ря и океаны омывают Афри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йдите на карте реку Нил. В какое мо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падает эта река? Какие еще реки есть в Афри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ределите куда впадает каждая из этих р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 называется остров который располо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востоку от Афр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203184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232360" y="27468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Погодные усло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08000" y="170028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хара- одна из самых больших и жарких пустынь план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бо здесь почти безоблачное. Днём поверхность Зем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евается до +80 С. Температура воздуха при э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ается до + 50 С. Ночью поверхность Земли и 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 охлаждаются. Дожди в Сахаре бывают очень ред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т песчаные бури – часто. Во время бурь раскалё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ер переносит тонны пе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39640" y="40464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09548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Фото цветов - Фото цветов"/>
          <p:cNvPicPr/>
          <p:nvPr/>
        </p:nvPicPr>
        <p:blipFill>
          <a:blip r:embed="rId2"/>
          <a:stretch/>
        </p:blipFill>
        <p:spPr>
          <a:xfrm>
            <a:off x="1763640" y="1341360"/>
            <a:ext cx="2665440" cy="2333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4335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Американские производители одежды бойкотируют узбекский хлопок - Рамблер-Новости"/>
          <p:cNvPicPr/>
          <p:nvPr/>
        </p:nvPicPr>
        <p:blipFill>
          <a:blip r:embed="rId3"/>
          <a:stretch/>
        </p:blipFill>
        <p:spPr>
          <a:xfrm>
            <a:off x="5148360" y="1341360"/>
            <a:ext cx="2809800" cy="2371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2"/>
          <p:cNvSpPr/>
          <p:nvPr/>
        </p:nvSpPr>
        <p:spPr>
          <a:xfrm>
            <a:off x="31114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4" descr="RUSTF.RU - Журнал о торговом финансировании"/>
          <p:cNvPicPr/>
          <p:nvPr/>
        </p:nvPicPr>
        <p:blipFill>
          <a:blip r:embed="rId4"/>
          <a:stretch/>
        </p:blipFill>
        <p:spPr>
          <a:xfrm>
            <a:off x="2484360" y="4005360"/>
            <a:ext cx="4556160" cy="2220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2103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100430727_1324064647_20081011191406_img_4051"/>
          <p:cNvPicPr/>
          <p:nvPr/>
        </p:nvPicPr>
        <p:blipFill>
          <a:blip r:embed="rId2"/>
          <a:stretch/>
        </p:blipFill>
        <p:spPr>
          <a:xfrm>
            <a:off x="539640" y="333360"/>
            <a:ext cx="4464000" cy="2976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390384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Еда для качков, здоровая пища - rusbody.com"/>
          <p:cNvPicPr/>
          <p:nvPr/>
        </p:nvPicPr>
        <p:blipFill>
          <a:blip r:embed="rId3"/>
          <a:stretch/>
        </p:blipFill>
        <p:spPr>
          <a:xfrm>
            <a:off x="4067280" y="2997360"/>
            <a:ext cx="4424400" cy="33192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Красивый фон для презентации - Все лушие презент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09548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ГОМЕОПАТИЯ. ВЕРБЛЮЖЬЯ КОЛЮЧКА (Alhagi)"/>
          <p:cNvPicPr/>
          <p:nvPr/>
        </p:nvPicPr>
        <p:blipFill>
          <a:blip r:embed="rId3"/>
          <a:stretch/>
        </p:blipFill>
        <p:spPr>
          <a:xfrm>
            <a:off x="108000" y="333360"/>
            <a:ext cx="4392720" cy="2917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4335480" y="424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Фото автора Valery+Olga на Яндекс.Фотках - Valery+Olga- я.ру"/>
          <p:cNvPicPr/>
          <p:nvPr/>
        </p:nvPicPr>
        <p:blipFill>
          <a:blip r:embed="rId4"/>
          <a:stretch/>
        </p:blipFill>
        <p:spPr>
          <a:xfrm>
            <a:off x="3924360" y="2852640"/>
            <a:ext cx="4680000" cy="29527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1196280" y="333360"/>
            <a:ext cx="65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Особенности животно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1912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Тушканчики"/>
          <p:cNvPicPr/>
          <p:nvPr/>
        </p:nvPicPr>
        <p:blipFill>
          <a:blip r:embed="rId2"/>
          <a:stretch/>
        </p:blipFill>
        <p:spPr>
          <a:xfrm>
            <a:off x="900000" y="981000"/>
            <a:ext cx="3382920" cy="2119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543480" y="41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Знание и жизнь Журнал ПАРТНЕР"/>
          <p:cNvPicPr/>
          <p:nvPr/>
        </p:nvPicPr>
        <p:blipFill>
          <a:blip r:embed="rId3"/>
          <a:stretch/>
        </p:blipFill>
        <p:spPr>
          <a:xfrm>
            <a:off x="4932360" y="981000"/>
            <a:ext cx="3456000" cy="2217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4"/>
          <p:cNvSpPr/>
          <p:nvPr/>
        </p:nvSpPr>
        <p:spPr>
          <a:xfrm>
            <a:off x="102384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В распространении нового коронавируса обвинили верблюдов - МедНовости - MedPortal.ru"/>
          <p:cNvPicPr/>
          <p:nvPr/>
        </p:nvPicPr>
        <p:blipFill>
          <a:blip r:embed="rId4"/>
          <a:stretch/>
        </p:blipFill>
        <p:spPr>
          <a:xfrm>
            <a:off x="971640" y="3429000"/>
            <a:ext cx="324000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7"/>
          <p:cNvSpPr/>
          <p:nvPr/>
        </p:nvSpPr>
        <p:spPr>
          <a:xfrm>
            <a:off x="484020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Происшествия"/>
          <p:cNvPicPr/>
          <p:nvPr/>
        </p:nvPicPr>
        <p:blipFill>
          <a:blip r:embed="rId5"/>
          <a:stretch/>
        </p:blipFill>
        <p:spPr>
          <a:xfrm>
            <a:off x="4932360" y="3500280"/>
            <a:ext cx="3384720" cy="2430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9T20:48:07Z</dcterms:created>
  <dc:creator>User</dc:creator>
  <dc:description/>
  <dc:language>en-US</dc:language>
  <cp:lastModifiedBy>LEGION</cp:lastModifiedBy>
  <dcterms:modified xsi:type="dcterms:W3CDTF">2014-12-30T08:16:17Z</dcterms:modified>
  <cp:revision>6</cp:revision>
  <dc:subject/>
  <dc:title>Слайд 1</dc:title>
</cp:coreProperties>
</file>