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FB5E-1AE4-47EF-8FF7-E48DCDBD4E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twogalaxy.narod.ru/earth.html" TargetMode="External"/><Relationship Id="rId2" Type="http://schemas.openxmlformats.org/officeDocument/2006/relationships/hyperlink" Target="http://twogalaxy.narod.ru/sun.html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ЭНЕРГИИ СОЛНЦ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твеев Юрий, 9 «А»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B064-49E6-48F3-A999-A4595CCF437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д солнечной крышей МИРА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энергостанции и "солнечные дома"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оциация TransOption, объединяющая государ-ственные и частные транспортные компании штата Нью-Джерси, ежегодно организуют среди школьных команд гонки автомобильных моделей, приводимых в движение солнечной энерги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334C-DE39-4C05-A168-949502DC4FF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нце является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сточником жизн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ля всего земн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олнц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сновной источник энергии на земле и первопричина, создавшая большинство других энергетических ресурсов нашей планеты, таких, как запасы каменного угля, нефти, газа, энергии ветра и падающей воды, электрической энергии и т.д. Энергия Солнца, которая в основном выделяется в виде лучистой энергии, так велика, что её трудно даже себе представ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EAB1-B89F-4A43-969B-2FB6286B8D3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ью-Йорке солнечную энергию используют даже мусорщики. Здесь в двух районах уже полтора года действуют интеллектуальные солнечные контейнеры для мусора - BigBelly. Используя энергию света, преобразованную в электричество кремниевыми фотоэлементами они утрамбовывают слдержимо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D46C-ACAA-4D4B-B2CE-BB33A4FEABF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ов энергии на Земле существует много, но, судя п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му, как стремительно растут цены на энергоресурсы, их все равно не хватает. Многие специалисты полагают, что уже к 2020 году топлива потребуется в три с половиной раза больше, чем сегодня. Где же брать энергию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D892-62B2-4C53-92B7-EAC591B01E4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ейшая технология нанесения металлоксидной пленки на стеклянную подложку позволяет создавать крупные тонкопленочные солнечные модули. В Америке только на один проект - строительство в пустыне Негев (Израиль) солнечной электростанции - выделено 100 миллионов долл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0E83-2D00-4058-A923-60E5E4C3E38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близи голландского городка Херхюговарда создан экспериментальный район "Город солнца". Крыши домов здесь покрыты солнечными панелями. Дом на снимке вырабатывает до 25 кВт. Общую мощность "Города солнца" планируется довести до 5 МВт. Такие дома становятся автономными от систе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EAC6-795C-4FF5-8966-E978D6EF0C4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лнце можно использовать и как источник энергии для транспортных средст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встралии уже 19 лет проводятся ежегодные гонки на солнечных электромобилях на трассе между городами Дарвин и Аделаида (3000 км). В 1990 году компания Sanyo построила самолет на солнечных батаре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AFDE-DA15-40D4-BCFA-F6C60CA1439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д солнечной крышей МИРА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энергостанции и "солнечные дома"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кусированный СВЧ-луч может передавать собранную солнечными батареями энергию на Землю, а может снабжать ею космические корабли. В отличие от солнечного света этот СВЧ-луч при «пробое» атмосферы потеряет не более 2% энергии. Недавно задумку воскресил Дэвид Крисве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ECD1-603A-499F-9A10-EBB22AF7914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солнечной крышей МИР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энергостанции и "солнечные дома"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ая солнечная установка NSTTF для тепловых испытаний и экспериментов в области энергетики. Одним из старых способов забора солнечной энергии являетяся СЭС, придуманная Бернардом Дюбо. Он предлагал строить в пустынях обширные стеклянные навесы с высокой тру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C595-74E0-4D80-B35E-71AECD5C9B5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9AE-02FE-4193-8FB7-367B9282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B58-0877-4AC4-B334-AB2E8D61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54F-DDCE-440D-84D6-CD02C0ED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9FC-A6F9-4247-AA31-F180E686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BDAF-34D2-4AA3-8E1F-F30DA474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EC2C-6AE0-4732-AFAF-8805D04A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A1B0-15B5-4AEB-8846-0E3E8B5D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060D-25F0-4B4B-B524-8B8A7155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52C9-3928-4015-8316-5B04C222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5273-51C0-44A0-9397-C14945D9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5625-E48A-4699-B987-8CD84739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F71-1D67-47FE-8EC1-6A2FA312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D952-532E-494E-96FA-870AD661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A127-1E0D-4CAB-B5CE-C7FC435B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B38E-5C5B-44DE-9B76-E606CB81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6C23-97AC-421C-8B8C-85D685F8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AC3E-8803-4460-A71F-B1D54E5B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078-FB75-4CA0-A00B-4F1B2A78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C7E-0C25-4DAF-934C-F59ECE89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DB3-7740-45AD-BFAC-8820FF41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3A91-C1B7-4EC2-95D8-4A57C479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D0AD-50AA-4C83-B737-F83EC5AF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9273-084B-482F-867D-3B506DE2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3905-13D0-4477-84FC-B30C1AF8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E55B-55CC-4741-A613-CB8907ABDC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B5B5-0F28-47CF-A719-51F96C1671B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wogalaxy.narod.ru/earth.html" TargetMode="External"/><Relationship Id="rId2" Type="http://schemas.openxmlformats.org/officeDocument/2006/relationships/hyperlink" Target="http://twogalaxy.narod.ru/sun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160" y="2133360"/>
            <a:ext cx="792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ИСПОЛЬЗОВАНИЕ ЭНЕРГИИ СОЛНЦА НА ЗЕМЛ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124000" y="5876640"/>
            <a:ext cx="564048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атвеев Юрий, 9 «А» клас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473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Под солнечной крышей МИРА 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(энергостанции и "солнечные дома")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39280" y="4723920"/>
            <a:ext cx="68281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ссоциация TransOption, объединяющая государ-ственные и частные транспортные компании штата Нью-Джерси, ежегодно организуют среди школьных команд гонки автомобильных моделей, приводимых в движение солнечной энергией.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Рисунок 9" descr="Солнечные гонки"/>
          <p:cNvPicPr/>
          <p:nvPr/>
        </p:nvPicPr>
        <p:blipFill>
          <a:blip r:embed="rId1"/>
          <a:stretch/>
        </p:blipFill>
        <p:spPr>
          <a:xfrm>
            <a:off x="611280" y="1268280"/>
            <a:ext cx="6769080" cy="32403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олнце является </a:t>
            </a:r>
            <a:r>
              <a:rPr b="0" lang="ru-RU" sz="36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источником жизни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для всего земного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6756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Солнце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– это основной источник энергии на земле и первопричина, создавшая большинство других энергетических ресурсов нашей планеты, таких, как запасы каменного угля, нефти, газа, энергии ветра и падающей воды, электрической энергии и т.д. Энергия Солнца, которая в основном выделяется в виде лучистой энергии, так велика, что её трудно даже себе представить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Рисунок 1" descr="Солнечная энергия"/>
          <p:cNvPicPr/>
          <p:nvPr/>
        </p:nvPicPr>
        <p:blipFill>
          <a:blip r:embed="rId3"/>
          <a:stretch/>
        </p:blipFill>
        <p:spPr>
          <a:xfrm>
            <a:off x="1187280" y="1484280"/>
            <a:ext cx="4586400" cy="230508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6966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В Нью-Йорке солнечную энергию используют даже мусорщики. Здесь в двух районах уже полтора года действуют интеллектуальные солнечные контейнеры для мусора - BigBelly. Используя энергию света, преобразованную в электричество кремниевыми фотоэлементами они утрамбовывают слдержимое.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Рисунок 6" descr="Солнечная энергия"/>
          <p:cNvPicPr/>
          <p:nvPr/>
        </p:nvPicPr>
        <p:blipFill>
          <a:blip r:embed="rId1"/>
          <a:stretch/>
        </p:blipFill>
        <p:spPr>
          <a:xfrm>
            <a:off x="1042920" y="2205000"/>
            <a:ext cx="6265800" cy="343368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69818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Источников энергии на Земле существует много, но, судя по </a:t>
            </a:r>
            <a:br>
              <a:rPr sz="1600"/>
            </a:b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тому, как стремительно растут цены на энергоресурсы, их все равно не хватает. Многие специалисты полагают, что уже к 2020 году топлива потребуется в три с половиной раза больше, чем сегодня. Где же брать энергию?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Рисунок 2" descr="Солнечная станция - США"/>
          <p:cNvPicPr/>
          <p:nvPr/>
        </p:nvPicPr>
        <p:blipFill>
          <a:blip r:embed="rId1"/>
          <a:stretch/>
        </p:blipFill>
        <p:spPr>
          <a:xfrm>
            <a:off x="1116000" y="2276640"/>
            <a:ext cx="6120000" cy="33620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00000" y="4221000"/>
            <a:ext cx="646776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Новейшая технология нанесения металлоксидной пленки на стеклянную подложку позволяет создавать крупные тонкопленочные солнечные модули. В Америке только на один проект - строительство в пустыне Негев (Израиль) солнечной электростанции - выделено 100 миллионов доллар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Рисунок 3" descr="Новые солнечные пленки для КОСМОСА"/>
          <p:cNvPicPr/>
          <p:nvPr/>
        </p:nvPicPr>
        <p:blipFill>
          <a:blip r:embed="rId1"/>
          <a:stretch/>
        </p:blipFill>
        <p:spPr>
          <a:xfrm>
            <a:off x="1187280" y="549360"/>
            <a:ext cx="6121440" cy="35272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69660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d47d"/>
                </a:solidFill>
                <a:latin typeface="Arial"/>
              </a:rPr>
              <a:t>Вблизи голландского городка Херхюговарда создан экспериментальный район "Город солнца". Крыши домов здесь покрыты солнечными панелями. Дом на снимке вырабатывает до 25 кВт. Общую мощность "Города солнца" планируется довести до 5 МВт. Такие дома становятся автономными от системы.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Рисунок 4" descr="Солнечный дом - США"/>
          <p:cNvPicPr/>
          <p:nvPr/>
        </p:nvPicPr>
        <p:blipFill>
          <a:blip r:embed="rId1"/>
          <a:stretch/>
        </p:blipFill>
        <p:spPr>
          <a:xfrm>
            <a:off x="755640" y="2276640"/>
            <a:ext cx="6624720" cy="34099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69818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Солнце можно использовать и как источник энергии для транспортных средств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39280" y="4365720"/>
            <a:ext cx="682812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Австралии уже 19 лет проводятся ежегодные гонки на солнечных электромобилях на трассе между городами Дарвин и Аделаида (3000 км). В 1990 году компания Sanyo построила самолет на солнечных батареях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Рисунок 5" descr="Солнечная машина - Австралия"/>
          <p:cNvPicPr/>
          <p:nvPr/>
        </p:nvPicPr>
        <p:blipFill>
          <a:blip r:embed="rId1"/>
          <a:stretch/>
        </p:blipFill>
        <p:spPr>
          <a:xfrm>
            <a:off x="826920" y="1341360"/>
            <a:ext cx="6337440" cy="28796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25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Под солнечной крышей МИРА 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(энергостанции и "солнечные дома")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11280" y="4508280"/>
            <a:ext cx="6756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фокусированный СВЧ-луч может передавать собранную солнечными батареями энергию на Землю, а может снабжать ею космические корабли. В отличие от солнечного света этот СВЧ-луч при «пробое» атмосферы потеряет не более 2% энергии. Недавно задумку воскресил Дэвид Крисвел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Рисунок 7" descr="СВЧ-ЛУЧ"/>
          <p:cNvPicPr/>
          <p:nvPr/>
        </p:nvPicPr>
        <p:blipFill>
          <a:blip r:embed="rId1"/>
          <a:stretch/>
        </p:blipFill>
        <p:spPr>
          <a:xfrm>
            <a:off x="684360" y="1557360"/>
            <a:ext cx="6480000" cy="266364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Под солнечной крышей МИРА 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(энергостанции и "солнечные дома")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4000" y="4941720"/>
            <a:ext cx="66834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Американская солнечная установка NSTTF для тепловых испытаний и экспериментов в области энергетики. Одним из старых способов забора солнечной энергии являетяся СЭС, придуманная Бернардом Дюбо. Он предлагал строить в пустынях обширные стеклянные навесы с высокой трубой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Рисунок 8" descr="Солнечная станция - США"/>
          <p:cNvPicPr/>
          <p:nvPr/>
        </p:nvPicPr>
        <p:blipFill>
          <a:blip r:embed="rId1"/>
          <a:stretch/>
        </p:blipFill>
        <p:spPr>
          <a:xfrm>
            <a:off x="755640" y="1484280"/>
            <a:ext cx="6480360" cy="3168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2:51:31Z</dcterms:created>
  <dc:creator>Матвеев Юра</dc:creator>
  <dc:description/>
  <dc:language>en-US</dc:language>
  <cp:lastModifiedBy>LEGION</cp:lastModifiedBy>
  <dcterms:modified xsi:type="dcterms:W3CDTF">2014-12-30T07:50:47Z</dcterms:modified>
  <cp:revision>10</cp:revision>
  <dc:subject>Использование энергии Солнца на Земле</dc:subject>
  <dc:title>Презентация</dc:title>
</cp:coreProperties>
</file>