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14FA-9B7F-4D91-8308-137D114D8E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twogalaxy.narod.ru/earth.html" TargetMode="External"/><Relationship Id="rId2" Type="http://schemas.openxmlformats.org/officeDocument/2006/relationships/hyperlink" Target="http://twogalaxy.narod.ru/sun.html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СОЛНЦ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веев Юрий, 9 «А»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57A4-55B7-4F56-8D44-58E389D2DD6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циация TransOption, объединяющая государ-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3117-9888-471F-A6C7-2187C169D3E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нце являетс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сточником жиз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всего зем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лнц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сточник энергии на земле и первопричина, создавшая большинство других энергетических ресурсов нашей планеты, таких, как запасы каменного угля, нефти, газа, энергии ветра и падающей воды, электрической энергии и т.д. Энергия Солнца, которая в основном выделяется в виде лучистой энергии, так велика, что её трудно даже себе представ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CE7A-83D7-4D06-A87F-F9F6640D036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ью-Йорке солнечную энергию используют даже мусорщики. Здесь в двух районах уже полтора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лдержимо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F66B-F5DC-4340-AB8A-7AA36772A07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 энергии на Земле существует много, но, судя п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у, как стремительно растут цены на энергоресурсы, их все равно не хватает. Многие специалисты полагают, что уже к 2020 году топлива потребуется в три с половиной раза больше, чем сегодня. Где же брать энергию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6AD7-B8D0-4EAD-8524-D1AC1586D44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ая технология нанесения металлоксидной пленки на стеклянную подложку позволяет создавать крупные тонкопленочные солнечные модули. В Америке только на один проект - строительство в пустыне Негев (Израиль) солнечной электростанции - выделено 100 миллионов долл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1A20-8889-4A67-AB43-1A7BC9F9487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09ED-867F-4B6A-91A5-B05BBBF1D24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лнце можно использовать и как источник энергии для транспортных сред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встралии уже 19 лет проводятся ежегодные гонки на солнечных электромобилях на трассе между городами Дарвин и Аделаида (3000 км). В 1990 году компания Sanyo построила самолет на солнечных батаре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F78F-F6B3-4C8B-9069-C2F23F99C1D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 Недавно задумку воскресил Дэвид Крисве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B72A-DA82-4931-A7FF-94C1892F671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солнечная установка NSTTF для тепловых испытаний и экспериментов в области энергетики. Одним из старых способов забора солнечной энергии являетяся СЭС, придуманная Бернардом Дюбо. Он предлагал строить в пустынях обширные стеклянные навесы с высокой тру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BCAD-FD0D-4C78-AF32-E92B7C0D939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132-6168-4C2D-9F87-8E3CD134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807-44ED-4AAB-A0C8-FCB3B4A5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102-23D5-401B-AE4A-90CED699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4CB-D94F-441D-9567-F060C18E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C1EB-DDA4-4898-904D-57E2196B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1E80-416D-4D00-AB8F-638B2687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8FFA-1711-452C-8723-5A9DFBBC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9761-8F03-4560-A8E9-26E846F2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4907-3426-433B-BEFF-3CD0F060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8707-A814-48A2-B73E-02C130ED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4AD7-4BF2-49F5-BC88-342F2C95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444-228A-4012-8F0E-38B4320B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956E-F18B-414B-B646-BA5A0C9B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EA9F-94DD-43EE-A9CD-7172F10B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8297-F8D0-4F46-B127-04F6FD36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1A4B-FD84-480C-8001-B95C765F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8ADF-EF2B-4C81-BA69-135FB1BD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3B2-A87B-4781-ABE8-8A41DFB1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1B1-F4A6-41AC-9039-6ACA86F3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227-72D2-4D65-B044-7985345C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F69-E1FD-40DF-B653-47CD8C66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E4E-8961-4211-ACE6-A7698DF0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EAF-B5B7-4665-B1EA-1444B598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7F9-B893-4F0A-9431-D64BA444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3024-D649-4E18-9CED-0D36FAC41E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113D-1BAA-4A15-90C2-2FF3E55E693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wogalaxy.narod.ru/earth.html" TargetMode="External"/><Relationship Id="rId2" Type="http://schemas.openxmlformats.org/officeDocument/2006/relationships/hyperlink" Target="http://twogalaxy.narod.ru/sun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160" y="2133360"/>
            <a:ext cx="792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ИСПОЛЬЗОВАНИЕ ЭНЕРГИИ СОЛНЦА НА ЗЕМЛ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124000" y="5876640"/>
            <a:ext cx="56404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атвеев Юрий, 9 «А» 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47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9280" y="4723920"/>
            <a:ext cx="68281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ссоциация TransOption, объединяющая государ-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Рисунок 9" descr="Солнечные гонки"/>
          <p:cNvPicPr/>
          <p:nvPr/>
        </p:nvPicPr>
        <p:blipFill>
          <a:blip r:embed="rId1"/>
          <a:stretch/>
        </p:blipFill>
        <p:spPr>
          <a:xfrm>
            <a:off x="611280" y="1268280"/>
            <a:ext cx="6769080" cy="3240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олнце является </a:t>
            </a:r>
            <a:r>
              <a:rPr b="0" lang="ru-RU" sz="36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источником жизни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для всего земного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6756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Солнце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– это основной источник энергии на земле и первопричина, создавшая большинство других энергетических ресурсов нашей планеты, таких, как запасы каменного угля, нефти, газа, энергии ветра и падающей воды, электрической энергии и т.д. Энергия Солнца, которая в основном выделяется в виде лучистой энергии, так велика, что её трудно даже себе представить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1" descr="Солнечная энергия"/>
          <p:cNvPicPr/>
          <p:nvPr/>
        </p:nvPicPr>
        <p:blipFill>
          <a:blip r:embed="rId3"/>
          <a:stretch/>
        </p:blipFill>
        <p:spPr>
          <a:xfrm>
            <a:off x="1187280" y="1484280"/>
            <a:ext cx="4586400" cy="23050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696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В Нью-Йорке солнечную энергию используют даже мусорщики. Здесь в двух районах уже полтора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лдержимое.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Рисунок 6" descr="Солнечная энергия"/>
          <p:cNvPicPr/>
          <p:nvPr/>
        </p:nvPicPr>
        <p:blipFill>
          <a:blip r:embed="rId1"/>
          <a:stretch/>
        </p:blipFill>
        <p:spPr>
          <a:xfrm>
            <a:off x="1042920" y="2205000"/>
            <a:ext cx="6265800" cy="343368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69818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Источников энергии на Земле существует много, но, судя по </a:t>
            </a:r>
            <a:br>
              <a:rPr sz="1600"/>
            </a:b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тому, как стремительно растут цены на энергоресурсы, их все равно не хватает. Многие специалисты полагают, что уже к 2020 году топлива потребуется в три с половиной раза больше, чем сегодня. Где же брать энергию?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Рисунок 2" descr="Солнечная станция - США"/>
          <p:cNvPicPr/>
          <p:nvPr/>
        </p:nvPicPr>
        <p:blipFill>
          <a:blip r:embed="rId1"/>
          <a:stretch/>
        </p:blipFill>
        <p:spPr>
          <a:xfrm>
            <a:off x="1116000" y="2276640"/>
            <a:ext cx="6120000" cy="3362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00000" y="4221000"/>
            <a:ext cx="646776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овейшая технология нанесения металлоксидной пленки на стеклянную подложку позволяет создавать крупные тонкопленочные солнечные модули. В Америке только на один проект - строительство в пустыне Негев (Израиль) солнечной электростанции - выделено 100 миллионов доллар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Рисунок 3" descr="Новые солнечные пленки для КОСМОСА"/>
          <p:cNvPicPr/>
          <p:nvPr/>
        </p:nvPicPr>
        <p:blipFill>
          <a:blip r:embed="rId1"/>
          <a:stretch/>
        </p:blipFill>
        <p:spPr>
          <a:xfrm>
            <a:off x="1187280" y="549360"/>
            <a:ext cx="6121440" cy="35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6966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Рисунок 4" descr="Солнечный дом - США"/>
          <p:cNvPicPr/>
          <p:nvPr/>
        </p:nvPicPr>
        <p:blipFill>
          <a:blip r:embed="rId1"/>
          <a:stretch/>
        </p:blipFill>
        <p:spPr>
          <a:xfrm>
            <a:off x="755640" y="2276640"/>
            <a:ext cx="6624720" cy="34099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6981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Солнце можно использовать и как источник энергии для транспортных средств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682812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Австралии уже 19 лет проводятся ежегодные гонки на солнечных электромобилях на трассе между городами Дарвин и Аделаида (3000 км). В 1990 году компания Sanyo построила самолет на солнечных батареях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Рисунок 5" descr="Солнечная машина - Австралия"/>
          <p:cNvPicPr/>
          <p:nvPr/>
        </p:nvPicPr>
        <p:blipFill>
          <a:blip r:embed="rId1"/>
          <a:stretch/>
        </p:blipFill>
        <p:spPr>
          <a:xfrm>
            <a:off x="826920" y="1341360"/>
            <a:ext cx="6337440" cy="2879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25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11280" y="4508280"/>
            <a:ext cx="6756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 Недавно задумку воскресил Дэвид Крисвел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Рисунок 7" descr="СВЧ-ЛУЧ"/>
          <p:cNvPicPr/>
          <p:nvPr/>
        </p:nvPicPr>
        <p:blipFill>
          <a:blip r:embed="rId1"/>
          <a:stretch/>
        </p:blipFill>
        <p:spPr>
          <a:xfrm>
            <a:off x="684360" y="1557360"/>
            <a:ext cx="64800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4000" y="4941720"/>
            <a:ext cx="6683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мериканская солнечная установка NSTTF для тепловых испытаний и экспериментов в области энергетики. Одним из старых способов забора солнечной энергии являетяся СЭС, придуманная Бернардом Дюбо. Он предлагал строить в пустынях обширные стеклянные навесы с высокой трубой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8" descr="Солнечная станция - США"/>
          <p:cNvPicPr/>
          <p:nvPr/>
        </p:nvPicPr>
        <p:blipFill>
          <a:blip r:embed="rId1"/>
          <a:stretch/>
        </p:blipFill>
        <p:spPr>
          <a:xfrm>
            <a:off x="755640" y="1484280"/>
            <a:ext cx="6480360" cy="3168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2:51:31Z</dcterms:created>
  <dc:creator>Матвеев Юра</dc:creator>
  <dc:description/>
  <dc:language>en-US</dc:language>
  <cp:lastModifiedBy>LEGION</cp:lastModifiedBy>
  <dcterms:modified xsi:type="dcterms:W3CDTF">2014-12-30T07:50:47Z</dcterms:modified>
  <cp:revision>10</cp:revision>
  <dc:subject>Использование энергии Солнца на Земле</dc:subject>
  <dc:title>Презентация</dc:title>
</cp:coreProperties>
</file>