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0AE5-1F8F-4E42-A08E-9BAEB5A886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СОЛНЦ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веев Юрий, 9 «А»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7E1F-45F1-40B2-9ABF-984152A8DF9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A159-1169-48B3-A9AD-F67E77F396C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це являетс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сточником жиз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всего зем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лнц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64A1-4451-4311-9A33-837ED78A1A3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6382-F035-434F-A0DE-F2649BC7EE6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 энергии на Земле существует много, но, судя п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8785-6338-4BE3-8513-691BF23B0E6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FBCE-98FC-49B8-901F-26B5BF8207E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731A-2C2D-4200-88C6-2677D017747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лнце можно использовать и как источник энергии для транспортных сред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0FF7-CA1D-446D-B96E-B95D1CB56D0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1819-4C9A-4E4E-86DE-E11A41EBCFD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2A74-1CCA-4392-9DFD-742A315DA13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09D-8829-41F4-ABD9-7BE6CC72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775-6749-428B-9E25-628DBCBF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57A-32CD-4448-8D31-04A719BA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AA3-C92F-4978-B5D1-B74BB6BE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AB43-9699-4AED-B527-7C558441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7EAD-B2C2-4C9A-BBAC-C72AD436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1AA5-7E8A-474B-BE50-9554DE8B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A25C-F2F3-41DB-B83B-F98868CE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B632-00A9-42D6-A582-ECFAE5D7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331C-2F4C-4335-943E-613C57D5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003D-EF63-4CEE-ADE2-D52F90B2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E62-1091-49C8-B80D-3D5FF496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D1C9-83D1-476F-B650-C6185DA7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F4C9-879A-4BC2-B328-5C81A07C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F52C-EA99-4BD9-B13D-5369C584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771B-2051-4710-A8D5-56AD83D4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EA2C-A5C3-4884-900B-F6EB1154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383-3EBE-4078-81A9-0EF8A075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E3C-CDAA-45C0-BADC-01A3E625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646-FDFA-4662-9004-6DD8859D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853-41DB-4525-9151-BB42B4EF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15A-A5F0-41E4-A643-1DA65CE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8A7-DC98-4499-8190-1D526876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F01-580E-4C7C-AC79-AC781D59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EBE0-E1AF-4702-BBD0-F47A429D7B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0900-E51E-452C-A4C0-C0EB467A2AA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160" y="2133360"/>
            <a:ext cx="792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ИСПОЛЬЗОВАНИЕ ЭНЕРГИИ СОЛНЦА НА ЗЕМЛ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124000" y="5876640"/>
            <a:ext cx="56404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атвеев Юрий, 9 «А» 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47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9280" y="4723920"/>
            <a:ext cx="68281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Рисунок 9" descr="Солнечные гонки"/>
          <p:cNvPicPr/>
          <p:nvPr/>
        </p:nvPicPr>
        <p:blipFill>
          <a:blip r:embed="rId1"/>
          <a:stretch/>
        </p:blipFill>
        <p:spPr>
          <a:xfrm>
            <a:off x="611280" y="1268280"/>
            <a:ext cx="6769080" cy="3240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олнце является 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источником жизни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для всего земного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6756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Солнц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1" descr="Солнечная энергия"/>
          <p:cNvPicPr/>
          <p:nvPr/>
        </p:nvPicPr>
        <p:blipFill>
          <a:blip r:embed="rId3"/>
          <a:stretch/>
        </p:blipFill>
        <p:spPr>
          <a:xfrm>
            <a:off x="1187280" y="1484280"/>
            <a:ext cx="4586400" cy="23050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696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Рисунок 6" descr="Солнечная энергия"/>
          <p:cNvPicPr/>
          <p:nvPr/>
        </p:nvPicPr>
        <p:blipFill>
          <a:blip r:embed="rId1"/>
          <a:stretch/>
        </p:blipFill>
        <p:spPr>
          <a:xfrm>
            <a:off x="1042920" y="2205000"/>
            <a:ext cx="6265800" cy="343368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69818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Источников энергии на Земле существует много, но, судя по </a:t>
            </a:r>
            <a:br>
              <a:rPr sz="1600"/>
            </a:b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Рисунок 2" descr="Солнечная станция - США"/>
          <p:cNvPicPr/>
          <p:nvPr/>
        </p:nvPicPr>
        <p:blipFill>
          <a:blip r:embed="rId1"/>
          <a:stretch/>
        </p:blipFill>
        <p:spPr>
          <a:xfrm>
            <a:off x="1116000" y="2276640"/>
            <a:ext cx="6120000" cy="3362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00000" y="4221000"/>
            <a:ext cx="646776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Рисунок 3" descr="Новые солнечные пленки для КОСМОСА"/>
          <p:cNvPicPr/>
          <p:nvPr/>
        </p:nvPicPr>
        <p:blipFill>
          <a:blip r:embed="rId1"/>
          <a:stretch/>
        </p:blipFill>
        <p:spPr>
          <a:xfrm>
            <a:off x="1187280" y="549360"/>
            <a:ext cx="6121440" cy="35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6966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Рисунок 4" descr="Солнечный дом - США"/>
          <p:cNvPicPr/>
          <p:nvPr/>
        </p:nvPicPr>
        <p:blipFill>
          <a:blip r:embed="rId1"/>
          <a:stretch/>
        </p:blipFill>
        <p:spPr>
          <a:xfrm>
            <a:off x="755640" y="2276640"/>
            <a:ext cx="6624720" cy="34099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6981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Солнце можно использовать и как источник энергии для транспортных средств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682812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Рисунок 5" descr="Солнечная машина - Австралия"/>
          <p:cNvPicPr/>
          <p:nvPr/>
        </p:nvPicPr>
        <p:blipFill>
          <a:blip r:embed="rId1"/>
          <a:stretch/>
        </p:blipFill>
        <p:spPr>
          <a:xfrm>
            <a:off x="826920" y="1341360"/>
            <a:ext cx="6337440" cy="2879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25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11280" y="4508280"/>
            <a:ext cx="675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Рисунок 7" descr="СВЧ-ЛУЧ"/>
          <p:cNvPicPr/>
          <p:nvPr/>
        </p:nvPicPr>
        <p:blipFill>
          <a:blip r:embed="rId1"/>
          <a:stretch/>
        </p:blipFill>
        <p:spPr>
          <a:xfrm>
            <a:off x="684360" y="1557360"/>
            <a:ext cx="64800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4000" y="4941720"/>
            <a:ext cx="6683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8" descr="Солнечная станция - США"/>
          <p:cNvPicPr/>
          <p:nvPr/>
        </p:nvPicPr>
        <p:blipFill>
          <a:blip r:embed="rId1"/>
          <a:stretch/>
        </p:blipFill>
        <p:spPr>
          <a:xfrm>
            <a:off x="755640" y="1484280"/>
            <a:ext cx="6480360" cy="3168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2:51:31Z</dcterms:created>
  <dc:creator>Матвеев Юра</dc:creator>
  <dc:description/>
  <dc:language>en-US</dc:language>
  <cp:lastModifiedBy>LEGION</cp:lastModifiedBy>
  <dcterms:modified xsi:type="dcterms:W3CDTF">2014-12-30T07:50:47Z</dcterms:modified>
  <cp:revision>10</cp:revision>
  <dc:subject>Использование энергии Солнца на Земле</dc:subject>
  <dc:title>Презентация</dc:title>
</cp:coreProperties>
</file>