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27F2-7CC3-4548-B9C9-7BFCDFE06F0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стория развития металлу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Ученица 9 «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Ревина Ма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9CC4-59C2-4811-9B84-33DFC852DF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Человек научился получать железо с незапамятных времен. Применение метеоритного железа - первый шаг по пути отказа от бронзы. С этого начался переход от бронзового века к железному. Археологические раскопки древних поселений в центральной части России, на Урале, Украине, в Белоруссии, Закавказье и в ряде других районов показывают, что люди уже 2,5 - 3 тысячелетия тому назад умели получать железо из руд и изготовлять из него оружие и орудия труд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7FF1-ABC3-483C-82D8-459285257A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Появление в середине XIV в. доменных печей дало возможность  значительного увеличения выпуска металла. Демидовская металлургия знала кричное железо, домны, литейный чугун, прокатное производство. В конце XVIII в. англичане вырвались вперед: появилась тигельная плавка стали. Новая технология предусматривала ведение процесса под битым бутылочным стеклом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Нужно было найти замену древесному углю: развитие металлургии привело в свое время к тому, что в Англии и Ирландии леса были практически уничтожены.Там предпринимались попытки выплавлять доменный чугун сперва на каменном угле, которым богата Англия, а потом и на каменноугольном коксе. В конечном счете двести лет тому назад была создана коксовая доменная металлургия. Появление доменной печи и бессемеровского конвертера, которым ознаменовалась новая эра в черной металлургии привело к началу нового периода - "грязной" ста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1B98-FDBF-4DF9-97AB-DD0EACBB9D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В XVI - XVII вв. в России создаются первые металлургические заводы. Они строятся вблизи городов - Тулы, Каширы, Серпухова, в Новгородском крае и т.д.. К концу XVII в. их суммарная производительность достигает 150 тыс. пудов. В начале XVIII в. Российская металлургия развивается еще более быстрыми темпами. При Петре I Урал становится ведущим горнометаллургическим районом России. На Урале возникли крупные металлургические заводы - Каменский, Уктусский, Алапаевский и др.Продолжается строительство предприятий в центральной части страны. Эти заводы впоследствии сыграли большую роль в материальном обеспечении русской армии и флота. Только один Каменский завод с 1702 по 1709 г. выпустил 854 артиллерийских орудия и свыше 27 тыс. пудов снарядов к ним.</a:t>
            </a:r>
            <a:br>
              <a:rPr sz="1200"/>
            </a:b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Усилия металлургов петровской эпохи не пропали даром. Выплавка чугуна и производство железа росли в первой четверти XVIII в. стремительными темпами. По данным академика С.Г. Струмилина, металлургическая промышленность России произвела в 1725 г.19 тыс.т. Производительность английских заводов не превышало в это время 17 тыс.т. Таким образом, за четверть века производство металлов в России увеличилось почти в восемь раз. В области металлургии наша страна вышла в то время на первое место в мире, оставив позади себя Англию, Францию, Германию и др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0C7B-1BD2-4507-8FD5-511C04FB47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1379"/>
                </a:solidFill>
                <a:latin typeface="Calibri"/>
              </a:rPr>
              <a:t>Металлургическая отрасль - вклад в экономику Росси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Стоимостной объем экспорта продукции черной металлургии в 2008 году по сравнению с 2007 годом увеличился на 20% и составил по оценке около 40 млрд. долларов. В структуре экспорта продукции чёрной металлургии основную долю составляют сортовой и листовой прокат (36%) и продукция низкого передела (31%). Основными направлениями экспорта готового проката чёрных металлов являются: Китай (12,2%), США (10,6%), Италия (10,5%), Турция (7%) и Иран (6,3%). Расширению российских экспортных поставок способствует продолжение консолидации металлургических активов. Приобретая предприятия за рубежом (страны Восточной Европы, СНГ и дальнее зарубежье) российские компании расширяют возможности выхода на зарубежные рынки, прежде всего на европейский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3ADC-1626-4D1D-A237-C6E8D208DD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Тенденции развития российской металлур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6ffff"/>
                </a:solidFill>
                <a:latin typeface="Calibri"/>
              </a:rPr>
              <a:t>Это:</a:t>
            </a:r>
            <a:br>
              <a:rPr sz="1100"/>
            </a:br>
            <a:br>
              <a:rPr sz="1100"/>
            </a:br>
            <a:r>
              <a:rPr b="0" lang="ru-RU" sz="1200" spc="-1" strike="noStrike">
                <a:solidFill>
                  <a:srgbClr val="16ce39"/>
                </a:solidFill>
                <a:latin typeface="Calibri"/>
              </a:rPr>
              <a:t>рост товарной продукции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рост инвестиций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261379"/>
                </a:solidFill>
                <a:latin typeface="Calibri"/>
              </a:rPr>
              <a:t>рост экспорта металлопродукции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сохранение достаточно высокого уровня рентабельности производства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66cc"/>
                </a:solidFill>
                <a:latin typeface="Calibri"/>
              </a:rPr>
              <a:t>стабильный рост средней заработной платы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глобализация компани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EB2C-2C09-4D97-9941-2CFFF2914B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9D8F-8E3B-4218-B18F-26B44C3B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4120-3B6E-4353-A746-A9B0BD6C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9AA9-4071-4A96-BE3C-28A671B3E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86DF-F0A4-457D-906E-C8113E3D5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4DDC-61C7-417A-8243-B3AF5B8A7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9060-C5EC-491F-A17E-F40406C7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62FE-C93A-4506-B14F-DF75B193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42E6-BEE2-4CAA-A3E9-F08B3FF3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CEEF-6EE8-4C56-A383-1ED2D923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5E19-0EC1-4EBE-86CD-3BCDB24F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992E-C7B3-4D77-8D97-983B6D98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F532-D10C-4EA9-9E18-068C46F7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2B5E-E0E6-422F-868C-C9046CF8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24D1-2119-40E7-9280-DC9CC77B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D247-CE06-4FCA-9C92-43832183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FDD6-1614-458B-B3C8-7C165A738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ABED-B9FC-434E-B748-C7DEFDDA6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4E88-4839-4AB9-BB97-F1DFE766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5787-06CA-46C3-BB4B-DE5E0AE9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B701-0244-4B54-BFBC-C9833E7D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FFA4-A209-43FD-8531-451357A5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FFC4-0986-4380-B40C-AF036DCB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8E23-6D6C-4CBC-8FCD-6AECAD91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986C-AF10-4AC9-B532-0AE69B24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0CB3-2A64-4FCC-AF77-231D4FD7B48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4AF1-BD85-4108-ADC9-81C05ED4674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ff66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4005c"/>
                </a:solidFill>
                <a:latin typeface="Arial"/>
              </a:rPr>
              <a:t>История развития металлургии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8728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Подготови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Ученица 9 «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Ревина Ма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-360"/>
            <a:ext cx="6400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Человек научился получать железо с незапамятных времен. Применение метеоритного железа - первый шаг по пути отказа от бронзы. С этого начался переход от бронзового века к железному. Археологические раскопки древних поселений в центральной части России, на Урале, Украине, в Белоруссии, Закавказье и в ряде других районов показывают, что люди уже 2,5 - 3 тысячелетия тому назад умели получать железо из руд и изготовлять из него оружие и орудия труда.</a:t>
            </a:r>
            <a:br>
              <a:rPr sz="2800"/>
            </a:b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WTEJVCCAPOLIMVCAWYRT4PCAPPN0XJCABK9I93CATOWEGECA71E1MRCAN038H3CAWO6FM7CA6Y4RP6CACAW2N1CAHGD7IOCAJ2SOMOCASSM7OVCADK5J3PCA2UQ3AFCAZ3EKCGCAAVD26GCACZDGTMCAVSUILI"/>
          <p:cNvPicPr/>
          <p:nvPr/>
        </p:nvPicPr>
        <p:blipFill>
          <a:blip r:embed="rId1"/>
          <a:stretch/>
        </p:blipFill>
        <p:spPr>
          <a:xfrm>
            <a:off x="0" y="5157720"/>
            <a:ext cx="2124000" cy="1700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аааа"/>
          <p:cNvPicPr/>
          <p:nvPr/>
        </p:nvPicPr>
        <p:blipFill>
          <a:blip r:embed="rId2"/>
          <a:stretch/>
        </p:blipFill>
        <p:spPr>
          <a:xfrm>
            <a:off x="0" y="3357720"/>
            <a:ext cx="2124000" cy="1800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ещё"/>
          <p:cNvPicPr/>
          <p:nvPr/>
        </p:nvPicPr>
        <p:blipFill>
          <a:blip r:embed="rId3"/>
          <a:stretch/>
        </p:blipFill>
        <p:spPr>
          <a:xfrm>
            <a:off x="0" y="1700280"/>
            <a:ext cx="2124000" cy="1657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какашка"/>
          <p:cNvPicPr/>
          <p:nvPr/>
        </p:nvPicPr>
        <p:blipFill>
          <a:blip r:embed="rId4"/>
          <a:stretch/>
        </p:blipFill>
        <p:spPr>
          <a:xfrm>
            <a:off x="0" y="0"/>
            <a:ext cx="2124000" cy="17002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340000" y="0"/>
            <a:ext cx="680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Появление в середине XIV в. доменных печей дало возможность  значительного увеличения выпуска металла. Демидовская металлургия знала кричное железо, домны, литейный чугун, прокатное производство. В конце XVIII в. англичане вырвались вперед: появилась тигельная плавка стали. Новая технология предусматривала ведение процесса под битым бутылочным стеклом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Нужно было найти замену древесному углю: развитие металлургии привело в свое время к тому, что в Англии и Ирландии леса были практически уничтожены.Там предпринимались попытки выплавлять доменный чугун сперва на каменном угле, которым богата Англия, а потом и на каменноугольном коксе. В конечном счете двести лет тому назад была создана коксовая доменная металлургия. Появление доменной печи и бессемеровского конвертера, которым ознаменовалась новая эра в черной металлургии привело к началу нового периода - "грязной" ста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WTEJVCCAPOLIMVCAWYRT4PCAPPN0XJCABK9I93CATOWEGECA71E1MRCAN038H3CAWO6FM7CA6Y4RP6CACAW2N1CAHGD7IOCAJ2SOMOCASSM7OVCADK5J3PCA2UQ3AFCAZ3EKCGCAAVD26GCACZDGTMCAVSUILI"/>
          <p:cNvPicPr/>
          <p:nvPr/>
        </p:nvPicPr>
        <p:blipFill>
          <a:blip r:embed="rId1"/>
          <a:stretch/>
        </p:blipFill>
        <p:spPr>
          <a:xfrm>
            <a:off x="0" y="5157720"/>
            <a:ext cx="2124000" cy="1700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аааа"/>
          <p:cNvPicPr/>
          <p:nvPr/>
        </p:nvPicPr>
        <p:blipFill>
          <a:blip r:embed="rId2"/>
          <a:stretch/>
        </p:blipFill>
        <p:spPr>
          <a:xfrm>
            <a:off x="0" y="3357720"/>
            <a:ext cx="2124000" cy="1800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ещё"/>
          <p:cNvPicPr/>
          <p:nvPr/>
        </p:nvPicPr>
        <p:blipFill>
          <a:blip r:embed="rId3"/>
          <a:stretch/>
        </p:blipFill>
        <p:spPr>
          <a:xfrm>
            <a:off x="0" y="1700280"/>
            <a:ext cx="2124000" cy="1657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какашка"/>
          <p:cNvPicPr/>
          <p:nvPr/>
        </p:nvPicPr>
        <p:blipFill>
          <a:blip r:embed="rId4"/>
          <a:stretch/>
        </p:blipFill>
        <p:spPr>
          <a:xfrm>
            <a:off x="0" y="0"/>
            <a:ext cx="2124000" cy="17002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-4483800"/>
            <a:ext cx="7632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259920"/>
            <a:ext cx="6400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В XVI - XVII вв. в России создаются первые металлургические заводы. Они строятся вблизи городов - Тулы, Каширы, Серпухова, в Новгородском крае и т.д.. К концу XVII в. их суммарная производительность достигает 150 тыс. пудов. В начале XVIII в. Российская металлургия развивается еще более быстрыми темпами. При Петре I Урал становится ведущим горнометаллургическим районом России. На Урале возникли крупные металлургические заводы - Каменский, Уктусский, Алапаевский и др.Продолжается строительство предприятий в центральной части страны. Эти заводы впоследствии сыграли большую роль в материальном обеспечении русской армии и флота. Только один Каменский завод с 1702 по 1709 г. выпустил 854 артиллерийских орудия и свыше 27 тыс. пудов снарядов к ним.</a:t>
            </a:r>
            <a:br>
              <a:rPr sz="1800"/>
            </a:b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Усилия металлургов петровской эпохи не пропали даром. Выплавка чугуна и производство железа росли в первой четверти XVIII в. стремительными темпами. По данным академика С.Г. Струмилина, металлургическая промышленность России произвела в 1725 г.19 тыс.т. Производительность английских заводов не превышало в это время 17 тыс.т. Таким образом, за четверть века производство металлов в России увеличилось почти в восемь раз. В области металлургии наша страна вышла в то время на первое место в мире, оставив позади себя Англию, Францию, Германию и др.</a:t>
            </a:r>
            <a:br>
              <a:rPr sz="1800"/>
            </a:b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WTEJVCCAPOLIMVCAWYRT4PCAPPN0XJCABK9I93CATOWEGECA71E1MRCAN038H3CAWO6FM7CA6Y4RP6CACAW2N1CAHGD7IOCAJ2SOMOCASSM7OVCADK5J3PCA2UQ3AFCAZ3EKCGCAAVD26GCACZDGTMCAVSUILI"/>
          <p:cNvPicPr/>
          <p:nvPr/>
        </p:nvPicPr>
        <p:blipFill>
          <a:blip r:embed="rId1"/>
          <a:stretch/>
        </p:blipFill>
        <p:spPr>
          <a:xfrm>
            <a:off x="0" y="5157720"/>
            <a:ext cx="2124000" cy="1700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аааа"/>
          <p:cNvPicPr/>
          <p:nvPr/>
        </p:nvPicPr>
        <p:blipFill>
          <a:blip r:embed="rId2"/>
          <a:stretch/>
        </p:blipFill>
        <p:spPr>
          <a:xfrm>
            <a:off x="0" y="3357720"/>
            <a:ext cx="2124000" cy="1800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ещё"/>
          <p:cNvPicPr/>
          <p:nvPr/>
        </p:nvPicPr>
        <p:blipFill>
          <a:blip r:embed="rId3"/>
          <a:stretch/>
        </p:blipFill>
        <p:spPr>
          <a:xfrm>
            <a:off x="0" y="1700280"/>
            <a:ext cx="2124000" cy="1657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какашка"/>
          <p:cNvPicPr/>
          <p:nvPr/>
        </p:nvPicPr>
        <p:blipFill>
          <a:blip r:embed="rId4"/>
          <a:stretch/>
        </p:blipFill>
        <p:spPr>
          <a:xfrm>
            <a:off x="0" y="0"/>
            <a:ext cx="2124000" cy="17002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1379"/>
                </a:solidFill>
                <a:latin typeface="Arial"/>
              </a:rPr>
              <a:t>Металлургическая отрасль - вклад в экономику России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38280" y="1197000"/>
            <a:ext cx="6400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Стоимостной объем экспорта продукции черной металлургии в 2008 году по сравнению с 2007 годом увеличился на 20% и составил по оценке около 40 млрд. долларов. В структуре экспорта продукции чёрной металлургии основную долю составляют сортовой и листовой прокат (36%) и продукция низкого передела (31%). Основными направлениями экспорта готового проката чёрных металлов являются: Китай (12,2%), США (10,6%), Италия (10,5%), Турция (7%) и Иран (6,3%). Расширению российских экспортных поставок способствует продолжение консолидации металлургических активов. Приобретая предприятия за рубежом (страны Восточной Европы, СНГ и дальнее зарубежье) российские компании расширяют возможности выхода на зарубежные рынки, прежде всего на европейский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WTEJVCCAPOLIMVCAWYRT4PCAPPN0XJCABK9I93CATOWEGECA71E1MRCAN038H3CAWO6FM7CA6Y4RP6CACAW2N1CAHGD7IOCAJ2SOMOCASSM7OVCADK5J3PCA2UQ3AFCAZ3EKCGCAAVD26GCACZDGTMCAVSUILI"/>
          <p:cNvPicPr/>
          <p:nvPr/>
        </p:nvPicPr>
        <p:blipFill>
          <a:blip r:embed="rId1"/>
          <a:stretch/>
        </p:blipFill>
        <p:spPr>
          <a:xfrm>
            <a:off x="0" y="5157720"/>
            <a:ext cx="2124000" cy="1700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аааа"/>
          <p:cNvPicPr/>
          <p:nvPr/>
        </p:nvPicPr>
        <p:blipFill>
          <a:blip r:embed="rId2"/>
          <a:stretch/>
        </p:blipFill>
        <p:spPr>
          <a:xfrm>
            <a:off x="0" y="3357720"/>
            <a:ext cx="2124000" cy="180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ещё"/>
          <p:cNvPicPr/>
          <p:nvPr/>
        </p:nvPicPr>
        <p:blipFill>
          <a:blip r:embed="rId3"/>
          <a:stretch/>
        </p:blipFill>
        <p:spPr>
          <a:xfrm>
            <a:off x="0" y="1700280"/>
            <a:ext cx="2124000" cy="1657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какашка"/>
          <p:cNvPicPr/>
          <p:nvPr/>
        </p:nvPicPr>
        <p:blipFill>
          <a:blip r:embed="rId4"/>
          <a:stretch/>
        </p:blipFill>
        <p:spPr>
          <a:xfrm>
            <a:off x="0" y="0"/>
            <a:ext cx="2124000" cy="17002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Тенденции развития российской металлургии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412640"/>
            <a:ext cx="64008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Arial"/>
              </a:rPr>
              <a:t>Это:</a:t>
            </a:r>
            <a:br>
              <a:rPr sz="2400"/>
            </a:br>
            <a:br>
              <a:rPr sz="2400"/>
            </a:br>
            <a:r>
              <a:rPr b="0" lang="ru-RU" sz="2800" spc="-1" strike="noStrike">
                <a:solidFill>
                  <a:srgbClr val="16ce39"/>
                </a:solidFill>
                <a:latin typeface="Arial"/>
              </a:rPr>
              <a:t>рост товарной продукции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ост инвестиций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261379"/>
                </a:solidFill>
                <a:latin typeface="Arial"/>
              </a:rPr>
              <a:t>рост экспорта металлопродукции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сохранение достаточно высокого уровня рентабельности производства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66cc"/>
                </a:solidFill>
                <a:latin typeface="Arial"/>
              </a:rPr>
              <a:t>стабильный рост средней заработной платы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e4005c"/>
                </a:solidFill>
                <a:latin typeface="Arial"/>
              </a:rPr>
              <a:t>глобализация компаний.</a:t>
            </a:r>
            <a:br>
              <a:rPr sz="2800"/>
            </a:br>
            <a:r>
              <a:rPr b="0" lang="ru-RU" sz="2800" spc="-1" strike="noStrike">
                <a:solidFill>
                  <a:srgbClr val="e4005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WTEJVCCAPOLIMVCAWYRT4PCAPPN0XJCABK9I93CATOWEGECA71E1MRCAN038H3CAWO6FM7CA6Y4RP6CACAW2N1CAHGD7IOCAJ2SOMOCASSM7OVCADK5J3PCA2UQ3AFCAZ3EKCGCAAVD26GCACZDGTMCAVSUILI"/>
          <p:cNvPicPr/>
          <p:nvPr/>
        </p:nvPicPr>
        <p:blipFill>
          <a:blip r:embed="rId1"/>
          <a:stretch/>
        </p:blipFill>
        <p:spPr>
          <a:xfrm>
            <a:off x="0" y="5157720"/>
            <a:ext cx="2124000" cy="1700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аааа"/>
          <p:cNvPicPr/>
          <p:nvPr/>
        </p:nvPicPr>
        <p:blipFill>
          <a:blip r:embed="rId2"/>
          <a:stretch/>
        </p:blipFill>
        <p:spPr>
          <a:xfrm>
            <a:off x="0" y="3357720"/>
            <a:ext cx="2124000" cy="1800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ещё"/>
          <p:cNvPicPr/>
          <p:nvPr/>
        </p:nvPicPr>
        <p:blipFill>
          <a:blip r:embed="rId3"/>
          <a:stretch/>
        </p:blipFill>
        <p:spPr>
          <a:xfrm>
            <a:off x="0" y="1700280"/>
            <a:ext cx="2124000" cy="1657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какашка"/>
          <p:cNvPicPr/>
          <p:nvPr/>
        </p:nvPicPr>
        <p:blipFill>
          <a:blip r:embed="rId4"/>
          <a:stretch/>
        </p:blipFill>
        <p:spPr>
          <a:xfrm>
            <a:off x="0" y="0"/>
            <a:ext cx="2124000" cy="17002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8:25:48Z</dcterms:created>
  <dc:creator>Дети</dc:creator>
  <dc:description/>
  <dc:language>en-US</dc:language>
  <cp:lastModifiedBy>LEGION</cp:lastModifiedBy>
  <dcterms:modified xsi:type="dcterms:W3CDTF">2014-12-30T08:22:14Z</dcterms:modified>
  <cp:revision>6</cp:revision>
  <dc:subject/>
  <dc:title>История развития металлургии</dc:title>
</cp:coreProperties>
</file>