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283D-EE1E-4008-B1FD-F3B7D9BA369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стория развития металл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Ученица 9 «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Ревина М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7299-53EB-4BDD-B316-A1B8D1398D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Человек научился получать железо с незапамятных времен. Применение метеоритного железа - первый шаг по пути отказа от бронзы. С этого начался переход от бронзового века к железному. Археологические раскопки древних поселений в центральной части России, на Урале, Украине, в Белоруссии, Закавказье и в ряде других районов показывают, что люди уже 2,5 - 3 тысячелетия тому назад умели получать железо из руд и изготовлять из него оружие и орудия труд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C871-7621-4669-B942-5B7895C41A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явление в середине XIV в. доменных печей дало возможность  значительного увеличения выпуска металла. Демидовская металлургия знала кричное железо, домны, литейный чугун, прокатное производство. В конце XVIII в. англичане вырвались вперед: появилась тигельная плавка стали. Новая технология предусматривала ведение процесса под битым бутылочным стеклом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Нужно было найти замену древесному углю: развитие металлургии привело в свое время к тому, что в Англии и Ирландии леса были практически уничтожены.Там предпринимались попытки выплавлять доменный чугун сперва на каменном угле, которым богата Англия, а потом и на каменноугольном коксе. В конечном счете двести лет тому назад была создана коксовая доменная металлургия. Появление доменной печи и бессемеровского конвертера, которым ознаменовалась новая эра в черной металлургии привело к началу нового периода - "грязной" ста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DEC2-2FBD-4DCC-A474-6B3B22DB85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В XVI - XVII вв. в России создаются первые металлургические заводы. Они строятся вблизи городов - Тулы, Каширы, Серпухова, в Новгородском крае и т.д.. К концу XVII в. их суммарная производительность достигает 150 тыс. пудов. В начале XVIII в. Российская металлургия развивается еще более быстрыми темпами. При Петре I Урал становится ведущим горнометаллургическим районом России. На Урале возникли крупные металлургические заводы - Каменский, Уктусский, Алапаевский и др.Продолжается строительство предприятий в центральной части страны. Эти заводы впоследствии сыграли большую роль в материальном обеспечении русской армии и флота. Только один Каменский завод с 1702 по 1709 г. выпустил 854 артиллерийских орудия и свыше 27 тыс. пудов снарядов к ним.</a:t>
            </a:r>
            <a:br>
              <a:rPr sz="1200"/>
            </a:b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Усилия металлургов петровской эпохи не пропали даром. Выплавка чугуна и производство железа росли в первой четверти XVIII в. стремительными темпами. По данным академика С.Г. Струмилина, металлургическая промышленность России произвела в 1725 г.19 тыс.т. Производительность английских заводов не превышало в это время 17 тыс.т. Таким образом, за четверть века производство металлов в России увеличилось почти в восемь раз. В области металлургии наша страна вышла в то время на первое место в мире, оставив позади себя Англию, Францию, Германию и др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20FE-19AA-46B8-BE50-683B41B386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1379"/>
                </a:solidFill>
                <a:latin typeface="Calibri"/>
              </a:rPr>
              <a:t>Металлургическая отрасль - вклад в экономику Росси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Стоимостной объем экспорта продукции черной металлургии в 2008 году по сравнению с 2007 годом увеличился на 20% и составил по оценке около 40 млрд. долларов. В структуре экспорта продукции чёрной металлургии основную долю составляют сортовой и листовой прокат (36%) и продукция низкого передела (31%). Основными направлениями экспорта готового проката чёрных металлов являются: Китай (12,2%), США (10,6%), Италия (10,5%), Турция (7%) и Иран (6,3%). Расширению российских экспортных поставок способствует продолжение консолидации металлургических активов. Приобретая предприятия за рубежом (страны Восточной Европы, СНГ и дальнее зарубежье) российские компании расширяют возможности выхода на зарубежные рынки, прежде всего на европейский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C267-C708-4DC9-B788-F74753D9DA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Тенденции развития российской металлур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ffff"/>
                </a:solidFill>
                <a:latin typeface="Calibri"/>
              </a:rPr>
              <a:t>Это:</a:t>
            </a:r>
            <a:br>
              <a:rPr sz="1100"/>
            </a:br>
            <a:br>
              <a:rPr sz="1100"/>
            </a:br>
            <a:r>
              <a:rPr b="0" lang="ru-RU" sz="1200" spc="-1" strike="noStrike">
                <a:solidFill>
                  <a:srgbClr val="16ce39"/>
                </a:solidFill>
                <a:latin typeface="Calibri"/>
              </a:rPr>
              <a:t>рост товарной продукции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рост инвестиций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261379"/>
                </a:solidFill>
                <a:latin typeface="Calibri"/>
              </a:rPr>
              <a:t>рост экспорта металлопродукции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сохранение достаточно высокого уровня рентабельности производства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66cc"/>
                </a:solidFill>
                <a:latin typeface="Calibri"/>
              </a:rPr>
              <a:t>стабильный рост средней заработной платы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лобализация компа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0E2E-6FF5-454C-988E-0B7D5E034F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005B-AB0B-4AFF-A96A-A8EC822D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340-7487-498E-BB57-874F1F06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05B-CEBA-44E9-8DD2-3F8D9B51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D9C2-2198-4306-BFC5-1FB3CD9D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F4A8-8D9B-49DA-81FD-E1E8FABE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F80D-FA54-4D52-96CD-FB51C1A7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5224-4DFC-41A4-8568-CFB711A6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FD5C-AE1C-48D8-9256-6FC5C641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3F43-D7C6-40BD-AAD4-DD42BBCE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4B48-8AF4-456E-A9F7-9B7CF2F1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0F62-DCEE-4F5A-86EF-F4B9B172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35B-34EF-4A0E-B933-45B5E8D1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05FB-12B0-441D-80F8-183DBA70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492E-29D7-42C7-A42A-95220A36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096F-0EAE-4BAD-BB2B-8851DFCF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584C-CE26-434A-AE5D-A227EF8C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F25E-3569-4D68-BE49-B92457B0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75F6-6436-4A0C-96DE-A83DD2F9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7FA6-3DA0-4611-AA33-E0B0EE6F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E78-AF5B-4021-88EB-BD2F4905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BF84-4AE4-4834-BD63-F402D099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36E-5999-4941-9A10-80E19280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F3F-0BAA-41BF-8A56-D93761F9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51F2-5E3D-4DB8-A1D9-946A9AC7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5106-A98E-4F07-9838-3836F91574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81A6-21CC-4553-B9D2-039A4389625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66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4005c"/>
                </a:solidFill>
                <a:latin typeface="Arial"/>
              </a:rPr>
              <a:t>История развития металлургии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728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Подготови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Ученица 9 «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Ревина М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-360"/>
            <a:ext cx="6400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Человек научился получать железо с незапамятных времен. Применение метеоритного железа - первый шаг по пути отказа от бронзы. С этого начался переход от бронзового века к железному. Археологические раскопки древних поселений в центральной части России, на Урале, Украине, в Белоруссии, Закавказье и в ряде других районов показывают, что люди уже 2,5 - 3 тысячелетия тому назад умели получать железо из руд и изготовлять из него оружие и орудия труда.</a:t>
            </a:r>
            <a:br>
              <a:rPr sz="2800"/>
            </a:b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40000" y="0"/>
            <a:ext cx="680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Появление в середине XIV в. доменных печей дало возможность  значительного увеличения выпуска металла. Демидовская металлургия знала кричное железо, домны, литейный чугун, прокатное производство. В конце XVIII в. англичане вырвались вперед: появилась тигельная плавка стали. Новая технология предусматривала ведение процесса под битым бутылочным стекло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Нужно было найти замену древесному углю: развитие металлургии привело в свое время к тому, что в Англии и Ирландии леса были практически уничтожены.Там предпринимались попытки выплавлять доменный чугун сперва на каменном угле, которым богата Англия, а потом и на каменноугольном коксе. В конечном счете двести лет тому назад была создана коксовая доменная металлургия. Появление доменной печи и бессемеровского конвертера, которым ознаменовалась новая эра в черной металлургии привело к началу нового периода - "грязной" ста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-4483800"/>
            <a:ext cx="7632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259920"/>
            <a:ext cx="6400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В XVI - XVII вв. в России создаются первые металлургические заводы. Они строятся вблизи городов - Тулы, Каширы, Серпухова, в Новгородском крае и т.д.. К концу XVII в. их суммарная производительность достигает 150 тыс. пудов. В начале XVIII в. Российская металлургия развивается еще более быстрыми темпами. При Петре I Урал становится ведущим горнометаллургическим районом России. На Урале возникли крупные металлургические заводы - Каменский, Уктусский, Алапаевский и др.Продолжается строительство предприятий в центральной части страны. Эти заводы впоследствии сыграли большую роль в материальном обеспечении русской армии и флота. Только один Каменский завод с 1702 по 1709 г. выпустил 854 артиллерийских орудия и свыше 27 тыс. пудов снарядов к ним.</a:t>
            </a:r>
            <a:br>
              <a:rPr sz="1800"/>
            </a:b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Усилия металлургов петровской эпохи не пропали даром. Выплавка чугуна и производство железа росли в первой четверти XVIII в. стремительными темпами. По данным академика С.Г. Струмилина, металлургическая промышленность России произвела в 1725 г.19 тыс.т. Производительность английских заводов не превышало в это время 17 тыс.т. Таким образом, за четверть века производство металлов в России увеличилось почти в восемь раз. В области металлургии наша страна вышла в то время на первое место в мире, оставив позади себя Англию, Францию, Германию и др.</a:t>
            </a:r>
            <a:br>
              <a:rPr sz="1800"/>
            </a:b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1379"/>
                </a:solidFill>
                <a:latin typeface="Arial"/>
              </a:rPr>
              <a:t>Металлургическая отрасль - вклад в экономику России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197000"/>
            <a:ext cx="6400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Стоимостной объем экспорта продукции черной металлургии в 2008 году по сравнению с 2007 годом увеличился на 20% и составил по оценке около 40 млрд. долларов. В структуре экспорта продукции чёрной металлургии основную долю составляют сортовой и листовой прокат (36%) и продукция низкого передела (31%). Основными направлениями экспорта готового проката чёрных металлов являются: Китай (12,2%), США (10,6%), Италия (10,5%), Турция (7%) и Иран (6,3%). Расширению российских экспортных поставок способствует продолжение консолидации металлургических активов. Приобретая предприятия за рубежом (страны Восточной Европы, СНГ и дальнее зарубежье) российские компании расширяют возможности выхода на зарубежные рынки, прежде всего на европейски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Тенденции развития российской металлургии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412640"/>
            <a:ext cx="6400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Arial"/>
              </a:rPr>
              <a:t>Это:</a:t>
            </a: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16ce39"/>
                </a:solidFill>
                <a:latin typeface="Arial"/>
              </a:rPr>
              <a:t>рост товарной продукции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ост инвестиций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261379"/>
                </a:solidFill>
                <a:latin typeface="Arial"/>
              </a:rPr>
              <a:t>рост экспорта металлопродукции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сохранение достаточно высокого уровня рентабельности производства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66cc"/>
                </a:solidFill>
                <a:latin typeface="Arial"/>
              </a:rPr>
              <a:t>стабильный рост средней заработной платы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e4005c"/>
                </a:solidFill>
                <a:latin typeface="Arial"/>
              </a:rPr>
              <a:t>глобализация компаний.</a:t>
            </a:r>
            <a:br>
              <a:rPr sz="2800"/>
            </a:br>
            <a:r>
              <a:rPr b="0" lang="ru-RU" sz="2800" spc="-1" strike="noStrike">
                <a:solidFill>
                  <a:srgbClr val="e4005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WTEJVCCAPOLIMVCAWYRT4PCAPPN0XJCABK9I93CATOWEGECA71E1MRCAN038H3CAWO6FM7CA6Y4RP6CACAW2N1CAHGD7IOCAJ2SOMOCASSM7OVCADK5J3PCA2UQ3AFCAZ3EKCGCAAVD26GCACZDGTMCAVSUILI"/>
          <p:cNvPicPr/>
          <p:nvPr/>
        </p:nvPicPr>
        <p:blipFill>
          <a:blip r:embed="rId1"/>
          <a:stretch/>
        </p:blipFill>
        <p:spPr>
          <a:xfrm>
            <a:off x="0" y="5157720"/>
            <a:ext cx="2124000" cy="1700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аааа"/>
          <p:cNvPicPr/>
          <p:nvPr/>
        </p:nvPicPr>
        <p:blipFill>
          <a:blip r:embed="rId2"/>
          <a:stretch/>
        </p:blipFill>
        <p:spPr>
          <a:xfrm>
            <a:off x="0" y="3357720"/>
            <a:ext cx="2124000" cy="1800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ещё"/>
          <p:cNvPicPr/>
          <p:nvPr/>
        </p:nvPicPr>
        <p:blipFill>
          <a:blip r:embed="rId3"/>
          <a:stretch/>
        </p:blipFill>
        <p:spPr>
          <a:xfrm>
            <a:off x="0" y="1700280"/>
            <a:ext cx="2124000" cy="165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какашка"/>
          <p:cNvPicPr/>
          <p:nvPr/>
        </p:nvPicPr>
        <p:blipFill>
          <a:blip r:embed="rId4"/>
          <a:stretch/>
        </p:blipFill>
        <p:spPr>
          <a:xfrm>
            <a:off x="0" y="0"/>
            <a:ext cx="2124000" cy="1700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8:25:48Z</dcterms:created>
  <dc:creator>Дети</dc:creator>
  <dc:description/>
  <dc:language>en-US</dc:language>
  <cp:lastModifiedBy>LEGION</cp:lastModifiedBy>
  <dcterms:modified xsi:type="dcterms:W3CDTF">2014-12-30T08:22:14Z</dcterms:modified>
  <cp:revision>6</cp:revision>
  <dc:subject/>
  <dc:title>История развития металлургии</dc:title>
</cp:coreProperties>
</file>