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F98D-25FA-4EF8-A2DF-B00AEB1D17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стория развития металл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ченица 9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Ревина М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0FF5-E07E-4840-97B9-D0A6192DEA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216-ECA8-4220-9D5E-41CFDDFD6E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B00-4161-476B-8586-89E3AF484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DF37-4D82-40D5-8DCB-7F94CD076C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1379"/>
                </a:solidFill>
                <a:latin typeface="Calibri"/>
              </a:rPr>
              <a:t>Металлургическая отрасль - вклад в экономику Росс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E432-D13A-4C1D-9F49-57BCCD8B3A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Тенденции развития российской металлу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ffff"/>
                </a:solidFill>
                <a:latin typeface="Calibri"/>
              </a:rPr>
              <a:t>Это: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16ce39"/>
                </a:solidFill>
                <a:latin typeface="Calibri"/>
              </a:rPr>
              <a:t>рост товарной 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ост инвестиц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261379"/>
                </a:solidFill>
                <a:latin typeface="Calibri"/>
              </a:rPr>
              <a:t>рост экспорта металло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охранение достаточно высокого уровня рентабельности производства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66cc"/>
                </a:solidFill>
                <a:latin typeface="Calibri"/>
              </a:rPr>
              <a:t>стабильный рост средней заработной платы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лобализация комп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4F59-7D1A-4658-AD15-BD7F81049C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C78-DB64-4DA5-8722-3ECC37DB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332-FD1B-4DCB-B8ED-DD74B9DE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F53-B8DD-4222-BA1F-F0306657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32B-B1FE-4C50-B489-B59B6FE3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C36-CD8E-4364-A0FF-06F26FBC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3701-BAAD-4F09-94F3-7100B00A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D414-879B-43CE-B5CD-A40C0715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02C6-CFA9-4DD5-82A2-FECC73BD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FA1F-513A-4574-8159-72479BAF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1640-7C74-45A0-B341-951DE964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B97E-39E8-4E55-9FC8-F3F2373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D5D-9050-41E0-9D82-51915BF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8601-8500-4A63-BFFF-B628842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7F05-3072-4F47-BCB9-C5954DE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E3A7-7857-4670-AA96-A8CD33D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1844-57C3-428D-BE95-91FD64F3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2D1B-7D62-4069-BE32-8D35E35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DC8-CB61-42C7-935B-4355841C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86A-5786-45A7-A4D7-769AD6FE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2FF-7D5B-4EC2-8978-B3390FB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1F8-29AC-4081-A78C-5A219BFE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DA1-9328-4F3D-8FBE-8A62A01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BCD-5056-4E68-8274-0757E36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B30-F526-493B-9C34-B3B6E1F2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9FC7-2564-4D59-AE29-084F07F6E2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36EF-4CC8-4A74-AE53-A0B428C065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66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c"/>
                </a:solidFill>
                <a:latin typeface="Arial"/>
              </a:rPr>
              <a:t>История развития металлург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еница 9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ев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-448380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379"/>
                </a:solidFill>
                <a:latin typeface="Arial"/>
              </a:rPr>
              <a:t>Металлургическая отрасль - вклад в экономику России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Тенденции развития российской металлург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Это: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16ce39"/>
                </a:solidFill>
                <a:latin typeface="Arial"/>
              </a:rPr>
              <a:t>рост товарной 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ст инвестиц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61379"/>
                </a:solidFill>
                <a:latin typeface="Arial"/>
              </a:rPr>
              <a:t>рост экспорта металло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охранение достаточно высокого уровня рентабельности производства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табильный рост средней заработной платы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глобализация компаний.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8:25:48Z</dcterms:created>
  <dc:creator>Дети</dc:creator>
  <dc:description/>
  <dc:language>en-US</dc:language>
  <cp:lastModifiedBy>LEGION</cp:lastModifiedBy>
  <dcterms:modified xsi:type="dcterms:W3CDTF">2014-12-30T08:22:14Z</dcterms:modified>
  <cp:revision>6</cp:revision>
  <dc:subject/>
  <dc:title>История развития металлургии</dc:title>
</cp:coreProperties>
</file>