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5B13-8E52-435D-966A-610B3D9AD3F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 как социально-медицинская проблем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ыполнила Погосян 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D3FC-E337-4B00-86AF-0245E11FD54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5CC5-843B-4826-A61E-36F284849C4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1B6D-1313-4968-96FE-2BA3FC03622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BF6E-B731-4B96-8E4A-3B7F3D48A46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87A4-AEA6-4EB9-8F0A-F1BFC7683ED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72935-40CF-4C11-8E50-38A96DFBF44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C7C0-0C4B-4227-9711-B229EDAC84B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8361-7B75-49F9-8B87-F9F0654A13B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9BB9-C830-4F57-8E1F-622CF51E0AB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EDAC-69A7-4F38-82B1-FD427FBA91E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549C-5186-4EC3-8D28-DB4FB0AAB6F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1434-C4E7-4CD1-96CA-3D0877382B2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7139-BBC7-4DE2-9205-4AFAE19EA16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15E9-AE06-4E52-BF90-AF8F55D7024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D084-A7B9-4376-ACD4-C95F62E6358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6DB3-960B-4F6F-82E4-39939898368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EC04E-41DE-46A9-A529-C3E756D5B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29F60-BFC7-4E68-8337-A12D12D65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9CD58-1A2A-45E5-9675-E9332CF7D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96669-ADFD-4716-AD76-0ECAEAA2E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A3EF37-24ED-4220-B60F-B1EACD624F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38D2A-6198-4C9F-A41C-48B12231E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398EF-F0C6-4BF0-A87B-130A6F44F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24426-5D2F-4AA9-8EA8-121BD3B30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57012-6BDF-44EE-9944-4578C3A7F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91833-B5D2-4AE7-B4F3-76B602664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2E2B5-94E2-40AF-B4AC-785A6E184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7EFC6-A4D8-4C56-A284-1D5D2C447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612DC-A934-49B5-982D-56C4E7F92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C0663-9855-4C27-8FB4-BAF2C1E2E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77408-1626-43C3-A4C9-E9E61936A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7B788-4D04-457E-AEE2-C511E75DB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C21D1-A0AF-4EA6-BFEC-94C319708C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D5076BE-EEF6-4153-88E8-BC60F44871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DBE10B8-04F7-4410-BDCE-0CBA26E2E2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AA9DD9E-5017-4521-A005-2B9FB38B9F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6B754D9-1309-4E8C-9DF2-CC048F4E6A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95C9B0-4E4A-453E-BA36-262F767285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766C4-3C1E-43CA-8442-59A65E7A1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A0F15D1-D9AA-4D1F-8429-CBD7521EC5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53B3C7-CDE5-4427-AA9E-241902F67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2A6875-3A0B-4366-AA1A-DE394E5B32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EFB9BA-454A-451A-A4F3-DEB96A3698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F93C2A1-067B-4DB0-94ED-700B9E7968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FB757E6-9345-423B-BA2C-7831AA886C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3B691A2-C90D-45ED-82F1-29B3EC56B9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44E5B69-D473-4856-80B8-D86231280A8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F76BF0-3D68-4344-95B2-3108E5B6610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FFC3D1-534D-4E55-9F16-D2144EB3770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00527-40DA-4541-BD20-3E32E1D55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26D8CEF-7A68-48FE-87BF-20FF4F20039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B765840-2F51-4976-BC42-CDE125FECB2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95246B-2675-488F-8E95-1BC936A13D4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891D6B-2DA2-4335-9DAC-40DAE92963E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54DC19-1C09-4BE4-90C7-81FDF631A1A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80ACA9-03CD-43BC-8AA5-205CA81E061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CCCCEE0-C770-4C0B-9D88-B6988E8BADF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8AFCA1C-4922-4020-AB0D-F462143B933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576EB04-7976-46D0-AF49-F6DE7416E90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8761BF-EBFD-4D17-A233-8B04F527D3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6B790-4DC3-4FBC-9EC9-AEDD2BDE4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ECD6A2-C97F-4031-A8B4-9C0311D61F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11A113-EC5D-46AC-BAD3-598E81C283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F14C89-E5B7-4E5E-9B3D-2E287E5BAB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1D6813-2B76-4EC2-BEFD-1D8E40ED3F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2B3F1D-83E0-4A43-AA05-A480C17703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A404DA-DA16-41CB-86DD-A3974A8806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358AA0-ABD3-4FA9-8E9F-1258F32A2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BE848A-8924-49BD-BC29-9EC94949F1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F24F32-8189-4BCA-8B3C-64AE125933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7D25EF-7E99-439F-8C9C-48DC69DABA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7EE2E-9F1A-4826-9501-567C568A8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098778-375A-4246-8B4A-635BF6E672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E8E188-D612-4DB6-9769-92096F4641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067A27-EADF-49B2-9E14-F91F478DB2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9B8648-8269-4D54-B96F-75EEE927FB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D89957-4B16-436C-A78C-84387B5208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CF4478-1228-4CB7-B2EF-B7158C1E63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777576-4AFA-49A3-A005-5F0969BE50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65F6BF-26FD-498C-B850-9D842C36EC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AC8F27-8E5C-4567-94ED-6A59B92BD3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F2E164-7642-4459-946F-8F871888F0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69FAA-43C0-4B7B-8C2F-6C782C300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9573B9-228D-4F43-B300-58D9E58514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171197-068B-44FD-BB79-9842D86022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466E79-5174-4464-A0FC-95553623F3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28DF4-5298-4AAA-A3F2-C1BAB43AF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6E02F-9392-4101-A4D8-ED5188A18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C7BA-18B0-4D9B-9A45-359F7455A18E}"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18DB-B90E-4A26-A3F3-AA56D100C98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7C122-FE8E-493D-863A-EA7F3D11281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B3F60-050D-4F72-9C04-E3E7FDFDCB0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33F4-A33E-43A7-A9E1-098BD0CA24B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630C-A076-48C4-8788-3D7A0C747CD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981000"/>
            <a:ext cx="7772400" cy="14702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ff"/>
                </a:solidFill>
                <a:latin typeface="Comic Sans MS"/>
              </a:rPr>
              <a:t>Аборт как социально-медицинская проблема</a:t>
            </a:r>
            <a:endParaRPr b="0" lang="en-US" sz="4400" spc="-1" strike="noStrike">
              <a:solidFill>
                <a:srgbClr val="ffffff"/>
              </a:solidFill>
              <a:latin typeface="Tahoma"/>
            </a:endParaRPr>
          </a:p>
        </p:txBody>
      </p:sp>
      <p:sp>
        <p:nvSpPr>
          <p:cNvPr id="353" name="PlaceHolder 2"/>
          <p:cNvSpPr>
            <a:spLocks noGrp="1"/>
          </p:cNvSpPr>
          <p:nvPr>
            <p:ph type="subTitle"/>
          </p:nvPr>
        </p:nvSpPr>
        <p:spPr>
          <a:xfrm>
            <a:off x="2484360" y="4653000"/>
            <a:ext cx="6400800" cy="1752480"/>
          </a:xfrm>
          <a:prstGeom prst="rect">
            <a:avLst/>
          </a:prstGeom>
          <a:noFill/>
          <a:ln w="0">
            <a:noFill/>
          </a:ln>
        </p:spPr>
        <p:txBody>
          <a:bodyPr anchor="b" anchorCtr="1">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Выполнила Погосян К.Е.</a:t>
            </a:r>
            <a:endParaRPr b="0" lang="en-US" sz="3200" spc="-1" strike="noStrike">
              <a:solidFill>
                <a:srgbClr val="ffffff"/>
              </a:solidFill>
              <a:latin typeface="Tahoma"/>
            </a:endParaRPr>
          </a:p>
        </p:txBody>
      </p:sp>
      <p:sp>
        <p:nvSpPr>
          <p:cNvPr id="354" name="Скругленный прямоугольник 5">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Tahoma"/>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abort9sm"/>
          <p:cNvPicPr/>
          <p:nvPr/>
        </p:nvPicPr>
        <p:blipFill>
          <a:blip r:embed="rId1"/>
          <a:stretch/>
        </p:blipFill>
        <p:spPr>
          <a:xfrm>
            <a:off x="0" y="0"/>
            <a:ext cx="9144000" cy="685800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8"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9" name="Picture 4" descr="Солевой аборт"/>
          <p:cNvPicPr/>
          <p:nvPr/>
        </p:nvPicPr>
        <p:blipFill>
          <a:blip r:embed="rId1"/>
          <a:stretch/>
        </p:blipFill>
        <p:spPr>
          <a:xfrm>
            <a:off x="611280" y="2205000"/>
            <a:ext cx="1571400" cy="14572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2"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4" name="Picture 7" descr="http://www.aborti.ru/UserFiles/Image/posters/salt.gif"/>
          <p:cNvPicPr/>
          <p:nvPr/>
        </p:nvPicPr>
        <p:blipFill>
          <a:blip r:embed="rId1"/>
          <a:stretch/>
        </p:blipFill>
        <p:spPr>
          <a:xfrm>
            <a:off x="0" y="0"/>
            <a:ext cx="9220320" cy="6858000"/>
          </a:xfrm>
          <a:prstGeom prst="rect">
            <a:avLst/>
          </a:prstGeom>
          <a:ln w="0">
            <a:noFill/>
          </a:ln>
        </p:spPr>
      </p:pic>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8" name="Picture 8" descr="24"/>
          <p:cNvPicPr/>
          <p:nvPr/>
        </p:nvPicPr>
        <p:blipFill>
          <a:blip r:embed="rId1"/>
          <a:stretch/>
        </p:blipFill>
        <p:spPr>
          <a:xfrm rot="20147400">
            <a:off x="250920" y="5949720"/>
            <a:ext cx="952560" cy="618840"/>
          </a:xfrm>
          <a:prstGeom prst="rect">
            <a:avLst/>
          </a:prstGeom>
          <a:ln w="0">
            <a:noFill/>
          </a:ln>
        </p:spPr>
      </p:pic>
      <p:pic>
        <p:nvPicPr>
          <p:cNvPr id="409" name="Picture 7" descr="13"/>
          <p:cNvPicPr/>
          <p:nvPr/>
        </p:nvPicPr>
        <p:blipFill>
          <a:blip r:embed="rId2"/>
          <a:stretch/>
        </p:blipFill>
        <p:spPr>
          <a:xfrm rot="19982400">
            <a:off x="826920" y="1197000"/>
            <a:ext cx="952560" cy="628560"/>
          </a:xfrm>
          <a:prstGeom prst="rect">
            <a:avLst/>
          </a:prstGeom>
          <a:ln w="0">
            <a:noFill/>
          </a:ln>
        </p:spPr>
      </p:pic>
      <p:pic>
        <p:nvPicPr>
          <p:cNvPr id="410" name="Picture 6" descr="23"/>
          <p:cNvPicPr/>
          <p:nvPr/>
        </p:nvPicPr>
        <p:blipFill>
          <a:blip r:embed="rId3"/>
          <a:stretch/>
        </p:blipFill>
        <p:spPr>
          <a:xfrm>
            <a:off x="4140360" y="5950080"/>
            <a:ext cx="952200" cy="714240"/>
          </a:xfrm>
          <a:prstGeom prst="rect">
            <a:avLst/>
          </a:prstGeom>
          <a:ln w="0">
            <a:noFill/>
          </a:ln>
        </p:spPr>
      </p:pic>
      <p:pic>
        <p:nvPicPr>
          <p:cNvPr id="411" name="Picture 5" descr="36"/>
          <p:cNvPicPr/>
          <p:nvPr/>
        </p:nvPicPr>
        <p:blipFill>
          <a:blip r:embed="rId4"/>
          <a:stretch/>
        </p:blipFill>
        <p:spPr>
          <a:xfrm rot="1379400">
            <a:off x="7596000" y="1052640"/>
            <a:ext cx="952200" cy="933480"/>
          </a:xfrm>
          <a:prstGeom prst="rect">
            <a:avLst/>
          </a:prstGeom>
          <a:ln w="0">
            <a:noFill/>
          </a:ln>
        </p:spPr>
      </p:pic>
      <p:pic>
        <p:nvPicPr>
          <p:cNvPr id="412" name="Picture 4" descr="91"/>
          <p:cNvPicPr/>
          <p:nvPr/>
        </p:nvPicPr>
        <p:blipFill>
          <a:blip r:embed="rId5"/>
          <a:stretch/>
        </p:blipFill>
        <p:spPr>
          <a:xfrm rot="17880600">
            <a:off x="8100720" y="5733360"/>
            <a:ext cx="685800" cy="952560"/>
          </a:xfrm>
          <a:prstGeom prst="rect">
            <a:avLst/>
          </a:prstGeom>
          <a:ln w="0">
            <a:noFill/>
          </a:ln>
        </p:spPr>
      </p:pic>
      <p:sp>
        <p:nvSpPr>
          <p:cNvPr id="413"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20"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3"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6"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7"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30"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3"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6"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7"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7"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40"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0"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3"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4" name="Picture 9" descr="pg225smp"/>
          <p:cNvPicPr/>
          <p:nvPr/>
        </p:nvPicPr>
        <p:blipFill>
          <a:blip r:embed="rId1"/>
          <a:stretch/>
        </p:blipFill>
        <p:spPr>
          <a:xfrm>
            <a:off x="5940360" y="1413000"/>
            <a:ext cx="2143080" cy="2143080"/>
          </a:xfrm>
          <a:prstGeom prst="rect">
            <a:avLst/>
          </a:prstGeom>
          <a:ln w="0">
            <a:noFill/>
          </a:ln>
        </p:spPr>
      </p:pic>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5" descr="mini_abort1sm"/>
          <p:cNvPicPr/>
          <p:nvPr/>
        </p:nvPicPr>
        <p:blipFill>
          <a:blip r:embed="rId1"/>
          <a:stretch/>
        </p:blipFill>
        <p:spPr>
          <a:xfrm>
            <a:off x="0" y="-19080"/>
            <a:ext cx="9144000" cy="6858000"/>
          </a:xfrm>
          <a:prstGeom prst="rect">
            <a:avLst/>
          </a:prstGeom>
          <a:ln w="0">
            <a:noFill/>
          </a:ln>
        </p:spPr>
      </p:pic>
      <p:sp>
        <p:nvSpPr>
          <p:cNvPr id="3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9"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70"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1"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2"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3"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4"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5"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0"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abort23sm"/>
          <p:cNvPicPr/>
          <p:nvPr/>
        </p:nvPicPr>
        <p:blipFill>
          <a:blip r:embed="rId1"/>
          <a:stretch/>
        </p:blipFill>
        <p:spPr>
          <a:xfrm>
            <a:off x="0" y="0"/>
            <a:ext cx="9144000" cy="6853320"/>
          </a:xfrm>
          <a:prstGeom prst="rect">
            <a:avLst/>
          </a:prstGeom>
          <a:ln w="0">
            <a:noFill/>
          </a:ln>
        </p:spPr>
      </p:pic>
      <p:sp>
        <p:nvSpPr>
          <p:cNvPr id="383"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4"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5"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6"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7"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90"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3"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4-11-06T14:18:03Z</dcterms:modified>
  <cp:revision>6</cp:revision>
  <dc:subject/>
  <dc:title>Аборт как социально-медицинская проблема</dc:title>
</cp:coreProperties>
</file>