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8D90-9015-4F0E-BFBB-7063E195C4C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 как социально-медицинская проблем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ыполнила Погосян 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1E1A-6126-4F2A-B7F9-5A1680F9A72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D7C2-6A55-4076-B18B-EB8F2821FD7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43FB-F9FB-426E-9D08-83703618EA2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BBCC-1839-41E9-8122-318EA900D7C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C974-F283-47C5-9E9F-DA1D3215FAC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C136-FB48-4798-A203-C9C64E58DD0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7961-CBEA-4A24-B9AE-24A10AE7F44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348C-8CF7-4FA1-AC09-288F47F8AB9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F82A-D731-4665-83D5-6CAA103D1FA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318C-B50A-4FD7-9DD5-2CB3B57D712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4F89-DAB5-4119-9428-912A200937F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5DCD-185D-496E-BD78-EA4AD767230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C467-AE2B-4A53-ACE9-97DAF7CF9FA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A3E0-3D89-4FE1-99C0-FBAA9F2D524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CE5C-F301-4CB6-BC4A-F11495A4AE6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FC6C-811E-4303-9A4A-56EC32B7195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BC59C-66CF-4020-BCA2-D052762F9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9E861-0016-4FE6-ACEA-AF25F3645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E5EE0-6D18-4FBC-9CAA-7F6C53B4B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6B29D-2AF2-4DDB-99AF-927D4C31B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4D080-71CF-4BD9-8995-D10052FDC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E4F2D-E959-41C4-AA67-9A881064B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151D6-FF78-4EC4-AEE1-CCB5C136E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20865-AFD4-4ED8-B4AF-C737F2B65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6F525-4F44-4666-9C77-BA88397D0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7A174-CDDD-44F2-BF18-D9AAA37B2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CAF9F-2371-4EE7-949F-40D176CAB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CFD1B-C481-4967-8C73-D1EBD4FD4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E0D18-DECA-44E1-AEEA-E12A13B4A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B52B3-ECC8-4A65-90E7-EDDB2F7ED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3EC1A-D7BE-4F74-AEF2-65568084E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DE2A3-89E6-408C-871C-B7229279E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CAEE8-8DD9-4DB1-B4D0-08E9CC723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EF81A5F-3B2F-4BB4-8506-0411B6ADFC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AD88527-E18C-4BF8-8F15-12F61FEE65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FAD3ED-7509-46E3-9BDC-A1895CC3F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62B0A20-A52F-419B-893A-2A3AA9931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F89747-1233-4E69-9B3E-238B8252E7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41AD0-3CF8-4C52-B10F-8F819F155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C3E61D-A58F-4843-A47E-D0CAEBA7DD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8A6504-9D3F-4C3D-86C7-BDE40466A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ACD5F9-F74A-49F6-AD3B-B12B276FF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5E542B-6766-4F36-AC95-E69B5ACFB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FA05F44-233C-4FC5-9759-F30F31FEC1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2AEFB38-963B-45FC-8BAE-13D67B89AC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7B5193C-39C9-4495-8E9B-FDA0DB9958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C397401-7D36-49B1-8D93-F44AD5A9267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C808A6-3BB2-4D9E-9F81-28D7F0E3D2E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5569AB9-F34C-4AD9-B4C7-45B34E59A8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56652-4AA4-4C58-B4B9-94C21C3E6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6E21A4-D9BB-4B62-B184-E719F483790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D46813-F4CA-495B-8C32-9A1A76E8E98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E42B40-4DE7-46BA-B153-B1BA8AEDE6A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2C46FE-492A-45F8-A85D-4CCDE3F6A0A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6A221E-547F-4F9C-8675-D5FD2153CBD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6FE5EF-E873-49BD-8A5A-0469D99FD96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125F60-72A1-4DB9-9B22-090EF6E594B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518D5E-21E5-4729-8A59-AA59C8F7E58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97CFE85-2FCE-4BA6-AF4D-6F085F4226C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777CC1-DEC3-4DB1-B72B-D2DECEB553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BF0E2-100F-47ED-A4CC-7488DEE88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0C4088-2366-4B43-A100-CB197FA4E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537672-A95F-4541-9734-941D8F89D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B002E7-CFC1-4705-94AC-75C6A24259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B1E057-8E0A-422C-8996-57232F6796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F96E87-EA5B-44F2-ABFF-869A70250C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62CBDE-56F5-46DA-A519-9DD1A59D4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D7F65-0B01-42DD-A6BC-CB3946A7D1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EC55A-E70E-49DB-B0E9-B444D07FD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62C9B7-D3A3-430F-9797-E1613BBAA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B0EAC4-959C-4074-9247-94311C592F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7818D-5D25-4C8D-ABF7-1BD2589EF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6E2447-00FF-4CAF-9F58-C508E57F36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1DE11E-A3F6-4453-8FF8-864AF8A72B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3E1973-BFDC-43AC-BF98-015D32A549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3863FC-94C6-489C-BF92-9DC446FB12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31E0C5-7387-4600-87CB-357AB83673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67D070-6BC2-40A3-BB09-B8A7BF152F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2D75A1-361B-478B-A9D3-FEA5C0EEBF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9D6961-219D-4DC3-A73B-743D1A081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3C325-4A8B-4D89-AB49-71427F563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897DF-2B16-4055-9320-5D9AA91C0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1A90D-3155-4C12-AFB5-8A3A0DB85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BC925C-2B7A-4F78-B09F-8235BCE95B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294796-73F7-43E5-A8D6-451701DB5A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83B0EA-142D-4D2B-8373-68B24C84D0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0E685-2004-4D7A-982F-4CCCC5C7B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8FD1C-23DD-4AD0-957B-390F349FC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C1F3-A060-4077-945F-0FB65CD0FE0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69EA-B4CA-47C1-B41A-12C539AF515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0575-FF2C-489F-AA6A-1308EF36B18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5AD6-F83F-47D5-8F3E-DE4166A4947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9E42-C036-4EE8-8DE0-91453B62E84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DF1C-1335-4BA1-97FC-3ACB721546A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981000"/>
            <a:ext cx="7772400" cy="1470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ff"/>
                </a:solidFill>
                <a:latin typeface="Comic Sans MS"/>
              </a:rPr>
              <a:t>Аборт как социально-медицинская проблема</a:t>
            </a:r>
            <a:endParaRPr b="0" lang="en-US" sz="4400" spc="-1" strike="noStrike">
              <a:solidFill>
                <a:srgbClr val="ffffff"/>
              </a:solidFill>
              <a:latin typeface="Tahoma"/>
            </a:endParaRPr>
          </a:p>
        </p:txBody>
      </p:sp>
      <p:sp>
        <p:nvSpPr>
          <p:cNvPr id="353" name="PlaceHolder 2"/>
          <p:cNvSpPr>
            <a:spLocks noGrp="1"/>
          </p:cNvSpPr>
          <p:nvPr>
            <p:ph type="subTitle"/>
          </p:nvPr>
        </p:nvSpPr>
        <p:spPr>
          <a:xfrm>
            <a:off x="2484360" y="4653000"/>
            <a:ext cx="6400800" cy="1752480"/>
          </a:xfrm>
          <a:prstGeom prst="rect">
            <a:avLst/>
          </a:prstGeom>
          <a:noFill/>
          <a:ln w="0">
            <a:noFill/>
          </a:ln>
        </p:spPr>
        <p:txBody>
          <a:bodyPr anchor="b"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Выполнила Погосян К.Е.</a:t>
            </a:r>
            <a:endParaRPr b="0" lang="en-US" sz="3200" spc="-1" strike="noStrike">
              <a:solidFill>
                <a:srgbClr val="ffffff"/>
              </a:solidFill>
              <a:latin typeface="Tahoma"/>
            </a:endParaRPr>
          </a:p>
        </p:txBody>
      </p:sp>
      <p:sp>
        <p:nvSpPr>
          <p:cNvPr id="354"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bort9sm"/>
          <p:cNvPicPr/>
          <p:nvPr/>
        </p:nvPicPr>
        <p:blipFill>
          <a:blip r:embed="rId1"/>
          <a:stretch/>
        </p:blipFill>
        <p:spPr>
          <a:xfrm>
            <a:off x="0" y="0"/>
            <a:ext cx="9144000" cy="685800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8"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9" name="Picture 4" descr="Солевой аборт"/>
          <p:cNvPicPr/>
          <p:nvPr/>
        </p:nvPicPr>
        <p:blipFill>
          <a:blip r:embed="rId1"/>
          <a:stretch/>
        </p:blipFill>
        <p:spPr>
          <a:xfrm>
            <a:off x="611280" y="2205000"/>
            <a:ext cx="1571400" cy="14572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2"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4" name="Picture 7" descr="http://www.aborti.ru/UserFiles/Image/posters/salt.gif"/>
          <p:cNvPicPr/>
          <p:nvPr/>
        </p:nvPicPr>
        <p:blipFill>
          <a:blip r:embed="rId1"/>
          <a:stretch/>
        </p:blipFill>
        <p:spPr>
          <a:xfrm>
            <a:off x="0" y="0"/>
            <a:ext cx="9220320" cy="6858000"/>
          </a:xfrm>
          <a:prstGeom prst="rect">
            <a:avLst/>
          </a:prstGeom>
          <a:ln w="0">
            <a:noFill/>
          </a:ln>
        </p:spPr>
      </p:pic>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8" name="Picture 8" descr="24"/>
          <p:cNvPicPr/>
          <p:nvPr/>
        </p:nvPicPr>
        <p:blipFill>
          <a:blip r:embed="rId1"/>
          <a:stretch/>
        </p:blipFill>
        <p:spPr>
          <a:xfrm rot="20147400">
            <a:off x="250920" y="5949720"/>
            <a:ext cx="952560" cy="618840"/>
          </a:xfrm>
          <a:prstGeom prst="rect">
            <a:avLst/>
          </a:prstGeom>
          <a:ln w="0">
            <a:noFill/>
          </a:ln>
        </p:spPr>
      </p:pic>
      <p:pic>
        <p:nvPicPr>
          <p:cNvPr id="409" name="Picture 7" descr="13"/>
          <p:cNvPicPr/>
          <p:nvPr/>
        </p:nvPicPr>
        <p:blipFill>
          <a:blip r:embed="rId2"/>
          <a:stretch/>
        </p:blipFill>
        <p:spPr>
          <a:xfrm rot="19982400">
            <a:off x="826920" y="1197000"/>
            <a:ext cx="952560" cy="628560"/>
          </a:xfrm>
          <a:prstGeom prst="rect">
            <a:avLst/>
          </a:prstGeom>
          <a:ln w="0">
            <a:noFill/>
          </a:ln>
        </p:spPr>
      </p:pic>
      <p:pic>
        <p:nvPicPr>
          <p:cNvPr id="410" name="Picture 6" descr="23"/>
          <p:cNvPicPr/>
          <p:nvPr/>
        </p:nvPicPr>
        <p:blipFill>
          <a:blip r:embed="rId3"/>
          <a:stretch/>
        </p:blipFill>
        <p:spPr>
          <a:xfrm>
            <a:off x="4140360" y="5950080"/>
            <a:ext cx="952200" cy="714240"/>
          </a:xfrm>
          <a:prstGeom prst="rect">
            <a:avLst/>
          </a:prstGeom>
          <a:ln w="0">
            <a:noFill/>
          </a:ln>
        </p:spPr>
      </p:pic>
      <p:pic>
        <p:nvPicPr>
          <p:cNvPr id="411" name="Picture 5" descr="36"/>
          <p:cNvPicPr/>
          <p:nvPr/>
        </p:nvPicPr>
        <p:blipFill>
          <a:blip r:embed="rId4"/>
          <a:stretch/>
        </p:blipFill>
        <p:spPr>
          <a:xfrm rot="1379400">
            <a:off x="7596000" y="1052640"/>
            <a:ext cx="952200" cy="933480"/>
          </a:xfrm>
          <a:prstGeom prst="rect">
            <a:avLst/>
          </a:prstGeom>
          <a:ln w="0">
            <a:noFill/>
          </a:ln>
        </p:spPr>
      </p:pic>
      <p:pic>
        <p:nvPicPr>
          <p:cNvPr id="412" name="Picture 4" descr="91"/>
          <p:cNvPicPr/>
          <p:nvPr/>
        </p:nvPicPr>
        <p:blipFill>
          <a:blip r:embed="rId5"/>
          <a:stretch/>
        </p:blipFill>
        <p:spPr>
          <a:xfrm rot="17880600">
            <a:off x="8100720" y="5733360"/>
            <a:ext cx="685800" cy="952560"/>
          </a:xfrm>
          <a:prstGeom prst="rect">
            <a:avLst/>
          </a:prstGeom>
          <a:ln w="0">
            <a:noFill/>
          </a:ln>
        </p:spPr>
      </p:pic>
      <p:sp>
        <p:nvSpPr>
          <p:cNvPr id="413"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20"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3"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6"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7"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30"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3"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6"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7"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7"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40"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0"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3"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4" name="Picture 9" descr="pg225smp"/>
          <p:cNvPicPr/>
          <p:nvPr/>
        </p:nvPicPr>
        <p:blipFill>
          <a:blip r:embed="rId1"/>
          <a:stretch/>
        </p:blipFill>
        <p:spPr>
          <a:xfrm>
            <a:off x="5940360" y="1413000"/>
            <a:ext cx="2143080" cy="2143080"/>
          </a:xfrm>
          <a:prstGeom prst="rect">
            <a:avLst/>
          </a:prstGeom>
          <a:ln w="0">
            <a:noFill/>
          </a:ln>
        </p:spPr>
      </p:pic>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mini_abort1sm"/>
          <p:cNvPicPr/>
          <p:nvPr/>
        </p:nvPicPr>
        <p:blipFill>
          <a:blip r:embed="rId1"/>
          <a:stretch/>
        </p:blipFill>
        <p:spPr>
          <a:xfrm>
            <a:off x="0" y="-19080"/>
            <a:ext cx="9144000" cy="6858000"/>
          </a:xfrm>
          <a:prstGeom prst="rect">
            <a:avLst/>
          </a:prstGeom>
          <a:ln w="0">
            <a:noFill/>
          </a:ln>
        </p:spPr>
      </p:pic>
      <p:sp>
        <p:nvSpPr>
          <p:cNvPr id="3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9"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70"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1"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2"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3"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4"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5"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abort23sm"/>
          <p:cNvPicPr/>
          <p:nvPr/>
        </p:nvPicPr>
        <p:blipFill>
          <a:blip r:embed="rId1"/>
          <a:stretch/>
        </p:blipFill>
        <p:spPr>
          <a:xfrm>
            <a:off x="0" y="0"/>
            <a:ext cx="9144000" cy="6853320"/>
          </a:xfrm>
          <a:prstGeom prst="rect">
            <a:avLst/>
          </a:prstGeom>
          <a:ln w="0">
            <a:noFill/>
          </a:ln>
        </p:spPr>
      </p:pic>
      <p:sp>
        <p:nvSpPr>
          <p:cNvPr id="383"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4"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5"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6"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7"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90"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3"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4-11-06T14:18:03Z</dcterms:modified>
  <cp:revision>6</cp:revision>
  <dc:subject/>
  <dc:title>Аборт как социально-медицинская проблема</dc:title>
</cp:coreProperties>
</file>