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AB30-680B-476F-BC7D-D96CFDD462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72BD-090C-4989-8BAD-29F0EFB6444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</a:t>
            </a: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DEB6-175C-4CC0-93EE-4953E58F95F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3E21-385C-4590-AAA7-F516AD2AEB0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8617-2451-4EEF-B7BC-E8F3D29E018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6309-CEA7-47D0-8C3B-9F25F9104CB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ff66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3A34-6E4F-4098-A27D-FFA5E955FCD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334-3187-435F-8C1B-3EDEDD52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52D-9430-4013-93AC-78953439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E6E-95DF-4321-AC53-20C30D96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049-5065-4DBB-88A4-652BA299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14AA-81A5-4587-A7B1-F9476BBD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8CB4-0227-4461-9DED-80039F3B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222F-FAF1-4906-9318-9DE76C30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0488-A219-4685-B51B-0F548151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D9B9-DC78-4C2B-9AC5-14C6BD9C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951A-F21C-4E43-93E0-9FC49550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DC3F-565C-48F5-882C-DE4FEFE2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1AB-52B0-4743-9FE2-FD35AC9B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B7C0-3355-40BD-AF91-D050AFD7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EDC9-C576-446E-A50F-0876D337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1910-2CE3-4C82-96FB-D9A1B507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4244-9F1E-40D7-8075-331F0E7B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5E1E-7362-40ED-86A4-42A676AF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5E5-1069-42EB-BA92-B26D9590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B9B-1C2B-40E1-BB05-B05F5AEB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1D3-2E57-4885-ACC9-24F8DD4A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AA0-85A6-4A30-81E8-EF95B88B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B54-8F09-46E2-87DC-04C6B28C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72A-BF76-46BE-ADD3-F7BB734E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B2F-5429-4624-BAEE-BD9E75CF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BD71-6789-43F2-8BF7-6C5CF082ED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2C11-ECF1-4969-98F7-B0A01A176A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579640" y="5660640"/>
            <a:ext cx="327204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2050920" y="981000"/>
            <a:ext cx="54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Природа Егип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29" name="Picture 5" descr="ren1"/>
          <p:cNvPicPr/>
          <p:nvPr/>
        </p:nvPicPr>
        <p:blipFill>
          <a:blip r:embed="rId1"/>
          <a:stretch/>
        </p:blipFill>
        <p:spPr>
          <a:xfrm>
            <a:off x="2268360" y="2637000"/>
            <a:ext cx="455616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</a:t>
            </a: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rew1"/>
          <p:cNvPicPr/>
          <p:nvPr/>
        </p:nvPicPr>
        <p:blipFill>
          <a:blip r:embed="rId1"/>
          <a:stretch/>
        </p:blipFill>
        <p:spPr>
          <a:xfrm>
            <a:off x="4286160" y="692280"/>
            <a:ext cx="4678560" cy="3450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rec2"/>
          <p:cNvPicPr/>
          <p:nvPr/>
        </p:nvPicPr>
        <p:blipFill>
          <a:blip r:embed="rId2"/>
          <a:stretch/>
        </p:blipFill>
        <p:spPr>
          <a:xfrm>
            <a:off x="179280" y="3429000"/>
            <a:ext cx="50356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pol2"/>
          <p:cNvPicPr/>
          <p:nvPr/>
        </p:nvPicPr>
        <p:blipFill>
          <a:blip r:embed="rId1"/>
          <a:stretch/>
        </p:blipFill>
        <p:spPr>
          <a:xfrm>
            <a:off x="4140360" y="3714840"/>
            <a:ext cx="4824360" cy="3143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nat1"/>
          <p:cNvPicPr/>
          <p:nvPr/>
        </p:nvPicPr>
        <p:blipFill>
          <a:blip r:embed="rId2"/>
          <a:stretch/>
        </p:blipFill>
        <p:spPr>
          <a:xfrm>
            <a:off x="4140360" y="765000"/>
            <a:ext cx="4824360" cy="2951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rel5"/>
          <p:cNvPicPr/>
          <p:nvPr/>
        </p:nvPicPr>
        <p:blipFill>
          <a:blip r:embed="rId1"/>
          <a:stretch/>
        </p:blipFill>
        <p:spPr>
          <a:xfrm>
            <a:off x="4356000" y="692280"/>
            <a:ext cx="4537080" cy="280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nt14"/>
          <p:cNvPicPr/>
          <p:nvPr/>
        </p:nvPicPr>
        <p:blipFill>
          <a:blip r:embed="rId2"/>
          <a:stretch/>
        </p:blipFill>
        <p:spPr>
          <a:xfrm>
            <a:off x="4356000" y="3716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nt13"/>
          <p:cNvPicPr/>
          <p:nvPr/>
        </p:nvPicPr>
        <p:blipFill>
          <a:blip r:embed="rId3"/>
          <a:stretch/>
        </p:blipFill>
        <p:spPr>
          <a:xfrm>
            <a:off x="179280" y="3716280"/>
            <a:ext cx="3961080" cy="2952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4038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66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inn1"/>
          <p:cNvPicPr/>
          <p:nvPr/>
        </p:nvPicPr>
        <p:blipFill>
          <a:blip r:embed="rId1"/>
          <a:stretch/>
        </p:blipFill>
        <p:spPr>
          <a:xfrm>
            <a:off x="4211640" y="907920"/>
            <a:ext cx="4681440" cy="302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nat4"/>
          <p:cNvPicPr/>
          <p:nvPr/>
        </p:nvPicPr>
        <p:blipFill>
          <a:blip r:embed="rId2"/>
          <a:stretch/>
        </p:blipFill>
        <p:spPr>
          <a:xfrm>
            <a:off x="179280" y="3714840"/>
            <a:ext cx="5042160" cy="2954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27640" y="691920"/>
            <a:ext cx="4403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int4"/>
          <p:cNvPicPr/>
          <p:nvPr/>
        </p:nvPicPr>
        <p:blipFill>
          <a:blip r:embed="rId1"/>
          <a:stretch/>
        </p:blipFill>
        <p:spPr>
          <a:xfrm>
            <a:off x="3924360" y="3143160"/>
            <a:ext cx="50068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min2"/>
          <p:cNvPicPr/>
          <p:nvPr/>
        </p:nvPicPr>
        <p:blipFill>
          <a:blip r:embed="rId2"/>
          <a:stretch/>
        </p:blipFill>
        <p:spPr>
          <a:xfrm>
            <a:off x="179280" y="692280"/>
            <a:ext cx="4105440" cy="33796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9:58:05Z</dcterms:created>
  <dc:creator>Владимир</dc:creator>
  <dc:description/>
  <dc:language>en-US</dc:language>
  <cp:lastModifiedBy>LEGION</cp:lastModifiedBy>
  <dcterms:modified xsi:type="dcterms:W3CDTF">2014-12-30T08:45:50Z</dcterms:modified>
  <cp:revision>11</cp:revision>
  <dc:subject/>
  <dc:title>Слайд 1</dc:title>
</cp:coreProperties>
</file>