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A4E7-173E-44DE-ACA4-4A47A7F7541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Monotype Corsiva"/>
              </a:rPr>
              <a:t>Автор: Воронина 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Monotype Corsiva"/>
              </a:rPr>
              <a:t>Учитель: Миронов В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65DC-8D47-4B6B-824A-4CE0BE7B2F3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находится</a:t>
            </a:r>
            <a:r>
              <a:rPr b="0" lang="ru-RU" sz="16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в Северной Африке. Египет граничит с Ливией, Суданом и Палестиной. Столицей Египта является Ка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28C6-4643-446E-BAEB-6ED5D4D36F0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Рельеф и полезные ископ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в основном равнинная страна. Горы имеются на побережье Красного моря. Большую часть Египта занимает Ливийская пустыня. В Египте находится впадина, которая ниже уровня моря на -133 м. Через Египет проходит Великий Восточно – Африканский раз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864A-CE37-482A-A2D7-C697C68515F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Клим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находится в субтропическом и тропическом поясах. Там преобладают средиземноморский (на побережье) и пустынный (на большей части) типы клим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BE4C-587E-4111-A1AD-47AF6A90C6E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Внутренние 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внутренними водами беден. В основном там пустыни. Самая крупная река Египта Нил. Нил - самая  длинная река мира (6671 км.). Велико значение Нила в хозяйстве стран, по которым он протек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FA28-D36A-404B-8AC4-7372213DD42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Monotype Corsiva"/>
              </a:rPr>
              <a:t>Природная з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ff66"/>
                </a:solidFill>
                <a:latin typeface="Calibri"/>
              </a:rPr>
              <a:t>    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располагается в природной зоне: жестколистных вечнозеленых лесов и кустарников, пустынь и полупусты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7F06-0990-457C-A675-C6E981C7D3D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838-66B1-4EAD-89A2-A93F9BDD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C1C-154D-4DCF-A32B-E2E2788C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2B0-52A0-425F-BB4C-5034D236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B3D-E0DC-4D76-982F-9CF7D342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0C9D-D476-4302-B386-BAFAA991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ED8D-0DD2-42F4-87E0-2BC221BC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2560-2E1D-4B46-8A24-A187189F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F434-68C5-4EAC-865C-342010A0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C7F6-E3E4-425E-BB07-1DFDFC6A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4C08-B1A3-448A-83F2-CEE8FE52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9227-EE23-4359-ABB6-3447CDAA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3DD-37F9-4674-9EE9-28DA6001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E825-5DC9-4D84-AD4F-1D4A1E2B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5FEB-D4AD-4E22-B43F-DE4AF573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3EB3-9B20-4BED-99B0-A28D4B0C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D413-C92B-408E-A188-F325043D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DF69-3DB2-4A59-8E17-D2DB1621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282C-14CB-4894-88C0-D01751AE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6E52-7DC1-4081-BD8E-25E89AD5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F2DE-278B-4E13-A3C5-C65E1D1E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9E0-6705-45DB-90BC-FB6C747C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B5A-852C-45BE-9FFA-F3AAEF88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2FB-8EDE-43B2-B526-DB84F938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BEB0-F678-4655-AA9F-98E83C0C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38DE-F4A6-4228-9F56-68B127C44F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5934-03B7-425E-95C5-2C440BE8C0E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579640" y="5660640"/>
            <a:ext cx="327204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Monotype Corsiva"/>
              </a:rPr>
              <a:t>Автор: Воронина 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Monotype Corsiva"/>
              </a:rPr>
              <a:t>Учитель: Миронов В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2050920" y="981000"/>
            <a:ext cx="5400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Природа Егип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129" name="Picture 5" descr="ren1"/>
          <p:cNvPicPr/>
          <p:nvPr/>
        </p:nvPicPr>
        <p:blipFill>
          <a:blip r:embed="rId1"/>
          <a:stretch/>
        </p:blipFill>
        <p:spPr>
          <a:xfrm>
            <a:off x="2268360" y="2637000"/>
            <a:ext cx="4556160" cy="30956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Географическое положени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находится</a:t>
            </a:r>
            <a:r>
              <a:rPr b="0" lang="ru-RU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в Северной Африке. Египет граничит с Ливией, Суданом и Палестиной. Столицей Египта является Каи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7" descr="rew1"/>
          <p:cNvPicPr/>
          <p:nvPr/>
        </p:nvPicPr>
        <p:blipFill>
          <a:blip r:embed="rId1"/>
          <a:stretch/>
        </p:blipFill>
        <p:spPr>
          <a:xfrm>
            <a:off x="4286160" y="692280"/>
            <a:ext cx="4678560" cy="3450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rec2"/>
          <p:cNvPicPr/>
          <p:nvPr/>
        </p:nvPicPr>
        <p:blipFill>
          <a:blip r:embed="rId2"/>
          <a:stretch/>
        </p:blipFill>
        <p:spPr>
          <a:xfrm>
            <a:off x="179280" y="3429000"/>
            <a:ext cx="503568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Рельеф и полезные ископаемы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в основном равнинная страна. Горы имеются на побережье Красного моря. Большую часть Египта занимает Ливийская пустыня. В Египте находится впадина, которая ниже уровня моря на -133 м. Через Египет проходит Великий Восточно – Африканский разл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pol2"/>
          <p:cNvPicPr/>
          <p:nvPr/>
        </p:nvPicPr>
        <p:blipFill>
          <a:blip r:embed="rId1"/>
          <a:stretch/>
        </p:blipFill>
        <p:spPr>
          <a:xfrm>
            <a:off x="4140360" y="3714840"/>
            <a:ext cx="4824360" cy="3143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nat1"/>
          <p:cNvPicPr/>
          <p:nvPr/>
        </p:nvPicPr>
        <p:blipFill>
          <a:blip r:embed="rId2"/>
          <a:stretch/>
        </p:blipFill>
        <p:spPr>
          <a:xfrm>
            <a:off x="4140360" y="765000"/>
            <a:ext cx="4824360" cy="2951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Клима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403848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находится в субтропическом и тропическом поясах. Там преобладают средиземноморский (на побережье) и пустынный (на большей части) типы климат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rel5"/>
          <p:cNvPicPr/>
          <p:nvPr/>
        </p:nvPicPr>
        <p:blipFill>
          <a:blip r:embed="rId1"/>
          <a:stretch/>
        </p:blipFill>
        <p:spPr>
          <a:xfrm>
            <a:off x="4356000" y="692280"/>
            <a:ext cx="4537080" cy="280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int14"/>
          <p:cNvPicPr/>
          <p:nvPr/>
        </p:nvPicPr>
        <p:blipFill>
          <a:blip r:embed="rId2"/>
          <a:stretch/>
        </p:blipFill>
        <p:spPr>
          <a:xfrm>
            <a:off x="4356000" y="3716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nt13"/>
          <p:cNvPicPr/>
          <p:nvPr/>
        </p:nvPicPr>
        <p:blipFill>
          <a:blip r:embed="rId3"/>
          <a:stretch/>
        </p:blipFill>
        <p:spPr>
          <a:xfrm>
            <a:off x="179280" y="3716280"/>
            <a:ext cx="3961080" cy="2952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Внутренние вод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4038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66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внутренними водами беден. В основном там пустыни. Самая крупная река Египта Нил. Нил - самая  длинная река мира (6671 км.). Велико значение Нила в хозяйстве стран, по которым он протека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inn1"/>
          <p:cNvPicPr/>
          <p:nvPr/>
        </p:nvPicPr>
        <p:blipFill>
          <a:blip r:embed="rId1"/>
          <a:stretch/>
        </p:blipFill>
        <p:spPr>
          <a:xfrm>
            <a:off x="4211640" y="907920"/>
            <a:ext cx="4681440" cy="302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nat4"/>
          <p:cNvPicPr/>
          <p:nvPr/>
        </p:nvPicPr>
        <p:blipFill>
          <a:blip r:embed="rId2"/>
          <a:stretch/>
        </p:blipFill>
        <p:spPr>
          <a:xfrm>
            <a:off x="179280" y="3714840"/>
            <a:ext cx="5042160" cy="29541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Природная зон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27640" y="691920"/>
            <a:ext cx="4403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Египет располагается в природной зоне: жестколистных вечнозеленых лесов и кустарников, пустынь и полупусты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int4"/>
          <p:cNvPicPr/>
          <p:nvPr/>
        </p:nvPicPr>
        <p:blipFill>
          <a:blip r:embed="rId1"/>
          <a:stretch/>
        </p:blipFill>
        <p:spPr>
          <a:xfrm>
            <a:off x="3924360" y="3143160"/>
            <a:ext cx="5006880" cy="3525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min2"/>
          <p:cNvPicPr/>
          <p:nvPr/>
        </p:nvPicPr>
        <p:blipFill>
          <a:blip r:embed="rId2"/>
          <a:stretch/>
        </p:blipFill>
        <p:spPr>
          <a:xfrm>
            <a:off x="179280" y="692280"/>
            <a:ext cx="4105440" cy="33796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9:58:05Z</dcterms:created>
  <dc:creator>Владимир</dc:creator>
  <dc:description/>
  <dc:language>en-US</dc:language>
  <cp:lastModifiedBy>LEGION</cp:lastModifiedBy>
  <dcterms:modified xsi:type="dcterms:W3CDTF">2014-12-30T08:45:50Z</dcterms:modified>
  <cp:revision>11</cp:revision>
  <dc:subject/>
  <dc:title>Слайд 1</dc:title>
</cp:coreProperties>
</file>