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7B41-6984-4FD5-B982-EA54AF91C6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4B36-1C91-45F7-A0A0-F3FDB1F7B33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</a:t>
            </a: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4002-6272-479B-BD26-58B52CBB965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2D4-FB07-4B1E-8404-E2839E3E2DC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6EEF-4638-44C6-856A-CDCF69B5332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2D1A-FDC5-4E28-A917-E89116D60D5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ff66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D2D1-DA8A-417C-8C40-1C33FB7BCA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4D8-8868-4925-8C83-5380EE78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C4A-66F5-417E-8663-C115C687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A0B-5E99-4D6B-9DB0-7332DFDF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05D-C035-4116-9FE1-97F7E1D4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AC7E-3B00-45AA-9F25-12819812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DF6E-BCB2-40C3-8A42-CEE465EF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23B5-5A40-4327-8483-E275892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6CC8-52FC-4757-B321-5E55EB5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2686-2743-4D3B-80D7-9555BF88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2AAB-8A4B-4CDF-ACA4-B7748E72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4B8C-42A8-4DFC-A01E-6280377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68A-56B2-48E3-986C-7889BE5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5F11-E2E3-48F2-8E98-EFEB275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748-76EA-4F48-862A-219D2CC0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5EE6-EA55-45EA-837A-04A18F1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34B-F265-421E-AB2D-8CE5ECCE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D490-5FD0-46D3-A0D5-50D77890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ABB-DA68-4EC3-B737-9889326A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EC6-FE25-4336-8A68-AE46CA74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DF7-7C78-4AC5-8FA0-447F02D8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707-6991-4031-9D08-D5AB5510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41E-D923-4DE6-B054-AE67E2E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699-80B9-4F44-96BA-14EE0E4C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D6B-0411-41CD-B9EF-4F5B72C3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915-A2EC-41CD-AB99-68DE4F611F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578E-B8CC-48D2-A5C9-DE77B8D097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050920" y="981000"/>
            <a:ext cx="54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рирода Егип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ren1"/>
          <p:cNvPicPr/>
          <p:nvPr/>
        </p:nvPicPr>
        <p:blipFill>
          <a:blip r:embed="rId1"/>
          <a:stretch/>
        </p:blipFill>
        <p:spPr>
          <a:xfrm>
            <a:off x="2268360" y="2637000"/>
            <a:ext cx="45561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</a:t>
            </a: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rew1"/>
          <p:cNvPicPr/>
          <p:nvPr/>
        </p:nvPicPr>
        <p:blipFill>
          <a:blip r:embed="rId1"/>
          <a:stretch/>
        </p:blipFill>
        <p:spPr>
          <a:xfrm>
            <a:off x="4286160" y="692280"/>
            <a:ext cx="4678560" cy="34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ec2"/>
          <p:cNvPicPr/>
          <p:nvPr/>
        </p:nvPicPr>
        <p:blipFill>
          <a:blip r:embed="rId2"/>
          <a:stretch/>
        </p:blipFill>
        <p:spPr>
          <a:xfrm>
            <a:off x="179280" y="3429000"/>
            <a:ext cx="503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pol2"/>
          <p:cNvPicPr/>
          <p:nvPr/>
        </p:nvPicPr>
        <p:blipFill>
          <a:blip r:embed="rId1"/>
          <a:stretch/>
        </p:blipFill>
        <p:spPr>
          <a:xfrm>
            <a:off x="4140360" y="371484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nat1"/>
          <p:cNvPicPr/>
          <p:nvPr/>
        </p:nvPicPr>
        <p:blipFill>
          <a:blip r:embed="rId2"/>
          <a:stretch/>
        </p:blipFill>
        <p:spPr>
          <a:xfrm>
            <a:off x="4140360" y="765000"/>
            <a:ext cx="482436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rel5"/>
          <p:cNvPicPr/>
          <p:nvPr/>
        </p:nvPicPr>
        <p:blipFill>
          <a:blip r:embed="rId1"/>
          <a:stretch/>
        </p:blipFill>
        <p:spPr>
          <a:xfrm>
            <a:off x="4356000" y="692280"/>
            <a:ext cx="453708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nt14"/>
          <p:cNvPicPr/>
          <p:nvPr/>
        </p:nvPicPr>
        <p:blipFill>
          <a:blip r:embed="rId2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nt13"/>
          <p:cNvPicPr/>
          <p:nvPr/>
        </p:nvPicPr>
        <p:blipFill>
          <a:blip r:embed="rId3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8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inn1"/>
          <p:cNvPicPr/>
          <p:nvPr/>
        </p:nvPicPr>
        <p:blipFill>
          <a:blip r:embed="rId1"/>
          <a:stretch/>
        </p:blipFill>
        <p:spPr>
          <a:xfrm>
            <a:off x="4211640" y="907920"/>
            <a:ext cx="468144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nat4"/>
          <p:cNvPicPr/>
          <p:nvPr/>
        </p:nvPicPr>
        <p:blipFill>
          <a:blip r:embed="rId2"/>
          <a:stretch/>
        </p:blipFill>
        <p:spPr>
          <a:xfrm>
            <a:off x="179280" y="3714840"/>
            <a:ext cx="5042160" cy="2954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640" y="691920"/>
            <a:ext cx="440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int4"/>
          <p:cNvPicPr/>
          <p:nvPr/>
        </p:nvPicPr>
        <p:blipFill>
          <a:blip r:embed="rId1"/>
          <a:stretch/>
        </p:blipFill>
        <p:spPr>
          <a:xfrm>
            <a:off x="3924360" y="3143160"/>
            <a:ext cx="50068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in2"/>
          <p:cNvPicPr/>
          <p:nvPr/>
        </p:nvPicPr>
        <p:blipFill>
          <a:blip r:embed="rId2"/>
          <a:stretch/>
        </p:blipFill>
        <p:spPr>
          <a:xfrm>
            <a:off x="179280" y="69228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58:05Z</dcterms:created>
  <dc:creator>Владимир</dc:creator>
  <dc:description/>
  <dc:language>en-US</dc:language>
  <cp:lastModifiedBy>LEGION</cp:lastModifiedBy>
  <dcterms:modified xsi:type="dcterms:W3CDTF">2014-12-30T08:45:50Z</dcterms:modified>
  <cp:revision>11</cp:revision>
  <dc:subject/>
  <dc:title>Слайд 1</dc:title>
</cp:coreProperties>
</file>