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76F5-9A34-45A7-BE48-A190B8A826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Авторы: Ермаков А. Пичугина Н.  Сизов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Учитель: Миронов В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9136-99FD-4818-B6EF-A942C37AE762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B603-54C8-4256-A260-6C8BABEB89FB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3E95-0029-456A-BECB-473011C12072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AA10-53EB-4CDA-8D22-028792E2F9C4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5219-7484-4E04-B39E-3A56ECFCCDE9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31EB-A5CF-4A82-8745-07AF4FCFA576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1200" spc="-1" strike="noStrike">
                <a:solidFill>
                  <a:srgbClr val="33cc33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582E-5361-4FEC-A4B2-B0ACF3EA4D08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647-A000-47C1-A194-FA393AFB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C10-F86B-4D67-BE83-0C8696EC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A23-1A20-4822-B0FE-3FC69B57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4D8-7E12-48DA-B7D0-45C19035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008E-5FF4-4486-952C-D6651348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B945-977D-41CE-918C-10B8ADD3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0FF1-20AD-48A9-A2B4-4F73B5FE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F0C1-8316-44EF-A55B-B147F48A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E5E9-F9CB-4735-9E13-FEF22AEB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C601-E161-48FF-8F31-62194CE5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60FF-A2B3-4213-A1E5-0452A194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5CE-07C4-465B-9DD0-5C76D3AE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9028-8A58-4A7C-BEC2-4982A11B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EE38-88C2-43EC-888C-F570128C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72CB-424C-4418-918E-FFA9F157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F744-0E5D-4688-9B65-87287E5C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552D-4594-49B7-AB1B-ABAB3008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4D3-9A7C-47B0-9012-BFCF50DB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D1D-B8D0-4443-B8F8-EB7498FC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CA6-FDFE-4ADA-BFF2-C89CE78E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202-E3CC-40F6-9DF7-F075DA07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917-8936-40AE-AB8A-D93FDCE2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6BE-9FD7-450B-9D7B-47AD2CFD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289-74EB-4C90-8677-8AF75B8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D8E0-5903-426A-A70E-A1B3E03B81E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9E78-B11B-406F-B54A-AE91BA5AC36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:\География 7\Picts\2_af\ver1.gif"/>
          <p:cNvPicPr/>
          <p:nvPr/>
        </p:nvPicPr>
        <p:blipFill>
          <a:blip r:embed="rId1"/>
          <a:stretch/>
        </p:blipFill>
        <p:spPr>
          <a:xfrm>
            <a:off x="1571760" y="857160"/>
            <a:ext cx="6000480" cy="4071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21472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000680" y="5143680"/>
            <a:ext cx="4892400" cy="15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Авторы: Ермаков А. Пичугина Н.  Сизов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Учитель: Миронов В. 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667692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D:\География 7\Picts\2_af\rel6.gif"/>
          <p:cNvPicPr/>
          <p:nvPr/>
        </p:nvPicPr>
        <p:blipFill>
          <a:blip r:embed="rId1"/>
          <a:stretch/>
        </p:blipFill>
        <p:spPr>
          <a:xfrm>
            <a:off x="4786200" y="3929040"/>
            <a:ext cx="4143600" cy="2714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4508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nat1"/>
          <p:cNvPicPr/>
          <p:nvPr/>
        </p:nvPicPr>
        <p:blipFill>
          <a:blip r:embed="rId1"/>
          <a:stretch/>
        </p:blipFill>
        <p:spPr>
          <a:xfrm>
            <a:off x="214200" y="114300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nat9"/>
          <p:cNvPicPr/>
          <p:nvPr/>
        </p:nvPicPr>
        <p:blipFill>
          <a:blip r:embed="rId2"/>
          <a:stretch/>
        </p:blipFill>
        <p:spPr>
          <a:xfrm>
            <a:off x="4714920" y="1143000"/>
            <a:ext cx="4214880" cy="3429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4857480"/>
            <a:ext cx="822960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D:\География 7\Picts\2_af\nat1.gif"/>
          <p:cNvPicPr/>
          <p:nvPr/>
        </p:nvPicPr>
        <p:blipFill>
          <a:blip r:embed="rId1"/>
          <a:stretch/>
        </p:blipFill>
        <p:spPr>
          <a:xfrm>
            <a:off x="2000160" y="1000080"/>
            <a:ext cx="5429520" cy="38577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580500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min2"/>
          <p:cNvPicPr/>
          <p:nvPr/>
        </p:nvPicPr>
        <p:blipFill>
          <a:blip r:embed="rId1"/>
          <a:stretch/>
        </p:blipFill>
        <p:spPr>
          <a:xfrm>
            <a:off x="250920" y="836640"/>
            <a:ext cx="3960720" cy="252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in4"/>
          <p:cNvPicPr/>
          <p:nvPr/>
        </p:nvPicPr>
        <p:blipFill>
          <a:blip r:embed="rId2"/>
          <a:stretch/>
        </p:blipFill>
        <p:spPr>
          <a:xfrm>
            <a:off x="4932360" y="836640"/>
            <a:ext cx="3997440" cy="252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rel2"/>
          <p:cNvPicPr/>
          <p:nvPr/>
        </p:nvPicPr>
        <p:blipFill>
          <a:blip r:embed="rId3"/>
          <a:stretch/>
        </p:blipFill>
        <p:spPr>
          <a:xfrm>
            <a:off x="250920" y="3429000"/>
            <a:ext cx="3960720" cy="242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nat6"/>
          <p:cNvPicPr/>
          <p:nvPr/>
        </p:nvPicPr>
        <p:blipFill>
          <a:blip r:embed="rId4"/>
          <a:stretch/>
        </p:blipFill>
        <p:spPr>
          <a:xfrm>
            <a:off x="4932360" y="3429000"/>
            <a:ext cx="3997440" cy="25002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5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dro11"/>
          <p:cNvPicPr/>
          <p:nvPr/>
        </p:nvPicPr>
        <p:blipFill>
          <a:blip r:embed="rId1"/>
          <a:stretch/>
        </p:blipFill>
        <p:spPr>
          <a:xfrm>
            <a:off x="214200" y="1125360"/>
            <a:ext cx="4357800" cy="394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ro9"/>
          <p:cNvPicPr/>
          <p:nvPr/>
        </p:nvPicPr>
        <p:blipFill>
          <a:blip r:embed="rId2"/>
          <a:stretch/>
        </p:blipFill>
        <p:spPr>
          <a:xfrm>
            <a:off x="4643280" y="1125360"/>
            <a:ext cx="4286520" cy="3946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D:\География 7\Picts\4_as\mon3.gif"/>
          <p:cNvPicPr/>
          <p:nvPr/>
        </p:nvPicPr>
        <p:blipFill>
          <a:blip r:embed="rId1"/>
          <a:stretch/>
        </p:blipFill>
        <p:spPr>
          <a:xfrm>
            <a:off x="2000160" y="3143160"/>
            <a:ext cx="5572080" cy="350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470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3200" spc="-1" strike="noStrike">
                <a:solidFill>
                  <a:srgbClr val="33cc33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38:17Z</dcterms:created>
  <dc:creator>User</dc:creator>
  <dc:description/>
  <dc:language>en-US</dc:language>
  <cp:lastModifiedBy>LEGION</cp:lastModifiedBy>
  <dcterms:modified xsi:type="dcterms:W3CDTF">2014-12-30T08:46:13Z</dcterms:modified>
  <cp:revision>10</cp:revision>
  <dc:subject/>
  <dc:title>Полупустыни  и пустыни</dc:title>
</cp:coreProperties>
</file>