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18B7-E074-4049-8E64-8BC559893E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Авторы: Ермаков А. Пичугина Н.  Сизов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Учитель: Миронов В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D16B-5B05-4B22-B5E5-AC825CF836CD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015E-E4FC-4ABC-B73E-209A6DD10904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70B7-8A8B-419C-8749-6F1F5B72363C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9E0B-FA98-417C-BE85-53D0AD50F0F8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ED01-ADCD-4199-95B1-C4E05C070AE0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6898-2715-4644-91CF-E4470E88E521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1200" spc="-1" strike="noStrike">
                <a:solidFill>
                  <a:srgbClr val="33cc33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B181-11FA-4255-B4E7-DE4806FA967D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3C7-64C6-4DAA-AFEB-AB2F2A65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A47-2911-4D00-B169-976AE360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2CA-CB97-4A82-A539-C2783CB0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CF1-1E37-4609-914D-6AFA4A08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AC23-1FB8-4881-9130-E711B471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FB6E-84A1-4DF9-A5F3-F46C727C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4C59-B72E-4010-AF0C-B2FFD971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4A78-A7D2-4C8E-A16A-C1748A06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1A42-DBD0-433A-BD66-8E04EF31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AA73-98A1-4DDD-89EF-11D9513E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C9F1-FB11-4C71-9BAB-79FF43C9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F21-5BA1-4678-954A-254A8848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0FB1-714C-4AB9-A776-6C838ACA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099F-AD13-49D1-B92E-0AE6740C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7B62-A327-4629-8C90-5C03702B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B6F0-8C4D-4BB9-9E56-D89E1AD3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D512-3803-4AA7-BB1A-1166C26B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187-8AA2-4B03-B0F1-DAB79763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EFF-3EF6-4871-A2C6-00E5BD15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57D-18E7-4540-83C1-907D8B6B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342-BE88-4435-9E22-2835C75D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BEB-0390-4A0F-9FD6-EA350AE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FD3-231C-4194-A2AC-AAFD1E88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832-C72D-462E-BD3C-2ADF66C6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C6D8-53E9-4BDB-B8D7-1597F9DEBA3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ABD0-A3C9-4824-875D-238F805F9C5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:\География 7\Picts\2_af\ver1.gif"/>
          <p:cNvPicPr/>
          <p:nvPr/>
        </p:nvPicPr>
        <p:blipFill>
          <a:blip r:embed="rId1"/>
          <a:stretch/>
        </p:blipFill>
        <p:spPr>
          <a:xfrm>
            <a:off x="1571760" y="857160"/>
            <a:ext cx="6000480" cy="4071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21472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000680" y="5143680"/>
            <a:ext cx="4892400" cy="15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Авторы: Ермаков А. Пичугина Н.  Сизов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Учитель: Миронов В. 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667692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D:\География 7\Picts\2_af\rel6.gif"/>
          <p:cNvPicPr/>
          <p:nvPr/>
        </p:nvPicPr>
        <p:blipFill>
          <a:blip r:embed="rId1"/>
          <a:stretch/>
        </p:blipFill>
        <p:spPr>
          <a:xfrm>
            <a:off x="4786200" y="3929040"/>
            <a:ext cx="414360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nat1"/>
          <p:cNvPicPr/>
          <p:nvPr/>
        </p:nvPicPr>
        <p:blipFill>
          <a:blip r:embed="rId1"/>
          <a:stretch/>
        </p:blipFill>
        <p:spPr>
          <a:xfrm>
            <a:off x="214200" y="114300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nat9"/>
          <p:cNvPicPr/>
          <p:nvPr/>
        </p:nvPicPr>
        <p:blipFill>
          <a:blip r:embed="rId2"/>
          <a:stretch/>
        </p:blipFill>
        <p:spPr>
          <a:xfrm>
            <a:off x="4714920" y="1143000"/>
            <a:ext cx="4214880" cy="3429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4857480"/>
            <a:ext cx="82296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D:\География 7\Picts\2_af\nat1.gif"/>
          <p:cNvPicPr/>
          <p:nvPr/>
        </p:nvPicPr>
        <p:blipFill>
          <a:blip r:embed="rId1"/>
          <a:stretch/>
        </p:blipFill>
        <p:spPr>
          <a:xfrm>
            <a:off x="2000160" y="1000080"/>
            <a:ext cx="5429520" cy="38577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580500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min2"/>
          <p:cNvPicPr/>
          <p:nvPr/>
        </p:nvPicPr>
        <p:blipFill>
          <a:blip r:embed="rId1"/>
          <a:stretch/>
        </p:blipFill>
        <p:spPr>
          <a:xfrm>
            <a:off x="250920" y="836640"/>
            <a:ext cx="3960720" cy="25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in4"/>
          <p:cNvPicPr/>
          <p:nvPr/>
        </p:nvPicPr>
        <p:blipFill>
          <a:blip r:embed="rId2"/>
          <a:stretch/>
        </p:blipFill>
        <p:spPr>
          <a:xfrm>
            <a:off x="4932360" y="836640"/>
            <a:ext cx="3997440" cy="252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rel2"/>
          <p:cNvPicPr/>
          <p:nvPr/>
        </p:nvPicPr>
        <p:blipFill>
          <a:blip r:embed="rId3"/>
          <a:stretch/>
        </p:blipFill>
        <p:spPr>
          <a:xfrm>
            <a:off x="250920" y="3429000"/>
            <a:ext cx="3960720" cy="242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nat6"/>
          <p:cNvPicPr/>
          <p:nvPr/>
        </p:nvPicPr>
        <p:blipFill>
          <a:blip r:embed="rId4"/>
          <a:stretch/>
        </p:blipFill>
        <p:spPr>
          <a:xfrm>
            <a:off x="4932360" y="3429000"/>
            <a:ext cx="3997440" cy="25002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5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dro11"/>
          <p:cNvPicPr/>
          <p:nvPr/>
        </p:nvPicPr>
        <p:blipFill>
          <a:blip r:embed="rId1"/>
          <a:stretch/>
        </p:blipFill>
        <p:spPr>
          <a:xfrm>
            <a:off x="214200" y="1125360"/>
            <a:ext cx="4357800" cy="394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ro9"/>
          <p:cNvPicPr/>
          <p:nvPr/>
        </p:nvPicPr>
        <p:blipFill>
          <a:blip r:embed="rId2"/>
          <a:stretch/>
        </p:blipFill>
        <p:spPr>
          <a:xfrm>
            <a:off x="4643280" y="1125360"/>
            <a:ext cx="4286520" cy="3946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D:\География 7\Picts\4_as\mon3.gif"/>
          <p:cNvPicPr/>
          <p:nvPr/>
        </p:nvPicPr>
        <p:blipFill>
          <a:blip r:embed="rId1"/>
          <a:stretch/>
        </p:blipFill>
        <p:spPr>
          <a:xfrm>
            <a:off x="2000160" y="3143160"/>
            <a:ext cx="5572080" cy="350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470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3200" spc="-1" strike="noStrike">
                <a:solidFill>
                  <a:srgbClr val="33cc33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38:17Z</dcterms:created>
  <dc:creator>User</dc:creator>
  <dc:description/>
  <dc:language>en-US</dc:language>
  <cp:lastModifiedBy>LEGION</cp:lastModifiedBy>
  <dcterms:modified xsi:type="dcterms:W3CDTF">2014-12-30T08:46:13Z</dcterms:modified>
  <cp:revision>10</cp:revision>
  <dc:subject/>
  <dc:title>Полупустыни  и пустыни</dc:title>
</cp:coreProperties>
</file>