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C6F6-2239-4B80-BF94-9A608F6CDA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Авторы: Ермаков А. Пичугина Н.  Сизов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Учитель: Миронов В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478A-6388-4BA4-80F0-068840394931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C4DD-A896-47DA-8F12-40E1F6865255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BEFF-BD88-403A-8376-CC8E70C2ABB0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4D3C-073F-4E4A-AED6-2F9FEED95712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C00B-C698-4A27-A5C3-C4C87EB3E930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3ADA-65B5-45B5-A721-EF4C80593D46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1200" spc="-1" strike="noStrike">
                <a:solidFill>
                  <a:srgbClr val="33cc33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DD5E-30CF-4CEC-A91A-787920D68A41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411-C92F-4FD6-80E2-34BC8762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12F-F08C-4A51-AFC8-66B36513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5BA-1273-41C3-AE8F-AA47D892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427-435D-4050-A81D-D7D6BDFB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BFBE-6FCC-4C8B-8FB9-AB63DFD2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A386-454A-40C9-AC14-91C2E8D5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70E5-E31A-4046-9B94-DCAEAF87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D8B4-8FFD-44DB-AEB2-80917052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03D0-4B49-4CF2-89C5-15437EC9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0D01-F028-4052-9054-9A8A42D7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0E1F-6EB3-4985-BF16-DC368BE3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604-77D9-4293-A6D8-F266118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B971-E238-4283-9ABC-27E4EA8F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CF17-C45C-499F-9849-705BE097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7089-283D-4BAE-8365-991CFB4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1395-8FD0-4B15-9C81-4636987A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7D26-5DAC-47C5-9158-767FB3E5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314-8FA3-4CF9-834D-0CD03E3D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CC5-3A24-446E-B534-A2FA0DB9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D21-4C99-4DCC-8B21-EDA459FB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997-9568-4E7B-B4F1-AE8130A8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464-76BD-4DA5-8CF1-80FBBE5E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F84-ADAC-41FA-9D14-6C00E88E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79A-C0A6-49EB-857A-FE2030F7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D377-0D0F-4A7F-89D3-0F5C2BBE740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29FD-851B-47DE-9B14-2280D8522CF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:\География 7\Picts\2_af\ver1.gif"/>
          <p:cNvPicPr/>
          <p:nvPr/>
        </p:nvPicPr>
        <p:blipFill>
          <a:blip r:embed="rId1"/>
          <a:stretch/>
        </p:blipFill>
        <p:spPr>
          <a:xfrm>
            <a:off x="1571760" y="857160"/>
            <a:ext cx="6000480" cy="4071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21472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000680" y="5143680"/>
            <a:ext cx="4892400" cy="15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Авторы: Ермаков А. Пичугина Н.  Сизов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Учитель: Миронов В. 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667692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D:\География 7\Picts\2_af\rel6.gif"/>
          <p:cNvPicPr/>
          <p:nvPr/>
        </p:nvPicPr>
        <p:blipFill>
          <a:blip r:embed="rId1"/>
          <a:stretch/>
        </p:blipFill>
        <p:spPr>
          <a:xfrm>
            <a:off x="4786200" y="3929040"/>
            <a:ext cx="414360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nat1"/>
          <p:cNvPicPr/>
          <p:nvPr/>
        </p:nvPicPr>
        <p:blipFill>
          <a:blip r:embed="rId1"/>
          <a:stretch/>
        </p:blipFill>
        <p:spPr>
          <a:xfrm>
            <a:off x="214200" y="114300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nat9"/>
          <p:cNvPicPr/>
          <p:nvPr/>
        </p:nvPicPr>
        <p:blipFill>
          <a:blip r:embed="rId2"/>
          <a:stretch/>
        </p:blipFill>
        <p:spPr>
          <a:xfrm>
            <a:off x="4714920" y="1143000"/>
            <a:ext cx="4214880" cy="3429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4857480"/>
            <a:ext cx="82296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D:\География 7\Picts\2_af\nat1.gif"/>
          <p:cNvPicPr/>
          <p:nvPr/>
        </p:nvPicPr>
        <p:blipFill>
          <a:blip r:embed="rId1"/>
          <a:stretch/>
        </p:blipFill>
        <p:spPr>
          <a:xfrm>
            <a:off x="2000160" y="1000080"/>
            <a:ext cx="5429520" cy="38577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580500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min2"/>
          <p:cNvPicPr/>
          <p:nvPr/>
        </p:nvPicPr>
        <p:blipFill>
          <a:blip r:embed="rId1"/>
          <a:stretch/>
        </p:blipFill>
        <p:spPr>
          <a:xfrm>
            <a:off x="250920" y="836640"/>
            <a:ext cx="3960720" cy="25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in4"/>
          <p:cNvPicPr/>
          <p:nvPr/>
        </p:nvPicPr>
        <p:blipFill>
          <a:blip r:embed="rId2"/>
          <a:stretch/>
        </p:blipFill>
        <p:spPr>
          <a:xfrm>
            <a:off x="4932360" y="836640"/>
            <a:ext cx="3997440" cy="252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rel2"/>
          <p:cNvPicPr/>
          <p:nvPr/>
        </p:nvPicPr>
        <p:blipFill>
          <a:blip r:embed="rId3"/>
          <a:stretch/>
        </p:blipFill>
        <p:spPr>
          <a:xfrm>
            <a:off x="250920" y="3429000"/>
            <a:ext cx="3960720" cy="242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nat6"/>
          <p:cNvPicPr/>
          <p:nvPr/>
        </p:nvPicPr>
        <p:blipFill>
          <a:blip r:embed="rId4"/>
          <a:stretch/>
        </p:blipFill>
        <p:spPr>
          <a:xfrm>
            <a:off x="4932360" y="3429000"/>
            <a:ext cx="3997440" cy="25002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5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dro11"/>
          <p:cNvPicPr/>
          <p:nvPr/>
        </p:nvPicPr>
        <p:blipFill>
          <a:blip r:embed="rId1"/>
          <a:stretch/>
        </p:blipFill>
        <p:spPr>
          <a:xfrm>
            <a:off x="214200" y="1125360"/>
            <a:ext cx="4357800" cy="394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ro9"/>
          <p:cNvPicPr/>
          <p:nvPr/>
        </p:nvPicPr>
        <p:blipFill>
          <a:blip r:embed="rId2"/>
          <a:stretch/>
        </p:blipFill>
        <p:spPr>
          <a:xfrm>
            <a:off x="4643280" y="1125360"/>
            <a:ext cx="4286520" cy="3946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D:\География 7\Picts\4_as\mon3.gif"/>
          <p:cNvPicPr/>
          <p:nvPr/>
        </p:nvPicPr>
        <p:blipFill>
          <a:blip r:embed="rId1"/>
          <a:stretch/>
        </p:blipFill>
        <p:spPr>
          <a:xfrm>
            <a:off x="2000160" y="3143160"/>
            <a:ext cx="5572080" cy="350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470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3200" spc="-1" strike="noStrike">
                <a:solidFill>
                  <a:srgbClr val="33cc33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38:17Z</dcterms:created>
  <dc:creator>User</dc:creator>
  <dc:description/>
  <dc:language>en-US</dc:language>
  <cp:lastModifiedBy>LEGION</cp:lastModifiedBy>
  <dcterms:modified xsi:type="dcterms:W3CDTF">2014-12-30T08:46:13Z</dcterms:modified>
  <cp:revision>10</cp:revision>
  <dc:subject/>
  <dc:title>Полупустыни  и пустыни</dc:title>
</cp:coreProperties>
</file>