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D8B4-9F1D-45CF-83C1-8BDD1FB1C6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Авторы: Ермаков А. Пичугина Н.  Сизов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Учитель: Миронов В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A870-665E-4724-BD26-67B617BA9D38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D2C3-D9F9-49E3-8E2F-91FA2FE3A63A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1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801F-22FE-45AD-8959-7FE43208442F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C261-AA53-49C1-8E58-1083C7764291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6C04-898B-48EB-9767-D6A44188A9DD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56E5-EC79-4636-97CD-266216E74E63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1200" spc="-1" strike="noStrike">
                <a:solidFill>
                  <a:srgbClr val="33cc33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232E-8137-4D72-A0F2-D1A6229A8E64}" type="slidenum">
              <a:rPr b="0" lang="uk-UA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CB7-05B4-43EC-A1A2-79781BF7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65C-A3D7-4474-944F-FD5389BA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D8C-D350-4C57-B929-601B921A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BFE-187B-4970-B6E3-BF76315F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02B6-86AF-4009-909D-AF7090B3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A304-7445-4C30-B2F8-ABD7EF72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6929-F3C7-4CAB-94B5-9D601398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36CC-5C28-4A08-B253-BB885C34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A497-D2B0-4C5E-BD98-D5BCEDF9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CE4F-EDFB-4BFA-BDFC-AFB148D7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988E-DD6D-4EFD-804A-77FE152E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777-98FC-42E4-AB2D-C9B406BC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3676-EAED-48BB-9954-631873D4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0BE9-4C86-45DB-A3E8-83F4A3EE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9484-DFD5-4D5E-9309-0847B418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08A7-E244-446F-81D5-69454DA1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7D1A-9F3B-49D7-AB53-84AF99C2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48F-D299-487B-8EAF-341E94B4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E7D-4286-453E-B8B7-196225CB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68D-6405-4856-ADEA-B56097C5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D99-0138-478E-BD6B-2201BEF6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7C4-ED30-4F37-9D12-1DD540EB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D2D-0F7A-42E2-8858-53D10418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075-FBA8-45B4-946F-E46DCCFF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1D99-A481-4E6A-9A68-A5CE97EDAB9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907D-5BE9-4C4B-9513-6F64BB6BEFB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:\География 7\Picts\2_af\ver1.gif"/>
          <p:cNvPicPr/>
          <p:nvPr/>
        </p:nvPicPr>
        <p:blipFill>
          <a:blip r:embed="rId1"/>
          <a:stretch/>
        </p:blipFill>
        <p:spPr>
          <a:xfrm>
            <a:off x="1571760" y="857160"/>
            <a:ext cx="6000480" cy="4071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21472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Полупустыни  и пустыни 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России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000680" y="5143680"/>
            <a:ext cx="4892400" cy="15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Авторы: Ермаков А. Пичугина Н.  Сизов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Учитель: Миронов В. 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Содержа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667692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Клима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Раститель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Животный ми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Значение полупустынь и пустын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D:\География 7\Picts\2_af\rel6.gif"/>
          <p:cNvPicPr/>
          <p:nvPr/>
        </p:nvPicPr>
        <p:blipFill>
          <a:blip r:embed="rId1"/>
          <a:stretch/>
        </p:blipFill>
        <p:spPr>
          <a:xfrm>
            <a:off x="4786200" y="3929040"/>
            <a:ext cx="4143600" cy="27147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Географическое положе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4508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расположены в области резко континентального клима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ccff66"/>
                </a:solidFill>
                <a:latin typeface="Times New Roman"/>
              </a:rPr>
              <a:t>Полупустыни и пустыни лежат на прикаспийской низменности.  </a:t>
            </a:r>
            <a:r>
              <a:rPr b="0" lang="ru-RU" sz="3200" spc="-1" strike="noStrike">
                <a:solidFill>
                  <a:srgbClr val="ccff66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nat1"/>
          <p:cNvPicPr/>
          <p:nvPr/>
        </p:nvPicPr>
        <p:blipFill>
          <a:blip r:embed="rId1"/>
          <a:stretch/>
        </p:blipFill>
        <p:spPr>
          <a:xfrm>
            <a:off x="214200" y="114300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nat9"/>
          <p:cNvPicPr/>
          <p:nvPr/>
        </p:nvPicPr>
        <p:blipFill>
          <a:blip r:embed="rId2"/>
          <a:stretch/>
        </p:blipFill>
        <p:spPr>
          <a:xfrm>
            <a:off x="4714920" y="1143000"/>
            <a:ext cx="4214880" cy="3429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ff"/>
                </a:solidFill>
                <a:latin typeface="Monotype Corsiva"/>
              </a:rPr>
              <a:t>Климат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4857480"/>
            <a:ext cx="822960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ru-RU" sz="2400" spc="-1" strike="noStrike">
                <a:solidFill>
                  <a:srgbClr val="00cc00"/>
                </a:solidFill>
                <a:latin typeface="Times New Roman"/>
              </a:rPr>
              <a:t>Полупустыни и пустыни сухой, резко континентальный климат. Это связано с тем, что циклоны здесь крайне редкие гости, зато антициклоны приходят постоянно из глубины Евразии. Зимы полупустынях и пустынях холодные. Лето в полупустынях и пустынях жаркое. </a:t>
            </a:r>
            <a:r>
              <a:rPr b="0" lang="ru-RU" sz="2400" spc="-1" strike="noStrike">
                <a:solidFill>
                  <a:srgbClr val="cc3300"/>
                </a:solidFill>
                <a:latin typeface="Monotype Corsiv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D:\География 7\Picts\2_af\nat1.gif"/>
          <p:cNvPicPr/>
          <p:nvPr/>
        </p:nvPicPr>
        <p:blipFill>
          <a:blip r:embed="rId1"/>
          <a:stretch/>
        </p:blipFill>
        <p:spPr>
          <a:xfrm>
            <a:off x="2000160" y="1000080"/>
            <a:ext cx="5429520" cy="38577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Растительность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580500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0066"/>
                </a:solidFill>
                <a:latin typeface="Times New Roman"/>
              </a:rPr>
              <a:t>Полупустынях и пустынях есть растения: вирблюжая колючка, лотос, эфемеры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min2"/>
          <p:cNvPicPr/>
          <p:nvPr/>
        </p:nvPicPr>
        <p:blipFill>
          <a:blip r:embed="rId1"/>
          <a:stretch/>
        </p:blipFill>
        <p:spPr>
          <a:xfrm>
            <a:off x="250920" y="836640"/>
            <a:ext cx="3960720" cy="252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in4"/>
          <p:cNvPicPr/>
          <p:nvPr/>
        </p:nvPicPr>
        <p:blipFill>
          <a:blip r:embed="rId2"/>
          <a:stretch/>
        </p:blipFill>
        <p:spPr>
          <a:xfrm>
            <a:off x="4932360" y="836640"/>
            <a:ext cx="3997440" cy="252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rel2"/>
          <p:cNvPicPr/>
          <p:nvPr/>
        </p:nvPicPr>
        <p:blipFill>
          <a:blip r:embed="rId3"/>
          <a:stretch/>
        </p:blipFill>
        <p:spPr>
          <a:xfrm>
            <a:off x="250920" y="3429000"/>
            <a:ext cx="3960720" cy="242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nat6"/>
          <p:cNvPicPr/>
          <p:nvPr/>
        </p:nvPicPr>
        <p:blipFill>
          <a:blip r:embed="rId4"/>
          <a:stretch/>
        </p:blipFill>
        <p:spPr>
          <a:xfrm>
            <a:off x="4932360" y="3429000"/>
            <a:ext cx="3997440" cy="25002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Monotype Corsiva"/>
              </a:rPr>
              <a:t>Животный мир</a:t>
            </a:r>
            <a:r>
              <a:rPr b="0" lang="ru-RU" sz="5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В полупустынях и пустынях есть животные:  тушканчики, мыши полёвки, змеи, ящерицы, жучки, скорпионы.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dro11"/>
          <p:cNvPicPr/>
          <p:nvPr/>
        </p:nvPicPr>
        <p:blipFill>
          <a:blip r:embed="rId1"/>
          <a:stretch/>
        </p:blipFill>
        <p:spPr>
          <a:xfrm>
            <a:off x="214200" y="1125360"/>
            <a:ext cx="4357800" cy="394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ro9"/>
          <p:cNvPicPr/>
          <p:nvPr/>
        </p:nvPicPr>
        <p:blipFill>
          <a:blip r:embed="rId2"/>
          <a:stretch/>
        </p:blipFill>
        <p:spPr>
          <a:xfrm>
            <a:off x="4643280" y="1125360"/>
            <a:ext cx="4286520" cy="3946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D:\География 7\Picts\4_as\mon3.gif"/>
          <p:cNvPicPr/>
          <p:nvPr/>
        </p:nvPicPr>
        <p:blipFill>
          <a:blip r:embed="rId1"/>
          <a:stretch/>
        </p:blipFill>
        <p:spPr>
          <a:xfrm>
            <a:off x="2000160" y="3143160"/>
            <a:ext cx="5572080" cy="350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4704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Значение полупустынь и пустынь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В полупустынях и пустынях играют очень важною роль в природе в них выращивают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cc33"/>
                </a:solidFill>
                <a:latin typeface="Times New Roman"/>
              </a:rPr>
              <a:t>пшеницу, ячмень, просо, кукурузу, горчицу и др. В них ещё пасут животных: овец, крупный рогатый скот, лошадей и верблюдов.</a:t>
            </a:r>
            <a:r>
              <a:rPr b="0" lang="ru-RU" sz="3200" spc="-1" strike="noStrike">
                <a:solidFill>
                  <a:srgbClr val="33cc33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38:17Z</dcterms:created>
  <dc:creator>User</dc:creator>
  <dc:description/>
  <dc:language>en-US</dc:language>
  <cp:lastModifiedBy>LEGION</cp:lastModifiedBy>
  <dcterms:modified xsi:type="dcterms:W3CDTF">2014-12-30T08:46:13Z</dcterms:modified>
  <cp:revision>10</cp:revision>
  <dc:subject/>
  <dc:title>Полупустыни  и пустыни</dc:title>
</cp:coreProperties>
</file>