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6FDE3-95AA-42B5-B425-BA8B8C3736D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ографическое положение Евраз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У «СОШ №2 г. Наримано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географ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ибо Т. 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F758F-CD31-4112-BF1E-BC76C44D6CFC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ур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накомить учащихся с представлением о Евраз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яснить влияние размеров на природные особ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вать имена путешественников и исследователей континен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1963C-895F-407B-A176-BF21D20C3437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е сведение о Евраз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амый большой по площади материк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S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4 млн. к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вразия делится на две части света ( Европа и Аз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мывается материк всеми океан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ая высокая гора в мире Джомолунгма – 8848 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E0A6A-5085-4B1D-84F3-8D56E3E533F8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ая рабо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контурной карте подписать океаны, которые омывают Евраз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ти географические координаты край них точек матери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в.  мыс Челюск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ж.   мыс Пиа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.   мыс 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.   мыс Дежне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C3292-A4D9-4505-A5C4-7138E1C23C6B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тели Евраз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5FA66-4760-49F7-8DAB-D50B5C4B451E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D7536-965F-48D5-AD06-FE9D3DACE614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авните географическое положение Евразии и Австрал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2D12C-72F7-4942-861F-42B4E17F93CA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яя раб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§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59 учебн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полнительный материа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ь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мала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па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б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1226D-C7C3-4FA8-9184-C6C4A3F97FF7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0B92-CC93-4D9D-975A-3FD09EC91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59FA-F4DF-4C6F-B871-62733F30E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8222-40E9-466B-A20C-223AA243B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1818-E986-43C1-B313-C1A61D2EA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66649-FF1D-4BCB-BB0D-2A83981C7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D389E-83D3-44C3-96CD-B2FA16F34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3BAC4-65EA-44B8-BA79-F4C6C6789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EC15D-21E4-4CE5-A15B-488299E93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69119-5C76-418F-9EC4-ED5E3774C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34E23-E3F1-4A60-96F0-AAA8E1BEF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48B60-5BF5-479C-92B0-DEF51059B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8E12-768A-476C-A413-647160686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E74CB-4DFE-4C52-8D61-9E5D05960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A3DF5-86B0-4586-BB53-6AB0733FB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6A447-FB7D-4C77-B822-E27AA4672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F4C18-FDA5-415D-B146-3E99DBEA1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AB7D2-9CF9-41B4-B36D-CC7962089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ACAD-A134-489F-9E73-6CBACEA0F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419F-4EEE-4EE8-8C5E-A562CA535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584A-FDB0-42EC-B3D7-8DA82E3B8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6235-F62E-498B-9367-3FF3D31ED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5A04-C504-4E97-B24F-8B31B958B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F24A-3B78-4BF9-9D55-6CD3AE7DA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D795-99EA-48A9-B16B-39D3C18BB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Group 3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Freeform 5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4" name="Group 6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Freeform 7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" name="Freeform 8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" name="Freeform 9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8" name="Group 10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Freeform 11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0" name="Group 12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Freeform 13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2" name="Group 14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Line 15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4" name="Line 16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5" name="Line 17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6" name="Line 18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" name="Line 19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" name="Line 20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" name="Line 21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" name="Line 22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" name="Line 23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" name="Line 24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" name="Line 25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" name="Line 26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" name="Line 27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" name="Line 28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7" name="Line 29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8" name="Line 30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9" name="Line 31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0" name="Line 32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1" name="Line 33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2" name="Line 34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3" name="Line 35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4" name="Line 36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5" name="Line 37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6" name="Line 38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7" name="Line 39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8" name="Line 40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9" name="Line 41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0" name="Line 42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1" name="Line 43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2" name="Line 44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3" name="Line 45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4" name="Line 46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5" name="Line 47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6" name="Line 48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7" name="Line 49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8" name="Freeform 50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49" name="Group 51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Oval 52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1" name="Oval 53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2" name="Oval 54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3" name="Oval 55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4" name="Oval 56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5" name="Oval 57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6" name="Oval 58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7" name="Oval 59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8" name="Oval 60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9" name="Oval 61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0" name="Oval 62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1" name="Oval 63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Line 64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3" name="Line 65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4" name="Line 66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5" name="Line 67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6" name="Line 68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7" name="Line 69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8" name="Line 70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9" name="Line 71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0" name="Line 72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1" name="Line 73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2" name="Line 74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3" name="Line 75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4" name="Line 76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5" name="Line 77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6" name="Line 78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7" name="Line 79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8" name="Line 80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9" name="Line 81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0" name="Line 82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1" name="Line 83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2" name="Line 84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3" name="Line 85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4" name="Line 86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5" name="Line 87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6" name="Line 88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7" name="Line 89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8" name="Line 90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9" name="Line 91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0" name="Line 92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1" name="Line 93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2" name="Line 94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3" name="Line 95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4" name="Line 96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5" name="Line 97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6" name="Line 98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7" name="Line 99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Group 100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Line 101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00" name="Line 102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101" name="Group 103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Line 104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4" name="Line 106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5" name="Line 107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6" name="Line 108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7" name="Line 109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8" name="Line 110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9" name="Line 111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10" name="Line 112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111" name="Group 113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Freeform 114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115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118" name="Group 120"/>
              <p:cNvGrpSpPr/>
              <p:nvPr/>
            </p:nvGrpSpPr>
            <p:grpSpPr>
              <a:xfrm>
                <a:off x="4752720" y="2104920"/>
                <a:ext cx="493920" cy="494280"/>
                <a:chOff x="4752720" y="2104920"/>
                <a:chExt cx="493920" cy="494280"/>
              </a:xfrm>
            </p:grpSpPr>
            <p:sp>
              <p:nvSpPr>
                <p:cNvPr id="119" name="Oval 121"/>
                <p:cNvSpPr/>
                <p:nvPr/>
              </p:nvSpPr>
              <p:spPr>
                <a:xfrm rot="2828400">
                  <a:off x="4768560" y="2330640"/>
                  <a:ext cx="3157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0" name="Freeform 122"/>
                <p:cNvSpPr/>
                <p:nvPr/>
              </p:nvSpPr>
              <p:spPr>
                <a:xfrm>
                  <a:off x="4866840" y="2226960"/>
                  <a:ext cx="254160" cy="24732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1" name="Freeform 123"/>
                <p:cNvSpPr/>
                <p:nvPr/>
              </p:nvSpPr>
              <p:spPr>
                <a:xfrm>
                  <a:off x="4949640" y="2217960"/>
                  <a:ext cx="182520" cy="17316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2" name="Freeform 124"/>
                <p:cNvSpPr/>
                <p:nvPr/>
              </p:nvSpPr>
              <p:spPr>
                <a:xfrm>
                  <a:off x="5014800" y="2112480"/>
                  <a:ext cx="227160" cy="22284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3" name="Freeform 125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E8AEC-0847-4970-A7C8-2A5060005A3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Group 3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Group 4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169" name="Group 6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1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2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173" name="Group 10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75" name="Group 12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77" name="Group 14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9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0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1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2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3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4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5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6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7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8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9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0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1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2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3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4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5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6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7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8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9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0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1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2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3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4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5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6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7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8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9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0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1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2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3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214" name="Group 51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Oval 52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6" name="Oval 53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7" name="Oval 54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8" name="Oval 55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9" name="Oval 56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0" name="Oval 57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1" name="Oval 58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2" name="Oval 59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3" name="Oval 60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4" name="Oval 61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5" name="Oval 62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6" name="Oval 63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8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9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0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1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2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3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4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5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6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7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8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9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0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1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2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3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4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5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6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7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8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9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0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1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2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3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4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5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6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7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8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9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0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1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2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65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266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8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9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0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1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2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3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4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5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276" name="Group 113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8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9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0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1" name="Rectangle 118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2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283" name="Group 120"/>
              <p:cNvGrpSpPr/>
              <p:nvPr/>
            </p:nvGrpSpPr>
            <p:grpSpPr>
              <a:xfrm>
                <a:off x="4728960" y="2141280"/>
                <a:ext cx="493920" cy="494280"/>
                <a:chOff x="4728960" y="2141280"/>
                <a:chExt cx="493920" cy="494280"/>
              </a:xfrm>
            </p:grpSpPr>
            <p:sp>
              <p:nvSpPr>
                <p:cNvPr id="284" name="Oval 121"/>
                <p:cNvSpPr/>
                <p:nvPr/>
              </p:nvSpPr>
              <p:spPr>
                <a:xfrm rot="2828400">
                  <a:off x="4744800" y="2367000"/>
                  <a:ext cx="3157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5" name="Freeform 122"/>
                <p:cNvSpPr/>
                <p:nvPr/>
              </p:nvSpPr>
              <p:spPr>
                <a:xfrm>
                  <a:off x="4843080" y="2263320"/>
                  <a:ext cx="254160" cy="24732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6" name="Freeform 123"/>
                <p:cNvSpPr/>
                <p:nvPr/>
              </p:nvSpPr>
              <p:spPr>
                <a:xfrm>
                  <a:off x="4925880" y="2254320"/>
                  <a:ext cx="182520" cy="17316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7" name="Freeform 124"/>
                <p:cNvSpPr/>
                <p:nvPr/>
              </p:nvSpPr>
              <p:spPr>
                <a:xfrm>
                  <a:off x="4991040" y="2148840"/>
                  <a:ext cx="227160" cy="22284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8" name="Freeform 125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252CD-3122-44A1-96C6-FD918B4AB46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100" spc="-1" strike="noStrike">
                <a:solidFill>
                  <a:srgbClr val="c4c3aa"/>
                </a:solidFill>
                <a:latin typeface="Arial"/>
              </a:rPr>
              <a:t>Географическое положение Евразии.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2916360" y="4508280"/>
            <a:ext cx="5976720" cy="113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МОУ «СОШ №2 г. Нариманов»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Учитель географии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кибо Т. 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4c3aa"/>
                </a:solidFill>
                <a:latin typeface="Arial"/>
              </a:rPr>
              <a:t>Цели урока.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знакомить учащихся с представлением о Еврази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ъяснить влияние размеров на природные особенност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звать имена путешественников и исследователей континента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4c3aa"/>
                </a:solidFill>
                <a:latin typeface="Arial"/>
              </a:rPr>
              <a:t>Общие сведение о Евразии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о самый большой по площади материк (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4 млн. км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²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вразия делится на две части света ( Европа и Азия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вается материк всеми океанам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мая высокая гора в мире Джомолунгма – 8848 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4c3aa"/>
                </a:solidFill>
                <a:latin typeface="Arial"/>
              </a:rPr>
              <a:t>Практическая работа.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онтурной карте подписать океаны, которые омывают Еврази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йти географические координаты край них точек материка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в.  мыс Челюски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юж.   мыс Пиа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п.   мыс Рок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.   мыс Дежнев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8" name="Picture 4" descr="1worldmap-thumb"/>
          <p:cNvPicPr/>
          <p:nvPr/>
        </p:nvPicPr>
        <p:blipFill>
          <a:blip r:embed="rId1"/>
          <a:stretch/>
        </p:blipFill>
        <p:spPr>
          <a:xfrm>
            <a:off x="5796000" y="4149720"/>
            <a:ext cx="2278080" cy="1511280"/>
          </a:xfrm>
          <a:prstGeom prst="rect">
            <a:avLst/>
          </a:prstGeom>
          <a:ln w="0">
            <a:noFill/>
          </a:ln>
        </p:spPr>
      </p:pic>
      <p:sp>
        <p:nvSpPr>
          <p:cNvPr id="3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4c3aa"/>
                </a:solidFill>
                <a:latin typeface="Arial"/>
              </a:rPr>
              <a:t>Исследователи Евразии.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351" name="Picture 3" descr=""/>
          <p:cNvPicPr/>
          <p:nvPr/>
        </p:nvPicPr>
        <p:blipFill>
          <a:blip r:embed="rId1"/>
          <a:stretch/>
        </p:blipFill>
        <p:spPr>
          <a:xfrm>
            <a:off x="457200" y="2276640"/>
            <a:ext cx="3610080" cy="360036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4" descr=""/>
          <p:cNvPicPr/>
          <p:nvPr/>
        </p:nvPicPr>
        <p:blipFill>
          <a:blip r:embed="rId2"/>
          <a:stretch/>
        </p:blipFill>
        <p:spPr>
          <a:xfrm>
            <a:off x="5508720" y="2205000"/>
            <a:ext cx="3166920" cy="360036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5"/>
          <p:cNvSpPr/>
          <p:nvPr/>
        </p:nvSpPr>
        <p:spPr>
          <a:xfrm>
            <a:off x="539640" y="177336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еменов-Тан-Шанский П.П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Text Box 6"/>
          <p:cNvSpPr/>
          <p:nvPr/>
        </p:nvSpPr>
        <p:spPr>
          <a:xfrm>
            <a:off x="5580000" y="17002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ржевальский Н.М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3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3117960" cy="453096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4" descr=""/>
          <p:cNvPicPr/>
          <p:nvPr/>
        </p:nvPicPr>
        <p:blipFill>
          <a:blip r:embed="rId2"/>
          <a:stretch/>
        </p:blipFill>
        <p:spPr>
          <a:xfrm>
            <a:off x="5435640" y="1700280"/>
            <a:ext cx="3024000" cy="4321080"/>
          </a:xfrm>
          <a:prstGeom prst="rect">
            <a:avLst/>
          </a:prstGeom>
          <a:ln w="0">
            <a:noFill/>
          </a:ln>
        </p:spPr>
      </p:pic>
      <p:sp>
        <p:nvSpPr>
          <p:cNvPr id="358" name="Text Box 5"/>
          <p:cNvSpPr/>
          <p:nvPr/>
        </p:nvSpPr>
        <p:spPr>
          <a:xfrm>
            <a:off x="755640" y="76500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озлов П.К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Text Box 6"/>
          <p:cNvSpPr/>
          <p:nvPr/>
        </p:nvSpPr>
        <p:spPr>
          <a:xfrm>
            <a:off x="5580000" y="76500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бручев В.А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4c3aa"/>
                </a:solidFill>
                <a:latin typeface="Arial"/>
              </a:rPr>
              <a:t>Сравните географическое положение Евразии и Австралии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457200" y="1600200"/>
          <a:ext cx="8229600" cy="5257800"/>
        </p:xfrm>
        <a:graphic>
          <a:graphicData uri="http://schemas.openxmlformats.org/drawingml/2006/table">
            <a:tbl>
              <a:tblPr/>
              <a:tblGrid>
                <a:gridCol w="4114800"/>
                <a:gridCol w="1871640"/>
                <a:gridCol w="2243160"/>
              </a:tblGrid>
              <a:tr h="906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Черты сравнен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Евраз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Австрал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54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Как расположен материк по поношению к экватору, нулевому меридиану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Какие океаны омывают материк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В каких климатических поясах расположе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тносительно других материк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4c3aa"/>
                </a:solidFill>
                <a:latin typeface="Arial"/>
              </a:rPr>
              <a:t>Домашняя работа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§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59 учебни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полнительный материал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ьп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имала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рпат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ибет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6" name="Picture 5" descr=""/>
          <p:cNvPicPr/>
          <p:nvPr/>
        </p:nvPicPr>
        <p:blipFill>
          <a:blip r:embed="rId1"/>
          <a:stretch/>
        </p:blipFill>
        <p:spPr>
          <a:xfrm>
            <a:off x="4716360" y="3068640"/>
            <a:ext cx="2082960" cy="2160720"/>
          </a:xfrm>
          <a:prstGeom prst="rect">
            <a:avLst/>
          </a:prstGeom>
          <a:ln w="0">
            <a:noFill/>
          </a:ln>
        </p:spPr>
      </p:pic>
      <p:sp>
        <p:nvSpPr>
          <p:cNvPr id="3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6T14:11:00Z</dcterms:created>
  <dc:creator>Admin</dc:creator>
  <dc:description/>
  <dc:language>en-US</dc:language>
  <cp:lastModifiedBy>LEGION</cp:lastModifiedBy>
  <dcterms:modified xsi:type="dcterms:W3CDTF">2014-12-30T09:35:25Z</dcterms:modified>
  <cp:revision>6</cp:revision>
  <dc:subject/>
  <dc:title>Географическое положение Евразии.</dc:title>
</cp:coreProperties>
</file>