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071D-768E-4ED9-9B9D-57A39FFC98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е положение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№2 г. Нарима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бо Т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3AF6-F568-4F45-95AB-350FEC2220D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представлением о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влияние размеров на природные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имена путешественников и исследователей контин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C7EC-184D-4821-8B5A-59E36E06FE7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е о Ев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большой по площади материк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 млн.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азия делится на две части света ( Европа и Аз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ывается материк всеми океа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высокая гора в мире Джомолунгма – 8848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1BD9-C87A-48CC-8A3A-66230F5CF05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нтурной карте подписать океаны, которые омывают Ев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географические координаты край них точек матер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.  мыс Челюс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.   мыс Пи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.   мыс 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.   мыс Деж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9D48-29E1-4DF9-9DEF-A9EEEB25560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и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ECBC-65AC-40C1-9A93-5E3EE36007D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6BEA-A13C-47AD-9201-FB9EFD812C6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 географическое положение Евразии и Австр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FAD6-C28A-45DC-8AF3-1311E865AAC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59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ала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п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б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1B84-830F-482C-888C-1E3F4ED9AA7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EC3-9F05-4568-91E4-1ED88A47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34B-7200-44AF-ABDF-725F2523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987-46F4-4846-B6A9-2C31871F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00F-A3E1-416C-882F-64EA407A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2274-B1FC-4696-9584-FD1A4782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2FA4-3124-48DD-AC0A-8962DBE5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1DB9-09B6-42E2-88BA-30CA78F8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CEA8-120E-4019-8C5A-E8D05EBC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23AB-3C2E-440B-A9B0-63058B0A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A8E3-51FF-4A22-BC72-5D42E734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990B-5AF0-4D0A-AC41-149056E9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446-9F5B-4934-AEDC-00F98423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6ECD-DD4D-4EA3-A9F7-6FA451F2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E838-4183-42C6-B705-A32D5E2E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6705-FF6D-4D4A-B32A-C16D094D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332E-ABD8-48B5-8FD6-683DEA41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9142-539F-4225-9065-74FDC4D2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08B-39DC-452D-B620-032AFCAD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C8D-4204-411A-950A-27178A2C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0AA-D717-47E5-B5D0-50EF639E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CCA-6362-41AF-85C1-27504F83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836-5D59-4845-8904-987F8DED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56A-DCA4-4A77-B212-C4B0A002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19D-5C08-41CD-9CA6-43AE78F3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51F4-380E-4703-9634-30B1812B13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AAE7-7E38-49A1-9D64-71BB804738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c4c3aa"/>
                </a:solidFill>
                <a:latin typeface="Arial"/>
              </a:rPr>
              <a:t>Географическое положение Евразии.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916360" y="4508280"/>
            <a:ext cx="59767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У «СОШ №2 г. Нариман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ибо Т.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Цели урок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учащихся с представлением о Евраз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снить влияние размеров на природные особен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ть имена путешественников и исследователей континен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Общие сведение о Евраз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самый большой по площади материк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4 млн.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разия делится на две части света ( Европа и Ази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ается материк всеми океан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высокая гора в мире Джомолунгма – 8848 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рактическая работ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нтурной карте подписать океаны, которые омывают Евраз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географические координаты край них точек материк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в.  мыс Челюск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ж.   мыс Пиа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.   мыс Ро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.   мыс Дежн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4" descr="1worldmap-thumb"/>
          <p:cNvPicPr/>
          <p:nvPr/>
        </p:nvPicPr>
        <p:blipFill>
          <a:blip r:embed="rId1"/>
          <a:stretch/>
        </p:blipFill>
        <p:spPr>
          <a:xfrm>
            <a:off x="5796000" y="4149720"/>
            <a:ext cx="227808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сследователи Евразии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610080" cy="3600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3166920" cy="3600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539640" y="177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менов-Тан-Шанский П.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558000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жевальский Н.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117960" cy="4530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024000" cy="4321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755640" y="76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злов П.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580000" y="76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учев В.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равните географическое положение Евразии и Австрал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8229600" cy="5257800"/>
        </p:xfrm>
        <a:graphic>
          <a:graphicData uri="http://schemas.openxmlformats.org/drawingml/2006/table">
            <a:tbl>
              <a:tblPr/>
              <a:tblGrid>
                <a:gridCol w="4114800"/>
                <a:gridCol w="1871640"/>
                <a:gridCol w="2243160"/>
              </a:tblGrid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ерты срав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враз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расположен материк по поношению к экватору, нулевому меридиан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ие океаны омывают матери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аких климатических поясах располож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носительно других материк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59 учеб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ительный материа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ь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рпа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б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2082960" cy="2160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11:00Z</dcterms:created>
  <dc:creator>Admin</dc:creator>
  <dc:description/>
  <dc:language>en-US</dc:language>
  <cp:lastModifiedBy>LEGION</cp:lastModifiedBy>
  <dcterms:modified xsi:type="dcterms:W3CDTF">2014-12-30T09:35:25Z</dcterms:modified>
  <cp:revision>6</cp:revision>
  <dc:subject/>
  <dc:title>Географическое положение Евразии.</dc:title>
</cp:coreProperties>
</file>