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84C5-56A6-48AC-81BD-5584C0CF9D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е положение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№2 г. Нарима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бо Т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6F89-49DB-4415-BFA5-F65DF96A5EE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представлением о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влияние размеров на природные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имена путешественников и исследователей контин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FA56-1391-4C9D-8CEF-0A1E78F6175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е о Ев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большой по площади материк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 млн.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азия делится на две части света ( Европа и Аз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ывается материк всеми океа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высокая гора в мире Джомолунгма – 8848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81F9-C1D9-4286-A9A9-1E3DA405DBC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нтурной карте подписать океаны, которые омывают Ев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географические координаты край них точек матер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.  мыс Челюс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.   мыс Пи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.   мыс 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.   мыс Деж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BDCE-9EA6-4FB0-BA01-DE5C2CB08DA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и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43BE-B064-4914-B3AC-59208677B10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A898-B83F-4728-807A-98C69E08B76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 географическое положение Евразии и Австр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D974-F6E2-4910-9E72-7769811ABBD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59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ала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п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б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FC35-A96D-4673-BD05-AB3054E4072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869-6A8B-4B13-B139-222048EE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9FA-4F1E-41EF-A35B-8C37B608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B83-0AAE-405F-96ED-99AF133B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7C6-E22B-449F-B61C-652D8980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97F5-A2A7-4F00-A339-023836F1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7403-CB6D-4653-88C7-5217CFE4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9A7D-CA12-44B1-A5C2-A1AD1452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4F78-6D3E-4187-AC4A-1547C736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97E5-444E-4C3E-A6F6-5485CF70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301A-41E2-472D-8A73-2A20FE73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F576-AA4F-4959-9C88-69B25AC1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F12-F63A-41BA-BDAB-D1D6FBD8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88C0-5449-46BB-A17D-04793176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53AB-A1E4-4482-9F78-724D337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B9A6-4BD2-434A-8110-B2F88A1C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4E0B-F730-49E7-A777-778B3C27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EEEA-46F0-46D4-9681-A7FFD2D3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7CF6-E770-4E36-8A9E-BAC467F2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287-2B33-4665-B1C9-B2B1FC3F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5F7-64E9-4117-82C0-789C3769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B51-4CA8-4C73-BC74-EE9A76BB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960-81C8-4C02-81E6-CF8F4A76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C57-718B-40C7-B13B-E720B733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9CB-9548-4C94-B804-8A6CE0FD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1459-D2D6-41EA-9FF4-B6D2C8601A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7BB5-8E69-4278-971E-6B1A484CA1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c4c3aa"/>
                </a:solidFill>
                <a:latin typeface="Arial"/>
              </a:rPr>
              <a:t>Географическое положение Евразии.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916360" y="4508280"/>
            <a:ext cx="59767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У «СОШ №2 г. Нариман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ибо Т.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Цели урок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учащихся с представлением о Евраз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снить влияние размеров на природные особен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ть имена путешественников и исследователей континен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Общие сведение о Евраз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самый большой по площади материк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4 млн.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разия делится на две части света ( Европа и Ази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ается материк всеми океан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высокая гора в мире Джомолунгма – 8848 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рактическая работ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нтурной карте подписать океаны, которые омывают Евраз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географические координаты край них точек материк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в.  мыс Челюск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ж.   мыс Пиа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.   мыс Ро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.   мыс Дежн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4" descr="1worldmap-thumb"/>
          <p:cNvPicPr/>
          <p:nvPr/>
        </p:nvPicPr>
        <p:blipFill>
          <a:blip r:embed="rId1"/>
          <a:stretch/>
        </p:blipFill>
        <p:spPr>
          <a:xfrm>
            <a:off x="5796000" y="4149720"/>
            <a:ext cx="227808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сследователи Евразии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610080" cy="3600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3166920" cy="3600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539640" y="177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менов-Тан-Шанский П.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558000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жевальский Н.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117960" cy="4530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024000" cy="4321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755640" y="76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злов П.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580000" y="76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учев В.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равните географическое положение Евразии и Австрал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8229600" cy="5257800"/>
        </p:xfrm>
        <a:graphic>
          <a:graphicData uri="http://schemas.openxmlformats.org/drawingml/2006/table">
            <a:tbl>
              <a:tblPr/>
              <a:tblGrid>
                <a:gridCol w="4114800"/>
                <a:gridCol w="1871640"/>
                <a:gridCol w="2243160"/>
              </a:tblGrid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ерты срав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враз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расположен материк по поношению к экватору, нулевому меридиан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ие океаны омывают матери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аких климатических поясах располож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носительно других материк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59 учеб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ительный материа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ь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рпа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б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2082960" cy="2160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11:00Z</dcterms:created>
  <dc:creator>Admin</dc:creator>
  <dc:description/>
  <dc:language>en-US</dc:language>
  <cp:lastModifiedBy>LEGION</cp:lastModifiedBy>
  <dcterms:modified xsi:type="dcterms:W3CDTF">2014-12-30T09:35:25Z</dcterms:modified>
  <cp:revision>6</cp:revision>
  <dc:subject/>
  <dc:title>Географическое положение Евразии.</dc:title>
</cp:coreProperties>
</file>