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3B0D-C0AA-46ED-B7FD-276EEF8CA8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е положение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СОШ №2 г. Нарима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ибо Т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C595-5E88-441C-ADA4-E8C64287738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учащихся с представлением о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влияние размеров на природные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ть имена путешественников и исследователей контин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DA0-2BD8-4BF2-BDA9-95D6DA1DE0D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е о Евр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большой по площади материк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 млн.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азия делится на две части света ( Европа и Аз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ывается материк всеми океа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высокая гора в мире Джомолунгма – 8848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9CDB-590F-4953-96B0-F0267445DAE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нтурной карте подписать океаны, которые омывают Ев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географические координаты край них точек матер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.  мыс Челюс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.   мыс Пи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.   мыс 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.   мыс Деж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F33-9518-4FCF-974F-5ADF4312D96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и Евр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18B-802D-484E-9605-2F178ACF642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901C-09BE-4A61-A911-54BB18DDD4E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 географическое положение Евразии и Австр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751-C1B4-4E8A-970E-E65DC98E324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59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мала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п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б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67EF-BD43-42F5-BA6E-B3945F1414C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787-B02F-48BC-9C77-40B0378EA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9C7-5E65-4B47-8999-49FB00F4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F3A-8661-4986-B312-E9E1C7DE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C4B-79C3-4F6F-B1A1-7AD08B91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29F-BB9D-4F2D-9938-786A1F1C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FC4-437A-4EF3-ABD4-E39DC77B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FD2D-0C10-4BEB-B766-6BE776BA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3FA4-E4EC-4663-9AB3-38A56CF6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5417-54C7-434A-893E-0D866D56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735-231A-444A-AF56-59243F7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88B-B168-47A6-8CA9-0B2936F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CC1-B850-46AB-BE77-AE827898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7662-273A-4AFC-99BE-3EC294E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40DA-D14A-4D2C-ADDB-8EC16B43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27F-AD84-4D23-87CC-DD258011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26FE-595B-4D45-929F-2B3C3692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13B-9EC6-4417-99E5-5CBF4CEA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C741-2BD9-4F6B-93AB-97743E3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93D-C57F-4A68-A3B0-9F7A0CAE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067-A5BA-48F8-B091-77F7C2E0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495-9B70-46F0-80C4-BF1248D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6359-D35D-42DE-89CF-C91EA10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A70-3F7F-4E0F-A155-B64FF3D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872-7B24-422B-AB0D-F6F7CA8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CE31-4907-499A-92F7-2477AFF528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6594-C993-4850-8FE9-1C260AA1D5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c4c3aa"/>
                </a:solidFill>
                <a:latin typeface="Arial"/>
              </a:rPr>
              <a:t>Географическое положение Евразии.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916360" y="4508280"/>
            <a:ext cx="597672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У «СОШ №2 г. Нариманов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кибо Т. 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Цели урок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ь учащихся с представлением о Евраз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ъяснить влияние размеров на природные особенност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звать имена путешественников и исследователей континент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Общие сведение о Евразии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о самый большой по площади материк (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4 млн.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²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Евразия делится на две части света ( Европа и Азия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мывается материк всеми океанам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мая высокая гора в мире Джомолунгма – 8848 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Практическая работа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 контурной карте подписать океаны, которые омывают Еврази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йти географические координаты край них точек материка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ев.  мыс Челюск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ж.   мыс Пиа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п.   мыс Р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с.   мыс Дежне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8" name="Picture 4" descr="1worldmap-thumb"/>
          <p:cNvPicPr/>
          <p:nvPr/>
        </p:nvPicPr>
        <p:blipFill>
          <a:blip r:embed="rId1"/>
          <a:stretch/>
        </p:blipFill>
        <p:spPr>
          <a:xfrm>
            <a:off x="5796000" y="4149720"/>
            <a:ext cx="2278080" cy="151128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Исследователи Евразии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610080" cy="3600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166920" cy="36003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"/>
          <p:cNvSpPr/>
          <p:nvPr/>
        </p:nvSpPr>
        <p:spPr>
          <a:xfrm>
            <a:off x="539640" y="1773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менов-Тан-Шанский П.П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5580000" y="170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жевальский Н.М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117960" cy="45309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3024000" cy="432108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5"/>
          <p:cNvSpPr/>
          <p:nvPr/>
        </p:nvSpPr>
        <p:spPr>
          <a:xfrm>
            <a:off x="755640" y="7650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злов П.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5580000" y="765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ручев В.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Сравните географическое положение Евразии и Австралии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57200" y="1600200"/>
          <a:ext cx="8229600" cy="5257800"/>
        </p:xfrm>
        <a:graphic>
          <a:graphicData uri="http://schemas.openxmlformats.org/drawingml/2006/table">
            <a:tbl>
              <a:tblPr/>
              <a:tblGrid>
                <a:gridCol w="4114800"/>
                <a:gridCol w="1871640"/>
                <a:gridCol w="2243160"/>
              </a:tblGrid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Черты сравн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Евраз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страл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расположен материк по поношению к экватору, нулевому меридиан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ие океаны омывают матери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 каких климатических поясах располож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тносительно других материк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59 учебни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полнительный материа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льп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имала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па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иб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2082960" cy="2160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11:00Z</dcterms:created>
  <dc:creator>Admin</dc:creator>
  <dc:description/>
  <dc:language>en-US</dc:language>
  <cp:lastModifiedBy>LEGION</cp:lastModifiedBy>
  <dcterms:modified xsi:type="dcterms:W3CDTF">2014-12-30T09:35:25Z</dcterms:modified>
  <cp:revision>6</cp:revision>
  <dc:subject/>
  <dc:title>Географическое положение Евразии.</dc:title>
</cp:coreProperties>
</file>