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37950-3496-47B3-B37F-2DD3A710FEE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ографическое положение Евраз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У «СОШ №2 г. Наримано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географ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ибо Т. 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A8006-7BC1-4055-8E86-457116B392F1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у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комить учащихся с представлением о Евраз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яснить влияние размеров на природные особ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вать имена путешественников и исследователей континен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B4356-C8DA-4340-BD0E-669E14B422FD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сведение о Евраз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амый большой по площади материк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S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4 млн. к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азия делится на две части света ( Европа и Аз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мывается материк всеми океан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ая высокая гора в мире Джомолунгма – 8848 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2C29C-1CC2-4E71-90A4-CA451C8F177E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ая рабо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контурной карте подписать океаны, которые омывают Евраз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ти географические координаты край них точек матери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в.  мыс Челюск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ж.   мыс Пиа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.   мыс 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.   мыс Дежне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657C9-F276-437B-BE7C-AB88544E13D0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тели Евраз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B859C-F16C-4EEE-8739-408B0A8A9212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C36AA-5D9F-436C-866A-9DA7BEDF79A7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авните географическое положение Евразии и Австрал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B4DC8-9B37-4D51-8463-2E2974B3A205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яя раб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§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59 учеб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олнительный материа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ь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мала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па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б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57060-750F-4877-B541-DC05D1B40FF1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B3EF-D25F-416F-B56B-6AFDD0B8B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72CC-CB9D-44F8-99C1-DFF066535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B07A-466E-4093-8924-6B8F66AF4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E474-3169-434A-A9EF-3CA031884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774BB-B40A-479F-A0D9-CE58A4F48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6369C-7905-46FC-9ABB-B38451081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6C6BD-FD2E-469D-9BCE-9E97405D0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2F041-C231-4692-9992-CCD5AC508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59A4F-748D-4CB4-878B-246F4106D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2E088-6A23-4EAE-9E78-C3BBB90F0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D947E-8AC2-4DC1-A08C-2A75FFBD0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AA48-F20D-4A5B-8C10-5BCBF42B8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3B138-3BCA-4466-B771-6688753F0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5B58F-78A5-4A3F-9803-1FC03C8EC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A7B95-AA3E-4309-8CA5-67A31DB30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10D3E-3849-4EE7-9780-FD2F606D8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3DCC5-8C37-44DD-88E0-8793C6991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BAF7-6FC5-41E2-96CA-44615CF5E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8FB2-B97B-4854-A99F-F706123D9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1958-7BFE-4031-9E89-A51F260DA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147C-352F-40CF-A17D-6D2152479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C19E-433E-4806-99AC-B7EE64D0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CF60-C6E0-48B3-9BD9-A4875EF5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0599-53CF-4938-9361-669377F70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Group 3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4" name="Group 6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8" name="Group 10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0" name="Group 12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2" name="Group 14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4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5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6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7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8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9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0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1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2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3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4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5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6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7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8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9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0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1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2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3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4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5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6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7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8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49" name="Group 51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Oval 52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1" name="Oval 53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2" name="Oval 54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3" name="Oval 55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4" name="Oval 56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5" name="Oval 57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6" name="Oval 58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7" name="Oval 59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8" name="Oval 60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9" name="Oval 61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0" name="Oval 62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1" name="Oval 63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3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4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5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6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7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8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9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0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1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2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3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4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5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6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7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8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9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0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1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2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3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4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5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6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7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8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9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0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1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2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3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4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5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6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7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00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01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4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5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7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8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9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0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111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118" name="Group 120"/>
              <p:cNvGrpSpPr/>
              <p:nvPr/>
            </p:nvGrpSpPr>
            <p:grpSpPr>
              <a:xfrm>
                <a:off x="4752720" y="2104920"/>
                <a:ext cx="493920" cy="494280"/>
                <a:chOff x="4752720" y="2104920"/>
                <a:chExt cx="493920" cy="494280"/>
              </a:xfrm>
            </p:grpSpPr>
            <p:sp>
              <p:nvSpPr>
                <p:cNvPr id="119" name="Oval 121"/>
                <p:cNvSpPr/>
                <p:nvPr/>
              </p:nvSpPr>
              <p:spPr>
                <a:xfrm rot="2828400">
                  <a:off x="4768560" y="233064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0" name="Freeform 122"/>
                <p:cNvSpPr/>
                <p:nvPr/>
              </p:nvSpPr>
              <p:spPr>
                <a:xfrm>
                  <a:off x="4866840" y="2226960"/>
                  <a:ext cx="254160" cy="24732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1" name="Freeform 123"/>
                <p:cNvSpPr/>
                <p:nvPr/>
              </p:nvSpPr>
              <p:spPr>
                <a:xfrm>
                  <a:off x="4949640" y="2217960"/>
                  <a:ext cx="182520" cy="17316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2" name="Freeform 124"/>
                <p:cNvSpPr/>
                <p:nvPr/>
              </p:nvSpPr>
              <p:spPr>
                <a:xfrm>
                  <a:off x="5014800" y="2112480"/>
                  <a:ext cx="227160" cy="22284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3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FF0F2-DB2A-47BC-A020-0BCE7E1947A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Group 3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Group 4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69" name="Group 6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1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2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173" name="Group 10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75" name="Group 12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77" name="Group 14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9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0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1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2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3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4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5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6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7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8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9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0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1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2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3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4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5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6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7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8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9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0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1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2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3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4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5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6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7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8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9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0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1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2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3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214" name="Group 51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Oval 52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6" name="Oval 53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7" name="Oval 54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8" name="Oval 55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9" name="Oval 56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0" name="Oval 57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1" name="Oval 58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2" name="Oval 59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3" name="Oval 60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4" name="Oval 61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5" name="Oval 62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6" name="Oval 63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8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9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0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1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2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3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4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5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6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7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8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9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0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1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2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3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4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5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6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7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8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9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0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1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2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3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4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5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6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7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8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9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0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1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2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65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266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8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9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0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1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2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3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4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5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276" name="Group 113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8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9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0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1" name="Rectangle 118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2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283" name="Group 120"/>
              <p:cNvGrpSpPr/>
              <p:nvPr/>
            </p:nvGrpSpPr>
            <p:grpSpPr>
              <a:xfrm>
                <a:off x="4728960" y="2141280"/>
                <a:ext cx="493920" cy="494280"/>
                <a:chOff x="4728960" y="2141280"/>
                <a:chExt cx="493920" cy="494280"/>
              </a:xfrm>
            </p:grpSpPr>
            <p:sp>
              <p:nvSpPr>
                <p:cNvPr id="284" name="Oval 121"/>
                <p:cNvSpPr/>
                <p:nvPr/>
              </p:nvSpPr>
              <p:spPr>
                <a:xfrm rot="2828400">
                  <a:off x="4744800" y="236700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5" name="Freeform 122"/>
                <p:cNvSpPr/>
                <p:nvPr/>
              </p:nvSpPr>
              <p:spPr>
                <a:xfrm>
                  <a:off x="4843080" y="2263320"/>
                  <a:ext cx="254160" cy="24732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6" name="Freeform 123"/>
                <p:cNvSpPr/>
                <p:nvPr/>
              </p:nvSpPr>
              <p:spPr>
                <a:xfrm>
                  <a:off x="4925880" y="2254320"/>
                  <a:ext cx="182520" cy="17316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7" name="Freeform 124"/>
                <p:cNvSpPr/>
                <p:nvPr/>
              </p:nvSpPr>
              <p:spPr>
                <a:xfrm>
                  <a:off x="4991040" y="2148840"/>
                  <a:ext cx="227160" cy="22284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8" name="Freeform 125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36830-4520-41D1-AEFF-095374015B0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100" spc="-1" strike="noStrike">
                <a:solidFill>
                  <a:srgbClr val="c4c3aa"/>
                </a:solidFill>
                <a:latin typeface="Arial"/>
              </a:rPr>
              <a:t>Географическое положение Евразии.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2916360" y="4508280"/>
            <a:ext cx="5976720" cy="113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МОУ «СОШ №2 г. Нариманов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Учитель географии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кибо Т. 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4c3aa"/>
                </a:solidFill>
                <a:latin typeface="Arial"/>
              </a:rPr>
              <a:t>Цели урока.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знакомить учащихся с представлением о Еврази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ъяснить влияние размеров на природные особенност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звать имена путешественников и исследователей континента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4c3aa"/>
                </a:solidFill>
                <a:latin typeface="Arial"/>
              </a:rPr>
              <a:t>Общие сведение о Евразии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о самый большой по площади материк (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4 млн. км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²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вразия делится на две части света ( Европа и Азия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вается материк всеми океанам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ая высокая гора в мире Джомолунгма – 8848 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4c3aa"/>
                </a:solidFill>
                <a:latin typeface="Arial"/>
              </a:rPr>
              <a:t>Практическая работа.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онтурной карте подписать океаны, которые омывают Еврази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йти географические координаты край них точек материка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в.  мыс Челюски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юж.   мыс Пиа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п.   мыс Рок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.   мыс Дежнев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8" name="Picture 4" descr="1worldmap-thumb"/>
          <p:cNvPicPr/>
          <p:nvPr/>
        </p:nvPicPr>
        <p:blipFill>
          <a:blip r:embed="rId1"/>
          <a:stretch/>
        </p:blipFill>
        <p:spPr>
          <a:xfrm>
            <a:off x="5796000" y="4149720"/>
            <a:ext cx="2278080" cy="1511280"/>
          </a:xfrm>
          <a:prstGeom prst="rect">
            <a:avLst/>
          </a:prstGeom>
          <a:ln w="0">
            <a:noFill/>
          </a:ln>
        </p:spPr>
      </p:pic>
      <p:sp>
        <p:nvSpPr>
          <p:cNvPr id="3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4c3aa"/>
                </a:solidFill>
                <a:latin typeface="Arial"/>
              </a:rPr>
              <a:t>Исследователи Евразии.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51" name="Picture 3" descr=""/>
          <p:cNvPicPr/>
          <p:nvPr/>
        </p:nvPicPr>
        <p:blipFill>
          <a:blip r:embed="rId1"/>
          <a:stretch/>
        </p:blipFill>
        <p:spPr>
          <a:xfrm>
            <a:off x="457200" y="2276640"/>
            <a:ext cx="3610080" cy="360036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4" descr=""/>
          <p:cNvPicPr/>
          <p:nvPr/>
        </p:nvPicPr>
        <p:blipFill>
          <a:blip r:embed="rId2"/>
          <a:stretch/>
        </p:blipFill>
        <p:spPr>
          <a:xfrm>
            <a:off x="5508720" y="2205000"/>
            <a:ext cx="3166920" cy="360036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5"/>
          <p:cNvSpPr/>
          <p:nvPr/>
        </p:nvSpPr>
        <p:spPr>
          <a:xfrm>
            <a:off x="539640" y="177336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еменов-Тан-Шанский П.П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Text Box 6"/>
          <p:cNvSpPr/>
          <p:nvPr/>
        </p:nvSpPr>
        <p:spPr>
          <a:xfrm>
            <a:off x="5580000" y="17002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жевальский Н.М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3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3117960" cy="453096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4" descr=""/>
          <p:cNvPicPr/>
          <p:nvPr/>
        </p:nvPicPr>
        <p:blipFill>
          <a:blip r:embed="rId2"/>
          <a:stretch/>
        </p:blipFill>
        <p:spPr>
          <a:xfrm>
            <a:off x="5435640" y="1700280"/>
            <a:ext cx="3024000" cy="4321080"/>
          </a:xfrm>
          <a:prstGeom prst="rect">
            <a:avLst/>
          </a:prstGeom>
          <a:ln w="0">
            <a:noFill/>
          </a:ln>
        </p:spPr>
      </p:pic>
      <p:sp>
        <p:nvSpPr>
          <p:cNvPr id="358" name="Text Box 5"/>
          <p:cNvSpPr/>
          <p:nvPr/>
        </p:nvSpPr>
        <p:spPr>
          <a:xfrm>
            <a:off x="755640" y="76500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озлов П.К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Text Box 6"/>
          <p:cNvSpPr/>
          <p:nvPr/>
        </p:nvSpPr>
        <p:spPr>
          <a:xfrm>
            <a:off x="5580000" y="76500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бручев В.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4c3aa"/>
                </a:solidFill>
                <a:latin typeface="Arial"/>
              </a:rPr>
              <a:t>Сравните географическое положение Евразии и Австралии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457200" y="1600200"/>
          <a:ext cx="8229600" cy="5257800"/>
        </p:xfrm>
        <a:graphic>
          <a:graphicData uri="http://schemas.openxmlformats.org/drawingml/2006/table">
            <a:tbl>
              <a:tblPr/>
              <a:tblGrid>
                <a:gridCol w="4114800"/>
                <a:gridCol w="1871640"/>
                <a:gridCol w="2243160"/>
              </a:tblGrid>
              <a:tr h="906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Черты сравнен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Евраз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Австрал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4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Как расположен материк по поношению к экватору, нулевому меридиану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Какие океаны омывают материк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В каких климатических поясах расположе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тносительно других материк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4c3aa"/>
                </a:solidFill>
                <a:latin typeface="Arial"/>
              </a:rPr>
              <a:t>Домашняя работа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§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59 учебни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полнительный материал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ьп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имала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рпат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ибет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6" name="Picture 5" descr=""/>
          <p:cNvPicPr/>
          <p:nvPr/>
        </p:nvPicPr>
        <p:blipFill>
          <a:blip r:embed="rId1"/>
          <a:stretch/>
        </p:blipFill>
        <p:spPr>
          <a:xfrm>
            <a:off x="4716360" y="3068640"/>
            <a:ext cx="2082960" cy="2160720"/>
          </a:xfrm>
          <a:prstGeom prst="rect">
            <a:avLst/>
          </a:prstGeom>
          <a:ln w="0">
            <a:noFill/>
          </a:ln>
        </p:spPr>
      </p:pic>
      <p:sp>
        <p:nvSpPr>
          <p:cNvPr id="3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6T14:11:00Z</dcterms:created>
  <dc:creator>Admin</dc:creator>
  <dc:description/>
  <dc:language>en-US</dc:language>
  <cp:lastModifiedBy>LEGION</cp:lastModifiedBy>
  <dcterms:modified xsi:type="dcterms:W3CDTF">2014-12-30T09:35:25Z</dcterms:modified>
  <cp:revision>6</cp:revision>
  <dc:subject/>
  <dc:title>Географическое положение Евразии.</dc:title>
</cp:coreProperties>
</file>