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4FF3-2AEE-401C-BDB5-2D28A5C252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астите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7FC0-791E-44A2-A626-F56E248F91E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65A8-9984-42B1-A746-AC88CE3C85FF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D494-25A0-4995-9A56-2B85A20FD11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A1CC-0372-4E63-8A42-7039E2D1553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D0F5-2715-4FC7-9059-5E779E4DFFD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EF5C-F1D7-4B82-A266-FD4EC8FD234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7EB-22AE-48B5-8B29-87C5F069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192-3130-427D-A553-FA1E6FFD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1B3-B4CC-474C-831D-30E2371F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D4F-C18F-4EC4-B537-BD7BA090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E5C2-BEB1-481C-AB5D-973BA90B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750E-7BDF-4ABC-AF02-4E525B9B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775-CBD9-48F0-B2DC-3AAF2DEB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9153-F329-4D4A-8500-FDF5140B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653D-B8B8-487E-B7DD-301491BE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F7DA-B0C7-47E0-A13C-85EA49B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7CBC-AA1B-444D-9892-6AFA399D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EF7-303A-400E-B8EA-0C9B2835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EA2A-3B81-4870-9360-8346191C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3E7A-F1AE-4B4C-AC48-2B806FD1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3ABF-1BF6-4F36-BBFA-4C5CC210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67CB-7C63-47A2-AB39-15BA786D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532E-E8C0-456B-BF05-549C9A5A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595-B494-494A-8C08-060DD01E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EBF-A21F-4E21-B5B2-F74967C7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A98-7ACD-43D0-9AAC-5FD56E6B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7C8-3255-4B9B-850F-0D781B93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355-2748-4D97-833F-1722ED97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BF2-494C-4436-96D0-569634A9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B19-4C54-4AE7-B024-2ABD5EC4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ED73-C658-4A3B-96AE-128128F785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8AED-2F84-46C9-825E-2DE999A06D06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 rot="696000">
            <a:off x="-25200" y="1743120"/>
            <a:ext cx="9144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тительный мир</a:t>
            </a:r>
            <a:endParaRPr b="0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c731e0a8f490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a00059i"/>
          <p:cNvPicPr/>
          <p:nvPr/>
        </p:nvPicPr>
        <p:blipFill>
          <a:blip r:embed="rId1"/>
          <a:stretch/>
        </p:blipFill>
        <p:spPr>
          <a:xfrm>
            <a:off x="0" y="1628640"/>
            <a:ext cx="4699080" cy="5229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77043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Род трав семейства бромелиевых. 5 видов, в тропической Америке. Сочные, крупные (изредка до 15 кг), кисло-сладкие, ароматные соплодия съедобны. Культивируют с древности, главным образом в тропиках. Из листьев некоторых ананасов получают волокно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4" descr="0122_102"/>
          <p:cNvPicPr/>
          <p:nvPr/>
        </p:nvPicPr>
        <p:blipFill>
          <a:blip r:embed="rId2"/>
          <a:stretch/>
        </p:blipFill>
        <p:spPr>
          <a:xfrm>
            <a:off x="5024520" y="1700280"/>
            <a:ext cx="4119480" cy="5157720"/>
          </a:xfrm>
          <a:prstGeom prst="rect">
            <a:avLst/>
          </a:prstGeom>
          <a:ln w="0">
            <a:noFill/>
          </a:ln>
        </p:spPr>
      </p:pic>
      <p:sp>
        <p:nvSpPr>
          <p:cNvPr id="224" name="Line 7"/>
          <p:cNvSpPr/>
          <p:nvPr/>
        </p:nvSpPr>
        <p:spPr>
          <a:xfrm flipH="1">
            <a:off x="2484000" y="3357720"/>
            <a:ext cx="237492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859280" y="3357720"/>
            <a:ext cx="1513080" cy="3585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084720" y="1125360"/>
            <a:ext cx="2232360" cy="1152720"/>
          </a:xfrm>
          <a:prstGeom prst="cloudCallout">
            <a:avLst>
              <a:gd name="adj1" fmla="val -104837"/>
              <a:gd name="adj2" fmla="val 14421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НАНА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110127"/>
          <p:cNvPicPr/>
          <p:nvPr/>
        </p:nvPicPr>
        <p:blipFill>
          <a:blip r:embed="rId1"/>
          <a:stretch/>
        </p:blipFill>
        <p:spPr>
          <a:xfrm>
            <a:off x="684360" y="92160"/>
            <a:ext cx="7200720" cy="67658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468720" y="4292640"/>
            <a:ext cx="842508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расная и коричневая древесина махагониевого, саппанового и ряда других тропических деревьев, часто также называемых красным деревом. Очень прочная, с красивой текстурой древесина хорошо полируется и издавна используется для изготовления высококачественной мебели. Иногда красным деревом называется древесина тисса, черной ольхи и секвой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7054920" y="2781360"/>
            <a:ext cx="2089080" cy="1008000"/>
          </a:xfrm>
          <a:prstGeom prst="cloudCallout">
            <a:avLst>
              <a:gd name="adj1" fmla="val -137310"/>
              <a:gd name="adj2" fmla="val 39291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асное дерев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каучуконос гевея,"/>
          <p:cNvPicPr/>
          <p:nvPr/>
        </p:nvPicPr>
        <p:blipFill>
          <a:blip r:embed="rId1"/>
          <a:stretch/>
        </p:blipFill>
        <p:spPr>
          <a:xfrm>
            <a:off x="2771640" y="1484280"/>
            <a:ext cx="4137120" cy="5373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24360" y="-360"/>
            <a:ext cx="6696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 вечнозеленых деревьев семейства молочайных. Св. 10 видов, в тропической Америке. Гевея бразильская — основной источник натурального каучука (путем подсочки с 1 дерева получают 3-7,5 кг каучука в год). Культивируется в тропических стран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7020000" y="1268280"/>
            <a:ext cx="1727280" cy="1008360"/>
          </a:xfrm>
          <a:prstGeom prst="cloudCallout">
            <a:avLst>
              <a:gd name="adj1" fmla="val -129046"/>
              <a:gd name="adj2" fmla="val 160708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геве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k_301i"/>
          <p:cNvPicPr/>
          <p:nvPr/>
        </p:nvPicPr>
        <p:blipFill>
          <a:blip r:embed="rId1"/>
          <a:stretch/>
        </p:blipFill>
        <p:spPr>
          <a:xfrm>
            <a:off x="2571840" y="1055520"/>
            <a:ext cx="5211720" cy="5802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96720" y="0"/>
            <a:ext cx="954072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з плодов этого дерева индейцы готовили напиток, который называли «Тео брома», т.е. напиток богов, дающий человеку силу, мудрость, смелость, энергию. Европейцы добавили к этому напитку сливки и сахар, получив при этом вкуснейшее лакомств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7164360" y="2205000"/>
            <a:ext cx="1728720" cy="1152720"/>
          </a:xfrm>
          <a:prstGeom prst="cloudCallout">
            <a:avLst>
              <a:gd name="adj1" fmla="val -197842"/>
              <a:gd name="adj2" fmla="val 71902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ка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л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k_522i"/>
          <p:cNvPicPr/>
          <p:nvPr/>
        </p:nvPicPr>
        <p:blipFill>
          <a:blip r:embed="rId1"/>
          <a:stretch/>
        </p:blipFill>
        <p:spPr>
          <a:xfrm>
            <a:off x="2050920" y="260280"/>
            <a:ext cx="5927760" cy="6597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-324360" y="0"/>
            <a:ext cx="7417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летние клубненосные виды травянистых растений рода паслен семейства пасленовых. Для пищевых, кормовых и технических целей в Южной Америке выращивают картофель андийский и картофель европейский, или чилийский, или клубненосный— как однолетнее растение, в странах с умеренным клима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5500800" y="3429000"/>
            <a:ext cx="3643200" cy="936720"/>
          </a:xfrm>
          <a:prstGeom prst="cloudCallout">
            <a:avLst>
              <a:gd name="adj1" fmla="val -64981"/>
              <a:gd name="adj2" fmla="val -138134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артофельны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рт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0_6710_87b45fc7_M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2373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275px-Calathea_lancifolia_-_rattlesnake_plant_-_from-DC1"/>
          <p:cNvPicPr/>
          <p:nvPr/>
        </p:nvPicPr>
        <p:blipFill>
          <a:blip r:embed="rId1"/>
          <a:stretch/>
        </p:blipFill>
        <p:spPr>
          <a:xfrm>
            <a:off x="684360" y="0"/>
            <a:ext cx="7451640" cy="6826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agave%20attenuata"/>
          <p:cNvPicPr/>
          <p:nvPr/>
        </p:nvPicPr>
        <p:blipFill>
          <a:blip r:embed="rId1"/>
          <a:stretch/>
        </p:blipFill>
        <p:spPr>
          <a:xfrm>
            <a:off x="250920" y="0"/>
            <a:ext cx="453852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Nik"/>
          <p:cNvPicPr/>
          <p:nvPr/>
        </p:nvPicPr>
        <p:blipFill>
          <a:blip r:embed="rId2"/>
          <a:stretch/>
        </p:blipFill>
        <p:spPr>
          <a:xfrm>
            <a:off x="6188040" y="189000"/>
            <a:ext cx="295596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gallery_preview"/>
          <p:cNvPicPr/>
          <p:nvPr/>
        </p:nvPicPr>
        <p:blipFill>
          <a:blip r:embed="rId3"/>
          <a:stretch/>
        </p:blipFill>
        <p:spPr>
          <a:xfrm>
            <a:off x="5219640" y="391464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7:23:34Z</dcterms:created>
  <dc:creator>БОТАНИК</dc:creator>
  <dc:description/>
  <dc:language>en-US</dc:language>
  <cp:lastModifiedBy>LEGION</cp:lastModifiedBy>
  <dcterms:modified xsi:type="dcterms:W3CDTF">2014-12-30T10:34:29Z</dcterms:modified>
  <cp:revision>16</cp:revision>
  <dc:subject/>
  <dc:title>Слайд 1</dc:title>
</cp:coreProperties>
</file>