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BC73-B9A9-42DC-9C07-EE34E1C35A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растите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B7DD-F7DD-4779-A44C-73F1B27B1940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 трав семейства бромелиевых. 5 видов, в тропической Америке. Сочные, крупные (изредка до 15 кг), кисло-сладкие, ароматные соплодия съедобны. Культивируют с древности, главным образом в тропиках. Из листьев некоторых ананасов получают волок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B71F-C620-4475-AB3A-19E06FBDC824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сная и коричневая древесина махагониевого, саппанового и ряда других тропических деревьев, часто также называемых красным деревом. Очень прочная, с красивой текстурой древесина хорошо полируется и издавна используется для изготовления высококачественной мебели. Иногда красным деревом называется древесина тисса, черной ольхи и секвой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605C-1BDD-4001-9373-8AF2CDBFE11A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 вечнозеленых деревьев семейства молочайных. Св. 10 видов, в тропической Америке. Гевея бразильская — основной источник натурального каучука (путем подсочки с 1 дерева получают 3-7,5 кг каучука в год). Культивируется в тропическ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BEDF-D615-4974-BE7A-F2061F7780B5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лодов этого дерева индейцы готовили напиток, который называли «Тео брома», т.е. напиток богов, дающий человеку силу, мудрость, смелость, энергию. Европейцы добавили к этому напитку сливки и сахар, получив при этом вкуснейшее лаком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88BD-008E-4DBC-80BD-F3FB2C6B49AE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клубненосные виды травянистых растений рода паслен семейства пасленовых. Для пищевых, кормовых и технических целей в Южной Америке выращивают картофель андийский и картофель европейский, или чилийский, или клубненосный— как однолетнее растение, в странах с умеренным клима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4AEE-47DA-41A1-AE32-CEFA8D92E486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8BC-9032-4FC6-9F7E-BA711EE6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E7BF-13CB-46BE-B088-4CEDCF52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E62-E223-4D13-80FB-B9A0AE21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57F-6C90-4F90-97A6-0D14F364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F8C0-0A1B-4097-A4A8-82CA65D8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D94F-8390-4AF3-A2E3-E886D5CB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9C8E-E50F-41E4-8369-9DE3A6E0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BA92-D5B0-4FBA-8E12-51189908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5D81-B37B-494D-978D-69F127D7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6DF7-F7B3-43A5-AD0F-98323A6D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BD5A-F90A-4EEA-8808-8BA95617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690-DF0D-4969-855A-D52D1ACC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1EBA-24C9-4D7F-80C1-B0B62B61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DCE0-FA90-4AAD-853F-266657CC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848D-DA19-486D-8C2B-B32B14BE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FE7E-2331-45FC-BD7B-E7F6552B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833D-AD5B-47B1-9B0F-A34C0B03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C75-D8E0-498D-AFA5-F24725E1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4D0-DE6C-4FB8-BB65-A98D7B29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FCF2-1243-466B-B855-F975E0B4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29E-9470-44CA-926D-E4ABFF28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1D61-33A6-415E-A554-547E0504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FDC-0BE5-48E1-A411-BBF4B59F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4FD-33E2-484F-9B3C-A4592A5F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C721-9711-466E-A426-FA52EC295F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CFF4-BCE4-4AB6-84DD-53A05402C17C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 rot="696000">
            <a:off x="-25200" y="1743120"/>
            <a:ext cx="9144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9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тительный мир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c731e0a8f490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a00059i"/>
          <p:cNvPicPr/>
          <p:nvPr/>
        </p:nvPicPr>
        <p:blipFill>
          <a:blip r:embed="rId1"/>
          <a:stretch/>
        </p:blipFill>
        <p:spPr>
          <a:xfrm>
            <a:off x="0" y="1628640"/>
            <a:ext cx="4699080" cy="52293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-324360" y="-360"/>
            <a:ext cx="77043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од трав семейства бромелиевых. 5 видов, в тропической Америке. Сочные, крупные (изредка до 15 кг), кисло-сладкие, ароматные соплодия съедобны. Культивируют с древности, главным образом в тропиках. Из листьев некоторых ананасов получают волокно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Picture 4" descr="0122_102"/>
          <p:cNvPicPr/>
          <p:nvPr/>
        </p:nvPicPr>
        <p:blipFill>
          <a:blip r:embed="rId2"/>
          <a:stretch/>
        </p:blipFill>
        <p:spPr>
          <a:xfrm>
            <a:off x="5024520" y="1700280"/>
            <a:ext cx="4119480" cy="5157720"/>
          </a:xfrm>
          <a:prstGeom prst="rect">
            <a:avLst/>
          </a:prstGeom>
          <a:ln w="0">
            <a:noFill/>
          </a:ln>
        </p:spPr>
      </p:pic>
      <p:sp>
        <p:nvSpPr>
          <p:cNvPr id="224" name="Line 7"/>
          <p:cNvSpPr/>
          <p:nvPr/>
        </p:nvSpPr>
        <p:spPr>
          <a:xfrm flipH="1">
            <a:off x="2484000" y="3357720"/>
            <a:ext cx="237492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4859280" y="3357720"/>
            <a:ext cx="1513080" cy="358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6084720" y="1125360"/>
            <a:ext cx="2232360" cy="1152720"/>
          </a:xfrm>
          <a:prstGeom prst="cloudCallout">
            <a:avLst>
              <a:gd name="adj1" fmla="val -104837"/>
              <a:gd name="adj2" fmla="val 144212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АНАНА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110127"/>
          <p:cNvPicPr/>
          <p:nvPr/>
        </p:nvPicPr>
        <p:blipFill>
          <a:blip r:embed="rId1"/>
          <a:stretch/>
        </p:blipFill>
        <p:spPr>
          <a:xfrm>
            <a:off x="684360" y="92160"/>
            <a:ext cx="7200720" cy="67658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-468720" y="4292640"/>
            <a:ext cx="842508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расная и коричневая древесина махагониевого, саппанового и ряда других тропических деревьев, часто также называемых красным деревом. Очень прочная, с красивой текстурой древесина хорошо полируется и издавна используется для изготовления высококачественной мебели. Иногда красным деревом называется древесина тисса, черной ольхи и секвой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7054920" y="2781360"/>
            <a:ext cx="2089080" cy="1008000"/>
          </a:xfrm>
          <a:prstGeom prst="cloudCallout">
            <a:avLst>
              <a:gd name="adj1" fmla="val -137310"/>
              <a:gd name="adj2" fmla="val 39291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расное дерев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каучуконос гевея,"/>
          <p:cNvPicPr/>
          <p:nvPr/>
        </p:nvPicPr>
        <p:blipFill>
          <a:blip r:embed="rId1"/>
          <a:stretch/>
        </p:blipFill>
        <p:spPr>
          <a:xfrm>
            <a:off x="2771640" y="1484280"/>
            <a:ext cx="4137120" cy="53737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24360" y="-360"/>
            <a:ext cx="6696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од вечнозеленых деревьев семейства молочайных. Св. 10 видов, в тропической Америке. Гевея бразильская — основной источник натурального каучука (путем подсочки с 1 дерева получают 3-7,5 кг каучука в год). Культивируется в тропических странах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7020000" y="1268280"/>
            <a:ext cx="1727280" cy="1008360"/>
          </a:xfrm>
          <a:prstGeom prst="cloudCallout">
            <a:avLst>
              <a:gd name="adj1" fmla="val -129046"/>
              <a:gd name="adj2" fmla="val 160708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геве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k_301i"/>
          <p:cNvPicPr/>
          <p:nvPr/>
        </p:nvPicPr>
        <p:blipFill>
          <a:blip r:embed="rId1"/>
          <a:stretch/>
        </p:blipFill>
        <p:spPr>
          <a:xfrm>
            <a:off x="2571840" y="1055520"/>
            <a:ext cx="5211720" cy="58024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-39672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з плодов этого дерева индейцы готовили напиток, который называли «Тео брома», т.е. напиток богов, дающий человеку силу, мудрость, смелость, энергию. Европейцы добавили к этому напитку сливки и сахар, получив при этом вкуснейшее лакомство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7164360" y="2205000"/>
            <a:ext cx="1728720" cy="1152720"/>
          </a:xfrm>
          <a:prstGeom prst="cloudCallout">
            <a:avLst>
              <a:gd name="adj1" fmla="val -197842"/>
              <a:gd name="adj2" fmla="val 71902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ака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л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k_522i"/>
          <p:cNvPicPr/>
          <p:nvPr/>
        </p:nvPicPr>
        <p:blipFill>
          <a:blip r:embed="rId1"/>
          <a:stretch/>
        </p:blipFill>
        <p:spPr>
          <a:xfrm>
            <a:off x="2050920" y="260280"/>
            <a:ext cx="5927760" cy="6597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-324360" y="0"/>
            <a:ext cx="741708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ноголетние клубненосные виды травянистых растений рода паслен семейства пасленовых. Для пищевых, кормовых и технических целей в Южной Америке выращивают картофель андийский и картофель европейский, или чилийский, или клубненосный— как однолетнее растение, в странах с умеренным климато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5500800" y="3429000"/>
            <a:ext cx="3643200" cy="936720"/>
          </a:xfrm>
          <a:prstGeom prst="cloudCallout">
            <a:avLst>
              <a:gd name="adj1" fmla="val -64981"/>
              <a:gd name="adj2" fmla="val -138134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артофельны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ор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0_6710_87b45fc7_M"/>
          <p:cNvPicPr/>
          <p:nvPr/>
        </p:nvPicPr>
        <p:blipFill>
          <a:blip r:embed="rId1"/>
          <a:stretch/>
        </p:blipFill>
        <p:spPr>
          <a:xfrm>
            <a:off x="468360" y="333360"/>
            <a:ext cx="8316720" cy="62373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275px-Calathea_lancifolia_-_rattlesnake_plant_-_from-DC1"/>
          <p:cNvPicPr/>
          <p:nvPr/>
        </p:nvPicPr>
        <p:blipFill>
          <a:blip r:embed="rId1"/>
          <a:stretch/>
        </p:blipFill>
        <p:spPr>
          <a:xfrm>
            <a:off x="684360" y="0"/>
            <a:ext cx="7451640" cy="68263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agave%20attenuata"/>
          <p:cNvPicPr/>
          <p:nvPr/>
        </p:nvPicPr>
        <p:blipFill>
          <a:blip r:embed="rId1"/>
          <a:stretch/>
        </p:blipFill>
        <p:spPr>
          <a:xfrm>
            <a:off x="250920" y="0"/>
            <a:ext cx="453852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Nik"/>
          <p:cNvPicPr/>
          <p:nvPr/>
        </p:nvPicPr>
        <p:blipFill>
          <a:blip r:embed="rId2"/>
          <a:stretch/>
        </p:blipFill>
        <p:spPr>
          <a:xfrm>
            <a:off x="6188040" y="189000"/>
            <a:ext cx="2955960" cy="360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gallery_preview"/>
          <p:cNvPicPr/>
          <p:nvPr/>
        </p:nvPicPr>
        <p:blipFill>
          <a:blip r:embed="rId3"/>
          <a:stretch/>
        </p:blipFill>
        <p:spPr>
          <a:xfrm>
            <a:off x="5219640" y="391464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7:23:34Z</dcterms:created>
  <dc:creator>БОТАНИК</dc:creator>
  <dc:description/>
  <dc:language>en-US</dc:language>
  <cp:lastModifiedBy>LEGION</cp:lastModifiedBy>
  <dcterms:modified xsi:type="dcterms:W3CDTF">2014-12-30T10:34:29Z</dcterms:modified>
  <cp:revision>16</cp:revision>
  <dc:subject/>
  <dc:title>Слайд 1</dc:title>
</cp:coreProperties>
</file>