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6B32-6625-4C6C-9669-24166397BD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EA14-0656-416E-AA63-69EBE897C13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 трав семейства бромелиевых. 5 видов, в тропической Америке. Сочные, крупные (изредка до 15 кг), кисло-сладкие, ароматные соплодия съедобны. Культивируют с древности, главным образом в тропиках. Из листьев некоторых ананасов получают волок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6252-5407-4ABA-8816-36A1467ADBD9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сная и коричневая древесина махагониевого, саппанового и ряда других тропических деревьев, часто также называемых красным деревом. Очень прочная, с красивой текстурой древесина хорошо полируется и издавна используется для изготовления высококачественной мебели. Иногда красным деревом называется древесина тисса, черной ольхи и секвой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7DE7-E07D-410F-A96E-6DF23D565AE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 вечнозеленых деревьев семейства молочайных. Св. 10 видов, в тропической Америке. Гевея бразильская — основной источник натурального каучука (путем подсочки с 1 дерева получают 3-7,5 кг каучука в год). Культивируется в тропическ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64C1-AC91-4F90-BA3D-08175A62D66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лодов этого дерева индейцы готовили напиток, который называли «Тео брома», т.е. напиток богов, дающий человеку силу, мудрость, смелость, энергию. Европейцы добавили к этому напитку сливки и сахар, получив при этом вкуснейшее лаком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72E2-9267-47D0-85C6-578D3E1320EE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клубненосные виды травянистых растений рода паслен семейства пасленовых. Для пищевых, кормовых и технических целей в Южной Америке выращивают картофель андийский и картофель европейский, или чилийский, или клубненосный— как однолетнее растение, в странах с умеренным клима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623A-06A5-4256-AF63-B1E5517A84F8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DF8-8495-4456-933D-33528274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E83-9AD0-47AF-BB59-E88EB0EA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DD0-24AD-4F9F-AFBD-317056D7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496-8526-4EF7-A9ED-6C297F9A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CC26-E849-4AC3-AA92-74B17F20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1E03-B9CA-407F-83E1-1CF92C95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14AA-1FA6-4940-B099-3F61D11F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38E8-67A7-44BC-ACAF-E551CA27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95C9-2871-4C7B-83DB-40F8CFBA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3E0D-C81C-4150-A697-25CE7A11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AB06-D2AC-4490-B7CA-45DF34A8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511-88BA-4F01-B40A-A4776068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14AD-5DF4-472B-9055-D864D4B5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BDBE-5DE0-4EAF-854E-EDFBB30B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C180-A247-4320-887C-C2AC13E9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18F9-5C70-4901-A2E0-E00CB420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3775-C362-458F-B49E-B84D2C73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341A-BAF3-46B9-A508-FEFE5857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A69-6AF4-4144-A326-B2F7A727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A63-E746-4777-8DC9-E78010DE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E4C-4A8E-4C15-847E-62F028D9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AC6-D488-4F88-B38B-E2320F84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A05-89B8-425C-9D89-0CA5412C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DB1-841B-422F-8016-CF1B3B58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6191-AF8E-48F6-9F6A-E92F6310EC2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CEBA-94DE-4F41-A9E9-49B23EACAC88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 rot="696000">
            <a:off x="-25200" y="1743120"/>
            <a:ext cx="9144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9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ительный мир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c731e0a8f490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a00059i"/>
          <p:cNvPicPr/>
          <p:nvPr/>
        </p:nvPicPr>
        <p:blipFill>
          <a:blip r:embed="rId1"/>
          <a:stretch/>
        </p:blipFill>
        <p:spPr>
          <a:xfrm>
            <a:off x="0" y="1628640"/>
            <a:ext cx="4699080" cy="5229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-324360" y="-360"/>
            <a:ext cx="77043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од трав семейства бромелиевых. 5 видов, в тропической Америке. Сочные, крупные (изредка до 15 кг), кисло-сладкие, ароматные соплодия съедобны. Культивируют с древности, главным образом в тропиках. Из листьев некоторых ананасов получают волокно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4" descr="0122_102"/>
          <p:cNvPicPr/>
          <p:nvPr/>
        </p:nvPicPr>
        <p:blipFill>
          <a:blip r:embed="rId2"/>
          <a:stretch/>
        </p:blipFill>
        <p:spPr>
          <a:xfrm>
            <a:off x="5024520" y="1700280"/>
            <a:ext cx="4119480" cy="5157720"/>
          </a:xfrm>
          <a:prstGeom prst="rect">
            <a:avLst/>
          </a:prstGeom>
          <a:ln w="0">
            <a:noFill/>
          </a:ln>
        </p:spPr>
      </p:pic>
      <p:sp>
        <p:nvSpPr>
          <p:cNvPr id="224" name="Line 7"/>
          <p:cNvSpPr/>
          <p:nvPr/>
        </p:nvSpPr>
        <p:spPr>
          <a:xfrm flipH="1">
            <a:off x="2484000" y="3357720"/>
            <a:ext cx="237492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4859280" y="3357720"/>
            <a:ext cx="1513080" cy="358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6084720" y="1125360"/>
            <a:ext cx="2232360" cy="1152720"/>
          </a:xfrm>
          <a:prstGeom prst="cloudCallout">
            <a:avLst>
              <a:gd name="adj1" fmla="val -104837"/>
              <a:gd name="adj2" fmla="val 14421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АНАНА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110127"/>
          <p:cNvPicPr/>
          <p:nvPr/>
        </p:nvPicPr>
        <p:blipFill>
          <a:blip r:embed="rId1"/>
          <a:stretch/>
        </p:blipFill>
        <p:spPr>
          <a:xfrm>
            <a:off x="684360" y="92160"/>
            <a:ext cx="7200720" cy="6765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-468720" y="4292640"/>
            <a:ext cx="842508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расная и коричневая древесина махагониевого, саппанового и ряда других тропических деревьев, часто также называемых красным деревом. Очень прочная, с красивой текстурой древесина хорошо полируется и издавна используется для изготовления высококачественной мебели. Иногда красным деревом называется древесина тисса, черной ольхи и секвой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7054920" y="2781360"/>
            <a:ext cx="2089080" cy="1008000"/>
          </a:xfrm>
          <a:prstGeom prst="cloudCallout">
            <a:avLst>
              <a:gd name="adj1" fmla="val -137310"/>
              <a:gd name="adj2" fmla="val 39291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расное дерев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каучуконос гевея,"/>
          <p:cNvPicPr/>
          <p:nvPr/>
        </p:nvPicPr>
        <p:blipFill>
          <a:blip r:embed="rId1"/>
          <a:stretch/>
        </p:blipFill>
        <p:spPr>
          <a:xfrm>
            <a:off x="2771640" y="1484280"/>
            <a:ext cx="4137120" cy="53737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24360" y="-360"/>
            <a:ext cx="6696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од вечнозеленых деревьев семейства молочайных. Св. 10 видов, в тропической Америке. Гевея бразильская — основной источник натурального каучука (путем подсочки с 1 дерева получают 3-7,5 кг каучука в год). Культивируется в тропических страна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7020000" y="1268280"/>
            <a:ext cx="1727280" cy="1008360"/>
          </a:xfrm>
          <a:prstGeom prst="cloudCallout">
            <a:avLst>
              <a:gd name="adj1" fmla="val -129046"/>
              <a:gd name="adj2" fmla="val 160708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геве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k_301i"/>
          <p:cNvPicPr/>
          <p:nvPr/>
        </p:nvPicPr>
        <p:blipFill>
          <a:blip r:embed="rId1"/>
          <a:stretch/>
        </p:blipFill>
        <p:spPr>
          <a:xfrm>
            <a:off x="2571840" y="1055520"/>
            <a:ext cx="5211720" cy="58024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-39672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з плодов этого дерева индейцы готовили напиток, который называли «Тео брома», т.е. напиток богов, дающий человеку силу, мудрость, смелость, энергию. Европейцы добавили к этому напитку сливки и сахар, получив при этом вкуснейшее лакомство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7164360" y="2205000"/>
            <a:ext cx="1728720" cy="1152720"/>
          </a:xfrm>
          <a:prstGeom prst="cloudCallout">
            <a:avLst>
              <a:gd name="adj1" fmla="val -197842"/>
              <a:gd name="adj2" fmla="val 7190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ка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л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k_522i"/>
          <p:cNvPicPr/>
          <p:nvPr/>
        </p:nvPicPr>
        <p:blipFill>
          <a:blip r:embed="rId1"/>
          <a:stretch/>
        </p:blipFill>
        <p:spPr>
          <a:xfrm>
            <a:off x="2050920" y="260280"/>
            <a:ext cx="5927760" cy="6597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-324360" y="0"/>
            <a:ext cx="741708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ноголетние клубненосные виды травянистых растений рода паслен семейства пасленовых. Для пищевых, кормовых и технических целей в Южной Америке выращивают картофель андийский и картофель европейский, или чилийский, или клубненосный— как однолетнее растение, в странах с умеренным климато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5500800" y="3429000"/>
            <a:ext cx="3643200" cy="936720"/>
          </a:xfrm>
          <a:prstGeom prst="cloudCallout">
            <a:avLst>
              <a:gd name="adj1" fmla="val -64981"/>
              <a:gd name="adj2" fmla="val -138134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ртофельны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ор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0_6710_87b45fc7_M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237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275px-Calathea_lancifolia_-_rattlesnake_plant_-_from-DC1"/>
          <p:cNvPicPr/>
          <p:nvPr/>
        </p:nvPicPr>
        <p:blipFill>
          <a:blip r:embed="rId1"/>
          <a:stretch/>
        </p:blipFill>
        <p:spPr>
          <a:xfrm>
            <a:off x="684360" y="0"/>
            <a:ext cx="7451640" cy="68263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agave%20attenuata"/>
          <p:cNvPicPr/>
          <p:nvPr/>
        </p:nvPicPr>
        <p:blipFill>
          <a:blip r:embed="rId1"/>
          <a:stretch/>
        </p:blipFill>
        <p:spPr>
          <a:xfrm>
            <a:off x="250920" y="0"/>
            <a:ext cx="453852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Nik"/>
          <p:cNvPicPr/>
          <p:nvPr/>
        </p:nvPicPr>
        <p:blipFill>
          <a:blip r:embed="rId2"/>
          <a:stretch/>
        </p:blipFill>
        <p:spPr>
          <a:xfrm>
            <a:off x="6188040" y="189000"/>
            <a:ext cx="2955960" cy="360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gallery_preview"/>
          <p:cNvPicPr/>
          <p:nvPr/>
        </p:nvPicPr>
        <p:blipFill>
          <a:blip r:embed="rId3"/>
          <a:stretch/>
        </p:blipFill>
        <p:spPr>
          <a:xfrm>
            <a:off x="5219640" y="391464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7:23:34Z</dcterms:created>
  <dc:creator>БОТАНИК</dc:creator>
  <dc:description/>
  <dc:language>en-US</dc:language>
  <cp:lastModifiedBy>LEGION</cp:lastModifiedBy>
  <dcterms:modified xsi:type="dcterms:W3CDTF">2014-12-30T10:34:29Z</dcterms:modified>
  <cp:revision>16</cp:revision>
  <dc:subject/>
  <dc:title>Слайд 1</dc:title>
</cp:coreProperties>
</file>