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B2B2-7579-4026-AF9E-1BBA9E73F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9AA0-A823-4986-A13C-8B98B0D80B7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8A15-48FE-47E9-A967-65487C7ACCC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22EF-176F-4AE7-A289-E9580EDEBAC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FE5D-DD55-4507-A1E1-A1CAC175303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2E5B-1CCC-4F23-A3F6-5AF86838F95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F06C-B2BB-4C11-A834-A70A0FE4987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6BB-A41C-4B4A-B303-FBABE5AE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B8A-F6A2-4495-AA49-BE21DD9A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373-27CD-40B9-817A-5A7816F1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887-6545-4C3D-AA13-5E4B24B1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486-1FF0-44A0-BBA6-BBDA8745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C8D-C0F5-4968-A436-8F98B5C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D3E8-770E-413C-8817-A0FBF1F2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DBA1-1CF5-4B3D-928C-FB07E9D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2335-5579-41FF-9BF7-F0C4EE7F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24DD-57B1-41E9-AF03-B9A267AF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B73-F2D4-4F06-9D53-8986D16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668-45BB-4D5D-856F-A4286DE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0CCB-3C7D-43FC-964D-7A31299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7BD1-D610-4ACB-BE5D-0365D0B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122F-A93F-4814-8AD9-AF19C88A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CD40-D25D-45F5-9BB7-BF995050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E12D-CB6E-4B4A-B2DA-B322A12F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A86-7142-4FFB-96B0-C2E95959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068-8E16-4B8F-8B62-F434EF57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207-5C84-459A-A109-FC1C483F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191-E8A1-4C51-B27B-37E16C70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6C2-6934-479D-A950-518102C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186-3702-4188-BC92-DC8C1B4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934-9D07-44AD-AEA5-105C195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E2DD-7FAA-4930-AF85-C7A9C06BB6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61BE-5E8B-4324-A07B-54FBE8F170F8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696000">
            <a:off x="-25200" y="1743120"/>
            <a:ext cx="914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ый мир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731e0a8f49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a00059i"/>
          <p:cNvPicPr/>
          <p:nvPr/>
        </p:nvPicPr>
        <p:blipFill>
          <a:blip r:embed="rId1"/>
          <a:stretch/>
        </p:blipFill>
        <p:spPr>
          <a:xfrm>
            <a:off x="0" y="1628640"/>
            <a:ext cx="4699080" cy="5229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7704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4" descr="0122_102"/>
          <p:cNvPicPr/>
          <p:nvPr/>
        </p:nvPicPr>
        <p:blipFill>
          <a:blip r:embed="rId2"/>
          <a:stretch/>
        </p:blipFill>
        <p:spPr>
          <a:xfrm>
            <a:off x="5024520" y="1700280"/>
            <a:ext cx="4119480" cy="515772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H="1">
            <a:off x="2484000" y="3357720"/>
            <a:ext cx="23749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859280" y="3357720"/>
            <a:ext cx="1513080" cy="358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084720" y="1125360"/>
            <a:ext cx="2232360" cy="1152720"/>
          </a:xfrm>
          <a:prstGeom prst="cloudCallout">
            <a:avLst>
              <a:gd name="adj1" fmla="val -104837"/>
              <a:gd name="adj2" fmla="val 14421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НА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0127"/>
          <p:cNvPicPr/>
          <p:nvPr/>
        </p:nvPicPr>
        <p:blipFill>
          <a:blip r:embed="rId1"/>
          <a:stretch/>
        </p:blipFill>
        <p:spPr>
          <a:xfrm>
            <a:off x="684360" y="92160"/>
            <a:ext cx="7200720" cy="6765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468720" y="4292640"/>
            <a:ext cx="842508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54920" y="2781360"/>
            <a:ext cx="2089080" cy="1008000"/>
          </a:xfrm>
          <a:prstGeom prst="cloudCallout">
            <a:avLst>
              <a:gd name="adj1" fmla="val -137310"/>
              <a:gd name="adj2" fmla="val 39291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асное дере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аучуконос гевея,"/>
          <p:cNvPicPr/>
          <p:nvPr/>
        </p:nvPicPr>
        <p:blipFill>
          <a:blip r:embed="rId1"/>
          <a:stretch/>
        </p:blipFill>
        <p:spPr>
          <a:xfrm>
            <a:off x="2771640" y="1484280"/>
            <a:ext cx="4137120" cy="5373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66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020000" y="1268280"/>
            <a:ext cx="1727280" cy="1008360"/>
          </a:xfrm>
          <a:prstGeom prst="cloudCallout">
            <a:avLst>
              <a:gd name="adj1" fmla="val -129046"/>
              <a:gd name="adj2" fmla="val 160708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еве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k_301i"/>
          <p:cNvPicPr/>
          <p:nvPr/>
        </p:nvPicPr>
        <p:blipFill>
          <a:blip r:embed="rId1"/>
          <a:stretch/>
        </p:blipFill>
        <p:spPr>
          <a:xfrm>
            <a:off x="2571840" y="1055520"/>
            <a:ext cx="5211720" cy="5802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164360" y="2205000"/>
            <a:ext cx="1728720" cy="1152720"/>
          </a:xfrm>
          <a:prstGeom prst="cloudCallout">
            <a:avLst>
              <a:gd name="adj1" fmla="val -197842"/>
              <a:gd name="adj2" fmla="val 7190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ка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л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k_522i"/>
          <p:cNvPicPr/>
          <p:nvPr/>
        </p:nvPicPr>
        <p:blipFill>
          <a:blip r:embed="rId1"/>
          <a:stretch/>
        </p:blipFill>
        <p:spPr>
          <a:xfrm>
            <a:off x="2050920" y="260280"/>
            <a:ext cx="5927760" cy="6597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324360" y="0"/>
            <a:ext cx="7417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00800" y="3429000"/>
            <a:ext cx="3643200" cy="936720"/>
          </a:xfrm>
          <a:prstGeom prst="cloudCallout">
            <a:avLst>
              <a:gd name="adj1" fmla="val -64981"/>
              <a:gd name="adj2" fmla="val -138134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офе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_6710_87b45fc7_M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5px-Calathea_lancifolia_-_rattlesnake_plant_-_from-DC1"/>
          <p:cNvPicPr/>
          <p:nvPr/>
        </p:nvPicPr>
        <p:blipFill>
          <a:blip r:embed="rId1"/>
          <a:stretch/>
        </p:blipFill>
        <p:spPr>
          <a:xfrm>
            <a:off x="684360" y="0"/>
            <a:ext cx="7451640" cy="6826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agave%20attenuata"/>
          <p:cNvPicPr/>
          <p:nvPr/>
        </p:nvPicPr>
        <p:blipFill>
          <a:blip r:embed="rId1"/>
          <a:stretch/>
        </p:blipFill>
        <p:spPr>
          <a:xfrm>
            <a:off x="250920" y="0"/>
            <a:ext cx="453852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Nik"/>
          <p:cNvPicPr/>
          <p:nvPr/>
        </p:nvPicPr>
        <p:blipFill>
          <a:blip r:embed="rId2"/>
          <a:stretch/>
        </p:blipFill>
        <p:spPr>
          <a:xfrm>
            <a:off x="6188040" y="189000"/>
            <a:ext cx="295596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gallery_preview"/>
          <p:cNvPicPr/>
          <p:nvPr/>
        </p:nvPicPr>
        <p:blipFill>
          <a:blip r:embed="rId3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23:34Z</dcterms:created>
  <dc:creator>БОТАНИК</dc:creator>
  <dc:description/>
  <dc:language>en-US</dc:language>
  <cp:lastModifiedBy>LEGION</cp:lastModifiedBy>
  <dcterms:modified xsi:type="dcterms:W3CDTF">2014-12-30T10:34:29Z</dcterms:modified>
  <cp:revision>16</cp:revision>
  <dc:subject/>
  <dc:title>Слайд 1</dc:title>
</cp:coreProperties>
</file>