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7E3D-F3B6-4E60-BEB9-6A05616187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8000"/>
                </a:solidFill>
                <a:latin typeface="Calibri"/>
              </a:rPr>
              <a:t>Тема урока</a:t>
            </a:r>
            <a:br>
              <a:rPr sz="1400"/>
            </a:b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lang="ru-RU" sz="2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20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Класс, для которого разработан урок или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рекомендуемый возраст учащихся</a:t>
            </a:r>
            <a:br>
              <a:rPr sz="12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4 класс (9 – 10 лет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E4E0-9501-4C4A-9789-10CF936ACC8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Цели и ожидаемые результа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Цели  и 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пробле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3E72-599F-427C-BF7F-875AC88BC0A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Блок – схема урока с указанием времени на каждый эта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- 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- 32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                - 2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</a:rPr>
              <a:t>     - 3 мин.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5FF7-F741-4922-AA19-3D9F6EFC07D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Краткое описание деятельности учащихся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A10B-9F33-447E-96B0-1A99241BF17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Ссылка на интернет – ресурс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www.ournet.md/~lornet/goratii6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ttp://randewy.narod.ru/astr/zwglob.html -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//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le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AE51-2391-4497-9DD6-A29B237A93A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ЧТО ТАКОЕ ГЛОБУ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Кругл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(лат.)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918-2BB8-4CE4-B4EA-0DCBC29EAD5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Calibri"/>
              </a:rPr>
              <a:t>КАКИЕ БЫВАЮТ ГЛОБУ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1EF0-28E5-4169-BB02-F59E014C23D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libri"/>
                <a:ea typeface="Times New Roman"/>
              </a:rPr>
              <a:t>Чайнворд "Глобус"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    </a:t>
            </a:r>
            <a:r>
              <a:rPr b="1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1.  </a:t>
            </a: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46A-BE3B-4B90-BD98-6AC1B5DE0F3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2AC-C650-4B3F-879E-17423111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8A1B-7880-4227-832F-8A3E543F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599-E50E-4B53-94E0-83B4654F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67C3-D6AD-40FA-BE50-6548987B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3F27-36D4-4D09-812B-D736BBC2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1EE3-0543-4302-A598-048AA53D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66B3-20F2-4153-8E1E-418BBCBF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21CB-AFE9-407C-8EBC-7E6EE4D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3555-9EB9-489B-8E30-8D499FA2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280D-CE6D-43E0-9A0C-016C2408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FAA8-A3A2-421C-92BC-6E6914B2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B155-6361-41D2-8D7B-BBF5EB62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3E36-A32C-4EBB-BD47-53A601D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87E4-CBF3-4C16-B405-D92C4332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1B8E-13F6-4A27-A2E1-E8BD8F30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259C-F6E7-4819-92E4-B8C1E9AB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02D0-BDCE-4DDD-A4AC-0A1288C2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E58-1454-4D13-A479-52E3090B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C2E9-E758-451C-BF2B-8F48DE9E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296C-8FEF-458F-B05A-7041650D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471-83AE-4893-9985-FDCBAA41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95D-4C2A-4762-AEAE-7DEA45EF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F231-C7F8-404A-AD2A-41D2EB8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8F4-3980-481C-839C-64693498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8FFD-F817-4959-B477-E73B22B325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4f49a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2e25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C:\My Documents\bits\earth.GIF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5" name="Rectangle 16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17118b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7" name="Freeform 7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4f49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2e25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2e257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0" y="217440"/>
                <a:ext cx="2732400" cy="1582200"/>
                <a:chOff x="0" y="217440"/>
                <a:chExt cx="2732400" cy="158220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2138400" y="220680"/>
                  <a:ext cx="0" cy="5310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2297160" y="1051560"/>
                  <a:ext cx="907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2435040" y="1118520"/>
                  <a:ext cx="0" cy="1051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2732400" y="1492920"/>
                  <a:ext cx="0" cy="295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1247400" y="235800"/>
                  <a:ext cx="0" cy="2314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950400" y="223920"/>
                  <a:ext cx="0" cy="1261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916560" y="1051560"/>
                  <a:ext cx="88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741960" y="1051560"/>
                  <a:ext cx="7812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481680" y="1051560"/>
                  <a:ext cx="10656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0" y="1051560"/>
                  <a:ext cx="453240" cy="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353880" y="684720"/>
                  <a:ext cx="0" cy="1114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59760" y="752040"/>
                  <a:ext cx="0" cy="58356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356760" y="217440"/>
                  <a:ext cx="0" cy="10080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653760" y="482760"/>
                  <a:ext cx="0" cy="35892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653760" y="223920"/>
                  <a:ext cx="0" cy="82080"/>
                </a:xfrm>
                <a:prstGeom prst="line">
                  <a:avLst/>
                </a:prstGeom>
                <a:ln w="9360">
                  <a:solidFill>
                    <a:srgbClr val="4f49a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C:\My Documents\bits\earth.GIF"/>
            <p:cNvPicPr/>
            <p:nvPr/>
          </p:nvPicPr>
          <p:blipFill>
            <a:blip r:embed="rId2"/>
            <a:stretch/>
          </p:blipFill>
          <p:spPr>
            <a:xfrm>
              <a:off x="2080080" y="2627640"/>
              <a:ext cx="898200" cy="98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8D0F-921A-41B1-B7B3-7178DBCA972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riroda1.ru/kab/foto/glopol.jpg&amp;imgrefurl=http://www.priroda1.ru/kab/geografia.html&amp;h=314&amp;w=282&amp;sz=30&amp;tbnid=eEthOaR0_8gJ:&amp;tbnh=113&amp;tbnw=101&amp;hl=ru&amp;start=1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fo.territory.ru/univer/geo.htm" TargetMode="External"/><Relationship Id="rId2" Type="http://schemas.openxmlformats.org/officeDocument/2006/relationships/hyperlink" Target="http://glossary.ru/cgi-bin/gl_sch2" TargetMode="External"/><Relationship Id="rId3" Type="http://schemas.openxmlformats.org/officeDocument/2006/relationships/hyperlink" Target="http://www.ournet.md/~lornet/goratii6.html" TargetMode="External"/><Relationship Id="rId4" Type="http://schemas.openxmlformats.org/officeDocument/2006/relationships/hyperlink" Target="http://randewy.narod.ru/astr/zwglob.html" TargetMode="External"/><Relationship Id="rId5" Type="http://schemas.openxmlformats.org/officeDocument/2006/relationships/hyperlink" Target="http://images.goole.ru/" TargetMode="External"/><Relationship Id="rId6" Type="http://schemas.openxmlformats.org/officeDocument/2006/relationships/hyperlink" Target="http://images.goole.ru/" TargetMode="External"/><Relationship Id="rId7" Type="http://schemas.openxmlformats.org/officeDocument/2006/relationships/hyperlink" Target="http://images.goole.ru/" TargetMode="External"/><Relationship Id="rId8" Type="http://schemas.openxmlformats.org/officeDocument/2006/relationships/hyperlink" Target="http://images.goole.ru/" TargetMode="External"/><Relationship Id="rId9" Type="http://schemas.openxmlformats.org/officeDocument/2006/relationships/hyperlink" Target="http://images.goole.ru/" TargetMode="External"/><Relationship Id="rId10" Type="http://schemas.openxmlformats.org/officeDocument/2006/relationships/hyperlink" Target="http://images.goole.ru/" TargetMode="External"/><Relationship Id="rId11" Type="http://schemas.openxmlformats.org/officeDocument/2006/relationships/hyperlink" Target="http://images.goole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podarkov.ru/pics/globus-000.jpg&amp;imgrefurl=http://www.podarkov.ru/rubrika.phtm%3Fid%3D73&amp;h=130&amp;w=100&amp;sz=5&amp;tbnid=Pg6fyWsfhL8J:&amp;tbnh=85&amp;tbnw=65&amp;hl=ru&amp;start=14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ru/imgres?imgurl=http://www.miline.com.ua/cat/itp/GL019.jpg&amp;imgrefurl=http://www.miline.com.ua/cat/globe03.html&amp;h=100&amp;w=100&amp;sz=2&amp;tbnid=JGGnD14-cNAJ:&amp;tbnh=77&amp;tbnw=77&amp;hl=ru&amp;start=13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membrana.ru/images/articles/1069702739.jpeg&amp;imgrefurl=http://www.membrana.ru/articles/global/2003/11/24/222400.html&amp;h=180&amp;w=232&amp;sz=11&amp;tbnid=2YaxQed4o5UJ:&amp;tbnh=79&amp;tbnw=103&amp;hl=ru&amp;start=7&amp;prev=/images%3Fq%3D%2B%2B%25D0%25B3%25D0%25BB%25D0%25BE%25D0%25B1%25D1%2583%25D1%2581%2B%25D0%2597%25D0%25B5%25D0%25BC%25D0%25BB%25D0%25B8%26svnum%3D10%26hl%3Dru%26lr%3D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news.antiq.info/images/pictures/113555.jpg&amp;imgrefurl=http://news.antiq.info/%3Fid%3D5956&amp;h=73&amp;w=100&amp;sz=2&amp;tbnid=k_4sRLw_aekJ:&amp;tbnh=56&amp;tbnw=77&amp;hl=ru&amp;start=12&amp;prev=/images%3Fq%3D%2B%2B%25D0%25B3%25D0%25BB%25D0%25BE%25D0%25B1%25D1%2583%25D1%2581%2B%25D0%2597%25D0%25B5%25D0%25BC%25D0%25BB%25D0%25B8%26svnum%3D10%26hl%3Dru%26lr%3D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ru/imgres?imgurl=http://www.surprizzz.ru/static/user/30861.jpg&amp;imgrefurl=http://www.surprizzz.ru/catalogue/8180&amp;h=233&amp;w=149&amp;sz=7&amp;tbnid=34sdXurgRDEJ:&amp;tbnh=104&amp;tbnw=66&amp;hl=ru&amp;start=3&amp;prev=/images%3Fq%3D%2B%2B%25D0%25B3%25D0%25BB%25D0%25BE%25D0%25B1%25D1%2583%25D1%2581%2B%25D0%2597%25D0%25B5%25D0%25BC%25D0%25BB%25D0%25B8%26svnum%3D10%26hl%3Dru%26lr%3D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Тема урока</a:t>
            </a:r>
            <a:br>
              <a:rPr sz="2800"/>
            </a:b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«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Глобус — модель Земли</a:t>
            </a: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».</a:t>
            </a:r>
            <a:br>
              <a:rPr sz="40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Класс, для которого разработан урок или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рекомендуемый возраст учащихся</a:t>
            </a:r>
            <a:br>
              <a:rPr sz="2400"/>
            </a:b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4 класс (9 – 10 лет)</a:t>
            </a:r>
            <a:endParaRPr b="0" i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3200400"/>
            <a:ext cx="838188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редмет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Природоведение</a:t>
            </a:r>
            <a:endParaRPr b="0" lang="en-US" sz="3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Rectangle 6"/>
          <p:cNvSpPr/>
          <p:nvPr/>
        </p:nvSpPr>
        <p:spPr>
          <a:xfrm flipH="1" flipV="1">
            <a:off x="3260160" y="4203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14" descr="http://images.google.ru/images?q=tbn:eEthOaR0_8gJ:www.priroda1.ru/kab/foto/glopo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733920"/>
            <a:ext cx="2244960" cy="251460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9140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Цели и ожидаемые результат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Цели  и задачи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ь работать в группе, оценивать собственную работу на уроке и работу товарищей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культуру общения, умение слушать друг друга, уважать мнение каждого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м, волю и чувства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573"/>
                </a:solidFill>
                <a:latin typeface="Times New Roman"/>
              </a:rPr>
              <a:t>В результате этого урока учащиеся смогут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ут навыки работы в сотрудничестве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актиковать навыки взаимопомощи при решении различны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уметь определять стороны света и находить материки и океаны на глобус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240" y="1218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Блок – схема урока с указанием времени на каждый этап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305560" cy="34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рганизационный момент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- 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ведение в тему урока.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бота над новым материалом.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- 32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Итог урока.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5.Домашнее задание.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- 2 мин.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флексия.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- 3 мин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240" y="914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раткое описание деятельности учащихся на уроке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рок позволил активизировать внимание учащихся и способствовал развитию творческого мышления. На уроке школьники чувствовали свою успешность, свою интеллектуальность. Уро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ыл организован таким образом,что практически все учащиеся были вовлечены в процесс познания, они имели возможность сами рассказать,  что они знают о глобусах. Совместная деятельность учащихся помогла каждому внести свой особый индивидуальный вклад, обменяться знаниями. Причем происходило все это в атмосфере доброжелательности и взаимной поддержки, что позволило развить познавательную деятельность в форме сотрудничества. Учащиеся учились взвешивать альтернативные мнения, и принимать продуманные решения, общаться с другими детьми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сылка на интернет – ресурсы.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76312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"/>
              </a:rPr>
              <a:t>http://info.territory.ru/univer/geo.htm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;  -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2"/>
              </a:rPr>
              <a:t>http://glossary.ru/cgi-bin/gl_sch2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ых сайтах рзмещен материал о глобусе – как модели Земли. 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3"/>
              </a:rPr>
              <a:t>http://www.ournet.md/~lornet/goratii6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сказывается, как появился первый глобус Земли.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4"/>
              </a:rPr>
              <a:t>http://randewy.narod.ru/astr/zwglob.html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сайте  расположен материал о звездном глобус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 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5"/>
              </a:rPr>
              <a:t>http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6"/>
              </a:rPr>
              <a:t>://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7"/>
              </a:rPr>
              <a:t>images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9"/>
              </a:rPr>
              <a:t>goole</a:t>
            </a:r>
            <a:r>
              <a:rPr b="0" lang="ru-RU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4f49a3"/>
                </a:solidFill>
                <a:uFillTx/>
                <a:latin typeface="Times New Roman"/>
                <a:ea typeface="Times New Roman"/>
                <a:hlinkClick r:id="rId11"/>
              </a:rPr>
              <a:t>ru</a:t>
            </a:r>
            <a:r>
              <a:rPr b="1" lang="en-US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сайте расположены фотографии глобусов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2e2573"/>
                </a:solidFill>
                <a:latin typeface="Times New Roman"/>
                <a:ea typeface="Times New Roman"/>
              </a:rPr>
              <a:t>Энциклопедия «Кирилл и Мефодий».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: / приложение/словари/ толковый словарь русского языка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И. Ожегова и  Н. Ю. Шведовой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ЧТО ТАКОЕ ГЛОБУС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ле открытия Аристотеля о шарообразности Земли, люди стали создавать ее модели глобусы. Глобус – латинское слово. Как вы думаете, что оно означает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углый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арообразный, шар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но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ат.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шар. Прочитайте определение глобуса в учебнике на с. 42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Дет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лобус – это модель Земли в миллион раз меньше самой планеты Земля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17118b"/>
                </a:solidFill>
                <a:latin typeface="Times New Roman"/>
                <a:ea typeface="Times New Roman"/>
              </a:rPr>
              <a:t>Учитель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другое определение глобуса.  Глобус – это шар, на который нанесены очертания суши и вод Земли. Шар нанесен на ось и наклонен по отношению к подставке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351" name="Picture 5" descr="http://images.google.ru/images?q=tbn:Pg6fyWsfhL8J:www.podarkov.ru/pics/globus-00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4267080"/>
            <a:ext cx="1343160" cy="1752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http://images.google.ru/images?q=tbn:JGGnD14-cNAJ:www.miline.com.ua/cat/itp/GL01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АКИЕ БЫВАЮТ ГЛОБУСЫ?</a:t>
            </a: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010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3720" y="1711440"/>
            <a:ext cx="678168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готовке к уроку каждая группа искала ответ на этот вопрос. Послушаем каждую группу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1 группы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моряк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– то мореплаватели брали с собой глобусы в далекие и опасные путешествия. Глобусы – “моряки” за свою долгую службу на кораблях не мало поведали. Их трепали штормы, обдували свирепые ветры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2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ы- щеголи”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свой век проводили они в роскошных королевских дворцах. Эти глобусы были украшены золотом, серебром, драгоценными камнями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которые глобусы ставили часовой механизм с пружиной, и глобус кружился,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подобн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планет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лобус-космонавт”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установлен на космических кораблях. Небольшой глобус – космонавт во время всего полета кружится без остановки с такой же скоростью, как и Земля. Только взглянет на него командир космического корабля, сразу узнает, над каким океаном или какой страной проносится в эту минуту его космический корабл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4 группы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ного разных глобусов есть и теперь. Ест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ус звездного неба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нем изображены созвездия, млечный путь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Picture 6" descr="http://images.google.ru/images?q=tbn:2YaxQed4o5UJ:www.membrana.ru/images/articles/1069702739.jpe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733920"/>
            <a:ext cx="1524240" cy="1170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http://images.google.ru/images?q=tbn:k_4sRLw_aekJ:news.antiq.info/images/pictures/11355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5181480"/>
            <a:ext cx="1600200" cy="1163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2" descr="http://images.google.ru/images?q=tbn:34sdXurgRDEJ:www.surprizzz.ru/static/user/30861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828800"/>
            <a:ext cx="1044720" cy="164628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айнворд "Глобус"</a:t>
            </a:r>
            <a:br>
              <a:rPr sz="3600"/>
            </a:br>
            <a:endParaRPr b="0" i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980720"/>
            <a:ext cx="5105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ишите географические названия в клетки: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Уравнитель. Линия, разделяющая Землю на два полушария (Северное и Южное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 Источник пресной воды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 Самый южный материк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 Материк, похожий на подошву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     Материк, состоящий из двух частей (Северной и Южной)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     Материк Южного полушария.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34336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4" name="Picture 4" descr="Чайнворд &quot;Глобус&quot;"/>
          <p:cNvPicPr/>
          <p:nvPr/>
        </p:nvPicPr>
        <p:blipFill>
          <a:blip r:embed="rId1"/>
          <a:stretch/>
        </p:blipFill>
        <p:spPr>
          <a:xfrm>
            <a:off x="380880" y="1752480"/>
            <a:ext cx="2795760" cy="4505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12:35:23Z</dcterms:created>
  <dc:creator>Andrei</dc:creator>
  <dc:description/>
  <dc:language>en-US</dc:language>
  <cp:lastModifiedBy>LEGION</cp:lastModifiedBy>
  <dcterms:modified xsi:type="dcterms:W3CDTF">2014-12-30T09:37:47Z</dcterms:modified>
  <cp:revision>43</cp:revision>
  <dc:subject/>
  <dc:title>Тема урока «Глобус — модель Земли». Класс, для которого разработан урок или  рекомендуемый возраст учащихся 4 класс (9 – 10 лет)</dc:title>
</cp:coreProperties>
</file>