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A4B1-4F70-416A-99E0-D66CD55898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Тема урока</a:t>
            </a:r>
            <a:br>
              <a:rPr sz="1400"/>
            </a:b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20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ласс, для которого разработан урок или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рекомендуемый возраст учащихся</a:t>
            </a:r>
            <a:br>
              <a:rPr sz="12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4 класс (9 – 10 ле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8161-075E-4807-90F8-50F0C144A52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Цели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Цели  и 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бл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9E91-29DC-4ABB-9CF4-96DA6B74CAD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Блок – схема урока с указанием времени на каждый эта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- 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- 3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- 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B600-D1BA-49A0-9276-5F169A28D6A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раткое описание деятельности учащихся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7BE-F4BB-48F0-8E80-C895F77A15C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Ссылка на интернет –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ournet.md/~lornet/goratii6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randewy.narod.ru/astr/zwglob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//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le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778A-4E7F-4271-B2B1-C7AF777C1CA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ЧТО ТАКОЕ ГЛОБ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Круг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(лат.)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6E87-ECE6-430B-BD3B-D537F4A56FD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АКИЕ БЫВАЮТ ГЛОБУ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E1C4-4CB5-4433-9963-88392BED09A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Чайнворд "Глобус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1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  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161-4E97-4BB5-9DBD-819F0FFC0CF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C61-9A89-4687-8AD2-6D3F0BC7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4F5-176F-4883-8186-D0F36654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21D-70E3-431F-995B-F2749ACB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EAB-1B13-499C-ADBE-1936B974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7889-DF35-4218-AB8B-7154D316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ADD-F4A7-4350-AEBA-3FD23154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901A-DAF4-43B7-A81D-9FF2071E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63F9-70A3-4294-9061-40351BDB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5017-C735-481D-BC9F-7D1F18CA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60F-9313-4321-82EF-5989FB84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2292-1053-4C27-A395-0356FB4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C71-93D4-49C1-835D-8D2CAF6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2612-C92D-4030-8D72-9D97F41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AE9F-2A3F-4C37-B191-714ECFBA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24A6-362A-4305-8081-5E37209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9AC3-97C3-4CDB-AA09-1CA81C52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490A-8675-482F-95EB-9B15CEB9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C24-C0D0-4E53-BBA0-1435A7C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D96-F654-4A6F-B8CA-F3D1B254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251-436E-4A3C-AB28-C6421A87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A4A-FE05-4525-AF3E-92CDA1E0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FB6-9393-408F-B308-56C29A4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D94-26C9-4D5F-8ABF-E06DF31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D0D-9D3E-4ECD-9FF0-F1B32EE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D3E-E7A3-45C2-897B-E18237C658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4f49a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7118b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4f4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19E5-6791-4A25-AE06-EFBAA4FB7E5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riroda1.ru/kab/foto/glopol.jpg&amp;imgrefurl=http://www.priroda1.ru/kab/geografia.html&amp;h=314&amp;w=282&amp;sz=30&amp;tbnid=eEthOaR0_8gJ:&amp;tbnh=113&amp;tbnw=101&amp;hl=ru&amp;start=1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hyperlink" Target="http://www.ournet.md/~lornet/goratii6.html" TargetMode="External"/><Relationship Id="rId4" Type="http://schemas.openxmlformats.org/officeDocument/2006/relationships/hyperlink" Target="http://randewy.narod.ru/astr/zwglob.html" TargetMode="External"/><Relationship Id="rId5" Type="http://schemas.openxmlformats.org/officeDocument/2006/relationships/hyperlink" Target="http://images.goole.ru/" TargetMode="External"/><Relationship Id="rId6" Type="http://schemas.openxmlformats.org/officeDocument/2006/relationships/hyperlink" Target="http://images.goole.ru/" TargetMode="External"/><Relationship Id="rId7" Type="http://schemas.openxmlformats.org/officeDocument/2006/relationships/hyperlink" Target="http://images.goole.ru/" TargetMode="External"/><Relationship Id="rId8" Type="http://schemas.openxmlformats.org/officeDocument/2006/relationships/hyperlink" Target="http://images.goole.ru/" TargetMode="External"/><Relationship Id="rId9" Type="http://schemas.openxmlformats.org/officeDocument/2006/relationships/hyperlink" Target="http://images.goole.ru/" TargetMode="External"/><Relationship Id="rId10" Type="http://schemas.openxmlformats.org/officeDocument/2006/relationships/hyperlink" Target="http://images.goole.ru/" TargetMode="External"/><Relationship Id="rId11" Type="http://schemas.openxmlformats.org/officeDocument/2006/relationships/hyperlink" Target="http://images.goole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darkov.ru/pics/globus-000.jpg&amp;imgrefurl=http://www.podarkov.ru/rubrika.phtm%3Fid%3D73&amp;h=130&amp;w=100&amp;sz=5&amp;tbnid=Pg6fyWsfhL8J:&amp;tbnh=85&amp;tbnw=65&amp;hl=ru&amp;start=14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ru/imgres?imgurl=http://www.miline.com.ua/cat/itp/GL019.jpg&amp;imgrefurl=http://www.miline.com.ua/cat/globe03.html&amp;h=100&amp;w=100&amp;sz=2&amp;tbnid=JGGnD14-cNAJ:&amp;tbnh=77&amp;tbnw=77&amp;hl=ru&amp;start=13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embrana.ru/images/articles/1069702739.jpeg&amp;imgrefurl=http://www.membrana.ru/articles/global/2003/11/24/222400.html&amp;h=180&amp;w=232&amp;sz=11&amp;tbnid=2YaxQed4o5UJ:&amp;tbnh=79&amp;tbnw=103&amp;hl=ru&amp;start=7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news.antiq.info/images/pictures/113555.jpg&amp;imgrefurl=http://news.antiq.info/%3Fid%3D5956&amp;h=73&amp;w=100&amp;sz=2&amp;tbnid=k_4sRLw_aekJ:&amp;tbnh=56&amp;tbnw=77&amp;hl=ru&amp;start=12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u/imgres?imgurl=http://www.surprizzz.ru/static/user/30861.jpg&amp;imgrefurl=http://www.surprizzz.ru/catalogue/8180&amp;h=233&amp;w=149&amp;sz=7&amp;tbnid=34sdXurgRDEJ:&amp;tbnh=104&amp;tbnw=66&amp;hl=ru&amp;start=3&amp;prev=/images%3Fq%3D%2B%2B%25D0%25B3%25D0%25BB%25D0%25BE%25D0%25B1%25D1%2583%25D1%2581%2B%25D0%2597%25D0%25B5%25D0%25BC%25D0%25BB%25D0%25B8%26svnum%3D10%26hl%3Dru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Тема урока</a:t>
            </a:r>
            <a:br>
              <a:rPr sz="2800"/>
            </a:b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4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Класс, для которого разработан урок или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рекомендуемый возраст учащихся</a:t>
            </a:r>
            <a:br>
              <a:rPr sz="24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4 класс (9 – 10 лет)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8188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 flipH="1" flipV="1">
            <a:off x="3260160" y="4203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14" descr="http://images.google.ru/images?q=tbn:eEthOaR0_8gJ:www.priroda1.ru/kab/foto/glop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733920"/>
            <a:ext cx="224496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Цели и ожидаемые результат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Цели  и задачи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лок – схема урока с указанием времени на каждый этап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- 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- 3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- 2 мин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раткое описание деятельности учащихся на уроке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сылка на интернет – ресурс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31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3"/>
              </a:rPr>
              <a:t>http://www.ournet.md/~lornet/goratii6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4"/>
              </a:rPr>
              <a:t>http://randewy.narod.ru/astr/zwglob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7"/>
              </a:rPr>
              <a:t>images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9"/>
              </a:rPr>
              <a:t>goole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1"/>
              </a:rPr>
              <a:t>ru</a:t>
            </a:r>
            <a:r>
              <a:rPr b="1" lang="en-US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ЧТО ТАКОЕ ГЛОБУС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й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1" name="Picture 5" descr="http://images.google.ru/images?q=tbn:Pg6fyWsfhL8J:www.podarkov.ru/pics/globus-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2670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http://images.google.ru/images?q=tbn:JGGnD14-cNAJ:www.miline.com.ua/cat/itp/GL01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ИЕ БЫВАЮТ ГЛОБУСЫ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3720" y="1711440"/>
            <a:ext cx="67816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уроку каждая группа искала ответ на этот вопрос. Послушаем каждую групп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1 группы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моряк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– то мореплаватели брали с собой глобусы в далекие и опасные путешествия. Глобусы – “моряки” за свою долгую службу на кораблях не мало поведали. Их трепали штормы, обдували свирепые ветр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2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 щегол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свой век проводили они в роскошных королевских дворцах. Эти глобусы были украшены золотом, серебром, драгоценными камням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которые глобусы ставили часовой механизм с пружиной, и глобус кружился,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одобн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ланет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-космонавт”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становлен на космических кораблях. Небольшой глобус – космонавт во время всего полета кружится без остановки с такой же скоростью, как и Земля. Только взглянет на него командир космического корабля, сразу узнает, над каким океаном или какой страной проносится в эту минуту его космический корабл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4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 разных глобусов есть и теперь. Е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звездного неб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ем изображены созвездия, млечный пут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6" descr="http://images.google.ru/images?q=tbn:2YaxQed4o5UJ:www.membrana.ru/images/articles/1069702739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733920"/>
            <a:ext cx="1524240" cy="117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images.google.ru/images?q=tbn:k_4sRLw_aekJ:news.antiq.info/images/pictures/11355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5181480"/>
            <a:ext cx="1600200" cy="1163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http://images.google.ru/images?q=tbn:34sdXurgRDEJ:www.surprizzz.ru/static/user/3086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828800"/>
            <a:ext cx="1044720" cy="164628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ворд "Глобус"</a:t>
            </a:r>
            <a:br>
              <a:rPr sz="3600"/>
            </a:b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4336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4" name="Picture 4" descr="Чайнворд &quot;Глобус&quot;"/>
          <p:cNvPicPr/>
          <p:nvPr/>
        </p:nvPicPr>
        <p:blipFill>
          <a:blip r:embed="rId1"/>
          <a:stretch/>
        </p:blipFill>
        <p:spPr>
          <a:xfrm>
            <a:off x="380880" y="1752480"/>
            <a:ext cx="2795760" cy="4505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2:35:23Z</dcterms:created>
  <dc:creator>Andrei</dc:creator>
  <dc:description/>
  <dc:language>en-US</dc:language>
  <cp:lastModifiedBy>LEGION</cp:lastModifiedBy>
  <dcterms:modified xsi:type="dcterms:W3CDTF">2014-12-30T09:37:47Z</dcterms:modified>
  <cp:revision>43</cp:revision>
  <dc:subject/>
  <dc:title>Тема урока «Глобус — модель Земли». Класс, для которого разработан урок или  рекомендуемый возраст учащихся 4 класс (9 – 10 лет)</dc:title>
</cp:coreProperties>
</file>