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0A35-0864-413D-B33C-4FA11672EC3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info.territory.ru/univer/geo.htm" TargetMode="External"/><Relationship Id="rId2" Type="http://schemas.openxmlformats.org/officeDocument/2006/relationships/hyperlink" Target="http://glossary.ru/cgi-bin/gl_sch2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Calibri"/>
              </a:rPr>
              <a:t>Тема урока</a:t>
            </a:r>
            <a:br>
              <a:rPr sz="1400"/>
            </a:br>
            <a:r>
              <a:rPr b="1" lang="ru-RU" sz="2000" spc="-1" strike="noStrike">
                <a:solidFill>
                  <a:srgbClr val="0000cc"/>
                </a:solidFill>
                <a:latin typeface="Monotype Corsiva"/>
              </a:rPr>
              <a:t>«</a:t>
            </a:r>
            <a:r>
              <a:rPr b="1" lang="ru-RU" sz="2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Глобус — модель Земли</a:t>
            </a:r>
            <a:r>
              <a:rPr b="1" lang="ru-RU" sz="2000" spc="-1" strike="noStrike">
                <a:solidFill>
                  <a:srgbClr val="0000cc"/>
                </a:solidFill>
                <a:latin typeface="Monotype Corsiva"/>
              </a:rPr>
              <a:t>».</a:t>
            </a:r>
            <a:br>
              <a:rPr sz="20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ласс, для которого разработан урок или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рекомендуемый возраст учащихся</a:t>
            </a:r>
            <a:br>
              <a:rPr sz="1200"/>
            </a:b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4 класс (9 – 10 лет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8000"/>
                </a:solidFill>
                <a:latin typeface="Times New Roman"/>
              </a:rPr>
              <a:t>Предме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Monotype Corsiva"/>
              </a:rPr>
              <a:t>Природ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44C6-C2C0-4F04-9D12-81ADA78952C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Цели и ожидаемые результа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</a:rPr>
              <a:t>Цели  и задач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учить работать в группе, оценивать собственную работу на уроке и работу товарищ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воспитывать культуру общения, умение слушать друг друга, уважать мнение кажд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развивать ум, волю и чув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</a:rPr>
              <a:t>В результате этого урока учащиеся смогу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риобретут навыки работы в сотрудниче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 практиковать навыки взаимопомощи при решении различных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робле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 уметь определять стороны света и находить материки и океаны на глобусе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1538-E13D-4220-81C4-3859ED0232A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Блок – схема урока с указанием времени на каждый эта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1.Организационный момент.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      - 2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2.Введение в тему урока.   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- 3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3.Работа над новым материалом.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- 32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4.Итог урока.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                  - 3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                                                                     5.Домашнее задание.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             - 2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6. Рефлексия.                     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- 3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CF47-BCAC-4C52-9B8D-3101D806DEB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Краткое описание деятельности учащихся на уро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анный урок позволил активизировать внимание учащихся и способствовал развитию творческого мышления. На уроке школьники чувствовали свою успешность, свою интеллектуальность. Урок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 организован таким образом,что практически все учащиеся были вовлечены в процесс познания, они имели возможность сами рассказать,  что они знают о глобусах. Совместная деятельность учащихся помогла каждому внести свой особый индивидуальный вклад, обменяться знаниями. Причем происходило все это в атмосфере доброжелательности и взаимной поддержки, что позволило развить познавательную деятельность в форме сотрудничества. Учащиеся учились взвешивать альтернативные мнения, и принимать продуманные решения, общаться с другими дет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F5D2-E808-4A67-B732-D68FF8E80F6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Ссылка на интернет – ресурс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  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nfo.territory.ru/univer/geo.htm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;  - </a:t>
            </a:r>
            <a:r>
              <a:rPr b="1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glossary.ru/cgi-bin/gl_sch2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 -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данных сайтах рзмещен материал о глобусе – как модели Земли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www.ournet.md/~lornet/goratii6.html -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этом сайте рассказывается, как появился первый глобус Земли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randewy.narod.ru/astr/zwglob.html -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данном сайте  расположен материал о звездном глобу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//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s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le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этом сайте расположены фотографии глобу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Энциклопедия «Кирилл и Мефодий».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Раздел: / приложение/словари/ толковый словарь русского язы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С. И. Ожегова и  Н. Ю. Швед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907E-6C96-44C7-8894-A5E0C416C46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ЧТО ТАКОЕ ГЛОБУС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После открытия Аристотеля о шарообразности Земли, люди стали создавать ее модели глобусы. Глобус – латинское слово. Как вы думаете, что оно означ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Кругл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Шарообразный, ш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Верно. </a:t>
            </a:r>
            <a:r>
              <a:rPr b="1" i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Глобус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(лат.)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– шар. Прочитайте определение глобуса в учебнике на с. 4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Глобус – это модель Земли в миллион раз меньше самой планеты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Есть другое определение глобуса.  Глобус – это шар, на который нанесены очертания суши и вод Земли. Шар нанесен на ось и наклонен по отношению к подстав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 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0836-DE99-4E63-A613-D47BBDEA324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КАКИЕ БЫВАЮТ ГЛОБУС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0" lang="ru-RU" sz="1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   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7573-08A5-48DA-9B9E-186011AEA02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libri"/>
                <a:ea typeface="Times New Roman"/>
              </a:rPr>
              <a:t>Чайнворд "Глобус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   </a:t>
            </a:r>
            <a:r>
              <a:rPr b="1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Впишите географические названия в клет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1.  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  Уравнитель. Линия, разделяющая Землю на два полушария (Северное и Южно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2.     Источник пресной 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3.     Самый южный матер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4.     Материк, похожий на подош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5.     Материк, состоящий из двух частей (Северной и Южно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6.     Материк Южного полушар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4DAC-0D2D-436D-96CD-93FB3ECA00A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7FA6-18F8-4A8C-9D87-E43146E9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E0EF-6CD5-47D8-BD35-18186C12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BE1-BF16-45C4-A81B-0081CF56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718-4529-4956-AD9E-8F2E1A50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A734-9ECB-4B72-BF63-9F7A40EC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3DF7-0A50-4DF4-BDCC-939E3EAA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0694-C44E-4A5D-9191-05F0994E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B18A-20A3-4354-8520-F5FAF4C7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32D5-4553-4254-A85A-264F538D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4037-75A3-498B-A425-A01D7401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5AD7-1613-4983-9E12-9D011022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C0D-1E8D-47A9-95F1-23FE723E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FF79-184F-4D49-B136-15542768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53F9-64DE-42FE-B3C4-6FA5036E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193F-921B-4CCA-809C-3F591894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46C4-98A0-4C6D-A1C2-0B4FE934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140D-DE81-451F-8D02-EDDF6747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B9DF-66AB-40E1-9F05-E7057975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F89-6A25-460F-ADA7-BC47DD11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89A-5122-419B-8845-78D3946E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76A6-C5BB-4450-81FF-62BF87F0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873F-F15A-46C5-ACBF-E191E4D3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4BE-0101-4174-9DB3-289E6911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523A-EBA4-4C7C-A157-7C4D50BD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0F4E-861E-41CA-A1C3-547E3AD4E1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4f49a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16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17118b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4f49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0" y="217440"/>
                <a:ext cx="2732400" cy="1582200"/>
                <a:chOff x="0" y="217440"/>
                <a:chExt cx="2732400" cy="158220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2138400" y="220680"/>
                  <a:ext cx="0" cy="5310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2297160" y="1051560"/>
                  <a:ext cx="9072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2435040" y="1118520"/>
                  <a:ext cx="0" cy="1051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2732400" y="1492920"/>
                  <a:ext cx="0" cy="295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1247400" y="235800"/>
                  <a:ext cx="0" cy="2314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950400" y="223920"/>
                  <a:ext cx="0" cy="12618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916560" y="1051560"/>
                  <a:ext cx="8856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741960" y="1051560"/>
                  <a:ext cx="7812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481680" y="1051560"/>
                  <a:ext cx="10656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0" y="1051560"/>
                  <a:ext cx="4532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353880" y="684720"/>
                  <a:ext cx="0" cy="1114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59760" y="752040"/>
                  <a:ext cx="0" cy="5835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356760" y="217440"/>
                  <a:ext cx="0" cy="1008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653760" y="482760"/>
                  <a:ext cx="0" cy="358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653760" y="223920"/>
                  <a:ext cx="0" cy="820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CE56-F1C3-4237-BCED-BA9DE354B5E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priroda1.ru/kab/foto/glopol.jpg&amp;imgrefurl=http://www.priroda1.ru/kab/geografia.html&amp;h=314&amp;w=282&amp;sz=30&amp;tbnid=eEthOaR0_8gJ:&amp;tbnh=113&amp;tbnw=101&amp;hl=ru&amp;start=1&amp;prev=/images%3Fq%3D%2B%2B%25D0%25B3%25D0%25BB%25D0%25BE%25D0%25B1%25D1%2583%25D1%2581%2B%25D0%2597%25D0%25B5%25D0%25BC%25D0%25BB%25D0%25B8%26svnum%3D10%26hl%3Dru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fo.territory.ru/univer/geo.htm" TargetMode="External"/><Relationship Id="rId2" Type="http://schemas.openxmlformats.org/officeDocument/2006/relationships/hyperlink" Target="http://glossary.ru/cgi-bin/gl_sch2" TargetMode="External"/><Relationship Id="rId3" Type="http://schemas.openxmlformats.org/officeDocument/2006/relationships/hyperlink" Target="http://www.ournet.md/~lornet/goratii6.html" TargetMode="External"/><Relationship Id="rId4" Type="http://schemas.openxmlformats.org/officeDocument/2006/relationships/hyperlink" Target="http://randewy.narod.ru/astr/zwglob.html" TargetMode="External"/><Relationship Id="rId5" Type="http://schemas.openxmlformats.org/officeDocument/2006/relationships/hyperlink" Target="http://images.goole.ru/" TargetMode="External"/><Relationship Id="rId6" Type="http://schemas.openxmlformats.org/officeDocument/2006/relationships/hyperlink" Target="http://images.goole.ru/" TargetMode="External"/><Relationship Id="rId7" Type="http://schemas.openxmlformats.org/officeDocument/2006/relationships/hyperlink" Target="http://images.goole.ru/" TargetMode="External"/><Relationship Id="rId8" Type="http://schemas.openxmlformats.org/officeDocument/2006/relationships/hyperlink" Target="http://images.goole.ru/" TargetMode="External"/><Relationship Id="rId9" Type="http://schemas.openxmlformats.org/officeDocument/2006/relationships/hyperlink" Target="http://images.goole.ru/" TargetMode="External"/><Relationship Id="rId10" Type="http://schemas.openxmlformats.org/officeDocument/2006/relationships/hyperlink" Target="http://images.goole.ru/" TargetMode="External"/><Relationship Id="rId11" Type="http://schemas.openxmlformats.org/officeDocument/2006/relationships/hyperlink" Target="http://images.goole.ru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podarkov.ru/pics/globus-000.jpg&amp;imgrefurl=http://www.podarkov.ru/rubrika.phtm%3Fid%3D73&amp;h=130&amp;w=100&amp;sz=5&amp;tbnid=Pg6fyWsfhL8J:&amp;tbnh=85&amp;tbnw=65&amp;hl=ru&amp;start=14&amp;prev=/images%3Fq%3D%2B%2B%25D0%25B3%25D0%25BB%25D0%25BE%25D0%25B1%25D1%2583%25D1%2581%2B%25D0%2597%25D0%25B5%25D0%25BC%25D0%25BB%25D0%25B8%26svnum%3D10%26hl%3Dru%26lr%3D%26sa%3D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ru/imgres?imgurl=http://www.miline.com.ua/cat/itp/GL019.jpg&amp;imgrefurl=http://www.miline.com.ua/cat/globe03.html&amp;h=100&amp;w=100&amp;sz=2&amp;tbnid=JGGnD14-cNAJ:&amp;tbnh=77&amp;tbnw=77&amp;hl=ru&amp;start=13&amp;prev=/images%3Fq%3D%2B%2B%25D0%25B3%25D0%25BB%25D0%25BE%25D0%25B1%25D1%2583%25D1%2581%2B%25D0%2597%25D0%25B5%25D0%25BC%25D0%25BB%25D0%25B8%26svnum%3D10%26hl%3Dru%26lr%3D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membrana.ru/images/articles/1069702739.jpeg&amp;imgrefurl=http://www.membrana.ru/articles/global/2003/11/24/222400.html&amp;h=180&amp;w=232&amp;sz=11&amp;tbnid=2YaxQed4o5UJ:&amp;tbnh=79&amp;tbnw=103&amp;hl=ru&amp;start=7&amp;prev=/images%3Fq%3D%2B%2B%25D0%25B3%25D0%25BB%25D0%25BE%25D0%25B1%25D1%2583%25D1%2581%2B%25D0%2597%25D0%25B5%25D0%25BC%25D0%25BB%25D0%25B8%26svnum%3D10%26hl%3Dru%26lr%3D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news.antiq.info/images/pictures/113555.jpg&amp;imgrefurl=http://news.antiq.info/%3Fid%3D5956&amp;h=73&amp;w=100&amp;sz=2&amp;tbnid=k_4sRLw_aekJ:&amp;tbnh=56&amp;tbnw=77&amp;hl=ru&amp;start=12&amp;prev=/images%3Fq%3D%2B%2B%25D0%25B3%25D0%25BB%25D0%25BE%25D0%25B1%25D1%2583%25D1%2581%2B%25D0%2597%25D0%25B5%25D0%25BC%25D0%25BB%25D0%25B8%26svnum%3D10%26hl%3Dru%26lr%3D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ru/imgres?imgurl=http://www.surprizzz.ru/static/user/30861.jpg&amp;imgrefurl=http://www.surprizzz.ru/catalogue/8180&amp;h=233&amp;w=149&amp;sz=7&amp;tbnid=34sdXurgRDEJ:&amp;tbnh=104&amp;tbnw=66&amp;hl=ru&amp;start=3&amp;prev=/images%3Fq%3D%2B%2B%25D0%25B3%25D0%25BB%25D0%25BE%25D0%25B1%25D1%2583%25D1%2581%2B%25D0%2597%25D0%25B5%25D0%25BC%25D0%25BB%25D0%25B8%26svnum%3D10%26hl%3Dru%26lr%3D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Тема урока</a:t>
            </a:r>
            <a:br>
              <a:rPr sz="2800"/>
            </a:br>
            <a:r>
              <a:rPr b="1" i="1" lang="ru-RU" sz="4000" spc="-1" strike="noStrike">
                <a:solidFill>
                  <a:srgbClr val="0000cc"/>
                </a:solidFill>
                <a:latin typeface="Monotype Corsiva"/>
              </a:rPr>
              <a:t>«</a:t>
            </a:r>
            <a:r>
              <a:rPr b="1" i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Глобус — модель Земли</a:t>
            </a:r>
            <a:r>
              <a:rPr b="1" i="1" lang="ru-RU" sz="4000" spc="-1" strike="noStrike">
                <a:solidFill>
                  <a:srgbClr val="0000cc"/>
                </a:solidFill>
                <a:latin typeface="Monotype Corsiva"/>
              </a:rPr>
              <a:t>».</a:t>
            </a:r>
            <a:br>
              <a:rPr sz="4000"/>
            </a:b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Класс, для которого разработан урок или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рекомендуемый возраст учащихся</a:t>
            </a:r>
            <a:br>
              <a:rPr sz="2400"/>
            </a:b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4 класс (9 – 10 лет)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160" y="3200400"/>
            <a:ext cx="838188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Предмет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Monotype Corsiva"/>
              </a:rPr>
              <a:t>Природоведение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Rectangle 6"/>
          <p:cNvSpPr/>
          <p:nvPr/>
        </p:nvSpPr>
        <p:spPr>
          <a:xfrm flipH="1" flipV="1">
            <a:off x="3260160" y="4203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Picture 14" descr="http://images.google.ru/images?q=tbn:eEthOaR0_8gJ:www.priroda1.ru/kab/foto/glopo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720" y="3733920"/>
            <a:ext cx="2244960" cy="251460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Цели и ожидаемые результаты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573"/>
                </a:solidFill>
                <a:latin typeface="Times New Roman"/>
              </a:rPr>
              <a:t>Цели  и задачи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ь работать в группе, оценивать собственную работу на уроке и работу товарищей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культуру общения, умение слушать друг друга, уважать мнение каждого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ум, волю и чувства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573"/>
                </a:solidFill>
                <a:latin typeface="Times New Roman"/>
              </a:rPr>
              <a:t>В результате этого урока учащиеся смогут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ут навыки работы в сотрудничестве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актиковать навыки взаимопомощи при решении различны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уметь определять стороны света и находить материки и океаны на глобус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Блок – схема урока с указанием времени на каждый этап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819520"/>
            <a:ext cx="8305560" cy="34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рганизационный момент.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- 2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ведение в тему урока.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- 3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бота над новым материалом.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- 32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Итог урока.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- 3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5.Домашнее задание.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- 2 мин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флексия.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- 3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раткое описание деятельности учащихся на уроке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рок позволил активизировать внимание учащихся и способствовал развитию творческого мышления. На уроке школьники чувствовали свою успешность, свою интеллектуальность. Уро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ыл организован таким образом,что практически все учащиеся были вовлечены в процесс познания, они имели возможность сами рассказать,  что они знают о глобусах. Совместная деятельность учащихся помогла каждому внести свой особый индивидуальный вклад, обменяться знаниями. Причем происходило все это в атмосфере доброжелательности и взаимной поддержки, что позволило развить познавательную деятельность в форме сотрудничества. Учащиеся учились взвешивать альтернативные мнения, и принимать продуманные решения, общаться с другими деть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сылка на интернет – ресурсы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76312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1"/>
              </a:rPr>
              <a:t>http://info.territory.ru/univer/geo.htm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;  -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2"/>
              </a:rPr>
              <a:t>http://glossary.ru/cgi-bin/gl_sch2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ых сайтах рзмещен материал о глобусе – как модели Земли. 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3"/>
              </a:rPr>
              <a:t>http://www.ournet.md/~lornet/goratii6.html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сайте рассказывается, как появился первый глобус Земли. 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4"/>
              </a:rPr>
              <a:t>http://randewy.narod.ru/astr/zwglob.html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ом сайте  расположен материал о звездном глобусе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5"/>
              </a:rPr>
              <a:t>http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6"/>
              </a:rPr>
              <a:t>://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7"/>
              </a:rPr>
              <a:t>images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9"/>
              </a:rPr>
              <a:t>goole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10"/>
              </a:rPr>
              <a:t>.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11"/>
              </a:rPr>
              <a:t>ru</a:t>
            </a:r>
            <a:r>
              <a:rPr b="1" lang="en-US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сайте расположены фотографии глобусов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2573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2e2573"/>
                </a:solidFill>
                <a:latin typeface="Times New Roman"/>
                <a:ea typeface="Times New Roman"/>
              </a:rPr>
              <a:t>Энциклопедия «Кирилл и Мефодий».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: / приложение/словари/ толковый словарь русского языка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И. Ожегова и  Н. Ю. Шведовой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ЧТО ТАКОЕ ГЛОБУС?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 открытия Аристотеля о шарообразности Земли, люди стали создавать ее модели глобусы. Глобус – латинское слово. Как вы думаете, что оно означает?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углый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арообразный, шар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но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ат.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шар. Прочитайте определение глобуса в учебнике на с. 42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лобус – это модель Земли в миллион раз меньше самой планеты Земля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другое определение глобуса.  Глобус – это шар, на который нанесены очертания суши и вод Земли. Шар нанесен на ось и наклонен по отношению к подставке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51" name="Picture 5" descr="http://images.google.ru/images?q=tbn:Pg6fyWsfhL8J:www.podarkov.ru/pics/globus-0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4267080"/>
            <a:ext cx="1343160" cy="1752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http://images.google.ru/images?q=tbn:JGGnD14-cNAJ:www.miline.com.ua/cat/itp/GL01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1337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АКИЕ БЫВАЮТ ГЛОБУСЫ?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133720" y="1711440"/>
            <a:ext cx="678168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готовке к уроку каждая группа искала ответ на этот вопрос. Послушаем каждую группу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1 группы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лобусы-моряки”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– то мореплаватели брали с собой глобусы в далекие и опасные путешествия. Глобусы – “моряки” за свою долгую службу на кораблях не мало поведали. Их трепали штормы, обдували свирепые ветры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2 группы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лобусы- щеголи”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свой век проводили они в роскошных королевских дворцах. Эти глобусы были украшены золотом, серебром, драгоценными камнями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которые глобусы ставили часовой механизм с пружиной, и глобус кружился,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подобн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й планет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группы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лобус-космонавт”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установлен на космических кораблях. Небольшой глобус – космонавт во время всего полета кружится без остановки с такой же скоростью, как и Земля. Только взглянет на него командир космического корабля, сразу узнает, над каким океаном или какой страной проносится в эту минуту его космический корабль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4 группы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го разных глобусов есть и теперь. Ест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с звездного неба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нем изображены созвездия, млечный путь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7" name="Picture 6" descr="http://images.google.ru/images?q=tbn:2YaxQed4o5UJ:www.membrana.ru/images/articles/1069702739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733920"/>
            <a:ext cx="1524240" cy="1170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http://images.google.ru/images?q=tbn:k_4sRLw_aekJ:news.antiq.info/images/pictures/11355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5181480"/>
            <a:ext cx="1600200" cy="1163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http://images.google.ru/images?q=tbn:34sdXurgRDEJ:www.surprizzz.ru/static/user/30861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828800"/>
            <a:ext cx="1044720" cy="164628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айнворд "Глобус"</a:t>
            </a:r>
            <a:br>
              <a:rPr sz="3600"/>
            </a:b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57600" y="1980720"/>
            <a:ext cx="5105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ишите географические названия в клетки: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Уравнитель. Линия, разделяющая Землю на два полушария (Северное и Южное)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 Источник пресной воды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 Самый южный материк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 Материк, похожий на подошву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    Материк, состоящий из двух частей (Северной и Южной)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    Материк Южного полушария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34336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4" name="Picture 4" descr="Чайнворд &quot;Глобус&quot;"/>
          <p:cNvPicPr/>
          <p:nvPr/>
        </p:nvPicPr>
        <p:blipFill>
          <a:blip r:embed="rId1"/>
          <a:stretch/>
        </p:blipFill>
        <p:spPr>
          <a:xfrm>
            <a:off x="380880" y="1752480"/>
            <a:ext cx="2795760" cy="450540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2:35:23Z</dcterms:created>
  <dc:creator>Andrei</dc:creator>
  <dc:description/>
  <dc:language>en-US</dc:language>
  <cp:lastModifiedBy>LEGION</cp:lastModifiedBy>
  <dcterms:modified xsi:type="dcterms:W3CDTF">2014-12-30T09:37:47Z</dcterms:modified>
  <cp:revision>43</cp:revision>
  <dc:subject/>
  <dc:title>Тема урока «Глобус — модель Земли». Класс, для которого разработан урок или  рекомендуемый возраст учащихся 4 класс (9 – 10 лет)</dc:title>
</cp:coreProperties>
</file>