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56F1-A1E7-407E-A327-9C7FFD517A7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info.territory.ru/univer/geo.htm" TargetMode="External"/><Relationship Id="rId2" Type="http://schemas.openxmlformats.org/officeDocument/2006/relationships/hyperlink" Target="http://glossary.ru/cgi-bin/gl_sch2" TargetMode="External"/><Relationship Id="rId3" Type="http://schemas.openxmlformats.org/officeDocument/2006/relationships/slide" Target="../slides/slide5.xml"/><Relationship Id="rId4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8000"/>
                </a:solidFill>
                <a:latin typeface="Calibri"/>
              </a:rPr>
              <a:t>Тема урока</a:t>
            </a:r>
            <a:br>
              <a:rPr sz="1400"/>
            </a:br>
            <a:r>
              <a:rPr b="1" lang="ru-RU" sz="2000" spc="-1" strike="noStrike">
                <a:solidFill>
                  <a:srgbClr val="0000cc"/>
                </a:solidFill>
                <a:latin typeface="Monotype Corsiva"/>
              </a:rPr>
              <a:t>«</a:t>
            </a:r>
            <a:r>
              <a:rPr b="1" lang="ru-RU" sz="20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Глобус — модель Земли</a:t>
            </a:r>
            <a:r>
              <a:rPr b="1" lang="ru-RU" sz="2000" spc="-1" strike="noStrike">
                <a:solidFill>
                  <a:srgbClr val="0000cc"/>
                </a:solidFill>
                <a:latin typeface="Monotype Corsiva"/>
              </a:rPr>
              <a:t>».</a:t>
            </a:r>
            <a:br>
              <a:rPr sz="20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Класс, для которого разработан урок или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рекомендуемый возраст учащихся</a:t>
            </a:r>
            <a:br>
              <a:rPr sz="1200"/>
            </a:br>
            <a:r>
              <a:rPr b="1" lang="ru-RU" sz="1400" spc="-1" strike="noStrike">
                <a:solidFill>
                  <a:srgbClr val="0000cc"/>
                </a:solidFill>
                <a:latin typeface="Calibri"/>
              </a:rPr>
              <a:t>4 класс (9 – 10 лет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8000"/>
                </a:solidFill>
                <a:latin typeface="Times New Roman"/>
              </a:rPr>
              <a:t>Предме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Monotype Corsiva"/>
              </a:rPr>
              <a:t>Природ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1393-9DDB-4262-9842-B62CD49C7F43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Цели и ожидаемые результа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80"/>
                </a:solidFill>
                <a:latin typeface="Times New Roman"/>
              </a:rPr>
              <a:t>Цели  и задач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- учить работать в группе, оценивать собственную работу на уроке и работу товарищ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- воспитывать культуру общения, умение слушать друг друга, уважать мнение кажд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- развивать ум, волю и чув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80"/>
                </a:solidFill>
                <a:latin typeface="Times New Roman"/>
              </a:rPr>
              <a:t>В результате этого урока учащиеся смогут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eece1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приобретут навыки работы в сотрудничеств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-  практиковать навыки взаимопомощи при решении различных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пробле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-  уметь определять стороны света и находить материки и океаны на глобусе.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5FCD-2A64-43FF-BA58-7BE1F0BD0564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Calibri"/>
              </a:rPr>
              <a:t>Блок – схема урока с указанием времени на каждый этап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eeece1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1.Организационный момент.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             - 2 мин.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                                                       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2.Введение в тему урока.                  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  - 3 мин.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3.Работа над новым материалом.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       - 32 мин.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4.Итог урока.               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                         - 3 мин.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                                                                          5.Домашнее задание.      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                    - 2 м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6. Рефлексия.                                    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    - 3 мин.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8989-382E-4D59-AA08-6DB7B4357189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Краткое описание деятельности учащихся на урок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анный урок позволил активизировать внимание учащихся и способствовал развитию творческого мышления. На уроке школьники чувствовали свою успешность, свою интеллектуальность. Урок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ыл организован таким образом,что практически все учащиеся были вовлечены в процесс познания, они имели возможность сами рассказать,  что они знают о глобусах. Совместная деятельность учащихся помогла каждому внести свой особый индивидуальный вклад, обменяться знаниями. Причем происходило все это в атмосфере доброжелательности и взаимной поддержки, что позволило развить познавательную деятельность в форме сотрудничества. Учащиеся учились взвешивать альтернативные мнения, и принимать продуманные решения, общаться с другими деть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4E58-C7B8-4B19-A487-9AAB47A35D96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Ссылка на интернет – ресурс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   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info.territory.ru/univer/geo.htm</a:t>
            </a: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;  - </a:t>
            </a:r>
            <a:r>
              <a:rPr b="1" lang="en-US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glossary.ru/cgi-bin/gl_sch2</a:t>
            </a: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. -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на данных сайтах рзмещен материал о глобусе – как модели Земли.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   </a:t>
            </a:r>
            <a:r>
              <a:rPr b="0" lang="en-US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</a:t>
            </a:r>
            <a:r>
              <a:rPr b="0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ttp://www.ournet.md/~lornet/goratii6.html -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на этом сайте рассказывается, как появился первый глобус Земли.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  </a:t>
            </a:r>
            <a:r>
              <a:rPr b="0" lang="en-US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</a:t>
            </a: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ttp://randewy.narod.ru/astr/zwglob.html -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на данном сайте  расположен материал о звездном глобу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 </a:t>
            </a:r>
            <a:r>
              <a:rPr b="0" lang="en-US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</a:t>
            </a:r>
            <a:r>
              <a:rPr b="0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 </a:t>
            </a:r>
            <a:r>
              <a:rPr b="0" lang="en-US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//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ages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le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на этом сайте расположены фотографии глобу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Энциклопедия «Кирилл и Мефодий».</a:t>
            </a: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Раздел: / приложение/словари/ толковый словарь русского язы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С. И. Ожегова и  Н. Ю. Шведо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76B6-6F9C-4082-9CA2-52FA48A4E014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ЧТО ТАКОЕ ГЛОБУС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Times New Roman"/>
              </a:rPr>
              <a:t>      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.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После открытия Аристотеля о шарообразности Земли, люди стали создавать ее модели глобусы. Глобус – латинское слово. Как вы думаете, что оно означа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и.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Кругл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и.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Шарообразный, ш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</a:rPr>
              <a:t>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.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Верно. </a:t>
            </a:r>
            <a:r>
              <a:rPr b="1" i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Глобус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(лат.)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– шар. Прочитайте определение глобуса в учебнике на с. 4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и.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Глобус – это модель Земли в миллион раз меньше самой планеты Зем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.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Есть другое определение глобуса.  Глобус – это шар, на который нанесены очертания суши и вод Земли. Шар нанесен на ось и наклонен по отношению к подстав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   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A949-AFC8-4C50-9ACE-9DCAC01E631E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КАКИЕ БЫВАЮТ ГЛОБУС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 </a:t>
            </a:r>
            <a:r>
              <a:rPr b="0" lang="ru-RU" sz="1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    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0C8B-414B-4EEC-AFD8-3676A91E450F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Calibri"/>
                <a:ea typeface="Times New Roman"/>
              </a:rPr>
              <a:t>Чайнворд "Глобус"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 </a:t>
            </a:r>
            <a:r>
              <a:rPr b="0" lang="ru-RU" sz="11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    </a:t>
            </a:r>
            <a:r>
              <a:rPr b="1" lang="ru-RU" sz="11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 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Впишите географические названия в клетк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1.  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   Уравнитель. Линия, разделяющая Землю на два полушария (Северное и Южное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2.     Источник пресной во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3.     Самый южный матер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4.     Материк, похожий на подошв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5.     Материк, состоящий из двух частей (Северной и Южной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6.     Материк Южного полушар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</a:t>
            </a:r>
            <a:r>
              <a:rPr b="0" lang="ru-RU" sz="11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E2E9-AFD9-4846-9EEA-478AA95E5DC8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38CF-1247-4D06-8AC3-4DE651648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E4EC-6A10-4382-80AA-18FECBBD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C910-1284-44D8-9B1C-5B2D23742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ADCA-3E24-4476-94A7-11AB123E4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FEE59-BC06-4B69-B859-1C425112E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4E9C0-BB6A-47F2-9E5B-DE601BCA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7FAE-66C3-4E42-AD62-8976E563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C8D3-DB8C-408A-BAC5-E2D9A9B4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3C22-2D60-4FED-9C23-204E09C3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B2C9-D73D-4580-8D68-B8D5D528D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3E5A8-4AEA-457B-9338-10EE75EB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6694-3CA5-4406-896F-D753F604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4622-56D1-4886-91FF-DB672ABD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5B5B-68F8-4382-9181-141FA91E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E747-0407-4CA9-BB39-EB9B3CFA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E00F-50FE-4785-ADF5-5A135A887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D892-182F-46F3-8A7D-216F5798F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89E7-4BC3-4E48-A654-9E91D3AF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1971-E818-4ECA-9334-8D6866C3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74C2-D204-4C09-BFEC-898139A2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6190-F70C-4983-BA30-168E8BDB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9DD1-807E-4E5B-AB11-02F2CDF1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E5C0-E4A1-4373-B719-A68B3E81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1996-AADA-4DA5-B7A3-01C47866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6E2A-EC22-46A1-AB4B-0D7E4DE422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63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162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8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4f49a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8" name="Group 9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0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1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2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4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5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6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7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8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19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0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1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2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3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4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5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6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7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8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29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0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1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2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3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4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5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6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7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8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39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0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1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2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3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4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5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6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7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8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49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0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1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2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3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4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5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6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7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8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59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0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1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2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3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4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5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6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7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8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69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0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1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2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3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4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5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6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7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8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79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0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1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2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3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4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5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6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7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8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89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0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1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2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3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4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5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6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7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8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99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0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1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2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3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4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5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6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7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8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09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0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1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2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3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4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5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6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7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8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19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0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1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2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3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4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5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6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7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8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29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0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1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2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3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4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5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6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7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8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39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0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1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2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3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4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5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6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7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8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49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0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1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2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3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4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5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6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7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61" descr="C:\My Documents\bits\earth.GIF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168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16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17118b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96" name="Group 166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7"/>
              <p:cNvSpPr/>
              <p:nvPr/>
            </p:nvSpPr>
            <p:spPr>
              <a:xfrm>
                <a:off x="1642320" y="223560"/>
                <a:ext cx="7501320" cy="158472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4f49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98" name="Group 165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10"/>
                <p:cNvSpPr/>
                <p:nvPr/>
              </p:nvSpPr>
              <p:spPr>
                <a:xfrm>
                  <a:off x="5848560" y="167472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11"/>
                <p:cNvSpPr/>
                <p:nvPr/>
              </p:nvSpPr>
              <p:spPr>
                <a:xfrm>
                  <a:off x="6077880" y="1775880"/>
                  <a:ext cx="27000" cy="3060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12"/>
                <p:cNvSpPr/>
                <p:nvPr/>
              </p:nvSpPr>
              <p:spPr>
                <a:xfrm>
                  <a:off x="5430600" y="1611720"/>
                  <a:ext cx="40320" cy="522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3"/>
                <p:cNvSpPr/>
                <p:nvPr/>
              </p:nvSpPr>
              <p:spPr>
                <a:xfrm>
                  <a:off x="4964400" y="1660680"/>
                  <a:ext cx="32400" cy="183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4"/>
                <p:cNvSpPr/>
                <p:nvPr/>
              </p:nvSpPr>
              <p:spPr>
                <a:xfrm>
                  <a:off x="4823640" y="1682280"/>
                  <a:ext cx="84600" cy="5976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5"/>
                <p:cNvSpPr/>
                <p:nvPr/>
              </p:nvSpPr>
              <p:spPr>
                <a:xfrm>
                  <a:off x="4735080" y="1679040"/>
                  <a:ext cx="88560" cy="5976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6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7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8"/>
                <p:cNvSpPr/>
                <p:nvPr/>
              </p:nvSpPr>
              <p:spPr>
                <a:xfrm>
                  <a:off x="4735080" y="1445760"/>
                  <a:ext cx="142920" cy="489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9"/>
                <p:cNvSpPr/>
                <p:nvPr/>
              </p:nvSpPr>
              <p:spPr>
                <a:xfrm>
                  <a:off x="4728600" y="1505880"/>
                  <a:ext cx="97560" cy="1285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20"/>
                <p:cNvSpPr/>
                <p:nvPr/>
              </p:nvSpPr>
              <p:spPr>
                <a:xfrm>
                  <a:off x="4893840" y="1434960"/>
                  <a:ext cx="47880" cy="7488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21"/>
                <p:cNvSpPr/>
                <p:nvPr/>
              </p:nvSpPr>
              <p:spPr>
                <a:xfrm>
                  <a:off x="4905720" y="1551600"/>
                  <a:ext cx="60840" cy="3672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22"/>
                <p:cNvSpPr/>
                <p:nvPr/>
              </p:nvSpPr>
              <p:spPr>
                <a:xfrm>
                  <a:off x="4969440" y="1495080"/>
                  <a:ext cx="79200" cy="6408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3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4"/>
                <p:cNvSpPr/>
                <p:nvPr/>
              </p:nvSpPr>
              <p:spPr>
                <a:xfrm>
                  <a:off x="5314680" y="1547280"/>
                  <a:ext cx="101520" cy="979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5"/>
                <p:cNvSpPr/>
                <p:nvPr/>
              </p:nvSpPr>
              <p:spPr>
                <a:xfrm>
                  <a:off x="5528520" y="1341360"/>
                  <a:ext cx="24480" cy="2124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6"/>
                <p:cNvSpPr/>
                <p:nvPr/>
              </p:nvSpPr>
              <p:spPr>
                <a:xfrm>
                  <a:off x="5657040" y="1491840"/>
                  <a:ext cx="33840" cy="2916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7"/>
                <p:cNvSpPr/>
                <p:nvPr/>
              </p:nvSpPr>
              <p:spPr>
                <a:xfrm>
                  <a:off x="5244120" y="11541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8"/>
                <p:cNvSpPr/>
                <p:nvPr/>
              </p:nvSpPr>
              <p:spPr>
                <a:xfrm>
                  <a:off x="5028120" y="13107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9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30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31"/>
                <p:cNvSpPr/>
                <p:nvPr/>
              </p:nvSpPr>
              <p:spPr>
                <a:xfrm>
                  <a:off x="4786920" y="1206360"/>
                  <a:ext cx="41760" cy="630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32"/>
                <p:cNvSpPr/>
                <p:nvPr/>
              </p:nvSpPr>
              <p:spPr>
                <a:xfrm>
                  <a:off x="4701240" y="1221480"/>
                  <a:ext cx="58680" cy="6300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3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4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5"/>
                <p:cNvSpPr/>
                <p:nvPr/>
              </p:nvSpPr>
              <p:spPr>
                <a:xfrm>
                  <a:off x="6300720" y="969840"/>
                  <a:ext cx="46440" cy="597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6"/>
                <p:cNvSpPr/>
                <p:nvPr/>
              </p:nvSpPr>
              <p:spPr>
                <a:xfrm>
                  <a:off x="6264000" y="946800"/>
                  <a:ext cx="49320" cy="442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7"/>
                <p:cNvSpPr/>
                <p:nvPr/>
              </p:nvSpPr>
              <p:spPr>
                <a:xfrm>
                  <a:off x="7745040" y="822240"/>
                  <a:ext cx="222480" cy="12456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8"/>
                <p:cNvSpPr/>
                <p:nvPr/>
              </p:nvSpPr>
              <p:spPr>
                <a:xfrm>
                  <a:off x="7980480" y="923400"/>
                  <a:ext cx="179640" cy="5688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9"/>
                <p:cNvSpPr/>
                <p:nvPr/>
              </p:nvSpPr>
              <p:spPr>
                <a:xfrm>
                  <a:off x="7885440" y="954360"/>
                  <a:ext cx="72720" cy="522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40"/>
                <p:cNvSpPr/>
                <p:nvPr/>
              </p:nvSpPr>
              <p:spPr>
                <a:xfrm>
                  <a:off x="7837200" y="793080"/>
                  <a:ext cx="47880" cy="67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41"/>
                <p:cNvSpPr/>
                <p:nvPr/>
              </p:nvSpPr>
              <p:spPr>
                <a:xfrm>
                  <a:off x="8224200" y="995760"/>
                  <a:ext cx="58320" cy="1011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42"/>
                <p:cNvSpPr/>
                <p:nvPr/>
              </p:nvSpPr>
              <p:spPr>
                <a:xfrm>
                  <a:off x="7189920" y="226080"/>
                  <a:ext cx="624960" cy="1533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3"/>
                <p:cNvSpPr/>
                <p:nvPr/>
              </p:nvSpPr>
              <p:spPr>
                <a:xfrm>
                  <a:off x="6636600" y="221760"/>
                  <a:ext cx="580680" cy="7488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4"/>
                <p:cNvSpPr/>
                <p:nvPr/>
              </p:nvSpPr>
              <p:spPr>
                <a:xfrm>
                  <a:off x="5357520" y="330840"/>
                  <a:ext cx="54360" cy="3852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5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6"/>
                <p:cNvSpPr/>
                <p:nvPr/>
              </p:nvSpPr>
              <p:spPr>
                <a:xfrm>
                  <a:off x="5196240" y="203400"/>
                  <a:ext cx="60840" cy="2055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7"/>
                <p:cNvSpPr/>
                <p:nvPr/>
              </p:nvSpPr>
              <p:spPr>
                <a:xfrm>
                  <a:off x="5159880" y="375120"/>
                  <a:ext cx="179280" cy="1288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8"/>
                <p:cNvSpPr/>
                <p:nvPr/>
              </p:nvSpPr>
              <p:spPr>
                <a:xfrm>
                  <a:off x="4966920" y="496800"/>
                  <a:ext cx="243360" cy="27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9"/>
                <p:cNvSpPr/>
                <p:nvPr/>
              </p:nvSpPr>
              <p:spPr>
                <a:xfrm>
                  <a:off x="5128560" y="574920"/>
                  <a:ext cx="18000" cy="154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50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51"/>
                <p:cNvSpPr/>
                <p:nvPr/>
              </p:nvSpPr>
              <p:spPr>
                <a:xfrm>
                  <a:off x="3947040" y="1247760"/>
                  <a:ext cx="58680" cy="1087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52"/>
                <p:cNvSpPr/>
                <p:nvPr/>
              </p:nvSpPr>
              <p:spPr>
                <a:xfrm>
                  <a:off x="4759920" y="879120"/>
                  <a:ext cx="54360" cy="9036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3"/>
                <p:cNvSpPr/>
                <p:nvPr/>
              </p:nvSpPr>
              <p:spPr>
                <a:xfrm>
                  <a:off x="4915080" y="834480"/>
                  <a:ext cx="27000" cy="3672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4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5"/>
                <p:cNvSpPr/>
                <p:nvPr/>
              </p:nvSpPr>
              <p:spPr>
                <a:xfrm>
                  <a:off x="2588760" y="977400"/>
                  <a:ext cx="497160" cy="82908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6"/>
                <p:cNvSpPr/>
                <p:nvPr/>
              </p:nvSpPr>
              <p:spPr>
                <a:xfrm>
                  <a:off x="3465360" y="1593360"/>
                  <a:ext cx="20520" cy="442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7"/>
                <p:cNvSpPr/>
                <p:nvPr/>
              </p:nvSpPr>
              <p:spPr>
                <a:xfrm>
                  <a:off x="3438000" y="1164960"/>
                  <a:ext cx="27360" cy="2592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8"/>
                <p:cNvSpPr/>
                <p:nvPr/>
              </p:nvSpPr>
              <p:spPr>
                <a:xfrm>
                  <a:off x="2232000" y="639720"/>
                  <a:ext cx="75240" cy="3672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9"/>
                <p:cNvSpPr/>
                <p:nvPr/>
              </p:nvSpPr>
              <p:spPr>
                <a:xfrm>
                  <a:off x="3154320" y="293760"/>
                  <a:ext cx="899640" cy="87408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60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61"/>
                <p:cNvSpPr/>
                <p:nvPr/>
              </p:nvSpPr>
              <p:spPr>
                <a:xfrm>
                  <a:off x="2906640" y="356760"/>
                  <a:ext cx="38880" cy="38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62"/>
                <p:cNvSpPr/>
                <p:nvPr/>
              </p:nvSpPr>
              <p:spPr>
                <a:xfrm>
                  <a:off x="2859840" y="408960"/>
                  <a:ext cx="58680" cy="414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3"/>
                <p:cNvSpPr/>
                <p:nvPr/>
              </p:nvSpPr>
              <p:spPr>
                <a:xfrm>
                  <a:off x="3049920" y="564480"/>
                  <a:ext cx="97560" cy="2124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4"/>
                <p:cNvSpPr/>
                <p:nvPr/>
              </p:nvSpPr>
              <p:spPr>
                <a:xfrm>
                  <a:off x="3218040" y="559440"/>
                  <a:ext cx="54360" cy="5688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5"/>
                <p:cNvSpPr/>
                <p:nvPr/>
              </p:nvSpPr>
              <p:spPr>
                <a:xfrm>
                  <a:off x="2768400" y="406080"/>
                  <a:ext cx="42840" cy="367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159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110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112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113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114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115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116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117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118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119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120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121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160"/>
              <p:cNvGrpSpPr/>
              <p:nvPr/>
            </p:nvGrpSpPr>
            <p:grpSpPr>
              <a:xfrm>
                <a:off x="0" y="217440"/>
                <a:ext cx="2732400" cy="1582200"/>
                <a:chOff x="0" y="217440"/>
                <a:chExt cx="2732400" cy="1582200"/>
              </a:xfrm>
            </p:grpSpPr>
            <p:sp>
              <p:nvSpPr>
                <p:cNvPr id="268" name="Line 132"/>
                <p:cNvSpPr/>
                <p:nvPr/>
              </p:nvSpPr>
              <p:spPr>
                <a:xfrm>
                  <a:off x="2138400" y="220680"/>
                  <a:ext cx="0" cy="53100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133"/>
                <p:cNvSpPr/>
                <p:nvPr/>
              </p:nvSpPr>
              <p:spPr>
                <a:xfrm>
                  <a:off x="2297160" y="1051560"/>
                  <a:ext cx="9072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134"/>
                <p:cNvSpPr/>
                <p:nvPr/>
              </p:nvSpPr>
              <p:spPr>
                <a:xfrm>
                  <a:off x="2435040" y="1118520"/>
                  <a:ext cx="0" cy="10512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135"/>
                <p:cNvSpPr/>
                <p:nvPr/>
              </p:nvSpPr>
              <p:spPr>
                <a:xfrm>
                  <a:off x="2732400" y="1492920"/>
                  <a:ext cx="0" cy="29592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145"/>
                <p:cNvSpPr/>
                <p:nvPr/>
              </p:nvSpPr>
              <p:spPr>
                <a:xfrm>
                  <a:off x="1247400" y="235800"/>
                  <a:ext cx="0" cy="23148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146"/>
                <p:cNvSpPr/>
                <p:nvPr/>
              </p:nvSpPr>
              <p:spPr>
                <a:xfrm>
                  <a:off x="950400" y="223920"/>
                  <a:ext cx="0" cy="126180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147"/>
                <p:cNvSpPr/>
                <p:nvPr/>
              </p:nvSpPr>
              <p:spPr>
                <a:xfrm flipH="1">
                  <a:off x="916560" y="1051560"/>
                  <a:ext cx="8856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148"/>
                <p:cNvSpPr/>
                <p:nvPr/>
              </p:nvSpPr>
              <p:spPr>
                <a:xfrm>
                  <a:off x="741960" y="1051560"/>
                  <a:ext cx="7812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149"/>
                <p:cNvSpPr/>
                <p:nvPr/>
              </p:nvSpPr>
              <p:spPr>
                <a:xfrm flipH="1">
                  <a:off x="481680" y="1051560"/>
                  <a:ext cx="10656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150"/>
                <p:cNvSpPr/>
                <p:nvPr/>
              </p:nvSpPr>
              <p:spPr>
                <a:xfrm>
                  <a:off x="0" y="1051560"/>
                  <a:ext cx="45324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151"/>
                <p:cNvSpPr/>
                <p:nvPr/>
              </p:nvSpPr>
              <p:spPr>
                <a:xfrm>
                  <a:off x="353880" y="684720"/>
                  <a:ext cx="0" cy="111492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152"/>
                <p:cNvSpPr/>
                <p:nvPr/>
              </p:nvSpPr>
              <p:spPr>
                <a:xfrm>
                  <a:off x="59760" y="752040"/>
                  <a:ext cx="0" cy="58356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153"/>
                <p:cNvSpPr/>
                <p:nvPr/>
              </p:nvSpPr>
              <p:spPr>
                <a:xfrm flipV="1">
                  <a:off x="356760" y="217440"/>
                  <a:ext cx="0" cy="10080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154"/>
                <p:cNvSpPr/>
                <p:nvPr/>
              </p:nvSpPr>
              <p:spPr>
                <a:xfrm>
                  <a:off x="653760" y="482760"/>
                  <a:ext cx="0" cy="35892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155"/>
                <p:cNvSpPr/>
                <p:nvPr/>
              </p:nvSpPr>
              <p:spPr>
                <a:xfrm flipV="1">
                  <a:off x="653760" y="223920"/>
                  <a:ext cx="0" cy="8208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158" descr="C:\My Documents\bits\earth.GIF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CC72-B71C-4FEC-B3B9-F4C0D8F345EB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priroda1.ru/kab/foto/glopol.jpg&amp;imgrefurl=http://www.priroda1.ru/kab/geografia.html&amp;h=314&amp;w=282&amp;sz=30&amp;tbnid=eEthOaR0_8gJ:&amp;tbnh=113&amp;tbnw=101&amp;hl=ru&amp;start=1&amp;prev=/images%3Fq%3D%2B%2B%25D0%25B3%25D0%25BB%25D0%25BE%25D0%25B1%25D1%2583%25D1%2581%2B%25D0%2597%25D0%25B5%25D0%25BC%25D0%25BB%25D0%25B8%26svnum%3D10%26hl%3Dru%26lr%3D%26sa%3D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nfo.territory.ru/univer/geo.htm" TargetMode="External"/><Relationship Id="rId2" Type="http://schemas.openxmlformats.org/officeDocument/2006/relationships/hyperlink" Target="http://glossary.ru/cgi-bin/gl_sch2" TargetMode="External"/><Relationship Id="rId3" Type="http://schemas.openxmlformats.org/officeDocument/2006/relationships/hyperlink" Target="http://www.ournet.md/~lornet/goratii6.html" TargetMode="External"/><Relationship Id="rId4" Type="http://schemas.openxmlformats.org/officeDocument/2006/relationships/hyperlink" Target="http://randewy.narod.ru/astr/zwglob.html" TargetMode="External"/><Relationship Id="rId5" Type="http://schemas.openxmlformats.org/officeDocument/2006/relationships/hyperlink" Target="http://images.goole.ru/" TargetMode="External"/><Relationship Id="rId6" Type="http://schemas.openxmlformats.org/officeDocument/2006/relationships/hyperlink" Target="http://images.goole.ru/" TargetMode="External"/><Relationship Id="rId7" Type="http://schemas.openxmlformats.org/officeDocument/2006/relationships/hyperlink" Target="http://images.goole.ru/" TargetMode="External"/><Relationship Id="rId8" Type="http://schemas.openxmlformats.org/officeDocument/2006/relationships/hyperlink" Target="http://images.goole.ru/" TargetMode="External"/><Relationship Id="rId9" Type="http://schemas.openxmlformats.org/officeDocument/2006/relationships/hyperlink" Target="http://images.goole.ru/" TargetMode="External"/><Relationship Id="rId10" Type="http://schemas.openxmlformats.org/officeDocument/2006/relationships/hyperlink" Target="http://images.goole.ru/" TargetMode="External"/><Relationship Id="rId11" Type="http://schemas.openxmlformats.org/officeDocument/2006/relationships/hyperlink" Target="http://images.goole.ru/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podarkov.ru/pics/globus-000.jpg&amp;imgrefurl=http://www.podarkov.ru/rubrika.phtm%3Fid%3D73&amp;h=130&amp;w=100&amp;sz=5&amp;tbnid=Pg6fyWsfhL8J:&amp;tbnh=85&amp;tbnw=65&amp;hl=ru&amp;start=14&amp;prev=/images%3Fq%3D%2B%2B%25D0%25B3%25D0%25BB%25D0%25BE%25D0%25B1%25D1%2583%25D1%2581%2B%25D0%2597%25D0%25B5%25D0%25BC%25D0%25BB%25D0%25B8%26svnum%3D10%26hl%3Dru%26lr%3D%26sa%3D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ru/imgres?imgurl=http://www.miline.com.ua/cat/itp/GL019.jpg&amp;imgrefurl=http://www.miline.com.ua/cat/globe03.html&amp;h=100&amp;w=100&amp;sz=2&amp;tbnid=JGGnD14-cNAJ:&amp;tbnh=77&amp;tbnw=77&amp;hl=ru&amp;start=13&amp;prev=/images%3Fq%3D%2B%2B%25D0%25B3%25D0%25BB%25D0%25BE%25D0%25B1%25D1%2583%25D1%2581%2B%25D0%2597%25D0%25B5%25D0%25BC%25D0%25BB%25D0%25B8%26svnum%3D10%26hl%3Dru%26lr%3D%26sa%3D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membrana.ru/images/articles/1069702739.jpeg&amp;imgrefurl=http://www.membrana.ru/articles/global/2003/11/24/222400.html&amp;h=180&amp;w=232&amp;sz=11&amp;tbnid=2YaxQed4o5UJ:&amp;tbnh=79&amp;tbnw=103&amp;hl=ru&amp;start=7&amp;prev=/images%3Fq%3D%2B%2B%25D0%25B3%25D0%25BB%25D0%25BE%25D0%25B1%25D1%2583%25D1%2581%2B%25D0%2597%25D0%25B5%25D0%25BC%25D0%25BB%25D0%25B8%26svnum%3D10%26hl%3Dru%26lr%3D%26sa%3D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ru/imgres?imgurl=http://news.antiq.info/images/pictures/113555.jpg&amp;imgrefurl=http://news.antiq.info/%3Fid%3D5956&amp;h=73&amp;w=100&amp;sz=2&amp;tbnid=k_4sRLw_aekJ:&amp;tbnh=56&amp;tbnw=77&amp;hl=ru&amp;start=12&amp;prev=/images%3Fq%3D%2B%2B%25D0%25B3%25D0%25BB%25D0%25BE%25D0%25B1%25D1%2583%25D1%2581%2B%25D0%2597%25D0%25B5%25D0%25BC%25D0%25BB%25D0%25B8%26svnum%3D10%26hl%3Dru%26lr%3D%26sa%3D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ru/imgres?imgurl=http://www.surprizzz.ru/static/user/30861.jpg&amp;imgrefurl=http://www.surprizzz.ru/catalogue/8180&amp;h=233&amp;w=149&amp;sz=7&amp;tbnid=34sdXurgRDEJ:&amp;tbnh=104&amp;tbnw=66&amp;hl=ru&amp;start=3&amp;prev=/images%3Fq%3D%2B%2B%25D0%25B3%25D0%25BB%25D0%25BE%25D0%25B1%25D1%2583%25D1%2581%2B%25D0%2597%25D0%25B5%25D0%25BC%25D0%25BB%25D0%25B8%26svnum%3D10%26hl%3Dru%26lr%3D%26sa%3DG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8240" y="1066680"/>
            <a:ext cx="8001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Тема урока</a:t>
            </a:r>
            <a:br>
              <a:rPr sz="2800"/>
            </a:br>
            <a:r>
              <a:rPr b="1" i="1" lang="ru-RU" sz="4000" spc="-1" strike="noStrike">
                <a:solidFill>
                  <a:srgbClr val="0000cc"/>
                </a:solidFill>
                <a:latin typeface="Monotype Corsiva"/>
              </a:rPr>
              <a:t>«</a:t>
            </a:r>
            <a:r>
              <a:rPr b="1" i="1" lang="ru-RU" sz="40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Глобус — модель Земли</a:t>
            </a:r>
            <a:r>
              <a:rPr b="1" i="1" lang="ru-RU" sz="4000" spc="-1" strike="noStrike">
                <a:solidFill>
                  <a:srgbClr val="0000cc"/>
                </a:solidFill>
                <a:latin typeface="Monotype Corsiva"/>
              </a:rPr>
              <a:t>».</a:t>
            </a:r>
            <a:br>
              <a:rPr sz="4000"/>
            </a:b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Класс, для которого разработан урок или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 рекомендуемый возраст учащихся</a:t>
            </a:r>
            <a:br>
              <a:rPr sz="2400"/>
            </a:b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4 класс (9 – 10 лет)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160" y="3200400"/>
            <a:ext cx="8381880" cy="30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Предмет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Monotype Corsiva"/>
              </a:rPr>
              <a:t>Природоведение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      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4" name="Rectangle 6"/>
          <p:cNvSpPr/>
          <p:nvPr/>
        </p:nvSpPr>
        <p:spPr>
          <a:xfrm flipH="1" flipV="1">
            <a:off x="3260160" y="42033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я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5" name="Picture 14" descr="http://images.google.ru/images?q=tbn:eEthOaR0_8gJ:www.priroda1.ru/kab/foto/glopo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5720" y="3733920"/>
            <a:ext cx="2244960" cy="2514600"/>
          </a:xfrm>
          <a:prstGeom prst="rect">
            <a:avLst/>
          </a:prstGeom>
          <a:ln w="0">
            <a:noFill/>
          </a:ln>
        </p:spPr>
      </p:pic>
      <p:sp>
        <p:nvSpPr>
          <p:cNvPr id="33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240" y="9140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Цели и ожидаемые результаты.</a:t>
            </a: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7724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573"/>
                </a:solidFill>
                <a:latin typeface="Times New Roman"/>
              </a:rPr>
              <a:t>Цели  и задачи: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ить работать в группе, оценивать собственную работу на уроке и работу товарищей.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ывать культуру общения, умение слушать друг друга, уважать мнение каждого.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вать ум, волю и чувства.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573"/>
                </a:solidFill>
                <a:latin typeface="Times New Roman"/>
              </a:rPr>
              <a:t>В результате этого урока учащиеся смогут: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ретут навыки работы в сотрудничестве,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рактиковать навыки взаимопомощи при решении различных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,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уметь определять стороны света и находить материки и океаны на глобусе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28240" y="12189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Блок – схема урока с указанием времени на каждый этап.</a:t>
            </a: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160" y="2819520"/>
            <a:ext cx="8305560" cy="34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рганизационный момент.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- 2 мин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Введение в тему урока.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- 3 мин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Работа над новым материалом.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- 32 мин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Итог урока.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- 3 мин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5.Домашнее задание.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- 2 мин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Рефлексия.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- 3 мин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240" y="9144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Краткое описание деятельности учащихся на уроке.</a:t>
            </a: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нный урок позволил активизировать внимание учащихся и способствовал развитию творческого мышления. На уроке школьники чувствовали свою успешность, свою интеллектуальность. Уро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ыл организован таким образом,что практически все учащиеся были вовлечены в процесс познания, они имели возможность сами рассказать,  что они знают о глобусах. Совместная деятельность учащихся помогла каждому внести свой особый индивидуальный вклад, обменяться знаниями. Причем происходило все это в атмосфере доброжелательности и взаимной поддержки, что позволило развить познавательную деятельность в форме сотрудничества. Учащиеся учились взвешивать альтернативные мнения, и принимать продуманные решения, общаться с другими детьми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Ссылка на интернет – ресурсы.</a:t>
            </a: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76312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1"/>
              </a:rPr>
              <a:t>http://info.territory.ru/univer/geo.htm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;  -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2"/>
              </a:rPr>
              <a:t>http://glossary.ru/cgi-bin/gl_sch2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.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анных сайтах рзмещен материал о глобусе – как модели Земли.  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   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3"/>
              </a:rPr>
              <a:t>http://www.ournet.md/~lornet/goratii6.html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ом сайте рассказывается, как появился первый глобус Земли.  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  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4"/>
              </a:rPr>
              <a:t>http://randewy.narod.ru/astr/zwglob.html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анном сайте  расположен материал о звездном глобусе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 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 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5"/>
              </a:rPr>
              <a:t>http</a:t>
            </a:r>
            <a:r>
              <a:rPr b="0" lang="ru-RU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6"/>
              </a:rPr>
              <a:t>://</a:t>
            </a:r>
            <a:r>
              <a:rPr b="0" lang="en-US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7"/>
              </a:rPr>
              <a:t>images</a:t>
            </a:r>
            <a:r>
              <a:rPr b="0" lang="ru-RU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8"/>
              </a:rPr>
              <a:t>.</a:t>
            </a:r>
            <a:r>
              <a:rPr b="0" lang="en-US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9"/>
              </a:rPr>
              <a:t>goole</a:t>
            </a:r>
            <a:r>
              <a:rPr b="0" lang="ru-RU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10"/>
              </a:rPr>
              <a:t>.</a:t>
            </a:r>
            <a:r>
              <a:rPr b="0" lang="en-US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11"/>
              </a:rPr>
              <a:t>ru</a:t>
            </a:r>
            <a:r>
              <a:rPr b="1" lang="en-US" sz="2000" spc="-1" strike="noStrike">
                <a:solidFill>
                  <a:srgbClr val="17118b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7118b"/>
                </a:solidFill>
                <a:latin typeface="Times New Roman"/>
                <a:ea typeface="Times New Roman"/>
              </a:rPr>
              <a:t>-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ом сайте расположены фотографии глобусов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2573"/>
                </a:solidFill>
                <a:latin typeface="Times New Roman"/>
                <a:ea typeface="Times New Roman"/>
              </a:rPr>
              <a:t>        </a:t>
            </a:r>
            <a:r>
              <a:rPr b="1" lang="ru-RU" sz="2000" spc="-1" strike="noStrike">
                <a:solidFill>
                  <a:srgbClr val="2e2573"/>
                </a:solidFill>
                <a:latin typeface="Times New Roman"/>
                <a:ea typeface="Times New Roman"/>
              </a:rPr>
              <a:t>Энциклопедия «Кирилл и Мефодий».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: / приложение/словари/ толковый словарь русского языка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И. Ожегова и  Н. Ю. Шведовой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ЧТО ТАКОЕ ГЛОБУС?</a:t>
            </a: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905120" y="182880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7118b"/>
                </a:solidFill>
                <a:latin typeface="Times New Roman"/>
                <a:ea typeface="Times New Roman"/>
              </a:rPr>
              <a:t>Учитель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ле открытия Аристотеля о шарообразности Земли, люди стали создавать ее модели глобусы. Глобус – латинское слово. Как вы думаете, что оно означает?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7118b"/>
                </a:solidFill>
                <a:latin typeface="Times New Roman"/>
                <a:ea typeface="Times New Roman"/>
              </a:rPr>
              <a:t>Дети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руглый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7118b"/>
                </a:solidFill>
                <a:latin typeface="Times New Roman"/>
                <a:ea typeface="Times New Roman"/>
              </a:rPr>
              <a:t>Дети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Шарообразный, шар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17118b"/>
                </a:solidFill>
                <a:latin typeface="Times New Roman"/>
                <a:ea typeface="Times New Roman"/>
              </a:rPr>
              <a:t>Учитель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рно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бус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ат.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шар. Прочитайте определение глобуса в учебнике на с. 42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7118b"/>
                </a:solidFill>
                <a:latin typeface="Times New Roman"/>
                <a:ea typeface="Times New Roman"/>
              </a:rPr>
              <a:t>Дети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Глобус – это модель Земли в миллион раз меньше самой планеты Земля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7118b"/>
                </a:solidFill>
                <a:latin typeface="Times New Roman"/>
                <a:ea typeface="Times New Roman"/>
              </a:rPr>
              <a:t>Учитель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ть другое определение глобуса.  Глобус – это шар, на который нанесены очертания суши и вод Земли. Шар нанесен на ось и наклонен по отношению к подставке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351" name="Picture 5" descr="http://images.google.ru/images?q=tbn:Pg6fyWsfhL8J:www.podarkov.ru/pics/globus-00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4267080"/>
            <a:ext cx="1343160" cy="1752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9" descr="http://images.google.ru/images?q=tbn:JGGnD14-cNAJ:www.miline.com.ua/cat/itp/GL019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213372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35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КАКИЕ БЫВАЮТ ГЛОБУСЫ?</a:t>
            </a: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0100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2133720" y="1711440"/>
            <a:ext cx="6781680" cy="50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дготовке к уроку каждая группа искала ответ на этот вопрос. Послушаем каждую группу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1 группы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и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глобусы-моряки”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– то мореплаватели брали с собой глобусы в далекие и опасные путешествия. Глобусы – “моряки” за свою долгую службу на кораблях не мало поведали. Их трепали штормы, обдували свирепые ветры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2 группы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и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глобусы- щеголи”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ь свой век проводили они в роскошных королевских дворцах. Эти глобусы были украшены золотом, серебром, драгоценными камнями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екоторые глобусы ставили часовой механизм с пружиной, и глобус кружился,</a:t>
            </a:r>
            <a:r>
              <a:rPr b="0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подобно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ей планете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3 группы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ть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глобус-космонавт”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установлен на космических кораблях. Небольшой глобус – космонавт во время всего полета кружится без остановки с такой же скоростью, как и Земля. Только взглянет на него командир космического корабля, сразу узнает, над каким океаном или какой страной проносится в эту минуту его космический корабль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4 группы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ного разных глобусов есть и теперь. Есть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бус звездного неба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 нем изображены созвездия, млечный путь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7" name="Picture 6" descr="http://images.google.ru/images?q=tbn:2YaxQed4o5UJ:www.membrana.ru/images/articles/1069702739.jpe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3733920"/>
            <a:ext cx="1524240" cy="11700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8" descr="http://images.google.ru/images?q=tbn:k_4sRLw_aekJ:news.antiq.info/images/pictures/113555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5181480"/>
            <a:ext cx="1600200" cy="11638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2" descr="http://images.google.ru/images?q=tbn:34sdXurgRDEJ:www.surprizzz.ru/static/user/30861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" y="1828800"/>
            <a:ext cx="1044720" cy="164628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Чайнворд "Глобус"</a:t>
            </a:r>
            <a:br>
              <a:rPr sz="3600"/>
            </a:b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657600" y="1980720"/>
            <a:ext cx="510552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ишите географические названия в клетки: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Уравнитель. Линия, разделяющая Землю на два полушария (Северное и Южное).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    Источник пресной воды.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    Самый южный материк.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    Материк, похожий на подошву.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     Материк, состоящий из двух частей (Северной и Южной).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     Материк Южного полушария.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343368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4" name="Picture 4" descr="Чайнворд &quot;Глобус&quot;"/>
          <p:cNvPicPr/>
          <p:nvPr/>
        </p:nvPicPr>
        <p:blipFill>
          <a:blip r:embed="rId1"/>
          <a:stretch/>
        </p:blipFill>
        <p:spPr>
          <a:xfrm>
            <a:off x="380880" y="1752480"/>
            <a:ext cx="2795760" cy="4505400"/>
          </a:xfrm>
          <a:prstGeom prst="rect">
            <a:avLst/>
          </a:prstGeom>
          <a:ln w="0">
            <a:noFill/>
          </a:ln>
        </p:spPr>
      </p:pic>
      <p:sp>
        <p:nvSpPr>
          <p:cNvPr id="36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5T12:35:23Z</dcterms:created>
  <dc:creator>Andrei</dc:creator>
  <dc:description/>
  <dc:language>en-US</dc:language>
  <cp:lastModifiedBy>LEGION</cp:lastModifiedBy>
  <dcterms:modified xsi:type="dcterms:W3CDTF">2014-12-30T09:37:47Z</dcterms:modified>
  <cp:revision>43</cp:revision>
  <dc:subject/>
  <dc:title>Тема урока «Глобус — модель Земли». Класс, для которого разработан урок или  рекомендуемый возраст учащихся 4 класс (9 – 10 лет)</dc:title>
</cp:coreProperties>
</file>