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0314-0152-458B-A32A-F3A403E6FD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alibri"/>
              </a:rPr>
              <a:t>Тема урока</a:t>
            </a:r>
            <a:br>
              <a:rPr sz="1400"/>
            </a:b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20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ласс, для которого разработан урок или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рекомендуемый возраст учащихся</a:t>
            </a:r>
            <a:br>
              <a:rPr sz="1200"/>
            </a:b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4 класс (9 – 10 ле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4CAD-2E25-493E-BF70-B71A03A66B5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Цели и ожидаемые результ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Цели  и 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обл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9D7A-75A2-478D-9C5C-64F39A0B3E2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Блок – схема урока с указанием времени на каждый эта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- 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- 3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- 2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239F-1023-462A-9F6A-8CF46EC8403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раткое описание деятельности учащихся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12F8-3229-4074-B272-FF6F5E90DA8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Ссылка на интернет – ресур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www.ournet.md/~lornet/goratii6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randewy.narod.ru/astr/zwglob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//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s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le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0DFE-6A60-4B57-8081-15A6495B31D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ЧТО ТАКОЕ ГЛОБУ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Круг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(лат.)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37CC-D67B-4FF1-B733-C1824CD21E6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АКИЕ БЫВАЮТ ГЛОБУ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F3EE-FCFD-45A2-8214-E1407A22C0A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  <a:ea typeface="Times New Roman"/>
              </a:rPr>
              <a:t>Чайнворд "Глобус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1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  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15DF-F4F8-4736-AF36-D1DB88C7F24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DE5-88FD-4C18-8B35-8A7DA40F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5F9-D9B4-46B1-968E-E4B38D3C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20C-C280-4BD3-BF8B-91A02E57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A7B-AD5E-4294-9DAF-4F438BEF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8A2D-031F-43E0-BDD6-D234760C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05CA-838C-4621-8D81-AA13A1C0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0E3F-AE89-40A8-B2A8-55B92043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078E-09FF-46A0-9C10-7B0234B8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6AF7-3034-48B2-A80D-75332E2E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A1F4-A19E-4A5F-BA6D-A2A8AA92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6BE3-6D90-4F01-9968-F74F56E4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1FE-C61D-4378-9D02-2F5071F4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A817-80C8-4AF9-880F-9BCF328A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5A18-3D12-4FA4-BE0A-8D49088E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9EA9-74D7-45A6-812F-7C443263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EFA3-01D0-4A84-B6E4-8EBD4FED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8F66-A70E-4796-B7BF-785B9B74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BC9-727D-47FD-8582-92C236DC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06F-3E07-4A7E-ADEA-A55F52F8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7AA-7414-4176-82F2-E6955B57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98C-8A92-4445-A943-ADCCE424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05E-CA0D-4C34-ACA2-96506F59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052-D08B-4986-996C-D163D965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B40-EF70-4229-9D1B-A24C7665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83E0-3CC8-4337-A18F-6675F4294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4f49a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17118b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4f49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75D7-5E75-4A66-A15C-2DDFF3969E6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riroda1.ru/kab/foto/glopol.jpg&amp;imgrefurl=http://www.priroda1.ru/kab/geografia.html&amp;h=314&amp;w=282&amp;sz=30&amp;tbnid=eEthOaR0_8gJ:&amp;tbnh=113&amp;tbnw=101&amp;hl=ru&amp;start=1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hyperlink" Target="http://www.ournet.md/~lornet/goratii6.html" TargetMode="External"/><Relationship Id="rId4" Type="http://schemas.openxmlformats.org/officeDocument/2006/relationships/hyperlink" Target="http://randewy.narod.ru/astr/zwglob.html" TargetMode="External"/><Relationship Id="rId5" Type="http://schemas.openxmlformats.org/officeDocument/2006/relationships/hyperlink" Target="http://images.goole.ru/" TargetMode="External"/><Relationship Id="rId6" Type="http://schemas.openxmlformats.org/officeDocument/2006/relationships/hyperlink" Target="http://images.goole.ru/" TargetMode="External"/><Relationship Id="rId7" Type="http://schemas.openxmlformats.org/officeDocument/2006/relationships/hyperlink" Target="http://images.goole.ru/" TargetMode="External"/><Relationship Id="rId8" Type="http://schemas.openxmlformats.org/officeDocument/2006/relationships/hyperlink" Target="http://images.goole.ru/" TargetMode="External"/><Relationship Id="rId9" Type="http://schemas.openxmlformats.org/officeDocument/2006/relationships/hyperlink" Target="http://images.goole.ru/" TargetMode="External"/><Relationship Id="rId10" Type="http://schemas.openxmlformats.org/officeDocument/2006/relationships/hyperlink" Target="http://images.goole.ru/" TargetMode="External"/><Relationship Id="rId11" Type="http://schemas.openxmlformats.org/officeDocument/2006/relationships/hyperlink" Target="http://images.goole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odarkov.ru/pics/globus-000.jpg&amp;imgrefurl=http://www.podarkov.ru/rubrika.phtm%3Fid%3D73&amp;h=130&amp;w=100&amp;sz=5&amp;tbnid=Pg6fyWsfhL8J:&amp;tbnh=85&amp;tbnw=65&amp;hl=ru&amp;start=14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ru/imgres?imgurl=http://www.miline.com.ua/cat/itp/GL019.jpg&amp;imgrefurl=http://www.miline.com.ua/cat/globe03.html&amp;h=100&amp;w=100&amp;sz=2&amp;tbnid=JGGnD14-cNAJ:&amp;tbnh=77&amp;tbnw=77&amp;hl=ru&amp;start=13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membrana.ru/images/articles/1069702739.jpeg&amp;imgrefurl=http://www.membrana.ru/articles/global/2003/11/24/222400.html&amp;h=180&amp;w=232&amp;sz=11&amp;tbnid=2YaxQed4o5UJ:&amp;tbnh=79&amp;tbnw=103&amp;hl=ru&amp;start=7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news.antiq.info/images/pictures/113555.jpg&amp;imgrefurl=http://news.antiq.info/%3Fid%3D5956&amp;h=73&amp;w=100&amp;sz=2&amp;tbnid=k_4sRLw_aekJ:&amp;tbnh=56&amp;tbnw=77&amp;hl=ru&amp;start=12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ru/imgres?imgurl=http://www.surprizzz.ru/static/user/30861.jpg&amp;imgrefurl=http://www.surprizzz.ru/catalogue/8180&amp;h=233&amp;w=149&amp;sz=7&amp;tbnid=34sdXurgRDEJ:&amp;tbnh=104&amp;tbnw=66&amp;hl=ru&amp;start=3&amp;prev=/images%3Fq%3D%2B%2B%25D0%25B3%25D0%25BB%25D0%25BE%25D0%25B1%25D1%2583%25D1%2581%2B%25D0%2597%25D0%25B5%25D0%25BC%25D0%25BB%25D0%25B8%26svnum%3D10%26hl%3Dru%26lr%3D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Тема урока</a:t>
            </a:r>
            <a:br>
              <a:rPr sz="2800"/>
            </a:b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40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Класс, для которого разработан урок или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рекомендуемый возраст учащихся</a:t>
            </a:r>
            <a:br>
              <a:rPr sz="24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4 класс (9 – 10 лет)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3200400"/>
            <a:ext cx="838188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Rectangle 6"/>
          <p:cNvSpPr/>
          <p:nvPr/>
        </p:nvSpPr>
        <p:spPr>
          <a:xfrm flipH="1" flipV="1">
            <a:off x="3260160" y="4203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14" descr="http://images.google.ru/images?q=tbn:eEthOaR0_8gJ:www.priroda1.ru/kab/foto/glopo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20" y="3733920"/>
            <a:ext cx="2244960" cy="25146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Цели и ожидаемые результат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Цели  и задачи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Блок – схема урока с указанием времени на каждый этап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30556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- 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- 3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- 2 мин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раткое описание деятельности учащихся на уроке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сылка на интернет – ресурс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31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3"/>
              </a:rPr>
              <a:t>http://www.ournet.md/~lornet/goratii6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4"/>
              </a:rPr>
              <a:t>http://randewy.narod.ru/astr/zwglob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6"/>
              </a:rPr>
              <a:t>://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7"/>
              </a:rPr>
              <a:t>images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9"/>
              </a:rPr>
              <a:t>goole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1"/>
              </a:rPr>
              <a:t>ru</a:t>
            </a:r>
            <a:r>
              <a:rPr b="1" lang="en-US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ЧТО ТАКОЕ ГЛОБУС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глый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51" name="Picture 5" descr="http://images.google.ru/images?q=tbn:Pg6fyWsfhL8J:www.podarkov.ru/pics/globus-0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267080"/>
            <a:ext cx="1343160" cy="1752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http://images.google.ru/images?q=tbn:JGGnD14-cNAJ:www.miline.com.ua/cat/itp/GL01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1337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ИЕ БЫВАЮТ ГЛОБУСЫ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3720" y="1711440"/>
            <a:ext cx="67816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к уроку каждая группа искала ответ на этот вопрос. Послушаем каждую группу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1 группы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моряк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– то мореплаватели брали с собой глобусы в далекие и опасные путешествия. Глобусы – “моряки” за свою долгую службу на кораблях не мало поведали. Их трепали штормы, обдували свирепые ветры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2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 щегол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свой век проводили они в роскошных королевских дворцах. Эти глобусы были украшены золотом, серебром, драгоценными камнями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которые глобусы ставили часовой механизм с пружиной, и глобус кружился,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одобн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планет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-космонавт”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становлен на космических кораблях. Небольшой глобус – космонавт во время всего полета кружится без остановки с такой же скоростью, как и Земля. Только взглянет на него командир космического корабля, сразу узнает, над каким океаном или какой страной проносится в эту минуту его космический корабл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4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 разных глобусов есть и теперь. Е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звездного неба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нем изображены созвездия, млечный пут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Picture 6" descr="http://images.google.ru/images?q=tbn:2YaxQed4o5UJ:www.membrana.ru/images/articles/1069702739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733920"/>
            <a:ext cx="1524240" cy="1170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images.google.ru/images?q=tbn:k_4sRLw_aekJ:news.antiq.info/images/pictures/11355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5181480"/>
            <a:ext cx="1600200" cy="1163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http://images.google.ru/images?q=tbn:34sdXurgRDEJ:www.surprizzz.ru/static/user/3086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828800"/>
            <a:ext cx="1044720" cy="164628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айнворд "Глобус"</a:t>
            </a:r>
            <a:br>
              <a:rPr sz="3600"/>
            </a:b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7600" y="1980720"/>
            <a:ext cx="5105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34336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4" name="Picture 4" descr="Чайнворд &quot;Глобус&quot;"/>
          <p:cNvPicPr/>
          <p:nvPr/>
        </p:nvPicPr>
        <p:blipFill>
          <a:blip r:embed="rId1"/>
          <a:stretch/>
        </p:blipFill>
        <p:spPr>
          <a:xfrm>
            <a:off x="380880" y="1752480"/>
            <a:ext cx="2795760" cy="4505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2:35:23Z</dcterms:created>
  <dc:creator>Andrei</dc:creator>
  <dc:description/>
  <dc:language>en-US</dc:language>
  <cp:lastModifiedBy>LEGION</cp:lastModifiedBy>
  <dcterms:modified xsi:type="dcterms:W3CDTF">2014-12-30T09:37:47Z</dcterms:modified>
  <cp:revision>43</cp:revision>
  <dc:subject/>
  <dc:title>Тема урока «Глобус — модель Земли». Класс, для которого разработан урок или  рекомендуемый возраст учащихся 4 класс (9 – 10 лет)</dc:title>
</cp:coreProperties>
</file>