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596BB-AE06-4B4A-9934-055F1FA06B9B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cc"/>
                </a:solidFill>
                <a:latin typeface="Calibri"/>
              </a:rPr>
              <a:t>Семь чудес Росс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6600"/>
                </a:solidFill>
                <a:latin typeface="Calibri"/>
              </a:rPr>
              <a:t>12 июня 2008 года  объявлен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6600"/>
                </a:solidFill>
                <a:latin typeface="Calibri"/>
              </a:rPr>
              <a:t>7 чудес Росс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8F914-9677-4363-87DE-46B6A761925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cc"/>
                </a:solidFill>
                <a:latin typeface="Calibri"/>
              </a:rPr>
              <a:t>Мамаев Курган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cc"/>
                </a:solidFill>
                <a:latin typeface="Calibri"/>
              </a:rPr>
              <a:t>и Родина-ма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90EDF-9BA7-4DFA-99CE-DACC72094B9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cc"/>
                </a:solidFill>
                <a:latin typeface="Calibri"/>
              </a:rPr>
              <a:t>Гора Эльбру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A583F-EC67-435D-9B61-425250D7D75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cc"/>
                </a:solidFill>
                <a:latin typeface="Calibri"/>
              </a:rPr>
              <a:t>Семь чудес све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ирамида Хеопса (Египет, III век до н.э.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сячие сады” Семирамиды (Вавилон, VI век до н.э.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туя Зевса в Олимпии (Греция, V век до н.э.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рам Артемиды в Эфесе (Греция, IV век до н.э.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аликарнасский мавзолей (Кария, IV век до н.э.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як на острове Фарос (Александрия, Египет, III век до н.э.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лосс Родосский (остров Родос, III век до н.э.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D2714-3B4C-4C6C-86CE-8DB5C47CC57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cc"/>
                </a:solidFill>
                <a:latin typeface="Calibri"/>
              </a:rPr>
              <a:t>Новые семь чудес све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ликая китайская стена (Китай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лизей (Рим, Италия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чу-Пикчу (Перу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тра (Иордания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дж-Махал (Агра, Индия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туя Христо-Искупителя (Рио-де-Жанейро, Бразилия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ичен-Ица (Юкатан, Мексик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C3141-21DA-4031-8FBB-ACE94A98C8D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cc"/>
                </a:solidFill>
                <a:latin typeface="Calibri"/>
              </a:rPr>
              <a:t>Семь чудес Росс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зеро Байкал (Иркутская область, Бурятия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ворцовый ансамбль в Петергофе (Санкт-Петербург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лина гейзеров (Камчатский край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родный памятник Столбы выветривания (республика Ком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бор Василия Блаженного (Москва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маев Курган и Родина-Мать (Волгоградская область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ра Эльбрус (Кабардино-Балкария, Карачаево-Черкеси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CC250-B8C1-44DA-A05D-41A9F8E8114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cc"/>
                </a:solidFill>
                <a:latin typeface="Calibri"/>
              </a:rPr>
              <a:t>Озеро Байкал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7A07C-B3C9-4120-884C-428D7CF97CD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cc"/>
                </a:solidFill>
                <a:latin typeface="Calibri"/>
              </a:rPr>
              <a:t>Дворцовый ансамбль в Петергоф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A7D8D-EBBC-41BE-867C-972CDF17CC3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cc"/>
                </a:solidFill>
                <a:latin typeface="Calibri"/>
              </a:rPr>
              <a:t>Долина гейзеров на Камчатк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64CE9-880F-4FBF-B219-68636981D7D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cc"/>
                </a:solidFill>
                <a:latin typeface="Calibri"/>
              </a:rPr>
              <a:t>Природный памятник Столбы выветривания в Ком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E4BE0-A7A6-4350-BA73-C09811BCF6E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cc"/>
                </a:solidFill>
                <a:latin typeface="Calibri"/>
              </a:rPr>
              <a:t>Собор Василия Блаженного в Москв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0731E-8F72-4B1D-87A9-725552E4A0B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D49E6-2182-47EA-ACBC-9CCB62A5B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39B4D-6D33-44BB-998F-0E6D086E8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25164-AF5A-4795-A012-A8688413E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33250-4BD8-4CF5-8CAA-3E6D7B31B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56FCD-669E-4D40-A5EA-5EE5B0EDC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7B601-8C9E-4584-BEDF-EAB6C170C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5AD39-06BE-4EEA-9F5E-6A19383FE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B27EB-B606-4902-B94E-A0E64E916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E2D25-E823-478E-B6C5-5A68B2457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74187-46D6-4B21-A42E-004EF23CE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DD043-F27A-4857-A2F4-771342611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DB001-2735-4823-B409-56A07CA59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D81D5-19D1-45BE-A670-4D5CE99E3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51F9A-3A51-4643-A002-F3E1A63E3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B3C56-BEBE-4A0E-9E47-92C309E73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59EFD-92E6-4B6C-9A33-7E29D13BA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5033F-7486-4ED1-B91D-4D576CEF9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7BD6A-BC6A-4FFF-B83E-7A1A7ED30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D2F33-735A-4C2D-B2F7-04C87BD64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0E779-73F6-4BC3-B322-D36CDE254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64BF7-3296-4FA8-81D6-97F1503B3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64CEC-1A93-497C-BE94-723FAC3A4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89634-A392-4E84-AAA0-12250B4EF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B3E95-0AA6-465E-851C-39E61CE6B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9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c5d9ed"/>
                </a:gs>
                <a:gs pos="50000">
                  <a:srgbClr val="ffffff"/>
                </a:gs>
                <a:gs pos="100000">
                  <a:srgbClr val="c5d9e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c5d9ed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c5d9ed"/>
                </a:gs>
                <a:gs pos="50000">
                  <a:srgbClr val="ffffff"/>
                </a:gs>
                <a:gs pos="100000">
                  <a:srgbClr val="c5d9e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5d9ed"/>
                </a:gs>
                <a:gs pos="50000">
                  <a:srgbClr val="ffffff"/>
                </a:gs>
                <a:gs pos="100000">
                  <a:srgbClr val="c5d9e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5d9ed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5d9e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5d9ed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7D085-E621-49AA-B25E-64E4A88C1891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9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c5d9ed"/>
                </a:gs>
                <a:gs pos="50000">
                  <a:srgbClr val="ffffff"/>
                </a:gs>
                <a:gs pos="100000">
                  <a:srgbClr val="c5d9e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c5d9ed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c5d9ed"/>
                </a:gs>
                <a:gs pos="50000">
                  <a:srgbClr val="ffffff"/>
                </a:gs>
                <a:gs pos="100000">
                  <a:srgbClr val="c5d9e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5d9ed"/>
                </a:gs>
                <a:gs pos="50000">
                  <a:srgbClr val="ffffff"/>
                </a:gs>
                <a:gs pos="100000">
                  <a:srgbClr val="c5d9e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5d9ed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5d9e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5d9ed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8E9C3-3ACE-4211-A4C7-5C88C9B29C2C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2400" cy="1152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cc"/>
                </a:solidFill>
                <a:latin typeface="Arial"/>
              </a:rPr>
              <a:t>Семь чудес Росси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539640" y="4723920"/>
            <a:ext cx="80647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12 июня 2008 года  объявлены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7 чудес Росс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"/>
          <p:cNvPicPr/>
          <p:nvPr/>
        </p:nvPicPr>
        <p:blipFill>
          <a:blip r:embed="rId1"/>
          <a:stretch/>
        </p:blipFill>
        <p:spPr>
          <a:xfrm>
            <a:off x="539640" y="1844640"/>
            <a:ext cx="8064720" cy="3078360"/>
          </a:xfrm>
          <a:prstGeom prst="rect">
            <a:avLst/>
          </a:prstGeom>
          <a:ln w="0">
            <a:noFill/>
          </a:ln>
        </p:spPr>
      </p:pic>
      <p:sp>
        <p:nvSpPr>
          <p:cNvPr id="1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Arial"/>
              </a:rPr>
              <a:t>Мамаев Курган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00cc"/>
                </a:solidFill>
                <a:latin typeface="Arial"/>
              </a:rPr>
              <a:t>и Родина-ма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9" descr="маев курган 2"/>
          <p:cNvPicPr/>
          <p:nvPr/>
        </p:nvPicPr>
        <p:blipFill>
          <a:blip r:embed="rId1"/>
          <a:stretch/>
        </p:blipFill>
        <p:spPr>
          <a:xfrm>
            <a:off x="826920" y="1341360"/>
            <a:ext cx="7561440" cy="5015160"/>
          </a:xfrm>
          <a:prstGeom prst="rect">
            <a:avLst/>
          </a:prstGeom>
          <a:ln w="0">
            <a:noFill/>
          </a:ln>
        </p:spPr>
      </p:pic>
      <p:sp>
        <p:nvSpPr>
          <p:cNvPr id="1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0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Arial"/>
              </a:rPr>
              <a:t>Гора Эльбру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3" descr="эльбрус"/>
          <p:cNvPicPr/>
          <p:nvPr/>
        </p:nvPicPr>
        <p:blipFill>
          <a:blip r:embed="rId1"/>
          <a:stretch/>
        </p:blipFill>
        <p:spPr>
          <a:xfrm>
            <a:off x="900000" y="1268280"/>
            <a:ext cx="7272360" cy="5046840"/>
          </a:xfrm>
          <a:prstGeom prst="rect">
            <a:avLst/>
          </a:prstGeom>
          <a:ln w="0">
            <a:noFill/>
          </a:ln>
        </p:spPr>
      </p:pic>
      <p:sp>
        <p:nvSpPr>
          <p:cNvPr id="14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0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Arial"/>
              </a:rPr>
              <a:t>Семь чудес све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ирамида Хеопса (Египет, III век до н.э.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исячие сады” Семирамиды (Вавилон, VI век до н.э.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атуя Зевса в Олимпии (Греция, V век до н.э.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храм Артемиды в Эфесе (Греция, IV век до н.э.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аликарнасский мавзолей (Кария, IV век до н.э.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аяк на острове Фарос (Александрия, Египет, III век до н.э.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лосс Родосский (остров Родос, III век до н.э.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5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5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5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5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5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5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5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5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5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5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50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50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50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50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Arial"/>
              </a:rPr>
              <a:t>Новые семь чудес све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507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еликая китайская стена (Китай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лизей (Рим, Италия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ачу-Пикчу (Перу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етра (Иордания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адж-Махал (Агра, Индия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атуя Христо-Искупителя (Рио-де-Жанейро, Бразилия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ичен-Ица (Юкатан, Мексик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5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5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5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5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5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5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5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5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5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5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50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50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50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50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50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50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Arial"/>
              </a:rPr>
              <a:t>Семь чудес Росс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зеро Байкал (Иркутская область, Бурятия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ворцовый ансамбль в Петергофе (Санкт-Петербург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олина гейзеров (Камчатский край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родный памятник Столбы выветривания (республика Ком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бор Василия Блаженного (Москва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амаев Курган и Родина-Мать (Волгоградская область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ора Эльбрус (Кабардино-Балкария, Карачаево-Черкесия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0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5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5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5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5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5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5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5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5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5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5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50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50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50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50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5000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5000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Arial"/>
              </a:rPr>
              <a:t>Озеро Байкал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4" descr="Байкал2"/>
          <p:cNvPicPr/>
          <p:nvPr/>
        </p:nvPicPr>
        <p:blipFill>
          <a:blip r:embed="rId1"/>
          <a:stretch/>
        </p:blipFill>
        <p:spPr>
          <a:xfrm>
            <a:off x="4211640" y="1341360"/>
            <a:ext cx="4329000" cy="29448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7" descr="байкал 3"/>
          <p:cNvPicPr/>
          <p:nvPr/>
        </p:nvPicPr>
        <p:blipFill>
          <a:blip r:embed="rId2"/>
          <a:stretch/>
        </p:blipFill>
        <p:spPr>
          <a:xfrm>
            <a:off x="468360" y="3716280"/>
            <a:ext cx="4248000" cy="2770200"/>
          </a:xfrm>
          <a:prstGeom prst="rect">
            <a:avLst/>
          </a:prstGeom>
          <a:ln w="0">
            <a:noFill/>
          </a:ln>
        </p:spPr>
      </p:pic>
      <p:sp>
        <p:nvSpPr>
          <p:cNvPr id="1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0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Arial"/>
              </a:rPr>
              <a:t>Дворцовый ансамбль в Петергофе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8" descr=""/>
          <p:cNvPicPr/>
          <p:nvPr/>
        </p:nvPicPr>
        <p:blipFill>
          <a:blip r:embed="rId1"/>
          <a:stretch/>
        </p:blipFill>
        <p:spPr>
          <a:xfrm>
            <a:off x="4500720" y="3816360"/>
            <a:ext cx="4065480" cy="24084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9" descr=""/>
          <p:cNvPicPr/>
          <p:nvPr/>
        </p:nvPicPr>
        <p:blipFill>
          <a:blip r:embed="rId2"/>
          <a:stretch/>
        </p:blipFill>
        <p:spPr>
          <a:xfrm>
            <a:off x="539640" y="1557360"/>
            <a:ext cx="4176720" cy="3132000"/>
          </a:xfrm>
          <a:prstGeom prst="rect">
            <a:avLst/>
          </a:prstGeom>
          <a:ln w="0">
            <a:noFill/>
          </a:ln>
        </p:spPr>
      </p:pic>
      <p:sp>
        <p:nvSpPr>
          <p:cNvPr id="12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0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Arial"/>
              </a:rPr>
              <a:t>Долина гейзеров на Камчатке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8" descr="долина гейзеров 2"/>
          <p:cNvPicPr/>
          <p:nvPr/>
        </p:nvPicPr>
        <p:blipFill>
          <a:blip r:embed="rId1"/>
          <a:stretch/>
        </p:blipFill>
        <p:spPr>
          <a:xfrm>
            <a:off x="4356000" y="3500280"/>
            <a:ext cx="4318200" cy="28670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9" descr="долина гейзеров"/>
          <p:cNvPicPr/>
          <p:nvPr/>
        </p:nvPicPr>
        <p:blipFill>
          <a:blip r:embed="rId2"/>
          <a:stretch/>
        </p:blipFill>
        <p:spPr>
          <a:xfrm>
            <a:off x="395280" y="1557360"/>
            <a:ext cx="4317840" cy="3243240"/>
          </a:xfrm>
          <a:prstGeom prst="rect">
            <a:avLst/>
          </a:prstGeom>
          <a:ln w="0">
            <a:noFill/>
          </a:ln>
        </p:spPr>
      </p:pic>
      <p:sp>
        <p:nvSpPr>
          <p:cNvPr id="1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0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Arial"/>
              </a:rPr>
              <a:t>Природный памятник Столбы выветривания в Коми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3" descr="столбы выветривания 3"/>
          <p:cNvPicPr/>
          <p:nvPr/>
        </p:nvPicPr>
        <p:blipFill>
          <a:blip r:embed="rId1"/>
          <a:stretch/>
        </p:blipFill>
        <p:spPr>
          <a:xfrm>
            <a:off x="395280" y="1700280"/>
            <a:ext cx="3390840" cy="48578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5" descr="столбы выветривания 2"/>
          <p:cNvPicPr/>
          <p:nvPr/>
        </p:nvPicPr>
        <p:blipFill>
          <a:blip r:embed="rId2"/>
          <a:stretch/>
        </p:blipFill>
        <p:spPr>
          <a:xfrm>
            <a:off x="3924360" y="1700280"/>
            <a:ext cx="4833720" cy="4859280"/>
          </a:xfrm>
          <a:prstGeom prst="rect">
            <a:avLst/>
          </a:prstGeom>
          <a:ln w="0">
            <a:noFill/>
          </a:ln>
        </p:spPr>
      </p:pic>
      <p:sp>
        <p:nvSpPr>
          <p:cNvPr id="1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0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Arial"/>
              </a:rPr>
              <a:t>Собор Василия Блаженного в Москве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4" descr="собор василия"/>
          <p:cNvPicPr/>
          <p:nvPr/>
        </p:nvPicPr>
        <p:blipFill>
          <a:blip r:embed="rId1"/>
          <a:stretch/>
        </p:blipFill>
        <p:spPr>
          <a:xfrm>
            <a:off x="5796000" y="1557360"/>
            <a:ext cx="3110040" cy="46814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4" descr="С"/>
          <p:cNvPicPr/>
          <p:nvPr/>
        </p:nvPicPr>
        <p:blipFill>
          <a:blip r:embed="rId2"/>
          <a:stretch/>
        </p:blipFill>
        <p:spPr>
          <a:xfrm>
            <a:off x="324000" y="1557360"/>
            <a:ext cx="5325840" cy="4678200"/>
          </a:xfrm>
          <a:prstGeom prst="rect">
            <a:avLst/>
          </a:prstGeom>
          <a:ln w="0">
            <a:noFill/>
          </a:ln>
        </p:spPr>
      </p:pic>
      <p:sp>
        <p:nvSpPr>
          <p:cNvPr id="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4T12:16:41Z</dcterms:created>
  <dc:creator>pavel</dc:creator>
  <dc:description/>
  <dc:language>en-US</dc:language>
  <cp:lastModifiedBy>LEGION</cp:lastModifiedBy>
  <dcterms:modified xsi:type="dcterms:W3CDTF">2014-12-30T09:38:10Z</dcterms:modified>
  <cp:revision>11</cp:revision>
  <dc:subject/>
  <dc:title>Семь чудес России</dc:title>
</cp:coreProperties>
</file>