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DC25-8F9B-4988-924C-789F110856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12 июня 2008 года  объя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7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7534-9CCE-40BD-B9CA-31414B8C7D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Мамаев Кург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Родина-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A5E4-6B7F-4500-B3CE-A32FA93F07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Гора Эльбр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166C-1710-453A-B00C-5648CE979C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амида Хеопса (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ячие сады” Семирамиды (Вавилон, V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Зевса в Олимпии (Греция, 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м Артемиды в Эфесе (Грец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карнасский мавзолей (Кар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к на острове Фарос (Александрия, 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сс Родосский (остров Родос, III век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54A-16D3-4739-B647-5DB6AC4486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Новые 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ая китайская стена (Кита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зей (Рим, Ита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чу-Пикчу (Пер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а (Иорда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-Махал (Агра, Инд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Христо-Искупителя (Рио-де-Жанейро, Брази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чен-Ица (Юкатан, Мекс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E54A-ECAA-4966-9650-D427FAAAF4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еро Байкал (Иркутская область, Буря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й ансамбль в Петергофе (Санкт-Петербу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ина гейзеров (Камчатский кра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й памятник Столбы выветривания (республика Ко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р Василия Блаженного (Моск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аев Курган и Родина-Мать (Волгоград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 Эльбрус (Кабардино-Балкария, Карачаево-Черкес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C261-985A-4DED-997B-448B12BD41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Озеро Байк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6F58-E113-4A39-BC51-3091EDBE1B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ворцовый ансамбль в Петергоф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0CFC-2620-46BB-895B-D12CD74E86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олина гейзеров на Камчат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566E-C356-4446-8D1D-92CDA8E1EA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риродный памятник Столбы выветривания в Ко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9EC4-C6BC-427F-9170-619F16F099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обор Василия Блаженного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9B84-03BD-4FFF-924C-7B85A99C5E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1B2-8971-4C43-A873-53D4FAF1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DE9-AF3D-4903-B0DA-CEDBB05B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341-54E5-4F9B-9D92-C9A1F4FE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6F9-2AC9-4F3F-B838-E548CDC8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40BB-B280-4C1E-8F9F-3D4958F7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03B7-79EE-4184-AD61-9B7DEF28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4C5A-658D-4652-B3E5-8A8ACD27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DE20-DC81-4936-8657-098D5B8A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37D0-4672-41AA-85D7-9DCC50BB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01AB-AA32-4EBE-B5B2-575A8A90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E296-5180-476E-8887-F5B55A71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E6A-8473-4758-AD6C-DB944BBB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065F-4577-4D1A-A8B6-982DCEB1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BF3E-0F93-4A9D-9895-CC3C2ECB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8D82-ADAF-4232-BFCA-8872F145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56C2-84B0-40ED-91AE-FA6B2338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62A3-3A40-41D5-9FA4-6D6270C4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C71-FC2E-43EB-9AB0-760F92C5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DAD-B4D7-4332-A666-DC735C9C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C73-A96E-4001-B12B-4A4F2231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E49-07C7-4211-AE9B-5455DDB1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025-F9D3-441A-9E5D-F11820EB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839-5931-4C01-920E-1F0A547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5EA-E657-4E8D-8518-55121D9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A718-34C7-431F-B226-0BE2A61A14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F143-98A0-4B3E-9CBF-A1E60A49FE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06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2 июня 2008 года  объявле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7 чудес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3078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амаев Курга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Родина-м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маев курган 2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5015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ора Эльб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эльбрус"/>
          <p:cNvPicPr/>
          <p:nvPr/>
        </p:nvPicPr>
        <p:blipFill>
          <a:blip r:embed="rId1"/>
          <a:stretch/>
        </p:blipFill>
        <p:spPr>
          <a:xfrm>
            <a:off x="900000" y="1268280"/>
            <a:ext cx="7272360" cy="50468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амида Хеопса (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сячие сады” Семирамиды (Вавилон, V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я Зевса в Олимпии (Греция, 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м Артемиды в Эфесе (Грец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икарнасский мавзолей (Кар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як на острове Фарос (Александрия, 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сс Родосский (остров Родос, III век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Новые 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ая китайская стена (Кита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зей (Рим, Ита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чу-Пикчу (Перу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а (Иорда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дж-Махал (Агра, Инд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уя Христо-Искупителя (Рио-де-Жанейро, Брази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чен-Ица (Юкатан, Мекс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еро Байкал (Иркутская область, Бурят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рцовый ансамбль в Петергофе (Санкт-Петербур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ина гейзеров (Камчатский кра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й памятник Столбы выветривания (республика Ко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ор Василия Блаженного (Моск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ев Курган и Родина-Мать (Волгоградская обла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 Эльбрус (Кабардино-Балкария, Карачаево-Черке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зеро Байка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Байкал2"/>
          <p:cNvPicPr/>
          <p:nvPr/>
        </p:nvPicPr>
        <p:blipFill>
          <a:blip r:embed="rId1"/>
          <a:stretch/>
        </p:blipFill>
        <p:spPr>
          <a:xfrm>
            <a:off x="4211640" y="1341360"/>
            <a:ext cx="432900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байкал 3"/>
          <p:cNvPicPr/>
          <p:nvPr/>
        </p:nvPicPr>
        <p:blipFill>
          <a:blip r:embed="rId2"/>
          <a:stretch/>
        </p:blipFill>
        <p:spPr>
          <a:xfrm>
            <a:off x="468360" y="3716280"/>
            <a:ext cx="4248000" cy="27702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ворцовый ансамбль в Петергоф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4500720" y="3816360"/>
            <a:ext cx="4065480" cy="240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олина гейзеров на Камчат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долина гейзеров 2"/>
          <p:cNvPicPr/>
          <p:nvPr/>
        </p:nvPicPr>
        <p:blipFill>
          <a:blip r:embed="rId1"/>
          <a:stretch/>
        </p:blipFill>
        <p:spPr>
          <a:xfrm>
            <a:off x="4356000" y="3500280"/>
            <a:ext cx="4318200" cy="286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долина гейзеров"/>
          <p:cNvPicPr/>
          <p:nvPr/>
        </p:nvPicPr>
        <p:blipFill>
          <a:blip r:embed="rId2"/>
          <a:stretch/>
        </p:blipFill>
        <p:spPr>
          <a:xfrm>
            <a:off x="395280" y="1557360"/>
            <a:ext cx="4317840" cy="3243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иродный памятник Столбы выветривания в Ко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столбы выветривания 3"/>
          <p:cNvPicPr/>
          <p:nvPr/>
        </p:nvPicPr>
        <p:blipFill>
          <a:blip r:embed="rId1"/>
          <a:stretch/>
        </p:blipFill>
        <p:spPr>
          <a:xfrm>
            <a:off x="395280" y="1700280"/>
            <a:ext cx="3390840" cy="485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столбы выветривания 2"/>
          <p:cNvPicPr/>
          <p:nvPr/>
        </p:nvPicPr>
        <p:blipFill>
          <a:blip r:embed="rId2"/>
          <a:stretch/>
        </p:blipFill>
        <p:spPr>
          <a:xfrm>
            <a:off x="3924360" y="1700280"/>
            <a:ext cx="4833720" cy="4859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обор Василия Блаженного в Моск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собор василия"/>
          <p:cNvPicPr/>
          <p:nvPr/>
        </p:nvPicPr>
        <p:blipFill>
          <a:blip r:embed="rId1"/>
          <a:stretch/>
        </p:blipFill>
        <p:spPr>
          <a:xfrm>
            <a:off x="5796000" y="1557360"/>
            <a:ext cx="3110040" cy="4681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С"/>
          <p:cNvPicPr/>
          <p:nvPr/>
        </p:nvPicPr>
        <p:blipFill>
          <a:blip r:embed="rId2"/>
          <a:stretch/>
        </p:blipFill>
        <p:spPr>
          <a:xfrm>
            <a:off x="324000" y="1557360"/>
            <a:ext cx="5325840" cy="4678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16:41Z</dcterms:created>
  <dc:creator>pavel</dc:creator>
  <dc:description/>
  <dc:language>en-US</dc:language>
  <cp:lastModifiedBy>LEGION</cp:lastModifiedBy>
  <dcterms:modified xsi:type="dcterms:W3CDTF">2014-12-30T09:38:10Z</dcterms:modified>
  <cp:revision>11</cp:revision>
  <dc:subject/>
  <dc:title>Семь чудес России</dc:title>
</cp:coreProperties>
</file>