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887B-F7C9-41F5-B90F-4E25AE4A70A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емь чуде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12 июня 2008 года  объявл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7 чуде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61A2-9BFE-436C-8E40-6B5A31FE62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Мамаев Кург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и Родина-м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5648-113E-4C12-B347-86093A75AC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Гора Эльбр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FE76-285E-4B35-AD31-442A8E8E16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емь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рамида Хеопса (Египет, III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сячие сады” Семирамиды (Вавилон, VI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я Зевса в Олимпии (Греция, V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м Артемиды в Эфесе (Греция, IV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карнасский мавзолей (Кария, IV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як на острове Фарос (Александрия, Египет, III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сс Родосский (остров Родос, III век до н.э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078A-D97F-45EC-898B-ACFCF794F2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Новые семь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ая китайская стена (Кита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зей (Рим, Итал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чу-Пикчу (Перу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а (Иорда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-Махал (Агра, Инд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я Христо-Искупителя (Рио-де-Жанейро, Бразил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чен-Ица (Юкатан, Мекс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576F-42BB-4A27-87BF-58C7461E5D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емь чуде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еро Байкал (Иркутская область, Буря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рцовый ансамбль в Петергофе (Санкт-Петербур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ина гейзеров (Камчатский кра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й памятник Столбы выветривания (республика Ко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р Василия Блаженного (Москв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маев Курган и Родина-Мать (Волгоградская обла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а Эльбрус (Кабардино-Балкария, Карачаево-Черкес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79A9-23C6-4F2B-8750-B4A966EDB1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Озеро Байк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931F-AC22-4219-AC42-121AB5F6A9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Дворцовый ансамбль в Петергоф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546E-0E9D-4150-A898-8508116901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Долина гейзеров на Камчат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A142-081C-4338-8E1B-F6B0EF68CE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Природный памятник Столбы выветривания в Ко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1B86-DE9D-47F1-9647-DA01E553C3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обор Василия Блаженного в Моск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F893-97B7-4B03-BF2D-7C344BC9DE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507-C7AC-4CA7-8FF8-2BB319AA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972-7D22-4A04-A07E-0F66CC1E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B605-9E6A-4B2B-9CA4-67A0B77B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67D-3E36-4606-816B-7EBC9118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5A2D-D0EF-4459-955F-67A0A9D0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4A3D-14EF-428F-8595-86E23B3D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E4E5-7E2E-40AB-89A3-95590529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5A65-ADAE-404E-8AD1-06449C68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E515-D261-43AA-BCC7-10E35F34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C093-2E51-44B1-83C1-A501094D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AA94-937F-48AD-911B-ED28A40A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5133-7201-40E9-BBD5-577230FA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5583-43C1-4845-8651-8769D414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FAFF-3AD7-4AC8-8ECF-1BA0F221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38CE-FF85-41A3-B775-F65BFFAB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3ADF-FE6B-4BF3-BD42-7C97E8A3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6AFC-FE6D-4363-AC16-978D9DF3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CB68-F7AE-47F2-A231-F424F209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39E-67C7-471B-BB6F-0F3E3B18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566-F70E-4B7F-B68D-0ED95675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064-881E-4240-BAB1-1B3E087A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C436-487F-4840-9966-00AA598F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32B1-F1B7-4B64-BCE4-E5134109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7DAB-BA1A-40D3-B769-2A8BCF9B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2605-D554-41A7-92B1-5B9478B96D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ED07-5F44-4895-AE6F-66B005E053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Семь чудес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640" y="4723920"/>
            <a:ext cx="806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12 июня 2008 года  объявле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7 чудес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064720" cy="30783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Мамаев Курга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и Родина-м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маев курган 2"/>
          <p:cNvPicPr/>
          <p:nvPr/>
        </p:nvPicPr>
        <p:blipFill>
          <a:blip r:embed="rId1"/>
          <a:stretch/>
        </p:blipFill>
        <p:spPr>
          <a:xfrm>
            <a:off x="826920" y="1341360"/>
            <a:ext cx="7561440" cy="50151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Гора Эльбр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эльбрус"/>
          <p:cNvPicPr/>
          <p:nvPr/>
        </p:nvPicPr>
        <p:blipFill>
          <a:blip r:embed="rId1"/>
          <a:stretch/>
        </p:blipFill>
        <p:spPr>
          <a:xfrm>
            <a:off x="900000" y="1268280"/>
            <a:ext cx="7272360" cy="50468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емь чудес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рамида Хеопса (Египет, III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сячие сады” Семирамиды (Вавилон, VI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уя Зевса в Олимпии (Греция, V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м Артемиды в Эфесе (Греция, IV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ликарнасский мавзолей (Кария, IV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як на острове Фарос (Александрия, Египет, III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осс Родосский (остров Родос, III век до н.э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5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Новые семь чудес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кая китайская стена (Кита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зей (Рим, Итал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чу-Пикчу (Перу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а (Иордан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дж-Махал (Агра, Инд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уя Христо-Искупителя (Рио-де-Жанейро, Бразил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чен-Ица (Юкатан, Мекс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5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емь чудес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еро Байкал (Иркутская область, Бурят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орцовый ансамбль в Петергофе (Санкт-Петербур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ина гейзеров (Камчатский кра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ный памятник Столбы выветривания (республика Ко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ор Василия Блаженного (Моск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маев Курган и Родина-Мать (Волгоградская обла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а Эльбрус (Кабардино-Балкария, Карачаево-Черкес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5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Озеро Байка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Байкал2"/>
          <p:cNvPicPr/>
          <p:nvPr/>
        </p:nvPicPr>
        <p:blipFill>
          <a:blip r:embed="rId1"/>
          <a:stretch/>
        </p:blipFill>
        <p:spPr>
          <a:xfrm>
            <a:off x="4211640" y="1341360"/>
            <a:ext cx="4329000" cy="294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байкал 3"/>
          <p:cNvPicPr/>
          <p:nvPr/>
        </p:nvPicPr>
        <p:blipFill>
          <a:blip r:embed="rId2"/>
          <a:stretch/>
        </p:blipFill>
        <p:spPr>
          <a:xfrm>
            <a:off x="468360" y="3716280"/>
            <a:ext cx="4248000" cy="27702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Дворцовый ансамбль в Петергоф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4500720" y="3816360"/>
            <a:ext cx="4065480" cy="2408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Долина гейзеров на Камчатк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долина гейзеров 2"/>
          <p:cNvPicPr/>
          <p:nvPr/>
        </p:nvPicPr>
        <p:blipFill>
          <a:blip r:embed="rId1"/>
          <a:stretch/>
        </p:blipFill>
        <p:spPr>
          <a:xfrm>
            <a:off x="4356000" y="3500280"/>
            <a:ext cx="4318200" cy="2867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долина гейзеров"/>
          <p:cNvPicPr/>
          <p:nvPr/>
        </p:nvPicPr>
        <p:blipFill>
          <a:blip r:embed="rId2"/>
          <a:stretch/>
        </p:blipFill>
        <p:spPr>
          <a:xfrm>
            <a:off x="395280" y="1557360"/>
            <a:ext cx="4317840" cy="3243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иродный памятник Столбы выветривания в Ко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столбы выветривания 3"/>
          <p:cNvPicPr/>
          <p:nvPr/>
        </p:nvPicPr>
        <p:blipFill>
          <a:blip r:embed="rId1"/>
          <a:stretch/>
        </p:blipFill>
        <p:spPr>
          <a:xfrm>
            <a:off x="395280" y="1700280"/>
            <a:ext cx="3390840" cy="4857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столбы выветривания 2"/>
          <p:cNvPicPr/>
          <p:nvPr/>
        </p:nvPicPr>
        <p:blipFill>
          <a:blip r:embed="rId2"/>
          <a:stretch/>
        </p:blipFill>
        <p:spPr>
          <a:xfrm>
            <a:off x="3924360" y="1700280"/>
            <a:ext cx="4833720" cy="48592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Собор Василия Блаженного в Москв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собор василия"/>
          <p:cNvPicPr/>
          <p:nvPr/>
        </p:nvPicPr>
        <p:blipFill>
          <a:blip r:embed="rId1"/>
          <a:stretch/>
        </p:blipFill>
        <p:spPr>
          <a:xfrm>
            <a:off x="5796000" y="1557360"/>
            <a:ext cx="3110040" cy="4681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С"/>
          <p:cNvPicPr/>
          <p:nvPr/>
        </p:nvPicPr>
        <p:blipFill>
          <a:blip r:embed="rId2"/>
          <a:stretch/>
        </p:blipFill>
        <p:spPr>
          <a:xfrm>
            <a:off x="324000" y="1557360"/>
            <a:ext cx="5325840" cy="4678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2:16:41Z</dcterms:created>
  <dc:creator>pavel</dc:creator>
  <dc:description/>
  <dc:language>en-US</dc:language>
  <cp:lastModifiedBy>LEGION</cp:lastModifiedBy>
  <dcterms:modified xsi:type="dcterms:W3CDTF">2014-12-30T09:38:10Z</dcterms:modified>
  <cp:revision>11</cp:revision>
  <dc:subject/>
  <dc:title>Семь чудес России</dc:title>
</cp:coreProperties>
</file>