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3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491D-BDA7-4984-8C5D-1CA9300F82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Я буду воспевать 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Всем существом в поэте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Шестую часть земли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С названьем кратким «Рус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4DA7-3E42-46F8-8E58-07523C8DAB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Территория – 17,08 млн км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население – 146,86 млн человек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столица – Москва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официальный язык – русский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гос.строй – федеративная респуб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1EB2-F5D6-4883-A409-09FE79FD73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Достопримечатель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FF90-17DE-4C29-BDA4-BD1806BB45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Наша горд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DF05-701F-427C-86FD-30E5384043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alibri"/>
              </a:rPr>
              <a:t>Природа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О Русь малиновое п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И синь, упавшая в ре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Люблю до радости и б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Твою озёрную то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8567-44CB-4027-9B27-5249F210B9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Животный мир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FD3D-2AD4-4C74-9BAA-3BE6D3DB30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Растительный мир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F74A-F316-46A8-98CF-147267D12A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Русская кух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F5AA-D165-4C51-AFEB-543657F0FC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Если крикнет рать святая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«Кинь ты Русь, живи в раю!»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Я скажу: «Не надо рая,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Дайте родину мо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854E-28C3-4A8D-9ED8-BD093048A9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A7C4-9E97-4B5B-BFFD-F6CFB82B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CEE5-606A-4A02-ABD6-DF33B8CC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6412-E918-4EA6-BF16-67415966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2A48-5F14-4F51-8320-ADDEB4F7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98C-057E-43BD-8247-9F6C74F2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F61B-78FD-4AF3-B93A-A22C642B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86A7-0C3F-41FC-B618-BDD8A25C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909-EB39-4C97-A834-AC7ACB85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E9B3-61AD-47DA-A5D0-BB649C59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FF92-49FC-4BC5-ADA8-27FB3451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D6A-AE1C-45D1-80E6-BB0329FC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448-EBAC-411D-9830-8D7CFFA7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187C-ABCB-4FA6-994B-DEF793AC29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hotographic.com.ua/image/50265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16480" y="0"/>
            <a:ext cx="56275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Я буду воспевать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Всем существом в поэте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Шестую часть земли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С названьем кратким «Рус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rf01-1"/>
          <p:cNvPicPr/>
          <p:nvPr/>
        </p:nvPicPr>
        <p:blipFill>
          <a:blip r:embed="rId1"/>
          <a:stretch/>
        </p:blipFill>
        <p:spPr>
          <a:xfrm>
            <a:off x="539640" y="2133720"/>
            <a:ext cx="8298000" cy="4513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image002"/>
          <p:cNvPicPr/>
          <p:nvPr/>
        </p:nvPicPr>
        <p:blipFill>
          <a:blip r:embed="rId2"/>
          <a:stretch/>
        </p:blipFill>
        <p:spPr>
          <a:xfrm>
            <a:off x="0" y="-171360"/>
            <a:ext cx="3708360" cy="3395520"/>
          </a:xfrm>
          <a:prstGeom prst="rect">
            <a:avLst/>
          </a:prstGeom>
          <a:ln w="0">
            <a:noFill/>
          </a:ln>
        </p:spPr>
      </p:pic>
      <p:sp>
        <p:nvSpPr>
          <p:cNvPr id="51" name="WordArt 11"/>
          <p:cNvSpPr txBox="1"/>
          <p:nvPr/>
        </p:nvSpPr>
        <p:spPr>
          <a:xfrm>
            <a:off x="2916360" y="4149720"/>
            <a:ext cx="381636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Рос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52" name="Запи3796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Территория – 17,08 млн км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население – 146,86 млн человек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столица – Москва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официальный язык – русский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гос.строй – федеративная респуб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Достопримечательности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300px-St_Basils_Cathedral-500px"/>
          <p:cNvPicPr/>
          <p:nvPr/>
        </p:nvPicPr>
        <p:blipFill>
          <a:blip r:embed="rId1"/>
          <a:stretch/>
        </p:blipFill>
        <p:spPr>
          <a:xfrm>
            <a:off x="0" y="981000"/>
            <a:ext cx="2190600" cy="276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p215"/>
          <p:cNvPicPr/>
          <p:nvPr/>
        </p:nvPicPr>
        <p:blipFill>
          <a:blip r:embed="rId2"/>
          <a:stretch/>
        </p:blipFill>
        <p:spPr>
          <a:xfrm>
            <a:off x="2340000" y="3933720"/>
            <a:ext cx="3375000" cy="2551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храм Христа Спасителя"/>
          <p:cNvPicPr/>
          <p:nvPr/>
        </p:nvPicPr>
        <p:blipFill>
          <a:blip r:embed="rId3"/>
          <a:stretch/>
        </p:blipFill>
        <p:spPr>
          <a:xfrm>
            <a:off x="6113520" y="981000"/>
            <a:ext cx="2544840" cy="3024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0" y="3860640"/>
            <a:ext cx="21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cc"/>
                </a:solidFill>
                <a:latin typeface="Arial"/>
              </a:rPr>
              <a:t>Собор Василия Блаженног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203640" y="645336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cc"/>
                </a:solidFill>
                <a:latin typeface="Arial"/>
              </a:rPr>
              <a:t>Кремлевские баш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6516720" y="407664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cc"/>
                </a:solidFill>
                <a:latin typeface="Arial"/>
              </a:rPr>
              <a:t>Храм Христа Спасите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4535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Наша горд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1"/>
          <p:cNvPicPr/>
          <p:nvPr/>
        </p:nvPicPr>
        <p:blipFill>
          <a:blip r:embed="rId1"/>
          <a:stretch/>
        </p:blipFill>
        <p:spPr>
          <a:xfrm>
            <a:off x="0" y="4348080"/>
            <a:ext cx="2509920" cy="250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8"/>
          <p:cNvPicPr/>
          <p:nvPr/>
        </p:nvPicPr>
        <p:blipFill>
          <a:blip r:embed="rId2"/>
          <a:stretch/>
        </p:blipFill>
        <p:spPr>
          <a:xfrm>
            <a:off x="324000" y="98100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7"/>
          <p:cNvPicPr/>
          <p:nvPr/>
        </p:nvPicPr>
        <p:blipFill>
          <a:blip r:embed="rId3"/>
          <a:stretch/>
        </p:blipFill>
        <p:spPr>
          <a:xfrm>
            <a:off x="5219640" y="4221000"/>
            <a:ext cx="3810240" cy="2505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45"/>
          <p:cNvPicPr/>
          <p:nvPr/>
        </p:nvPicPr>
        <p:blipFill>
          <a:blip r:embed="rId4"/>
          <a:stretch/>
        </p:blipFill>
        <p:spPr>
          <a:xfrm>
            <a:off x="5148360" y="98100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37"/>
          <p:cNvPicPr/>
          <p:nvPr/>
        </p:nvPicPr>
        <p:blipFill>
          <a:blip r:embed="rId5"/>
          <a:stretch/>
        </p:blipFill>
        <p:spPr>
          <a:xfrm>
            <a:off x="2843280" y="2637000"/>
            <a:ext cx="1915920" cy="2830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Природ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859280" y="1125000"/>
            <a:ext cx="428472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О Русь малиновое 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И синь, упавшая в ре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Люблю до радости и б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Твою озёрную то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Картинка 27 из 1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06400"/>
            <a:ext cx="3863880" cy="5151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317"/>
          <p:cNvPicPr/>
          <p:nvPr/>
        </p:nvPicPr>
        <p:blipFill>
          <a:blip r:embed="rId3"/>
          <a:stretch/>
        </p:blipFill>
        <p:spPr>
          <a:xfrm>
            <a:off x="4691160" y="3519360"/>
            <a:ext cx="4452840" cy="3338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Животный мир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bear3"/>
          <p:cNvPicPr/>
          <p:nvPr/>
        </p:nvPicPr>
        <p:blipFill>
          <a:blip r:embed="rId1"/>
          <a:stretch/>
        </p:blipFill>
        <p:spPr>
          <a:xfrm>
            <a:off x="6659640" y="1052640"/>
            <a:ext cx="2286000" cy="2869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29143922"/>
          <p:cNvPicPr/>
          <p:nvPr/>
        </p:nvPicPr>
        <p:blipFill>
          <a:blip r:embed="rId2"/>
          <a:stretch/>
        </p:blipFill>
        <p:spPr>
          <a:xfrm>
            <a:off x="3564000" y="292428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volk999"/>
          <p:cNvPicPr/>
          <p:nvPr/>
        </p:nvPicPr>
        <p:blipFill>
          <a:blip r:embed="rId3"/>
          <a:stretch/>
        </p:blipFill>
        <p:spPr>
          <a:xfrm>
            <a:off x="611280" y="1268280"/>
            <a:ext cx="3168720" cy="2149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Рисунок1"/>
          <p:cNvPicPr/>
          <p:nvPr/>
        </p:nvPicPr>
        <p:blipFill>
          <a:blip r:embed="rId4"/>
          <a:stretch/>
        </p:blipFill>
        <p:spPr>
          <a:xfrm>
            <a:off x="6353280" y="4764240"/>
            <a:ext cx="2790720" cy="2093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Рисунок21"/>
          <p:cNvPicPr/>
          <p:nvPr/>
        </p:nvPicPr>
        <p:blipFill>
          <a:blip r:embed="rId5"/>
          <a:stretch/>
        </p:blipFill>
        <p:spPr>
          <a:xfrm>
            <a:off x="0" y="4556160"/>
            <a:ext cx="3063960" cy="23018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Растительный мир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0" y="429264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6953400" y="1052640"/>
            <a:ext cx="2190600" cy="242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0" y="836640"/>
            <a:ext cx="2320920" cy="24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2340000" y="2060640"/>
            <a:ext cx="3695760" cy="277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6286680" y="3895560"/>
            <a:ext cx="2857320" cy="29624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Русская кух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2_b"/>
          <p:cNvPicPr/>
          <p:nvPr/>
        </p:nvPicPr>
        <p:blipFill>
          <a:blip r:embed="rId1"/>
          <a:stretch/>
        </p:blipFill>
        <p:spPr>
          <a:xfrm>
            <a:off x="179280" y="119700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AO52749"/>
          <p:cNvPicPr/>
          <p:nvPr/>
        </p:nvPicPr>
        <p:blipFill>
          <a:blip r:embed="rId2"/>
          <a:stretch/>
        </p:blipFill>
        <p:spPr>
          <a:xfrm>
            <a:off x="357120" y="4143240"/>
            <a:ext cx="2100240" cy="2136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bl-00"/>
          <p:cNvPicPr/>
          <p:nvPr/>
        </p:nvPicPr>
        <p:blipFill>
          <a:blip r:embed="rId3"/>
          <a:stretch/>
        </p:blipFill>
        <p:spPr>
          <a:xfrm>
            <a:off x="6012000" y="1413000"/>
            <a:ext cx="2592360" cy="1993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4"/>
          <a:stretch/>
        </p:blipFill>
        <p:spPr>
          <a:xfrm>
            <a:off x="6357960" y="4429080"/>
            <a:ext cx="2300400" cy="1717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5"/>
          <a:stretch/>
        </p:blipFill>
        <p:spPr>
          <a:xfrm>
            <a:off x="3071880" y="278604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2637000"/>
            <a:ext cx="511344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Если крикнет рать святая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«Кинь ты Русь, живи в раю!»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Я скажу: «Не надо рая,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Дайте родину мо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69416964927287"/>
          <p:cNvPicPr/>
          <p:nvPr/>
        </p:nvPicPr>
        <p:blipFill>
          <a:blip r:embed="rId1"/>
          <a:stretch/>
        </p:blipFill>
        <p:spPr>
          <a:xfrm>
            <a:off x="7267680" y="4305240"/>
            <a:ext cx="1876320" cy="2552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p87_3002__00363_"/>
          <p:cNvPicPr/>
          <p:nvPr/>
        </p:nvPicPr>
        <p:blipFill>
          <a:blip r:embed="rId2"/>
          <a:stretch/>
        </p:blipFill>
        <p:spPr>
          <a:xfrm>
            <a:off x="0" y="4248000"/>
            <a:ext cx="3059280" cy="261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7"/>
          <p:cNvPicPr/>
          <p:nvPr/>
        </p:nvPicPr>
        <p:blipFill>
          <a:blip r:embed="rId3"/>
          <a:stretch/>
        </p:blipFill>
        <p:spPr>
          <a:xfrm>
            <a:off x="6154560" y="0"/>
            <a:ext cx="2989440" cy="2424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4"/>
          <a:stretch/>
        </p:blipFill>
        <p:spPr>
          <a:xfrm>
            <a:off x="0" y="0"/>
            <a:ext cx="3059280" cy="2295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4:29:49Z</dcterms:created>
  <dc:creator>Sergey</dc:creator>
  <dc:description/>
  <dc:language>en-US</dc:language>
  <cp:lastModifiedBy>LEGION</cp:lastModifiedBy>
  <dcterms:modified xsi:type="dcterms:W3CDTF">2014-12-30T09:38:34Z</dcterms:modified>
  <cp:revision>6</cp:revision>
  <dc:subject/>
  <dc:title>Я буду воспевать  Всем существом в поэте Шестую часть земли С названьем кратким «Русь»</dc:title>
</cp:coreProperties>
</file>