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3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0E8E-5970-44CC-A439-8C47C7D89B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Я буду воспевать 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Всем существом в поэте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Шестую часть земли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С названьем кратким «Рус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B606-CF77-4842-9969-535964D157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Территория – 17,08 млн км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население – 146,86 млн человек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столица – Москва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официальный язык – русский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гос.строй – федеративная республ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0F85-1297-4A0B-82F6-22892CDF5B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Достопримечатель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108E-6556-428C-BF98-CF768BE15E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Наша горд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A061-091F-4CDD-9ADB-1C2822CA13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alibri"/>
              </a:rPr>
              <a:t>Природа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 Unicode MS"/>
              </a:rPr>
              <a:t>О Русь малиновое п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 Unicode MS"/>
              </a:rPr>
              <a:t>И синь, упавшая в ре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 Unicode MS"/>
              </a:rPr>
              <a:t>Люблю до радости и б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Arial Unicode MS"/>
              </a:rPr>
              <a:t>Твою озёрную то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E376-32F9-4452-9346-3D1579F2C0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Животный мир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700F-B580-46B1-8918-75454540CD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Растительный мир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90BA-C630-4752-8C00-2707DDD23F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Русская кух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1448-83C7-410E-A393-5B179D097D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Если крикнет рать святая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«Кинь ты Русь, живи в раю!»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Я скажу: «Не надо рая,</a:t>
            </a:r>
            <a:br>
              <a:rPr sz="1200"/>
            </a:b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Дайте родину мо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F451-F7A7-43AF-A9BE-BB9A0AFE3E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808B-D38D-4469-A082-BE087164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8284-6EB4-48D2-BE90-B5F5596E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AD8-C28C-4CC8-ADAA-151174CA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3720-60D3-4A40-9AF8-9F4CC69C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5471-C65A-4C5D-B449-9FF4B123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4C50-C535-4F9C-A9DA-6122333B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041-EC47-40A0-A0DA-6C04F2ED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9B05-CF83-4586-9F10-3D369FC3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0F81-53CB-4497-BCB5-DAE49174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8B4D-8E66-44F9-BF3A-AA8271A0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BA7C-61C7-4167-AFEA-64D1C8AA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861-3C88-4F87-A0CF-1F5EA3E6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9A48-D23B-44EB-8EA1-615F1A303A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hotographic.com.ua/image/50265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16480" y="0"/>
            <a:ext cx="56275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Я буду воспевать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Всем существом в поэте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Шестую часть земли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С названьем кратким «Рус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rf01-1"/>
          <p:cNvPicPr/>
          <p:nvPr/>
        </p:nvPicPr>
        <p:blipFill>
          <a:blip r:embed="rId1"/>
          <a:stretch/>
        </p:blipFill>
        <p:spPr>
          <a:xfrm>
            <a:off x="539640" y="2133720"/>
            <a:ext cx="8298000" cy="4513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image002"/>
          <p:cNvPicPr/>
          <p:nvPr/>
        </p:nvPicPr>
        <p:blipFill>
          <a:blip r:embed="rId2"/>
          <a:stretch/>
        </p:blipFill>
        <p:spPr>
          <a:xfrm>
            <a:off x="0" y="-171360"/>
            <a:ext cx="3708360" cy="3395520"/>
          </a:xfrm>
          <a:prstGeom prst="rect">
            <a:avLst/>
          </a:prstGeom>
          <a:ln w="0">
            <a:noFill/>
          </a:ln>
        </p:spPr>
      </p:pic>
      <p:sp>
        <p:nvSpPr>
          <p:cNvPr id="51" name="WordArt 11"/>
          <p:cNvSpPr txBox="1"/>
          <p:nvPr/>
        </p:nvSpPr>
        <p:spPr>
          <a:xfrm>
            <a:off x="2916360" y="4149720"/>
            <a:ext cx="381636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Рос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52" name="Запи3796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Территория – 17,08 млн км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население – 146,86 млн человек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столица – Москва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официальный язык – русский</a:t>
            </a:r>
            <a:br>
              <a:rPr sz="3600"/>
            </a:b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гос.строй – федеративная респуб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Достопримечательности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300px-St_Basils_Cathedral-500px"/>
          <p:cNvPicPr/>
          <p:nvPr/>
        </p:nvPicPr>
        <p:blipFill>
          <a:blip r:embed="rId1"/>
          <a:stretch/>
        </p:blipFill>
        <p:spPr>
          <a:xfrm>
            <a:off x="0" y="981000"/>
            <a:ext cx="2190600" cy="276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p215"/>
          <p:cNvPicPr/>
          <p:nvPr/>
        </p:nvPicPr>
        <p:blipFill>
          <a:blip r:embed="rId2"/>
          <a:stretch/>
        </p:blipFill>
        <p:spPr>
          <a:xfrm>
            <a:off x="2340000" y="3933720"/>
            <a:ext cx="3375000" cy="2551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храм Христа Спасителя"/>
          <p:cNvPicPr/>
          <p:nvPr/>
        </p:nvPicPr>
        <p:blipFill>
          <a:blip r:embed="rId3"/>
          <a:stretch/>
        </p:blipFill>
        <p:spPr>
          <a:xfrm>
            <a:off x="6113520" y="981000"/>
            <a:ext cx="2544840" cy="3024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0" y="3860640"/>
            <a:ext cx="21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33cc"/>
                </a:solidFill>
                <a:latin typeface="Arial"/>
              </a:rPr>
              <a:t>Собор Василия Блаженног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203640" y="645336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cc"/>
                </a:solidFill>
                <a:latin typeface="Arial"/>
              </a:rPr>
              <a:t>Кремлевские баш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6516720" y="407664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cc"/>
                </a:solidFill>
                <a:latin typeface="Arial"/>
              </a:rPr>
              <a:t>Храм Христа Спасите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4535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Наша горд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1"/>
          <p:cNvPicPr/>
          <p:nvPr/>
        </p:nvPicPr>
        <p:blipFill>
          <a:blip r:embed="rId1"/>
          <a:stretch/>
        </p:blipFill>
        <p:spPr>
          <a:xfrm>
            <a:off x="0" y="4348080"/>
            <a:ext cx="2509920" cy="250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8"/>
          <p:cNvPicPr/>
          <p:nvPr/>
        </p:nvPicPr>
        <p:blipFill>
          <a:blip r:embed="rId2"/>
          <a:stretch/>
        </p:blipFill>
        <p:spPr>
          <a:xfrm>
            <a:off x="324000" y="98100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7"/>
          <p:cNvPicPr/>
          <p:nvPr/>
        </p:nvPicPr>
        <p:blipFill>
          <a:blip r:embed="rId3"/>
          <a:stretch/>
        </p:blipFill>
        <p:spPr>
          <a:xfrm>
            <a:off x="5219640" y="4221000"/>
            <a:ext cx="3810240" cy="2505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45"/>
          <p:cNvPicPr/>
          <p:nvPr/>
        </p:nvPicPr>
        <p:blipFill>
          <a:blip r:embed="rId4"/>
          <a:stretch/>
        </p:blipFill>
        <p:spPr>
          <a:xfrm>
            <a:off x="5148360" y="98100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37"/>
          <p:cNvPicPr/>
          <p:nvPr/>
        </p:nvPicPr>
        <p:blipFill>
          <a:blip r:embed="rId5"/>
          <a:stretch/>
        </p:blipFill>
        <p:spPr>
          <a:xfrm>
            <a:off x="2843280" y="2637000"/>
            <a:ext cx="1915920" cy="2830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Природа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859280" y="1125000"/>
            <a:ext cx="428472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Unicode MS"/>
              </a:rPr>
              <a:t>О Русь малиновое 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Unicode MS"/>
              </a:rPr>
              <a:t>И синь, упавшая в ре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Unicode MS"/>
              </a:rPr>
              <a:t>Люблю до радости и б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 Unicode MS"/>
              </a:rPr>
              <a:t>Твою озёрную то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Картинка 27 из 1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06400"/>
            <a:ext cx="3863880" cy="5151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317"/>
          <p:cNvPicPr/>
          <p:nvPr/>
        </p:nvPicPr>
        <p:blipFill>
          <a:blip r:embed="rId3"/>
          <a:stretch/>
        </p:blipFill>
        <p:spPr>
          <a:xfrm>
            <a:off x="4691160" y="3519360"/>
            <a:ext cx="4452840" cy="33386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Животный мир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bear3"/>
          <p:cNvPicPr/>
          <p:nvPr/>
        </p:nvPicPr>
        <p:blipFill>
          <a:blip r:embed="rId1"/>
          <a:stretch/>
        </p:blipFill>
        <p:spPr>
          <a:xfrm>
            <a:off x="6659640" y="1052640"/>
            <a:ext cx="2286000" cy="2869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29143922"/>
          <p:cNvPicPr/>
          <p:nvPr/>
        </p:nvPicPr>
        <p:blipFill>
          <a:blip r:embed="rId2"/>
          <a:stretch/>
        </p:blipFill>
        <p:spPr>
          <a:xfrm>
            <a:off x="3564000" y="292428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volk999"/>
          <p:cNvPicPr/>
          <p:nvPr/>
        </p:nvPicPr>
        <p:blipFill>
          <a:blip r:embed="rId3"/>
          <a:stretch/>
        </p:blipFill>
        <p:spPr>
          <a:xfrm>
            <a:off x="611280" y="1268280"/>
            <a:ext cx="3168720" cy="2149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Рисунок1"/>
          <p:cNvPicPr/>
          <p:nvPr/>
        </p:nvPicPr>
        <p:blipFill>
          <a:blip r:embed="rId4"/>
          <a:stretch/>
        </p:blipFill>
        <p:spPr>
          <a:xfrm>
            <a:off x="6353280" y="4764240"/>
            <a:ext cx="2790720" cy="2093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Рисунок21"/>
          <p:cNvPicPr/>
          <p:nvPr/>
        </p:nvPicPr>
        <p:blipFill>
          <a:blip r:embed="rId5"/>
          <a:stretch/>
        </p:blipFill>
        <p:spPr>
          <a:xfrm>
            <a:off x="0" y="4556160"/>
            <a:ext cx="3063960" cy="23018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Растительный мир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0" y="429264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6953400" y="1052640"/>
            <a:ext cx="2190600" cy="242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0" y="836640"/>
            <a:ext cx="2320920" cy="244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2340000" y="2060640"/>
            <a:ext cx="3695760" cy="2771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5"/>
          <a:stretch/>
        </p:blipFill>
        <p:spPr>
          <a:xfrm>
            <a:off x="6286680" y="3895560"/>
            <a:ext cx="2857320" cy="296244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Русская кух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2_b"/>
          <p:cNvPicPr/>
          <p:nvPr/>
        </p:nvPicPr>
        <p:blipFill>
          <a:blip r:embed="rId1"/>
          <a:stretch/>
        </p:blipFill>
        <p:spPr>
          <a:xfrm>
            <a:off x="179280" y="119700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AO52749"/>
          <p:cNvPicPr/>
          <p:nvPr/>
        </p:nvPicPr>
        <p:blipFill>
          <a:blip r:embed="rId2"/>
          <a:stretch/>
        </p:blipFill>
        <p:spPr>
          <a:xfrm>
            <a:off x="357120" y="4143240"/>
            <a:ext cx="2100240" cy="2136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bl-00"/>
          <p:cNvPicPr/>
          <p:nvPr/>
        </p:nvPicPr>
        <p:blipFill>
          <a:blip r:embed="rId3"/>
          <a:stretch/>
        </p:blipFill>
        <p:spPr>
          <a:xfrm>
            <a:off x="6012000" y="1413000"/>
            <a:ext cx="2592360" cy="1993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4"/>
          <a:stretch/>
        </p:blipFill>
        <p:spPr>
          <a:xfrm>
            <a:off x="6357960" y="4429080"/>
            <a:ext cx="2300400" cy="1717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5"/>
          <a:stretch/>
        </p:blipFill>
        <p:spPr>
          <a:xfrm>
            <a:off x="3071880" y="278604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2637000"/>
            <a:ext cx="511344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Если крикнет рать святая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«Кинь ты Русь, живи в раю!»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Я скажу: «Не надо рая,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Дайте родину мо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69416964927287"/>
          <p:cNvPicPr/>
          <p:nvPr/>
        </p:nvPicPr>
        <p:blipFill>
          <a:blip r:embed="rId1"/>
          <a:stretch/>
        </p:blipFill>
        <p:spPr>
          <a:xfrm>
            <a:off x="7267680" y="4305240"/>
            <a:ext cx="1876320" cy="2552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p87_3002__00363_"/>
          <p:cNvPicPr/>
          <p:nvPr/>
        </p:nvPicPr>
        <p:blipFill>
          <a:blip r:embed="rId2"/>
          <a:stretch/>
        </p:blipFill>
        <p:spPr>
          <a:xfrm>
            <a:off x="0" y="4248000"/>
            <a:ext cx="3059280" cy="261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7"/>
          <p:cNvPicPr/>
          <p:nvPr/>
        </p:nvPicPr>
        <p:blipFill>
          <a:blip r:embed="rId3"/>
          <a:stretch/>
        </p:blipFill>
        <p:spPr>
          <a:xfrm>
            <a:off x="6154560" y="0"/>
            <a:ext cx="2989440" cy="2424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4"/>
          <a:stretch/>
        </p:blipFill>
        <p:spPr>
          <a:xfrm>
            <a:off x="0" y="0"/>
            <a:ext cx="3059280" cy="22953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4:29:49Z</dcterms:created>
  <dc:creator>Sergey</dc:creator>
  <dc:description/>
  <dc:language>en-US</dc:language>
  <cp:lastModifiedBy>LEGION</cp:lastModifiedBy>
  <dcterms:modified xsi:type="dcterms:W3CDTF">2014-12-30T09:38:34Z</dcterms:modified>
  <cp:revision>6</cp:revision>
  <dc:subject/>
  <dc:title>Я буду воспевать  Всем существом в поэте Шестую часть земли С названьем кратким «Русь»</dc:title>
</cp:coreProperties>
</file>