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E2CB-6B30-40EF-83DE-2F88BBF14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буду воспевать 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Всем существом в поэте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Шестую часть земли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 названьем кратким «Рус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91C0-7F54-4B7A-82CB-477444893E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Территория – 17,08 млн км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селение – 146,86 млн человек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толица – Москва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официальный язык – русский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гос.строй – федеративн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431D-0F5D-4499-8D4C-9E73E92E0B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остопримечатель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2F3A-4A36-4A3F-9684-49E5815D5B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ша горд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5652-A301-4427-9918-0E28613B7C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alibri"/>
              </a:rPr>
              <a:t>Природа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A8F9-9351-4A74-A924-A5980DCF02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Живот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231-6745-4F17-BF1E-180D40146A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аститель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791E-0C6A-48F3-92DC-0B4E356B21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усская кух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9317-0932-4604-BD94-69E76B19C9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Если крикнет рать святая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«Кинь ты Русь, живи в раю!»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скажу: «Не надо рая,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айте родину мо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AF83-7279-41B2-B017-CE8C6F5FB5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6A6-7A42-43D3-B89E-4EB20BBD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015-5F9A-4569-A2FD-8D2BB73B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D83-E756-4ECC-AF1B-C837BAE7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C03-CBF3-434A-9C15-1772203E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35E-FC1E-451F-BAE3-36BE35BA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675-4465-4E3A-9455-C19E14B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F89-1B6A-4B7F-9613-53CBE170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621-A4D1-4771-96E1-D7B08BDD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190-F5BA-4940-8D72-311D646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7C5-2337-4935-B063-8C394E5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D88-C6FF-4830-B3D6-2EF0CFA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440-E4EA-4088-9F6D-D408632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16EE-BE48-40EA-B323-4B5CC3A0B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graphic.com.ua/image/50265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6480" y="0"/>
            <a:ext cx="5627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Я буду воспевать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сем существом в поэте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Шестую часть земли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С названьем кратким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rf01-1"/>
          <p:cNvPicPr/>
          <p:nvPr/>
        </p:nvPicPr>
        <p:blipFill>
          <a:blip r:embed="rId1"/>
          <a:stretch/>
        </p:blipFill>
        <p:spPr>
          <a:xfrm>
            <a:off x="539640" y="2133720"/>
            <a:ext cx="8298000" cy="451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mage002"/>
          <p:cNvPicPr/>
          <p:nvPr/>
        </p:nvPicPr>
        <p:blipFill>
          <a:blip r:embed="rId2"/>
          <a:stretch/>
        </p:blipFill>
        <p:spPr>
          <a:xfrm>
            <a:off x="0" y="-171360"/>
            <a:ext cx="370836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2916360" y="4149720"/>
            <a:ext cx="38163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Запи379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рритория – 17,08 млн км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население – 146,86 млн человек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столица – Москва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официальный язык – русский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гос.строй – федеративная респуб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остопримечательност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300px-St_Basils_Cathedral-500px"/>
          <p:cNvPicPr/>
          <p:nvPr/>
        </p:nvPicPr>
        <p:blipFill>
          <a:blip r:embed="rId1"/>
          <a:stretch/>
        </p:blipFill>
        <p:spPr>
          <a:xfrm>
            <a:off x="0" y="981000"/>
            <a:ext cx="2190600" cy="276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215"/>
          <p:cNvPicPr/>
          <p:nvPr/>
        </p:nvPicPr>
        <p:blipFill>
          <a:blip r:embed="rId2"/>
          <a:stretch/>
        </p:blipFill>
        <p:spPr>
          <a:xfrm>
            <a:off x="2340000" y="3933720"/>
            <a:ext cx="3375000" cy="255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храм Христа Спасителя"/>
          <p:cNvPicPr/>
          <p:nvPr/>
        </p:nvPicPr>
        <p:blipFill>
          <a:blip r:embed="rId3"/>
          <a:stretch/>
        </p:blipFill>
        <p:spPr>
          <a:xfrm>
            <a:off x="6113520" y="981000"/>
            <a:ext cx="2544840" cy="302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3860640"/>
            <a:ext cx="21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cc"/>
                </a:solidFill>
                <a:latin typeface="Arial"/>
              </a:rPr>
              <a:t>Собор Василия Блаженног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03640" y="645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Кремлевские баш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516720" y="407664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Храм Христа Спаси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53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Наша го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"/>
          <p:cNvPicPr/>
          <p:nvPr/>
        </p:nvPicPr>
        <p:blipFill>
          <a:blip r:embed="rId1"/>
          <a:stretch/>
        </p:blipFill>
        <p:spPr>
          <a:xfrm>
            <a:off x="0" y="43480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"/>
          <p:cNvPicPr/>
          <p:nvPr/>
        </p:nvPicPr>
        <p:blipFill>
          <a:blip r:embed="rId2"/>
          <a:stretch/>
        </p:blipFill>
        <p:spPr>
          <a:xfrm>
            <a:off x="32400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7"/>
          <p:cNvPicPr/>
          <p:nvPr/>
        </p:nvPicPr>
        <p:blipFill>
          <a:blip r:embed="rId3"/>
          <a:stretch/>
        </p:blipFill>
        <p:spPr>
          <a:xfrm>
            <a:off x="5219640" y="4221000"/>
            <a:ext cx="3810240" cy="250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5"/>
          <p:cNvPicPr/>
          <p:nvPr/>
        </p:nvPicPr>
        <p:blipFill>
          <a:blip r:embed="rId4"/>
          <a:stretch/>
        </p:blipFill>
        <p:spPr>
          <a:xfrm>
            <a:off x="5148360" y="981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7"/>
          <p:cNvPicPr/>
          <p:nvPr/>
        </p:nvPicPr>
        <p:blipFill>
          <a:blip r:embed="rId5"/>
          <a:stretch/>
        </p:blipFill>
        <p:spPr>
          <a:xfrm>
            <a:off x="2843280" y="2637000"/>
            <a:ext cx="1915920" cy="28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Приро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859280" y="1125000"/>
            <a:ext cx="4284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а 27 из 1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6400"/>
            <a:ext cx="3863880" cy="515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317"/>
          <p:cNvPicPr/>
          <p:nvPr/>
        </p:nvPicPr>
        <p:blipFill>
          <a:blip r:embed="rId3"/>
          <a:stretch/>
        </p:blipFill>
        <p:spPr>
          <a:xfrm>
            <a:off x="4691160" y="3519360"/>
            <a:ext cx="4452840" cy="33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Животный мир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ear3"/>
          <p:cNvPicPr/>
          <p:nvPr/>
        </p:nvPicPr>
        <p:blipFill>
          <a:blip r:embed="rId1"/>
          <a:stretch/>
        </p:blipFill>
        <p:spPr>
          <a:xfrm>
            <a:off x="6659640" y="1052640"/>
            <a:ext cx="2286000" cy="286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9143922"/>
          <p:cNvPicPr/>
          <p:nvPr/>
        </p:nvPicPr>
        <p:blipFill>
          <a:blip r:embed="rId2"/>
          <a:stretch/>
        </p:blipFill>
        <p:spPr>
          <a:xfrm>
            <a:off x="3564000" y="2924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volk999"/>
          <p:cNvPicPr/>
          <p:nvPr/>
        </p:nvPicPr>
        <p:blipFill>
          <a:blip r:embed="rId3"/>
          <a:stretch/>
        </p:blipFill>
        <p:spPr>
          <a:xfrm>
            <a:off x="611280" y="126828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Рисунок1"/>
          <p:cNvPicPr/>
          <p:nvPr/>
        </p:nvPicPr>
        <p:blipFill>
          <a:blip r:embed="rId4"/>
          <a:stretch/>
        </p:blipFill>
        <p:spPr>
          <a:xfrm>
            <a:off x="6353280" y="4764240"/>
            <a:ext cx="2790720" cy="20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Рисунок21"/>
          <p:cNvPicPr/>
          <p:nvPr/>
        </p:nvPicPr>
        <p:blipFill>
          <a:blip r:embed="rId5"/>
          <a:stretch/>
        </p:blipFill>
        <p:spPr>
          <a:xfrm>
            <a:off x="0" y="4556160"/>
            <a:ext cx="3063960" cy="23018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Растительный мир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4292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6953400" y="1052640"/>
            <a:ext cx="219060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836640"/>
            <a:ext cx="232092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2340000" y="20606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6286680" y="3895560"/>
            <a:ext cx="2857320" cy="2962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Рус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_b"/>
          <p:cNvPicPr/>
          <p:nvPr/>
        </p:nvPicPr>
        <p:blipFill>
          <a:blip r:embed="rId1"/>
          <a:stretch/>
        </p:blipFill>
        <p:spPr>
          <a:xfrm>
            <a:off x="179280" y="11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AO52749"/>
          <p:cNvPicPr/>
          <p:nvPr/>
        </p:nvPicPr>
        <p:blipFill>
          <a:blip r:embed="rId2"/>
          <a:stretch/>
        </p:blipFill>
        <p:spPr>
          <a:xfrm>
            <a:off x="357120" y="4143240"/>
            <a:ext cx="2100240" cy="2136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l-00"/>
          <p:cNvPicPr/>
          <p:nvPr/>
        </p:nvPicPr>
        <p:blipFill>
          <a:blip r:embed="rId3"/>
          <a:stretch/>
        </p:blipFill>
        <p:spPr>
          <a:xfrm>
            <a:off x="6012000" y="1413000"/>
            <a:ext cx="2592360" cy="1993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6357960" y="4429080"/>
            <a:ext cx="2300400" cy="17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3071880" y="278604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637000"/>
            <a:ext cx="511344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Если крикнет рать святая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«Кинь ты Русь, живи в раю!»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Я скажу: «Не надо рая,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айте родину м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69416964927287"/>
          <p:cNvPicPr/>
          <p:nvPr/>
        </p:nvPicPr>
        <p:blipFill>
          <a:blip r:embed="rId1"/>
          <a:stretch/>
        </p:blipFill>
        <p:spPr>
          <a:xfrm>
            <a:off x="7267680" y="4305240"/>
            <a:ext cx="187632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87_3002__00363_"/>
          <p:cNvPicPr/>
          <p:nvPr/>
        </p:nvPicPr>
        <p:blipFill>
          <a:blip r:embed="rId2"/>
          <a:stretch/>
        </p:blipFill>
        <p:spPr>
          <a:xfrm>
            <a:off x="0" y="4248000"/>
            <a:ext cx="305928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7"/>
          <p:cNvPicPr/>
          <p:nvPr/>
        </p:nvPicPr>
        <p:blipFill>
          <a:blip r:embed="rId3"/>
          <a:stretch/>
        </p:blipFill>
        <p:spPr>
          <a:xfrm>
            <a:off x="6154560" y="0"/>
            <a:ext cx="2989440" cy="242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29:49Z</dcterms:created>
  <dc:creator>Sergey</dc:creator>
  <dc:description/>
  <dc:language>en-US</dc:language>
  <cp:lastModifiedBy>LEGION</cp:lastModifiedBy>
  <dcterms:modified xsi:type="dcterms:W3CDTF">2014-12-30T09:38:34Z</dcterms:modified>
  <cp:revision>6</cp:revision>
  <dc:subject/>
  <dc:title>Я буду воспевать  Всем существом в поэте Шестую часть земли С названьем кратким «Русь»</dc:title>
</cp:coreProperties>
</file>