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7.jpeg" ContentType="image/jpeg"/>
  <Override PartName="/ppt/media/image23.jpeg" ContentType="image/jpeg"/>
  <Override PartName="/ppt/media/image13.png" ContentType="image/png"/>
  <Override PartName="/ppt/media/image10.gif" ContentType="image/gif"/>
  <Override PartName="/ppt/media/image5.gif" ContentType="image/gif"/>
  <Override PartName="/ppt/media/image6.gif" ContentType="image/gif"/>
  <Override PartName="/ppt/media/image17.wmf" ContentType="image/x-wmf"/>
  <Override PartName="/ppt/media/image11.gif" ContentType="image/gif"/>
  <Override PartName="/ppt/media/image21.gif" ContentType="image/gif"/>
  <Override PartName="/ppt/media/image14.png" ContentType="image/png"/>
  <Override PartName="/ppt/media/image26.jpeg" ContentType="image/jpeg"/>
  <Override PartName="/ppt/media/image24.jpeg" ContentType="image/jpeg"/>
  <Override PartName="/ppt/media/image12.gif" ContentType="image/gif"/>
  <Override PartName="/ppt/media/image30.jpeg" ContentType="image/jpeg"/>
  <Override PartName="/ppt/media/image8.gif" ContentType="image/gif"/>
  <Override PartName="/ppt/media/image9.gif" ContentType="image/gif"/>
  <Override PartName="/ppt/media/image31.png" ContentType="image/png"/>
  <Override PartName="/ppt/media/image34.gif" ContentType="image/gif"/>
  <Override PartName="/ppt/media/image33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28.jpeg" ContentType="image/jpeg"/>
  <Override PartName="/ppt/media/image16.png" ContentType="image/png"/>
  <Override PartName="/ppt/media/image1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6409-FC55-4691-A5F1-BC101B3B3A7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Bookman Old Style"/>
              </a:rPr>
              <a:t>Оке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C3AB2-26AE-46AD-A0AA-8DCD164BA1B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океана затруднено суровыми климатическими услов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CA29-4DD3-46CF-B361-1898DC3FBB0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ывучий осколок льда в оке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6808-CAD0-4666-935A-DD170DA629B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течений в Атлантическом океа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13F5-2D1F-42E5-BBFC-4DCECDD1CF5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иллюстрации, расскажите о роли океанов в жизни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1768-2CD7-4F85-A9AB-840D0AEE977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бы это значил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02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BF13-B824-448C-B4B8-FD820F5DBBE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деса из чуд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ое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лив Дрей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гальский зал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нно-Атлантический хреб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чение Западных вет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гассово м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ненное кольц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в Гренлан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807E-5261-4A58-8CAB-065DA7BB674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йди меня”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°с.ш. и 65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°с.ш и 2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1° ю.ш. и 75°з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5°с.ш. и 30°в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0E67-4579-42DC-A717-CD32FDC87B4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 ошибки ЮН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0E9C-858F-4E16-8357-D20A326F623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BD68-89CD-49C2-9573-297A8D44D50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орской 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06EC-D26C-49EB-BCCD-2C8A2DB66C1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все оке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C740-B46C-4D0E-9398-AC231234545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BFB1-6C5B-4373-842E-F4F369C2817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лантический океан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87C6-941A-43D6-9697-5FB0D314361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йский океан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 покажите материки, омываемые океа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AEA0-1790-4D2A-ABD7-0AC95A48A30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ый Ледовитый океан. Назовите и покажите материки, омываемые океа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D5F7-756C-465D-81B3-FD908909C65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льеф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кватории Тихого океана обнаружено большое количество желобов. Как вы можете объяснить этот фак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1D0F-6954-46A1-9FCB-48B8804D502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ем расположена знаменитая Марианская впад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3ABA-CDB7-4D21-A97B-296D9A5A8E7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4CB-6D26-4F63-A4CF-8186CB96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6588-35AF-4FFA-882B-E115ECB1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AB24-3479-4773-907A-1FE9F932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DA0-5F7E-4EDA-A591-E11E58D59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1010-A286-4850-9B04-CFC03534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8562-6392-4D0C-B4DB-8C98F6BE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D7E1-C411-45DD-AC67-7A30201C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2D89-4149-4CD5-B0A4-BBA980BC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D305-A0C6-4963-9EC1-636F689A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5C62-8751-460E-B973-06B16070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0B9F-2E74-4A3C-A9CC-95FFA2EE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34EB-BFD6-4DAC-B79C-B283A0BE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FC6B-CC51-4130-9E93-6A16F3CF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8E77-DEC9-4EAA-A40C-7E42432E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EC2D-CAA7-4142-A35F-37E79A4A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A97D-69F9-46D9-A090-D5F12ABF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9752-36AE-4A60-9B58-D5B7E290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14B5D-1BDC-4485-B478-14E79079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EE3452-5A75-474A-B03A-E4583505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CC7A7-EBB3-4203-BE0A-B16896EB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5243F-B0DF-470A-9888-8F3F6332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B1608-382B-4608-A22A-96C203AE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FE6D-3E57-4F0B-9F06-6A44B1B6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A2A9B3-C419-47F1-BDB6-CF330072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C6D25-033B-48D2-8A3E-4135BF94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588F5-BF00-4BA5-B672-5FAF2D10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97D8C8-CA6A-47AC-A5D7-47D6EA10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EA4EA-AD24-4ADE-B720-0B396E3E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B0D3E-16AE-41C6-B719-FBDF0BDA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9B1B8-D462-4417-822A-0DD28F0E1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97A-C56F-4D32-B23C-387F18C4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40E6-DBD7-4901-956D-8800E707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0514-BF73-4CE5-B5DD-B76C44A0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4E53-25A0-47E2-8F3E-C11EF00B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35BA-D2AA-475F-A2B4-E2742A4A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DCEE-98F1-4421-BB70-942DE6BD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044D-C596-4468-84F1-1BAE5325A8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F89A-7584-4FC1-A403-F9EDDF06F2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E1E8-7EF5-483F-9D79-CA303759D2C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" Target="slide14.xml"/><Relationship Id="rId4" Type="http://schemas.openxmlformats.org/officeDocument/2006/relationships/image" Target="../media/image4.gif"/><Relationship Id="rId5" Type="http://schemas.openxmlformats.org/officeDocument/2006/relationships/slide" Target="slide10.xml"/><Relationship Id="rId6" Type="http://schemas.openxmlformats.org/officeDocument/2006/relationships/image" Target="../media/image5.gif"/><Relationship Id="rId7" Type="http://schemas.openxmlformats.org/officeDocument/2006/relationships/slide" Target="slide16.xml"/><Relationship Id="rId8" Type="http://schemas.openxmlformats.org/officeDocument/2006/relationships/image" Target="../media/image6.gif"/><Relationship Id="rId9" Type="http://schemas.openxmlformats.org/officeDocument/2006/relationships/slide" Target="slide8.xml"/><Relationship Id="rId10" Type="http://schemas.openxmlformats.org/officeDocument/2006/relationships/image" Target="../media/image7.gif"/><Relationship Id="rId11" Type="http://schemas.openxmlformats.org/officeDocument/2006/relationships/slide" Target="slide12.xml"/><Relationship Id="rId12" Type="http://schemas.openxmlformats.org/officeDocument/2006/relationships/image" Target="../media/image8.gif"/><Relationship Id="rId13" Type="http://schemas.openxmlformats.org/officeDocument/2006/relationships/slide" Target="slide19.xml"/><Relationship Id="rId14" Type="http://schemas.openxmlformats.org/officeDocument/2006/relationships/image" Target="../media/image9.gif"/><Relationship Id="rId15" Type="http://schemas.openxmlformats.org/officeDocument/2006/relationships/slide" Target="slide9.xml"/><Relationship Id="rId16" Type="http://schemas.openxmlformats.org/officeDocument/2006/relationships/image" Target="../media/image10.gif"/><Relationship Id="rId17" Type="http://schemas.openxmlformats.org/officeDocument/2006/relationships/slide" Target="slide11.xml"/><Relationship Id="rId18" Type="http://schemas.openxmlformats.org/officeDocument/2006/relationships/image" Target="../media/image11.gif"/><Relationship Id="rId19" Type="http://schemas.openxmlformats.org/officeDocument/2006/relationships/slide" Target="slide7.xml"/><Relationship Id="rId20" Type="http://schemas.openxmlformats.org/officeDocument/2006/relationships/image" Target="../media/image12.gif"/><Relationship Id="rId21" Type="http://schemas.openxmlformats.org/officeDocument/2006/relationships/slide" Target="slide14.xml"/><Relationship Id="rId22" Type="http://schemas.openxmlformats.org/officeDocument/2006/relationships/image" Target="../media/image13.png"/><Relationship Id="rId23" Type="http://schemas.openxmlformats.org/officeDocument/2006/relationships/slide" Target="slide15.xml"/><Relationship Id="rId24" Type="http://schemas.openxmlformats.org/officeDocument/2006/relationships/image" Target="../media/image14.png"/><Relationship Id="rId25" Type="http://schemas.openxmlformats.org/officeDocument/2006/relationships/slide" Target="slide5.xml"/><Relationship Id="rId26" Type="http://schemas.openxmlformats.org/officeDocument/2006/relationships/image" Target="../media/image15.gif"/><Relationship Id="rId27" Type="http://schemas.openxmlformats.org/officeDocument/2006/relationships/slide" Target="slide3.xml"/><Relationship Id="rId28" Type="http://schemas.openxmlformats.org/officeDocument/2006/relationships/image" Target="../media/image16.png"/><Relationship Id="rId29" Type="http://schemas.openxmlformats.org/officeDocument/2006/relationships/slide" Target="slide17.xml"/><Relationship Id="rId30" Type="http://schemas.openxmlformats.org/officeDocument/2006/relationships/image" Target="../media/image17.wmf"/><Relationship Id="rId31" Type="http://schemas.openxmlformats.org/officeDocument/2006/relationships/image" Target="../media/image18.png"/><Relationship Id="rId32" Type="http://schemas.openxmlformats.org/officeDocument/2006/relationships/image" Target="../media/image18.png"/><Relationship Id="rId33" Type="http://schemas.openxmlformats.org/officeDocument/2006/relationships/image" Target="../media/image18.png"/><Relationship Id="rId34" Type="http://schemas.openxmlformats.org/officeDocument/2006/relationships/image" Target="../media/image18.png"/><Relationship Id="rId35" Type="http://schemas.openxmlformats.org/officeDocument/2006/relationships/image" Target="../media/image18.png"/><Relationship Id="rId36" Type="http://schemas.openxmlformats.org/officeDocument/2006/relationships/image" Target="../media/image18.png"/><Relationship Id="rId37" Type="http://schemas.openxmlformats.org/officeDocument/2006/relationships/image" Target="../media/image18.png"/><Relationship Id="rId38" Type="http://schemas.openxmlformats.org/officeDocument/2006/relationships/image" Target="../media/image18.png"/><Relationship Id="rId39" Type="http://schemas.openxmlformats.org/officeDocument/2006/relationships/image" Target="../media/image19.png"/><Relationship Id="rId40" Type="http://schemas.openxmlformats.org/officeDocument/2006/relationships/image" Target="../media/image19.png"/><Relationship Id="rId41" Type="http://schemas.openxmlformats.org/officeDocument/2006/relationships/image" Target="../media/image19.png"/><Relationship Id="rId42" Type="http://schemas.openxmlformats.org/officeDocument/2006/relationships/image" Target="../media/image19.png"/><Relationship Id="rId43" Type="http://schemas.openxmlformats.org/officeDocument/2006/relationships/image" Target="../media/image19.png"/><Relationship Id="rId44" Type="http://schemas.openxmlformats.org/officeDocument/2006/relationships/image" Target="../media/image19.png"/><Relationship Id="rId45" Type="http://schemas.openxmlformats.org/officeDocument/2006/relationships/image" Target="../media/image19.png"/><Relationship Id="rId46" Type="http://schemas.openxmlformats.org/officeDocument/2006/relationships/image" Target="../media/image19.png"/><Relationship Id="rId47" Type="http://schemas.openxmlformats.org/officeDocument/2006/relationships/image" Target="../media/image20.png"/><Relationship Id="rId48" Type="http://schemas.openxmlformats.org/officeDocument/2006/relationships/slide" Target="slide5.xml"/><Relationship Id="rId49" Type="http://schemas.openxmlformats.org/officeDocument/2006/relationships/image" Target="../media/image21.gif"/><Relationship Id="rId50" Type="http://schemas.openxmlformats.org/officeDocument/2006/relationships/slide" Target="slide5.xml"/><Relationship Id="rId51" Type="http://schemas.openxmlformats.org/officeDocument/2006/relationships/slide" Target="slide6.xml"/><Relationship Id="rId52" Type="http://schemas.openxmlformats.org/officeDocument/2006/relationships/slide" Target="slide7.xml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2.xml"/><Relationship Id="rId3" Type="http://schemas.openxmlformats.org/officeDocument/2006/relationships/slide" Target="slide14.xm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1187280" y="260280"/>
            <a:ext cx="648036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общ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 теме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WordArt 5"/>
          <p:cNvSpPr txBox="1"/>
          <p:nvPr/>
        </p:nvSpPr>
        <p:spPr>
          <a:xfrm>
            <a:off x="1403280" y="2852640"/>
            <a:ext cx="6264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cc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Океаны</a:t>
            </a:r>
            <a:endParaRPr b="1" i="1" lang="en-US" sz="1800" spc="1" strike="noStrike">
              <a:ln w="9360">
                <a:solidFill>
                  <a:srgbClr val="00cc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учение океана затруднено суровыми климатическими услов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ывучий осколок льда в оке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дно из течений в Атлантическом океан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иллюстрации, расскажите о роли океанов в жизн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3" descr="Рисунок13"/>
          <p:cNvPicPr/>
          <p:nvPr/>
        </p:nvPicPr>
        <p:blipFill>
          <a:blip r:embed="rId1"/>
          <a:stretch/>
        </p:blipFill>
        <p:spPr>
          <a:xfrm rot="283200">
            <a:off x="4876560" y="1066320"/>
            <a:ext cx="3971880" cy="3200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Рисунок13"/>
          <p:cNvPicPr/>
          <p:nvPr/>
        </p:nvPicPr>
        <p:blipFill>
          <a:blip r:embed="rId2"/>
          <a:stretch/>
        </p:blipFill>
        <p:spPr>
          <a:xfrm>
            <a:off x="457200" y="1219320"/>
            <a:ext cx="4267080" cy="2743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Рисунок13"/>
          <p:cNvPicPr/>
          <p:nvPr/>
        </p:nvPicPr>
        <p:blipFill>
          <a:blip r:embed="rId3"/>
          <a:stretch/>
        </p:blipFill>
        <p:spPr>
          <a:xfrm>
            <a:off x="4648320" y="3352680"/>
            <a:ext cx="4209840" cy="3200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Рисунок13"/>
          <p:cNvPicPr/>
          <p:nvPr/>
        </p:nvPicPr>
        <p:blipFill>
          <a:blip r:embed="rId4"/>
          <a:stretch/>
        </p:blipFill>
        <p:spPr>
          <a:xfrm>
            <a:off x="685800" y="3809880"/>
            <a:ext cx="3581280" cy="260676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7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54936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Что бы это значило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11022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2da04ccf1eae7bcbb0de257a6fc54a82"/>
          <p:cNvPicPr/>
          <p:nvPr/>
        </p:nvPicPr>
        <p:blipFill>
          <a:blip r:embed="rId1"/>
          <a:stretch/>
        </p:blipFill>
        <p:spPr>
          <a:xfrm>
            <a:off x="3780000" y="5300640"/>
            <a:ext cx="1152360" cy="52380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удеса из чуд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сное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лив Дрей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нгальский зал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инно-Атлантический хреб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чение Западных вет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ргассово мор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ненное кольц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ров Гренлан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1globemaps-med"/>
          <p:cNvPicPr/>
          <p:nvPr/>
        </p:nvPicPr>
        <p:blipFill>
          <a:blip r:embed="rId1"/>
          <a:stretch/>
        </p:blipFill>
        <p:spPr>
          <a:xfrm>
            <a:off x="6630840" y="907920"/>
            <a:ext cx="2513160" cy="18795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йди меня”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°с.ш. и 65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°с.ш и 2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1° ю.ш. и 75°з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5°с.ш. и 30°в.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russa"/>
          <p:cNvPicPr/>
          <p:nvPr/>
        </p:nvPicPr>
        <p:blipFill>
          <a:blip r:embed="rId1"/>
          <a:stretch/>
        </p:blipFill>
        <p:spPr>
          <a:xfrm>
            <a:off x="4716360" y="1989000"/>
            <a:ext cx="3340080" cy="213840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йди ошибки ЮН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167104"/>
          <p:cNvPicPr/>
          <p:nvPr/>
        </p:nvPicPr>
        <p:blipFill>
          <a:blip r:embed="rId1"/>
          <a:stretch/>
        </p:blipFill>
        <p:spPr>
          <a:xfrm>
            <a:off x="3851280" y="1413000"/>
            <a:ext cx="1460520" cy="194292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AutoShape 2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Picture 4" descr="eep"/>
          <p:cNvPicPr/>
          <p:nvPr/>
        </p:nvPicPr>
        <p:blipFill>
          <a:blip r:embed="rId1"/>
          <a:stretch/>
        </p:blipFill>
        <p:spPr>
          <a:xfrm>
            <a:off x="4095720" y="2881440"/>
            <a:ext cx="952560" cy="10951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50"/>
          <p:cNvSpPr txBox="1"/>
          <p:nvPr/>
        </p:nvSpPr>
        <p:spPr>
          <a:xfrm>
            <a:off x="179280" y="0"/>
            <a:ext cx="5113440" cy="7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рской бо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907920"/>
          <a:ext cx="7920000" cy="5329440"/>
        </p:xfrm>
        <a:graphic>
          <a:graphicData uri="http://schemas.openxmlformats.org/drawingml/2006/table">
            <a:tbl>
              <a:tblPr/>
              <a:tblGrid>
                <a:gridCol w="1571400"/>
                <a:gridCol w="1646280"/>
                <a:gridCol w="1497240"/>
                <a:gridCol w="1571400"/>
                <a:gridCol w="1633680"/>
              </a:tblGrid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114" descr="2da04ccf1eae7bcbb0de257a6fc54a8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24360" y="3357720"/>
            <a:ext cx="1152360" cy="523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5" descr="5b16d9a0e82bd3af282108e72e4e7d68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580000" y="3213000"/>
            <a:ext cx="1143000" cy="476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7" descr="490fb9057c4a4fa46373edc7d5d69c6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268360" y="3213000"/>
            <a:ext cx="952560" cy="752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8" descr="c9111ff395497bcc62fd5f53a9aa4ba0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124000" y="4292640"/>
            <a:ext cx="1368360" cy="798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9" descr="f956d4ffc91140eacef1651621b13289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508720" y="5229360"/>
            <a:ext cx="1138320" cy="703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0" descr="237d14c7cc898b80f144138492189986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 rot="2144400">
            <a:off x="4140000" y="5229360"/>
            <a:ext cx="633240" cy="1068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1" descr="84502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5651640" y="213372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3" descr="ca4da12183cd7fa9166113dd88ae14ad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5651640" y="4005360"/>
            <a:ext cx="752400" cy="1104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4" descr="062b4eccddea3a0e76c1cda9e2d0f075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948360" y="5311800"/>
            <a:ext cx="1152720" cy="665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0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7164360" y="4149720"/>
            <a:ext cx="936720" cy="865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33" descr="1globemaps-med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2340000" y="5445000"/>
            <a:ext cx="857160" cy="641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4" descr="59df5bf31a7614ecf632d265575e0b26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7236000" y="3284640"/>
            <a:ext cx="771480" cy="495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6" descr="dr_fish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3851280" y="1989000"/>
            <a:ext cx="1087560" cy="906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7" descr="штурвал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2195640" y="2060640"/>
            <a:ext cx="855360" cy="930240"/>
          </a:xfrm>
          <a:prstGeom prst="rect">
            <a:avLst/>
          </a:prstGeom>
          <a:ln w="0">
            <a:noFill/>
          </a:ln>
        </p:spPr>
      </p:pic>
      <p:sp>
        <p:nvSpPr>
          <p:cNvPr id="150" name="WordArt 138"/>
          <p:cNvSpPr txBox="1"/>
          <p:nvPr/>
        </p:nvSpPr>
        <p:spPr>
          <a:xfrm>
            <a:off x="755640" y="1989000"/>
            <a:ext cx="64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3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WordArt 140"/>
          <p:cNvSpPr txBox="1"/>
          <p:nvPr/>
        </p:nvSpPr>
        <p:spPr>
          <a:xfrm>
            <a:off x="826920" y="2997360"/>
            <a:ext cx="6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3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2" name="WordArt 141"/>
          <p:cNvSpPr txBox="1"/>
          <p:nvPr/>
        </p:nvSpPr>
        <p:spPr>
          <a:xfrm>
            <a:off x="826920" y="4005360"/>
            <a:ext cx="64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3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142"/>
          <p:cNvSpPr txBox="1"/>
          <p:nvPr/>
        </p:nvSpPr>
        <p:spPr>
          <a:xfrm>
            <a:off x="900000" y="4797360"/>
            <a:ext cx="647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3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143"/>
          <p:cNvSpPr txBox="1"/>
          <p:nvPr/>
        </p:nvSpPr>
        <p:spPr>
          <a:xfrm>
            <a:off x="2195640" y="1125360"/>
            <a:ext cx="2887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0">
                <a:noFill/>
              </a:ln>
              <a:blipFill rotWithShape="0">
                <a:blip r:embed="rId4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146"/>
          <p:cNvSpPr txBox="1"/>
          <p:nvPr/>
        </p:nvSpPr>
        <p:spPr>
          <a:xfrm>
            <a:off x="3635280" y="1197000"/>
            <a:ext cx="28908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</a:t>
            </a:r>
            <a:endParaRPr b="0" lang="en-US" sz="1800" spc="1" strike="noStrike">
              <a:ln w="0">
                <a:noFill/>
              </a:ln>
              <a:blipFill rotWithShape="0">
                <a:blip r:embed="rId4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47"/>
          <p:cNvSpPr txBox="1"/>
          <p:nvPr/>
        </p:nvSpPr>
        <p:spPr>
          <a:xfrm>
            <a:off x="5003640" y="1197000"/>
            <a:ext cx="28908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0">
                <a:noFill/>
              </a:ln>
              <a:blipFill rotWithShape="0">
                <a:blip r:embed="rId4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148"/>
          <p:cNvSpPr txBox="1"/>
          <p:nvPr/>
        </p:nvSpPr>
        <p:spPr>
          <a:xfrm>
            <a:off x="6516720" y="1197000"/>
            <a:ext cx="28872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</a:t>
            </a:r>
            <a:endParaRPr b="0" lang="en-US" sz="1800" spc="1" strike="noStrike">
              <a:ln w="0">
                <a:noFill/>
              </a:ln>
              <a:blipFill rotWithShape="0">
                <a:blip r:embed="rId4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Picture 151" descr="item_2393"/>
          <p:cNvPicPr/>
          <p:nvPr/>
        </p:nvPicPr>
        <p:blipFill>
          <a:blip r:embed="rId47"/>
          <a:stretch/>
        </p:blipFill>
        <p:spPr>
          <a:xfrm>
            <a:off x="3851280" y="4292640"/>
            <a:ext cx="1150920" cy="652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3" descr="08764">
            <a:hlinkClick r:id="rId48" action="ppaction://hlinksldjump"/>
          </p:cNvPr>
          <p:cNvPicPr/>
          <p:nvPr/>
        </p:nvPicPr>
        <p:blipFill>
          <a:blip r:embed="rId49"/>
          <a:stretch/>
        </p:blipFill>
        <p:spPr>
          <a:xfrm>
            <a:off x="7093080" y="2060640"/>
            <a:ext cx="1009440" cy="90468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54">
            <a:hlinkClick r:id="rId50" action="ppaction://hlinksldjump"/>
          </p:cNvPr>
          <p:cNvSpPr/>
          <p:nvPr/>
        </p:nvSpPr>
        <p:spPr>
          <a:xfrm>
            <a:off x="6804000" y="1989000"/>
            <a:ext cx="1513080" cy="1008360"/>
          </a:xfrm>
          <a:custGeom>
            <a:avLst/>
            <a:gdLst>
              <a:gd name="textAreaLeft" fmla="*/ 65160 w 1513080"/>
              <a:gd name="textAreaRight" fmla="*/ 1447920 w 151308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32408" h="21600">
                <a:moveTo>
                  <a:pt x="0" y="0"/>
                </a:moveTo>
                <a:lnTo>
                  <a:pt x="32408" y="0"/>
                </a:lnTo>
                <a:lnTo>
                  <a:pt x="32408" y="21600"/>
                </a:lnTo>
                <a:lnTo>
                  <a:pt x="0" y="21600"/>
                </a:lnTo>
                <a:close/>
              </a:path>
              <a:path fill="lightenLess" w="32408" h="21600">
                <a:moveTo>
                  <a:pt x="0" y="0"/>
                </a:moveTo>
                <a:lnTo>
                  <a:pt x="32408" y="0"/>
                </a:lnTo>
                <a:lnTo>
                  <a:pt x="31008" y="1400"/>
                </a:lnTo>
                <a:lnTo>
                  <a:pt x="1400" y="1400"/>
                </a:lnTo>
                <a:close/>
              </a:path>
              <a:path fill="darken" w="32408" h="21600">
                <a:moveTo>
                  <a:pt x="32408" y="0"/>
                </a:moveTo>
                <a:lnTo>
                  <a:pt x="32408" y="21600"/>
                </a:lnTo>
                <a:lnTo>
                  <a:pt x="31008" y="20200"/>
                </a:lnTo>
                <a:lnTo>
                  <a:pt x="31008" y="1400"/>
                </a:lnTo>
                <a:close/>
              </a:path>
              <a:path fill="darkenLess" w="32408" h="21600">
                <a:moveTo>
                  <a:pt x="32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8" y="20200"/>
                </a:lnTo>
                <a:close/>
              </a:path>
              <a:path fill="lighten" w="32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155">
            <a:hlinkClick r:id="rId51" action="ppaction://hlinksldjump"/>
          </p:cNvPr>
          <p:cNvSpPr/>
          <p:nvPr/>
        </p:nvSpPr>
        <p:spPr>
          <a:xfrm>
            <a:off x="6877080" y="3068640"/>
            <a:ext cx="1366920" cy="936720"/>
          </a:xfrm>
          <a:custGeom>
            <a:avLst/>
            <a:gdLst>
              <a:gd name="textAreaLeft" fmla="*/ 60480 w 1366920"/>
              <a:gd name="textAreaRight" fmla="*/ 1306440 w 13669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1516" h="21600">
                <a:moveTo>
                  <a:pt x="0" y="0"/>
                </a:moveTo>
                <a:lnTo>
                  <a:pt x="31516" y="0"/>
                </a:lnTo>
                <a:lnTo>
                  <a:pt x="31516" y="21600"/>
                </a:lnTo>
                <a:lnTo>
                  <a:pt x="0" y="21600"/>
                </a:lnTo>
                <a:close/>
              </a:path>
              <a:path fill="lightenLess" w="31516" h="21600">
                <a:moveTo>
                  <a:pt x="0" y="0"/>
                </a:moveTo>
                <a:lnTo>
                  <a:pt x="31516" y="0"/>
                </a:lnTo>
                <a:lnTo>
                  <a:pt x="30116" y="1400"/>
                </a:lnTo>
                <a:lnTo>
                  <a:pt x="1400" y="1400"/>
                </a:lnTo>
                <a:close/>
              </a:path>
              <a:path fill="darken" w="31516" h="21600">
                <a:moveTo>
                  <a:pt x="31516" y="0"/>
                </a:moveTo>
                <a:lnTo>
                  <a:pt x="31516" y="21600"/>
                </a:lnTo>
                <a:lnTo>
                  <a:pt x="30116" y="20200"/>
                </a:lnTo>
                <a:lnTo>
                  <a:pt x="30116" y="1400"/>
                </a:lnTo>
                <a:close/>
              </a:path>
              <a:path fill="darkenLess" w="31516" h="21600">
                <a:moveTo>
                  <a:pt x="31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16" y="20200"/>
                </a:lnTo>
                <a:close/>
              </a:path>
              <a:path fill="lighten" w="31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156">
            <a:hlinkClick r:id="rId52" action="ppaction://hlinksldjump"/>
          </p:cNvPr>
          <p:cNvSpPr/>
          <p:nvPr/>
        </p:nvSpPr>
        <p:spPr>
          <a:xfrm>
            <a:off x="6948360" y="4149720"/>
            <a:ext cx="1295640" cy="934920"/>
          </a:xfrm>
          <a:custGeom>
            <a:avLst/>
            <a:gdLst>
              <a:gd name="textAreaLeft" fmla="*/ 60480 w 1295640"/>
              <a:gd name="textAreaRight" fmla="*/ 1235160 w 129564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9931" h="21600">
                <a:moveTo>
                  <a:pt x="0" y="0"/>
                </a:moveTo>
                <a:lnTo>
                  <a:pt x="29931" y="0"/>
                </a:lnTo>
                <a:lnTo>
                  <a:pt x="29931" y="21600"/>
                </a:lnTo>
                <a:lnTo>
                  <a:pt x="0" y="21600"/>
                </a:lnTo>
                <a:close/>
              </a:path>
              <a:path fill="lightenLess" w="29931" h="21600">
                <a:moveTo>
                  <a:pt x="0" y="0"/>
                </a:moveTo>
                <a:lnTo>
                  <a:pt x="29931" y="0"/>
                </a:lnTo>
                <a:lnTo>
                  <a:pt x="28531" y="1400"/>
                </a:lnTo>
                <a:lnTo>
                  <a:pt x="1400" y="1400"/>
                </a:lnTo>
                <a:close/>
              </a:path>
              <a:path fill="darken" w="29931" h="21600">
                <a:moveTo>
                  <a:pt x="29931" y="0"/>
                </a:moveTo>
                <a:lnTo>
                  <a:pt x="29931" y="21600"/>
                </a:lnTo>
                <a:lnTo>
                  <a:pt x="28531" y="20200"/>
                </a:lnTo>
                <a:lnTo>
                  <a:pt x="28531" y="1400"/>
                </a:lnTo>
                <a:close/>
              </a:path>
              <a:path fill="darkenLess" w="29931" h="21600">
                <a:moveTo>
                  <a:pt x="29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531" y="20200"/>
                </a:lnTo>
                <a:close/>
              </a:path>
              <a:path fill="lighten" w="29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овите и покажите все оке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3" descr="карта пол"/>
          <p:cNvPicPr/>
          <p:nvPr/>
        </p:nvPicPr>
        <p:blipFill>
          <a:blip r:embed="rId1"/>
          <a:stretch/>
        </p:blipFill>
        <p:spPr>
          <a:xfrm>
            <a:off x="0" y="1295280"/>
            <a:ext cx="8991720" cy="488160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5" descr="dr_fish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51280" y="1268280"/>
            <a:ext cx="1087560" cy="9064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137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Рисунок4"/>
          <p:cNvPicPr/>
          <p:nvPr/>
        </p:nvPicPr>
        <p:blipFill>
          <a:blip r:embed="rId1"/>
          <a:stretch/>
        </p:blipFill>
        <p:spPr>
          <a:xfrm>
            <a:off x="900000" y="836640"/>
            <a:ext cx="7086600" cy="5330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1637280" y="616104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ихий океан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AutoShape 7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10" descr="item_2393"/>
          <p:cNvPicPr/>
          <p:nvPr/>
        </p:nvPicPr>
        <p:blipFill>
          <a:blip r:embed="rId3"/>
          <a:stretch/>
        </p:blipFill>
        <p:spPr>
          <a:xfrm>
            <a:off x="7451640" y="0"/>
            <a:ext cx="1150920" cy="6523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тлантический океа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Рисунок5"/>
          <p:cNvPicPr/>
          <p:nvPr/>
        </p:nvPicPr>
        <p:blipFill>
          <a:blip r:embed="rId1"/>
          <a:stretch/>
        </p:blipFill>
        <p:spPr>
          <a:xfrm>
            <a:off x="1066680" y="1027080"/>
            <a:ext cx="7467840" cy="583092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5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6" descr="08764"/>
          <p:cNvPicPr/>
          <p:nvPr/>
        </p:nvPicPr>
        <p:blipFill>
          <a:blip r:embed="rId3"/>
          <a:stretch/>
        </p:blipFill>
        <p:spPr>
          <a:xfrm>
            <a:off x="7812000" y="0"/>
            <a:ext cx="1009800" cy="90504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дийский океан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те и покажите материки, омываемые океа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Рисунок6"/>
          <p:cNvPicPr/>
          <p:nvPr/>
        </p:nvPicPr>
        <p:blipFill>
          <a:blip r:embed="rId1"/>
          <a:stretch/>
        </p:blipFill>
        <p:spPr>
          <a:xfrm>
            <a:off x="990720" y="1219320"/>
            <a:ext cx="7086600" cy="53258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5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ный Ледовитый океан. Назовите и покажите материки, омываемые океа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Рисунок7"/>
          <p:cNvPicPr/>
          <p:nvPr/>
        </p:nvPicPr>
        <p:blipFill>
          <a:blip r:embed="rId1"/>
          <a:stretch/>
        </p:blipFill>
        <p:spPr>
          <a:xfrm>
            <a:off x="1066680" y="1219320"/>
            <a:ext cx="6477120" cy="541332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4">
            <a:hlinkClick r:id="rId2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24720" y="333360"/>
            <a:ext cx="936720" cy="86508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лье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кватории Тихого океана обнаружено большое количество желобов. Как вы можете объяснить этот фак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5" descr="c9111ff395497bcc62fd5f53a9aa4ba0"/>
          <p:cNvPicPr/>
          <p:nvPr/>
        </p:nvPicPr>
        <p:blipFill>
          <a:blip r:embed="rId1"/>
          <a:stretch/>
        </p:blipFill>
        <p:spPr>
          <a:xfrm>
            <a:off x="6732720" y="404640"/>
            <a:ext cx="1368360" cy="79884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нем расположена знаменитая Марианская впади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12899" y="3837"/>
                </a:moveTo>
                <a:lnTo>
                  <a:pt x="15476" y="6448"/>
                </a:ln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lnTo>
                  <a:pt x="19862" y="10800"/>
                </a:lnTo>
                <a:lnTo>
                  <a:pt x="18209" y="10800"/>
                </a:lnTo>
                <a:lnTo>
                  <a:pt x="18209" y="17989"/>
                </a:lnTo>
                <a:lnTo>
                  <a:pt x="7590" y="17989"/>
                </a:lnTo>
                <a:lnTo>
                  <a:pt x="7590" y="10800"/>
                </a:lnTo>
                <a:lnTo>
                  <a:pt x="5936" y="10800"/>
                </a:lnTo>
                <a:close/>
              </a:path>
              <a:path fill="darkenLess" w="25799" h="21600">
                <a:moveTo>
                  <a:pt x="15476" y="6448"/>
                </a:moveTo>
                <a:lnTo>
                  <a:pt x="15476" y="4707"/>
                </a:lnTo>
                <a:lnTo>
                  <a:pt x="17251" y="4707"/>
                </a:lnTo>
                <a:lnTo>
                  <a:pt x="17251" y="8224"/>
                </a:lnTo>
                <a:close/>
              </a:path>
              <a:path fill="darkenLess" w="25799" h="21600">
                <a:moveTo>
                  <a:pt x="11977" y="14299"/>
                </a:moveTo>
                <a:lnTo>
                  <a:pt x="13822" y="14299"/>
                </a:lnTo>
                <a:lnTo>
                  <a:pt x="13822" y="17989"/>
                </a:lnTo>
                <a:lnTo>
                  <a:pt x="18209" y="17989"/>
                </a:lnTo>
                <a:lnTo>
                  <a:pt x="18209" y="10800"/>
                </a:lnTo>
                <a:lnTo>
                  <a:pt x="7590" y="10800"/>
                </a:lnTo>
                <a:lnTo>
                  <a:pt x="7590" y="17989"/>
                </a:lnTo>
                <a:lnTo>
                  <a:pt x="119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04:56:41Z</dcterms:created>
  <dc:creator>Svetlana</dc:creator>
  <dc:description/>
  <dc:language>en-US</dc:language>
  <cp:lastModifiedBy>LEGION</cp:lastModifiedBy>
  <dcterms:modified xsi:type="dcterms:W3CDTF">2014-12-30T09:40:55Z</dcterms:modified>
  <cp:revision>7</cp:revision>
  <dc:subject/>
  <dc:title>Слайд 1</dc:title>
</cp:coreProperties>
</file>