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4.png" ContentType="image/png"/>
  <Override PartName="/ppt/media/image23.jpeg" ContentType="image/jpeg"/>
  <Override PartName="/ppt/media/image3.gif" ContentType="image/gif"/>
  <Override PartName="/ppt/media/image21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60BA-A38E-46C0-B69F-08AC66BC140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slide" Target="../slides/slide18.xml"/><Relationship Id="rId11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F3B1-D6E3-4535-A7D4-6C2F00D84F2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ннее таяние снега на равнин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нее таяние снега и ледников в г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 в определённый сезон года (летние мусс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ОЛОВОДЬ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8060-1A11-4D69-A901-3F4DB3F35E7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таяние снега при оттепели,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ски воды из водохранилищ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АВО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29F2-CAF3-4144-B501-43E8D92C13E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озн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сть реки поддерживается главным образом грунтовым пит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МЕЖ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езонное стояние низких (меженных) уровней воды в ре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C6D6-2BD4-4509-9AE3-61A022ED791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авнин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381F-6A78-493E-8E7F-93D224E3031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ариц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Меанд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повторяющиеся на большом протяжении долины реки изгибы ее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9B9E-F1AB-4DB9-AEA9-4F53DA9995F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6852-E9A7-45D9-89AC-C909691938F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CC47-9B76-4B08-B3BE-17959ADECB6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F93-16DD-44FA-9A89-ABDB1EAD398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1%2580%25D0%25B5%25D0%25BA%25D0%25B5%26ndsp%3D18%26hl%3Dru%26sa%3DN%26start%3D36%26newwindow%3D1&amp;ei=0zcNSrDhPMiB_AaZ4dzG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go.ru/geography/fiz_geography/slovar/meand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.travel.ru/images2/2006/08/object93210/280806-1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ourism.ru/docs/report/cycle/54/111/614/img/norway-08_02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chiexplorer.ru/images/kichmai/33/800x600/kichmai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AE41-2895-40DB-AA63-BC8E0074E39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Что такое р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ка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– водный поток, текущий в выработанном им углублении, называемом – русло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82EF-3861-4B35-A454-28254FF0564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рофил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00CD-EE86-408C-ACE8-99C5D4354FC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– это линия раздела речных басс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ссейн реки – это площадь суши, с которой стекает вода к главной реке и ее прито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4EE1-37CB-419A-A91A-0B5C16E06D7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Зависимост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446B-057F-4BD1-89A5-0777F56EF2D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F408-7541-4450-BF51-DEF0DE3EA16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15EA-5686-4B1C-A34E-710FFC43F93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0294-A9F0-4C76-95A5-B021C6A9568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9A52-2755-49D4-A130-DE88F671845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050-A86B-4179-9157-59EAD27A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DB4-148A-490A-A9A5-A8D3F773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FBA-C729-49F5-B8C1-92C380C3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3C1-2E1F-4912-828D-53EA52DD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E2D-0F5F-4D56-A0E4-CB04F46F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F9C-A03E-4968-A644-523660A5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C30-E762-4B02-9E02-A45E46EF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3DC-EAF7-45F4-824E-84F99969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0D1-0E77-46F6-98B6-F1C5AFB4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209-5DD8-4BE8-97C9-83A5F13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5FE-63FE-4885-8CBA-AB48BA39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148-A9A7-4ABE-AF3F-D0C99B9C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7D9-2342-486F-91D6-D183951B142F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5.xm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hyperlink" Target="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" TargetMode="External"/><Relationship Id="rId11" Type="http://schemas.openxmlformats.org/officeDocument/2006/relationships/hyperlink" Target="file:///1%2580%25D0%25B5%25D0%25BA%25D0%25B5%26ndsp%3D18%26hl%3Dru%26sa%3DN%26start%3D36%26newwindow%3D1&amp;ei=0zcNSrDhPMiB_AaZ4dzGBA" TargetMode="External"/><Relationship Id="rId12" Type="http://schemas.openxmlformats.org/officeDocument/2006/relationships/hyperlink" Target="http://rgo.ru/geography/fiz_geography/slovar/meandr1" TargetMode="External"/><Relationship Id="rId13" Type="http://schemas.openxmlformats.org/officeDocument/2006/relationships/hyperlink" Target="http://img.travel.ru/images2/2006/08/object93210/280806-13.jpg" TargetMode="External"/><Relationship Id="rId14" Type="http://schemas.openxmlformats.org/officeDocument/2006/relationships/hyperlink" Target="http://www.tourism.ru/docs/report/cycle/54/111/614/img/norway-08_021.jpg" TargetMode="External"/><Relationship Id="rId15" Type="http://schemas.openxmlformats.org/officeDocument/2006/relationships/hyperlink" Target="http://www.sochiexplorer.ru/images/kichmai/33/800x600/kichmai5.jpg" TargetMode="External"/><Relationship Id="rId16" Type="http://schemas.openxmlformats.org/officeDocument/2006/relationships/image" Target="../media/image2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55640" y="981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КИ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57200" y="5214960"/>
            <a:ext cx="6400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угут И.А., учитель географии 1 категории МОУ СОШ №32 «Эврика-развитие» г. Волжск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85"/>
          <p:cNvGrpSpPr/>
          <p:nvPr/>
        </p:nvGrpSpPr>
        <p:grpSpPr>
          <a:xfrm>
            <a:off x="4643280" y="3786120"/>
            <a:ext cx="1009440" cy="646200"/>
            <a:chOff x="4643280" y="3786120"/>
            <a:chExt cx="1009440" cy="646200"/>
          </a:xfrm>
        </p:grpSpPr>
        <p:sp>
          <p:nvSpPr>
            <p:cNvPr id="278" name="Oval 76"/>
            <p:cNvSpPr/>
            <p:nvPr/>
          </p:nvSpPr>
          <p:spPr>
            <a:xfrm>
              <a:off x="507492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77"/>
            <p:cNvSpPr/>
            <p:nvPr/>
          </p:nvSpPr>
          <p:spPr>
            <a:xfrm>
              <a:off x="52909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8"/>
            <p:cNvSpPr/>
            <p:nvPr/>
          </p:nvSpPr>
          <p:spPr>
            <a:xfrm>
              <a:off x="478764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9"/>
            <p:cNvSpPr/>
            <p:nvPr/>
          </p:nvSpPr>
          <p:spPr>
            <a:xfrm>
              <a:off x="536400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0"/>
            <p:cNvSpPr/>
            <p:nvPr/>
          </p:nvSpPr>
          <p:spPr>
            <a:xfrm>
              <a:off x="500364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81"/>
            <p:cNvSpPr/>
            <p:nvPr/>
          </p:nvSpPr>
          <p:spPr>
            <a:xfrm>
              <a:off x="464328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82"/>
            <p:cNvSpPr/>
            <p:nvPr/>
          </p:nvSpPr>
          <p:spPr>
            <a:xfrm>
              <a:off x="471456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3"/>
            <p:cNvSpPr/>
            <p:nvPr/>
          </p:nvSpPr>
          <p:spPr>
            <a:xfrm>
              <a:off x="558000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олилиния 32"/>
          <p:cNvSpPr/>
          <p:nvPr/>
        </p:nvSpPr>
        <p:spPr>
          <a:xfrm flipH="1">
            <a:off x="5286240" y="3357720"/>
            <a:ext cx="1643040" cy="57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33"/>
          <p:cNvSpPr/>
          <p:nvPr/>
        </p:nvSpPr>
        <p:spPr>
          <a:xfrm>
            <a:off x="500040" y="357120"/>
            <a:ext cx="1071720" cy="319896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5"/>
          <p:cNvGrpSpPr/>
          <p:nvPr/>
        </p:nvGrpSpPr>
        <p:grpSpPr>
          <a:xfrm>
            <a:off x="1473840" y="3114720"/>
            <a:ext cx="1099800" cy="676080"/>
            <a:chOff x="1473840" y="3114720"/>
            <a:chExt cx="1099800" cy="676080"/>
          </a:xfrm>
        </p:grpSpPr>
        <p:sp>
          <p:nvSpPr>
            <p:cNvPr id="289" name="Oval 76"/>
            <p:cNvSpPr/>
            <p:nvPr/>
          </p:nvSpPr>
          <p:spPr>
            <a:xfrm rot="2980200">
              <a:off x="2077560" y="33066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77"/>
            <p:cNvSpPr/>
            <p:nvPr/>
          </p:nvSpPr>
          <p:spPr>
            <a:xfrm rot="2980200">
              <a:off x="2052720" y="361116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8"/>
            <p:cNvSpPr/>
            <p:nvPr/>
          </p:nvSpPr>
          <p:spPr>
            <a:xfrm rot="2980200">
              <a:off x="1836000" y="31348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9"/>
            <p:cNvSpPr/>
            <p:nvPr/>
          </p:nvSpPr>
          <p:spPr>
            <a:xfrm rot="2980200">
              <a:off x="2264760" y="352692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0"/>
            <p:cNvSpPr/>
            <p:nvPr/>
          </p:nvSpPr>
          <p:spPr>
            <a:xfrm rot="2980200">
              <a:off x="1811160" y="34394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81"/>
            <p:cNvSpPr/>
            <p:nvPr/>
          </p:nvSpPr>
          <p:spPr>
            <a:xfrm rot="2980200">
              <a:off x="1633680" y="31172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82"/>
            <p:cNvSpPr/>
            <p:nvPr/>
          </p:nvSpPr>
          <p:spPr>
            <a:xfrm rot="2980200">
              <a:off x="1515240" y="33116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83"/>
            <p:cNvSpPr/>
            <p:nvPr/>
          </p:nvSpPr>
          <p:spPr>
            <a:xfrm rot="2980200">
              <a:off x="2459160" y="364500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48"/>
          <p:cNvSpPr/>
          <p:nvPr/>
        </p:nvSpPr>
        <p:spPr>
          <a:xfrm>
            <a:off x="2214720" y="10000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49"/>
          <p:cNvSpPr/>
          <p:nvPr/>
        </p:nvSpPr>
        <p:spPr>
          <a:xfrm>
            <a:off x="1928880" y="14288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ннее таяние снега на равнин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нее таяние снега и ледников в гор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 в определённый сезон года (летние муссоны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50"/>
          <p:cNvSpPr/>
          <p:nvPr/>
        </p:nvSpPr>
        <p:spPr>
          <a:xfrm>
            <a:off x="0" y="5288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ЛОВОДЬ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0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694 0.00463 -0.01493 0.00949 -0.01979 0.01435 C -0.02274 0.01736 -0.02569 0.0206 -0.02969 0.02385 C -0.03559 0.02847 -0.04253 0.03334 -0.0493 0.0382 C -0.05226 0.04051 -0.0592 0.04537 -0.0592 0.0456 C -0.0651 0.07917 -0.05816 0.10695 -0.11823 0.13635 E">
                                      <p:cBhvr>
                                        <p:cTn id="109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C 0.01042 0.00741 0.02257 0.01482 0.03004 0.02223 C 0.03455 0.02686 0.03906 0.03172 0.04514 0.03658 C 0.05417 0.04399 0.06476 0.05139 0.07535 0.0588 C 0.07986 0.0625 0.09045 0.06991 0.09045 0.07038 C 0.09948 0.122 0.08889 0.16459 0.18108 0.20996 E">
                                      <p:cBhvr>
                                        <p:cTn id="110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303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8"/>
          <p:cNvSpPr/>
          <p:nvPr/>
        </p:nvSpPr>
        <p:spPr>
          <a:xfrm>
            <a:off x="2214720" y="107172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9"/>
          <p:cNvSpPr/>
          <p:nvPr/>
        </p:nvSpPr>
        <p:spPr>
          <a:xfrm>
            <a:off x="1714680" y="1571760"/>
            <a:ext cx="70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таяние снега при оттепели, ледни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ски воды из водохранилищ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10"/>
          <p:cNvSpPr/>
          <p:nvPr/>
        </p:nvSpPr>
        <p:spPr>
          <a:xfrm>
            <a:off x="185724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1"/>
          <p:cNvSpPr/>
          <p:nvPr/>
        </p:nvSpPr>
        <p:spPr>
          <a:xfrm>
            <a:off x="2428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112"/>
          <p:cNvSpPr/>
          <p:nvPr/>
        </p:nvSpPr>
        <p:spPr>
          <a:xfrm>
            <a:off x="292896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3"/>
          <p:cNvSpPr/>
          <p:nvPr/>
        </p:nvSpPr>
        <p:spPr>
          <a:xfrm>
            <a:off x="228600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14"/>
          <p:cNvSpPr/>
          <p:nvPr/>
        </p:nvSpPr>
        <p:spPr>
          <a:xfrm>
            <a:off x="285768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15"/>
          <p:cNvSpPr/>
          <p:nvPr/>
        </p:nvSpPr>
        <p:spPr>
          <a:xfrm>
            <a:off x="335772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25"/>
          <p:cNvSpPr/>
          <p:nvPr/>
        </p:nvSpPr>
        <p:spPr>
          <a:xfrm>
            <a:off x="2571840" y="3000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26"/>
          <p:cNvSpPr/>
          <p:nvPr/>
        </p:nvSpPr>
        <p:spPr>
          <a:xfrm>
            <a:off x="314316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27"/>
          <p:cNvSpPr/>
          <p:nvPr/>
        </p:nvSpPr>
        <p:spPr>
          <a:xfrm>
            <a:off x="364320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128"/>
          <p:cNvSpPr/>
          <p:nvPr/>
        </p:nvSpPr>
        <p:spPr>
          <a:xfrm>
            <a:off x="3000240" y="36432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129"/>
          <p:cNvSpPr/>
          <p:nvPr/>
        </p:nvSpPr>
        <p:spPr>
          <a:xfrm>
            <a:off x="357192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130"/>
          <p:cNvSpPr/>
          <p:nvPr/>
        </p:nvSpPr>
        <p:spPr>
          <a:xfrm>
            <a:off x="407196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Овал 131"/>
          <p:cNvSpPr/>
          <p:nvPr/>
        </p:nvSpPr>
        <p:spPr>
          <a:xfrm>
            <a:off x="3643200" y="45720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132"/>
          <p:cNvSpPr/>
          <p:nvPr/>
        </p:nvSpPr>
        <p:spPr>
          <a:xfrm>
            <a:off x="421488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133"/>
          <p:cNvSpPr/>
          <p:nvPr/>
        </p:nvSpPr>
        <p:spPr>
          <a:xfrm>
            <a:off x="471492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олилиния 137"/>
          <p:cNvSpPr/>
          <p:nvPr/>
        </p:nvSpPr>
        <p:spPr>
          <a:xfrm>
            <a:off x="0" y="1000080"/>
            <a:ext cx="1428840" cy="60660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38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АВОД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0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C 0.05173 -0.00115 0.06128 0.00047 0.09705 -0.00648 C 0.12969 -0.00578 0.16007 -0.00416 0.19219 -0.00162 C 0.2026 -3.33333000000009E-006 0.22118 0.00533 0.23264 0.00533 E">
                                      <p:cBhvr>
                                        <p:cTn id="1159" dur="3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08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0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2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4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6" dur="3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8" dur="3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0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2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4" dur="3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6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8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0" dur="3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2" dur="3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4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6" dur="3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Улыбающееся лицо 29"/>
          <p:cNvSpPr/>
          <p:nvPr/>
        </p:nvSpPr>
        <p:spPr>
          <a:xfrm>
            <a:off x="857160" y="642960"/>
            <a:ext cx="171468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73"/>
          <p:cNvSpPr/>
          <p:nvPr/>
        </p:nvSpPr>
        <p:spPr>
          <a:xfrm>
            <a:off x="1642320" y="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74"/>
          <p:cNvSpPr/>
          <p:nvPr/>
        </p:nvSpPr>
        <p:spPr>
          <a:xfrm flipH="1">
            <a:off x="235728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75"/>
          <p:cNvSpPr/>
          <p:nvPr/>
        </p:nvSpPr>
        <p:spPr>
          <a:xfrm>
            <a:off x="64224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76"/>
          <p:cNvSpPr/>
          <p:nvPr/>
        </p:nvSpPr>
        <p:spPr>
          <a:xfrm>
            <a:off x="1714680" y="214308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7"/>
          <p:cNvSpPr/>
          <p:nvPr/>
        </p:nvSpPr>
        <p:spPr>
          <a:xfrm flipH="1">
            <a:off x="78588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83"/>
          <p:cNvSpPr/>
          <p:nvPr/>
        </p:nvSpPr>
        <p:spPr>
          <a:xfrm>
            <a:off x="2286000" y="1928880"/>
            <a:ext cx="57168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84"/>
          <p:cNvSpPr/>
          <p:nvPr/>
        </p:nvSpPr>
        <p:spPr>
          <a:xfrm>
            <a:off x="257184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85"/>
          <p:cNvSpPr/>
          <p:nvPr/>
        </p:nvSpPr>
        <p:spPr>
          <a:xfrm flipH="1">
            <a:off x="356760" y="1356480"/>
            <a:ext cx="71460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Прямоугольник 102" descr=""/>
          <p:cNvPicPr/>
          <p:nvPr/>
        </p:nvPicPr>
        <p:blipFill>
          <a:blip r:embed="rId2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36" descr=""/>
          <p:cNvPicPr/>
          <p:nvPr/>
        </p:nvPicPr>
        <p:blipFill>
          <a:blip r:embed="rId3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4"/>
          <a:stretch/>
        </p:blipFill>
        <p:spPr>
          <a:xfrm>
            <a:off x="0" y="95400"/>
            <a:ext cx="9105840" cy="6762600"/>
          </a:xfrm>
          <a:prstGeom prst="rect">
            <a:avLst/>
          </a:prstGeom>
          <a:ln w="0">
            <a:noFill/>
          </a:ln>
        </p:spPr>
      </p:pic>
      <p:sp>
        <p:nvSpPr>
          <p:cNvPr id="337" name="Улыбающееся лицо 28"/>
          <p:cNvSpPr/>
          <p:nvPr/>
        </p:nvSpPr>
        <p:spPr>
          <a:xfrm>
            <a:off x="4214880" y="642960"/>
            <a:ext cx="171432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30"/>
          <p:cNvSpPr/>
          <p:nvPr/>
        </p:nvSpPr>
        <p:spPr>
          <a:xfrm>
            <a:off x="5000760" y="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31"/>
          <p:cNvSpPr/>
          <p:nvPr/>
        </p:nvSpPr>
        <p:spPr>
          <a:xfrm flipH="1">
            <a:off x="571500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2"/>
          <p:cNvSpPr/>
          <p:nvPr/>
        </p:nvSpPr>
        <p:spPr>
          <a:xfrm>
            <a:off x="399996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33"/>
          <p:cNvSpPr/>
          <p:nvPr/>
        </p:nvSpPr>
        <p:spPr>
          <a:xfrm>
            <a:off x="5071320" y="214308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4"/>
          <p:cNvSpPr/>
          <p:nvPr/>
        </p:nvSpPr>
        <p:spPr>
          <a:xfrm flipH="1">
            <a:off x="414324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5"/>
          <p:cNvSpPr/>
          <p:nvPr/>
        </p:nvSpPr>
        <p:spPr>
          <a:xfrm>
            <a:off x="5643000" y="192888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36"/>
          <p:cNvSpPr/>
          <p:nvPr/>
        </p:nvSpPr>
        <p:spPr>
          <a:xfrm>
            <a:off x="592920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37"/>
          <p:cNvSpPr/>
          <p:nvPr/>
        </p:nvSpPr>
        <p:spPr>
          <a:xfrm flipH="1">
            <a:off x="3714840" y="1356480"/>
            <a:ext cx="71424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правляющая кнопка: в начало 39">
            <a:hlinkClick r:id="rId5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Прямоугольник 42" descr=""/>
          <p:cNvPicPr/>
          <p:nvPr/>
        </p:nvPicPr>
        <p:blipFill>
          <a:blip r:embed="rId6"/>
          <a:stretch/>
        </p:blipFill>
        <p:spPr>
          <a:xfrm>
            <a:off x="3024360" y="304920"/>
            <a:ext cx="4894200" cy="15238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3"/>
          <p:cNvSpPr/>
          <p:nvPr/>
        </p:nvSpPr>
        <p:spPr>
          <a:xfrm>
            <a:off x="1785960" y="2571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4"/>
          <p:cNvSpPr/>
          <p:nvPr/>
        </p:nvSpPr>
        <p:spPr>
          <a:xfrm>
            <a:off x="1857240" y="32148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х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н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ость реки поддерживается главным образом грунтовым питани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5"/>
          <p:cNvSpPr/>
          <p:nvPr/>
        </p:nvSpPr>
        <p:spPr>
          <a:xfrm>
            <a:off x="285840" y="60278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езонное стояние низких (меженных) уровней воды в ре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33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4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0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1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78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9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9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7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9375 L 0.28524 -0.09375 E">
                                      <p:cBhvr>
                                        <p:cTn id="142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3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4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7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8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9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2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3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6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7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0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1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4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7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8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9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1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2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3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7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23 L 0.22274 0.00023 E">
                                      <p:cBhvr>
                                        <p:cTn id="153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4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231840"/>
            <a:ext cx="6546960" cy="1523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3413160" cy="2000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3500280" y="12859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 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хема 6" descr=""/>
          <p:cNvPicPr/>
          <p:nvPr/>
        </p:nvPicPr>
        <p:blipFill>
          <a:blip r:embed="rId3"/>
          <a:stretch/>
        </p:blipFill>
        <p:spPr>
          <a:xfrm>
            <a:off x="414360" y="3584520"/>
            <a:ext cx="8028000" cy="32004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59680" cy="5000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2143080" y="3571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857160" y="178596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риц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3357720" y="2928960"/>
            <a:ext cx="357120" cy="977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3071880" y="40719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анд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торяющиеся на большом протяжении долины реки изгибы ее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в начало 9">
            <a:hlinkClick r:id="rId2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0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23 -0.00741 0.04306 -0.02014 0.06546 -0.02755 C 0.06997 -0.02685 0.07483 -0.02732 0.07917 -0.02523 C 0.08299 -0.02338 0.0856 -0.01806 0.08959 -0.0162 C 0.09132 -0.01551 0.09306 -0.01458 0.0948 -0.01389 C 0.09792 -0.00162 0.09549 -0.00903 0.1033 0.00694 C 0.10521 0.01088 0.10556 0.01597 0.10678 0.0206 C 0.1073 0.02292 0.10851 0.02755 0.10851 0.02755 C 0.10782 0.0375 0.11025 0.05023 0.10504 0.05741 C 0.10382 0.05903 0.10157 0.05856 0.1 0.05972 C 0.0856 0.0706 0.07066 0.08495 0.0533 0.08495 E">
                                      <p:cBhvr>
                                        <p:cTn id="1594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95 -0.01157 0.00572 -0.02291 0.00868 -0.03449 C 0.01007 -0.03981 0.01163 -0.04629 0.01562 -0.04814 C 0.0243 -0.05208 0.03281 -0.05578 0.04149 -0.05972 C 0.04496 -0.06134 0.05173 -0.06435 0.05173 -0.06435 C 0.0684 -0.06365 0.08507 -0.06342 0.10173 -0.06203 C 0.10364 -0.0618 0.10572 -0.06134 0.10694 -0.05972 C 0.10902 -0.05694 0.1151 -0.03449 0.11562 -0.03217 C 0.11614 -0.02986 0.11736 -0.02523 0.11736 -0.02523 C 0.11788 -0.01921 0.11822 -0.01296 0.11909 -0.00694 C 0.11944 -0.00462 0.11927 -0.00138 0.12066 0 C 0.12517 0.0044 0.13107 0.00463 0.13628 0.00695 C 0.13802 0.00764 0.14149 0.00926 0.14149 0.00926 C 0.15138 0.00741 0.15972 0.00417 0.16909 0 C 0.17257 -0.00162 0.17934 -0.00462 0.17934 -0.00462 C 0.18142 -0.01296 0.1802 -0.00925 0.18281 -0.01597 E">
                                      <p:cBhvr>
                                        <p:cTn id="1613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3394080" cy="371484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4" descr=""/>
          <p:cNvPicPr/>
          <p:nvPr/>
        </p:nvPicPr>
        <p:blipFill>
          <a:blip r:embed="rId2"/>
          <a:stretch/>
        </p:blipFill>
        <p:spPr>
          <a:xfrm>
            <a:off x="3657600" y="1779480"/>
            <a:ext cx="5499000" cy="43038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41432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3857760"/>
            <a:ext cx="3998880" cy="2498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5572080" y="428760"/>
            <a:ext cx="32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пады – падение воды с высокого уступ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786200" y="3786120"/>
            <a:ext cx="4071960" cy="2563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963720" y="92160"/>
            <a:ext cx="7673760" cy="152388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в начало 7">
            <a:hlinkClick r:id="rId4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6715080" y="785880"/>
            <a:ext cx="2071800" cy="691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3"/>
          <a:stretch/>
        </p:blipFill>
        <p:spPr>
          <a:xfrm>
            <a:off x="5214960" y="5715000"/>
            <a:ext cx="1585800" cy="747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5"/>
          <p:cNvSpPr/>
          <p:nvPr/>
        </p:nvSpPr>
        <p:spPr>
          <a:xfrm>
            <a:off x="1143000" y="2428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"/>
          <p:cNvPicPr/>
          <p:nvPr/>
        </p:nvPicPr>
        <p:blipFill>
          <a:blip r:embed="rId4"/>
          <a:stretch/>
        </p:blipFill>
        <p:spPr>
          <a:xfrm>
            <a:off x="6000840" y="78588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15"/>
          <p:cNvSpPr/>
          <p:nvPr/>
        </p:nvSpPr>
        <p:spPr>
          <a:xfrm>
            <a:off x="5650200" y="16430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5" descr=""/>
          <p:cNvPicPr/>
          <p:nvPr/>
        </p:nvPicPr>
        <p:blipFill>
          <a:blip r:embed="rId5"/>
          <a:stretch/>
        </p:blipFill>
        <p:spPr>
          <a:xfrm>
            <a:off x="650088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7"/>
          <p:cNvSpPr/>
          <p:nvPr/>
        </p:nvSpPr>
        <p:spPr>
          <a:xfrm>
            <a:off x="5718960" y="24289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"/>
          <p:cNvPicPr/>
          <p:nvPr/>
        </p:nvPicPr>
        <p:blipFill>
          <a:blip r:embed="rId6"/>
          <a:stretch/>
        </p:blipFill>
        <p:spPr>
          <a:xfrm>
            <a:off x="564372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9"/>
          <p:cNvSpPr/>
          <p:nvPr/>
        </p:nvSpPr>
        <p:spPr>
          <a:xfrm>
            <a:off x="4789800" y="228600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5" descr=""/>
          <p:cNvPicPr/>
          <p:nvPr/>
        </p:nvPicPr>
        <p:blipFill>
          <a:blip r:embed="rId7"/>
          <a:stretch/>
        </p:blipFill>
        <p:spPr>
          <a:xfrm>
            <a:off x="4857840" y="207180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4"/>
          <p:cNvSpPr/>
          <p:nvPr/>
        </p:nvSpPr>
        <p:spPr>
          <a:xfrm>
            <a:off x="4363200" y="4143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5" descr=""/>
          <p:cNvPicPr/>
          <p:nvPr/>
        </p:nvPicPr>
        <p:blipFill>
          <a:blip r:embed="rId8"/>
          <a:stretch/>
        </p:blipFill>
        <p:spPr>
          <a:xfrm>
            <a:off x="4429080" y="3357720"/>
            <a:ext cx="482760" cy="8683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6"/>
          <p:cNvSpPr/>
          <p:nvPr/>
        </p:nvSpPr>
        <p:spPr>
          <a:xfrm>
            <a:off x="1577520" y="47149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5" descr=""/>
          <p:cNvPicPr/>
          <p:nvPr/>
        </p:nvPicPr>
        <p:blipFill>
          <a:blip r:embed="rId9"/>
          <a:stretch/>
        </p:blipFill>
        <p:spPr>
          <a:xfrm>
            <a:off x="2000160" y="4286160"/>
            <a:ext cx="482760" cy="868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"/>
          <p:cNvPicPr/>
          <p:nvPr/>
        </p:nvPicPr>
        <p:blipFill>
          <a:blip r:embed="rId10"/>
          <a:stretch/>
        </p:blipFill>
        <p:spPr>
          <a:xfrm>
            <a:off x="1428840" y="264312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0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92593E-006 C 0.00469 0.01805 -0.00226 -0.00325 0.00677 0.00902 C 0.00972 0.01296 0.01146 0.01828 0.01371 0.02291 C 0.01476 0.02499 0.01736 0.02407 0.01892 0.02523 C 0.02552 0.03009 0.03785 0.03888 0.04305 0.04583 C 0.0493 0.05416 0.05069 0.06921 0.0533 0.08032 C 0.05382 0.08726 0.05503 0.10092 0.05503 0.10092 E">
                                      <p:cBhvr>
                                        <p:cTn id="164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C -0.00399 0.00416 -0.00833 0.00879 -0.01319 0.01319 C -0.01423 0.01435 -0.01736 0.01759 -0.021 0.01805 C -0.0276 0.01875 -0.03472 0.01875 -0.04132 0.01875 C -0.05833 0.01921 -0.07569 0.01944 -0.09253 0.01967 C -0.11163 0.02129 -0.09791 0.02152 -0.08993 0.02152 E">
                                      <p:cBhvr>
                                        <p:cTn id="165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C -0.00243 0.00602 -0.00035 0.01713 -0.00487 0.02083 C -0.01216 0.02685 -0.02344 0.02847 -0.03299 0.03125 C -0.03837 0.03264 -0.04688 0.0338 -0.05174 0.03634 C -0.05487 0.03819 -0.06094 0.04167 -0.06094 0.0419 C -0.06198 0.04305 -0.06285 0.04444 -0.06407 0.04537 C -0.06546 0.04653 -0.06754 0.04699 -0.06875 0.04815 C -0.06997 0.04907 -0.06962 0.05092 -0.07032 0.05208 C -0.07223 0.05486 -0.07657 0.05995 -0.07657 0.06018 E">
                                      <p:cBhvr>
                                        <p:cTn id="1673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92593E-006 C -0.00399 0.02222 -0.00781 0.04097 -0.01719 0.05972 C -0.01944 0.06435 -0.02187 0.06898 -0.02413 0.0736 C -0.02535 0.07592 -0.0276 0.08032 -0.0276 0.08032 C -0.0316 0.09722 -0.0283 0.09073 -0.03611 0.10115 C -0.03837 0.11365 -0.04167 0.12569 -0.04479 0.13796 C -0.04948 0.15624 -0.04357 0.13286 -0.04826 0.15161 C -0.04878 0.15393 -0.05 0.15856 -0.05 0.15856 C -0.05156 0.17962 -0.05 0.18958 -0.05 0.21134 E">
                                      <p:cBhvr>
                                        <p:cTn id="168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-0.02101 0.01296 -0.04184 0.01968 -0.06545 0.02732 C -0.07865 0.03125 -0.08559 0.03681 -0.09983 0.03681 C -0.14045 0.0375 -0.18142 0.03819 -0.22205 0.03843 C -0.22552 0.03982 -0.22865 0.04074 -0.23212 0.0419 C -0.23403 0.04213 -0.23733 0.04329 -0.23733 0.04352 C -0.23924 0.04491 -0.24115 0.04607 -0.24271 0.04815 C -0.24774 0.05556 -0.23958 0.05162 -0.24931 0.05463 C -0.25469 0.06227 -0.25208 0.05787 -0.25625 0.06898 C -0.25677 0.0706 -0.25747 0.07222 -0.25799 0.07384 C -0.25851 0.07546 -0.25955 0.08079 -0.25955 0.07894 C -0.25955 0.07824 -0.25955 0.07755 -0.25955 0.07708 E">
                                      <p:cBhvr>
                                        <p:cTn id="170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5833 C 0.01163 -0.08078 -0.00278 -0.09028 -0.01111 -0.10648 C -0.01545 -0.12384 -0.02569 -0.13148 -0.03698 -0.14097 C -0.03906 -0.14282 -0.0401 -0.14606 -0.04218 -0.14791 C -0.04548 -0.15069 -0.0493 -0.15208 -0.0526 -0.15486 C -0.06979 -0.1912 -0.05087 -0.23912 -0.05087 -0.27893 E">
                                      <p:cBhvr>
                                        <p:cTn id="171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0.02431 0.00741 0.05 0.04491 0.07084 0.06505 C 0.10122 0.09468 0.13247 0.12361 0.16406 0.15139 C 0.16684 0.15417 0.16823 0.15926 0.17101 0.16204 C 0.17361 0.16459 0.17691 0.16482 0.17952 0.1669 C 0.18889 0.17454 0.19861 0.18635 0.20712 0.19584 C 0.20886 0.19769 0.21042 0.19977 0.2125 0.20116 C 0.21597 0.20371 0.21979 0.20533 0.22292 0.2088 C 0.229 0.21505 0.23403 0.22338 0.24011 0.22986 C 0.24879 0.23843 0.25747 0.24537 0.26615 0.25347 C 0.27778 0.26435 0.26788 0.25926 0.27969 0.26389 C 0.28646 0.27037 0.29306 0.27408 0.30087 0.27709 C 0.30781 0.28403 0.31441 0.28843 0.32153 0.29514 C 0.32917 0.31273 0.33073 0.33542 0.33525 0.35533 C 0.33854 0.37014 0.34219 0.38472 0.34566 0.39977 C 0.35104 0.42292 0.34566 0.44838 0.34566 0.47315 E">
                                      <p:cBhvr>
                                        <p:cTn id="173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1%2580%25D0%25B5%25D0%25BA%25D0%25B5%26ndsp%3D18%26hl%3Dru%26sa%3DN%26start%3D36%26newwindow%3D1&amp;ei=0zcNSrDhPMiB_AaZ4dzG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rgo.ru/geography/fiz_geography/slovar/meand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.travel.ru/images2/2006/08/object93210/280806-1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tourism.ru/docs/report/cycle/54/111/614/img/norway-08_02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sochiexplorer.ru/images/kichmai/33/800x600/kichmai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6"/>
          <a:stretch/>
        </p:blipFill>
        <p:spPr>
          <a:xfrm>
            <a:off x="144360" y="144360"/>
            <a:ext cx="1352520" cy="10000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1457280" y="231840"/>
            <a:ext cx="63216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11430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к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ный поток, текущий в выработанном им углублении, называемом – 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0"/>
          <p:cNvSpPr/>
          <p:nvPr/>
        </p:nvSpPr>
        <p:spPr>
          <a:xfrm>
            <a:off x="-271440" y="4114800"/>
            <a:ext cx="3130560" cy="2994120"/>
          </a:xfrm>
          <a:custGeom>
            <a:avLst/>
            <a:gdLst/>
            <a:ahLst/>
            <a:rect l="l" t="t" r="r" b="b"/>
            <a:pathLst>
              <a:path w="3130496" h="2993673">
                <a:moveTo>
                  <a:pt x="284799" y="0"/>
                </a:moveTo>
                <a:cubicBezTo>
                  <a:pt x="0" y="854375"/>
                  <a:pt x="257089" y="1801043"/>
                  <a:pt x="257089" y="2701636"/>
                </a:cubicBezTo>
                <a:cubicBezTo>
                  <a:pt x="257089" y="2725184"/>
                  <a:pt x="270944" y="2770909"/>
                  <a:pt x="270944" y="2770909"/>
                </a:cubicBezTo>
                <a:cubicBezTo>
                  <a:pt x="370606" y="2804131"/>
                  <a:pt x="246142" y="2763822"/>
                  <a:pt x="367926" y="2798618"/>
                </a:cubicBezTo>
                <a:cubicBezTo>
                  <a:pt x="381968" y="2802630"/>
                  <a:pt x="395321" y="2808931"/>
                  <a:pt x="409489" y="2812473"/>
                </a:cubicBezTo>
                <a:cubicBezTo>
                  <a:pt x="432334" y="2818184"/>
                  <a:pt x="455917" y="2820616"/>
                  <a:pt x="478762" y="2826327"/>
                </a:cubicBezTo>
                <a:cubicBezTo>
                  <a:pt x="492930" y="2829869"/>
                  <a:pt x="506284" y="2836170"/>
                  <a:pt x="520326" y="2840182"/>
                </a:cubicBezTo>
                <a:cubicBezTo>
                  <a:pt x="538635" y="2845413"/>
                  <a:pt x="557435" y="2848805"/>
                  <a:pt x="575744" y="2854036"/>
                </a:cubicBezTo>
                <a:cubicBezTo>
                  <a:pt x="589786" y="2858048"/>
                  <a:pt x="602939" y="2865279"/>
                  <a:pt x="617308" y="2867891"/>
                </a:cubicBezTo>
                <a:cubicBezTo>
                  <a:pt x="653940" y="2874551"/>
                  <a:pt x="691199" y="2877127"/>
                  <a:pt x="728144" y="2881745"/>
                </a:cubicBezTo>
                <a:cubicBezTo>
                  <a:pt x="828754" y="2848210"/>
                  <a:pt x="747221" y="2871653"/>
                  <a:pt x="949817" y="2854036"/>
                </a:cubicBezTo>
                <a:cubicBezTo>
                  <a:pt x="996055" y="2850015"/>
                  <a:pt x="1042180" y="2844800"/>
                  <a:pt x="1088362" y="2840182"/>
                </a:cubicBezTo>
                <a:cubicBezTo>
                  <a:pt x="1102217" y="2835564"/>
                  <a:pt x="1118522" y="2835450"/>
                  <a:pt x="1129926" y="2826327"/>
                </a:cubicBezTo>
                <a:cubicBezTo>
                  <a:pt x="1159866" y="2802376"/>
                  <a:pt x="1176877" y="2727037"/>
                  <a:pt x="1185344" y="2701636"/>
                </a:cubicBezTo>
                <a:lnTo>
                  <a:pt x="1171489" y="2743200"/>
                </a:lnTo>
                <a:lnTo>
                  <a:pt x="1157635" y="2784764"/>
                </a:lnTo>
                <a:cubicBezTo>
                  <a:pt x="1209860" y="2993673"/>
                  <a:pt x="1150198" y="2830591"/>
                  <a:pt x="1642544" y="2854036"/>
                </a:cubicBezTo>
                <a:cubicBezTo>
                  <a:pt x="1679735" y="2855807"/>
                  <a:pt x="1716435" y="2863273"/>
                  <a:pt x="1753380" y="2867891"/>
                </a:cubicBezTo>
                <a:cubicBezTo>
                  <a:pt x="2012291" y="2830903"/>
                  <a:pt x="1729425" y="2867703"/>
                  <a:pt x="2279853" y="2840182"/>
                </a:cubicBezTo>
                <a:cubicBezTo>
                  <a:pt x="2599880" y="2824181"/>
                  <a:pt x="2266723" y="2834272"/>
                  <a:pt x="2473817" y="2812473"/>
                </a:cubicBezTo>
                <a:cubicBezTo>
                  <a:pt x="2538280" y="2805687"/>
                  <a:pt x="2603126" y="2803236"/>
                  <a:pt x="2667780" y="2798618"/>
                </a:cubicBezTo>
                <a:cubicBezTo>
                  <a:pt x="2832772" y="2743623"/>
                  <a:pt x="2651564" y="2799699"/>
                  <a:pt x="3083417" y="2770909"/>
                </a:cubicBezTo>
                <a:cubicBezTo>
                  <a:pt x="3097988" y="2769938"/>
                  <a:pt x="3124980" y="2757055"/>
                  <a:pt x="3124980" y="2757055"/>
                </a:cubicBezTo>
                <a:cubicBezTo>
                  <a:pt x="3061577" y="2661949"/>
                  <a:pt x="3130496" y="2779121"/>
                  <a:pt x="3083417" y="2590800"/>
                </a:cubicBezTo>
                <a:cubicBezTo>
                  <a:pt x="3079379" y="2574646"/>
                  <a:pt x="3064944" y="2563091"/>
                  <a:pt x="3055708" y="2549236"/>
                </a:cubicBezTo>
                <a:cubicBezTo>
                  <a:pt x="3025710" y="2429249"/>
                  <a:pt x="3062444" y="2559151"/>
                  <a:pt x="3014144" y="2438400"/>
                </a:cubicBezTo>
                <a:cubicBezTo>
                  <a:pt x="3003296" y="2411281"/>
                  <a:pt x="2999497" y="2381397"/>
                  <a:pt x="2986435" y="2355273"/>
                </a:cubicBezTo>
                <a:cubicBezTo>
                  <a:pt x="2977199" y="2336800"/>
                  <a:pt x="2966862" y="2318838"/>
                  <a:pt x="2958726" y="2299855"/>
                </a:cubicBezTo>
                <a:cubicBezTo>
                  <a:pt x="2952973" y="2286432"/>
                  <a:pt x="2952117" y="2270971"/>
                  <a:pt x="2944871" y="2258291"/>
                </a:cubicBezTo>
                <a:cubicBezTo>
                  <a:pt x="2933415" y="2238243"/>
                  <a:pt x="2917162" y="2221346"/>
                  <a:pt x="2903308" y="2202873"/>
                </a:cubicBezTo>
                <a:cubicBezTo>
                  <a:pt x="2868484" y="2098404"/>
                  <a:pt x="2915458" y="2227172"/>
                  <a:pt x="2861744" y="2119745"/>
                </a:cubicBezTo>
                <a:cubicBezTo>
                  <a:pt x="2855213" y="2106683"/>
                  <a:pt x="2858216" y="2088508"/>
                  <a:pt x="2847889" y="2078182"/>
                </a:cubicBezTo>
                <a:cubicBezTo>
                  <a:pt x="2824341" y="2054634"/>
                  <a:pt x="2764762" y="2022764"/>
                  <a:pt x="2764762" y="2022764"/>
                </a:cubicBezTo>
                <a:cubicBezTo>
                  <a:pt x="2713489" y="1920215"/>
                  <a:pt x="2765700" y="2010034"/>
                  <a:pt x="2695489" y="1925782"/>
                </a:cubicBezTo>
                <a:cubicBezTo>
                  <a:pt x="2684829" y="1912990"/>
                  <a:pt x="2680782" y="1894620"/>
                  <a:pt x="2667780" y="1884218"/>
                </a:cubicBezTo>
                <a:cubicBezTo>
                  <a:pt x="2656376" y="1875095"/>
                  <a:pt x="2640071" y="1874982"/>
                  <a:pt x="2626217" y="1870364"/>
                </a:cubicBezTo>
                <a:lnTo>
                  <a:pt x="2543089" y="1814945"/>
                </a:lnTo>
                <a:cubicBezTo>
                  <a:pt x="2529235" y="1805709"/>
                  <a:pt x="2514847" y="1797226"/>
                  <a:pt x="2501526" y="1787236"/>
                </a:cubicBezTo>
                <a:cubicBezTo>
                  <a:pt x="2477736" y="1769394"/>
                  <a:pt x="2432907" y="1734171"/>
                  <a:pt x="2404544" y="1717964"/>
                </a:cubicBezTo>
                <a:cubicBezTo>
                  <a:pt x="2386612" y="1707717"/>
                  <a:pt x="2366836" y="1700881"/>
                  <a:pt x="2349126" y="1690255"/>
                </a:cubicBezTo>
                <a:cubicBezTo>
                  <a:pt x="2320570" y="1673121"/>
                  <a:pt x="2295786" y="1649729"/>
                  <a:pt x="2265999" y="1634836"/>
                </a:cubicBezTo>
                <a:cubicBezTo>
                  <a:pt x="2197518" y="1600596"/>
                  <a:pt x="2230174" y="1613658"/>
                  <a:pt x="2169017" y="1593273"/>
                </a:cubicBezTo>
                <a:cubicBezTo>
                  <a:pt x="2089607" y="1474156"/>
                  <a:pt x="2195345" y="1614335"/>
                  <a:pt x="2099744" y="1537855"/>
                </a:cubicBezTo>
                <a:cubicBezTo>
                  <a:pt x="2086742" y="1527453"/>
                  <a:pt x="2082695" y="1509083"/>
                  <a:pt x="2072035" y="1496291"/>
                </a:cubicBezTo>
                <a:cubicBezTo>
                  <a:pt x="2059492" y="1481239"/>
                  <a:pt x="2043222" y="1469603"/>
                  <a:pt x="2030471" y="1454727"/>
                </a:cubicBezTo>
                <a:cubicBezTo>
                  <a:pt x="2015444" y="1437195"/>
                  <a:pt x="2005236" y="1415637"/>
                  <a:pt x="1988908" y="1399309"/>
                </a:cubicBezTo>
                <a:cubicBezTo>
                  <a:pt x="1962051" y="1372452"/>
                  <a:pt x="1939584" y="1369013"/>
                  <a:pt x="1905780" y="1357745"/>
                </a:cubicBezTo>
                <a:cubicBezTo>
                  <a:pt x="1891926" y="1343891"/>
                  <a:pt x="1880519" y="1327050"/>
                  <a:pt x="1864217" y="1316182"/>
                </a:cubicBezTo>
                <a:cubicBezTo>
                  <a:pt x="1743911" y="1235978"/>
                  <a:pt x="1913685" y="1393356"/>
                  <a:pt x="1781089" y="1260764"/>
                </a:cubicBezTo>
                <a:cubicBezTo>
                  <a:pt x="1759819" y="1196951"/>
                  <a:pt x="1764212" y="1189475"/>
                  <a:pt x="1684108" y="1136073"/>
                </a:cubicBezTo>
                <a:lnTo>
                  <a:pt x="1600980" y="1080655"/>
                </a:lnTo>
                <a:cubicBezTo>
                  <a:pt x="1575580" y="1004452"/>
                  <a:pt x="1602388" y="1072726"/>
                  <a:pt x="1559417" y="997527"/>
                </a:cubicBezTo>
                <a:cubicBezTo>
                  <a:pt x="1549170" y="979595"/>
                  <a:pt x="1544786" y="958094"/>
                  <a:pt x="1531708" y="942109"/>
                </a:cubicBezTo>
                <a:cubicBezTo>
                  <a:pt x="1502758" y="906725"/>
                  <a:pt x="1467053" y="877454"/>
                  <a:pt x="1434726" y="845127"/>
                </a:cubicBezTo>
                <a:cubicBezTo>
                  <a:pt x="1420871" y="831273"/>
                  <a:pt x="1410687" y="812326"/>
                  <a:pt x="1393162" y="803564"/>
                </a:cubicBezTo>
                <a:cubicBezTo>
                  <a:pt x="1359281" y="786624"/>
                  <a:pt x="1325556" y="772626"/>
                  <a:pt x="1296180" y="748145"/>
                </a:cubicBezTo>
                <a:cubicBezTo>
                  <a:pt x="1281128" y="735602"/>
                  <a:pt x="1270560" y="717970"/>
                  <a:pt x="1254617" y="706582"/>
                </a:cubicBezTo>
                <a:cubicBezTo>
                  <a:pt x="1237811" y="694578"/>
                  <a:pt x="1216005" y="690877"/>
                  <a:pt x="1199199" y="678873"/>
                </a:cubicBezTo>
                <a:cubicBezTo>
                  <a:pt x="1108392" y="614011"/>
                  <a:pt x="1205229" y="653173"/>
                  <a:pt x="1116071" y="623455"/>
                </a:cubicBezTo>
                <a:cubicBezTo>
                  <a:pt x="1020793" y="559935"/>
                  <a:pt x="1064537" y="578567"/>
                  <a:pt x="991380" y="554182"/>
                </a:cubicBezTo>
                <a:cubicBezTo>
                  <a:pt x="928716" y="460186"/>
                  <a:pt x="959510" y="494604"/>
                  <a:pt x="908253" y="443345"/>
                </a:cubicBezTo>
                <a:cubicBezTo>
                  <a:pt x="873431" y="338877"/>
                  <a:pt x="920404" y="467647"/>
                  <a:pt x="866689" y="360218"/>
                </a:cubicBezTo>
                <a:cubicBezTo>
                  <a:pt x="860158" y="347156"/>
                  <a:pt x="860348" y="331178"/>
                  <a:pt x="852835" y="318655"/>
                </a:cubicBezTo>
                <a:cubicBezTo>
                  <a:pt x="846115" y="307454"/>
                  <a:pt x="833286" y="301145"/>
                  <a:pt x="825126" y="290945"/>
                </a:cubicBezTo>
                <a:cubicBezTo>
                  <a:pt x="787458" y="243859"/>
                  <a:pt x="808121" y="248471"/>
                  <a:pt x="755853" y="207818"/>
                </a:cubicBezTo>
                <a:cubicBezTo>
                  <a:pt x="729566" y="187372"/>
                  <a:pt x="704319" y="162931"/>
                  <a:pt x="672726" y="152400"/>
                </a:cubicBezTo>
                <a:lnTo>
                  <a:pt x="589599" y="124691"/>
                </a:lnTo>
                <a:cubicBezTo>
                  <a:pt x="515181" y="75080"/>
                  <a:pt x="528916" y="73706"/>
                  <a:pt x="464908" y="55418"/>
                </a:cubicBezTo>
                <a:cubicBezTo>
                  <a:pt x="446599" y="50187"/>
                  <a:pt x="427727" y="47035"/>
                  <a:pt x="409489" y="41564"/>
                </a:cubicBezTo>
                <a:cubicBezTo>
                  <a:pt x="381513" y="33171"/>
                  <a:pt x="354071" y="23091"/>
                  <a:pt x="326362" y="13855"/>
                </a:cubicBezTo>
                <a:cubicBezTo>
                  <a:pt x="312508" y="9237"/>
                  <a:pt x="299403" y="0"/>
                  <a:pt x="284799" y="0"/>
                </a:cubicBezTo>
                <a:lnTo>
                  <a:pt x="284799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Скругленная соединительная линия 12"/>
          <p:cNvCxnSpPr>
            <a:endCxn id="54" idx="46"/>
          </p:cNvCxnSpPr>
          <p:nvPr/>
        </p:nvCxnSpPr>
        <p:spPr>
          <a:xfrm flipV="1" rot="10800000">
            <a:off x="1634400" y="2142000"/>
            <a:ext cx="4866480" cy="33296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cxnSp>
        <p:nvCxnSpPr>
          <p:cNvPr id="56" name="Скругленная соединительная линия 14"/>
          <p:cNvCxnSpPr>
            <a:endCxn id="54" idx="43"/>
          </p:cNvCxnSpPr>
          <p:nvPr/>
        </p:nvCxnSpPr>
        <p:spPr>
          <a:xfrm flipV="1" rot="10800000">
            <a:off x="1801080" y="2356920"/>
            <a:ext cx="4770720" cy="325512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sp>
        <p:nvSpPr>
          <p:cNvPr id="57" name="TextBox 15"/>
          <p:cNvSpPr/>
          <p:nvPr/>
        </p:nvSpPr>
        <p:spPr>
          <a:xfrm>
            <a:off x="3714840" y="2786040"/>
            <a:ext cx="121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Скругленная соединительная линия 16"/>
          <p:cNvCxnSpPr/>
          <p:nvPr/>
        </p:nvCxnSpPr>
        <p:spPr>
          <a:xfrm flipV="1" rot="10800000">
            <a:off x="1499400" y="2214360"/>
            <a:ext cx="5215680" cy="335808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76320">
            <a:solidFill>
              <a:srgbClr val="4a7ebb"/>
            </a:solidFill>
            <a:miter/>
          </a:ln>
        </p:spPr>
      </p:cxnSp>
      <p:sp>
        <p:nvSpPr>
          <p:cNvPr id="59" name="TextBox 22"/>
          <p:cNvSpPr/>
          <p:nvPr/>
        </p:nvSpPr>
        <p:spPr>
          <a:xfrm>
            <a:off x="5357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24"/>
          <p:cNvCxnSpPr>
            <a:stCxn id="59" idx="1"/>
          </p:cNvCxnSpPr>
          <p:nvPr/>
        </p:nvCxnSpPr>
        <p:spPr>
          <a:xfrm flipH="1" flipV="1">
            <a:off x="5000400" y="2785680"/>
            <a:ext cx="357840" cy="30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27"/>
          <p:cNvCxnSpPr/>
          <p:nvPr/>
        </p:nvCxnSpPr>
        <p:spPr>
          <a:xfrm flipH="1">
            <a:off x="3285360" y="4642200"/>
            <a:ext cx="500760" cy="358200"/>
          </a:xfrm>
          <a:prstGeom prst="straightConnector1">
            <a:avLst/>
          </a:prstGeom>
          <a:ln w="572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62" name="Стрелка вниз 28"/>
          <p:cNvSpPr/>
          <p:nvPr/>
        </p:nvSpPr>
        <p:spPr>
          <a:xfrm>
            <a:off x="6286680" y="164304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9"/>
          <p:cNvSpPr/>
          <p:nvPr/>
        </p:nvSpPr>
        <p:spPr>
          <a:xfrm>
            <a:off x="6715080" y="2143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700092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31"/>
          <p:cNvSpPr/>
          <p:nvPr/>
        </p:nvSpPr>
        <p:spPr>
          <a:xfrm>
            <a:off x="1571760" y="550080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1857240" y="542916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3714840" y="492912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е те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5"/>
          <p:cNvSpPr/>
          <p:nvPr/>
        </p:nvSpPr>
        <p:spPr>
          <a:xfrm>
            <a:off x="8500320" y="1857240"/>
            <a:ext cx="71640" cy="5002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3000240" y="6072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река имеет течени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9"/>
          <p:cNvSpPr/>
          <p:nvPr/>
        </p:nvSpPr>
        <p:spPr>
          <a:xfrm flipV="1">
            <a:off x="7000920" y="2286000"/>
            <a:ext cx="1571760" cy="1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0"/>
          <p:cNvSpPr/>
          <p:nvPr/>
        </p:nvSpPr>
        <p:spPr>
          <a:xfrm flipV="1">
            <a:off x="1428840" y="5571720"/>
            <a:ext cx="7143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7786800" y="2214720"/>
            <a:ext cx="13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ка – 300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ь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- 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Скругленная соединительная линия 45"/>
          <p:cNvCxnSpPr/>
          <p:nvPr/>
        </p:nvCxnSpPr>
        <p:spPr>
          <a:xfrm rot="5400000">
            <a:off x="2428200" y="3214440"/>
            <a:ext cx="271548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74" name="Скругленная соединительная линия 47"/>
          <p:cNvCxnSpPr/>
          <p:nvPr/>
        </p:nvCxnSpPr>
        <p:spPr>
          <a:xfrm flipV="1" rot="10800000">
            <a:off x="4214160" y="3357360"/>
            <a:ext cx="3215520" cy="714960"/>
          </a:xfrm>
          <a:prstGeom prst="curvedConnector5">
            <a:avLst>
              <a:gd name="adj1" fmla="val 49994"/>
              <a:gd name="adj2" fmla="val 49974"/>
              <a:gd name="adj3" fmla="val 49994"/>
            </a:avLst>
          </a:prstGeom>
          <a:ln w="57240">
            <a:solidFill>
              <a:srgbClr val="4a7ebb"/>
            </a:solidFill>
            <a:miter/>
          </a:ln>
        </p:spPr>
      </p:cxnSp>
      <p:sp>
        <p:nvSpPr>
          <p:cNvPr id="75" name="TextBox 48"/>
          <p:cNvSpPr/>
          <p:nvPr/>
        </p:nvSpPr>
        <p:spPr>
          <a:xfrm>
            <a:off x="185724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50"/>
          <p:cNvCxnSpPr/>
          <p:nvPr/>
        </p:nvCxnSpPr>
        <p:spPr>
          <a:xfrm flipV="1">
            <a:off x="3286080" y="2428200"/>
            <a:ext cx="64332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7" name="Прямая со стрелкой 51"/>
          <p:cNvCxnSpPr/>
          <p:nvPr/>
        </p:nvCxnSpPr>
        <p:spPr>
          <a:xfrm>
            <a:off x="3286080" y="2857320"/>
            <a:ext cx="222480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TextBox 56"/>
          <p:cNvSpPr/>
          <p:nvPr/>
        </p:nvSpPr>
        <p:spPr>
          <a:xfrm>
            <a:off x="3143160" y="578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пределить какой приток правый, а какой левы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286080" y="335772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9"/>
          <p:cNvSpPr/>
          <p:nvPr/>
        </p:nvSpPr>
        <p:spPr>
          <a:xfrm>
            <a:off x="2571840" y="18572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0"/>
          <p:cNvSpPr/>
          <p:nvPr/>
        </p:nvSpPr>
        <p:spPr>
          <a:xfrm>
            <a:off x="6000840" y="35002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61"/>
          <p:cNvSpPr/>
          <p:nvPr/>
        </p:nvSpPr>
        <p:spPr>
          <a:xfrm>
            <a:off x="6143760" y="157176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лево 62"/>
          <p:cNvSpPr/>
          <p:nvPr/>
        </p:nvSpPr>
        <p:spPr>
          <a:xfrm>
            <a:off x="3929040" y="185724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63"/>
          <p:cNvSpPr/>
          <p:nvPr/>
        </p:nvSpPr>
        <p:spPr>
          <a:xfrm>
            <a:off x="7429680" y="285768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5"/>
          <p:cNvSpPr/>
          <p:nvPr/>
        </p:nvSpPr>
        <p:spPr>
          <a:xfrm>
            <a:off x="3786120" y="45007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+притоки= речная систе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834 C -0.0184 -0.01737 -0.02534 -0.00556 -0.04114 0.00069 C -0.05191 0.01064 -0.06666 0.01365 -0.07899 0.01921 C -0.10052 0.0287 -0.12187 0.04074 -0.14444 0.04444 C -0.16006 0.05138 -0.17552 0.05833 -0.19114 0.06527 C -0.1993 0.06898 -0.20312 0.08194 -0.21006 0.08819 C -0.21284 0.0993 -0.21545 0.1074 -0.22378 0.11111 C -0.22708 0.12453 -0.22291 0.11226 -0.23072 0.12268 C -0.24166 0.13726 -0.22621 0.12291 -0.23941 0.13402 C -0.24045 0.13634 -0.24131 0.13912 -0.2427 0.14097 C -0.24409 0.14305 -0.24652 0.14351 -0.24791 0.1456 C -0.24913 0.14745 -0.24878 0.15046 -0.24965 0.15254 C -0.25173 0.1574 -0.2552 0.16111 -0.25659 0.16643 C -0.25885 0.17569 -0.26128 0.18472 -0.26354 0.19398 C -0.26736 0.20902 -0.26718 0.2287 -0.27378 0.24213 C -0.27604 0.24676 -0.27934 0.25069 -0.28072 0.25601 C -0.28125 0.25833 -0.28159 0.26088 -0.28246 0.26296 C -0.29166 0.28495 -0.2875 0.26851 -0.29114 0.28356 C -0.29444 0.29745 -0.29791 0.31111 -0.30138 0.325 C -0.30208 0.32777 -0.30364 0.33796 -0.30486 0.34097 C -0.30694 0.34583 -0.31041 0.34953 -0.3118 0.35486 C -0.31302 0.35949 -0.31232 0.36574 -0.31527 0.36851 C -0.33177 0.38356 -0.31822 0.37314 -0.3618 0.37546 C -0.36527 0.37708 -0.36857 0.37847 -0.37204 0.38009 C -0.37604 0.38194 -0.37673 0.38935 -0.37899 0.39398 C -0.3802 0.39629 -0.38263 0.39676 -0.3842 0.39861 C -0.38611 0.40069 -0.38732 0.4037 -0.38941 0.40532 C -0.39253 0.40763 -0.39965 0.40995 -0.39965 0.41018 C -0.40364 0.41805 -0.40659 0.42083 -0.41354 0.42384 C -0.41527 0.42546 -0.41736 0.42638 -0.41857 0.42847 C -0.41961 0.43032 -0.41892 0.43379 -0.42031 0.43518 C -0.42326 0.43796 -0.42725 0.43819 -0.43072 0.43981 C -0.43888 0.44351 -0.44652 0.44676 -0.45486 0.44907 C -0.47691 0.44745 -0.48802 0.44398 -0.50833 0.44676 C -0.51614 0.45717 -0.51128 0.45277 -0.52378 0.45833 C -0.52552 0.45902 -0.52899 0.46064 -0.52899 0.46088 C -0.53506 0.46851 -0.53211 0.46597 -0.53767 0.46967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5 -0.00416 -0.01649 -0.00393 -0.05521 0 C -0.06215 0.0007 -0.06962 0.00996 -0.07587 0.01366 C -0.09774 0.02639 -0.12187 0.03218 -0.14323 0.04607 C -0.14705 0.04861 -0.14948 0.04746 -0.15347 0.05047 C -0.15694 0.05324 -0.15972 0.05787 -0.16371 0.05972 C -0.17257 0.06366 -0.1816 0.07014 -0.18958 0.07593 C -0.20989 0.09074 -0.19028 0.08056 -0.21024 0.08959 C -0.22326 0.09537 -0.22899 0.11459 -0.23958 0.12408 C -0.24184 0.13334 -0.24392 0.13727 -0.25 0.14259 C -0.25104 0.14491 -0.25191 0.14746 -0.2533 0.14931 C -0.25469 0.15116 -0.25712 0.15185 -0.25851 0.15394 C -0.25972 0.15579 -0.2592 0.1588 -0.26024 0.16088 C -0.26389 0.16806 -0.26875 0.17431 -0.27239 0.18148 C -0.27274 0.18218 -0.27899 0.19445 -0.27917 0.19537 C -0.27969 0.19769 -0.27969 0.20047 -0.2809 0.20232 C -0.28229 0.2044 -0.28437 0.20533 -0.28611 0.20695 C -0.29184 0.22986 -0.29844 0.25255 -0.3033 0.27593 C -0.30833 0.3 -0.31354 0.32639 -0.32413 0.34699 C -0.33003 0.37084 -0.32396 0.35278 -0.33264 0.36783 C -0.34219 0.38426 -0.33507 0.3794 -0.34479 0.3838 C -0.35486 0.40417 -0.34149 0.38009 -0.3533 0.39306 C -0.35486 0.39491 -0.35503 0.39861 -0.35677 0.4 C -0.36979 0.41088 -0.39861 0.41459 -0.41198 0.41597 C -0.41545 0.41759 -0.41892 0.41898 -0.42239 0.4206 C -0.42413 0.4213 -0.4276 0.42292 -0.4276 0.42292 C -0.44184 0.43588 -0.43489 0.42824 -0.44826 0.44607 C -0.44965 0.44792 -0.45017 0.45116 -0.45173 0.45278 C -0.45312 0.45417 -0.45521 0.45394 -0.45677 0.45509 C -0.46215 0.45926 -0.46632 0.4669 -0.47239 0.46898 C -0.4809 0.47199 -0.47691 0.47037 -0.48437 0.47361 C -0.49601 0.46852 -0.48351 0.47547 -0.49305 0.46435 C -0.49618 0.46065 -0.5033 0.45509 -0.5033 0.45509 C -0.52239 0.45764 -0.52292 0.45556 -0.53785 0.46898 C -0.53941 0.47037 -0.54149 0.47014 -0.54305 0.4713 C -0.5467 0.47384 -0.5533 0.48033 -0.5533 0.48033 E">
                                      <p:cBhvr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5 0.00926 0.00468 0.01852 0.00677 0.02778 C 0.00625 0.05995 0.00659 0.09213 0.0052 0.1243 C 0.00468 0.13634 -0.00191 0.15 -0.00521 0.16111 C -0.0066 0.16551 -0.00868 0.17477 -0.00868 0.17477 C -0.00973 0.23935 -0.00521 0.26643 -0.01736 0.31504 C -0.01875 0.33866 -0.02066 0.3625 -0.02066 0.38634 E">
                                      <p:cBhvr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0.0007 -0.01146 0.00093 -0.01719 0.00232 C -0.02257 0.0037 -0.02726 0.0088 -0.03264 0.00903 C -0.05625 0.00972 -0.07969 0.01065 -0.1033 0.01134 C -0.12969 0.02315 -0.15643 0.03171 -0.18264 0.04352 C -0.19132 0.04745 -0.19983 0.05116 -0.20851 0.05509 C -0.21198 0.05671 -0.21893 0.05972 -0.21893 0.05972 C -0.23646 0.0831 -0.2625 0.08727 -0.28612 0.08958 C -0.29532 0.09213 -0.30487 0.09259 -0.31372 0.09653 C -0.32657 0.09468 -0.33872 0.0912 -0.35 0.10116 C -0.35191 0.10949 -0.35 0.10903 -0.35504 0.10556 E">
                                      <p:cBhvr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4" descr=""/>
          <p:cNvPicPr/>
          <p:nvPr/>
        </p:nvPicPr>
        <p:blipFill>
          <a:blip r:embed="rId2"/>
          <a:stretch/>
        </p:blipFill>
        <p:spPr>
          <a:xfrm>
            <a:off x="1743120" y="19080"/>
            <a:ext cx="587700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Двойная стрелка влево/вправо 25"/>
          <p:cNvSpPr/>
          <p:nvPr/>
        </p:nvSpPr>
        <p:spPr>
          <a:xfrm>
            <a:off x="1357200" y="2928960"/>
            <a:ext cx="7786800" cy="28584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3571920" y="25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ная до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5214960" y="2286000"/>
            <a:ext cx="28814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ечные терра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 flipV="1" rot="21441000">
            <a:off x="716040" y="1382760"/>
            <a:ext cx="1096920" cy="81000"/>
          </a:xfrm>
          <a:prstGeom prst="leftArrow">
            <a:avLst>
              <a:gd name="adj1" fmla="val 50000"/>
              <a:gd name="adj2" fmla="val 27322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 flipV="1" rot="16744200">
            <a:off x="4208040" y="3646080"/>
            <a:ext cx="2014560" cy="109440"/>
          </a:xfrm>
          <a:prstGeom prst="leftArrow">
            <a:avLst>
              <a:gd name="adj1" fmla="val 50000"/>
              <a:gd name="adj2" fmla="val 236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857240" y="121428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лон дол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4"/>
          <p:cNvSpPr/>
          <p:nvPr/>
        </p:nvSpPr>
        <p:spPr>
          <a:xfrm rot="3670800">
            <a:off x="5163840" y="3197160"/>
            <a:ext cx="1143000" cy="69840"/>
          </a:xfrm>
          <a:prstGeom prst="rightArrow">
            <a:avLst>
              <a:gd name="adj1" fmla="val 50000"/>
              <a:gd name="adj2" fmla="val 409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стрелка влево/вправо 35"/>
          <p:cNvSpPr/>
          <p:nvPr/>
        </p:nvSpPr>
        <p:spPr>
          <a:xfrm>
            <a:off x="2786040" y="4572000"/>
            <a:ext cx="192888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2357280" y="4071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ма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38"/>
          <p:cNvSpPr/>
          <p:nvPr/>
        </p:nvSpPr>
        <p:spPr>
          <a:xfrm>
            <a:off x="3357720" y="464328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2714760" y="5786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1065 0.00052 0.02153 0.00174 0.03217 C 0.00278 0.04074 0.00642 0.05116 0.00851 0.05972 C 0.01198 0.07454 0.01389 0.09074 0.01719 0.10579 C 0.02135 0.125 0.02413 0.14259 0.03958 0.14954 C 0.04531 0.14884 0.05174 0.15069 0.05694 0.14722 C 0.06372 0.14259 0.06684 0.12083 0.06892 0.11273 C 0.075 0.08842 0.06545 0.12454 0.07413 0.09884 C 0.07778 0.08796 0.08004 0.07569 0.08281 0.06435 C 0.0849 0.05579 0.08576 0.04444 0.08958 0.0368 C 0.09358 0.02893 0.09653 0.02106 0.09653 0.01157 E">
                                      <p:cBhvr>
                                        <p:cTn id="24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1857240"/>
            <a:ext cx="5572080" cy="4143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5786280" y="1785960"/>
            <a:ext cx="307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аздел – это линия раздела речных бассейн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сейн реки – это площадь суши, с которой стекает вода к главной реке и ее приток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илиния 11"/>
          <p:cNvSpPr/>
          <p:nvPr/>
        </p:nvSpPr>
        <p:spPr>
          <a:xfrm>
            <a:off x="1565280" y="2685960"/>
            <a:ext cx="1825560" cy="234000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1825037" h="2338681">
                <a:moveTo>
                  <a:pt x="94074" y="0"/>
                </a:moveTo>
                <a:cubicBezTo>
                  <a:pt x="47037" y="268111"/>
                  <a:pt x="0" y="536222"/>
                  <a:pt x="184385" y="891822"/>
                </a:cubicBezTo>
                <a:cubicBezTo>
                  <a:pt x="368770" y="1247422"/>
                  <a:pt x="933215" y="1928519"/>
                  <a:pt x="1200385" y="2133600"/>
                </a:cubicBezTo>
                <a:cubicBezTo>
                  <a:pt x="1467555" y="2338681"/>
                  <a:pt x="1749777" y="2223911"/>
                  <a:pt x="1787407" y="2122311"/>
                </a:cubicBezTo>
                <a:cubicBezTo>
                  <a:pt x="1825037" y="2020711"/>
                  <a:pt x="1623718" y="1858904"/>
                  <a:pt x="1426163" y="1524000"/>
                </a:cubicBezTo>
                <a:cubicBezTo>
                  <a:pt x="1228608" y="1189096"/>
                  <a:pt x="760119" y="366888"/>
                  <a:pt x="602074" y="1128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лилиния 12"/>
          <p:cNvSpPr/>
          <p:nvPr/>
        </p:nvSpPr>
        <p:spPr>
          <a:xfrm>
            <a:off x="2359080" y="2065320"/>
            <a:ext cx="1584360" cy="25509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50960"/>
              <a:gd name="textAreaBottom" fmla="*/ 2551320 h 2550960"/>
            </a:gdLst>
            <a:ahLst/>
            <a:rect l="textAreaLeft" t="textAreaTop" r="textAreaRight" b="textAreaBottom"/>
            <a:pathLst>
              <a:path w="1584207" h="2551289">
                <a:moveTo>
                  <a:pt x="0" y="0"/>
                </a:moveTo>
                <a:cubicBezTo>
                  <a:pt x="596429" y="442148"/>
                  <a:pt x="1192859" y="884296"/>
                  <a:pt x="1388533" y="1174044"/>
                </a:cubicBezTo>
                <a:cubicBezTo>
                  <a:pt x="1584207" y="1463792"/>
                  <a:pt x="1174044" y="1586089"/>
                  <a:pt x="1174044" y="1738489"/>
                </a:cubicBezTo>
                <a:cubicBezTo>
                  <a:pt x="1174044" y="1890889"/>
                  <a:pt x="1429925" y="1952977"/>
                  <a:pt x="1388533" y="2088444"/>
                </a:cubicBezTo>
                <a:cubicBezTo>
                  <a:pt x="1347141" y="2223911"/>
                  <a:pt x="925689" y="2551289"/>
                  <a:pt x="925689" y="255128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лилиния 13"/>
          <p:cNvSpPr/>
          <p:nvPr/>
        </p:nvSpPr>
        <p:spPr>
          <a:xfrm>
            <a:off x="3657600" y="2100240"/>
            <a:ext cx="1216080" cy="193212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1215437" h="1932282">
                <a:moveTo>
                  <a:pt x="790222" y="0"/>
                </a:moveTo>
                <a:cubicBezTo>
                  <a:pt x="1002829" y="330200"/>
                  <a:pt x="1215437" y="660400"/>
                  <a:pt x="1196622" y="959556"/>
                </a:cubicBezTo>
                <a:cubicBezTo>
                  <a:pt x="1177807" y="1258712"/>
                  <a:pt x="767644" y="1657586"/>
                  <a:pt x="677333" y="1794934"/>
                </a:cubicBezTo>
                <a:cubicBezTo>
                  <a:pt x="587022" y="1932282"/>
                  <a:pt x="737541" y="1806223"/>
                  <a:pt x="654756" y="1783645"/>
                </a:cubicBezTo>
                <a:cubicBezTo>
                  <a:pt x="571971" y="1761067"/>
                  <a:pt x="289748" y="1635008"/>
                  <a:pt x="180622" y="1659467"/>
                </a:cubicBezTo>
                <a:cubicBezTo>
                  <a:pt x="71496" y="1683926"/>
                  <a:pt x="35748" y="1887126"/>
                  <a:pt x="0" y="1930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5"/>
          <p:cNvCxnSpPr/>
          <p:nvPr/>
        </p:nvCxnSpPr>
        <p:spPr>
          <a:xfrm flipH="1" flipV="1">
            <a:off x="4357080" y="3142440"/>
            <a:ext cx="150084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17"/>
          <p:cNvCxnSpPr/>
          <p:nvPr/>
        </p:nvCxnSpPr>
        <p:spPr>
          <a:xfrm flipH="1" flipV="1">
            <a:off x="3142440" y="3499560"/>
            <a:ext cx="271548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19"/>
          <p:cNvCxnSpPr/>
          <p:nvPr/>
        </p:nvCxnSpPr>
        <p:spPr>
          <a:xfrm flipH="1" flipV="1">
            <a:off x="2714040" y="4357080"/>
            <a:ext cx="314388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20"/>
          <p:cNvSpPr/>
          <p:nvPr/>
        </p:nvSpPr>
        <p:spPr>
          <a:xfrm>
            <a:off x="3429000" y="2428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Ле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357280" y="2786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Енис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1785960" y="3500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Об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494000"/>
            <a:ext cx="8229600" cy="46447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231840"/>
            <a:ext cx="71737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оризонтальный свиток 5"/>
          <p:cNvGrpSpPr/>
          <p:nvPr/>
        </p:nvGrpSpPr>
        <p:grpSpPr>
          <a:xfrm>
            <a:off x="2200320" y="6205680"/>
            <a:ext cx="5456160" cy="664920"/>
            <a:chOff x="2200320" y="6205680"/>
            <a:chExt cx="5456160" cy="664920"/>
          </a:xfrm>
        </p:grpSpPr>
        <p:pic>
          <p:nvPicPr>
            <p:cNvPr id="118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2200320" y="6205680"/>
              <a:ext cx="54561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95360" y="6296040"/>
              <a:ext cx="530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Практическая работ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е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2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4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6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4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0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2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4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0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2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4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Полилиния 8"/>
          <p:cNvSpPr/>
          <p:nvPr/>
        </p:nvSpPr>
        <p:spPr>
          <a:xfrm>
            <a:off x="139680" y="97776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ег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множение 36"/>
          <p:cNvSpPr/>
          <p:nvPr/>
        </p:nvSpPr>
        <p:spPr>
          <a:xfrm>
            <a:off x="4143240" y="16430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множение 37"/>
          <p:cNvSpPr/>
          <p:nvPr/>
        </p:nvSpPr>
        <p:spPr>
          <a:xfrm>
            <a:off x="485784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множение 38"/>
          <p:cNvSpPr/>
          <p:nvPr/>
        </p:nvSpPr>
        <p:spPr>
          <a:xfrm>
            <a:off x="578628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множение 39"/>
          <p:cNvSpPr/>
          <p:nvPr/>
        </p:nvSpPr>
        <p:spPr>
          <a:xfrm>
            <a:off x="4357800" y="235728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множение 40"/>
          <p:cNvSpPr/>
          <p:nvPr/>
        </p:nvSpPr>
        <p:spPr>
          <a:xfrm>
            <a:off x="507204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множение 41"/>
          <p:cNvSpPr/>
          <p:nvPr/>
        </p:nvSpPr>
        <p:spPr>
          <a:xfrm>
            <a:off x="607212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множение 42"/>
          <p:cNvSpPr/>
          <p:nvPr/>
        </p:nvSpPr>
        <p:spPr>
          <a:xfrm>
            <a:off x="464328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множение 43"/>
          <p:cNvSpPr/>
          <p:nvPr/>
        </p:nvSpPr>
        <p:spPr>
          <a:xfrm>
            <a:off x="5357880" y="30002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44"/>
          <p:cNvSpPr/>
          <p:nvPr/>
        </p:nvSpPr>
        <p:spPr>
          <a:xfrm>
            <a:off x="1643040" y="1214280"/>
            <a:ext cx="5594400" cy="304344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илиния 45"/>
          <p:cNvSpPr/>
          <p:nvPr/>
        </p:nvSpPr>
        <p:spPr>
          <a:xfrm>
            <a:off x="7078680" y="3666960"/>
            <a:ext cx="1954080" cy="84168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46"/>
          <p:cNvSpPr/>
          <p:nvPr/>
        </p:nvSpPr>
        <p:spPr>
          <a:xfrm>
            <a:off x="4857840" y="450072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61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олилиния 62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лилиния 63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64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65"/>
          <p:cNvSpPr/>
          <p:nvPr/>
        </p:nvSpPr>
        <p:spPr>
          <a:xfrm>
            <a:off x="7643880" y="4643280"/>
            <a:ext cx="22680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66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172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181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Умножение 86"/>
          <p:cNvSpPr/>
          <p:nvPr/>
        </p:nvSpPr>
        <p:spPr>
          <a:xfrm>
            <a:off x="5572080" y="171468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539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57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63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63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верх 31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верх 36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верх 37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Скругленная соединительная линия 40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3" name="Скругленная соединительная линия 41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4" name="Скругленная соединительная линия 42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05" name="TextBox 43"/>
          <p:cNvSpPr/>
          <p:nvPr/>
        </p:nvSpPr>
        <p:spPr>
          <a:xfrm>
            <a:off x="5429160" y="57862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5"/>
          <p:cNvSpPr/>
          <p:nvPr/>
        </p:nvSpPr>
        <p:spPr>
          <a:xfrm>
            <a:off x="5572080" y="6396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5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множение 36"/>
          <p:cNvSpPr/>
          <p:nvPr/>
        </p:nvSpPr>
        <p:spPr>
          <a:xfrm>
            <a:off x="425448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множение 37"/>
          <p:cNvSpPr/>
          <p:nvPr/>
        </p:nvSpPr>
        <p:spPr>
          <a:xfrm>
            <a:off x="496872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множение 38"/>
          <p:cNvSpPr/>
          <p:nvPr/>
        </p:nvSpPr>
        <p:spPr>
          <a:xfrm>
            <a:off x="589752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множение 39"/>
          <p:cNvSpPr/>
          <p:nvPr/>
        </p:nvSpPr>
        <p:spPr>
          <a:xfrm>
            <a:off x="446868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множение 40"/>
          <p:cNvSpPr/>
          <p:nvPr/>
        </p:nvSpPr>
        <p:spPr>
          <a:xfrm>
            <a:off x="5183280" y="228600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множение 41"/>
          <p:cNvSpPr/>
          <p:nvPr/>
        </p:nvSpPr>
        <p:spPr>
          <a:xfrm>
            <a:off x="6183360" y="29289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множение 42"/>
          <p:cNvSpPr/>
          <p:nvPr/>
        </p:nvSpPr>
        <p:spPr>
          <a:xfrm>
            <a:off x="475452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множение 43"/>
          <p:cNvSpPr/>
          <p:nvPr/>
        </p:nvSpPr>
        <p:spPr>
          <a:xfrm>
            <a:off x="546876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44"/>
          <p:cNvSpPr/>
          <p:nvPr/>
        </p:nvSpPr>
        <p:spPr>
          <a:xfrm>
            <a:off x="1643040" y="1285920"/>
            <a:ext cx="5594400" cy="304308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45"/>
          <p:cNvSpPr/>
          <p:nvPr/>
        </p:nvSpPr>
        <p:spPr>
          <a:xfrm>
            <a:off x="7189920" y="359568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46"/>
          <p:cNvSpPr/>
          <p:nvPr/>
        </p:nvSpPr>
        <p:spPr>
          <a:xfrm>
            <a:off x="4968720" y="4429080"/>
            <a:ext cx="195444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множение 47"/>
          <p:cNvSpPr/>
          <p:nvPr/>
        </p:nvSpPr>
        <p:spPr>
          <a:xfrm>
            <a:off x="568332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верх 48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верх 49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50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Скругленная соединительная линия 51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5" name="Скругленная соединительная линия 52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6" name="Скругленная соединительная линия 53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47" name="TextBox 54"/>
          <p:cNvSpPr/>
          <p:nvPr/>
        </p:nvSpPr>
        <p:spPr>
          <a:xfrm>
            <a:off x="5214960" y="63961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шанное пита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55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56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57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58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59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60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255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264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Управляющая кнопка: в начало 79">
            <a:hlinkClick r:id="rId3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76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3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5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7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9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1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3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5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7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9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1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7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1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3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5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7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92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4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99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99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4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3:19:40Z</dcterms:created>
  <dc:creator>user403</dc:creator>
  <dc:description/>
  <dc:language>en-US</dc:language>
  <cp:lastModifiedBy>LEGION</cp:lastModifiedBy>
  <dcterms:modified xsi:type="dcterms:W3CDTF">2014-12-30T11:14:56Z</dcterms:modified>
  <cp:revision>207</cp:revision>
  <dc:subject/>
  <dc:title>Бежит, бежит не выбежит..</dc:title>
</cp:coreProperties>
</file>