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6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F25E-D79E-475E-9EB6-E08DD9DAD3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B9E4-27F9-46C5-AA1B-D28C9087AD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едмет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еограф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Класс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Место урока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первый урок по теме «Гидросфера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идактическая цель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создать условия для первичного усвоения, осознания и осмысления новой учебной информации средствами технологии развивающего обучения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Тип урока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изучение нового материал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Цели по содержанию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 Образовательный аспект: способствовать формированию знаний о гидросфере, как оболочке Земли, её составных частях, Мировом круговороте воды в природ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Развивающий аспект: создать условия для развития  умения работать с текстом учебной статьи, географической картой, с материалами мультимедийной презентации; составлять описание по план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Воспитательный аспект: способствовать воспитанию географической культуры, культуры учебного труд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Методы обучения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объяснительно-иллюстративный, репродуктивный, частично-поисковы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ормы организации учебной деятельност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: индивидуальная, фронтальна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редства обучения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 Герасимова, Т.П. Начальный курс географии: учеб. для 6 кл. общеобразоват. учреждений / Т.П. Герасимова, Н.П. Неклюкова. – 5-е изд., стереотип. М.: Дрофа,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Физическая география. Начальный курс. 6 класс.: Атлас.– М.: Роскартография,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Мультимедийная презентация «Вода на Земле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ода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ветлана Валентиновна Чурина, учитель географии МОУ СОШ №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орода Кирово-Чепецка Киров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D8F4-99F8-4362-ADAD-7C83BD3F54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еан занимает ¾ площади Земл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0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н един, то есть из любой его точки можно попасть в любую другую, не пересекая сушу, и Океан состоит из четырёх частей (океан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найти океаны на карте океанов в атласе и показать их на мировой карт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1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собенности Мирового оке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занимает ¾ площади Зем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ед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состоит из 4 ча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х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лантиче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й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верный Ледовиты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458A-37FA-40E9-8C12-A237EEB78A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карту полушарий и карту океанов в атласе, составьте описание океанов по план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2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писание Тихого океана ребята делают с учителем, а три оставшиеся океана – по рядам. Оформить ответы можно в виде таблицы. Проверка выполнения работы проходит у доски с использование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а 11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стенной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карты атласа, составь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океана по пла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E4D0-9114-4C51-ABC6-CB5355C020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флексия (слайд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учащимся вернуться к игре «верю – не верю» и снова в  тетради напротив номера утверждения поставить либо «+», либо «-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1-, 2+, 3-, 4+, 5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ерю – не вер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ировой океан един, то есть из одной части его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ED30-2F2E-4FB7-82B9-C942DAED9F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 23, 24 (п.2) читать, уметь отвечать на вопросы по изученному материа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на выбор: № 7 после § 23  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после §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пасибо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за хорошую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D1C5-D13E-4498-805F-ABDD7EFA9C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73A5-5040-4754-B7D9-FBC648AD46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ктуализация знаний (слайд 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ие оболочки Земли вы знает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Литосферу, гидросферу, атмосферу, биосферу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стрируя первый слайд, учитель предлагает учащимся назвать оболочку, которую начинают изучать на уроке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гидросфера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идросфера - водная оболочка Земли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 каких трёх агрегатных состояниях бывает вода в природ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В жидком, в твёрдом, в газообразном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жет ли вода переходить из одного состояния в друго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Д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ановите соответств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аре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Переход воды из жидкого состояния в твёрд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мерза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 Переход воды из газообразного состояния в жид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нденсац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Переход воды из жидкого состояния в газообраз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Тая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Переход воды из твёрдого состояния в жид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1В, 2А, 3Б, 4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Arial"/>
              </a:rPr>
              <a:t>Вспомнит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гидросф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трёх агрегатных состояниях бывает вода в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вода переходить из одного состояния в друг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9CB0-5C26-49AE-9092-355290BE73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и целеполагание (слайд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учащимся поучаствовать в игре «верю –  не верю» (проверить правильность утверждений). Самостоятельно,  в  тетради напротив номера утверждения поставить либо «+», либо «-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, находящаяся в воздухе, не является частью водной оболочки Земли, я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одной части Мирового океана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нимите руку те, кто согласен с первым утверждением, кто не согласен?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ерю – не вер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Из одной части Мирового океана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 сегодняшнего урока, мы вернемся к этим утверждениям и посмотрим, каким из них верить можно, а каким нельз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580C-92C3-471E-A4D9-D8AFFF4B0D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дросфера – водная оболочка Земли – состоит из нескольких ча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пользуя текст учебника на стр. 81-82, п. 1, § 23, дополните схему «Состав гидросферы»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5, 6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идросфера состоит из Мирового океана (96,5%), вод суши и воды в атмосфере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 знаете, что вода бывает пресная и солёная. Какие части гидросферы состоят из пресной воды, а какие –  из солёной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Мировой океан солёный, воды суши могут быть пресными и солёными, вода в атмосфере только пресная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чему вода в атмосфере всегда пресная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ри испарении все соли остаются в водоёме, а испаряется только вод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я текст на стр.81-82 п.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3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  схе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остав гидросф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.………..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…………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6,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части гидросферы состоят из пресной воды, а какие –  из солён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ода в атмосфере всегда пресна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части гидросферы можно увидеть на географической к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8785-A716-46B7-AD0C-EC46D6E4CE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оть в это поверить не очень легк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Волги вода есть в реке Лимпопо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 Якимо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 вы думаете, возможно ли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FA74-243A-4EBF-B0B4-FFBD595837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учитель кратко рассказывает о Мировом круговороте воды в природе. А затем предлагает по схеме ответи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ем малый  круговорот воды отличается от большо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ую роль в круговороте воды играет Мировой океа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лагодаря чему происходит круговорот воды, что является его движущей сил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кажите, что все части гидросферы взаимосвяз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5C62-5D8F-4045-B194-C4F7A1E15A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лавной, самой большой частью гидросферы является Мировой океан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9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учение водной оболочки Земли мы начнём именно с н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5EC-8D92-4706-ADCF-21A76D53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8FD-A88A-45CF-8FF7-1195B91A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FB5-1682-41D8-8821-B3430D4D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7B63-F870-4AF0-9C25-2312D94A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F6BF-1340-46C6-A6C2-42EEDACF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BF2F-A182-4682-92D9-F355F51A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8AE1-0D23-4C3A-8544-BAF538C3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3B0C-147E-4F4D-90A3-B692AF18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C9FB-B88A-4641-9630-7819DAAE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DE0B-199B-45B0-B0E9-3E683FAD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1C0F-6776-48DE-ADAC-9F676ADD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6A1-E781-4D2B-BEF6-C25A5721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F793-31AC-4ADE-8BE0-98580568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BC55-C228-476E-9184-D236962E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F1A0-1EB7-458A-94A4-D5A58B87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EFDD-F5D3-4378-9DA9-86A071FD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9204-6B9D-4695-B954-EAE9D272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472-3BB5-4349-9138-9C2D209B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3052-C663-4FE8-A99A-20C98238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C278-BE92-4103-807A-FB497B5C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D7C-DD35-4835-9A3E-8165B246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762-1664-4E06-A445-A7CC9AE3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208-D570-4C46-9ACB-F99187D7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E77-73CB-4DF6-8D69-7891FCBB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5889-0159-4580-A7CD-2D8C07E45DB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A01B-CE13-4BF8-8871-86B66A59A6C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916280"/>
            <a:ext cx="7623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Garamond"/>
              </a:rPr>
              <a:t>Вода на Земле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24000" y="4581360"/>
            <a:ext cx="6624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тлана Валентиновна Чурин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географии МОУ СОШ №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а Кирово-Чепецка Кир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Особенности Мирового океа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занимает ¾ площади Зем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ед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состоит из 4 ча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х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лантиче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й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верный Ледовиты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468360" y="1703520"/>
            <a:ext cx="3752640" cy="439092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6"/>
          <p:cNvSpPr/>
          <p:nvPr/>
        </p:nvSpPr>
        <p:spPr>
          <a:xfrm>
            <a:off x="500040" y="56437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4">
            <a:hlinkClick r:id="" action="ppaction://hlinkshowjump?jump=previousslide"/>
          </p:cNvPr>
          <p:cNvSpPr/>
          <p:nvPr/>
        </p:nvSpPr>
        <p:spPr>
          <a:xfrm>
            <a:off x="8388360" y="6453360"/>
            <a:ext cx="504720" cy="21564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508" h="21600">
                <a:moveTo>
                  <a:pt x="0" y="0"/>
                </a:moveTo>
                <a:lnTo>
                  <a:pt x="50508" y="0"/>
                </a:lnTo>
                <a:lnTo>
                  <a:pt x="50508" y="21600"/>
                </a:lnTo>
                <a:lnTo>
                  <a:pt x="0" y="21600"/>
                </a:lnTo>
                <a:close/>
              </a:path>
              <a:path fill="lightenLess" w="50508" h="21600">
                <a:moveTo>
                  <a:pt x="0" y="0"/>
                </a:moveTo>
                <a:lnTo>
                  <a:pt x="50508" y="0"/>
                </a:lnTo>
                <a:lnTo>
                  <a:pt x="49108" y="1400"/>
                </a:lnTo>
                <a:lnTo>
                  <a:pt x="1400" y="1400"/>
                </a:lnTo>
                <a:close/>
              </a:path>
              <a:path fill="darken" w="50508" h="21600">
                <a:moveTo>
                  <a:pt x="50508" y="0"/>
                </a:moveTo>
                <a:lnTo>
                  <a:pt x="50508" y="21600"/>
                </a:lnTo>
                <a:lnTo>
                  <a:pt x="49108" y="20200"/>
                </a:lnTo>
                <a:lnTo>
                  <a:pt x="49108" y="1400"/>
                </a:lnTo>
                <a:close/>
              </a:path>
              <a:path fill="darkenLess" w="50508" h="21600">
                <a:moveTo>
                  <a:pt x="50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08" y="20200"/>
                </a:lnTo>
                <a:close/>
              </a:path>
              <a:path fill="lighten" w="50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508" h="21600">
                <a:moveTo>
                  <a:pt x="18248" y="7493"/>
                </a:moveTo>
                <a:lnTo>
                  <a:pt x="21755" y="7493"/>
                </a:lnTo>
                <a:lnTo>
                  <a:pt x="21755" y="12828"/>
                </a:lnTo>
                <a:cubicBezTo>
                  <a:pt x="21755" y="13751"/>
                  <a:pt x="22556" y="14482"/>
                  <a:pt x="23592" y="14482"/>
                </a:cubicBezTo>
                <a:lnTo>
                  <a:pt x="25254" y="14482"/>
                </a:lnTo>
                <a:cubicBezTo>
                  <a:pt x="26290" y="14482"/>
                  <a:pt x="27090" y="13751"/>
                  <a:pt x="27090" y="12828"/>
                </a:cubicBezTo>
                <a:lnTo>
                  <a:pt x="27090" y="7493"/>
                </a:lnTo>
                <a:lnTo>
                  <a:pt x="25254" y="7493"/>
                </a:lnTo>
                <a:lnTo>
                  <a:pt x="28762" y="3985"/>
                </a:lnTo>
                <a:lnTo>
                  <a:pt x="32435" y="7493"/>
                </a:lnTo>
                <a:lnTo>
                  <a:pt x="30598" y="7493"/>
                </a:lnTo>
                <a:lnTo>
                  <a:pt x="30598" y="12828"/>
                </a:lnTo>
                <a:cubicBezTo>
                  <a:pt x="30598" y="15596"/>
                  <a:pt x="28022" y="18155"/>
                  <a:pt x="25254" y="18155"/>
                </a:cubicBezTo>
                <a:lnTo>
                  <a:pt x="23592" y="18155"/>
                </a:lnTo>
                <a:cubicBezTo>
                  <a:pt x="20824" y="18155"/>
                  <a:pt x="18248" y="15596"/>
                  <a:pt x="18248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142920" y="621504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Используя карты атласа, составьте 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описание океана по плану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29600" cy="4822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ла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ихий океа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 Box 70"/>
          <p:cNvSpPr/>
          <p:nvPr/>
        </p:nvSpPr>
        <p:spPr>
          <a:xfrm>
            <a:off x="468360" y="2492280"/>
            <a:ext cx="273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1"/>
          <p:cNvSpPr/>
          <p:nvPr/>
        </p:nvSpPr>
        <p:spPr>
          <a:xfrm>
            <a:off x="468360" y="250992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Какое место занимает по площ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4"/>
          <p:cNvSpPr/>
          <p:nvPr/>
        </p:nvSpPr>
        <p:spPr>
          <a:xfrm>
            <a:off x="3203640" y="2565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5"/>
          <p:cNvSpPr/>
          <p:nvPr/>
        </p:nvSpPr>
        <p:spPr>
          <a:xfrm>
            <a:off x="468360" y="357336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 какими      океанами связ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9"/>
          <p:cNvSpPr/>
          <p:nvPr/>
        </p:nvSpPr>
        <p:spPr>
          <a:xfrm>
            <a:off x="3203640" y="350028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Атлантическим, Индийским, Сев. Ледовит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1"/>
          <p:cNvSpPr/>
          <p:nvPr/>
        </p:nvSpPr>
        <p:spPr>
          <a:xfrm>
            <a:off x="468360" y="450864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акие материки омыва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3"/>
          <p:cNvSpPr/>
          <p:nvPr/>
        </p:nvSpPr>
        <p:spPr>
          <a:xfrm>
            <a:off x="3203640" y="4508640"/>
            <a:ext cx="28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разию, Австралию, Юж. Америку, Сев. Америку, Антаркти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6"/>
          <p:cNvSpPr/>
          <p:nvPr/>
        </p:nvSpPr>
        <p:spPr>
          <a:xfrm>
            <a:off x="468360" y="544500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ова максимальная глуб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8"/>
          <p:cNvSpPr/>
          <p:nvPr/>
        </p:nvSpPr>
        <p:spPr>
          <a:xfrm>
            <a:off x="3203640" y="5516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022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Верю – не вер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Мировой океан един, то есть из одной части его можно попасть в другую, не пересекая суш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§ 23, 24 (п.2) прочитать, уметь отвечать на вопросы по изученному материал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дание на выбор: № 7 после § 23  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№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 после § 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j0232896"/>
          <p:cNvPicPr/>
          <p:nvPr/>
        </p:nvPicPr>
        <p:blipFill>
          <a:blip r:embed="rId1"/>
          <a:stretch/>
        </p:blipFill>
        <p:spPr>
          <a:xfrm>
            <a:off x="900000" y="4149720"/>
            <a:ext cx="1600200" cy="19382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6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1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4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Спасибо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за хорошую работу!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Garamond"/>
              </a:rPr>
              <a:t>Вспомнит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гидросф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трёх агрегатных состояниях бывает вода в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вода переходить из одного состояния в друг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11280" y="3716280"/>
          <a:ext cx="8208720" cy="2712960"/>
        </p:xfrm>
        <a:graphic>
          <a:graphicData uri="http://schemas.openxmlformats.org/drawingml/2006/table">
            <a:tbl>
              <a:tblPr/>
              <a:tblGrid>
                <a:gridCol w="2520720"/>
                <a:gridCol w="5688000"/>
              </a:tblGrid>
              <a:tr h="2712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Испар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Замерз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Конденса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Тая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Переход воды из жидкого состояния в       твёрд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Переход воды из газообразного состояния в жидк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Переход воды из жидкого состояния в газообразн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Переход воды из твёрдого состояния в жид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Верю – не вер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Из одной части Мирового океана можно попасть в другую, не пересекая суш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4" descr="114041B"/>
          <p:cNvPicPr/>
          <p:nvPr/>
        </p:nvPicPr>
        <p:blipFill>
          <a:blip r:embed="rId1"/>
          <a:stretch/>
        </p:blipFill>
        <p:spPr>
          <a:xfrm>
            <a:off x="3132000" y="2924280"/>
            <a:ext cx="2303640" cy="1546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04" name="Organization Chart 7"/>
          <p:cNvGrpSpPr/>
          <p:nvPr/>
        </p:nvGrpSpPr>
        <p:grpSpPr>
          <a:xfrm>
            <a:off x="431640" y="549360"/>
            <a:ext cx="8208360" cy="2158200"/>
            <a:chOff x="431640" y="549360"/>
            <a:chExt cx="8208360" cy="2158200"/>
          </a:xfrm>
        </p:grpSpPr>
        <p:cxnSp>
          <p:nvCxnSpPr>
            <p:cNvPr id="105" name="_s1028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756040" y="191160"/>
              <a:ext cx="432360" cy="2873520"/>
            </a:xfrm>
            <a:prstGeom prst="bentConnector3">
              <a:avLst>
                <a:gd name="adj1" fmla="val 127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29"/>
            <p:cNvCxnSpPr>
              <a:stCxn id="109" idx="0"/>
              <a:endCxn id="107" idx="2"/>
            </p:cNvCxnSpPr>
            <p:nvPr/>
          </p:nvCxnSpPr>
          <p:spPr>
            <a:xfrm flipV="1">
              <a:off x="4536000" y="1411920"/>
              <a:ext cx="3600" cy="43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30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2883240" y="191520"/>
              <a:ext cx="432360" cy="2873520"/>
            </a:xfrm>
            <a:prstGeom prst="bentConnector3">
              <a:avLst>
                <a:gd name="adj1" fmla="val 127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1031"/>
            <p:cNvSpPr/>
            <p:nvPr/>
          </p:nvSpPr>
          <p:spPr>
            <a:xfrm>
              <a:off x="3304440" y="54936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стояния во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2"/>
            <p:cNvSpPr/>
            <p:nvPr/>
          </p:nvSpPr>
          <p:spPr>
            <a:xfrm>
              <a:off x="43164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Жидк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3"/>
            <p:cNvSpPr/>
            <p:nvPr/>
          </p:nvSpPr>
          <p:spPr>
            <a:xfrm>
              <a:off x="330444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вёрд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617760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азообраз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43" descr="04SC002"/>
          <p:cNvPicPr/>
          <p:nvPr/>
        </p:nvPicPr>
        <p:blipFill>
          <a:blip r:embed="rId2"/>
          <a:stretch/>
        </p:blipFill>
        <p:spPr>
          <a:xfrm>
            <a:off x="179280" y="2924280"/>
            <a:ext cx="2279880" cy="17064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13" name="Picture 39" descr="1350"/>
          <p:cNvPicPr/>
          <p:nvPr/>
        </p:nvPicPr>
        <p:blipFill>
          <a:blip r:embed="rId3"/>
          <a:stretch/>
        </p:blipFill>
        <p:spPr>
          <a:xfrm>
            <a:off x="3780000" y="4254480"/>
            <a:ext cx="2342880" cy="1571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14" name="Picture 42" descr="0004971"/>
          <p:cNvPicPr/>
          <p:nvPr/>
        </p:nvPicPr>
        <p:blipFill>
          <a:blip r:embed="rId4"/>
          <a:stretch/>
        </p:blipFill>
        <p:spPr>
          <a:xfrm>
            <a:off x="468360" y="4221000"/>
            <a:ext cx="2502000" cy="1671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5" name="AutoShape 45">
            <a:hlinkClick r:id="" action="ppaction://hlinkshowjump?jump=previousslide"/>
          </p:cNvPr>
          <p:cNvSpPr/>
          <p:nvPr/>
        </p:nvSpPr>
        <p:spPr>
          <a:xfrm>
            <a:off x="8172360" y="6093000"/>
            <a:ext cx="432000" cy="28872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06" h="21600">
                <a:moveTo>
                  <a:pt x="0" y="0"/>
                </a:moveTo>
                <a:lnTo>
                  <a:pt x="32306" y="0"/>
                </a:lnTo>
                <a:lnTo>
                  <a:pt x="32306" y="21600"/>
                </a:lnTo>
                <a:lnTo>
                  <a:pt x="0" y="21600"/>
                </a:lnTo>
                <a:close/>
              </a:path>
              <a:path fill="lightenLess" w="32306" h="21600">
                <a:moveTo>
                  <a:pt x="0" y="0"/>
                </a:moveTo>
                <a:lnTo>
                  <a:pt x="32306" y="0"/>
                </a:lnTo>
                <a:lnTo>
                  <a:pt x="30906" y="1400"/>
                </a:lnTo>
                <a:lnTo>
                  <a:pt x="1400" y="1400"/>
                </a:lnTo>
                <a:close/>
              </a:path>
              <a:path fill="darken" w="32306" h="21600">
                <a:moveTo>
                  <a:pt x="32306" y="0"/>
                </a:moveTo>
                <a:lnTo>
                  <a:pt x="32306" y="21600"/>
                </a:lnTo>
                <a:lnTo>
                  <a:pt x="30906" y="20200"/>
                </a:lnTo>
                <a:lnTo>
                  <a:pt x="30906" y="1400"/>
                </a:lnTo>
                <a:close/>
              </a:path>
              <a:path fill="darkenLess" w="32306" h="21600">
                <a:moveTo>
                  <a:pt x="32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6" y="20200"/>
                </a:lnTo>
                <a:close/>
              </a:path>
              <a:path fill="lighten" w="32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06" h="21600">
                <a:moveTo>
                  <a:pt x="9146" y="7493"/>
                </a:moveTo>
                <a:lnTo>
                  <a:pt x="12654" y="7493"/>
                </a:lnTo>
                <a:lnTo>
                  <a:pt x="12654" y="12828"/>
                </a:lnTo>
                <a:cubicBezTo>
                  <a:pt x="12654" y="13751"/>
                  <a:pt x="13455" y="14482"/>
                  <a:pt x="14491" y="14482"/>
                </a:cubicBezTo>
                <a:lnTo>
                  <a:pt x="16153" y="14482"/>
                </a:lnTo>
                <a:cubicBezTo>
                  <a:pt x="17189" y="14482"/>
                  <a:pt x="17989" y="13751"/>
                  <a:pt x="17989" y="12828"/>
                </a:cubicBezTo>
                <a:lnTo>
                  <a:pt x="17989" y="7493"/>
                </a:lnTo>
                <a:lnTo>
                  <a:pt x="16153" y="7493"/>
                </a:lnTo>
                <a:lnTo>
                  <a:pt x="19661" y="3985"/>
                </a:lnTo>
                <a:lnTo>
                  <a:pt x="23333" y="7493"/>
                </a:lnTo>
                <a:lnTo>
                  <a:pt x="21497" y="7493"/>
                </a:lnTo>
                <a:lnTo>
                  <a:pt x="21497" y="12828"/>
                </a:lnTo>
                <a:cubicBezTo>
                  <a:pt x="21497" y="15596"/>
                  <a:pt x="18921" y="18155"/>
                  <a:pt x="16153" y="18155"/>
                </a:cubicBezTo>
                <a:lnTo>
                  <a:pt x="14491" y="18155"/>
                </a:lnTo>
                <a:cubicBezTo>
                  <a:pt x="11723" y="18155"/>
                  <a:pt x="9146" y="15596"/>
                  <a:pt x="9146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9" descr="j0232703"/>
          <p:cNvPicPr/>
          <p:nvPr/>
        </p:nvPicPr>
        <p:blipFill>
          <a:blip r:embed="rId5"/>
          <a:srcRect l="0" t="0" r="0" b="43105"/>
          <a:stretch/>
        </p:blipFill>
        <p:spPr>
          <a:xfrm>
            <a:off x="6516720" y="2997360"/>
            <a:ext cx="1844640" cy="2232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0852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Используя текст на стр.81-82 п.1 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  <a:ea typeface="Arial"/>
              </a:rPr>
              <a:t>§</a:t>
            </a:r>
            <a:r>
              <a:rPr b="0" lang="ru-RU" sz="2800" spc="-1" strike="noStrike">
                <a:solidFill>
                  <a:srgbClr val="006633"/>
                </a:solidFill>
                <a:latin typeface="Garamond"/>
                <a:ea typeface="Arial"/>
              </a:rPr>
              <a:t>23, </a:t>
            </a:r>
            <a:br>
              <a:rPr sz="2800"/>
            </a:br>
            <a:r>
              <a:rPr b="0" lang="ru-RU" sz="2800" spc="-1" strike="noStrike">
                <a:solidFill>
                  <a:srgbClr val="006633"/>
                </a:solidFill>
                <a:latin typeface="Garamond"/>
                <a:ea typeface="Arial"/>
              </a:rPr>
              <a:t>дополните  схему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Состав гидросфе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.………....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……………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…………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96,5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Какие части гидросферы состоят из пресной воды, а какие –  из солёной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Почему вода в атмосфере всегда пресная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Какие части гидросферы можно увидеть на географической карте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 flipH="1">
            <a:off x="1692360" y="2133720"/>
            <a:ext cx="172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1636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6012000" y="2133720"/>
            <a:ext cx="1512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84360" y="2997360"/>
            <a:ext cx="259236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овой 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708360" y="2997360"/>
            <a:ext cx="208764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ы су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6300720" y="2997360"/>
            <a:ext cx="223200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а в атмо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8"/>
          <p:cNvSpPr/>
          <p:nvPr/>
        </p:nvSpPr>
        <p:spPr>
          <a:xfrm flipV="1">
            <a:off x="1187280" y="3933000"/>
            <a:ext cx="1513080" cy="358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1258920" y="3860640"/>
            <a:ext cx="15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ё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0"/>
          <p:cNvSpPr/>
          <p:nvPr/>
        </p:nvSpPr>
        <p:spPr>
          <a:xfrm>
            <a:off x="3117960" y="3948120"/>
            <a:ext cx="3095640" cy="360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223440" y="389880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ёная и пре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2"/>
          <p:cNvSpPr/>
          <p:nvPr/>
        </p:nvSpPr>
        <p:spPr>
          <a:xfrm>
            <a:off x="6732720" y="3933720"/>
            <a:ext cx="1511280" cy="358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6880" y="388476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0" descr="Весна"/>
          <p:cNvPicPr/>
          <p:nvPr/>
        </p:nvPicPr>
        <p:blipFill>
          <a:blip r:embed="rId1"/>
          <a:stretch/>
        </p:blipFill>
        <p:spPr>
          <a:xfrm>
            <a:off x="3276720" y="2781360"/>
            <a:ext cx="2468520" cy="1851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34" name="Organization Chart 7"/>
          <p:cNvGrpSpPr/>
          <p:nvPr/>
        </p:nvGrpSpPr>
        <p:grpSpPr>
          <a:xfrm>
            <a:off x="431640" y="231840"/>
            <a:ext cx="8316360" cy="2259720"/>
            <a:chOff x="431640" y="231840"/>
            <a:chExt cx="8316360" cy="2259720"/>
          </a:xfrm>
        </p:grpSpPr>
        <p:cxnSp>
          <p:nvCxnSpPr>
            <p:cNvPr id="135" name="_s2052"/>
            <p:cNvCxnSpPr>
              <a:stCxn id="136" idx="0"/>
              <a:endCxn id="137" idx="2"/>
            </p:cNvCxnSpPr>
            <p:nvPr/>
          </p:nvCxnSpPr>
          <p:spPr>
            <a:xfrm flipV="1" rot="16200000">
              <a:off x="5818680" y="-94320"/>
              <a:ext cx="452520" cy="2910960"/>
            </a:xfrm>
            <a:prstGeom prst="bentConnector3">
              <a:avLst>
                <a:gd name="adj1" fmla="val 127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053"/>
            <p:cNvCxnSpPr>
              <a:stCxn id="139" idx="0"/>
              <a:endCxn id="137" idx="2"/>
            </p:cNvCxnSpPr>
            <p:nvPr/>
          </p:nvCxnSpPr>
          <p:spPr>
            <a:xfrm flipV="1">
              <a:off x="4589640" y="1135080"/>
              <a:ext cx="3960" cy="45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054"/>
            <p:cNvCxnSpPr>
              <a:stCxn id="141" idx="0"/>
              <a:endCxn id="137" idx="2"/>
            </p:cNvCxnSpPr>
            <p:nvPr/>
          </p:nvCxnSpPr>
          <p:spPr>
            <a:xfrm flipH="1" flipV="1" rot="5400000">
              <a:off x="2907720" y="-93960"/>
              <a:ext cx="452520" cy="2910960"/>
            </a:xfrm>
            <a:prstGeom prst="bentConnector3">
              <a:avLst>
                <a:gd name="adj1" fmla="val 127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7" name="_s2055"/>
            <p:cNvSpPr/>
            <p:nvPr/>
          </p:nvSpPr>
          <p:spPr>
            <a:xfrm>
              <a:off x="3342240" y="23184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056"/>
            <p:cNvSpPr/>
            <p:nvPr/>
          </p:nvSpPr>
          <p:spPr>
            <a:xfrm>
              <a:off x="43164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057"/>
            <p:cNvSpPr/>
            <p:nvPr/>
          </p:nvSpPr>
          <p:spPr>
            <a:xfrm>
              <a:off x="334224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058"/>
            <p:cNvSpPr/>
            <p:nvPr/>
          </p:nvSpPr>
          <p:spPr>
            <a:xfrm>
              <a:off x="625320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16" descr="Big sky"/>
          <p:cNvPicPr/>
          <p:nvPr/>
        </p:nvPicPr>
        <p:blipFill>
          <a:blip r:embed="rId2"/>
          <a:stretch/>
        </p:blipFill>
        <p:spPr>
          <a:xfrm>
            <a:off x="6084720" y="2781360"/>
            <a:ext cx="2616480" cy="1857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3" name="Picture 17" descr="90A_2"/>
          <p:cNvPicPr/>
          <p:nvPr/>
        </p:nvPicPr>
        <p:blipFill>
          <a:blip r:embed="rId3"/>
          <a:stretch/>
        </p:blipFill>
        <p:spPr>
          <a:xfrm>
            <a:off x="6372360" y="4365720"/>
            <a:ext cx="2447640" cy="190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4" name="Picture 21" descr="Wo_scn05"/>
          <p:cNvPicPr/>
          <p:nvPr/>
        </p:nvPicPr>
        <p:blipFill>
          <a:blip r:embed="rId4"/>
          <a:stretch/>
        </p:blipFill>
        <p:spPr>
          <a:xfrm>
            <a:off x="3419640" y="4365720"/>
            <a:ext cx="2514600" cy="18856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5" name="Picture 22" descr="1103n"/>
          <p:cNvPicPr/>
          <p:nvPr/>
        </p:nvPicPr>
        <p:blipFill>
          <a:blip r:embed="rId5"/>
          <a:stretch/>
        </p:blipFill>
        <p:spPr>
          <a:xfrm>
            <a:off x="395280" y="2781360"/>
            <a:ext cx="2427120" cy="1749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6" name="Picture 15" descr="j0289489"/>
          <p:cNvPicPr/>
          <p:nvPr/>
        </p:nvPicPr>
        <p:blipFill>
          <a:blip r:embed="rId6"/>
          <a:stretch/>
        </p:blipFill>
        <p:spPr>
          <a:xfrm>
            <a:off x="539640" y="4365720"/>
            <a:ext cx="2592360" cy="1874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47" name="AutoShape 23">
            <a:hlinkClick r:id="" action="ppaction://hlinkshowjump?jump=previousslide"/>
          </p:cNvPr>
          <p:cNvSpPr/>
          <p:nvPr/>
        </p:nvSpPr>
        <p:spPr>
          <a:xfrm>
            <a:off x="8388360" y="33336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7493"/>
                </a:moveTo>
                <a:lnTo>
                  <a:pt x="12621" y="7493"/>
                </a:lnTo>
                <a:lnTo>
                  <a:pt x="12621" y="12828"/>
                </a:lnTo>
                <a:cubicBezTo>
                  <a:pt x="12621" y="13751"/>
                  <a:pt x="13421" y="14482"/>
                  <a:pt x="14457" y="14482"/>
                </a:cubicBezTo>
                <a:lnTo>
                  <a:pt x="16119" y="14482"/>
                </a:lnTo>
                <a:cubicBezTo>
                  <a:pt x="17155" y="14482"/>
                  <a:pt x="17956" y="13751"/>
                  <a:pt x="17956" y="12828"/>
                </a:cubicBezTo>
                <a:lnTo>
                  <a:pt x="17956" y="7493"/>
                </a:lnTo>
                <a:lnTo>
                  <a:pt x="16119" y="7493"/>
                </a:lnTo>
                <a:lnTo>
                  <a:pt x="19627" y="3985"/>
                </a:lnTo>
                <a:lnTo>
                  <a:pt x="23300" y="7493"/>
                </a:lnTo>
                <a:lnTo>
                  <a:pt x="21463" y="7493"/>
                </a:lnTo>
                <a:lnTo>
                  <a:pt x="21463" y="12828"/>
                </a:lnTo>
                <a:cubicBezTo>
                  <a:pt x="21463" y="15596"/>
                  <a:pt x="18887" y="18155"/>
                  <a:pt x="16119" y="18155"/>
                </a:cubicBezTo>
                <a:lnTo>
                  <a:pt x="14457" y="18155"/>
                </a:lnTo>
                <a:cubicBezTo>
                  <a:pt x="11689" y="18155"/>
                  <a:pt x="9113" y="15596"/>
                  <a:pt x="9113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«Хоть в это поверить не очень легко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Но Волги вода есть в реке Лимпопо…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(И. Яким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Как вы думаете, возможно ли тако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8224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SHAPE067"/>
          <p:cNvPicPr/>
          <p:nvPr/>
        </p:nvPicPr>
        <p:blipFill>
          <a:blip r:embed="rId2"/>
          <a:stretch/>
        </p:blipFill>
        <p:spPr>
          <a:xfrm>
            <a:off x="3564000" y="0"/>
            <a:ext cx="1657440" cy="1574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3635280" y="404640"/>
            <a:ext cx="5219640" cy="1152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 отличается малый кругово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ы в природе от больш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268360" y="4797360"/>
            <a:ext cx="4896000" cy="1152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роль в круговороте 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ет Мировой океа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124000" y="4724280"/>
            <a:ext cx="5113440" cy="122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чему происходит круговорот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является его движущей сил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2195640" y="549360"/>
            <a:ext cx="4824360" cy="1079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ите, что все части гидросф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связ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357120" y="6215040"/>
            <a:ext cx="335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loud"/>
          <p:cNvSpPr/>
          <p:nvPr/>
        </p:nvSpPr>
        <p:spPr>
          <a:xfrm>
            <a:off x="2700360" y="836640"/>
            <a:ext cx="4392720" cy="1512720"/>
          </a:xfrm>
          <a:prstGeom prst="pie">
            <a:avLst/>
          </a:prstGeom>
          <a:gradFill rotWithShape="0">
            <a:gsLst>
              <a:gs pos="0">
                <a:srgbClr val="3399ff"/>
              </a:gs>
              <a:gs pos="100000">
                <a:srgbClr val="18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дрос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 flipH="1" flipV="1">
            <a:off x="538560" y="2780640"/>
            <a:ext cx="2808360" cy="2376360"/>
          </a:xfrm>
          <a:prstGeom prst="cloudCallout">
            <a:avLst>
              <a:gd name="adj1" fmla="val -51472"/>
              <a:gd name="adj2" fmla="val 71574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ирово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96,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 flipH="1" flipV="1">
            <a:off x="6371640" y="2637000"/>
            <a:ext cx="2592360" cy="1800000"/>
          </a:xfrm>
          <a:prstGeom prst="cloudCallout">
            <a:avLst>
              <a:gd name="adj1" fmla="val 40013"/>
              <a:gd name="adj2" fmla="val 70458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443640" y="3284640"/>
            <a:ext cx="23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да в атмосф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1"/>
          <p:cNvSpPr/>
          <p:nvPr/>
        </p:nvSpPr>
        <p:spPr>
          <a:xfrm flipH="1" flipV="1">
            <a:off x="3634560" y="3933720"/>
            <a:ext cx="2590920" cy="1657440"/>
          </a:xfrm>
          <a:prstGeom prst="cloudCallout">
            <a:avLst>
              <a:gd name="adj1" fmla="val 1837"/>
              <a:gd name="adj2" fmla="val 135245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4141080" y="458136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ды с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9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5:41:03Z</dcterms:created>
  <dc:creator>xp</dc:creator>
  <dc:description/>
  <dc:language>en-US</dc:language>
  <cp:lastModifiedBy>LEGION</cp:lastModifiedBy>
  <dcterms:modified xsi:type="dcterms:W3CDTF">2014-12-30T11:16:09Z</dcterms:modified>
  <cp:revision>24</cp:revision>
  <dc:subject/>
  <dc:title>Слайд 1</dc:title>
</cp:coreProperties>
</file>