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2.png" ContentType="image/png"/>
  <Override PartName="/ppt/media/image25.png" ContentType="image/png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9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0192-2DD0-449B-8C53-DF1ED3217FB2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6BC3-09CC-4047-828C-B97738548C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Minion Pro Cond"/>
              </a:rPr>
              <a:t>Карликовые государства Европы 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Minion Pro Cond"/>
              </a:rPr>
              <a:t>Княжество Лихтенште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Презентация  к  уроку  географии в  10 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nstantia"/>
              </a:rPr>
              <a:t>Автор : Учитель географи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nstantia"/>
              </a:rPr>
              <a:t>ГОУ СОШ №128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nstantia"/>
              </a:rPr>
              <a:t>Салахетдинова А.Х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80D3-CB7C-4520-BDB9-23007D18949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1862 году князь Йоханнес II подписал конституцию, которая предусматривала ограничение княжеской власти избираемым парламентом. А в 1921 году была принята новая конституция, дарующая подданным княжества все демократические права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сле Второй мировой войны, княжество сделало большой скачок в своем экономическом развитии, превратившись за несколько десятилетий в одну из самых развитых стран Евр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53B1-FA0B-44F8-A6D4-D2C324411D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бственных вооруженных сил нет. Оборона государства возложена на армию Швейцарии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Дипломатические и консульские интересы Лихтенштейна за рубежом с 1919 представляет Швейцария, состоящая с ним в таможенном и почтовом союзах. В Швейцарии и в Ватикане у Лихтенштейна есть свой посол (согласно традиции, он должен принадлежать к правящей княжеской семь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EA22-3BAE-4EEA-BA5F-73B6C0F01C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хтенштейн — процветающая индустриальная страна с развитым сектором финансовых услуг и высоким уровнем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1478-D404-464D-BE5A-12C3F1ABFA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фициальный язык — немецкий, в быту — алеманнский диалект немецкого язы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ольшинство верующих (76 %) исповедуют католицизм, протестантов — около 7 % населен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1202-D360-43D3-9C55-507B64102A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Times New Roman"/>
              </a:rPr>
              <a:t>Населе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5 360 человек, средняя плотность 220 человек на км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редняя продолжительность жиз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ужчин — 76,6 лет, женщин — 83,5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ольшая часть жителей — лихтенштейнцы, 65,6 % по переписи 2000 года, остальные — итальянцы, швейцарцы и австрий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5F46-88C8-4AB3-A651-1C34904765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ан: XIII век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селение: 5100 человек (200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9669-1A42-49AE-B6AE-1EC959C189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inion Pro Cond"/>
              </a:rPr>
              <a:t>Княжество Лихтенштен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"экзотическое" государство, расположенное в Центральной Европ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0BC6-FFD8-4C0A-87C2-43A67B4650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Times New Roman"/>
              </a:rPr>
              <a:t>Географические да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няжество находится в отрогах Альп, самая высокая точка — гора Граушпиц (2 599 м). По западной части страны протекает одна из крупнейших рек Западной Европы — Рейн. Климат умеренный, осадков 700—1 200 мм в год. Около четверти территории покрыто лесами (ель, бук, дуб), в горах — субальпийские и альпийские л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AF17-59CC-4BB9-8138-73A0B7AF6F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лаг Лихтенштейн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   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иний цвет символизирует синеву неба над страной, красный - яркие закаты солнца в горах Лихтенштей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   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На Олимпийских играх 1936 года лихтенштейнцы с огорчением увидели одинаковый с их флагом национальный флаг Гаити. Поэтому в 1937 году на синюю полосу флага Лихтенштейна была добавлена  княжеская корона - символ княжеской власти,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CA81-2D0E-4752-9C0E-E111D79C50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ерб Лихтенштей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нтия и корона вокруг геральдического щита символизируют монархический государственный строй и власть князя (династия возведена в княжеское достоинство в 1628 году). Золотой и красный цвета центрального щитка - родовые цвета Лихтенштей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равом верхнем углу щита изображен на желтом поле черный коронованный орел; на его груди - белая серпообразная фигура, увенчанная двумя кленовыми листьями и крестом. Это земельный герб Австрийской Силезии, где находились прежние владения Лихтенштейнов. В левом верхнем углу восемь желтых и черных горизонтальных полос с пересекающей их по диагонали зеленой с коронами полосой - герб древнего рода фон Куэнрин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изу щита три геральдические фигуры. Рассеченный по вертикали красно-белый щит - герб герцогства Троппау. Золотой охотничий рог на синем поле - герб герцогства Егерндорф, название которого переводится как "Охотничья деревня". Наконец, черный коронованный орел с женской головой  на желтом поле напоминает о родстве Лихтенштейнов с восточнофри-сландскими графами и непродолжительном владении Ритбергом. В прошлом гербовый щит Лихтенштейнов окружала цепь с орденом Золотого Ру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3DEF-C010-4F39-91E9-3378229AAF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имн Лихтенштейн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A651-887A-4BFA-AE03-49ADF02D3B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E940-199F-4ED0-8392-7558AFF4EB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62699"/>
                </a:solidFill>
                <a:latin typeface="Times New Roman"/>
              </a:rPr>
              <a:t>Княжеская сем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9660-FCF7-46CD-9F42-6393588808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История Лихтенштейн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рритория современного Лихтенштейна была заселена еще в ранний период каменного века. В 15 году до н. э. территория была освоена римлянами, однако уже в V в. н.э. они были вынуждены уступить ее германским племенам. В средние века здесь господствовали представители нескольких знатных родов. Лишь в 1396 году оформился государственный статус графства Вадуц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конце XVII в. князь Йоханн Адам Андреас фон Лихтенштейн выкупил эти территории, и уже в начале XVIII в. основал княжество Лихтенштейн. В течение всего XVIII в. княжество боролось за свой суверенитет, и в начале XIX в., благодаря участию в так называемом Рейнском союзе (1806), основанном Наполеоном, достигло в этом немалых успех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F69B-0EB4-4D5E-9E6E-D9169FA986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9347-7158-482C-A118-D8088F405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984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CA55-B057-4E81-83CB-D993E32E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9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9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9649-3CFB-40D0-AB51-48801AF6C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984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984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984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D218-81A2-4AB6-B174-E56AE2D8E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CEBA-8E7B-4FC0-B7F8-EE52BB23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0E9A-EEE1-4C5C-889E-57D15F45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5C61-82CA-4202-9EF3-08C29993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D27E-538B-4BAC-A13A-9AAA4B2F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43C4-45FD-4FC9-9DF7-A76B0BB7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9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563E-2221-42C7-A2C3-CFB02DE0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9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1C85-F2BA-4A70-ACDA-4885BE8C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984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10CD-CA0E-4EEB-81DE-CE58DCCB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Now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9DE7-914E-443E-B7AB-03A58E69A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inion Pro Cond"/>
              </a:rPr>
              <a:t>Карликовые государства Европы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Minion Pro Cond"/>
              </a:rPr>
              <a:t>Княжество Лихтенштейн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619280" y="2636640"/>
            <a:ext cx="64008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nstantia"/>
              </a:rPr>
              <a:t>Презентация  к  уроку  географии в  10  классе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Автор : Учитель географии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ГОУ СОШ №1283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Салахетдинова А.Х.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Місце для нижнього колонтитула 2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477040" cy="687852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3"/>
          <p:cNvSpPr/>
          <p:nvPr/>
        </p:nvSpPr>
        <p:spPr>
          <a:xfrm>
            <a:off x="5508720" y="260280"/>
            <a:ext cx="34909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1862 году князь Йоханнес II подписал конституцию, которая предусматривала ограничение княжеской власти избираемым парламентом. А в 1921 году была принята новая конституция, дарующая подданным княжества все демократические права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ле Второй мировой войны, княжество сделало большой скачок в своем экономическом развитии, превратившись за несколько десятилетий в одну из самых развитых стран Евро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43812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2"/>
          <p:cNvSpPr/>
          <p:nvPr/>
        </p:nvSpPr>
        <p:spPr>
          <a:xfrm>
            <a:off x="0" y="189000"/>
            <a:ext cx="9144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бственных вооруженных сил нет. Оборона государства возложена на армию Швейцарии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Дипломатические и консульские интересы Лихтенштейна за рубежом с 1919 представляет Швейцария, состоящая с ним в таможенном и почтовом союзах. В Швейцарии и в Ватикане у Лихтенштейна есть свой посол (согласно традиции, он должен принадлежать к правящей княжеской семь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хтенштейн — процветающая индустриальная страна с развитым сектором финансовых услуг и высоким уровнем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7"/>
          <p:cNvSpPr/>
          <p:nvPr/>
        </p:nvSpPr>
        <p:spPr>
          <a:xfrm>
            <a:off x="0" y="836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авная отрасль экономики — обрабатывающая промышл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5164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2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фициальный язык — немецкий, в быту — алеманнский диалект немецкого язы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льшинство верующих (76 %) исповедуют католицизм, протестантов — около 7 % насе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5160" cy="686592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2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99"/>
                </a:solidFill>
                <a:latin typeface="Times New Roman"/>
              </a:rPr>
              <a:t>Насел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5 360 человек, средняя плотность 220 человек на км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едняя продолжительность жиз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ужчин — 76,6 лет, женщин — 83,5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льшая часть жителей — лихтенштейнцы, 65,6 % по переписи 2000 года, остальные — итальянцы, швейцарцы и австрий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2381400" cy="276228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2"/>
          <p:cNvSpPr/>
          <p:nvPr/>
        </p:nvSpPr>
        <p:spPr>
          <a:xfrm>
            <a:off x="0" y="0"/>
            <a:ext cx="35640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</a:rPr>
              <a:t>Вадуц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столица Лихтенштейна содержит большую часть интересных объектов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"/>
          <p:cNvSpPr/>
          <p:nvPr/>
        </p:nvSpPr>
        <p:spPr>
          <a:xfrm>
            <a:off x="0" y="189000"/>
            <a:ext cx="392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ан: XIII век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селение: 5100 человек (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5334120" y="4438800"/>
            <a:ext cx="3809880" cy="241920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5"/>
          <p:cNvSpPr/>
          <p:nvPr/>
        </p:nvSpPr>
        <p:spPr>
          <a:xfrm>
            <a:off x="7780320" y="458136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мок Ваду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3"/>
          <a:stretch/>
        </p:blipFill>
        <p:spPr>
          <a:xfrm>
            <a:off x="0" y="3809880"/>
            <a:ext cx="3809880" cy="304812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7"/>
          <p:cNvSpPr/>
          <p:nvPr/>
        </p:nvSpPr>
        <p:spPr>
          <a:xfrm>
            <a:off x="0" y="3789360"/>
            <a:ext cx="40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иходская церковь Святого Флори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4"/>
          <a:stretch/>
        </p:blipFill>
        <p:spPr>
          <a:xfrm>
            <a:off x="5334120" y="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9"/>
          <p:cNvSpPr/>
          <p:nvPr/>
        </p:nvSpPr>
        <p:spPr>
          <a:xfrm>
            <a:off x="6436440" y="0"/>
            <a:ext cx="26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авительственное Зд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5"/>
          <a:stretch/>
        </p:blipFill>
        <p:spPr>
          <a:xfrm>
            <a:off x="3995640" y="3068640"/>
            <a:ext cx="3810240" cy="295272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11"/>
          <p:cNvSpPr/>
          <p:nvPr/>
        </p:nvSpPr>
        <p:spPr>
          <a:xfrm>
            <a:off x="3930480" y="3068640"/>
            <a:ext cx="145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расный Д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2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65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inion Pro Cond"/>
              </a:rPr>
              <a:t>Княжество Лихтенштен</a:t>
            </a:r>
            <a:br>
              <a:rPr sz="5400"/>
            </a:b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51280" y="2492280"/>
            <a:ext cx="4968720" cy="31464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Monotype Corsiva"/>
              </a:rPr>
              <a:t>"экзотическое" государство, расположенное в Центральной Европе</a:t>
            </a:r>
            <a:r>
              <a:rPr b="0" lang="en-US" sz="4000" spc="-1" strike="noStrike">
                <a:solidFill>
                  <a:srgbClr val="0000ff"/>
                </a:solidFill>
                <a:latin typeface="Monotype Corsiva"/>
              </a:rPr>
              <a:t>.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2643120" cy="448452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2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286680" y="4957920"/>
            <a:ext cx="2857320" cy="19000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6960960" y="4653000"/>
            <a:ext cx="187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50 видов раст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6286680" y="2565360"/>
            <a:ext cx="2857320" cy="208584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6"/>
          <p:cNvSpPr/>
          <p:nvPr/>
        </p:nvSpPr>
        <p:spPr>
          <a:xfrm>
            <a:off x="6882120" y="220500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20 видов бабоче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5449680" y="189000"/>
            <a:ext cx="18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льпийский сусл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3"/>
          <a:stretch/>
        </p:blipFill>
        <p:spPr>
          <a:xfrm>
            <a:off x="7524720" y="0"/>
            <a:ext cx="1428840" cy="214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4"/>
          <a:stretch/>
        </p:blipFill>
        <p:spPr>
          <a:xfrm>
            <a:off x="3132000" y="5000760"/>
            <a:ext cx="2857680" cy="185724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10"/>
          <p:cNvSpPr/>
          <p:nvPr/>
        </p:nvSpPr>
        <p:spPr>
          <a:xfrm>
            <a:off x="3860640" y="4653000"/>
            <a:ext cx="13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лина Рей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5"/>
          <a:stretch/>
        </p:blipFill>
        <p:spPr>
          <a:xfrm>
            <a:off x="0" y="4886280"/>
            <a:ext cx="2857680" cy="197172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12"/>
          <p:cNvSpPr/>
          <p:nvPr/>
        </p:nvSpPr>
        <p:spPr>
          <a:xfrm>
            <a:off x="476280" y="4508640"/>
            <a:ext cx="181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олотный журав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3"/>
          <p:cNvSpPr/>
          <p:nvPr/>
        </p:nvSpPr>
        <p:spPr>
          <a:xfrm>
            <a:off x="12240" y="260280"/>
            <a:ext cx="522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</a:rPr>
              <a:t>Географические дан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4"/>
          <p:cNvSpPr/>
          <p:nvPr/>
        </p:nvSpPr>
        <p:spPr>
          <a:xfrm>
            <a:off x="0" y="1123920"/>
            <a:ext cx="6227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няжество находится в отрогах Альп, самая высокая точка — гора Граушпиц (2 599 м). По западной части страны протекает одна из крупнейших рек Западной Европы — Рейн. Климат умеренный, осадков 700—1 200 мм в год. Около четверти территории покрыто лесами (ель, бук, дуб), в горах — субальпийские и альпийские л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3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Флаг Лихтенштейна</a:t>
            </a:r>
            <a:br>
              <a:rPr sz="4400"/>
            </a:b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8640" cy="529596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3"/>
          <p:cNvSpPr/>
          <p:nvPr/>
        </p:nvSpPr>
        <p:spPr>
          <a:xfrm>
            <a:off x="3203640" y="1268280"/>
            <a:ext cx="5689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   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иний цвет символизирует синеву неба над страной, красный - яркие закаты солнца в горах Лихтенштей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   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 Олимпийских играх 1936 года лихтенштейнцы с огорчением увидели одинаковый с их флагом национальный флаг Гаити. Поэтому в 1937 году на синюю полосу флага Лихтенштейна была добавлена  княжеская корона - символ княжеской власти,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Герб Лихтенштейна</a:t>
            </a:r>
            <a:br>
              <a:rPr sz="4400"/>
            </a:b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1904760" cy="22953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3"/>
          <p:cNvSpPr/>
          <p:nvPr/>
        </p:nvSpPr>
        <p:spPr>
          <a:xfrm>
            <a:off x="2340000" y="1341360"/>
            <a:ext cx="6804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нтия и корона вокруг геральдического щита символизируют монархический государственный строй и власть князя (династия возведена в княжеское достоинство в 1628 году). Золотой и красный цвета центрального щитка - родовые цвета Лихтенштейн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правом верхнем углу щита изображен на желтом поле черный коронованный орел; на его груди - белая серпообразная фигура, увенчанная двумя кленовыми листьями и крестом. Это земельный герб Австрийской Силезии, где находились прежние владения Лихтенштейнов. В левом верхнем углу восемь желтых и черных горизонтальных полос с пересекающей их по диагонали зеленой с коронами полосой - герб древнего рода фон Куэнрин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низу щита три геральдические фигуры. Рассеченный по вертикали красно-белый щит - герб герцогства Троппау. Золотой охотничий рог на синем поле - герб герцогства Егерндорф, название которого переводится как "Охотничья деревня". Наконец, черный коронованный орел с женской головой  на желтом поле напоминает о родстве Лихтенштейнов с восточнофри-сландскими графами и непродолжительном владении Ритбергом. В прошлом гербовый щит Лихтенштейнов окружала цепь с орденом Золотого Ру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Гимн Лихтенштейна</a:t>
            </a:r>
            <a:br>
              <a:rPr sz="4400"/>
            </a:b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7302600" y="580536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ка Рей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Liechtenstein_anthem.mp3" descr=""/>
          <p:cNvPicPr/>
          <p:nvPr/>
        </p:nvPicPr>
        <p:blipFill>
          <a:blip r:embed="rId2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Государственное устройство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Лихтенштейна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Прямоугольник 2"/>
          <p:cNvSpPr/>
          <p:nvPr/>
        </p:nvSpPr>
        <p:spPr>
          <a:xfrm>
            <a:off x="3635280" y="1557360"/>
            <a:ext cx="511344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хтенштейн — конституционная наследственная монархия (с 1862). Действующая конституция вступила в силу 5 октября 1921. В марте 2003 на референдуме была принята новая редакция конституции, расширяющая полномочия княз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Глава государства — князь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онодательная власть принадлежит князю и ландтагу (однопалатному парламенту), состоящему из 15 членов, избираемых на 4 года. Исполнительный орган — правительство во главе с премьер-минист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4"/>
          <p:cNvSpPr/>
          <p:nvPr/>
        </p:nvSpPr>
        <p:spPr>
          <a:xfrm>
            <a:off x="0" y="5661000"/>
            <a:ext cx="70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5-й Правящий Князь Лихтенштейн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Ханс-Адам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3247920" cy="406080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619360" cy="366696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3"/>
          <p:cNvSpPr/>
          <p:nvPr/>
        </p:nvSpPr>
        <p:spPr>
          <a:xfrm>
            <a:off x="261360" y="299736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нягиня Ма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5"/>
          <p:cNvSpPr/>
          <p:nvPr/>
        </p:nvSpPr>
        <p:spPr>
          <a:xfrm>
            <a:off x="2700360" y="1628640"/>
            <a:ext cx="295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лоиз наследный князь Лихтенште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6"/>
          <p:cNvSpPr/>
          <p:nvPr/>
        </p:nvSpPr>
        <p:spPr>
          <a:xfrm>
            <a:off x="6119640" y="112392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нц Максимилиан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нц Константин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нцесса Татья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5848200" y="2436840"/>
            <a:ext cx="3295800" cy="4421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2987640" y="2492280"/>
            <a:ext cx="2421000" cy="3248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4"/>
          <a:stretch/>
        </p:blipFill>
        <p:spPr>
          <a:xfrm>
            <a:off x="250920" y="3693960"/>
            <a:ext cx="2342880" cy="314352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8"/>
          <p:cNvSpPr/>
          <p:nvPr/>
        </p:nvSpPr>
        <p:spPr>
          <a:xfrm>
            <a:off x="3923280" y="189000"/>
            <a:ext cx="419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62699"/>
                </a:solidFill>
                <a:latin typeface="Times New Roman"/>
              </a:rPr>
              <a:t>Княжеская сем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9"/>
          <p:cNvSpPr/>
          <p:nvPr/>
        </p:nvSpPr>
        <p:spPr>
          <a:xfrm>
            <a:off x="2787480" y="6237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нягиня 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История Лихтенштейна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2843280" y="836640"/>
            <a:ext cx="6049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рритория современного Лихтенштейна была заселена еще в ранний период каменного века. В 15 году до н. э. территория была освоена римлянами, однако уже в V в. н.э. они были вынуждены уступить ее германским племенам. В средние века здесь господствовали представители нескольких знатных родов. Лишь в 1396 году оформился государственный статус графства Вадуц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конце XVII в. князь Йоханн Адам Андреас фон Лихтенштейн выкупил эти территории, и уже в начале XVIII в. основал княжество Лихтенштейн. В течение всего XVIII в. княжество боролось за свой суверенитет, и в начале XIX в., благодаря участию в так называемом Рейнском союзе (1806), основанном Наполеоном, достигло в этом немалых успехов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981000"/>
            <a:ext cx="2857680" cy="181476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4"/>
          <p:cNvSpPr/>
          <p:nvPr/>
        </p:nvSpPr>
        <p:spPr>
          <a:xfrm>
            <a:off x="360" y="2852640"/>
            <a:ext cx="255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аскопки возле Гутенбе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0" y="3500280"/>
            <a:ext cx="2857680" cy="145764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6"/>
          <p:cNvSpPr/>
          <p:nvPr/>
        </p:nvSpPr>
        <p:spPr>
          <a:xfrm>
            <a:off x="16560" y="5084640"/>
            <a:ext cx="25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аринная карта княж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16:22:12Z</dcterms:created>
  <dc:creator>Admin</dc:creator>
  <dc:description>Use this template to create presentations with an abstract yet sophisticated look.</dc:description>
  <cp:keywords>exciting online presentation communicate impactful exchange information broadcast collaborate on-screen projector white</cp:keywords>
  <dc:language>en-US</dc:language>
  <cp:lastModifiedBy>LEGION</cp:lastModifiedBy>
  <dcterms:modified xsi:type="dcterms:W3CDTF">2014-12-30T11:49:55Z</dcterms:modified>
  <cp:revision>32</cp:revision>
  <dc:subject/>
  <dc:title>Княжество Лихтенштей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ttribution">
    <vt:lpwstr>Copyright © 2003 KMT Software, Inc.</vt:lpwstr>
  </property>
  <property fmtid="{D5CDD505-2E9C-101B-9397-08002B2CF9AE}" pid="3" name="Folder">
    <vt:lpwstr>Nouveau</vt:lpwstr>
  </property>
  <property fmtid="{D5CDD505-2E9C-101B-9397-08002B2CF9AE}" pid="4" name="Style">
    <vt:lpwstr>P</vt:lpwstr>
  </property>
  <property fmtid="{D5CDD505-2E9C-101B-9397-08002B2CF9AE}" pid="5" name="Template">
    <vt:lpwstr>Paper Sprockets</vt:lpwstr>
  </property>
</Properties>
</file>