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054F-6CB8-4B83-9DE0-CAC03CFE672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3CDB-3D8E-4532-AABA-0FAAADFE6F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B71F-4D3F-448F-988F-C70BDF1216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CCF9-A81A-43CB-BF77-E7BB2C387F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51F6-CFF7-4BA5-98D2-DACFC9224D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B88-B0C6-4C7E-8B4D-476619F273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04B1-1D91-4C36-9C2D-943321B69B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1A48-982D-4811-B829-84E74DC7E2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D9B-4C48-477E-ADB7-84907A681E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"экзотическое" государство, расположенное в Центральной Евро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92B-1AFE-4924-8CF3-ABC0BF312E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87AB-2355-4E5B-AE01-618FAA04A1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лаг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216D-0137-435F-8BD4-B00483BA02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ерб Лихтенштей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B685-2884-40F2-AEDB-8F3F711FAC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имн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0389-E675-4E7B-B8EE-4DEBFF0933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6E35-DB72-400D-9278-AD0395B8B9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CBE8-F154-4FC3-8925-EB9F969B9F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История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C417-02EF-4199-BC49-C55E13FE9F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FE2-CEC7-4954-AF9A-502D6F2A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5E6-BE74-4F37-B5E5-5D674D92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B11-BC8F-4E0E-9084-EFE040B6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95B-8049-4AD3-A80B-A5485C16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EEC-2AF4-4964-88F1-063BFA47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3D1-4A02-49CF-893F-FE375F26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064-873C-4159-B7F0-33F4F6EB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8F1-B30D-46BC-809D-1E6164C8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E00-C8CC-4B82-8127-7186D4D0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2AB-E27C-45CB-91BE-89A27A3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326-36C9-495F-96E7-916C6669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864-92C9-43D8-BBEE-7D2B631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259-5D82-4E94-BA3F-F66B6B7E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78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508720" y="260280"/>
            <a:ext cx="349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18900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ая отрасль экономики — обрабатывающ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381400" cy="276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0" y="0"/>
            <a:ext cx="356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аду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толица Лихтенштейна содержит большую часть интересных объектов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0" y="1890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334120" y="4438800"/>
            <a:ext cx="3809880" cy="2419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7780320" y="45813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мок Ваду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0" y="3789360"/>
            <a:ext cx="40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ходская церковь Святого Фло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"/>
          <p:cNvSpPr/>
          <p:nvPr/>
        </p:nvSpPr>
        <p:spPr>
          <a:xfrm>
            <a:off x="6436440" y="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тельственное 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3995640" y="3068640"/>
            <a:ext cx="381024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1"/>
          <p:cNvSpPr/>
          <p:nvPr/>
        </p:nvSpPr>
        <p:spPr>
          <a:xfrm>
            <a:off x="3930480" y="306864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ый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54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51280" y="2492280"/>
            <a:ext cx="4968720" cy="314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"экзотическое" государство, расположенное в Центральной Европе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643120" cy="44845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86680" y="4957920"/>
            <a:ext cx="285732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960960" y="46530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50 видов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86680" y="2565360"/>
            <a:ext cx="2857320" cy="2085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6882120" y="2205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0 видов баб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449680" y="1890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ьпийский сус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524720" y="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3132000" y="5000760"/>
            <a:ext cx="2857680" cy="1857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3860640" y="465300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ина Р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0" y="48862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2"/>
          <p:cNvSpPr/>
          <p:nvPr/>
        </p:nvSpPr>
        <p:spPr>
          <a:xfrm>
            <a:off x="476280" y="45086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отный журав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12240" y="26028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0" y="112392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3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лаг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8640" cy="5295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203640" y="1268280"/>
            <a:ext cx="56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ерб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904760" cy="229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2340000" y="1341360"/>
            <a:ext cx="680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имн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2600" y="58053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а Р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iechtenstein_anthem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осударственное устройство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635280" y="1557360"/>
            <a:ext cx="5113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хтенштейн — конституционная наследственная монархия (с 1862). Действующая конституция вступила в силу 5 октября 1921. В марте 2003 на референдуме была принята новая редакция конституции, расширяющая полномочия кня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государства — князь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ная власть принадлежит князю и ландтагу (однопалатному парламенту), состоящему из 15 членов, избираемых на 4 года. Исполнительный орган — правительство во главе с премьер-минис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5661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-й Правящий Князь Лихтенштей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нс-Ада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47920" cy="40608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193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61360" y="299736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гиня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700360" y="162864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оиз наследный князь Лихте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6119640" y="11239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Максимилиа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Констант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есс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848200" y="2436840"/>
            <a:ext cx="3295800" cy="442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421000" cy="324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50920" y="3693960"/>
            <a:ext cx="234288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39232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87480" y="6237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ягиня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стория 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43280" y="836640"/>
            <a:ext cx="6049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2857680" cy="18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60" y="2852640"/>
            <a:ext cx="25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скопки возле Гутен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14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16560" y="50846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инная карта кня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22:12Z</dcterms:created>
  <dc:creator>Admin</dc:creator>
  <dc:description>Use this template to create presentations with an abstract yet sophisticated look.</dc:description>
  <cp:keywords>exciting online presentation communicate impactful exchange information broadcast collaborate on-screen projector white</cp:keywords>
  <dc:language>en-US</dc:language>
  <cp:lastModifiedBy>LEGION</cp:lastModifiedBy>
  <dcterms:modified xsi:type="dcterms:W3CDTF">2014-12-30T11:49:55Z</dcterms:modified>
  <cp:revision>32</cp:revision>
  <dc:subject/>
  <dc:title>Княжество Лихтенштей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ouveau</vt:lpwstr>
  </property>
  <property fmtid="{D5CDD505-2E9C-101B-9397-08002B2CF9AE}" pid="4" name="Style">
    <vt:lpwstr>P</vt:lpwstr>
  </property>
  <property fmtid="{D5CDD505-2E9C-101B-9397-08002B2CF9AE}" pid="5" name="Template">
    <vt:lpwstr>Paper Sprockets</vt:lpwstr>
  </property>
</Properties>
</file>