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FB6E-3ACB-4317-90FC-BBB9D0A36942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1CC6-E83F-4BDF-BAE7-01213099F5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C689-0CD4-4322-8D84-BF755B635A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1B0E-2C2F-4207-B0C2-3916DBDBDA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62F5-030D-4F3F-8F2C-8EA7953974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25DB-E810-47F0-AE0E-A4F95702BF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B7F5-71A6-42F9-A37B-1578E5DD0A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D0D1-18A8-4331-A247-275DF2A393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570A-E3B0-4869-B106-ECBA20E879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"экзотическое" государство, расположенное в Центральной Евро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58A0-54E0-4CF8-B512-91B94E67C7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187C-7CB0-4556-981D-E46F048516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лаг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013A-F2A2-49EF-9616-11FA7B0F77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ерб Лихтенштей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18C-99C5-4FE2-B52E-7A3E5FDAAA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имн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D6A4-93EC-4869-AE1D-6E3740A6B7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1F3D-A68A-44AA-B98E-A678A8E73B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B1A5-B999-4A53-9CDF-B848F8D0FC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История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EBFB-7D9C-4EE3-AF55-119188888B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02C-454A-46B8-90B6-4CDF2312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362-8DF5-42A0-BCF7-3777E798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892-48E1-49D3-9417-D9E8F7C2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904-605E-446A-89E0-6B87D024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724-C25A-4752-A8D2-09E36C6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643-B346-4BAB-B71B-7B9180FC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03E-5627-4C49-B50C-519D31C0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406-D243-410D-9D07-9A2C33FD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1D7-1050-4D45-A744-F13843D3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CCA-49E4-45BC-B46C-42B9DB37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DA4-976D-4F24-9126-C26BB85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236-4421-42CC-AB1A-3214E945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B693-103B-4B96-9763-A7F302BD1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78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508720" y="260280"/>
            <a:ext cx="349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0" y="18900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ая отрасль экономики — обрабатывающ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51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2381400" cy="2762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0" y="0"/>
            <a:ext cx="356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аду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толица Лихтенштейна содержит большую часть интересных объектов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0" y="1890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334120" y="4438800"/>
            <a:ext cx="3809880" cy="2419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7780320" y="45813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мок Ваду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0" y="3789360"/>
            <a:ext cx="40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ходская церковь Святого Фло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"/>
          <p:cNvSpPr/>
          <p:nvPr/>
        </p:nvSpPr>
        <p:spPr>
          <a:xfrm>
            <a:off x="6436440" y="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тельственное З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3995640" y="3068640"/>
            <a:ext cx="381024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1"/>
          <p:cNvSpPr/>
          <p:nvPr/>
        </p:nvSpPr>
        <p:spPr>
          <a:xfrm>
            <a:off x="3930480" y="306864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ый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54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51280" y="2492280"/>
            <a:ext cx="4968720" cy="3146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"экзотическое" государство, расположенное в Центральной Европе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643120" cy="44845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286680" y="4957920"/>
            <a:ext cx="2857320" cy="1900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6960960" y="46530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50 видов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86680" y="2565360"/>
            <a:ext cx="2857320" cy="2085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6882120" y="22050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0 видов баб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449680" y="18900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льпийский сус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7524720" y="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3132000" y="5000760"/>
            <a:ext cx="2857680" cy="18572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>
            <a:off x="3860640" y="465300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ина Р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0" y="4886280"/>
            <a:ext cx="285768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2"/>
          <p:cNvSpPr/>
          <p:nvPr/>
        </p:nvSpPr>
        <p:spPr>
          <a:xfrm>
            <a:off x="476280" y="45086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отный журав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12240" y="26028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0" y="112392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3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лаг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8640" cy="5295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203640" y="1268280"/>
            <a:ext cx="568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ерб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904760" cy="2295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2340000" y="1341360"/>
            <a:ext cx="680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имн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302600" y="58053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а Р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Liechtenstein_anthem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осударственное устройство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635280" y="1557360"/>
            <a:ext cx="5113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хтенштейн — конституционная наследственная монархия (с 1862). Действующая конституция вступила в силу 5 октября 1921. В марте 2003 на референдуме была принята новая редакция конституции, расширяющая полномочия кня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а государства — князь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дательная власть принадлежит князю и ландтагу (однопалатному парламенту), состоящему из 15 членов, избираемых на 4 года. Исполнительный орган — правительство во главе с премьер-минис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5661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-й Правящий Князь Лихтенштей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нс-Ада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47920" cy="40608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19360" cy="3666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61360" y="299736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гиня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700360" y="162864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оиз наследный князь Лихтеншт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6119640" y="11239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Максимилиа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Констант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есс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848200" y="2436840"/>
            <a:ext cx="3295800" cy="442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421000" cy="324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50920" y="3693960"/>
            <a:ext cx="234288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3923280" y="189000"/>
            <a:ext cx="41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787480" y="6237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ягиня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История 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43280" y="836640"/>
            <a:ext cx="6049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2857680" cy="1814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60" y="2852640"/>
            <a:ext cx="25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скопки возле Гутен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145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16560" y="508464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инная карта кня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6:22:12Z</dcterms:created>
  <dc:creator>Admin</dc:creator>
  <dc:description>Use this template to create presentations with an abstract yet sophisticated look.</dc:description>
  <cp:keywords>exciting online presentation communicate impactful exchange information broadcast collaborate on-screen projector white</cp:keywords>
  <dc:language>en-US</dc:language>
  <cp:lastModifiedBy>LEGION</cp:lastModifiedBy>
  <dcterms:modified xsi:type="dcterms:W3CDTF">2014-12-30T11:49:55Z</dcterms:modified>
  <cp:revision>32</cp:revision>
  <dc:subject/>
  <dc:title>Княжество Лихтенштей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ouveau</vt:lpwstr>
  </property>
  <property fmtid="{D5CDD505-2E9C-101B-9397-08002B2CF9AE}" pid="4" name="Style">
    <vt:lpwstr>P</vt:lpwstr>
  </property>
  <property fmtid="{D5CDD505-2E9C-101B-9397-08002B2CF9AE}" pid="5" name="Template">
    <vt:lpwstr>Paper Sprockets</vt:lpwstr>
  </property>
</Properties>
</file>