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7AAC-087E-4FF1-9788-101092F739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49cdc"/>
                </a:solidFill>
                <a:latin typeface="Calibri"/>
              </a:rPr>
              <a:t>Инфекционные заболе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787D-1EB4-4CE5-BB70-214B7EFCCC1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84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49cdc"/>
                </a:solidFill>
                <a:latin typeface="Calibri"/>
              </a:rPr>
              <a:t>ТУЛЯРЕМ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ая инфекционная болезн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ющаяся лихорадкой, общ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оксикацией, поражен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мфатического аппарата, кож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изистых оболоче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ри аэрогенном инфицировании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их: относится к зоонозам 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ной очагов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а во многих район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и, источником 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ат многие грызу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D391-0248-49E7-836F-932EBF1F931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8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49cdc"/>
                </a:solidFill>
                <a:latin typeface="Calibri"/>
              </a:rPr>
              <a:t>ХОЛЕ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ая инфекционная боле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ся развитием водянист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оса и рвоты, нарушениями водн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литного обмена, развит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волемического шока, расстройств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почек. Относится к особ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м инфекциям. Возбудитель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лерный вибрион двух разновид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м экзотоксина холерного вибрио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пителий слизистой оболоч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нкой кишки обусловлена потеря жидк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мом. Морфологическ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й эпителиальных клеток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лежащих тканей стенки кишки 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2CF3-0896-48F9-83F0-52C16D3D669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акже имеют место такие понятия, как эпифитотия и эпизоотия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фитотия (от эпи... и греч. phytón — растение), распространение инфекционной болезни растений на значительные территории (хозяйство, район, область) в течение определенного времени. В виде Эпифитотия обычно проявляются ржавчина и головня хлебных злаков, фитофтороз картофеля, парша яблони, увядание хлопчатника, шютте снежное и обыкновенное и другие инфекционные заболе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шлом Эпифитотия причиняли большой ущерб. Известны значительные потери урожая картофеля от фитофтороза в 40-х гг. 19 в. в Ирландии, подсолнечника — от ржавчины в 60-х гг. 19 в. в России, пшеницы — от стеблевой ржавчины в Амурской области в 1923. С повышением культуры земледелия, с разработкой методики прогнозирования массовых заболеваний растений, применением эффективных мер борьбы с ними Эпифитотия стали более редк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0B35-A065-46EB-9A01-D9F41DA0891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о Эпифитотия возникают из отдельных очагов болезни при благоприятных условиях (накопление и способность к быстрому распространению инфекционного начала, погодные факторы, способствующие размножению возбудителя и развитию болезни, достаточное количество восприимчивых растений). Фитопатогенные микроорганизмы распространяются из мест резервации и заражают большое число растений. В результате образования нескольких генераций возбудителя создаются новые укрупнённые очаги болезни, расширяется район (зона) поражения, возникает Эпифитотия В зависимости от типа болезни, особенностей возбудителя, растения-хозяина и внешних факторов Эпифитотия развиваются быстро или медленно, с периодическими вспышками при благоприятных условиях. Изучением различных сторон эпифитотического процесса занимается сравнительно молодая область науки — эпифитотиолог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3C43-A48A-468D-B31B-7BDB3E5E1EA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49cdc"/>
                </a:solidFill>
                <a:latin typeface="Calibri"/>
              </a:rPr>
              <a:t>Эпизоо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зоотия (греч. ἐπι — на, среди; ζῷον — животное) — широкомасштабное распространение инфекционной болезни среди одного или многих видов животных на определённой территории, значительно превышающее уровень заболеваемости, обычно регистрируемый на данной территории. Говоря нестрого, эпизоотия — это «эпидемия у животных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, изучающая эпизоотии, называется эпизоотоло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9E5B-5E6D-4C9E-B079-7ED74613A4C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49cdc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овременный человек на протяжении своей жизни находится в различных средах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оциальной, производственной, местной (городской, сельской), бытовой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иродной и др. Человек и среда его обитания образуют систему, состоящую из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ножества взаимодействующих элементов, имеющую упорядоченность в определенны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границах и обладающую специфическими свойствами. Такое взаимодействи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пределяется множеством факторов и оказывает влияние как на самого человека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ак и на соответствующую среду его обитания. Это влияние может быть, с одно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тороны, положительным, с другой – одновременно и отрицательным (негативным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Негативные воздействия факторов природной среды проявляются главным образом 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чрезвычайных ситуациях. Эти ситуации могут быть следствием, как стихийны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бедствий, так и производственной деятельности человек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ЧРЕЗВЫЧАЙНАЯ СИТУАЦИЯ – это обстановка на определенной территории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ложившаяся в результате аварии, опасного природного явления, катастрофы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тихийного или иного бедствия, которая может повлечь или повлекла за собо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человеческие жертвы, ущерб здоровью людей или окружающей природной среде, 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акже значительные материальные потери и нарушение условий жизнедеятельности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ЧС классифицируются по характеру источника и по масштабам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о характеру источника чрезвычайные ситуации делятся на техногенные и природные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 природным кроме пожара, извержения вулкана и всего прочего относятся и эпидемии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EEB8-A057-4409-A55B-8C490EBE5D2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49cdc"/>
                </a:solidFill>
                <a:latin typeface="Calibri"/>
              </a:rPr>
              <a:t>Спасибо за вним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3F3A-3103-4FB5-A306-1F50BEB3B5D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84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49cdc"/>
                </a:solidFill>
                <a:latin typeface="Calibri"/>
              </a:rPr>
              <a:t>Эпидемии и Инфекционные заболева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ДЕМИЯ (греч. epidemia), массовое распространение инфекцио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ния человека в какой-либо местности, стране, значите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вышающее обычный уровень забол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екционные болезни людей – это заболевания, вызванные болезнетвор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организмами и передающиеся от зараженного человека или животного -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ому. Ежегодно на Земле переносят инфекционные заболевания свыше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рд.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демия – это массовое распространение инфекционного заболевания людей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-либо местности или стране, значительно превышающее общий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2C6F-E1F8-4EC8-B594-BE60A297069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84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49cdc"/>
                </a:solidFill>
                <a:latin typeface="Calibri"/>
              </a:rPr>
              <a:t>Далее расскажем подробнее о некоторых болезня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МА (pest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ая природно-очаговая инфекционная болезнь, вызываемая палочкой чумы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ersinia pestis. Относится к особо опасным инфекциям. На земном ша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ется ряд природных очагов, где чума постоянно встречается у небольш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а обитающих там грызунов. Эпидемии чумы среди людей часто 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словлены миграцией крыс, заражающихся в природных очагах. От грызунов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у микробы передаются через блох, которые при массовой гиб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тных меняют хозяина. Кроме того, возможен путь заражения при обработ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отниками шкур убитых зараженных животных. Принципиально иным явля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жение от человека к человеку, осуществляемое воздушно-капельным пут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спорадических случаях чумы сообщается в разных странах, в том числе в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336A-6FEB-4FD2-900E-D67CC5F72EE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Этиология, патогене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озбудитель чумы устойчив и низким температурам, хорошо сохраняется 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окроте, но при температуре 55 °С погибает в течение 10-15 мин, а пр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ипячении - практически немедленно. Попадает в организм через кожу (при укус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блохи), слизистые оболочки дыхательных путей, пищеварительного тракта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онъюнктивы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и укусе зараженных чумными бактериями блох у человека на месте укуса може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озникнуть папула или пустула, наполненная геморрагическим содержимым (кожна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форма). Затем процесс распространяется по лимфатическим сосудам без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оявления лимфангита. Размножение бактерий в макрофагах лимфатических узл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иводит к их резкому увеличению, слиянию и образованию конгломера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бубонная форма). Дальнейшая генерализация инфекции, которая не являетс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трого обязательной, тем более в условиях современной антибактериально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ерапии, может приводить к развитию септической формы, сопровождающейс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оражением практически всех внутренних органов. Однако с эпидемиологически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озиций важнейшую роль играют "отсевы" инфекции в легочную ткань с развитие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легочной формы болезни. С момента развития чумной пневмонии больной челове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ам становится источником заражения, но при этом от человека к человеку уж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ередается легочная форма болезни - крайне опасная, с очень быстрым течением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E521-8290-4F25-A02F-93265CDA0CA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ИБИРСКАЯ ЯЗ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ое инфекционное заболевание из группы зоонозов. У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екает в виде кожной, легочной, кишечной и септической фо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иология, патогенез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будитель - относительно крупная сибиреязвенная палочка; образ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ры И капсулу. Вегетативная форма возбудителя погибает без дост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уха, При прогревании, воздействии дезинфицирующих средств. Сп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будителя во внешней среде весьма устойчи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CEB6-BC58-421C-BE5B-A9088E2F033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имптомы, течени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Инкубационный период от нескольких часов до 8 дней (чаще 2-3 дня). Наиболее часто сибирская язва у человека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протекает в виде кожной формы (95-99% случаев) и лишь у 1-5% больных- в виде легочной и кишечной. Типичные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проявления кожной формы сибирской  язвы возникают в зоне  ворот инфекции. Вначале появляется красное зудящее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пятнышко, которое быстро превращается в папулу, а последняя - в  везикулу с прозрачным или геморрагическим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содержимым. Больной при продолжающемся зуде срывает пузырек, на его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месте образуется  язвочка с темным дном и  обильным серозным отделяемым. По периферии язвочки развивается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воспалительный валик, в зоне которого образуются  дочерние пузырьки. Одновременно с этим вокруг язвочки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развивается отек (может' быть весьма обширным) и регионарный  лимфаденит. Характерно  Отсутствие чувствительности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в области дна язвочки, а также отсутствие болезненности в области увеличенных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лимфатических узлов. К моменту образования язвочки появляется лихорадка, которая продолжается в течение 5-7 дней,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общая слабость,  разбитость, головная боль, адинамия. Местные изменения в области поражения нарастают примерно в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течение тех же сроков, что и лихорадка, а затем  начинается обратное развитие: сначала снижается температура тела,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прекращается отдаление серозной жидкости из зоны некроза, начинается уменьшение (до  полного исчезновения) отека,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а на месте некроза постепенно формируется струп. На 10-14-й день струп отторгается, образуется язва с гранулирующим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дном И умеренным гнойным отделяемым с последующим рубцеванием. Легочная форма сибирской язвы начинается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остро, протекает тяжело. Проявляется болью в  груди, одышкой, цианозом, тахикардией (до 120-140 в 1 мин), кашлем с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отделением пенистой кровянистой мокроты.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Температура тела быстро достигает высоких цифр (40° С и выше), АД снижается. Кишечная форма сибирской язвы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характеризуется общей интоксикацией, повышением температуры тела, болью в эпигастральной области, поносом и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рвотой. Живот вздут, резко болезнен при пальпации, нередко имеются признаки раздражения брюшины. В рвотных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массах и выделениях из кишечника появляется примесь крови. При любой из описанных форм сибирской язвы может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развиться сепсис с бактериемией и вторичными очагами (поражение печени, селезенки, почек, мозговых оболочек). Для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диагностики важны эпидемиологические данные (профессия больного, контакт с больными животными или зараженным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сырьем животного происхождения) и характерные поражения кожи. Лабораторным подтверждением диагноза является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выделение возбудителя сибирской язвы. Вспомогательное значение имеет аллергическая проба с антраксином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9FB5-679B-4171-9628-D0D6A3CE38B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0F5A-313A-4D7E-B556-894D9F740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28F9-A972-4DE4-97F3-64514350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0035-39CC-4FC7-8895-4B981993F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E787-6F42-427D-A7E9-6CFF8DD2C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F291-DDB2-41D5-9B09-CDE7343B7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9EBC-FC6D-4481-987B-E2F3A9D9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40AE-27F1-47AF-93A6-36C93B91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724B-4CDF-470D-8F96-AC3C6BE6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87B3-278B-4FFD-8E39-5D4819B9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D89F-1FCD-4DBF-B9F7-9C4A551E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399B-7B36-4121-8488-892676BB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B967-7B24-4E3B-8719-84E0AF91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5203-6A96-4249-AABF-7949B0CE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E364-1DE7-4880-ABAE-04EBCFFE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3E29-5C99-4401-88F3-971019B3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31A0-7638-4280-BDCF-C0FA3BD21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BDD4-F342-4E8A-8AD5-36081AB9E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DC5CB-E86F-4729-BD5F-4A2CC9B0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8395F-DBF4-4D1F-B919-FF6ECEC5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BEC00-1178-4E4E-A1DE-F18CDD1D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8B134-7018-4E25-B070-19F8091E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8F13F-2852-40C4-BBEC-ED323819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ACD2-584C-47D0-AF1C-3C3C3C70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4F3D5-AD59-4A9D-BE12-6A1D3A29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12A3B-210C-43BD-811A-E7CE5BD7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AA953-A094-440E-96C1-D365E86B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81C7F-0283-4F8B-85DA-E360BA1C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88B28-9DA4-4D3B-BFEE-84EE521C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4BC90-A757-4DC4-AD0F-8001B2D57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F78B4-0342-4D9F-8675-D5B8CC50C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97200-539C-43AE-B347-F8651BD03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8FAD7-BFF5-4FBC-B118-5B50ABE3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A6DDF-74F2-4771-A04C-677D8030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26A8-7E99-4B39-B7E7-6AF14BFD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73AD3-A6AB-4050-85B0-FF254CFD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02541-FC6E-4CA8-88FD-78DDD0A2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2C3BE-F914-4743-9FB6-F4B4DC39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76412-3947-420C-9665-A74355A9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A41B3-C340-45A6-BF5B-4B82D82E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97D22-D08F-47DF-9474-23AD92D1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F0446-D4D7-4C2F-BB36-FDA8DA1E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DFCE2-18CE-444F-B262-0FA8EFDEB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66487-65C0-4E65-B2E8-8875ADEF2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EF817-A0A0-4E24-9280-6FD007834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2C12-B035-482A-A2D7-C015FCE6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C63EC-B599-42CB-B535-19FE7152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7A0F7-D0C8-45F7-A9AB-8379E7D9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1A9FB-93E4-413C-820A-8EEDEB8B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E550A-F4B5-45DD-B199-BBD49DA8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96C6F-412B-44E9-A886-383FB5A7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89B00-7AB5-4120-9DE8-0C2D030C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11062-2579-4680-AE75-40A76DA2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0AE53-7145-4A5A-AB16-F102D040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4D0F7-4224-4DF6-8139-2779C301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81034-BD7C-4500-B7B8-53860084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8E87-B8A0-449F-873C-FADD3E90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BBEC2-8FAC-4834-8413-D669D6251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FAC53-2BE7-4E73-89A9-4476F72A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2C449-F7C8-4138-A5FA-3C6C9A07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3BFCE-BBA0-4F9D-ADC5-911F608C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2C741-8853-403D-9B00-C73241B7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A13F6-C992-4759-9596-DC6B0726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4736B-6032-4981-A850-2BD8B496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891CA-98EE-4BA1-940B-4EC0A7D1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AA6E9-AA34-4ECB-AAF0-54DB2CA0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CCB1F-C5C9-473E-BF57-57B1A497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D06A-4A07-47E9-ADCD-48C5C9A8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28073-4EB4-4440-9C79-65737707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2CA3D-5390-4C29-A428-C5D800138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EDCB4-844F-483C-AB0D-509FEA92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12F3C-8F80-407D-80DE-0AF01C929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4A6A1-8EA6-4487-9A0E-5BB1F606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4ACD5-3922-43B8-B041-D009EFFA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A64B5-9D03-4A0D-8816-749136A9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E2C70-7311-4247-B86B-933A12E6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EB5B1-C330-4E48-85A2-D6EAD93F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436AB-C58A-498C-A1A4-C16542D4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E911-A47A-40F3-A15D-57801ABE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10765-FB0B-4106-A41B-99AA69A8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69006-A744-4766-B2B7-1A6EBC86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2AAA7-BCC7-4473-B5B0-C0EE0282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DFEE0-9DB8-4013-AC92-A3727B38F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BF40B-CB74-47CE-962C-79956278B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17E8-DB83-4926-B360-66D0275A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CB40-953C-4870-80B9-E83E3FC80E57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ED3A-0B11-46EB-B871-A426C241B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AE09-A40E-4084-9C0F-C3160D271E3C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37DD-C392-4860-AD17-B8F68AAB186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0F7A-3B88-4047-8A83-EE14258F1824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C130-C97B-4364-9840-464701FF8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AD5A-7D1D-4205-A66E-985D502B6B4B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7BB2-E245-4168-8CA3-DD2CD0B1C1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35D2-0591-476C-AEDB-156F47956AC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D397-FC9E-4FC9-9F26-32B9C9746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2124-B273-4347-8C30-4E68D65DCAFD}" type="datetime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C788-E05C-4971-BB36-A03506817340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8B03-31D8-4A03-AF10-DB0FF5C7E4DC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6691-23F2-403F-A754-2B1895BE7D28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542880" y="768240"/>
            <a:ext cx="8229600" cy="165096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876920" y="4292280"/>
            <a:ext cx="4038480" cy="21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TextBox 5"/>
          <p:cNvSpPr/>
          <p:nvPr/>
        </p:nvSpPr>
        <p:spPr>
          <a:xfrm>
            <a:off x="1143000" y="301680"/>
            <a:ext cx="67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тавропольский Государственный Университ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Острая инфекционная болезнь,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характеризующаяся лихорадкой, общей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интоксикацией, поражением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лимфатического аппарата, кожи,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слизистых оболочек,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а при аэрогенном инфицировании –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легких: относится к зоонозам с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Природной очаговостью.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Распространена во многих районах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России, источником инфекции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служат многие грызуны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6" name="Picture 2" descr="C:\Documents and Settings\Home\Рабочий стол\Новая папка\0297605284.jpg"/>
          <p:cNvPicPr/>
          <p:nvPr/>
        </p:nvPicPr>
        <p:blipFill>
          <a:blip r:embed="rId2"/>
          <a:stretch/>
        </p:blipFill>
        <p:spPr>
          <a:xfrm>
            <a:off x="4648320" y="1447920"/>
            <a:ext cx="4171680" cy="4986360"/>
          </a:xfrm>
          <a:prstGeom prst="rect">
            <a:avLst/>
          </a:prstGeom>
          <a:ln w="0">
            <a:noFill/>
          </a:ln>
        </p:spPr>
      </p:pic>
      <p:sp>
        <p:nvSpPr>
          <p:cNvPr id="337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4343040" y="1371240"/>
            <a:ext cx="4343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Острая инфекционная болезнь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Характеризуется развитием водянистого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поноса и рвоты, нарушениями водно-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электролитного обмена, развитием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Гиповолемического шока, расстройством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функции почек. Относится к особо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опасным инфекциям. Возбудитель –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холерный вибрион двух разновидностей.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Действием экзотоксина холерного вибриона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на эпителий слизистой оболочки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тонкой кишки обусловлена потеря жидкости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организмом. Морфологических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изменений эпителиальных клеток и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подлежащих тканей стенки кишки не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имеется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0" name="Picture 2" descr="C:\Documents and Settings\Home\Рабочий стол\Новая папка\holera.jpg"/>
          <p:cNvPicPr/>
          <p:nvPr/>
        </p:nvPicPr>
        <p:blipFill>
          <a:blip r:embed="rId2"/>
          <a:stretch/>
        </p:blipFill>
        <p:spPr>
          <a:xfrm>
            <a:off x="914400" y="1905120"/>
            <a:ext cx="2857680" cy="3124080"/>
          </a:xfrm>
          <a:prstGeom prst="rect">
            <a:avLst/>
          </a:prstGeom>
          <a:ln w="0">
            <a:noFill/>
          </a:ln>
        </p:spPr>
      </p:pic>
      <p:sp>
        <p:nvSpPr>
          <p:cNvPr id="341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Также имеют место такие понятия, как эпифитотия и эпизоотия…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Эпифитотия (от эпи... и греч. phytón — растение), распространение инфекционной болезни растений на значительные территории (хозяйство, район, область) в течение определенного времени. В виде Эпифитотия обычно проявляются ржавчина и головня хлебных злаков, фитофтороз картофеля, парша яблони, увядание хлопчатника, шютте снежное и обыкновенное и другие инфекционные заболевания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В прошлом Эпифитотия причиняли большой ущерб. Известны значительные потери урожая картофеля от фитофтороза в 40-х гг. 19 в. в Ирландии, подсолнечника — от ржавчины в 60-х гг. 19 в. в России, пшеницы — от стеблевой ржавчины в Амурской области в 1923. С повышением культуры земледелия, с разработкой методики прогнозирования массовых заболеваний растений, применением эффективных мер борьбы с ними Эпифитотия стали более редкими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Обычно Эпифитотия возникают из отдельных очагов болезни при благоприятных условиях (накопление и способность к быстрому распространению инфекционного начала, погодные факторы, способствующие размножению возбудителя и развитию болезни, достаточное количество восприимчивых растений). Фитопатогенные микроорганизмы распространяются из мест резервации и заражают большое число растений. В результате образования нескольких генераций возбудителя создаются новые укрупнённые очаги болезни, расширяется район (зона) поражения, возникает Эпифитотия В зависимости от типа болезни, особенностей возбудителя, растения-хозяина и внешних факторов Эпифитотия развиваются быстро или медленно, с периодическими вспышками при благоприятных условиях. Изучением различных сторон эпифитотического процесса занимается сравнительно молодая область науки — эпифитотиология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C:\Documents and Settings\Home\Рабочий стол\Новая папка\Hordei_Barley_yellow_dwarf_virus.jpg"/>
          <p:cNvPicPr/>
          <p:nvPr/>
        </p:nvPicPr>
        <p:blipFill>
          <a:blip r:embed="rId1"/>
          <a:stretch/>
        </p:blipFill>
        <p:spPr>
          <a:xfrm>
            <a:off x="5029200" y="1671480"/>
            <a:ext cx="3638520" cy="3692520"/>
          </a:xfrm>
          <a:prstGeom prst="rect">
            <a:avLst/>
          </a:prstGeom>
          <a:ln w="0">
            <a:noFill/>
          </a:ln>
        </p:spPr>
      </p:pic>
      <p:sp>
        <p:nvSpPr>
          <p:cNvPr id="347" name="TextBox 4"/>
          <p:cNvSpPr/>
          <p:nvPr/>
        </p:nvSpPr>
        <p:spPr>
          <a:xfrm>
            <a:off x="685800" y="1066680"/>
            <a:ext cx="4114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Установление связи развития Эпифитотия с теми или иными факторами позволяет ослабить их влияние. Например, изменения в популяции возбудителя болезни и растения-хозяина, обусловливающие возникновение Эпифитотия, учитываются при обосновании прогнозов болезни, выведении устойчивых к инфекционным болезням сортов с.-х. культур и их размещении в севооборотах. Меры борьбы с Эпифитотия зависят от особенностей болез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Эпизоотия (греч. ἐπι — на, среди; ζῷον — животное) — широкомасштабное распространение инфекционной болезни среди одного или многих видов животных на определённой территории, значительно превышающее уровень заболеваемости, обычно регистрируемый на данной территории. Говоря нестрого, эпизоотия — это «эпидемия у животных»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Наука, изучающая эпизоотии, называется эпизоотология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8906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380880" y="11426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Эпизоотия - определяет громадное распространение какой-либо повально заразительной болезни скота. Классификация повальных болезней по степени их распространения такова: если болезнь ограничивается небольшим районом, определенным местом или же в этом последнем проявляется только в одном каком-либо участке, то она носит название "энзоотии"; если заразная болезнь распространяется на большое пространство, поражая большое число животных, то в таких случаях ее определяют словом "Э."; наконец, существует еще "панзоотия" - когда заразная болезнь охватывает своим пожарищем огромные пространства, целые части света, поражает различные виды животных; к таким болезням принадлежат ящур, сибирская язва, бешенство. Одна и та же болезнь может явиться то в форме эпизоотической, то в энзоотической, то исключительно в спорадической (единичное заболевание), например, сибирская язва. Эпизоот. болезни, несмотря на значительный успех в научном изучении их первопричины (бактериология) и на усовершенствованные методы борьбы, до сих пор продолжают служить бичом скотоводческого хозяйства, прогрессивно сокращая его количественно и тормозя развитие культурных пород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Убытки, причиняемые Э., продолжают быть неисчислимыми, так как, по компетентному мнению проф. Пютца, при исчислении убытков должно принимать во внимание не только стоимость павшего животного, но также и те убытки, которые следуют за прекращением дела во время господства болезни и спустя еще долго после неё, и нередко эти убытки бывают гораздо значительнее, чем стоимость павшего животного; помимо этого, чисто экономического расчета, надо помнить, что при некоторых Э. здоровье окружающего населения также подвергается известному риску, как, напр., при сибирской язве, ящуре, бешенстве, туберкулёзе и др. Научные открытия последних лет, явившиеся результатом переворота, произведенного открытиями Пастера в области бактериологии, выдвинули учение о микробе как первопричине всякой заразы, а изучение свойств этой заразы в значительной степени подвинуло вопрос о более рациональной борьбе с эпизоотиями. Предохранительные прививки сибирской язвы, рожи свиней, маллеинизация, туберкулинизация и пр. - все это послужило надежным орудием в борьбе с такими эпизоотиями, как сибирская язва, сплошь губившая несколько лет тому назад рабочий и продуктивный скот, а теперь доведенная в местах с хорошей ветеринарной организацией до minimum'a, до спорадических случаев, как сап, этот бич коневодства, который теперь, благодаря диагностическому значению маллеина, уже перестает быть скрытым врагом; туберкулёз, рожа свиней, чума рогатого скота, повальное воспаление легких, ящур, различного рода геморрагические заболевания - накануне борьбы, вооруженной солидными научными открытиями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C:\Documents and Settings\Home\Рабочий стол\Новая папка\__001.jpg"/>
          <p:cNvPicPr/>
          <p:nvPr/>
        </p:nvPicPr>
        <p:blipFill>
          <a:blip r:embed="rId1"/>
          <a:stretch/>
        </p:blipFill>
        <p:spPr>
          <a:xfrm>
            <a:off x="533520" y="457200"/>
            <a:ext cx="8026200" cy="601992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1" name="Picture 2" descr="C:\Documents and Settings\Home\Рабочий стол\Новая папка\post-44-1210180075.jpg"/>
          <p:cNvPicPr/>
          <p:nvPr/>
        </p:nvPicPr>
        <p:blipFill>
          <a:blip r:embed="rId1"/>
          <a:stretch/>
        </p:blipFill>
        <p:spPr>
          <a:xfrm>
            <a:off x="380880" y="228600"/>
            <a:ext cx="8433000" cy="632448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8956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684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Современный человек на протяжении своей жизни находится в различных средах: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социальной, производственной, местной (городской, сельской), бытовой,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риродной и др. Человек и среда его обитания образуют систему, состоящую из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множества взаимодействующих элементов, имеющую упорядоченность в определенных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границах и обладающую специфическими свойствами. Такое взаимодействие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определяется множеством факторов и оказывает влияние как на самого человека,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так и на соответствующую среду его обитания. Это влияние может быть, с одной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стороны, положительным, с другой – одновременно и отрицательным (негативным)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Негативные воздействия факторов природной среды проявляются главным образом в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чрезвычайных ситуациях. Эти ситуации могут быть следствием, как стихийных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бедствий, так и производственной деятельности человека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ЧРЕЗВЫЧАЙНАЯ СИТУАЦИЯ – это обстановка на определенной территории,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сложившаяся в результате аварии, опасного природного явления, катастрофы,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стихийного или иного бедствия, которая может повлечь или повлекла за собой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человеческие жертвы, ущерб здоровью людей или окружающей природной среде, а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также значительные материальные потери и нарушение условий жизнедеятельности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ЧС классифицируются по характеру источника и по масштабам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о характеру источника чрезвычайные ситуации делятся на техногенные и природные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К природным кроме пожара, извержения вулкана и всего прочего относятся и эпидемии…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Місце для нижнього колонтитула 3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457200" y="2944800"/>
            <a:ext cx="8229600" cy="1346040"/>
          </a:xfrm>
          <a:prstGeom prst="rect">
            <a:avLst/>
          </a:prstGeom>
          <a:ln w="0">
            <a:noFill/>
          </a:ln>
        </p:spPr>
      </p:pic>
      <p:sp>
        <p:nvSpPr>
          <p:cNvPr id="364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3780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ЭПИДЕМИЯ (греч. epidemia), массовое распространение инфекционного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Заболевания человека в какой-либо местности, стране, значительно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превышающее обычный уровень заболеваемости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Инфекционные болезни людей – это заболевания, вызванные болезнетворными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микроорганизмами и передающиеся от зараженного человека или животного - к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здоровому. Ежегодно на Земле переносят инфекционные заболевания свыше 1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млрд. человек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Эпидемия – это массовое распространение инфекционного заболевания людей в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какой-либо местности или стране, значительно превышающее общий уровень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заболеваемости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3"/>
          <p:cNvSpPr/>
          <p:nvPr/>
        </p:nvSpPr>
        <p:spPr>
          <a:xfrm>
            <a:off x="457200" y="22860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амые опасные заболевания, принимающие форму эпидемии приведены ниже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Box 6"/>
          <p:cNvSpPr/>
          <p:nvPr/>
        </p:nvSpPr>
        <p:spPr>
          <a:xfrm>
            <a:off x="152280" y="1523880"/>
            <a:ext cx="8839440" cy="28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Заболевание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Способ распространения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Латентный период, сутки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Продолжительность потери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Смертность без лечения,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работоспособности, сутки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Чума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Распыление в воздухе;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3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7 – 1 (при бубонной форме)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100( при легочной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          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  и септических формах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заражение воды, пищи,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предметов домашнего обихода;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искусственное заражение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переносчиков.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Сибирская язва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Распыление спор в воздухе,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2 – 3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7 – 14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До 100 (при легочно-кишечной форме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искусственное заражение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переносчиков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Туляремия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Распыление спор в воздухе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3 – 6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40 – 60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5.8 до 3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Холера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Распыление спор в воздухе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3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5 - 30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10 – 8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Тиф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Проникают в организм через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12 – 14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6 – 14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До 4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мельчайшие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повреждения кожи</a:t>
            </a: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5605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304920" y="106668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ЧУМА (pestis)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Острая природно-очаговая инфекционная болезнь, вызываемая палочкой чумы -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Yersinia pestis. Относится к особо опасным инфекциям. На земном шаре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сохраняется ряд природных очагов, где чума постоянно встречается у небольшого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процента обитающих там грызунов. Эпидемии чумы среди людей часто были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обусловлены миграцией крыс, заражающихся в природных очагах. От грызунов к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человеку микробы передаются через блох, которые при массовой гибели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Животных меняют хозяина. Кроме того, возможен путь заражения при обработке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Охотниками шкур убитых зараженных животных. Принципиально иным является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заражение от человека к человеку, осуществляемое воздушно-капельным путем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О спорадических случаях чумы сообщается в разных странах, в том числе в США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Возбудитель чумы устойчив и низким температурам, хорошо сохраняется в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мокроте, но при температуре 55 °С погибает в течение 10-15 мин, а при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кипячении - практически немедленно. Попадает в организм через кожу (при укусе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блохи), слизистые оболочки дыхательных путей, пищеварительного тракта,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конъюнктивы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ри укусе зараженных чумными бактериями блох у человека на месте укуса может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возникнуть папула или пустула, наполненная геморрагическим содержимым (кожная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форма). Затем процесс распространяется по лимфатическим сосудам без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роявления лимфангита. Размножение бактерий в макрофагах лимфатических узлов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риводит к их резкому увеличению, слиянию и образованию конгломерата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(бубонная форма). Дальнейшая генерализация инфекции, которая не является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строго обязательной, тем более в условиях современной антибактериальной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терапии, может приводить к развитию септической формы, сопровождающейся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оражением практически всех внутренних органов. Однако с эпидемиологических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озиций важнейшую роль играют "отсевы" инфекции в легочную ткань с развитием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легочной формы болезни. С момента развития чумной пневмонии больной человек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сам становится источником заражения, но при этом от человека к человеку уже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ередается легочная форма болезни - крайне опасная, с очень быстрым течением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Прямоугольник 3"/>
          <p:cNvSpPr/>
          <p:nvPr/>
        </p:nvSpPr>
        <p:spPr>
          <a:xfrm>
            <a:off x="1981080" y="457200"/>
            <a:ext cx="49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ология, патогене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СИБИРСКАЯ ЯЗВА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Острое инфекционное заболевание из группы зоонозов. У человека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протекает в виде кожной, легочной, кишечной и септической форм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Этиология, патогенез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Возбудитель - относительно крупная сибиреязвенная палочка; образует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Споры И капсулу. Вегетативная форма возбудителя погибает без доступа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воздуха, При прогревании, воздействии дезинфицирующих средств. Споры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возбудителя во внешней среде весьма устойчивы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C:\Documents and Settings\Home\Рабочий стол\Новая папка\Carbuncle.jpg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5200920"/>
          </a:xfrm>
          <a:prstGeom prst="rect">
            <a:avLst/>
          </a:prstGeom>
          <a:ln w="0">
            <a:noFill/>
          </a:ln>
        </p:spPr>
      </p:pic>
      <p:sp>
        <p:nvSpPr>
          <p:cNvPr id="330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57200" y="12952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Инкубационный период от нескольких часов до 8 дней (чаще 2-3 дня). Наиболее часто сибирская язва у человека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протекает в виде кожной формы (95-99% случаев) и лишь у 1-5% больных- в виде легочной и кишечной. Типичные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проявления кожной формы сибирской  язвы возникают в зоне  ворот инфекции. Вначале появляется красное зудящее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пятнышко, которое быстро превращается в папулу, а последняя - в  везикулу с прозрачным или геморрагическим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содержимым. Больной при продолжающемся зуде срывает пузырек, на его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месте образуется  язвочка с темным дном и  обильным серозным отделяемым. По периферии язвочки развивается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воспалительный валик, в зоне которого образуются  дочерние пузырьки. Одновременно с этим вокруг язвочки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развивается отек (может' быть весьма обширным) и регионарный  лимфаденит. Характерно  Отсутствие чувствительности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в области дна язвочки, а также отсутствие болезненности в области увеличенных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лимфатических узлов. К моменту образования язвочки появляется лихорадка, которая продолжается в течение 5-7 дней,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общая слабость,  разбитость, головная боль, адинамия. Местные изменения в области поражения нарастают примерно в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течение тех же сроков, что и лихорадка, а затем  начинается обратное развитие: сначала снижается температура тела,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прекращается отдаление серозной жидкости из зоны некроза, начинается уменьшение (до  полного исчезновения) отека,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а на месте некроза постепенно формируется струп. На 10-14-й день струп отторгается, образуется язва с гранулирующим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дном И умеренным гнойным отделяемым с последующим рубцеванием. Легочная форма сибирской язвы начинается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остро, протекает тяжело. Проявляется болью в  груди, одышкой, цианозом, тахикардией (до 120-140 в 1 мин), кашлем с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отделением пенистой кровянистой мокроты.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Температура тела быстро достигает высоких цифр (40° С и выше), АД снижается. Кишечная форма сибирской язвы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характеризуется общей интоксикацией, повышением температуры тела, болью в эпигастральной области, поносом и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рвотой. Живот вздут, резко болезнен при пальпации, нередко имеются признаки раздражения брюшины. В рвотных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массах и выделениях из кишечника появляется примесь крови. При любой из описанных форм сибирской язвы может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развиться сепсис с бактериемией и вторичными очагами (поражение печени, селезенки, почек, мозговых оболочек). Для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диагностики важны эпидемиологические данные (профессия больного, контакт с больными животными или зараженным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сырьем животного происхождения) и характерные поражения кожи. Лабораторным подтверждением диагноза является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выделение возбудителя сибирской язвы. Вспомогательное значение имеет аллергическая проба с антраксином.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1981080" y="533520"/>
            <a:ext cx="47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мптомы, теч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07T10:24:18Z</dcterms:modified>
  <cp:revision>18</cp:revision>
  <dc:subject/>
  <dc:title>Презентация на тему Эпидемии</dc:title>
</cp:coreProperties>
</file>