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716F-6260-4CC1-8E21-48321F4D99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49cdc"/>
                </a:solidFill>
                <a:latin typeface="Calibri"/>
              </a:rPr>
              <a:t>Инфекционные заболе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57F3-DF38-46F8-A0AA-0A304E0B2A8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84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49cdc"/>
                </a:solidFill>
                <a:latin typeface="Calibri"/>
              </a:rPr>
              <a:t>ТУЛЯРЕМ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ая инфекционная болезн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ющаяся лихорадкой, общ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оксикацией, поражени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мфатического аппарата, кож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изистых оболоче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ри аэрогенном инфицировании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ких: относится к зоонозам 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ной очаговос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а во многих район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и, источником 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ат многие грызу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691A-AD63-4F1A-A15A-4BB22E7ADA9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8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49cdc"/>
                </a:solidFill>
                <a:latin typeface="Calibri"/>
              </a:rPr>
              <a:t>ХОЛЕ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ая инфекционная боле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ся развитием водянист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оса и рвоты, нарушениями водн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литного обмена, развити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волемического шока, расстройств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почек. Относится к особ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ым инфекциям. Возбудитель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лерный вибрион двух разновид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м экзотоксина холерного вибрио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эпителий слизистой оболоч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нкой кишки обусловлена потеря жидк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мом. Морфологическ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й эпителиальных клеток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лежащих тканей стенки кишки 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EEBE-8A3A-403B-B902-1275A8B7F57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акже имеют место такие понятия, как эпифитотия и эпизоотия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фитотия (от эпи... и греч. phytón — растение), распространение инфекционной болезни растений на значительные территории (хозяйство, район, область) в течение определенного времени. В виде Эпифитотия обычно проявляются ржавчина и головня хлебных злаков, фитофтороз картофеля, парша яблони, увядание хлопчатника, шютте снежное и обыкновенное и другие инфекционные заболе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шлом Эпифитотия причиняли большой ущерб. Известны значительные потери урожая картофеля от фитофтороза в 40-х гг. 19 в. в Ирландии, подсолнечника — от ржавчины в 60-х гг. 19 в. в России, пшеницы — от стеблевой ржавчины в Амурской области в 1923. С повышением культуры земледелия, с разработкой методики прогнозирования массовых заболеваний растений, применением эффективных мер борьбы с ними Эпифитотия стали более редк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DD5C-C3AC-40A7-9354-4F0F2A90DFA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чно Эпифитотия возникают из отдельных очагов болезни при благоприятных условиях (накопление и способность к быстрому распространению инфекционного начала, погодные факторы, способствующие размножению возбудителя и развитию болезни, достаточное количество восприимчивых растений). Фитопатогенные микроорганизмы распространяются из мест резервации и заражают большое число растений. В результате образования нескольких генераций возбудителя создаются новые укрупнённые очаги болезни, расширяется район (зона) поражения, возникает Эпифитотия В зависимости от типа болезни, особенностей возбудителя, растения-хозяина и внешних факторов Эпифитотия развиваются быстро или медленно, с периодическими вспышками при благоприятных условиях. Изучением различных сторон эпифитотического процесса занимается сравнительно молодая область науки — эпифитотиолог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9B70-920F-4AC6-A023-2B0A90D1C91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49cdc"/>
                </a:solidFill>
                <a:latin typeface="Calibri"/>
              </a:rPr>
              <a:t>Эпизоо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зоотия (греч. ἐπι — на, среди; ζῷον — животное) — широкомасштабное распространение инфекционной болезни среди одного или многих видов животных на определённой территории, значительно превышающее уровень заболеваемости, обычно регистрируемый на данной территории. Говоря нестрого, эпизоотия — это «эпидемия у животных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, изучающая эпизоотии, называется эпизоотоло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F4F9-858C-43A7-BA4F-839673561C7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49cdc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овременный человек на протяжении своей жизни находится в различных средах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оциальной, производственной, местной (городской, сельской), бытовой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иродной и др. Человек и среда его обитания образуют систему, состоящую из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ножества взаимодействующих элементов, имеющую упорядоченность в определенны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границах и обладающую специфическими свойствами. Такое взаимодействи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пределяется множеством факторов и оказывает влияние как на самого человека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ак и на соответствующую среду его обитания. Это влияние может быть, с одно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тороны, положительным, с другой – одновременно и отрицательным (негативным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Негативные воздействия факторов природной среды проявляются главным образом 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чрезвычайных ситуациях. Эти ситуации могут быть следствием, как стихийны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бедствий, так и производственной деятельности человек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ЧРЕЗВЫЧАЙНАЯ СИТУАЦИЯ – это обстановка на определенной территории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ложившаяся в результате аварии, опасного природного явления, катастрофы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тихийного или иного бедствия, которая может повлечь или повлекла за собо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человеческие жертвы, ущерб здоровью людей или окружающей природной среде, 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акже значительные материальные потери и нарушение условий жизнедеятельности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ЧС классифицируются по характеру источника и по масштабам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о характеру источника чрезвычайные ситуации делятся на техногенные и природные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 природным кроме пожара, извержения вулкана и всего прочего относятся и эпидемии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4992-E9E3-445A-8CF2-794919B2664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49cdc"/>
                </a:solidFill>
                <a:latin typeface="Calibri"/>
              </a:rPr>
              <a:t>Спасибо за вним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F23B-4E8A-446E-B089-26262F24128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84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49cdc"/>
                </a:solidFill>
                <a:latin typeface="Calibri"/>
              </a:rPr>
              <a:t>Эпидемии и Инфекционные заболева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ДЕМИЯ (греч. epidemia), массовое распространение инфекцион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ния человека в какой-либо местности, стране, значите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вышающее обычный уровень заболев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екционные болезни людей – это заболевания, вызванные болезнетвор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организмами и передающиеся от зараженного человека или животного - 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ому. Ежегодно на Земле переносят инфекционные заболевания свыше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лрд.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демия – это массовое распространение инфекционного заболевания людей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-либо местности или стране, значительно превышающее общий уров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6DEF-B510-4ECD-A8D5-3A98488053A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84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49cdc"/>
                </a:solidFill>
                <a:latin typeface="Calibri"/>
              </a:rPr>
              <a:t>Далее расскажем подробнее о некоторых болезня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МА (pesti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ая природно-очаговая инфекционная болезнь, вызываемая палочкой чумы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ersinia pestis. Относится к особо опасным инфекциям. На земном ша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яется ряд природных очагов, где чума постоянно встречается у небольш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а обитающих там грызунов. Эпидемии чумы среди людей часто бы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словлены миграцией крыс, заражающихся в природных очагах. От грызунов 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у микробы передаются через блох, которые при массовой гиб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отных меняют хозяина. Кроме того, возможен путь заражения при обработ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отниками шкур убитых зараженных животных. Принципиально иным явля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жение от человека к человеку, осуществляемое воздушно-капельным пут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спорадических случаях чумы сообщается в разных странах, в том числе в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CEB8-595A-4098-8A9B-2A3D83F4A30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Этиология, патогенез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озбудитель чумы устойчив и низким температурам, хорошо сохраняется 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окроте, но при температуре 55 °С погибает в течение 10-15 мин, а пр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ипячении - практически немедленно. Попадает в организм через кожу (при укус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блохи), слизистые оболочки дыхательных путей, пищеварительного тракта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онъюнктивы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и укусе зараженных чумными бактериями блох у человека на месте укуса може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озникнуть папула или пустула, наполненная геморрагическим содержимым (кожна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форма). Затем процесс распространяется по лимфатическим сосудам без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оявления лимфангита. Размножение бактерий в макрофагах лимфатических узл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иводит к их резкому увеличению, слиянию и образованию конгломерат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(бубонная форма). Дальнейшая генерализация инфекции, которая не являетс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трого обязательной, тем более в условиях современной антибактериально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ерапии, может приводить к развитию септической формы, сопровождающейс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оражением практически всех внутренних органов. Однако с эпидемиологически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озиций важнейшую роль играют "отсевы" инфекции в легочную ткань с развитие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легочной формы болезни. С момента развития чумной пневмонии больной челове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ам становится источником заражения, но при этом от человека к человеку уж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ередается легочная форма болезни - крайне опасная, с очень быстрым течением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5FE6-C82B-4E33-9E26-4DC86CCF418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ИБИРСКАЯ ЯЗ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ое инфекционное заболевание из группы зоонозов. У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екает в виде кожной, легочной, кишечной и септической фо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тиология, патогенез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будитель - относительно крупная сибиреязвенная палочка; образ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ры И капсулу. Вегетативная форма возбудителя погибает без досту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уха, При прогревании, воздействии дезинфицирующих средств. Сп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будителя во внешней среде весьма устойчи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E1D7-DE96-4B44-9217-56367CEB3A0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имптомы, течени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Инкубационный период от нескольких часов до 8 дней (чаще 2-3 дня). Наиболее часто сибирская язва у человека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протекает в виде кожной формы (95-99% случаев) и лишь у 1-5% больных- в виде легочной и кишечной. Типичные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проявления кожной формы сибирской  язвы возникают в зоне  ворот инфекции. Вначале появляется красное зудящее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пятнышко, которое быстро превращается в папулу, а последняя - в  везикулу с прозрачным или геморрагическим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содержимым. Больной при продолжающемся зуде срывает пузырек, на его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месте образуется  язвочка с темным дном и  обильным серозным отделяемым. По периферии язвочки развивается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воспалительный валик, в зоне которого образуются  дочерние пузырьки. Одновременно с этим вокруг язвочки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развивается отек (может' быть весьма обширным) и регионарный  лимфаденит. Характерно  Отсутствие чувствительности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в области дна язвочки, а также отсутствие болезненности в области увеличенных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лимфатических узлов. К моменту образования язвочки появляется лихорадка, которая продолжается в течение 5-7 дней,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общая слабость,  разбитость, головная боль, адинамия. Местные изменения в области поражения нарастают примерно в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течение тех же сроков, что и лихорадка, а затем  начинается обратное развитие: сначала снижается температура тела,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прекращается отдаление серозной жидкости из зоны некроза, начинается уменьшение (до  полного исчезновения) отека,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а на месте некроза постепенно формируется струп. На 10-14-й день струп отторгается, образуется язва с гранулирующим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дном И умеренным гнойным отделяемым с последующим рубцеванием. Легочная форма сибирской язвы начинается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остро, протекает тяжело. Проявляется болью в  груди, одышкой, цианозом, тахикардией (до 120-140 в 1 мин), кашлем с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отделением пенистой кровянистой мокроты.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Температура тела быстро достигает высоких цифр (40° С и выше), АД снижается. Кишечная форма сибирской язвы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характеризуется общей интоксикацией, повышением температуры тела, болью в эпигастральной области, поносом и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рвотой. Живот вздут, резко болезнен при пальпации, нередко имеются признаки раздражения брюшины. В рвотных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массах и выделениях из кишечника появляется примесь крови. При любой из описанных форм сибирской язвы может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развиться сепсис с бактериемией и вторичными очагами (поражение печени, селезенки, почек, мозговых оболочек). Для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диагностики важны эпидемиологические данные (профессия больного, контакт с больными животными или зараженным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сырьем животного происхождения) и характерные поражения кожи. Лабораторным подтверждением диагноза является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выделение возбудителя сибирской язвы. Вспомогательное значение имеет аллергическая проба с антраксином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05FD-A271-48E9-834B-8D2E9A2324C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1093-AA42-42AC-A140-474F74804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4951-564A-45A4-926F-11EEAB0A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6B39-5B5B-4081-B6E0-724823A53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775A-C932-434F-A236-8AAAED5BA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5B3D-0D70-4FC3-A8FE-D043045C3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1D76-C02A-4B1C-9615-D6A25E52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C0A2-EB4F-4961-8C04-4029B501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F104-0113-4184-8EBD-0942B9ED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7105-0EB6-474F-9F52-7339555A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0AEE-6CC0-477A-9B9B-BC60407A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A434-53CA-426B-90CB-3D21E2B7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325E-A9BB-43B3-92EA-A4A64E96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F5442-291A-43EA-96DA-A84F4881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397E-A0ED-4D04-8790-DC6C4F53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CAB2-4431-4CDC-B593-595F3770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47B4-9398-4224-AAF1-D4D3FDE96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BA26-AA3A-40C4-B957-78C387D09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CF44E-7C9F-4525-8BA1-3D20A0CAD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14783-E6A5-438F-BE7E-F253D462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D7670-EBA1-40F6-B507-710DD4F8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12571-ED37-42FC-8D89-A5A2EB43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3475E-3846-4233-9C4D-711405E6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BDFD-A777-4A6D-A255-44A156A1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BF19F-A0F3-48C9-8354-3B770BEE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B5C3B-833B-4E55-9824-0BD64212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AE499-CE4E-4165-95F3-77643812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FD014-721A-4305-BDE5-68BAD4C1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87B20-B3D0-42A2-AE6F-940D359B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D9720-F87A-416F-9CAA-F93AF5EDE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A391D-8754-4D91-ABEF-2D53A8858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AA92E-A72D-4E08-921C-D08A842A8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DB31A-C2C5-43B3-849E-BF12E4F2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06354-52C3-47D2-9426-27B36C76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ABD2-DC1C-4003-8033-EB5F02EA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064B1-CD35-4A42-B916-22125537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2352F-89B7-430C-9CD7-5A965FF1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96B14-6ACC-4CDD-889D-4F65032B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61587-BF4C-4F32-B54D-55B57ACB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38DD2-E05F-4141-AF43-77EE8423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FDD19-CD83-4217-9EEE-BEACF2E3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BBBA6-1E6C-4DBF-B100-817D5E60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AFD64-0A3F-45D4-9EDF-3DC4CB81E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65080-99E1-4191-97D1-4E40ADB7F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5C1B1-1A92-4D77-BB3E-EAB6DFDA5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44C5-0D03-44C0-B772-6610C8BD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368C1-18F9-48FE-A287-0ACF4DCC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0AA6F-09EF-4B17-9B2D-292BF9D5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30B3F-F950-4B53-908E-F89B8E61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64DCA-AC66-4234-A5D5-C73274DD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2149B-CF73-45B1-AFBB-41AD419A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355C2-6A9E-45D2-99BB-0ABF719D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C605C-82EB-4758-9700-125993AF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B3B27-5770-4F55-8A07-306104EF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DFD0A-54BC-4DDC-9860-BF75E58D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5F7E8-B0B9-4F7A-9263-302EAB0E1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13B3-8DED-403E-8D31-55B2442E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8D30C-BC21-4571-A18C-299274669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18FF7-FD4F-49B6-9B39-09EB6DA16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30221-2958-4533-A0C8-38D3E2CA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3C7C4-0C50-4BEC-AA39-73D6BABE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5A02F-B070-45FF-B7E1-98AF4E63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B9168-C3D2-40F1-B7DB-EF03C5E6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F6AE1-F4FF-4FE1-A35A-4DF58FE3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17169-F7C8-4586-97E3-7FBF125E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D556C-4C21-46F3-8511-0C953917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D89B2-F271-4224-84B7-2F3E01DA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B702-B2E8-41F8-AC22-FE77AB6E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6FE45-3FAC-4926-9477-B314EED1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A8A2C-ADA2-438D-A249-91638AD73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6346B-7695-43B7-AA9C-35490F461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2C369-870D-4961-8930-81F6A34A5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94B60-E320-4461-BF10-F7D081DE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2E0C0-6A1A-4393-944F-EBF9887D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169A1-2B3B-4A42-92C3-B890CFFA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AA324-FBD3-4884-B02C-02ED7E0F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F560C-3E4B-4925-B2EE-76A7427B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017D5-D08B-4B2F-B45E-C8355D87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F649-E5ED-4B81-A9C4-9821AD6E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06EF8-9370-4ACC-BD09-5A38CA64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619EC-011B-444F-8A6C-90AE1F06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2FE59-9D57-4106-85E1-93DA2912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FE537-9E48-43F2-97F8-E8A671FDF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86B43-8271-4172-B881-7EA745AE2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A81D-92B8-40AC-96E7-B82B0426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3C71-2A1D-47AD-A7A0-06925B005EF4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32DD-2674-4DAC-9CA4-2D6FF15AE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17D2-8B37-4E25-B130-63DC645AF194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9376-583C-4F22-A0E5-D5D63733B6C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AE6D-216A-49CB-8190-1A2029BAD31A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1028-AE30-44A3-B9AD-E1C3635DF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312D-5B7E-4D7E-95E3-38B298D286B8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2D86-5951-4AE3-AFC3-650C7718AE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1435-97A0-4CB6-A4F3-FE5FF14200D9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3F7B-1136-4FC6-B131-5E42B9F56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6162-9545-4D8F-99F4-076C462A2FBE}" type="datetime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5B98-8060-45E1-8AFA-424F16A02C0B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FD2A-BF36-459C-BB0E-4F674C17287F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6D55-81ED-4D14-A35B-903AB390E072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542880" y="768240"/>
            <a:ext cx="8229600" cy="165096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876920" y="4292280"/>
            <a:ext cx="4038480" cy="21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TextBox 5"/>
          <p:cNvSpPr/>
          <p:nvPr/>
        </p:nvSpPr>
        <p:spPr>
          <a:xfrm>
            <a:off x="1143000" y="301680"/>
            <a:ext cx="67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тавропольский Государственный Университ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Місце для нижнього колонтитула 1"/>
          <p:cNvSpPr/>
          <p:nvPr/>
        </p:nvSpPr>
        <p:spPr>
          <a:xfrm>
            <a:off x="137160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Острая инфекционная болезнь,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характеризующаяся лихорадкой, общей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интоксикацией, поражением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лимфатического аппарата, кожи,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слизистых оболочек,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а при аэрогенном инфицировании –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легких: относится к зоонозам с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Природной очаговостью.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Распространена во многих районах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России, источником инфекции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служат многие грызуны.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6" name="Picture 2" descr="C:\Documents and Settings\Home\Рабочий стол\Новая папка\0297605284.jpg"/>
          <p:cNvPicPr/>
          <p:nvPr/>
        </p:nvPicPr>
        <p:blipFill>
          <a:blip r:embed="rId2"/>
          <a:stretch/>
        </p:blipFill>
        <p:spPr>
          <a:xfrm>
            <a:off x="4648320" y="1447920"/>
            <a:ext cx="4171680" cy="4986360"/>
          </a:xfrm>
          <a:prstGeom prst="rect">
            <a:avLst/>
          </a:prstGeom>
          <a:ln w="0">
            <a:noFill/>
          </a:ln>
        </p:spPr>
      </p:pic>
      <p:sp>
        <p:nvSpPr>
          <p:cNvPr id="337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4343040" y="1371240"/>
            <a:ext cx="4343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Острая инфекционная болезнь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Характеризуется развитием водянистого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поноса и рвоты, нарушениями водно-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электролитного обмена, развитием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Гиповолемического шока, расстройством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функции почек. Относится к особо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опасным инфекциям. Возбудитель –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холерный вибрион двух разновидностей.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Действием экзотоксина холерного вибриона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на эпителий слизистой оболочки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тонкой кишки обусловлена потеря жидкости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организмом. Морфологических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изменений эпителиальных клеток и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подлежащих тканей стенки кишки не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имеется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0" name="Picture 2" descr="C:\Documents and Settings\Home\Рабочий стол\Новая папка\holera.jpg"/>
          <p:cNvPicPr/>
          <p:nvPr/>
        </p:nvPicPr>
        <p:blipFill>
          <a:blip r:embed="rId2"/>
          <a:stretch/>
        </p:blipFill>
        <p:spPr>
          <a:xfrm>
            <a:off x="914400" y="1905120"/>
            <a:ext cx="2857680" cy="3124080"/>
          </a:xfrm>
          <a:prstGeom prst="rect">
            <a:avLst/>
          </a:prstGeom>
          <a:ln w="0">
            <a:noFill/>
          </a:ln>
        </p:spPr>
      </p:pic>
      <p:sp>
        <p:nvSpPr>
          <p:cNvPr id="341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45720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Также имеют место такие понятия, как эпифитотия и эпизоотия…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80880" indent="-380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Эпифитотия (от эпи... и греч. phytón — растение), распространение инфекционной болезни растений на значительные территории (хозяйство, район, область) в течение определенного времени. В виде Эпифитотия обычно проявляются ржавчина и головня хлебных злаков, фитофтороз картофеля, парша яблони, увядание хлопчатника, шютте снежное и обыкновенное и другие инфекционные заболевания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80880" indent="-380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80880" indent="-380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В прошлом Эпифитотия причиняли большой ущерб. Известны значительные потери урожая картофеля от фитофтороза в 40-х гг. 19 в. в Ирландии, подсолнечника — от ржавчины в 60-х гг. 19 в. в России, пшеницы — от стеблевой ржавчины в Амурской области в 1923. С повышением культуры земледелия, с разработкой методики прогнозирования массовых заболеваний растений, применением эффективных мер борьбы с ними Эпифитотия стали более редкими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Обычно Эпифитотия возникают из отдельных очагов болезни при благоприятных условиях (накопление и способность к быстрому распространению инфекционного начала, погодные факторы, способствующие размножению возбудителя и развитию болезни, достаточное количество восприимчивых растений). Фитопатогенные микроорганизмы распространяются из мест резервации и заражают большое число растений. В результате образования нескольких генераций возбудителя создаются новые укрупнённые очаги болезни, расширяется район (зона) поражения, возникает Эпифитотия В зависимости от типа болезни, особенностей возбудителя, растения-хозяина и внешних факторов Эпифитотия развиваются быстро или медленно, с периодическими вспышками при благоприятных условиях. Изучением различных сторон эпифитотического процесса занимается сравнительно молодая область науки — эпифитотиология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C:\Documents and Settings\Home\Рабочий стол\Новая папка\Hordei_Barley_yellow_dwarf_virus.jpg"/>
          <p:cNvPicPr/>
          <p:nvPr/>
        </p:nvPicPr>
        <p:blipFill>
          <a:blip r:embed="rId1"/>
          <a:stretch/>
        </p:blipFill>
        <p:spPr>
          <a:xfrm>
            <a:off x="5029200" y="1671480"/>
            <a:ext cx="3638520" cy="3692520"/>
          </a:xfrm>
          <a:prstGeom prst="rect">
            <a:avLst/>
          </a:prstGeom>
          <a:ln w="0">
            <a:noFill/>
          </a:ln>
        </p:spPr>
      </p:pic>
      <p:sp>
        <p:nvSpPr>
          <p:cNvPr id="347" name="TextBox 4"/>
          <p:cNvSpPr/>
          <p:nvPr/>
        </p:nvSpPr>
        <p:spPr>
          <a:xfrm>
            <a:off x="685800" y="1066680"/>
            <a:ext cx="4114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Установление связи развития Эпифитотия с теми или иными факторами позволяет ослабить их влияние. Например, изменения в популяции возбудителя болезни и растения-хозяина, обусловливающие возникновение Эпифитотия, учитываются при обосновании прогнозов болезни, выведении устойчивых к инфекционным болезням сортов с.-х. культур и их размещении в севооборотах. Меры борьбы с Эпифитотия зависят от особенностей болез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Эпизоотия (греч. ἐπι — на, среди; ζῷον — животное) — широкомасштабное распространение инфекционной болезни среди одного или многих видов животных на определённой территории, значительно превышающее уровень заболеваемости, обычно регистрируемый на данной территории. Говоря нестрого, эпизоотия — это «эпидемия у животных»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Наука, изучающая эпизоотии, называется эпизоотология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8906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380880" y="11426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Эпизоотия - определяет громадное распространение какой-либо повально заразительной болезни скота. Классификация повальных болезней по степени их распространения такова: если болезнь ограничивается небольшим районом, определенным местом или же в этом последнем проявляется только в одном каком-либо участке, то она носит название "энзоотии"; если заразная болезнь распространяется на большое пространство, поражая большое число животных, то в таких случаях ее определяют словом "Э."; наконец, существует еще "панзоотия" - когда заразная болезнь охватывает своим пожарищем огромные пространства, целые части света, поражает различные виды животных; к таким болезням принадлежат ящур, сибирская язва, бешенство. Одна и та же болезнь может явиться то в форме эпизоотической, то в энзоотической, то исключительно в спорадической (единичное заболевание), например, сибирская язва. Эпизоот. болезни, несмотря на значительный успех в научном изучении их первопричины (бактериология) и на усовершенствованные методы борьбы, до сих пор продолжают служить бичом скотоводческого хозяйства, прогрессивно сокращая его количественно и тормозя развитие культурных пород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-3769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Убытки, причиняемые Э., продолжают быть неисчислимыми, так как, по компетентному мнению проф. Пютца, при исчислении убытков должно принимать во внимание не только стоимость павшего животного, но также и те убытки, которые следуют за прекращением дела во время господства болезни и спустя еще долго после неё, и нередко эти убытки бывают гораздо значительнее, чем стоимость павшего животного; помимо этого, чисто экономического расчета, надо помнить, что при некоторых Э. здоровье окружающего населения также подвергается известному риску, как, напр., при сибирской язве, ящуре, бешенстве, туберкулёзе и др. Научные открытия последних лет, явившиеся результатом переворота, произведенного открытиями Пастера в области бактериологии, выдвинули учение о микробе как первопричине всякой заразы, а изучение свойств этой заразы в значительной степени подвинуло вопрос о более рациональной борьбе с эпизоотиями. Предохранительные прививки сибирской язвы, рожи свиней, маллеинизация, туберкулинизация и пр. - все это послужило надежным орудием в борьбе с такими эпизоотиями, как сибирская язва, сплошь губившая несколько лет тому назад рабочий и продуктивный скот, а теперь доведенная в местах с хорошей ветеринарной организацией до minimum'a, до спорадических случаев, как сап, этот бич коневодства, который теперь, благодаря диагностическому значению маллеина, уже перестает быть скрытым врагом; туберкулёз, рожа свиней, чума рогатого скота, повальное воспаление легких, ящур, различного рода геморрагические заболевания - накануне борьбы, вооруженной солидными научными открытиями.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C:\Documents and Settings\Home\Рабочий стол\Новая папка\__001.jpg"/>
          <p:cNvPicPr/>
          <p:nvPr/>
        </p:nvPicPr>
        <p:blipFill>
          <a:blip r:embed="rId1"/>
          <a:stretch/>
        </p:blipFill>
        <p:spPr>
          <a:xfrm>
            <a:off x="533520" y="457200"/>
            <a:ext cx="8026200" cy="6019920"/>
          </a:xfrm>
          <a:prstGeom prst="rect">
            <a:avLst/>
          </a:prstGeom>
          <a:ln w="0">
            <a:noFill/>
          </a:ln>
        </p:spPr>
      </p:pic>
      <p:sp>
        <p:nvSpPr>
          <p:cNvPr id="358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1" name="Picture 2" descr="C:\Documents and Settings\Home\Рабочий стол\Новая папка\post-44-1210180075.jpg"/>
          <p:cNvPicPr/>
          <p:nvPr/>
        </p:nvPicPr>
        <p:blipFill>
          <a:blip r:embed="rId1"/>
          <a:stretch/>
        </p:blipFill>
        <p:spPr>
          <a:xfrm>
            <a:off x="380880" y="228600"/>
            <a:ext cx="8433000" cy="6324480"/>
          </a:xfrm>
          <a:prstGeom prst="rect">
            <a:avLst/>
          </a:prstGeom>
          <a:ln w="0">
            <a:noFill/>
          </a:ln>
        </p:spPr>
      </p:pic>
      <p:sp>
        <p:nvSpPr>
          <p:cNvPr id="362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8956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684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Современный человек на протяжении своей жизни находится в различных средах: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социальной, производственной, местной (городской, сельской), бытовой,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риродной и др. Человек и среда его обитания образуют систему, состоящую из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множества взаимодействующих элементов, имеющую упорядоченность в определенных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границах и обладающую специфическими свойствами. Такое взаимодействие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определяется множеством факторов и оказывает влияние как на самого человека,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так и на соответствующую среду его обитания. Это влияние может быть, с одной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стороны, положительным, с другой – одновременно и отрицательным (негативным)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Негативные воздействия факторов природной среды проявляются главным образом в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чрезвычайных ситуациях. Эти ситуации могут быть следствием, как стихийных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бедствий, так и производственной деятельности человека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ЧРЕЗВЫЧАЙНАЯ СИТУАЦИЯ – это обстановка на определенной территории,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сложившаяся в результате аварии, опасного природного явления, катастрофы,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стихийного или иного бедствия, которая может повлечь или повлекла за собой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человеческие жертвы, ущерб здоровью людей или окружающей природной среде, а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также значительные материальные потери и нарушение условий жизнедеятельности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ЧС классифицируются по характеру источника и по масштабам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о характеру источника чрезвычайные ситуации делятся на техногенные и природные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К природным кроме пожара, извержения вулкана и всего прочего относятся и эпидемии…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Місце для нижнього колонтитула 3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Заголовок 1" descr=""/>
          <p:cNvPicPr/>
          <p:nvPr/>
        </p:nvPicPr>
        <p:blipFill>
          <a:blip r:embed="rId1"/>
          <a:stretch/>
        </p:blipFill>
        <p:spPr>
          <a:xfrm>
            <a:off x="457200" y="2944800"/>
            <a:ext cx="8229600" cy="1346040"/>
          </a:xfrm>
          <a:prstGeom prst="rect">
            <a:avLst/>
          </a:prstGeom>
          <a:ln w="0">
            <a:noFill/>
          </a:ln>
        </p:spPr>
      </p:pic>
      <p:sp>
        <p:nvSpPr>
          <p:cNvPr id="364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37808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ЭПИДЕМИЯ (греч. epidemia), массовое распространение инфекционного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Заболевания человека в какой-либо местности, стране, значительно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превышающее обычный уровень заболеваемости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Инфекционные болезни людей – это заболевания, вызванные болезнетворными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микроорганизмами и передающиеся от зараженного человека или животного - к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здоровому. Ежегодно на Земле переносят инфекционные заболевания свыше 1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млрд. человек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Эпидемия – это массовое распространение инфекционного заболевания людей в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какой-либо местности или стране, значительно превышающее общий уровень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заболеваемости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Box 3"/>
          <p:cNvSpPr/>
          <p:nvPr/>
        </p:nvSpPr>
        <p:spPr>
          <a:xfrm>
            <a:off x="457200" y="228600"/>
            <a:ext cx="83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амые опасные заболевания, принимающие форму эпидемии приведены ниже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Box 6"/>
          <p:cNvSpPr/>
          <p:nvPr/>
        </p:nvSpPr>
        <p:spPr>
          <a:xfrm>
            <a:off x="152280" y="1523880"/>
            <a:ext cx="8839440" cy="28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Заболевание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Способ распространения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Латентный период, сутки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Продолжительность потери 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Смертность без лечения,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работоспособности, сутки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Чума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Распыление в воздухе; 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3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7 – 1 (при бубонной форме) 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100( при легочной 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           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  и септических формах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заражение воды, пищи,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предметов домашнего обихода;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искусственное заражение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переносчиков.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Сибирская язва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Распыление спор в воздухе, 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2 – 3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7 – 14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До 100 (при легочно-кишечной форме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искусственное заражение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переносчиков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Туляремия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Распыление спор в воздухе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3 – 6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40 – 60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5.8 до 3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Холера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Распыление спор в воздухе 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3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5 - 30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10 – 8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Тиф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Проникают в организм через 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12 – 14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6 – 14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До 4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мельчайшие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повреждения кожи</a:t>
            </a: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5605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304920" y="106668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ЧУМА (pestis)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Острая природно-очаговая инфекционная болезнь, вызываемая палочкой чумы -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Yersinia pestis. Относится к особо опасным инфекциям. На земном шаре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сохраняется ряд природных очагов, где чума постоянно встречается у небольшого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процента обитающих там грызунов. Эпидемии чумы среди людей часто были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обусловлены миграцией крыс, заражающихся в природных очагах. От грызунов к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человеку микробы передаются через блох, которые при массовой гибели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Животных меняют хозяина. Кроме того, возможен путь заражения при обработке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Охотниками шкур убитых зараженных животных. Принципиально иным является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заражение от человека к человеку, осуществляемое воздушно-капельным путем.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О спорадических случаях чумы сообщается в разных странах, в том числе в США.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Возбудитель чумы устойчив и низким температурам, хорошо сохраняется в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мокроте, но при температуре 55 °С погибает в течение 10-15 мин, а при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кипячении - практически немедленно. Попадает в организм через кожу (при укусе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блохи), слизистые оболочки дыхательных путей, пищеварительного тракта,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конъюнктивы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ри укусе зараженных чумными бактериями блох у человека на месте укуса может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возникнуть папула или пустула, наполненная геморрагическим содержимым (кожная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форма). Затем процесс распространяется по лимфатическим сосудам без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роявления лимфангита. Размножение бактерий в макрофагах лимфатических узлов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риводит к их резкому увеличению, слиянию и образованию конгломерата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(бубонная форма). Дальнейшая генерализация инфекции, которая не является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строго обязательной, тем более в условиях современной антибактериальной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терапии, может приводить к развитию септической формы, сопровождающейся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оражением практически всех внутренних органов. Однако с эпидемиологических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озиций важнейшую роль играют "отсевы" инфекции в легочную ткань с развитием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легочной формы болезни. С момента развития чумной пневмонии больной человек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сам становится источником заражения, но при этом от человека к человеку уже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ередается легочная форма болезни - крайне опасная, с очень быстрым течением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Прямоугольник 3"/>
          <p:cNvSpPr/>
          <p:nvPr/>
        </p:nvSpPr>
        <p:spPr>
          <a:xfrm>
            <a:off x="1981080" y="457200"/>
            <a:ext cx="49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ология, патогене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СИБИРСКАЯ ЯЗВА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Острое инфекционное заболевание из группы зоонозов. У человека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протекает в виде кожной, легочной, кишечной и септической форм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  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Этиология, патогенез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Возбудитель - относительно крупная сибиреязвенная палочка; образует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Споры И капсулу. Вегетативная форма возбудителя погибает без доступа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воздуха, При прогревании, воздействии дезинфицирующих средств. Споры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возбудителя во внешней среде весьма устойчивы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C:\Documents and Settings\Home\Рабочий стол\Новая папка\Carbuncle.jpg"/>
          <p:cNvPicPr/>
          <p:nvPr/>
        </p:nvPicPr>
        <p:blipFill>
          <a:blip r:embed="rId1"/>
          <a:stretch/>
        </p:blipFill>
        <p:spPr>
          <a:xfrm>
            <a:off x="762120" y="838080"/>
            <a:ext cx="7619760" cy="5200920"/>
          </a:xfrm>
          <a:prstGeom prst="rect">
            <a:avLst/>
          </a:prstGeom>
          <a:ln w="0">
            <a:noFill/>
          </a:ln>
        </p:spPr>
      </p:pic>
      <p:sp>
        <p:nvSpPr>
          <p:cNvPr id="330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457200" y="12952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Инкубационный период от нескольких часов до 8 дней (чаще 2-3 дня). Наиболее часто сибирская язва у человека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протекает в виде кожной формы (95-99% случаев) и лишь у 1-5% больных- в виде легочной и кишечной. Типичные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проявления кожной формы сибирской  язвы возникают в зоне  ворот инфекции. Вначале появляется красное зудящее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пятнышко, которое быстро превращается в папулу, а последняя - в  везикулу с прозрачным или геморрагическим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содержимым. Больной при продолжающемся зуде срывает пузырек, на его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месте образуется  язвочка с темным дном и  обильным серозным отделяемым. По периферии язвочки развивается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воспалительный валик, в зоне которого образуются  дочерние пузырьки. Одновременно с этим вокруг язвочки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развивается отек (может' быть весьма обширным) и регионарный  лимфаденит. Характерно  Отсутствие чувствительности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в области дна язвочки, а также отсутствие болезненности в области увеличенных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лимфатических узлов. К моменту образования язвочки появляется лихорадка, которая продолжается в течение 5-7 дней,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общая слабость,  разбитость, головная боль, адинамия. Местные изменения в области поражения нарастают примерно в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течение тех же сроков, что и лихорадка, а затем  начинается обратное развитие: сначала снижается температура тела,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прекращается отдаление серозной жидкости из зоны некроза, начинается уменьшение (до  полного исчезновения) отека,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а на месте некроза постепенно формируется струп. На 10-14-й день струп отторгается, образуется язва с гранулирующим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дном И умеренным гнойным отделяемым с последующим рубцеванием. Легочная форма сибирской язвы начинается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остро, протекает тяжело. Проявляется болью в  груди, одышкой, цианозом, тахикардией (до 120-140 в 1 мин), кашлем с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отделением пенистой кровянистой мокроты.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Температура тела быстро достигает высоких цифр (40° С и выше), АД снижается. Кишечная форма сибирской язвы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характеризуется общей интоксикацией, повышением температуры тела, болью в эпигастральной области, поносом и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рвотой. Живот вздут, резко болезнен при пальпации, нередко имеются признаки раздражения брюшины. В рвотных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массах и выделениях из кишечника появляется примесь крови. При любой из описанных форм сибирской язвы может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развиться сепсис с бактериемией и вторичными очагами (поражение печени, селезенки, почек, мозговых оболочек). Для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диагностики важны эпидемиологические данные (профессия больного, контакт с больными животными или зараженным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сырьем животного происхождения) и характерные поражения кожи. Лабораторным подтверждением диагноза является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выделение возбудителя сибирской язвы. Вспомогательное значение имеет аллергическая проба с антраксином.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Прямоугольник 3"/>
          <p:cNvSpPr/>
          <p:nvPr/>
        </p:nvSpPr>
        <p:spPr>
          <a:xfrm>
            <a:off x="1981080" y="533520"/>
            <a:ext cx="47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мптомы, теч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1-07T10:24:18Z</dcterms:modified>
  <cp:revision>18</cp:revision>
  <dc:subject/>
  <dc:title>Презентация на тему Эпидемии</dc:title>
</cp:coreProperties>
</file>