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3DFD-1AC8-4B47-8725-4384DA4789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9cdc"/>
                </a:solidFill>
                <a:latin typeface="Calibri"/>
              </a:rPr>
              <a:t>Инфекционные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3278-67EE-4E56-85B2-9BE750224E9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49cdc"/>
                </a:solidFill>
                <a:latin typeface="Calibri"/>
              </a:rPr>
              <a:t>ТУЛЯРЕМ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инфекционная болезн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ющаяся лихорадкой, об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оксикацией, пораж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атического аппарата, кож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изистых оболоче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и аэрогенном инфицировании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их: относится к зоонозам 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ой очагов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а во многих район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и, источником 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ат многие грыз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C222-53C1-4618-B85D-795DE78CAC1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49cdc"/>
                </a:solidFill>
                <a:latin typeface="Calibri"/>
              </a:rPr>
              <a:t>ХОЛЕ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инфекционная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развитием водянист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оса и рвоты, нарушениями вод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литного обмена, развит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волемического шока, расстройст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очек. Относится к особ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м инфекциям. Возбудитель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ерный вибрион двух разновид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м экзотоксина холерного вибрио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пителий слизистой оболоч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нкой кишки обусловлена потеря жидк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мом. Морфологиче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эпителиальных клеток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лежащих тканей стенки кишки 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1851-4F91-43F2-97D3-59D51DAA777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же имеют место такие понятия, как эпифитотия и эпизоотия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фитотия (от эпи... и греч. phytón — растение), распространение инфекционной болезни растений на значительные территории (хозяйство, район, область) в течение определенного времени. В виде Эпифитотия обычно проявляются ржавчина и головня хлебных злаков, фитофтороз картофеля, парша яблони, увядание хлопчатника, шютте снежное и обыкновенное и другие инфекционные заболе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шлом Эпифитотия причиняли большой ущерб. Известны значительные потери урожая картофеля от фитофтороза в 40-х гг. 19 в. в Ирландии, подсолнечника — от ржавчины в 60-х гг. 19 в. в России, пшеницы — от стеблевой ржавчины в Амурской области в 1923. С повышением культуры земледелия, с разработкой методики прогнозирования массовых заболеваний растений, применением эффективных мер борьбы с ними Эпифитотия стали более редк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6B2A-CDFF-4538-B9F4-BBD2BB49154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Эпифитотия возникают из отдельных очагов болезни при благоприятных условиях (накопление и способность к быстрому распространению инфекционного начала, погодные факторы, способствующие размножению возбудителя и развитию болезни, достаточное количество восприимчивых растений). Фитопатогенные микроорганизмы распространяются из мест резервации и заражают большое число растений. В результате образования нескольких генераций возбудителя создаются новые укрупнённые очаги болезни, расширяется район (зона) поражения, возникает Эпифитотия В зависимости от типа болезни, особенностей возбудителя, растения-хозяина и внешних факторов Эпифитотия развиваются быстро или медленно, с периодическими вспышками при благоприятных условиях. Изучением различных сторон эпифитотического процесса занимается сравнительно молодая область науки — эпифитотиоло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2855-12D7-4E31-B7B5-57015559E8F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9cdc"/>
                </a:solidFill>
                <a:latin typeface="Calibri"/>
              </a:rPr>
              <a:t>Эпизоо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зоотия (греч. ἐπι — на, среди; ζῷον — животное) — широкомасштабное распространение инфекционной болезни среди одного или многих видов животных на определённой территории, значительно превышающее уровень заболеваемости, обычно регистрируемый на данной территории. Говоря нестрого, эпизоотия — это «эпидемия у животных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, изучающая эпизоотии, называется эпизоот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C1F2-0528-4B12-8431-02AC2D9CC12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9cdc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овременный человек на протяжении своей жизни находится в различных средах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оциальной, производственной, местной (городской, сельской), бытовой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родной и др. Человек и среда его обитания образуют систему, состоящую и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ножества взаимодействующих элементов, имеющую упорядоченность в определенны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раницах и обладающую специфическими свойствами. Такое взаимодейств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пределяется множеством факторов и оказывает влияние как на самого человека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ак и на соответствующую среду его обитания. Это влияние может быть, с одн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ороны, положительным, с другой – одновременно и отрицательным (негативным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егативные воздействия факторов природной среды проявляются главным образом 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резвычайных ситуациях. Эти ситуации могут быть следствием, как стихийны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едствий, так и производственной деятельности человек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РЕЗВЫЧАЙНАЯ СИТУАЦИЯ – это обстановка на определенной территории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ложившаяся в результате аварии, опасного природного явления, катастрофы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ихийного или иного бедствия, которая может повлечь или повлекла за соб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еловеческие жертвы, ущерб здоровью людей или окружающей природной среде, 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акже значительные материальные потери и нарушение условий жизнедеятельност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С классифицируются по характеру источника и по масштаба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 характеру источника чрезвычайные ситуации делятся на техногенные и природны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 природным кроме пожара, извержения вулкана и всего прочего относятся и эпидемии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1520-F9E7-47FA-87D4-87DF44E5557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49cdc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44D7-D2B6-420C-8877-684469F0FDC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49cdc"/>
                </a:solidFill>
                <a:latin typeface="Calibri"/>
              </a:rPr>
              <a:t>Эпидемии и Инфекционные заболев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ДЕМИЯ (греч. epidemia), массовое распространение инфекцио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человека в какой-либо местности, стране, значи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ышающее обычный уровень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болезни людей – это заболевания, вызванные болезнетвор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организмами и передающиеся от зараженного человека или животного -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ому. Ежегодно на Земле переносят инфекционные заболевания свыше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рд.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демия – это массовое распространение инфекционного заболевания людей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-либо местности или стране, значительно превышающее общи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A233-0812-4D81-806B-57A6971DA10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49cdc"/>
                </a:solidFill>
                <a:latin typeface="Calibri"/>
              </a:rPr>
              <a:t>Далее расскажем подробнее о некоторых болезня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МА (pest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природно-очаговая инфекционная болезнь, вызываемая палочкой чумы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ersinia pestis. Относится к особо опасным инфекциям. На земном ша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ется ряд природных очагов, где чума постоянно встречается у небольш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а обитающих там грызунов. Эпидемии чумы среди людей часто 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словлены миграцией крыс, заражающихся в природных очагах. От грызунов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у микробы передаются через блох, которые при массовой гиб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х меняют хозяина. Кроме того, возможен путь заражения при обрабо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отниками шкур убитых зараженных животных. Принципиально иным яв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жение от человека к человеку, осуществляемое воздушно-капельным пут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спорадических случаях чумы сообщается в разных странах, в том числе в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DB05-BD07-4620-9B3D-D64A3B15062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тиология, патогене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озбудитель чумы устойчив и низким температурам, хорошо сохраняется 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окроте, но при температуре 55 °С погибает в течение 10-15 мин, а пр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ипячении - практически немедленно. Попадает в организм через кожу (при укус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лохи), слизистые оболочки дыхательных путей, пищеварительного тракта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онъюнктивы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 укусе зараженных чумными бактериями блох у человека на месте укуса мо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озникнуть папула или пустула, наполненная геморрагическим содержимым (кожна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форма). Затем процесс распространяется по лимфатическим сосудам бе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оявления лимфангита. Размножение бактерий в макрофагах лимфатических узл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водит к их резкому увеличению, слиянию и образованию конгломера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бубонная форма). Дальнейшая генерализация инфекции, которая не являетс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рого обязательной, тем более в условиях современной антибактериальн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рапии, может приводить к развитию септической формы, сопровождающейс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ражением практически всех внутренних органов. Однако с эпидемиологически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зиций важнейшую роль играют "отсевы" инфекции в легочную ткань с развитие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егочной формы болезни. С момента развития чумной пневмонии больной челове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ам становится источником заражения, но при этом от человека к человеку уж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редается легочная форма болезни - крайне опасная, с очень быстрым течение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7BB5-1F37-4E1C-9C4E-60B007AE24E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БИРСКАЯ ЯЗ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е инфекционное заболевание из группы зоонозов. У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ает в виде кожной, легочной, кишечной и септической ф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иология, патогене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дитель - относительно крупная сибиреязвенная палочка; образ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ы И капсулу. Вегетативная форма возбудителя погибает без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ха, При прогревании, воздействии дезинфицирующих средств.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дителя во внешней среде весьма устойчи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F686-B06C-4E38-9348-247D921D778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имптомы, тече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Инкубационный период от нескольких часов до 8 дней (чаще 2-3 дня). Наиболее часто сибирская язва у человека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ротекает в виде кожной формы (95-99% случаев) и лишь у 1-5% больных- в виде легочной и кишечной. Типичные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роявления кожной формы сибирской  язвы возникают в зоне  ворот инфекции. Вначале появляется красное зудящее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ятнышко, которое быстро превращается в папулу, а последняя - в  везикулу с прозрачным или геморрагическим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содержимым. Больной при продолжающемся зуде срывает пузырек, на его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месте образуется  язвочка с темным дном и  обильным серозным отделяемым. По периферии язвочки развиваетс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воспалительный валик, в зоне которого образуются  дочерние пузырьки. Одновременно с этим вокруг язвочки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развивается отек (может' быть весьма обширным) и регионарный  лимфаденит. Характерно  Отсутствие чувствительности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в области дна язвочки, а также отсутствие болезненности в области увеличенных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лимфатических узлов. К моменту образования язвочки появляется лихорадка, которая продолжается в течение 5-7 дней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общая слабость,  разбитость, головная боль, адинамия. Местные изменения в области поражения нарастают примерно в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течение тех же сроков, что и лихорадка, а затем  начинается обратное развитие: сначала снижается температура тела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рекращается отдаление серозной жидкости из зоны некроза, начинается уменьшение (до  полного исчезновения) отека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а на месте некроза постепенно формируется струп. На 10-14-й день струп отторгается, образуется язва с гранулирующим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дном И умеренным гнойным отделяемым с последующим рубцеванием. Легочная форма сибирской язвы начинаетс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остро, протекает тяжело. Проявляется болью в  груди, одышкой, цианозом, тахикардией (до 120-140 в 1 мин), кашлем с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отделением пенистой кровянистой мокроты.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Температура тела быстро достигает высоких цифр (40° С и выше), АД снижается. Кишечная форма сибирской язвы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характеризуется общей интоксикацией, повышением температуры тела, болью в эпигастральной области, поносом и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рвотой. Живот вздут, резко болезнен при пальпации, нередко имеются признаки раздражения брюшины. В рвотных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массах и выделениях из кишечника появляется примесь крови. При любой из описанных форм сибирской язвы может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развиться сепсис с бактериемией и вторичными очагами (поражение печени, селезенки, почек, мозговых оболочек). Дл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диагностики важны эпидемиологические данные (профессия больного, контакт с больными животными или зараженным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сырьем животного происхождения) и характерные поражения кожи. Лабораторным подтверждением диагноза являетс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выделение возбудителя сибирской язвы. Вспомогательное значение имеет аллергическая проба с антраксином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3ECB-B277-4915-A46F-FD7626A7BF6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5D0C-4EC3-4277-9A0E-FD0369E1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EC17-E809-45DA-AFC6-C8ECAC5B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FB82-1B44-400A-9AC3-DCE692BB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5BC8-413E-41C7-BAB0-7206CAE1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256E-AC38-4294-ABB6-E38AA00D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5967-FCC5-4AA4-91F2-A8CEE995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5CF5-8E3C-4A72-A825-1452620E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4097-8604-47DC-A420-566E1D93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B2D1-B1D4-4A60-8A32-280B3C13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5A30-C9CA-4E48-AD2D-9B3E13AC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A414-63E4-487A-A00F-09F4A007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78C1-0E94-431C-B5AD-3455CA49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EB06-AE10-4536-89E7-BD352D11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CE64-5D94-4FCA-B75A-6EED511B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839E-DF14-4FE6-9E25-FFCC60EE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17BB-A77B-4191-BF77-3C3334E6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BCDB-5093-46C9-B15E-7D8AD3FC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B8F5A-295C-45D6-B2F0-10AC4D8A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48A78-6D68-4D17-85ED-07472CBA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90B51-6267-4B32-9324-ECB25E91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110FD-FA64-45B0-90BF-9EF3E9CB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8E782-DB82-4CBA-AF6E-DEE44CC1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2104-7D21-440C-80CD-9BC91835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3BF59-2344-4384-888D-391E2FD9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95CEA-0939-4D39-81D0-BF2733A9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6CCC1-BAD7-4BEB-9D55-BEF7B8B4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2C909-4E20-470D-94D3-36D6B6CD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CA4C6-1737-499C-B682-DFA5D80B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3B625-698D-4890-BCCF-E0C0F890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505E5-BE8A-4564-9E61-3CB7C913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D6C19-7FCD-4E00-897A-55C24AE3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BD2F6-CC2B-445A-898A-9A680E3B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E829C-BAD4-4E12-BE16-8A0C8C4A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1201-713C-4DD1-AEC7-A3666EFC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CA87F-F232-41B6-AAD0-C7980480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BE15E-0979-4AD7-A00A-F5CF268A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DDD36-E91F-4274-AFB9-2D5F1AF1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38A57-59CA-4CDE-8D16-E5F38CEB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27E01-57CF-4B87-AD99-F65536E9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78504-9C80-4C4E-A3ED-F0FEEE0F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7FFDC-E063-438A-B397-09F3B61B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3425F-CC2F-4A1F-93E7-024909E3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BB00F-55FC-450F-B0FA-B16FC380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14B64-9ED2-431F-9AFB-A2862CC0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1B11-C5F2-41EC-8AF8-69F89977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462FF-5DFD-4ABA-BEAF-4740FD9E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846C2-B7A6-43B5-ABC6-8BCA7739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840EF-B15E-40A9-9F12-4875DA3F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C35EA-D26F-4E58-8C23-88A4E800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85520-67B6-4347-8539-B93A1164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875D9-0470-411E-A457-8C27E2D5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37D5C-F39B-4FCF-9B54-91F04F5D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14F97-E285-4397-BA46-AE74DF06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BDDC4-50A0-4E53-9B53-99586CE4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996CF-20B2-43FA-9870-BD73486E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CF1D-1DC1-4CAE-A990-E403E9F4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C806C-44AB-442C-8B2A-740C163D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A2B10-7095-48DD-B5D2-903BE7A4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3840A-EA2D-4268-B3D1-842BAB61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AE5AB-F9A5-4DB2-8AE8-213DFA05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9C091-800A-4700-B6F1-6B543DA8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08303-90FD-4E31-99F7-20B4BAF5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03726-3A73-4AFC-A234-C562D45F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F0624-CF4C-409A-9B13-29DB4FEB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3B7B7-4992-48C5-9070-0F15DB67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E9781-6430-4EB3-AA72-E5FBB827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FDC1-8A0F-4C0D-83F7-9485B656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7E46E-EDBC-48D1-B28D-3E6F9355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6F5EF-B606-4566-868A-9C3353E9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09D02-4E35-4F2E-AD17-75A8B822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CF54F-D0F7-41A6-939A-09B08A7D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2223E-597B-4313-894B-755802B7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28C1C-64C5-44B0-A009-28217D73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0749B-E846-4859-A46A-367FE2B7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ACFBF-CA49-42A4-81F3-1A3287A7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AB7F6-A085-4EAF-8CC4-A3AC0B01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F49FC-9697-46DA-B3B4-4F7834BE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3AC8-8B67-4972-9155-ED35A252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D14E0-EF99-4255-8C9A-D0C63660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92943-D509-4F0F-9973-EF8A84E5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0D14A-3F22-4A59-A91C-4E7DD356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DE3DE-A448-4B40-B6D9-E1EB2A43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C6267-6A41-48AD-B64D-E7711BC7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60CF-7C3E-4102-8AA5-1F2BFB2E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097D-E1CC-4AA0-88BE-C1DD43556B8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A342-2896-4710-BD5A-7A29739D0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4CE2-C08F-437F-BCD7-2A18504F910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0E7B-E1E1-4776-88CD-4EFBF08431A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1083-F0DC-4EE1-94DE-30BA0E81AB3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9984-BE88-4B8C-8216-5B0D145DF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4222-DD65-44AF-9D1A-FB44540F8BC9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490D-B66E-4A04-8A86-11AB2645FA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2655-82A0-49F8-B378-92B0C4EAE97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9325-794B-4FBE-8667-E0F1BD949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29AD-2A40-4968-982A-CE3F225F702C}" type="datetime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5999-67B7-4819-A87C-50E073391D2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5035-1645-490F-A9DE-67F1247789F7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F47C-A3BC-4382-A0C8-79E0053346E9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542880" y="768240"/>
            <a:ext cx="8229600" cy="16509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876920" y="4292280"/>
            <a:ext cx="4038480" cy="21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1143000" y="3016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тавропольский Государственный Университ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страя инфекционная болезнь,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характеризующаяся лихорадкой, общей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интоксикацией, поражением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лимфатического аппарата, кожи,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слизистых оболочек,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а при аэрогенном инфицировании –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легких: относится к зоонозам с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Природной очаговостью.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Распространена во многих районах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России, источником инфекции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служат многие грызуны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6" name="Picture 2" descr="C:\Documents and Settings\Home\Рабочий стол\Новая папка\0297605284.jpg"/>
          <p:cNvPicPr/>
          <p:nvPr/>
        </p:nvPicPr>
        <p:blipFill>
          <a:blip r:embed="rId2"/>
          <a:stretch/>
        </p:blipFill>
        <p:spPr>
          <a:xfrm>
            <a:off x="4648320" y="1447920"/>
            <a:ext cx="4171680" cy="498636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343040" y="1371240"/>
            <a:ext cx="4343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Острая инфекционная болезнь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Характеризуется развитием водянистого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поноса и рвоты, нарушениями водно-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электролитного обмена, развитием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Гиповолемического шока, расстройством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функции почек. Относится к особо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опасным инфекциям. Возбудитель –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холерный вибрион двух разновидностей.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Действием экзотоксина холерного вибриона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на эпителий слизистой оболочки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тонкой кишки обусловлена потеря жидкости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организмом. Морфологических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изменений эпителиальных клеток и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подлежащих тканей стенки кишки не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имеетс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0" name="Picture 2" descr="C:\Documents and Settings\Home\Рабочий стол\Новая папка\holera.jpg"/>
          <p:cNvPicPr/>
          <p:nvPr/>
        </p:nvPicPr>
        <p:blipFill>
          <a:blip r:embed="rId2"/>
          <a:stretch/>
        </p:blipFill>
        <p:spPr>
          <a:xfrm>
            <a:off x="914400" y="1905120"/>
            <a:ext cx="2857680" cy="3124080"/>
          </a:xfrm>
          <a:prstGeom prst="rect">
            <a:avLst/>
          </a:prstGeom>
          <a:ln w="0">
            <a:noFill/>
          </a:ln>
        </p:spPr>
      </p:pic>
      <p:sp>
        <p:nvSpPr>
          <p:cNvPr id="341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Также имеют место такие понятия, как эпифитотия и эпизоотия…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Эпифитотия (от эпи... и греч. phytón — растение), распространение инфекционной болезни растений на значительные территории (хозяйство, район, область) в течение определенного времени. В виде Эпифитотия обычно проявляются ржавчина и головня хлебных злаков, фитофтороз картофеля, парша яблони, увядание хлопчатника, шютте снежное и обыкновенное и другие инфекционные заболевания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 прошлом Эпифитотия причиняли большой ущерб. Известны значительные потери урожая картофеля от фитофтороза в 40-х гг. 19 в. в Ирландии, подсолнечника — от ржавчины в 60-х гг. 19 в. в России, пшеницы — от стеблевой ржавчины в Амурской области в 1923. С повышением культуры земледелия, с разработкой методики прогнозирования массовых заболеваний растений, применением эффективных мер борьбы с ними Эпифитотия стали более редкими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ычно Эпифитотия возникают из отдельных очагов болезни при благоприятных условиях (накопление и способность к быстрому распространению инфекционного начала, погодные факторы, способствующие размножению возбудителя и развитию болезни, достаточное количество восприимчивых растений). Фитопатогенные микроорганизмы распространяются из мест резервации и заражают большое число растений. В результате образования нескольких генераций возбудителя создаются новые укрупнённые очаги болезни, расширяется район (зона) поражения, возникает Эпифитотия В зависимости от типа болезни, особенностей возбудителя, растения-хозяина и внешних факторов Эпифитотия развиваются быстро или медленно, с периодическими вспышками при благоприятных условиях. Изучением различных сторон эпифитотического процесса занимается сравнительно молодая область науки — эпифитотиология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C:\Documents and Settings\Home\Рабочий стол\Новая папка\Hordei_Barley_yellow_dwarf_virus.jpg"/>
          <p:cNvPicPr/>
          <p:nvPr/>
        </p:nvPicPr>
        <p:blipFill>
          <a:blip r:embed="rId1"/>
          <a:stretch/>
        </p:blipFill>
        <p:spPr>
          <a:xfrm>
            <a:off x="5029200" y="1671480"/>
            <a:ext cx="3638520" cy="369252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/>
          <p:cNvSpPr/>
          <p:nvPr/>
        </p:nvSpPr>
        <p:spPr>
          <a:xfrm>
            <a:off x="685800" y="1066680"/>
            <a:ext cx="4114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становление связи развития Эпифитотия с теми или иными факторами позволяет ослабить их влияние. Например, изменения в популяции возбудителя болезни и растения-хозяина, обусловливающие возникновение Эпифитотия, учитываются при обосновании прогнозов болезни, выведении устойчивых к инфекционным болезням сортов с.-х. культур и их размещении в севооборотах. Меры борьбы с Эпифитотия зависят от особенностей боле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пизоотия (греч. ἐπι — на, среди; ζῷον — животное) — широкомасштабное распространение инфекционной болезни среди одного или многих видов животных на определённой территории, значительно превышающее уровень заболеваемости, обычно регистрируемый на данной территории. Говоря нестрого, эпизоотия — это «эпидемия у животных»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Наука, изучающая эпизоотии, называется эпизоотология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8906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808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Эпизоотия - определяет громадное распространение какой-либо повально заразительной болезни скота. Классификация повальных болезней по степени их распространения такова: если болезнь ограничивается небольшим районом, определенным местом или же в этом последнем проявляется только в одном каком-либо участке, то она носит название "энзоотии"; если заразная болезнь распространяется на большое пространство, поражая большое число животных, то в таких случаях ее определяют словом "Э."; наконец, существует еще "панзоотия" - когда заразная болезнь охватывает своим пожарищем огромные пространства, целые части света, поражает различные виды животных; к таким болезням принадлежат ящур, сибирская язва, бешенство. Одна и та же болезнь может явиться то в форме эпизоотической, то в энзоотической, то исключительно в спорадической (единичное заболевание), например, сибирская язва. Эпизоот. болезни, несмотря на значительный успех в научном изучении их первопричины (бактериология) и на усовершенствованные методы борьбы, до сих пор продолжают служить бичом скотоводческого хозяйства, прогрессивно сокращая его количественно и тормозя развитие культурных пород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Убытки, причиняемые Э., продолжают быть неисчислимыми, так как, по компетентному мнению проф. Пютца, при исчислении убытков должно принимать во внимание не только стоимость павшего животного, но также и те убытки, которые следуют за прекращением дела во время господства болезни и спустя еще долго после неё, и нередко эти убытки бывают гораздо значительнее, чем стоимость павшего животного; помимо этого, чисто экономического расчета, надо помнить, что при некоторых Э. здоровье окружающего населения также подвергается известному риску, как, напр., при сибирской язве, ящуре, бешенстве, туберкулёзе и др. Научные открытия последних лет, явившиеся результатом переворота, произведенного открытиями Пастера в области бактериологии, выдвинули учение о микробе как первопричине всякой заразы, а изучение свойств этой заразы в значительной степени подвинуло вопрос о более рациональной борьбе с эпизоотиями. Предохранительные прививки сибирской язвы, рожи свиней, маллеинизация, туберкулинизация и пр. - все это послужило надежным орудием в борьбе с такими эпизоотиями, как сибирская язва, сплошь губившая несколько лет тому назад рабочий и продуктивный скот, а теперь доведенная в местах с хорошей ветеринарной организацией до minimum'a, до спорадических случаев, как сап, этот бич коневодства, который теперь, благодаря диагностическому значению маллеина, уже перестает быть скрытым врагом; туберкулёз, рожа свиней, чума рогатого скота, повальное воспаление легких, ящур, различного рода геморрагические заболевания - накануне борьбы, вооруженной солидными научными открытиями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Home\Рабочий стол\Новая папка\__001.jpg"/>
          <p:cNvPicPr/>
          <p:nvPr/>
        </p:nvPicPr>
        <p:blipFill>
          <a:blip r:embed="rId1"/>
          <a:stretch/>
        </p:blipFill>
        <p:spPr>
          <a:xfrm>
            <a:off x="533520" y="457200"/>
            <a:ext cx="8026200" cy="601992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Picture 2" descr="C:\Documents and Settings\Home\Рабочий стол\Новая папка\post-44-1210180075.jpg"/>
          <p:cNvPicPr/>
          <p:nvPr/>
        </p:nvPicPr>
        <p:blipFill>
          <a:blip r:embed="rId1"/>
          <a:stretch/>
        </p:blipFill>
        <p:spPr>
          <a:xfrm>
            <a:off x="380880" y="228600"/>
            <a:ext cx="8433000" cy="632448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895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овременный человек на протяжении своей жизни находится в различных средах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оциальной, производственной, местной (городской, сельской), бытовой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иродной и др. Человек и среда его обитания образуют систему, состоящую из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множества взаимодействующих элементов, имеющую упорядоченность в определенных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границах и обладающую специфическими свойствами. Такое взаимодействие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пределяется множеством факторов и оказывает влияние как на самого человека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так и на соответствующую среду его обитания. Это влияние может быть, с одной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тороны, положительным, с другой – одновременно и отрицательным (негативным)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Негативные воздействия факторов природной среды проявляются главным образом в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резвычайных ситуациях. Эти ситуации могут быть следствием, как стихийных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бедствий, так и производственной деятельности человека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РЕЗВЫЧАЙНАЯ СИТУАЦИЯ – это обстановка на определенной территории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ложившаяся в результате аварии, опасного природного явления, катастрофы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тихийного или иного бедствия, которая может повлечь или повлекла за собой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еловеческие жертвы, ущерб здоровью людей или окружающей природной среде, а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также значительные материальные потери и нарушение условий жизнедеятельности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С классифицируются по характеру источника и по масштабам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о характеру источника чрезвычайные ситуации делятся на техногенные и природные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К природным кроме пожара, извержения вулкана и всего прочего относятся и эпидемии…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Місце для нижнього колонтитула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457200" y="2944800"/>
            <a:ext cx="8229600" cy="134604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3780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ЭПИДЕМИЯ (греч. epidemia), массовое распространение инфекционного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Заболевания человека в какой-либо местности, стране, значительно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превышающее обычный уровень заболеваемости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Инфекционные болезни людей – это заболевания, вызванные болезнетворными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микроорганизмами и передающиеся от зараженного человека или животного - к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здоровому. Ежегодно на Земле переносят инфекционные заболевания свыше 1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млрд. человек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Эпидемия – это массовое распространение инфекционного заболевания людей в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какой-либо местности или стране, значительно превышающее общий уровень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заболеваемости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3"/>
          <p:cNvSpPr/>
          <p:nvPr/>
        </p:nvSpPr>
        <p:spPr>
          <a:xfrm>
            <a:off x="457200" y="22860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амые опасные заболевания, принимающие форму эпидемии приведены ниж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Box 6"/>
          <p:cNvSpPr/>
          <p:nvPr/>
        </p:nvSpPr>
        <p:spPr>
          <a:xfrm>
            <a:off x="152280" y="1523880"/>
            <a:ext cx="8839440" cy="28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Заболевание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Способ распространения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Латентный период, сутки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родолжительность потери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Смертность без лечения,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ботоспособности, сутки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Чума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спыление в воздухе;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3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7 – 1 (при бубонной форме)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100( при легочной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          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  и септических формах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заражение воды, пищи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редметов домашнего обихода;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искусственное заражени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ереносчиков.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Сибирская язва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спыление спор в воздухе,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2 – 3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7 – 14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До 100 (при легочно-кишечной форме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искусственное заражени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ереносчиков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Туляремия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спыление спор в воздухе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3 – 6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40 – 60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5.8 до 3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Холера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Распыление спор в воздухе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5 - 30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10 – 8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Тиф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роникают в организм через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12 – 14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6 – 14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До 4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мельчайши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овреждения кожи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5605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3049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ЧУМА (pestis)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страя природно-очаговая инфекционная болезнь, вызываемая палочкой чумы -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Yersinia pestis. Относится к особо опасным инфекциям. На земном шаре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сохраняется ряд природных очагов, где чума постоянно встречается у небольшого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процента обитающих там грызунов. Эпидемии чумы среди людей часто были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бусловлены миграцией крыс, заражающихся в природных очагах. От грызунов к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человеку микробы передаются через блох, которые при массовой гибели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Животных меняют хозяина. Кроме того, возможен путь заражения при обработке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хотниками шкур убитых зараженных животных. Принципиально иным является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заражение от человека к человеку, осуществляемое воздушно-капельным путем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 спорадических случаях чумы сообщается в разных странах, в том числе в США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Возбудитель чумы устойчив и низким температурам, хорошо сохраняется в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мокроте, но при температуре 55 °С погибает в течение 10-15 мин, а при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кипячении - практически немедленно. Попадает в организм через кожу (при укусе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блохи), слизистые оболочки дыхательных путей, пищеварительного тракта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конъюнктивы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и укусе зараженных чумными бактериями блох у человека на месте укуса может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возникнуть папула или пустула, наполненная геморрагическим содержимым (кожная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форма). Затем процесс распространяется по лимфатическим сосудам без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оявления лимфангита. Размножение бактерий в макрофагах лимфатических узлов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иводит к их резкому увеличению, слиянию и образованию конгломерата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(бубонная форма). Дальнейшая генерализация инфекции, которая не является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трого обязательной, тем более в условиях современной антибактериальной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терапии, может приводить к развитию септической формы, сопровождающейся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оражением практически всех внутренних органов. Однако с эпидемиологических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озиций важнейшую роль играют "отсевы" инфекции в легочную ткань с развитием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легочной формы болезни. С момента развития чумной пневмонии больной человек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ам становится источником заражения, но при этом от человека к человеку уже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ередается легочная форма болезни - крайне опасная, с очень быстрым течением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1981080" y="457200"/>
            <a:ext cx="49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ология, патоген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СИБИРСКАЯ ЯЗВА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Острое инфекционное заболевание из группы зоонозов. У человек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протекает в виде кожной, легочной, кишечной и септической форм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Этиология, патогенез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озбудитель - относительно крупная сибиреязвенная палочка; образует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Споры И капсулу. Вегетативная форма возбудителя погибает без доступ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оздуха, При прогревании, воздействии дезинфицирующих средств. Споры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озбудителя во внешней среде весьма устойчивы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C:\Documents and Settings\Home\Рабочий стол\Новая папка\Carbuncle.jpg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20092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12952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Инкубационный период от нескольких часов до 8 дней (чаще 2-3 дня). Наиболее часто сибирская язва у человека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ротекает в виде кожной формы (95-99% случаев) и лишь у 1-5% больных- в виде легочной и кишечной. Типичные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роявления кожной формы сибирской  язвы возникают в зоне  ворот инфекции. Вначале появляется красное зудящее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ятнышко, которое быстро превращается в папулу, а последняя - в  везикулу с прозрачным или геморрагическим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содержимым. Больной при продолжающемся зуде срывает пузырек, на его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месте образуется  язвочка с темным дном и  обильным серозным отделяемым. По периферии язвочки развиваетс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воспалительный валик, в зоне которого образуются  дочерние пузырьки. Одновременно с этим вокруг язвочки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развивается отек (может' быть весьма обширным) и регионарный  лимфаденит. Характерно  Отсутствие чувствительности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в области дна язвочки, а также отсутствие болезненности в области увеличенных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лимфатических узлов. К моменту образования язвочки появляется лихорадка, которая продолжается в течение 5-7 дней,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общая слабость,  разбитость, головная боль, адинамия. Местные изменения в области поражения нарастают примерно в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течение тех же сроков, что и лихорадка, а затем  начинается обратное развитие: сначала снижается температура тела,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рекращается отдаление серозной жидкости из зоны некроза, начинается уменьшение (до  полного исчезновения) отека,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а на месте некроза постепенно формируется струп. На 10-14-й день струп отторгается, образуется язва с гранулирующим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дном И умеренным гнойным отделяемым с последующим рубцеванием. Легочная форма сибирской язвы начинаетс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остро, протекает тяжело. Проявляется болью в  груди, одышкой, цианозом, тахикардией (до 120-140 в 1 мин), кашлем с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отделением пенистой кровянистой мокроты.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Температура тела быстро достигает высоких цифр (40° С и выше), АД снижается. Кишечная форма сибирской язвы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характеризуется общей интоксикацией, повышением температуры тела, болью в эпигастральной области, поносом и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рвотой. Живот вздут, резко болезнен при пальпации, нередко имеются признаки раздражения брюшины. В рвотных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массах и выделениях из кишечника появляется примесь крови. При любой из описанных форм сибирской язвы может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развиться сепсис с бактериемией и вторичными очагами (поражение печени, селезенки, почек, мозговых оболочек). Дл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диагностики важны эпидемиологические данные (профессия больного, контакт с больными животными или зараженным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сырьем животного происхождения) и характерные поражения кожи. Лабораторным подтверждением диагноза являетс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выделение возбудителя сибирской язвы. Вспомогательное значение имеет аллергическая проба с антраксином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981080" y="533520"/>
            <a:ext cx="47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мптомы, те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07T10:24:18Z</dcterms:modified>
  <cp:revision>18</cp:revision>
  <dc:subject/>
  <dc:title>Презентация на тему Эпидемии</dc:title>
</cp:coreProperties>
</file>