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63F1-056A-44D8-80AD-C698739C43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FD07-A62A-4BA0-9E32-F92BA893840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ТУЛЯРЕМ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аяся лихорадкой,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ксикацией, пораж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атического аппарата, кож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истых оболоч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и аэрогенном инфицировании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х: относится к зоонозам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й очагов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а во многих район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и, источником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ат многие грыз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2BD3-F3B0-459F-AA75-7C515ED955B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ХОЛ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развитием водянис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оса и рвоты, нарушениями вод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литного обмена, развит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волемического шока, расстрой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очек. Относится к осо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м инфекциям. Возбудител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ный вибрион двух разновид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м экзотоксина холерного вибри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пителий слизистой обо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ой кишки обусловлена потеря жид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ом. Морфолог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эпителиальных клето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ащих тканей стенки кишки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B094-FF34-4AC6-A72C-F9657D6CB4F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же имеют место такие понятия, как эпифитотия и эпизоотия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CCCE-3714-4320-9A0C-DE95512924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8B71-E245-401C-8904-CF7408C037D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Эпизоо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эпизоотии, называется эпизоот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9CAA-C21B-40A2-A62B-E9872D572EF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временный человек на протяжении своей жизни находится в различных средах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циальной, производственной, местной (городской, сельской), бытовой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родной и др. Человек и среда его обитания образуют систему, состоящую и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ножества взаимодействующих элементов, имеющую упорядоченность в определен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раницах и обладающую специфическими свойствами. Такое взаимодейств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пределяется множеством факторов и оказывает влияние как на самого человек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 и на соответствующую среду его обитания. Это влияние может быть, с од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ороны, положительным, с другой – одновременно и отрицательным (негативным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егативные воздействия факторов природной среды проявляются главным образом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ых ситуациях. Эти ситуации могут быть следствием, как стихий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дствий, так и производственной деятельности человек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АЯ СИТУАЦИЯ – это обстановка на определенной территории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жившаяся в результате аварии, опасного природного явления, катастроф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ихийного или иного бедствия, которая может повлечь или повлекла за соб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ческие жертвы, ущерб здоровью людей или окружающей природной среде, 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же значительные материальные потери и нарушение условий жизнедеятельност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С классифицируются по характеру источника и по масштаба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 характеру источника чрезвычайные ситуации делятся на техногенные и природны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 природным кроме пожара, извержения вулкана и всего прочего относятся и эпидемии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9E74-14D3-435B-BA69-8F0A90148F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9cdc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D4B5-BD7F-4A7F-B856-C07E6439F18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Эпидемии и Инфекционные заболе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(греч. epidemia), массовое распространение инфекцио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человека в какой-либо местности, стране, значи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ышающее обычный уровень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болезни людей – это заболевания, вызванные болезнетво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организмами и передающиеся от зараженного человека или животного -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ому. Ежегодно на Земле переносят инфекционные заболевания свы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рд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– это массовое распространение инфекционного заболевания люде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-либо местности или стране, значительно превышающее общи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750E-6B49-47E9-B32A-E05BD763C6D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Далее расскажем подробнее о некоторых болезн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МА (pes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природно-очаговая инфекционная болезнь, вызываемая палочкой чум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ersinia pestis. Относится к особо опасным инфекциям. На земном ш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ряд природных очагов, где чума постоянно встречается у небольш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а обитающих там грызунов. Эпидемии чумы среди людей часто 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ы миграцией крыс, заражающихся в природных очагах. От грызуно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у микробы передаются через блох, которые при массовой гиб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 меняют хозяина. Кроме того, возможен путь заражения при об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никами шкур убитых зараженных животных. Принципиально иным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от человека к человеку, осуществляемое воздушно-капельным пу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порадических случаях чумы сообщается в разных странах, в том числе 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700C-B0F1-437B-B644-D3B36CB85BF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будитель чумы устойчив и низким температурам, хорошо сохраняется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кроте, но при температуре 55 °С погибает в течение 10-15 мин, а пр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ипячении - практически немедленно. Попадает в организм через кожу (при укус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лохи), слизистые оболочки дыхательных путей, пищеварительного тракт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ъюнктив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 укусе зараженных чумными бактериями блох у человека на месте укуса мо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никнуть папула или пустула, наполненная геморрагическим содержимым (кожн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рма). Затем процесс распространяется по лимфатическим сосудам бе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явления лимфангита. Размножение бактерий в макрофагах лимфатических узл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водит к их резкому увеличению, слиянию и образованию конгломера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бубонная форма). Дальнейшая генерализация инфекции, которая не являе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ого обязательной, тем более в условиях современной антибактериаль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рапии, может приводить к развитию септической формы, сопровождающей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ражением практически всех внутренних органов. Однако с эпидемиологически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зиций важнейшую роль играют "отсевы" инфекции в легочную ткань с развитие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егочной формы болезни. С момента развития чумной пневмонии больной челове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м становится источником заражения, но при этом от человека к человеку уж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едается легочная форма болезни - крайне опасная, с очень быстрым течение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CCE6-9B49-4546-BA7C-A4A232AB93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ИРСКАЯ ЯЗ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е инфекционное заболевание из группы зоонозов. У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виде кожной, легочной, кишечной и септической ф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- относительно крупная сибиреязвенная палочка; обра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ы И капсулу. Вегетативная форма возбудителя погибает без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а, При прогревании, воздействии дезинфицирующих средств.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я во внешней среде весьма устойчи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732C-2BA2-4DFF-87F2-B3CA34481C8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имптомы, теч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одержимым. Больной при продолжающемся зуде срывает пузырек, на его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 области дна язвочки, а также отсутствие болезненности в области увеличен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тделением пенистой кровянистой мокроты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A6F3-56EE-4AFE-8B01-388855CE09D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E01-283C-4668-9421-3F95B08E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768-F25A-4D7E-9C50-7D9FFAD5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663-3D0F-45A5-BE62-BFD5E7DC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2FC-B477-4C0F-BAAF-8334A09C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195F-A657-44FA-A27F-6A9FB9B4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B83E-337C-4DE2-9100-C326B743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CF27-6A23-4AB3-A108-724B9938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DC3C-90A9-465B-BB30-E89737B1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B8F4-4EFE-42C7-851F-EB3CB751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B1A5-34CE-4AA4-8CF4-997279C9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4504-3431-4C35-99C1-47C218B2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9B1-9454-4175-863D-1456F746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17B2-6032-451B-A37C-10FFFBF5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85C0-1855-44AD-8D63-BD6E7D1A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48E2-8A9E-4225-9C3A-9385F31F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D5B9-77B6-4CE0-9949-C28F2741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45FA-DA28-4725-99EB-AEE07318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AF701-11DF-4CCD-8185-D736C98C9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1F14-758A-4A72-8B7A-B0745256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AC66-69A8-4349-972A-2D3FFDE3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8B1BD-D9CC-4AA3-BB33-3E82B02E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0834B-6389-45C1-9CAA-CC047329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4EA1-858A-4E22-A0BB-95196BD9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B2D5-2179-4655-AB6B-D831E04B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4445-30FF-4378-A1F8-CBD3E7EE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8565-7F67-46FD-9A30-CCC26771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E5E4-9D88-40CA-95DE-33944E0E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62FC1-E645-4928-99A8-94061D72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B1CBD-0F08-46B7-8586-8DF54978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FC96-4F88-48C1-8694-F1C61F48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80DD0-652C-4199-BD27-002785FA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FBFA-4270-4F82-B7F3-6EF17757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A3CF-0654-4D68-9122-4749FFF3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6DC-C497-43E6-B745-3AC1A292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62D9E-8A55-408D-9FCE-63C68F8B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A07E4-DAEC-49E2-BFD3-5AF34201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EEF8C-07F6-4A25-829A-5C3199E6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068EE-825B-4C95-921C-CE9DA051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BD821-906A-4385-A1DC-253E112C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1DBD-FBFF-4484-A973-5983F96B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6A12A-4CD3-4CDE-A736-B9650B4D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B10CE-DF86-43C0-8865-EB4B59E4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920F5-7195-48C7-AC63-C4CDE726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49E59-3F73-4CA8-8CCE-65C053A3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B92-FEFF-4F86-A0B8-16329AAE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68052-F247-4B87-BDE8-7D1FA597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B463-99D4-418F-B178-70FDADDF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7406-325D-41A9-A8E4-EC5DBEC6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F2EC6-9BEE-4ED9-87BC-849AE801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F129E-6CBD-43EB-B38E-0848A772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B121B-B4A8-4EA5-A869-D3645DA6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FB7C-2AC7-426A-A94D-36404815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B36FD-2F83-43C9-96F6-0655D005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2B96-8C95-4C99-AED9-EA5C20A9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0C8FF-ABC1-4290-97F4-6B68DF77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9F38-24B7-4052-A134-1D12B1F4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85B92-08C3-4F63-902F-14982441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D49EF-1806-4663-84C7-1831AA34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4A435-E376-4A42-B14A-B7B19A96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9BCAB-0872-4F62-BA7B-56730D65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48006-5DA2-456E-9BB7-E52261E9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1D0D7-0497-4AD7-940C-E6FA2740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513F-AB86-412B-A780-0A3DA7E4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E14F-FC6A-4F42-B8C5-59A64D6A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3DC25-B6C9-461B-9203-B29413B4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7A94A-C238-4217-9E11-78CB869A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E4E-D5DF-4E99-9DF9-2F6C42F1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62979-3819-4B91-A952-61077202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8B539-76E3-47A5-8C35-6926C77C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C58E6-F5FC-4CC7-AE39-8BF82A04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5F4A3-931B-4F2B-BDA9-E27C4499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94446-C028-4745-95F9-ED55F6B6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4DCE7-47C9-433C-95B1-3A4A4A11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54606-F28A-4376-B400-0EE236F3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1B9FB-EDA2-4823-952D-DD8A9579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15C47-3B42-4AD3-8045-61947668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8C188-91B9-4485-BF3D-8A9F2949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274-CC9A-4B5F-B0CB-96F722AA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4E112-54B6-4132-AC42-0676539F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1E38D-B9E6-4039-BEB3-0ACDC46A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483D6-E2B6-4660-BAA9-2D354D5B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F9080-9B57-4913-BAE9-FC2A86BC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8225F-796A-477C-8AB3-C92D3C95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101-F9B9-4BB6-908B-07680A18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6B5A-1B96-494B-A2FB-584DA445936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2681-DDCC-468E-8EE6-1E3DBD544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A651-28FE-4AD4-8013-C5C896BEFE3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1F36-68E8-44A6-9CAA-ECA2C9C36F8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4157-C28D-43A7-879B-030AC84301D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0103-DC8C-4EE2-981C-934D31468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913E-5D20-49CC-82C5-7DE66D9ECF0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8D35-04F5-404F-9E55-E73B2DC986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1B71-AFD8-479B-9536-C9104DDDB11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7338-29FF-4602-AB00-FB9668BE8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9F65-C04C-4AFA-97A9-1056D12CAD2E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7351-A810-4649-AFA2-FE63D4388D3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D9F3-6247-4FC0-8370-15FBA0D72E9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4E59-A89B-4F3C-8CE7-53E5C170592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42880" y="7682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876920" y="4292280"/>
            <a:ext cx="4038480" cy="21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143000" y="3016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авропольский Государственный Универси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характеризующаяся лихорадкой, общей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интоксикацией, поражением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имфатического аппарата, кожи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изистых оболочек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а при аэрогенном инфицировании –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егких: относится к зоонозам с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иродной очаговостью.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аспространена во многих районах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оссии, источником инфекци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ужат многие грызуны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2" descr="C:\Documents and Settings\Home\Рабочий стол\Новая папка\0297605284.jpg"/>
          <p:cNvPicPr/>
          <p:nvPr/>
        </p:nvPicPr>
        <p:blipFill>
          <a:blip r:embed="rId2"/>
          <a:stretch/>
        </p:blipFill>
        <p:spPr>
          <a:xfrm>
            <a:off x="4648320" y="1447920"/>
            <a:ext cx="4171680" cy="49863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3430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арактеризуется развитием водянистог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носа и рвоты, нарушениями водно-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электролитного обмена, развитие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Гиповолемического шока, расстройство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функции почек. Относится к особ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пасным инфекциям. Возбудитель –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олерный вибрион двух разновидностей.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Действием экзотоксина холерного вибриона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на эпителий слизистой оболочк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тонкой кишки обусловлена потеря жидкост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рганизмом. Морфологических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зменений эпителиальных клеток 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длежащих тканей стенки кишки не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меетс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2" descr="C:\Documents and Settings\Home\Рабочий стол\Новая папка\holera.jpg"/>
          <p:cNvPicPr/>
          <p:nvPr/>
        </p:nvPicPr>
        <p:blipFill>
          <a:blip r:embed="rId2"/>
          <a:stretch/>
        </p:blipFill>
        <p:spPr>
          <a:xfrm>
            <a:off x="914400" y="1905120"/>
            <a:ext cx="2857680" cy="312408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акже имеют место такие понятия, как эпифитотия и эпизоотия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C:\Documents and Settings\Home\Рабочий стол\Новая папка\Hordei_Barley_yellow_dwarf_virus.jpg"/>
          <p:cNvPicPr/>
          <p:nvPr/>
        </p:nvPicPr>
        <p:blipFill>
          <a:blip r:embed="rId1"/>
          <a:stretch/>
        </p:blipFill>
        <p:spPr>
          <a:xfrm>
            <a:off x="5029200" y="1671480"/>
            <a:ext cx="3638520" cy="36925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685800" y="1066680"/>
            <a:ext cx="4114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тановление связи развития Эпифитотия с теми или иными факторами позволяет ослабить их влияние. Например, изменения в популяции возбудителя болезни и растения-хозяина, обусловливающие возникновение Эпифитотия, учитываются при обосновании прогнозов болезни, выведении устойчивых к инфекционным болезням сортов с.-х. культур и их размещении в севооборотах. Меры борьбы с Эпифитотия зависят от особенностей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аука, изучающая эпизоотии, называется эпизоотолог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890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Эпизоотия - определяет громадное распространение какой-либо повально заразительной болезни скота. Классификация повальных болезней по степени их распространения такова: если болезнь ограничивается небольшим районом, определенным местом или же в этом последнем проявляется только в одном каком-либо участке, то она носит название "энзоотии"; если заразная болезнь распространяется на большое пространство, поражая большое число животных, то в таких случаях ее определяют словом "Э."; наконец, существует еще "панзоотия" - когда заразная болезнь охватывает своим пожарищем огромные пространства, целые части света, поражает различные виды животных; к таким болезням принадлежат ящур, сибирская язва, бешенство. Одна и та же болезнь может явиться то в форме эпизоотической, то в энзоотической, то исключительно в спорадической (единичное заболевание), например, сибирская язва. Эпизоот. болезни, несмотря на значительный успех в научном изучении их первопричины (бактериология) и на усовершенствованные методы борьбы, до сих пор продолжают служить бичом скотоводческого хозяйства, прогрессивно сокращая его количественно и тормозя развитие культурных пород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Убытки, причиняемые Э., продолжают быть неисчислимыми, так как, по компетентному мнению проф. Пютца, при исчислении убытков должно принимать во внимание не только стоимость павшего животного, но также и те убытки, которые следуют за прекращением дела во время господства болезни и спустя еще долго после неё, и нередко эти убытки бывают гораздо значительнее, чем стоимость павшего животного; помимо этого, чисто экономического расчета, надо помнить, что при некоторых Э. здоровье окружающего населения также подвергается известному риску, как, напр., при сибирской язве, ящуре, бешенстве, туберкулёзе и др. Научные открытия последних лет, явившиеся результатом переворота, произведенного открытиями Пастера в области бактериологии, выдвинули учение о микробе как первопричине всякой заразы, а изучение свойств этой заразы в значительной степени подвинуло вопрос о более рациональной борьбе с эпизоотиями. Предохранительные прививки сибирской язвы, рожи свиней, маллеинизация, туберкулинизация и пр. - все это послужило надежным орудием в борьбе с такими эпизоотиями, как сибирская язва, сплошь губившая несколько лет тому назад рабочий и продуктивный скот, а теперь доведенная в местах с хорошей ветеринарной организацией до minimum'a, до спорадических случаев, как сап, этот бич коневодства, который теперь, благодаря диагностическому значению маллеина, уже перестает быть скрытым врагом; туберкулёз, рожа свиней, чума рогатого скота, повальное воспаление легких, ящур, различного рода геморрагические заболевания - накануне борьбы, вооруженной солидными научными открытиями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Home\Рабочий стол\Новая папка\__001.jpg"/>
          <p:cNvPicPr/>
          <p:nvPr/>
        </p:nvPicPr>
        <p:blipFill>
          <a:blip r:embed="rId1"/>
          <a:stretch/>
        </p:blipFill>
        <p:spPr>
          <a:xfrm>
            <a:off x="533520" y="457200"/>
            <a:ext cx="8026200" cy="6019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C:\Documents and Settings\Home\Рабочий стол\Новая папка\post-44-1210180075.jpg"/>
          <p:cNvPicPr/>
          <p:nvPr/>
        </p:nvPicPr>
        <p:blipFill>
          <a:blip r:embed="rId1"/>
          <a:stretch/>
        </p:blipFill>
        <p:spPr>
          <a:xfrm>
            <a:off x="380880" y="228600"/>
            <a:ext cx="8433000" cy="63244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89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временный человек на протяжении своей жизни находится в различных средах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циальной, производственной, местной (городской, сельской), бытовой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родной и др. Человек и среда его обитания образуют систему, состоящую и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ножества взаимодействующих элементов, имеющую упорядоченность в определен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границах и обладающую специфическими свойствами. Такое взаимодействи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пределяется множеством факторов и оказывает влияние как на самого человек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 и на соответствующую среду его обитания. Это влияние может быть, с од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ороны, положительным, с другой – одновременно и отрицательным (негативным)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Негативные воздействия факторов природной среды проявляются главным образом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ых ситуациях. Эти ситуации могут быть следствием, как стихий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едствий, так и производственной деятельности челове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АЯ СИТУАЦИЯ – это обстановка на определенной территории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ложившаяся в результате аварии, опасного природного явления, катастрофы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ихийного или иного бедствия, которая может повлечь или повлекла за соб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ловеческие жертвы, ущерб здоровью людей или окружающей природной среде, 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же значительные материальные потери и нарушение условий жизнедеятельност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С классифицируются по характеру источника и по масштаба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 характеру источника чрезвычайные ситуации делятся на техногенные и природны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 природным кроме пожара, извержения вулкана и всего прочего относятся и эпидемии…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57200" y="294480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(греч. epidemia), массовое распространение инфекционног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ния человека в какой-либо местности, стране, значительн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евышающее обычный уровень 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Инфекционные болезни людей – это заболевания, вызванные болезнетворными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икроорганизмами и передающиеся от зараженного человека или животного - к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доровому. Ежегодно на Земле переносят инфекционные заболевания свыше 1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лрд. человек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– это массовое распространение инфекционного заболевания людей в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какой-либо местности или стране, значительно превышающее общий уровень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457200" y="228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амые опасные заболевания, принимающие форму эпидемии приведены ниж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52280" y="1523880"/>
            <a:ext cx="883944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болевани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пособ распространен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Латентный период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должительность потери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мертность без лечения,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ботоспособности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Чум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в воздухе;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 (при бубонной форме)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100( при легочной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и септических формах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ражение воды, пищ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едметов домашнего обихода;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.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,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2 –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До 100 (при легочно-кишечной форме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улярем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 – 6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40 – 6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.8 до 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Холер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Распыление спор в воздухе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 - 3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0 – 8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иф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никают в организм через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2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6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До 4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мельчайш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овреждения кожи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УМА (pestis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природно-очаговая инфекционная болезнь, вызываемая палочкой чумы -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Yersinia pestis. Относится к особо опасным инфекциям. На земном шар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охраняется ряд природных очагов, где чума постоянно встречается у небольшого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оцента обитающих там грызунов. Эпидемии чумы среди людей часто бы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бусловлены миграцией крыс, заражающихся в природных очагах. От грызунов к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еловеку микробы передаются через блох, которые при массовой гибе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Животных меняют хозяина. Кроме того, возможен путь заражения при обработк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хотниками шкур убитых зараженных животных. Принципиально иным является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заражение от человека к человеку, осуществляемое воздушно-капельным путем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 спорадических случаях чумы сообщается в разных странах, в том числе в США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будитель чумы устойчив и низким температурам, хорошо сохраняется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окроте, но при температуре 55 °С погибает в течение 10-15 мин, а при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ипячении - практически немедленно. Попадает в организм через кожу (при укус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лохи), слизистые оболочки дыхательных путей, пищеварительного тракт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онъюнктивы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 укусе зараженных чумными бактериями блох у человека на месте укуса может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никнуть папула или пустула, наполненная геморрагическим содержимым (кожна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форма). Затем процесс распространяется по лимфатическим сосудам бе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оявления лимфангита. Размножение бактерий в макрофагах лимфатических узло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водит к их резкому увеличению, слиянию и образованию конгломерат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(бубонная форма). Дальнейшая генерализация инфекции, которая не являет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рого обязательной, тем более в условиях современной антибактериаль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ерапии, может приводить к развитию септической формы, сопровождающей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ражением практически всех внутренних органов. Однако с эпидемиологически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зиций важнейшую роль играют "отсевы" инфекции в легочную ткань с развитием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легочной формы болезни. С момента развития чумной пневмонии больной человек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ам становится источником заражения, но при этом от человека к человеку уж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ередается легочная форма болезни - крайне опасная, с очень быстрым течение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981080" y="457200"/>
            <a:ext cx="49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ология, пато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Острое инфекционное заболевание из группы зоонозов. У человек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отекает в виде кожной, легочной, кишечной и септической форм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Этиология, патогене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ь - относительно крупная сибиреязвенная палочка; образует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Споры И капсулу. Вегетативная форма возбудителя погибает без доступ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духа, При прогревании, воздействии дезинфицирующих средств. Споры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я во внешней среде весьма устойчивы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:\Documents and Settings\Home\Рабочий стол\Новая папка\Carbuncle.jpg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20092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295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одержимым. Больной при продолжающемся зуде срывает пузырек, на его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 области дна язвочки, а также отсутствие болезненности в области увеличен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тделением пенистой кровянистой мокроты.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981080" y="53352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птомы, т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07T10:24:18Z</dcterms:modified>
  <cp:revision>18</cp:revision>
  <dc:subject/>
  <dc:title>Презентация на тему Эпидемии</dc:title>
</cp:coreProperties>
</file>