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4B4D-E846-4116-A1B9-A2BE86A1EF7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ое поте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7E86-3D70-46C5-992B-BBC0FAE105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ое поте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Глоба́льное потепле́ние — процесс постепенного увеличения среднегодо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температуры атмосферы Земли и Мирового океана в XX и XXI ве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Позиция Межгосударственной группы экспертов по изменению клима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(МГЭИК) ООН, согласованная с национальными академиями наук стр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«Большой восьмёрки», заключается в том, что средняя температура по Земл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поднялась на 0,7 °C со времени начала промышленной револю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со второй половины XVIII века), и что бо́льшая доля потепл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наблюдавшегося в последние 50 лет, вызвана деятельностью человека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в первую очередь выбросом газов, вызывающих парниковый эффек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углекислого газа (CO2) и метана (CH4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C696-5E8B-43E7-9629-B06AA75C5F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ое поте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Многие ученые придерживаются того мнения, что именно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Человека привела к потепл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8861-C34E-4B64-9B71-41FF76CB63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ое поте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Но многие исследования доказывают, что потепления сменялис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ледниковыми периодами задолго до появлени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63956-CC10-4277-A1B2-F9F73E606A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ое поте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И все равно, человечество озабочено распространением пусты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89FC-F0E6-49BD-A66A-5CFCE45353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ое поте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Фотографии одних и тех же мест в разное время – снега стало меньш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A747-6897-496E-B414-165913D888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6421-6695-4D96-BA36-AA00FCFA8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8E02-C3BA-4479-99EF-C8446073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36DBC-BA20-462B-ABBE-B92613A7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8174EC-AB85-47CF-850C-6EE09275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D4476-BE3D-4B90-92E8-7FF1D716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95B999-B697-4C1E-9F91-748A3EE2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5DA85-AFD7-4641-99F2-7CD69A05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6FF73-B9A1-48E6-B3C9-10F705D5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738865-A21B-4D32-8CE1-B594D4B4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158C75-249A-4703-BCE9-7EA22B170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86F244-221D-4A49-B619-3933353D5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FAF6-D993-4CBA-9B66-5B6DF8A99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44A7-1B24-4E05-B116-6AA0C9F72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970A3-C9AD-4F2E-809A-8814F354E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16D8-7B96-48A4-9BCC-DBAE01EA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BB641-0D02-403D-BC53-1724899E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32B4-0C7A-4090-A452-AC6FD96F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F2E9-13E1-4D52-9C6E-47A520FB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E0F2-20E5-4D04-87BF-3590FF7A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273C2-F42C-4FA4-B2B4-D98B7ECE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3E8B-2E9B-48C2-84F8-AF0A10C9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2227-A433-432C-B8EA-A17C1D83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DEC4-15E8-4044-A590-5CFDFF31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8D55-8A25-4D3F-B25C-1580E124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30EAE-7368-40CB-9E6A-D5C58F0CE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A6F02-9083-48EC-B02F-90442E806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1CF3E-E92E-4E07-BD7B-8548227A9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1A874-DF7C-40A7-B6DC-6EA70FBC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E79D0-5F55-43C9-ACF9-82B32D47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75EB1-FAFF-4CA9-BEEF-B39BACE2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25E6C-1265-4033-ABE5-22A7C3BD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AB4C-3FDB-4FA2-93F0-7BC46934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E65A8-1266-4BD8-ABEC-3634A240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E781B-BE55-427D-9D15-A39AA0FA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018A8-F7CD-4B5E-ACA3-1248E50E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C9AB9-A7DC-4DDA-B900-B88CD523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CDC63-29ED-418E-9DCE-09AB714B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CB37B-DD14-4BDF-82BD-6C51E89E5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91AE6-8DE9-43FF-A176-4D5F039DE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1E16C-21CC-40D0-AC44-EA79CA6C1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6C28A-12D0-499A-8BF6-FDB6C0FA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855CC-7019-4DFD-8675-81E2862C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5645-1B23-408A-84DC-B2883C72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D2584-DC7B-4390-9026-EDBBF834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E04D9-8722-44F7-9CCD-E435C35B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AFD76-03A6-4F2F-AD34-8F9A46F0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679AD-D39B-4EED-BBED-48DDBC9B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303B1-55E9-42CD-8A97-464F0B6C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D454F-186E-4CBD-8DE2-5D26A704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9C4DC-AD7F-4BED-B7C3-C41D44A3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B7875-88ED-4265-B11A-CE6A29FD4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55BC4-E4B0-4BD2-BF4C-33A9432AC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9DDEF-5FE1-49CA-84BA-E47A9BA6D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A85B-1461-4DE4-B5E5-745BFBF3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730FD-6B68-463D-8521-86C75DC5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D87F7-7A0B-40C6-A29D-4EA923DF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87021-B9FB-4F68-BB45-7AC42CF3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01D28-4F07-4C13-B08B-87DC2A4F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D8ECF-C710-450F-A0C8-F04E2541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7BBD8-25E6-4E72-9D89-A6EDB150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B9378-FC8E-4365-8F67-7EF4CB0A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141D6-752D-4DE6-B9D9-09E5C9DD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E741F-2308-4150-B700-99427A65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AC702-AE19-45EE-8B99-268405C44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E378-85A1-4C7C-A1B1-6C0D9905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28EED-9CDC-4D89-8448-5F787A526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BF0A4-9FA4-4A31-AB75-41E8F6E3F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85920-8A07-45F2-BFBB-36D1B342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0EF1D-C753-4CEB-99CD-4100300E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20628-3F4D-4752-B5FB-EC10DCED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AA7E2-E848-4B68-8F2B-9440CA49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14EEE-153D-466F-A3C7-816EBF24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657CD-0605-43D9-8C49-7C8AD159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E4B7C-8AEF-460D-BDFE-2140E981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973AB-B2D0-4BF7-9216-604BE465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0525-2998-4628-8955-8454B74D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CB1B7-E65F-4281-9BFC-C6E0AAC3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87A04-E90F-4AF9-A417-2CF240353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37CB9-B425-4B28-B1E9-1421E77CE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BF4EF-6863-4B36-A07F-92BCCBBB3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40E91-F1A5-495D-A6C1-0E4BCA39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A2A96-BD5A-4C5B-9D21-7EDA3130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C0BE8-2AD3-4018-ADA2-66605F22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7B2CE-9BF4-47CB-9D84-4AE8E83D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77E2D-D7BB-4B6C-BC3D-6E0E18D1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9BDE5-23E7-492C-9337-EA1EABF3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0D51-ABC3-4339-AB59-023B4B30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6EAF3-6464-4537-A657-A7EBBF99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6CD8C-FF5F-42FC-870D-41EC1CD7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D327D-4637-497C-B1B2-7042A967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5FED7-74FE-476E-83B4-B456F4C74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21235-9147-46DA-B493-D9FC7FFF0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BCBB5-D5DB-4FB3-BB6A-7692F6A05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DD5A1-DBB1-4A7F-B6C5-FC25C9BA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F90D7-079E-4793-8B6D-CB8FCFF6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E834F-18B6-41A1-89D9-A55525F7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FA513-2A15-4806-A684-2CCB140D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6E66-062B-40E6-8927-E1C02C13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5D0BB-B5E4-4935-A9A2-752D041C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F7095-AF84-4872-9374-369CE32C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F9F61-1C8F-480B-9B23-EE14CF4C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ABDF8-581B-431F-A0D1-B096E9D6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A9F2B-AD45-4607-A699-E7B56DF9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9AB4F-289B-4BDF-8A93-257036871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4F815-8C43-4BBD-8C9D-D71CDB4DA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0F113-3E8C-4A2C-A643-0CE5EEFDC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EEA06E-3A5C-432E-BBDE-54B2C5F0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CAEFDC-C72B-45DB-9DE0-089B2A1D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F7B8-E053-4F92-A3E1-6CA8A312E0A5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1387-C781-4ED7-9A1F-6D3640B9F6F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7E7B-5AA9-4E7A-944A-1A12ACA3EE24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575E-6AFC-4CF7-953A-F5FDF5CEB26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0160-E035-4A4C-8650-E18B9F3BD2D8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4D37-D09B-4EEA-A1C8-1745B79A92E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79A1-44E8-48E8-9D16-0FD66E54510E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C0FA-87EE-4DE6-9B26-84874AE59C1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F9CF-490E-4EEF-953A-8C7C501BB96A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F13B-2F80-49DE-B00E-23E46A3FFB8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F310-410C-40DD-A742-D651F75189D0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2535-E5D3-4797-ABCB-050BEA2D766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F3BC-4C37-4017-B094-6106AA053829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61A5-B07D-4FF6-B6BB-9B3E128E5C4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C932-054A-4251-A715-8874FC31EC29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607E-B7CB-4696-8418-7E89CDEC4EC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9C9E-F349-490F-87F2-CDF5903DD705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9E83-63DE-48CA-BBD8-5387A0B0293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55440" y="-73080"/>
            <a:ext cx="8618760" cy="86508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3" descr="manhattan-under-water.jpg"/>
          <p:cNvPicPr/>
          <p:nvPr/>
        </p:nvPicPr>
        <p:blipFill>
          <a:blip r:embed="rId2"/>
          <a:stretch/>
        </p:blipFill>
        <p:spPr>
          <a:xfrm>
            <a:off x="714240" y="642960"/>
            <a:ext cx="7643880" cy="6191280"/>
          </a:xfrm>
          <a:prstGeom prst="rect">
            <a:avLst/>
          </a:prstGeom>
          <a:ln w="0">
            <a:noFill/>
          </a:ln>
        </p:spPr>
      </p:pic>
      <p:sp>
        <p:nvSpPr>
          <p:cNvPr id="408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55440" y="-73080"/>
            <a:ext cx="8618760" cy="865080"/>
          </a:xfrm>
          <a:prstGeom prst="rect">
            <a:avLst/>
          </a:prstGeom>
          <a:ln w="0">
            <a:noFill/>
          </a:ln>
        </p:spPr>
      </p:pic>
      <p:sp>
        <p:nvSpPr>
          <p:cNvPr id="410" name="TextBox 4"/>
          <p:cNvSpPr/>
          <p:nvPr/>
        </p:nvSpPr>
        <p:spPr>
          <a:xfrm>
            <a:off x="-728280" y="3687840"/>
            <a:ext cx="10859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Глоба́льное потепле́ние — процесс постепенного увеличения среднегодов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температуры атмосферы Земли и Мирового океана в XX и XXI ве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Позиция Межгосударственной группы экспертов по изменению клима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(МГЭИК) ООН, согласованная с национальными академиями наук стра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«Большой восьмёрки», заключается в том, что средняя температура по Земл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поднялась на 0,7 °C со времени начала промышленной револю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со второй половины XVIII века), и что бо́льшая доля потепле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наблюдавшегося в последние 50 лет, вызвана деятельностью человека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в первую очередь выбросом газов, вызывающих парниковый эффек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углекислого газа (CO2) и метана (CH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Рисунок 5" descr="calentamiento_global.jpg"/>
          <p:cNvPicPr/>
          <p:nvPr/>
        </p:nvPicPr>
        <p:blipFill>
          <a:blip r:embed="rId2"/>
          <a:stretch/>
        </p:blipFill>
        <p:spPr>
          <a:xfrm>
            <a:off x="2428920" y="571680"/>
            <a:ext cx="4500360" cy="3186000"/>
          </a:xfrm>
          <a:prstGeom prst="rect">
            <a:avLst/>
          </a:prstGeom>
          <a:ln w="0">
            <a:noFill/>
          </a:ln>
        </p:spPr>
      </p:pic>
      <p:sp>
        <p:nvSpPr>
          <p:cNvPr id="412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55440" y="-73080"/>
            <a:ext cx="8618760" cy="865080"/>
          </a:xfrm>
          <a:prstGeom prst="rect">
            <a:avLst/>
          </a:prstGeom>
          <a:ln w="0">
            <a:noFill/>
          </a:ln>
        </p:spPr>
      </p:pic>
      <p:sp>
        <p:nvSpPr>
          <p:cNvPr id="414" name="TextBox 4"/>
          <p:cNvSpPr/>
          <p:nvPr/>
        </p:nvSpPr>
        <p:spPr>
          <a:xfrm>
            <a:off x="-582480" y="5715000"/>
            <a:ext cx="1005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Многие ученые придерживаются того мнения, что именно 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Человека привела к потепл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Рисунок 6" descr="climatechange1.jpg"/>
          <p:cNvPicPr/>
          <p:nvPr/>
        </p:nvPicPr>
        <p:blipFill>
          <a:blip r:embed="rId2"/>
          <a:stretch/>
        </p:blipFill>
        <p:spPr>
          <a:xfrm>
            <a:off x="1000080" y="714240"/>
            <a:ext cx="7358040" cy="5079960"/>
          </a:xfrm>
          <a:prstGeom prst="rect">
            <a:avLst/>
          </a:prstGeom>
          <a:ln w="0">
            <a:noFill/>
          </a:ln>
        </p:spPr>
      </p:pic>
      <p:sp>
        <p:nvSpPr>
          <p:cNvPr id="416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55440" y="-73080"/>
            <a:ext cx="8618760" cy="865080"/>
          </a:xfrm>
          <a:prstGeom prst="rect">
            <a:avLst/>
          </a:prstGeom>
          <a:ln w="0">
            <a:noFill/>
          </a:ln>
        </p:spPr>
      </p:pic>
      <p:sp>
        <p:nvSpPr>
          <p:cNvPr id="418" name="TextBox 4"/>
          <p:cNvSpPr/>
          <p:nvPr/>
        </p:nvSpPr>
        <p:spPr>
          <a:xfrm>
            <a:off x="-471960" y="5715000"/>
            <a:ext cx="915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Но многие исследования доказывают, что потепления сменялис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ледниковыми периодами задолго до появления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Рисунок 5" descr="4571_1227989575.jpg"/>
          <p:cNvPicPr/>
          <p:nvPr/>
        </p:nvPicPr>
        <p:blipFill>
          <a:blip r:embed="rId2"/>
          <a:stretch/>
        </p:blipFill>
        <p:spPr>
          <a:xfrm>
            <a:off x="1000080" y="642960"/>
            <a:ext cx="7215120" cy="5194440"/>
          </a:xfrm>
          <a:prstGeom prst="rect">
            <a:avLst/>
          </a:prstGeom>
          <a:ln w="0">
            <a:noFill/>
          </a:ln>
        </p:spPr>
      </p:pic>
      <p:sp>
        <p:nvSpPr>
          <p:cNvPr id="420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55440" y="-73080"/>
            <a:ext cx="8618760" cy="865080"/>
          </a:xfrm>
          <a:prstGeom prst="rect">
            <a:avLst/>
          </a:prstGeom>
          <a:ln w="0">
            <a:noFill/>
          </a:ln>
        </p:spPr>
      </p:pic>
      <p:sp>
        <p:nvSpPr>
          <p:cNvPr id="422" name="TextBox 4"/>
          <p:cNvSpPr/>
          <p:nvPr/>
        </p:nvSpPr>
        <p:spPr>
          <a:xfrm>
            <a:off x="-384120" y="5715000"/>
            <a:ext cx="905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И все равно, человечество озабочено распространением пусты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Рисунок 6" descr="zasuha.jpg"/>
          <p:cNvPicPr/>
          <p:nvPr/>
        </p:nvPicPr>
        <p:blipFill>
          <a:blip r:embed="rId2"/>
          <a:stretch/>
        </p:blipFill>
        <p:spPr>
          <a:xfrm>
            <a:off x="1428840" y="642960"/>
            <a:ext cx="6572160" cy="4929120"/>
          </a:xfrm>
          <a:prstGeom prst="rect">
            <a:avLst/>
          </a:prstGeom>
          <a:ln w="0">
            <a:noFill/>
          </a:ln>
        </p:spPr>
      </p:pic>
      <p:sp>
        <p:nvSpPr>
          <p:cNvPr id="424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55440" y="-73080"/>
            <a:ext cx="8618760" cy="865080"/>
          </a:xfrm>
          <a:prstGeom prst="rect">
            <a:avLst/>
          </a:prstGeom>
          <a:ln w="0">
            <a:noFill/>
          </a:ln>
        </p:spPr>
      </p:pic>
      <p:sp>
        <p:nvSpPr>
          <p:cNvPr id="426" name="TextBox 4"/>
          <p:cNvSpPr/>
          <p:nvPr/>
        </p:nvSpPr>
        <p:spPr>
          <a:xfrm>
            <a:off x="-459720" y="5715000"/>
            <a:ext cx="973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Фотографии одних и тех же мест в разное время – снега стало меньш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Рисунок 5" descr="Mt Hood, Oregon.jpg"/>
          <p:cNvPicPr/>
          <p:nvPr/>
        </p:nvPicPr>
        <p:blipFill>
          <a:blip r:embed="rId2"/>
          <a:stretch/>
        </p:blipFill>
        <p:spPr>
          <a:xfrm>
            <a:off x="714240" y="642960"/>
            <a:ext cx="6715440" cy="4842000"/>
          </a:xfrm>
          <a:prstGeom prst="rect">
            <a:avLst/>
          </a:prstGeom>
          <a:ln w="0">
            <a:noFill/>
          </a:ln>
        </p:spPr>
      </p:pic>
      <p:sp>
        <p:nvSpPr>
          <p:cNvPr id="428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7:37:02Z</dcterms:created>
  <dc:creator>user</dc:creator>
  <dc:description/>
  <dc:language>en-US</dc:language>
  <cp:lastModifiedBy>LEGION</cp:lastModifiedBy>
  <dcterms:modified xsi:type="dcterms:W3CDTF">2014-12-30T11:21:24Z</dcterms:modified>
  <cp:revision>9</cp:revision>
  <dc:subject/>
  <dc:title>Глобальное потепление</dc:title>
</cp:coreProperties>
</file>