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9A21-54AB-41ED-AC60-0D78127706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F818-0F54-468C-B72A-863D196B60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4722-A151-404E-B29E-F558C52DDE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1B7B-0E44-4F4F-A556-03E5028925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7BB4-6512-4561-9ACF-BB1AAD61F3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72FB-8057-4F31-8294-65134847A6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55DA-16ED-4B4C-9218-02D5201478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147-52A1-457A-AC5C-9E9AA497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44A-3208-44F8-8058-C7034627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4A7CA-AA84-4997-9202-719190A3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9AD61-8C8B-40E3-A009-5A979D8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49275-CD38-453A-B15A-D8F3BE06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35CEC-1174-4F59-8613-567E3DAC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4717C-B0C7-46E0-ADA2-02D60B58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34064-AD7A-4841-925A-E6306993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B4BDA-D117-4C28-A7BF-FCBDE885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1A79A-A911-4682-85A2-73470B16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8201D-0370-4EAE-8D9F-DBE120A5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AEB-8A59-4A46-8445-B5806DEC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E31-7EA0-4722-BB0F-126873F8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1A8F-C129-48BB-88D2-B9402648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8C22-F659-4E0E-A70C-10FDE7D7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EE1F-B1D7-4023-9277-3D3FF9E2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CF6F-F996-4F07-ACC2-EB87BB2D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F59C-470E-4E19-A1C6-7FE7B49C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C06C-0CA7-4FC7-9647-BA6FB850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5BEB-1523-436B-875C-6072861E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CDF-957F-4C1F-B2C4-1B889ED0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E58B-6AF7-4C28-A18C-3CEEEE3F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FB8B-DC3E-4CDF-88B8-F4416587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B8CD-848A-41F8-9D6D-006EFAC6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472D-C6F4-4797-9DB7-8010A3DC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1F96-0943-4D8D-B237-4A99115B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704E-AC3F-4C6E-85E8-66FD70B3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9512-E142-40F7-B9D9-51611CB3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DFB5E-4210-4CF4-9CE2-339DAF0C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6570-F829-4760-8C65-7C39B4D7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05A4C-172A-429C-A9F9-2E042E7A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1C4-ED61-49EB-8E04-C2AAF665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A6EA-C449-4970-8C22-4DF9DCDA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000D-A7C7-4D4B-AF77-02D0E9FA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25AF-EE7D-4BD6-AF5E-1891D598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2813-6DCF-4FB2-97CF-128E6F6C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8DE6-69AB-48AF-AC09-4195BC2A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A0B27-4507-446B-B598-9849CAAA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3D78-42B8-4477-8EC4-06CE4736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3F7E-DFB0-447E-A3E3-4C4E4109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BA81-3CA3-47E2-8AD4-4A969408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2F420-4459-4ABA-A93A-840F86B6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BAF-C1FA-4A90-B5CA-6CA05597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6CBC-7297-4846-AA6A-DD8C58DA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5C7D8-9362-4B8D-AA68-995A7B90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81647-BBE4-4002-95E4-C3F0FABF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70DE1-0D43-45A0-89F0-D3504EE7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CD032-9BD2-4A8B-A795-475C052F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16E09-E673-41A2-9321-EA97894C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B8DF-EFD5-4DFF-BE1D-00118D74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75051-D205-444A-8DCC-BD9AA011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85405-F5AC-4F42-8424-9EC19088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2AD00-41EF-4BF7-843F-DCC77730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31F-3593-410C-B991-A23E187E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04B83-77BD-4D99-9D68-5CE38C7F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1C26D-053A-4D32-A0FF-18F3C68F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C7CAD-8447-43C5-91BE-A917A898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9A2D2-86C4-41C2-9FF7-1135C2FE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177CE-B999-493D-ACA2-4861B31C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21AEF-2E2D-40CE-989E-17A29B3F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F8D19-612E-438E-97D7-6DA7F6BE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931EE-361F-41BC-B40D-96F1C4AD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C0E39-07DD-479B-96DE-343696BF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28DEB-1B55-4D83-83AC-13C84230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8F9-86E2-4E36-AC50-04730704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C7B56-D4C4-4CC3-A703-333C08E1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1D7A2-2415-4A5B-B216-75A81CAB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E2B2-4731-4FA1-9F41-2E9FC509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B84C1-9CAD-41D1-BEA7-68B0FF3C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E8380-524B-4ACC-AB66-D2882179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EC46C-C302-4D32-99A8-0FE98FC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E7139-4988-4ECE-B3FF-FE5086C8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A8C34-EE6C-4181-A11F-D0BF5696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61C38-ADB3-4EFE-B285-C90849ED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96015-0648-4804-9B1B-DA5D02F6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A5B-C936-41F0-B1CB-ABC570AC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D277D-92CE-4898-A9AB-98B53AFD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F4DC-974D-45DA-AEB0-2ED7CE9C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5D844-4CC4-4D52-9BDB-3FCF4AF9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1032C-B0A3-4646-B30D-80EFC599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613CC-85D6-4A51-961F-EB3894FF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3FC23-E0F0-4A97-B8BF-0A0C6232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3E97A-E1DC-470E-A263-82F8F7B6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EB8A7-F4B3-4E64-B134-4C61B19C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C8602-989A-486C-ABB6-98CA8A09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7C9D0-3330-4D44-AFDC-701F6F35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EEE-E64F-4B45-9CD1-6D2568C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36DA6-B43B-4FD6-AF03-80B0E517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C39B9-93A4-46DF-8F7D-BE3974BC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975BA-60F7-42BC-82CE-9EC5E6EB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7ABFA-BF01-4C20-9C0D-3D2A32DC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9BB2E-0114-4EEC-B11A-2FF4818F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E1384-43C7-4B7B-9483-A251037A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4FECC-21FE-435E-B673-7CBF9259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1DFB7-EC39-4727-BB87-3501850A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2905F-BB6A-4690-BB85-C35E3D28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74FC2-5C25-46B7-BCFB-8B2F736B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4C2-F6D4-4C24-A7F2-AB1ABBB9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1ACE4-C002-4820-B50E-EEBCA779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DE060-B95C-4E57-9C47-8A3824AD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BFCD5-2304-4E60-ABB4-99BA967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209E7-BE15-4EED-AAD4-C7BCCF92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1EA8F-E13B-444F-A96C-EC55C2B1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BC397-392B-4EEF-90F4-0B845DBC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8D756-B5EA-4400-B08B-1A7C29CA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7FFFF-2C48-4EF3-BD5B-9B7C1A04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7EB4D-2E8B-474D-B233-3014F01B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37092-7C55-4533-A9BB-92A2F75D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961C-CAD9-42C7-B473-FA6F84280F3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6003-9534-447E-B96B-C41FB1E59C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3CF2-6BEC-4E28-82F8-6037A7E79ED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ACB4-AFE3-44F9-BD0E-0660612B9D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32A7-549F-4163-BF70-1F7C1E3981E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8481-9E88-4E5A-9BE6-49ADB0A17B9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85F2-13A0-4B94-BF6E-F2AB590041E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EADF-2489-461F-87D9-336A0F60E3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8A9E-6626-4B89-BFBF-83A605E1DA99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7BE4-41DD-42A4-A796-40B9D601B2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A56E-EEFE-44E4-A23A-B8260E6A50E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FF3D-3EE5-4DA8-8A21-CB477833D67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57BD-164A-47A0-8F84-3CFDAD0A016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608B-4FCE-4276-959C-A94BE7324A3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BF68-9DC0-4CD4-9460-F8C45B2981D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91B8-BA6F-4453-9BC9-C104F7D1A6E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5151-6044-4988-8019-FDFBB606208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53FD-DEE9-48B4-9E67-B0911710B22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3" descr="manhattan-under-water.jpg"/>
          <p:cNvPicPr/>
          <p:nvPr/>
        </p:nvPicPr>
        <p:blipFill>
          <a:blip r:embed="rId2"/>
          <a:stretch/>
        </p:blipFill>
        <p:spPr>
          <a:xfrm>
            <a:off x="714240" y="642960"/>
            <a:ext cx="7643880" cy="61912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-728280" y="3687840"/>
            <a:ext cx="10859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Глоба́льное потепле́ние — процесс постепенного увеличения среднегод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температуры атмосферы Земли и Мирового океана в XX и XXI ве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зиция Межгосударственной группы экспертов по изменению клим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(МГЭИК) ООН, согласованная с национальными академиями наук стр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«Большой восьмёрки», заключается в том, что средняя температура по Зем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нялась на 0,7 °C со времени начала промышленной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 второй половины XVIII века), и что бо́льшая доля потепл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блюдавшегося в последние 50 лет, вызвана деятельностью челове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 первую очередь выбросом газов, вызывающих парниковый эффек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глекислого газа (CO2) и метана (CH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Рисунок 5" descr="calentamiento_global.jpg"/>
          <p:cNvPicPr/>
          <p:nvPr/>
        </p:nvPicPr>
        <p:blipFill>
          <a:blip r:embed="rId2"/>
          <a:stretch/>
        </p:blipFill>
        <p:spPr>
          <a:xfrm>
            <a:off x="2428920" y="571680"/>
            <a:ext cx="4500360" cy="318600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-582480" y="5715000"/>
            <a:ext cx="100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Многие ученые придерживаются того мнения, что именно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Человека привела к потеп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6" descr="climatechange1.jpg"/>
          <p:cNvPicPr/>
          <p:nvPr/>
        </p:nvPicPr>
        <p:blipFill>
          <a:blip r:embed="rId2"/>
          <a:stretch/>
        </p:blipFill>
        <p:spPr>
          <a:xfrm>
            <a:off x="1000080" y="714240"/>
            <a:ext cx="7358040" cy="50799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4"/>
          <p:cNvSpPr/>
          <p:nvPr/>
        </p:nvSpPr>
        <p:spPr>
          <a:xfrm>
            <a:off x="-471960" y="5715000"/>
            <a:ext cx="91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о многие исследования доказывают, что потепления сменял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дниковыми периодами задолго до появлени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5" descr="4571_1227989575.jpg"/>
          <p:cNvPicPr/>
          <p:nvPr/>
        </p:nvPicPr>
        <p:blipFill>
          <a:blip r:embed="rId2"/>
          <a:stretch/>
        </p:blipFill>
        <p:spPr>
          <a:xfrm>
            <a:off x="1000080" y="642960"/>
            <a:ext cx="7215120" cy="519444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-384120" y="5715000"/>
            <a:ext cx="90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 все равно, человечество озабочено распространением пусты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6" descr="zasuha.jpg"/>
          <p:cNvPicPr/>
          <p:nvPr/>
        </p:nvPicPr>
        <p:blipFill>
          <a:blip r:embed="rId2"/>
          <a:stretch/>
        </p:blipFill>
        <p:spPr>
          <a:xfrm>
            <a:off x="1428840" y="642960"/>
            <a:ext cx="6572160" cy="492912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55440" y="-73080"/>
            <a:ext cx="8618760" cy="86508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-459720" y="5715000"/>
            <a:ext cx="97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Фотографии одних и тех же мест в разное время – снега стало мен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5" descr="Mt Hood, Oregon.jpg"/>
          <p:cNvPicPr/>
          <p:nvPr/>
        </p:nvPicPr>
        <p:blipFill>
          <a:blip r:embed="rId2"/>
          <a:stretch/>
        </p:blipFill>
        <p:spPr>
          <a:xfrm>
            <a:off x="714240" y="642960"/>
            <a:ext cx="6715440" cy="484200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7:37:02Z</dcterms:created>
  <dc:creator>user</dc:creator>
  <dc:description/>
  <dc:language>en-US</dc:language>
  <cp:lastModifiedBy>LEGION</cp:lastModifiedBy>
  <dcterms:modified xsi:type="dcterms:W3CDTF">2014-12-30T11:21:24Z</dcterms:modified>
  <cp:revision>9</cp:revision>
  <dc:subject/>
  <dc:title>Глобальное потепление</dc:title>
</cp:coreProperties>
</file>